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bae6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4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ja-JP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ja-JP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ja-JP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FE6C1B8-6675-4131-AA90-F02BE4B8633E}" type="slidenum">
              <a:rPr b="0" lang="ja-JP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C71-A62E-4470-9E90-E9BE0A4E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310-06D9-4445-8CDF-AD8F8D38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CE4-61F1-4FBA-9693-8E4A8C53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0B1-7C17-4285-B12D-3B9784CF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20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1D3-7175-421A-A995-C072C41B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0D3-332C-4518-A9B6-A2714C49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C64-0453-47E2-9D43-DE4A4A15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0F2-E6EC-4E67-BD2F-88412340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20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E83-3C63-4A57-8F02-5B60FFBB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755-6F59-4F41-9FA5-B2978B4A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A61-64D3-468A-9621-B4DA951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FE6-54C3-4C4D-A39B-D1EBEB68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bae6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BFA2-5427-4B67-92DD-09086F537381}" type="slidenum">
              <a:rPr b="0" lang="ja-JP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001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905040"/>
            <a:ext cx="9144000" cy="5952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5160"/>
            <a:ext cx="9144000" cy="2476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366b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001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428760"/>
            <a:ext cx="9144000" cy="595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11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bae6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8760"/>
            <a:ext cx="9144000" cy="2476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366b1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24680"/>
            <a:ext cx="9144000" cy="247680"/>
          </a:xfrm>
          <a:prstGeom prst="rect">
            <a:avLst/>
          </a:prstGeom>
          <a:gradFill rotWithShape="0">
            <a:gsLst>
              <a:gs pos="0">
                <a:srgbClr val="366b1b"/>
              </a:gs>
              <a:gs pos="100000">
                <a:srgbClr val="f1f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1704600"/>
            <a:ext cx="90010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5400" spc="-1" strike="noStrike">
                <a:solidFill>
                  <a:srgbClr val="8bae6c"/>
                </a:solidFill>
                <a:latin typeface="ＭＳ Ｐゴシック"/>
              </a:rPr>
              <a:t>サイバー</a:t>
            </a:r>
            <a:br>
              <a:rPr sz="5400"/>
            </a:br>
            <a:r>
              <a:rPr b="0" i="1" lang="ja-JP" sz="5400" spc="-1" strike="noStrike">
                <a:solidFill>
                  <a:srgbClr val="8bae6c"/>
                </a:solidFill>
                <a:latin typeface="ＭＳ Ｐゴシック"/>
              </a:rPr>
              <a:t>トランスポーテーション</a:t>
            </a:r>
            <a:endParaRPr b="0" i="1" lang="en-US" sz="5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87080" y="3944880"/>
            <a:ext cx="821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担当者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　　清水　　浩　　　　</a:t>
            </a: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環境情報学部　　教授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　　大前　　学　　　　</a:t>
            </a: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環境情報学部　　専任講師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　　松ヶ浦　史郎　　　</a:t>
            </a: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政策メデイァ研究科博士課程３年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　　大西　　将浩　　　</a:t>
            </a: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政策メデイァ研究科博士課程３年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imes New Roman"/>
                <a:ea typeface="ＭＳ Ｐゴシック"/>
              </a:rPr>
              <a:t>　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4480" y="1082520"/>
            <a:ext cx="556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8bae6c"/>
                </a:solidFill>
                <a:latin typeface="ＭＳ Ｐゴシック"/>
                <a:ea typeface="ＭＳ ゴシック"/>
              </a:rPr>
              <a:t>2001</a:t>
            </a:r>
            <a:r>
              <a:rPr b="0" i="1" lang="ja-JP" sz="3200" spc="-1" strike="noStrike">
                <a:solidFill>
                  <a:srgbClr val="8bae6c"/>
                </a:solidFill>
                <a:latin typeface="ＭＳ Ｐゴシック"/>
                <a:ea typeface="ＭＳ ゴシック"/>
              </a:rPr>
              <a:t>年度ハイテクリサーチセンター研究報告</a:t>
            </a:r>
            <a:br>
              <a:rPr sz="4000"/>
            </a:b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209520" y="514440"/>
            <a:ext cx="5153040" cy="2871360"/>
            <a:chOff x="209520" y="514440"/>
            <a:chExt cx="5153040" cy="2871360"/>
          </a:xfrm>
        </p:grpSpPr>
        <p:grpSp>
          <p:nvGrpSpPr>
            <p:cNvPr id="191" name=""/>
            <p:cNvGrpSpPr/>
            <p:nvPr/>
          </p:nvGrpSpPr>
          <p:grpSpPr>
            <a:xfrm>
              <a:off x="209520" y="2597040"/>
              <a:ext cx="1030320" cy="699840"/>
              <a:chOff x="209520" y="2597040"/>
              <a:chExt cx="1030320" cy="69984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09520" y="2597040"/>
                <a:ext cx="941400" cy="606240"/>
                <a:chOff x="209520" y="2597040"/>
                <a:chExt cx="941400" cy="606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18600" y="2725920"/>
                  <a:ext cx="832320" cy="477360"/>
                </a:xfrm>
                <a:custGeom>
                  <a:avLst/>
                  <a:gdLst/>
                  <a:ahLst/>
                  <a:rect l="l" t="t" r="r" b="b"/>
                  <a:pathLst>
                    <a:path w="3154" h="1811">
                      <a:moveTo>
                        <a:pt x="220" y="1716"/>
                      </a:moveTo>
                      <a:lnTo>
                        <a:pt x="384" y="1752"/>
                      </a:lnTo>
                      <a:lnTo>
                        <a:pt x="532" y="1779"/>
                      </a:lnTo>
                      <a:lnTo>
                        <a:pt x="791" y="1811"/>
                      </a:lnTo>
                      <a:lnTo>
                        <a:pt x="1152" y="1811"/>
                      </a:lnTo>
                      <a:lnTo>
                        <a:pt x="1342" y="1773"/>
                      </a:lnTo>
                      <a:lnTo>
                        <a:pt x="1397" y="1747"/>
                      </a:lnTo>
                      <a:lnTo>
                        <a:pt x="1456" y="1707"/>
                      </a:lnTo>
                      <a:lnTo>
                        <a:pt x="1487" y="1686"/>
                      </a:lnTo>
                      <a:lnTo>
                        <a:pt x="1525" y="1659"/>
                      </a:lnTo>
                      <a:lnTo>
                        <a:pt x="1567" y="1631"/>
                      </a:lnTo>
                      <a:lnTo>
                        <a:pt x="1612" y="1598"/>
                      </a:lnTo>
                      <a:lnTo>
                        <a:pt x="1664" y="1564"/>
                      </a:lnTo>
                      <a:lnTo>
                        <a:pt x="1719" y="1526"/>
                      </a:lnTo>
                      <a:lnTo>
                        <a:pt x="1776" y="1486"/>
                      </a:lnTo>
                      <a:lnTo>
                        <a:pt x="1837" y="1444"/>
                      </a:lnTo>
                      <a:lnTo>
                        <a:pt x="1899" y="1401"/>
                      </a:lnTo>
                      <a:lnTo>
                        <a:pt x="1964" y="1355"/>
                      </a:lnTo>
                      <a:lnTo>
                        <a:pt x="1996" y="1332"/>
                      </a:lnTo>
                      <a:lnTo>
                        <a:pt x="2030" y="1309"/>
                      </a:lnTo>
                      <a:lnTo>
                        <a:pt x="2063" y="1287"/>
                      </a:lnTo>
                      <a:lnTo>
                        <a:pt x="2097" y="1264"/>
                      </a:lnTo>
                      <a:lnTo>
                        <a:pt x="2129" y="1239"/>
                      </a:lnTo>
                      <a:lnTo>
                        <a:pt x="2164" y="1216"/>
                      </a:lnTo>
                      <a:lnTo>
                        <a:pt x="2198" y="1193"/>
                      </a:lnTo>
                      <a:lnTo>
                        <a:pt x="2230" y="1169"/>
                      </a:lnTo>
                      <a:lnTo>
                        <a:pt x="2264" y="1146"/>
                      </a:lnTo>
                      <a:lnTo>
                        <a:pt x="2297" y="1123"/>
                      </a:lnTo>
                      <a:lnTo>
                        <a:pt x="2329" y="1100"/>
                      </a:lnTo>
                      <a:lnTo>
                        <a:pt x="2361" y="1077"/>
                      </a:lnTo>
                      <a:lnTo>
                        <a:pt x="2426" y="1034"/>
                      </a:lnTo>
                      <a:lnTo>
                        <a:pt x="2487" y="990"/>
                      </a:lnTo>
                      <a:lnTo>
                        <a:pt x="2546" y="946"/>
                      </a:lnTo>
                      <a:lnTo>
                        <a:pt x="2601" y="908"/>
                      </a:lnTo>
                      <a:lnTo>
                        <a:pt x="2654" y="870"/>
                      </a:lnTo>
                      <a:lnTo>
                        <a:pt x="2702" y="836"/>
                      </a:lnTo>
                      <a:lnTo>
                        <a:pt x="2745" y="804"/>
                      </a:lnTo>
                      <a:lnTo>
                        <a:pt x="2783" y="775"/>
                      </a:lnTo>
                      <a:lnTo>
                        <a:pt x="2844" y="730"/>
                      </a:lnTo>
                      <a:lnTo>
                        <a:pt x="2880" y="699"/>
                      </a:lnTo>
                      <a:lnTo>
                        <a:pt x="2920" y="656"/>
                      </a:lnTo>
                      <a:lnTo>
                        <a:pt x="2962" y="600"/>
                      </a:lnTo>
                      <a:lnTo>
                        <a:pt x="3002" y="543"/>
                      </a:lnTo>
                      <a:lnTo>
                        <a:pt x="3038" y="481"/>
                      </a:lnTo>
                      <a:lnTo>
                        <a:pt x="3072" y="422"/>
                      </a:lnTo>
                      <a:lnTo>
                        <a:pt x="3101" y="365"/>
                      </a:lnTo>
                      <a:lnTo>
                        <a:pt x="3139" y="281"/>
                      </a:lnTo>
                      <a:lnTo>
                        <a:pt x="3154" y="102"/>
                      </a:lnTo>
                      <a:lnTo>
                        <a:pt x="3139" y="74"/>
                      </a:lnTo>
                      <a:lnTo>
                        <a:pt x="3114" y="49"/>
                      </a:lnTo>
                      <a:lnTo>
                        <a:pt x="3078" y="28"/>
                      </a:lnTo>
                      <a:lnTo>
                        <a:pt x="3032" y="11"/>
                      </a:lnTo>
                      <a:lnTo>
                        <a:pt x="2897" y="0"/>
                      </a:lnTo>
                      <a:lnTo>
                        <a:pt x="2700" y="21"/>
                      </a:lnTo>
                      <a:lnTo>
                        <a:pt x="2470" y="70"/>
                      </a:lnTo>
                      <a:lnTo>
                        <a:pt x="2361" y="99"/>
                      </a:lnTo>
                      <a:lnTo>
                        <a:pt x="2255" y="129"/>
                      </a:lnTo>
                      <a:lnTo>
                        <a:pt x="2154" y="159"/>
                      </a:lnTo>
                      <a:lnTo>
                        <a:pt x="2057" y="192"/>
                      </a:lnTo>
                      <a:lnTo>
                        <a:pt x="1968" y="222"/>
                      </a:lnTo>
                      <a:lnTo>
                        <a:pt x="1884" y="254"/>
                      </a:lnTo>
                      <a:lnTo>
                        <a:pt x="1808" y="283"/>
                      </a:lnTo>
                      <a:lnTo>
                        <a:pt x="1740" y="310"/>
                      </a:lnTo>
                      <a:lnTo>
                        <a:pt x="1681" y="336"/>
                      </a:lnTo>
                      <a:lnTo>
                        <a:pt x="1629" y="357"/>
                      </a:lnTo>
                      <a:lnTo>
                        <a:pt x="1559" y="389"/>
                      </a:lnTo>
                      <a:lnTo>
                        <a:pt x="1536" y="401"/>
                      </a:lnTo>
                      <a:lnTo>
                        <a:pt x="1510" y="412"/>
                      </a:lnTo>
                      <a:lnTo>
                        <a:pt x="1441" y="448"/>
                      </a:lnTo>
                      <a:lnTo>
                        <a:pt x="1392" y="473"/>
                      </a:lnTo>
                      <a:lnTo>
                        <a:pt x="1335" y="503"/>
                      </a:lnTo>
                      <a:lnTo>
                        <a:pt x="1270" y="538"/>
                      </a:lnTo>
                      <a:lnTo>
                        <a:pt x="1202" y="576"/>
                      </a:lnTo>
                      <a:lnTo>
                        <a:pt x="1125" y="617"/>
                      </a:lnTo>
                      <a:lnTo>
                        <a:pt x="1046" y="663"/>
                      </a:lnTo>
                      <a:lnTo>
                        <a:pt x="1004" y="686"/>
                      </a:lnTo>
                      <a:lnTo>
                        <a:pt x="962" y="711"/>
                      </a:lnTo>
                      <a:lnTo>
                        <a:pt x="920" y="735"/>
                      </a:lnTo>
                      <a:lnTo>
                        <a:pt x="878" y="762"/>
                      </a:lnTo>
                      <a:lnTo>
                        <a:pt x="835" y="787"/>
                      </a:lnTo>
                      <a:lnTo>
                        <a:pt x="791" y="813"/>
                      </a:lnTo>
                      <a:lnTo>
                        <a:pt x="747" y="840"/>
                      </a:lnTo>
                      <a:lnTo>
                        <a:pt x="703" y="866"/>
                      </a:lnTo>
                      <a:lnTo>
                        <a:pt x="662" y="895"/>
                      </a:lnTo>
                      <a:lnTo>
                        <a:pt x="618" y="924"/>
                      </a:lnTo>
                      <a:lnTo>
                        <a:pt x="576" y="950"/>
                      </a:lnTo>
                      <a:lnTo>
                        <a:pt x="534" y="979"/>
                      </a:lnTo>
                      <a:lnTo>
                        <a:pt x="492" y="1007"/>
                      </a:lnTo>
                      <a:lnTo>
                        <a:pt x="452" y="1036"/>
                      </a:lnTo>
                      <a:lnTo>
                        <a:pt x="413" y="1064"/>
                      </a:lnTo>
                      <a:lnTo>
                        <a:pt x="374" y="1093"/>
                      </a:lnTo>
                      <a:lnTo>
                        <a:pt x="336" y="1121"/>
                      </a:lnTo>
                      <a:lnTo>
                        <a:pt x="300" y="1150"/>
                      </a:lnTo>
                      <a:lnTo>
                        <a:pt x="266" y="1178"/>
                      </a:lnTo>
                      <a:lnTo>
                        <a:pt x="234" y="1207"/>
                      </a:lnTo>
                      <a:lnTo>
                        <a:pt x="201" y="1235"/>
                      </a:lnTo>
                      <a:lnTo>
                        <a:pt x="171" y="1264"/>
                      </a:lnTo>
                      <a:lnTo>
                        <a:pt x="118" y="1317"/>
                      </a:lnTo>
                      <a:lnTo>
                        <a:pt x="74" y="1370"/>
                      </a:lnTo>
                      <a:lnTo>
                        <a:pt x="38" y="1422"/>
                      </a:lnTo>
                      <a:lnTo>
                        <a:pt x="0" y="1517"/>
                      </a:lnTo>
                      <a:lnTo>
                        <a:pt x="13" y="1598"/>
                      </a:lnTo>
                      <a:lnTo>
                        <a:pt x="40" y="1634"/>
                      </a:lnTo>
                      <a:lnTo>
                        <a:pt x="84" y="1667"/>
                      </a:lnTo>
                      <a:lnTo>
                        <a:pt x="143" y="1695"/>
                      </a:lnTo>
                      <a:lnTo>
                        <a:pt x="220" y="1716"/>
                      </a:lnTo>
                      <a:lnTo>
                        <a:pt x="220" y="1716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7800" y="2605680"/>
                  <a:ext cx="796320" cy="527400"/>
                </a:xfrm>
                <a:custGeom>
                  <a:avLst/>
                  <a:gdLst/>
                  <a:ahLst/>
                  <a:rect l="l" t="t" r="r" b="b"/>
                  <a:pathLst>
                    <a:path w="3019" h="2003">
                      <a:moveTo>
                        <a:pt x="40" y="1591"/>
                      </a:moveTo>
                      <a:lnTo>
                        <a:pt x="68" y="1621"/>
                      </a:lnTo>
                      <a:lnTo>
                        <a:pt x="102" y="1653"/>
                      </a:lnTo>
                      <a:lnTo>
                        <a:pt x="150" y="1693"/>
                      </a:lnTo>
                      <a:lnTo>
                        <a:pt x="180" y="1716"/>
                      </a:lnTo>
                      <a:lnTo>
                        <a:pt x="213" y="1741"/>
                      </a:lnTo>
                      <a:lnTo>
                        <a:pt x="249" y="1765"/>
                      </a:lnTo>
                      <a:lnTo>
                        <a:pt x="289" y="1788"/>
                      </a:lnTo>
                      <a:lnTo>
                        <a:pt x="332" y="1813"/>
                      </a:lnTo>
                      <a:lnTo>
                        <a:pt x="380" y="1838"/>
                      </a:lnTo>
                      <a:lnTo>
                        <a:pt x="431" y="1860"/>
                      </a:lnTo>
                      <a:lnTo>
                        <a:pt x="487" y="1883"/>
                      </a:lnTo>
                      <a:lnTo>
                        <a:pt x="585" y="1917"/>
                      </a:lnTo>
                      <a:lnTo>
                        <a:pt x="696" y="1946"/>
                      </a:lnTo>
                      <a:lnTo>
                        <a:pt x="815" y="1969"/>
                      </a:lnTo>
                      <a:lnTo>
                        <a:pt x="945" y="1986"/>
                      </a:lnTo>
                      <a:lnTo>
                        <a:pt x="1239" y="2003"/>
                      </a:lnTo>
                      <a:lnTo>
                        <a:pt x="1576" y="1995"/>
                      </a:lnTo>
                      <a:lnTo>
                        <a:pt x="1601" y="1874"/>
                      </a:lnTo>
                      <a:lnTo>
                        <a:pt x="1633" y="1750"/>
                      </a:lnTo>
                      <a:lnTo>
                        <a:pt x="1652" y="1682"/>
                      </a:lnTo>
                      <a:lnTo>
                        <a:pt x="1675" y="1611"/>
                      </a:lnTo>
                      <a:lnTo>
                        <a:pt x="1698" y="1541"/>
                      </a:lnTo>
                      <a:lnTo>
                        <a:pt x="1724" y="1476"/>
                      </a:lnTo>
                      <a:lnTo>
                        <a:pt x="1753" y="1418"/>
                      </a:lnTo>
                      <a:lnTo>
                        <a:pt x="1783" y="1366"/>
                      </a:lnTo>
                      <a:lnTo>
                        <a:pt x="1817" y="1326"/>
                      </a:lnTo>
                      <a:lnTo>
                        <a:pt x="1852" y="1300"/>
                      </a:lnTo>
                      <a:lnTo>
                        <a:pt x="1924" y="1298"/>
                      </a:lnTo>
                      <a:lnTo>
                        <a:pt x="1989" y="1332"/>
                      </a:lnTo>
                      <a:lnTo>
                        <a:pt x="2036" y="1361"/>
                      </a:lnTo>
                      <a:lnTo>
                        <a:pt x="2087" y="1402"/>
                      </a:lnTo>
                      <a:lnTo>
                        <a:pt x="2101" y="1435"/>
                      </a:lnTo>
                      <a:lnTo>
                        <a:pt x="2165" y="1651"/>
                      </a:lnTo>
                      <a:lnTo>
                        <a:pt x="2262" y="1480"/>
                      </a:lnTo>
                      <a:lnTo>
                        <a:pt x="2646" y="1035"/>
                      </a:lnTo>
                      <a:lnTo>
                        <a:pt x="2855" y="1243"/>
                      </a:lnTo>
                      <a:lnTo>
                        <a:pt x="3019" y="1094"/>
                      </a:lnTo>
                      <a:lnTo>
                        <a:pt x="3006" y="1056"/>
                      </a:lnTo>
                      <a:lnTo>
                        <a:pt x="2970" y="958"/>
                      </a:lnTo>
                      <a:lnTo>
                        <a:pt x="2945" y="891"/>
                      </a:lnTo>
                      <a:lnTo>
                        <a:pt x="2913" y="815"/>
                      </a:lnTo>
                      <a:lnTo>
                        <a:pt x="2878" y="733"/>
                      </a:lnTo>
                      <a:lnTo>
                        <a:pt x="2838" y="650"/>
                      </a:lnTo>
                      <a:lnTo>
                        <a:pt x="2795" y="566"/>
                      </a:lnTo>
                      <a:lnTo>
                        <a:pt x="2772" y="524"/>
                      </a:lnTo>
                      <a:lnTo>
                        <a:pt x="2747" y="484"/>
                      </a:lnTo>
                      <a:lnTo>
                        <a:pt x="2722" y="444"/>
                      </a:lnTo>
                      <a:lnTo>
                        <a:pt x="2698" y="406"/>
                      </a:lnTo>
                      <a:lnTo>
                        <a:pt x="2671" y="368"/>
                      </a:lnTo>
                      <a:lnTo>
                        <a:pt x="2644" y="334"/>
                      </a:lnTo>
                      <a:lnTo>
                        <a:pt x="2589" y="273"/>
                      </a:lnTo>
                      <a:lnTo>
                        <a:pt x="2559" y="247"/>
                      </a:lnTo>
                      <a:lnTo>
                        <a:pt x="2530" y="224"/>
                      </a:lnTo>
                      <a:lnTo>
                        <a:pt x="2470" y="190"/>
                      </a:lnTo>
                      <a:lnTo>
                        <a:pt x="2409" y="171"/>
                      </a:lnTo>
                      <a:lnTo>
                        <a:pt x="2331" y="85"/>
                      </a:lnTo>
                      <a:lnTo>
                        <a:pt x="1979" y="0"/>
                      </a:lnTo>
                      <a:lnTo>
                        <a:pt x="1661" y="30"/>
                      </a:lnTo>
                      <a:lnTo>
                        <a:pt x="1418" y="39"/>
                      </a:lnTo>
                      <a:lnTo>
                        <a:pt x="1110" y="152"/>
                      </a:lnTo>
                      <a:lnTo>
                        <a:pt x="975" y="228"/>
                      </a:lnTo>
                      <a:lnTo>
                        <a:pt x="802" y="509"/>
                      </a:lnTo>
                      <a:lnTo>
                        <a:pt x="711" y="631"/>
                      </a:lnTo>
                      <a:lnTo>
                        <a:pt x="399" y="758"/>
                      </a:lnTo>
                      <a:lnTo>
                        <a:pt x="365" y="783"/>
                      </a:lnTo>
                      <a:lnTo>
                        <a:pt x="329" y="809"/>
                      </a:lnTo>
                      <a:lnTo>
                        <a:pt x="283" y="842"/>
                      </a:lnTo>
                      <a:lnTo>
                        <a:pt x="237" y="876"/>
                      </a:lnTo>
                      <a:lnTo>
                        <a:pt x="190" y="910"/>
                      </a:lnTo>
                      <a:lnTo>
                        <a:pt x="150" y="942"/>
                      </a:lnTo>
                      <a:lnTo>
                        <a:pt x="118" y="967"/>
                      </a:lnTo>
                      <a:lnTo>
                        <a:pt x="64" y="1041"/>
                      </a:lnTo>
                      <a:lnTo>
                        <a:pt x="63" y="1072"/>
                      </a:lnTo>
                      <a:lnTo>
                        <a:pt x="0" y="1239"/>
                      </a:lnTo>
                      <a:lnTo>
                        <a:pt x="40" y="1591"/>
                      </a:lnTo>
                      <a:lnTo>
                        <a:pt x="40" y="1591"/>
                      </a:lnTo>
                      <a:close/>
                    </a:path>
                  </a:pathLst>
                </a:cu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49600" y="2831400"/>
                  <a:ext cx="128880" cy="187560"/>
                </a:xfrm>
                <a:custGeom>
                  <a:avLst/>
                  <a:gdLst/>
                  <a:ahLst/>
                  <a:rect l="l" t="t" r="r" b="b"/>
                  <a:pathLst>
                    <a:path w="489" h="711">
                      <a:moveTo>
                        <a:pt x="0" y="621"/>
                      </a:moveTo>
                      <a:lnTo>
                        <a:pt x="17" y="646"/>
                      </a:lnTo>
                      <a:lnTo>
                        <a:pt x="38" y="669"/>
                      </a:lnTo>
                      <a:lnTo>
                        <a:pt x="69" y="690"/>
                      </a:lnTo>
                      <a:lnTo>
                        <a:pt x="103" y="707"/>
                      </a:lnTo>
                      <a:lnTo>
                        <a:pt x="145" y="711"/>
                      </a:lnTo>
                      <a:lnTo>
                        <a:pt x="244" y="665"/>
                      </a:lnTo>
                      <a:lnTo>
                        <a:pt x="356" y="625"/>
                      </a:lnTo>
                      <a:lnTo>
                        <a:pt x="447" y="405"/>
                      </a:lnTo>
                      <a:lnTo>
                        <a:pt x="489" y="216"/>
                      </a:lnTo>
                      <a:lnTo>
                        <a:pt x="478" y="118"/>
                      </a:lnTo>
                      <a:lnTo>
                        <a:pt x="460" y="44"/>
                      </a:lnTo>
                      <a:lnTo>
                        <a:pt x="447" y="17"/>
                      </a:lnTo>
                      <a:lnTo>
                        <a:pt x="432" y="0"/>
                      </a:lnTo>
                      <a:lnTo>
                        <a:pt x="341" y="4"/>
                      </a:lnTo>
                      <a:lnTo>
                        <a:pt x="286" y="25"/>
                      </a:lnTo>
                      <a:lnTo>
                        <a:pt x="158" y="300"/>
                      </a:lnTo>
                      <a:lnTo>
                        <a:pt x="0" y="621"/>
                      </a:lnTo>
                      <a:lnTo>
                        <a:pt x="0" y="621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44560" y="2977200"/>
                  <a:ext cx="72720" cy="41400"/>
                </a:xfrm>
                <a:custGeom>
                  <a:avLst/>
                  <a:gdLst/>
                  <a:ahLst/>
                  <a:rect l="l" t="t" r="r" b="b"/>
                  <a:pathLst>
                    <a:path w="276" h="158">
                      <a:moveTo>
                        <a:pt x="0" y="30"/>
                      </a:moveTo>
                      <a:lnTo>
                        <a:pt x="124" y="0"/>
                      </a:lnTo>
                      <a:lnTo>
                        <a:pt x="143" y="25"/>
                      </a:lnTo>
                      <a:lnTo>
                        <a:pt x="164" y="49"/>
                      </a:lnTo>
                      <a:lnTo>
                        <a:pt x="192" y="72"/>
                      </a:lnTo>
                      <a:lnTo>
                        <a:pt x="276" y="123"/>
                      </a:lnTo>
                      <a:lnTo>
                        <a:pt x="242" y="150"/>
                      </a:lnTo>
                      <a:lnTo>
                        <a:pt x="198" y="158"/>
                      </a:lnTo>
                      <a:lnTo>
                        <a:pt x="145" y="158"/>
                      </a:lnTo>
                      <a:lnTo>
                        <a:pt x="29" y="106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2e4f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34800" y="2804400"/>
                  <a:ext cx="293760" cy="233640"/>
                </a:xfrm>
                <a:custGeom>
                  <a:avLst/>
                  <a:gdLst/>
                  <a:ahLst/>
                  <a:rect l="l" t="t" r="r" b="b"/>
                  <a:pathLst>
                    <a:path w="1114" h="888">
                      <a:moveTo>
                        <a:pt x="34" y="888"/>
                      </a:moveTo>
                      <a:lnTo>
                        <a:pt x="51" y="865"/>
                      </a:lnTo>
                      <a:lnTo>
                        <a:pt x="101" y="800"/>
                      </a:lnTo>
                      <a:lnTo>
                        <a:pt x="137" y="755"/>
                      </a:lnTo>
                      <a:lnTo>
                        <a:pt x="178" y="705"/>
                      </a:lnTo>
                      <a:lnTo>
                        <a:pt x="224" y="650"/>
                      </a:lnTo>
                      <a:lnTo>
                        <a:pt x="277" y="593"/>
                      </a:lnTo>
                      <a:lnTo>
                        <a:pt x="334" y="532"/>
                      </a:lnTo>
                      <a:lnTo>
                        <a:pt x="363" y="504"/>
                      </a:lnTo>
                      <a:lnTo>
                        <a:pt x="393" y="473"/>
                      </a:lnTo>
                      <a:lnTo>
                        <a:pt x="426" y="443"/>
                      </a:lnTo>
                      <a:lnTo>
                        <a:pt x="458" y="415"/>
                      </a:lnTo>
                      <a:lnTo>
                        <a:pt x="492" y="386"/>
                      </a:lnTo>
                      <a:lnTo>
                        <a:pt x="525" y="358"/>
                      </a:lnTo>
                      <a:lnTo>
                        <a:pt x="559" y="331"/>
                      </a:lnTo>
                      <a:lnTo>
                        <a:pt x="595" y="304"/>
                      </a:lnTo>
                      <a:lnTo>
                        <a:pt x="629" y="281"/>
                      </a:lnTo>
                      <a:lnTo>
                        <a:pt x="665" y="257"/>
                      </a:lnTo>
                      <a:lnTo>
                        <a:pt x="737" y="217"/>
                      </a:lnTo>
                      <a:lnTo>
                        <a:pt x="808" y="185"/>
                      </a:lnTo>
                      <a:lnTo>
                        <a:pt x="874" y="158"/>
                      </a:lnTo>
                      <a:lnTo>
                        <a:pt x="931" y="137"/>
                      </a:lnTo>
                      <a:lnTo>
                        <a:pt x="1017" y="105"/>
                      </a:lnTo>
                      <a:lnTo>
                        <a:pt x="1101" y="78"/>
                      </a:lnTo>
                      <a:lnTo>
                        <a:pt x="1114" y="80"/>
                      </a:lnTo>
                      <a:lnTo>
                        <a:pt x="1106" y="86"/>
                      </a:lnTo>
                      <a:lnTo>
                        <a:pt x="760" y="61"/>
                      </a:lnTo>
                      <a:lnTo>
                        <a:pt x="348" y="0"/>
                      </a:lnTo>
                      <a:lnTo>
                        <a:pt x="310" y="13"/>
                      </a:lnTo>
                      <a:lnTo>
                        <a:pt x="258" y="80"/>
                      </a:lnTo>
                      <a:lnTo>
                        <a:pt x="232" y="128"/>
                      </a:lnTo>
                      <a:lnTo>
                        <a:pt x="203" y="185"/>
                      </a:lnTo>
                      <a:lnTo>
                        <a:pt x="175" y="247"/>
                      </a:lnTo>
                      <a:lnTo>
                        <a:pt x="146" y="312"/>
                      </a:lnTo>
                      <a:lnTo>
                        <a:pt x="118" y="380"/>
                      </a:lnTo>
                      <a:lnTo>
                        <a:pt x="93" y="451"/>
                      </a:lnTo>
                      <a:lnTo>
                        <a:pt x="47" y="580"/>
                      </a:lnTo>
                      <a:lnTo>
                        <a:pt x="2" y="764"/>
                      </a:lnTo>
                      <a:lnTo>
                        <a:pt x="0" y="808"/>
                      </a:lnTo>
                      <a:lnTo>
                        <a:pt x="2" y="840"/>
                      </a:lnTo>
                      <a:lnTo>
                        <a:pt x="13" y="876"/>
                      </a:lnTo>
                      <a:lnTo>
                        <a:pt x="34" y="888"/>
                      </a:lnTo>
                      <a:lnTo>
                        <a:pt x="34" y="88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81120" y="2997720"/>
                  <a:ext cx="57960" cy="126720"/>
                </a:xfrm>
                <a:custGeom>
                  <a:avLst/>
                  <a:gdLst/>
                  <a:ahLst/>
                  <a:rect l="l" t="t" r="r" b="b"/>
                  <a:pathLst>
                    <a:path w="220" h="483">
                      <a:moveTo>
                        <a:pt x="0" y="391"/>
                      </a:moveTo>
                      <a:lnTo>
                        <a:pt x="11" y="458"/>
                      </a:lnTo>
                      <a:lnTo>
                        <a:pt x="30" y="483"/>
                      </a:lnTo>
                      <a:lnTo>
                        <a:pt x="59" y="477"/>
                      </a:lnTo>
                      <a:lnTo>
                        <a:pt x="110" y="422"/>
                      </a:lnTo>
                      <a:lnTo>
                        <a:pt x="133" y="378"/>
                      </a:lnTo>
                      <a:lnTo>
                        <a:pt x="161" y="319"/>
                      </a:lnTo>
                      <a:lnTo>
                        <a:pt x="188" y="258"/>
                      </a:lnTo>
                      <a:lnTo>
                        <a:pt x="205" y="209"/>
                      </a:lnTo>
                      <a:lnTo>
                        <a:pt x="220" y="26"/>
                      </a:lnTo>
                      <a:lnTo>
                        <a:pt x="211" y="13"/>
                      </a:lnTo>
                      <a:lnTo>
                        <a:pt x="194" y="0"/>
                      </a:lnTo>
                      <a:lnTo>
                        <a:pt x="106" y="9"/>
                      </a:lnTo>
                      <a:lnTo>
                        <a:pt x="28" y="209"/>
                      </a:lnTo>
                      <a:lnTo>
                        <a:pt x="0" y="391"/>
                      </a:lnTo>
                      <a:lnTo>
                        <a:pt x="0" y="391"/>
                      </a:lnTo>
                      <a:close/>
                    </a:path>
                  </a:pathLst>
                </a:custGeom>
                <a:solidFill>
                  <a:srgbClr val="607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53600" y="2932560"/>
                  <a:ext cx="127080" cy="127440"/>
                </a:xfrm>
                <a:custGeom>
                  <a:avLst/>
                  <a:gdLst/>
                  <a:ahLst/>
                  <a:rect l="l" t="t" r="r" b="b"/>
                  <a:pathLst>
                    <a:path w="481" h="483">
                      <a:moveTo>
                        <a:pt x="63" y="156"/>
                      </a:moveTo>
                      <a:lnTo>
                        <a:pt x="48" y="182"/>
                      </a:lnTo>
                      <a:lnTo>
                        <a:pt x="19" y="245"/>
                      </a:lnTo>
                      <a:lnTo>
                        <a:pt x="0" y="325"/>
                      </a:lnTo>
                      <a:lnTo>
                        <a:pt x="17" y="401"/>
                      </a:lnTo>
                      <a:lnTo>
                        <a:pt x="46" y="431"/>
                      </a:lnTo>
                      <a:lnTo>
                        <a:pt x="82" y="454"/>
                      </a:lnTo>
                      <a:lnTo>
                        <a:pt x="171" y="479"/>
                      </a:lnTo>
                      <a:lnTo>
                        <a:pt x="308" y="483"/>
                      </a:lnTo>
                      <a:lnTo>
                        <a:pt x="402" y="450"/>
                      </a:lnTo>
                      <a:lnTo>
                        <a:pt x="468" y="424"/>
                      </a:lnTo>
                      <a:lnTo>
                        <a:pt x="481" y="372"/>
                      </a:lnTo>
                      <a:lnTo>
                        <a:pt x="236" y="388"/>
                      </a:lnTo>
                      <a:lnTo>
                        <a:pt x="187" y="235"/>
                      </a:lnTo>
                      <a:lnTo>
                        <a:pt x="242" y="64"/>
                      </a:lnTo>
                      <a:lnTo>
                        <a:pt x="289" y="0"/>
                      </a:lnTo>
                      <a:lnTo>
                        <a:pt x="202" y="30"/>
                      </a:lnTo>
                      <a:lnTo>
                        <a:pt x="126" y="78"/>
                      </a:lnTo>
                      <a:lnTo>
                        <a:pt x="63" y="156"/>
                      </a:lnTo>
                      <a:lnTo>
                        <a:pt x="63" y="156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920880" y="2876040"/>
                  <a:ext cx="32400" cy="83160"/>
                </a:xfrm>
                <a:custGeom>
                  <a:avLst/>
                  <a:gdLst/>
                  <a:ahLst/>
                  <a:rect l="l" t="t" r="r" b="b"/>
                  <a:pathLst>
                    <a:path w="124" h="316">
                      <a:moveTo>
                        <a:pt x="48" y="32"/>
                      </a:moveTo>
                      <a:lnTo>
                        <a:pt x="21" y="93"/>
                      </a:lnTo>
                      <a:lnTo>
                        <a:pt x="0" y="196"/>
                      </a:lnTo>
                      <a:lnTo>
                        <a:pt x="12" y="302"/>
                      </a:lnTo>
                      <a:lnTo>
                        <a:pt x="33" y="316"/>
                      </a:lnTo>
                      <a:lnTo>
                        <a:pt x="63" y="287"/>
                      </a:lnTo>
                      <a:lnTo>
                        <a:pt x="107" y="182"/>
                      </a:lnTo>
                      <a:lnTo>
                        <a:pt x="124" y="19"/>
                      </a:lnTo>
                      <a:lnTo>
                        <a:pt x="103" y="0"/>
                      </a:lnTo>
                      <a:lnTo>
                        <a:pt x="48" y="32"/>
                      </a:lnTo>
                      <a:lnTo>
                        <a:pt x="48" y="32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22080" y="2634120"/>
                  <a:ext cx="316800" cy="100080"/>
                </a:xfrm>
                <a:custGeom>
                  <a:avLst/>
                  <a:gdLst/>
                  <a:ahLst/>
                  <a:rect l="l" t="t" r="r" b="b"/>
                  <a:pathLst>
                    <a:path w="1204" h="380">
                      <a:moveTo>
                        <a:pt x="0" y="211"/>
                      </a:moveTo>
                      <a:lnTo>
                        <a:pt x="65" y="194"/>
                      </a:lnTo>
                      <a:lnTo>
                        <a:pt x="215" y="152"/>
                      </a:lnTo>
                      <a:lnTo>
                        <a:pt x="303" y="125"/>
                      </a:lnTo>
                      <a:lnTo>
                        <a:pt x="388" y="99"/>
                      </a:lnTo>
                      <a:lnTo>
                        <a:pt x="466" y="72"/>
                      </a:lnTo>
                      <a:lnTo>
                        <a:pt x="525" y="47"/>
                      </a:lnTo>
                      <a:lnTo>
                        <a:pt x="576" y="28"/>
                      </a:lnTo>
                      <a:lnTo>
                        <a:pt x="630" y="13"/>
                      </a:lnTo>
                      <a:lnTo>
                        <a:pt x="736" y="0"/>
                      </a:lnTo>
                      <a:lnTo>
                        <a:pt x="900" y="26"/>
                      </a:lnTo>
                      <a:lnTo>
                        <a:pt x="930" y="47"/>
                      </a:lnTo>
                      <a:lnTo>
                        <a:pt x="968" y="78"/>
                      </a:lnTo>
                      <a:lnTo>
                        <a:pt x="1010" y="112"/>
                      </a:lnTo>
                      <a:lnTo>
                        <a:pt x="1052" y="150"/>
                      </a:lnTo>
                      <a:lnTo>
                        <a:pt x="1092" y="186"/>
                      </a:lnTo>
                      <a:lnTo>
                        <a:pt x="1124" y="215"/>
                      </a:lnTo>
                      <a:lnTo>
                        <a:pt x="1154" y="243"/>
                      </a:lnTo>
                      <a:lnTo>
                        <a:pt x="1204" y="304"/>
                      </a:lnTo>
                      <a:lnTo>
                        <a:pt x="1147" y="327"/>
                      </a:lnTo>
                      <a:lnTo>
                        <a:pt x="1073" y="380"/>
                      </a:lnTo>
                      <a:lnTo>
                        <a:pt x="1059" y="380"/>
                      </a:lnTo>
                      <a:lnTo>
                        <a:pt x="1052" y="346"/>
                      </a:lnTo>
                      <a:lnTo>
                        <a:pt x="1046" y="281"/>
                      </a:lnTo>
                      <a:lnTo>
                        <a:pt x="917" y="173"/>
                      </a:lnTo>
                      <a:lnTo>
                        <a:pt x="651" y="179"/>
                      </a:lnTo>
                      <a:lnTo>
                        <a:pt x="413" y="264"/>
                      </a:lnTo>
                      <a:lnTo>
                        <a:pt x="0" y="211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9440" y="3106800"/>
                  <a:ext cx="136080" cy="79920"/>
                </a:xfrm>
                <a:custGeom>
                  <a:avLst/>
                  <a:gdLst/>
                  <a:ahLst/>
                  <a:rect l="l" t="t" r="r" b="b"/>
                  <a:pathLst>
                    <a:path w="517" h="304">
                      <a:moveTo>
                        <a:pt x="0" y="133"/>
                      </a:moveTo>
                      <a:lnTo>
                        <a:pt x="91" y="245"/>
                      </a:lnTo>
                      <a:lnTo>
                        <a:pt x="279" y="304"/>
                      </a:lnTo>
                      <a:lnTo>
                        <a:pt x="410" y="276"/>
                      </a:lnTo>
                      <a:lnTo>
                        <a:pt x="517" y="255"/>
                      </a:lnTo>
                      <a:lnTo>
                        <a:pt x="425" y="257"/>
                      </a:lnTo>
                      <a:lnTo>
                        <a:pt x="338" y="217"/>
                      </a:lnTo>
                      <a:lnTo>
                        <a:pt x="268" y="131"/>
                      </a:lnTo>
                      <a:lnTo>
                        <a:pt x="228" y="0"/>
                      </a:lnTo>
                      <a:lnTo>
                        <a:pt x="216" y="27"/>
                      </a:lnTo>
                      <a:lnTo>
                        <a:pt x="192" y="52"/>
                      </a:lnTo>
                      <a:lnTo>
                        <a:pt x="152" y="72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314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47680" y="2800080"/>
                  <a:ext cx="118080" cy="70560"/>
                </a:xfrm>
                <a:custGeom>
                  <a:avLst/>
                  <a:gdLst/>
                  <a:ahLst/>
                  <a:rect l="l" t="t" r="r" b="b"/>
                  <a:pathLst>
                    <a:path w="447" h="266">
                      <a:moveTo>
                        <a:pt x="0" y="260"/>
                      </a:moveTo>
                      <a:lnTo>
                        <a:pt x="36" y="236"/>
                      </a:lnTo>
                      <a:lnTo>
                        <a:pt x="74" y="211"/>
                      </a:lnTo>
                      <a:lnTo>
                        <a:pt x="122" y="179"/>
                      </a:lnTo>
                      <a:lnTo>
                        <a:pt x="173" y="146"/>
                      </a:lnTo>
                      <a:lnTo>
                        <a:pt x="226" y="112"/>
                      </a:lnTo>
                      <a:lnTo>
                        <a:pt x="274" y="82"/>
                      </a:lnTo>
                      <a:lnTo>
                        <a:pt x="314" y="59"/>
                      </a:lnTo>
                      <a:lnTo>
                        <a:pt x="373" y="27"/>
                      </a:lnTo>
                      <a:lnTo>
                        <a:pt x="414" y="8"/>
                      </a:lnTo>
                      <a:lnTo>
                        <a:pt x="447" y="0"/>
                      </a:lnTo>
                      <a:lnTo>
                        <a:pt x="418" y="15"/>
                      </a:lnTo>
                      <a:lnTo>
                        <a:pt x="350" y="59"/>
                      </a:lnTo>
                      <a:lnTo>
                        <a:pt x="308" y="89"/>
                      </a:lnTo>
                      <a:lnTo>
                        <a:pt x="264" y="123"/>
                      </a:lnTo>
                      <a:lnTo>
                        <a:pt x="222" y="160"/>
                      </a:lnTo>
                      <a:lnTo>
                        <a:pt x="184" y="198"/>
                      </a:lnTo>
                      <a:lnTo>
                        <a:pt x="154" y="230"/>
                      </a:lnTo>
                      <a:lnTo>
                        <a:pt x="129" y="251"/>
                      </a:lnTo>
                      <a:lnTo>
                        <a:pt x="97" y="266"/>
                      </a:lnTo>
                      <a:lnTo>
                        <a:pt x="76" y="258"/>
                      </a:lnTo>
                      <a:lnTo>
                        <a:pt x="0" y="260"/>
                      </a:lnTo>
                      <a:lnTo>
                        <a:pt x="0" y="2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47320" y="2775240"/>
                  <a:ext cx="165240" cy="214920"/>
                </a:xfrm>
                <a:custGeom>
                  <a:avLst/>
                  <a:gdLst/>
                  <a:ahLst/>
                  <a:rect l="l" t="t" r="r" b="b"/>
                  <a:pathLst>
                    <a:path w="629" h="815">
                      <a:moveTo>
                        <a:pt x="224" y="363"/>
                      </a:moveTo>
                      <a:lnTo>
                        <a:pt x="245" y="526"/>
                      </a:lnTo>
                      <a:lnTo>
                        <a:pt x="213" y="587"/>
                      </a:lnTo>
                      <a:lnTo>
                        <a:pt x="177" y="648"/>
                      </a:lnTo>
                      <a:lnTo>
                        <a:pt x="152" y="673"/>
                      </a:lnTo>
                      <a:lnTo>
                        <a:pt x="122" y="692"/>
                      </a:lnTo>
                      <a:lnTo>
                        <a:pt x="42" y="703"/>
                      </a:lnTo>
                      <a:lnTo>
                        <a:pt x="8" y="709"/>
                      </a:lnTo>
                      <a:lnTo>
                        <a:pt x="0" y="726"/>
                      </a:lnTo>
                      <a:lnTo>
                        <a:pt x="15" y="751"/>
                      </a:lnTo>
                      <a:lnTo>
                        <a:pt x="42" y="777"/>
                      </a:lnTo>
                      <a:lnTo>
                        <a:pt x="78" y="802"/>
                      </a:lnTo>
                      <a:lnTo>
                        <a:pt x="118" y="815"/>
                      </a:lnTo>
                      <a:lnTo>
                        <a:pt x="181" y="793"/>
                      </a:lnTo>
                      <a:lnTo>
                        <a:pt x="209" y="739"/>
                      </a:lnTo>
                      <a:lnTo>
                        <a:pt x="230" y="703"/>
                      </a:lnTo>
                      <a:lnTo>
                        <a:pt x="253" y="661"/>
                      </a:lnTo>
                      <a:lnTo>
                        <a:pt x="278" y="616"/>
                      </a:lnTo>
                      <a:lnTo>
                        <a:pt x="304" y="566"/>
                      </a:lnTo>
                      <a:lnTo>
                        <a:pt x="331" y="515"/>
                      </a:lnTo>
                      <a:lnTo>
                        <a:pt x="357" y="466"/>
                      </a:lnTo>
                      <a:lnTo>
                        <a:pt x="384" y="414"/>
                      </a:lnTo>
                      <a:lnTo>
                        <a:pt x="409" y="367"/>
                      </a:lnTo>
                      <a:lnTo>
                        <a:pt x="434" y="323"/>
                      </a:lnTo>
                      <a:lnTo>
                        <a:pt x="453" y="285"/>
                      </a:lnTo>
                      <a:lnTo>
                        <a:pt x="483" y="228"/>
                      </a:lnTo>
                      <a:lnTo>
                        <a:pt x="494" y="207"/>
                      </a:lnTo>
                      <a:lnTo>
                        <a:pt x="629" y="76"/>
                      </a:lnTo>
                      <a:lnTo>
                        <a:pt x="614" y="0"/>
                      </a:lnTo>
                      <a:lnTo>
                        <a:pt x="595" y="13"/>
                      </a:lnTo>
                      <a:lnTo>
                        <a:pt x="548" y="49"/>
                      </a:lnTo>
                      <a:lnTo>
                        <a:pt x="515" y="72"/>
                      </a:lnTo>
                      <a:lnTo>
                        <a:pt x="479" y="99"/>
                      </a:lnTo>
                      <a:lnTo>
                        <a:pt x="441" y="129"/>
                      </a:lnTo>
                      <a:lnTo>
                        <a:pt x="401" y="160"/>
                      </a:lnTo>
                      <a:lnTo>
                        <a:pt x="363" y="192"/>
                      </a:lnTo>
                      <a:lnTo>
                        <a:pt x="327" y="222"/>
                      </a:lnTo>
                      <a:lnTo>
                        <a:pt x="295" y="253"/>
                      </a:lnTo>
                      <a:lnTo>
                        <a:pt x="266" y="281"/>
                      </a:lnTo>
                      <a:lnTo>
                        <a:pt x="224" y="363"/>
                      </a:lnTo>
                      <a:lnTo>
                        <a:pt x="224" y="3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57920" y="2599920"/>
                  <a:ext cx="303480" cy="81000"/>
                </a:xfrm>
                <a:custGeom>
                  <a:avLst/>
                  <a:gdLst/>
                  <a:ahLst/>
                  <a:rect l="l" t="t" r="r" b="b"/>
                  <a:pathLst>
                    <a:path w="1152" h="308">
                      <a:moveTo>
                        <a:pt x="32" y="237"/>
                      </a:moveTo>
                      <a:lnTo>
                        <a:pt x="536" y="308"/>
                      </a:lnTo>
                      <a:lnTo>
                        <a:pt x="473" y="271"/>
                      </a:lnTo>
                      <a:lnTo>
                        <a:pt x="450" y="232"/>
                      </a:lnTo>
                      <a:lnTo>
                        <a:pt x="460" y="211"/>
                      </a:lnTo>
                      <a:lnTo>
                        <a:pt x="486" y="190"/>
                      </a:lnTo>
                      <a:lnTo>
                        <a:pt x="526" y="167"/>
                      </a:lnTo>
                      <a:lnTo>
                        <a:pt x="566" y="150"/>
                      </a:lnTo>
                      <a:lnTo>
                        <a:pt x="654" y="119"/>
                      </a:lnTo>
                      <a:lnTo>
                        <a:pt x="747" y="97"/>
                      </a:lnTo>
                      <a:lnTo>
                        <a:pt x="849" y="76"/>
                      </a:lnTo>
                      <a:lnTo>
                        <a:pt x="1152" y="47"/>
                      </a:lnTo>
                      <a:lnTo>
                        <a:pt x="1011" y="15"/>
                      </a:lnTo>
                      <a:lnTo>
                        <a:pt x="785" y="3"/>
                      </a:lnTo>
                      <a:lnTo>
                        <a:pt x="650" y="0"/>
                      </a:lnTo>
                      <a:lnTo>
                        <a:pt x="448" y="36"/>
                      </a:lnTo>
                      <a:lnTo>
                        <a:pt x="237" y="102"/>
                      </a:lnTo>
                      <a:lnTo>
                        <a:pt x="38" y="190"/>
                      </a:lnTo>
                      <a:lnTo>
                        <a:pt x="0" y="264"/>
                      </a:lnTo>
                      <a:lnTo>
                        <a:pt x="32" y="237"/>
                      </a:lnTo>
                      <a:lnTo>
                        <a:pt x="32" y="237"/>
                      </a:lnTo>
                      <a:close/>
                    </a:path>
                  </a:pathLst>
                </a:custGeom>
                <a:solidFill>
                  <a:srgbClr val="fff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86960" y="2783880"/>
                  <a:ext cx="225000" cy="225360"/>
                </a:xfrm>
                <a:custGeom>
                  <a:avLst/>
                  <a:gdLst/>
                  <a:ahLst/>
                  <a:rect l="l" t="t" r="r" b="b"/>
                  <a:pathLst>
                    <a:path w="853" h="856">
                      <a:moveTo>
                        <a:pt x="5" y="804"/>
                      </a:moveTo>
                      <a:lnTo>
                        <a:pt x="87" y="578"/>
                      </a:lnTo>
                      <a:lnTo>
                        <a:pt x="89" y="650"/>
                      </a:lnTo>
                      <a:lnTo>
                        <a:pt x="169" y="512"/>
                      </a:lnTo>
                      <a:lnTo>
                        <a:pt x="152" y="629"/>
                      </a:lnTo>
                      <a:lnTo>
                        <a:pt x="230" y="464"/>
                      </a:lnTo>
                      <a:lnTo>
                        <a:pt x="243" y="588"/>
                      </a:lnTo>
                      <a:lnTo>
                        <a:pt x="274" y="390"/>
                      </a:lnTo>
                      <a:lnTo>
                        <a:pt x="310" y="232"/>
                      </a:lnTo>
                      <a:lnTo>
                        <a:pt x="332" y="166"/>
                      </a:lnTo>
                      <a:lnTo>
                        <a:pt x="359" y="114"/>
                      </a:lnTo>
                      <a:lnTo>
                        <a:pt x="388" y="80"/>
                      </a:lnTo>
                      <a:lnTo>
                        <a:pt x="416" y="53"/>
                      </a:lnTo>
                      <a:lnTo>
                        <a:pt x="469" y="23"/>
                      </a:lnTo>
                      <a:lnTo>
                        <a:pt x="524" y="10"/>
                      </a:lnTo>
                      <a:lnTo>
                        <a:pt x="589" y="0"/>
                      </a:lnTo>
                      <a:lnTo>
                        <a:pt x="644" y="12"/>
                      </a:lnTo>
                      <a:lnTo>
                        <a:pt x="694" y="55"/>
                      </a:lnTo>
                      <a:lnTo>
                        <a:pt x="736" y="131"/>
                      </a:lnTo>
                      <a:lnTo>
                        <a:pt x="770" y="217"/>
                      </a:lnTo>
                      <a:lnTo>
                        <a:pt x="806" y="312"/>
                      </a:lnTo>
                      <a:lnTo>
                        <a:pt x="853" y="420"/>
                      </a:lnTo>
                      <a:lnTo>
                        <a:pt x="682" y="550"/>
                      </a:lnTo>
                      <a:lnTo>
                        <a:pt x="690" y="481"/>
                      </a:lnTo>
                      <a:lnTo>
                        <a:pt x="701" y="274"/>
                      </a:lnTo>
                      <a:lnTo>
                        <a:pt x="652" y="183"/>
                      </a:lnTo>
                      <a:lnTo>
                        <a:pt x="570" y="185"/>
                      </a:lnTo>
                      <a:lnTo>
                        <a:pt x="545" y="207"/>
                      </a:lnTo>
                      <a:lnTo>
                        <a:pt x="490" y="264"/>
                      </a:lnTo>
                      <a:lnTo>
                        <a:pt x="433" y="344"/>
                      </a:lnTo>
                      <a:lnTo>
                        <a:pt x="399" y="432"/>
                      </a:lnTo>
                      <a:lnTo>
                        <a:pt x="372" y="608"/>
                      </a:lnTo>
                      <a:lnTo>
                        <a:pt x="357" y="698"/>
                      </a:lnTo>
                      <a:lnTo>
                        <a:pt x="355" y="770"/>
                      </a:lnTo>
                      <a:lnTo>
                        <a:pt x="112" y="852"/>
                      </a:lnTo>
                      <a:lnTo>
                        <a:pt x="0" y="856"/>
                      </a:lnTo>
                      <a:lnTo>
                        <a:pt x="5" y="804"/>
                      </a:lnTo>
                      <a:lnTo>
                        <a:pt x="5" y="80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62560" y="2773800"/>
                  <a:ext cx="105840" cy="99360"/>
                </a:xfrm>
                <a:custGeom>
                  <a:avLst/>
                  <a:gdLst/>
                  <a:ahLst/>
                  <a:rect l="l" t="t" r="r" b="b"/>
                  <a:pathLst>
                    <a:path w="403" h="378">
                      <a:moveTo>
                        <a:pt x="0" y="378"/>
                      </a:moveTo>
                      <a:lnTo>
                        <a:pt x="9" y="244"/>
                      </a:lnTo>
                      <a:lnTo>
                        <a:pt x="25" y="186"/>
                      </a:lnTo>
                      <a:lnTo>
                        <a:pt x="47" y="129"/>
                      </a:lnTo>
                      <a:lnTo>
                        <a:pt x="84" y="78"/>
                      </a:lnTo>
                      <a:lnTo>
                        <a:pt x="106" y="55"/>
                      </a:lnTo>
                      <a:lnTo>
                        <a:pt x="133" y="34"/>
                      </a:lnTo>
                      <a:lnTo>
                        <a:pt x="186" y="8"/>
                      </a:lnTo>
                      <a:lnTo>
                        <a:pt x="238" y="0"/>
                      </a:lnTo>
                      <a:lnTo>
                        <a:pt x="323" y="23"/>
                      </a:lnTo>
                      <a:lnTo>
                        <a:pt x="380" y="63"/>
                      </a:lnTo>
                      <a:lnTo>
                        <a:pt x="403" y="84"/>
                      </a:lnTo>
                      <a:lnTo>
                        <a:pt x="386" y="74"/>
                      </a:lnTo>
                      <a:lnTo>
                        <a:pt x="340" y="65"/>
                      </a:lnTo>
                      <a:lnTo>
                        <a:pt x="272" y="76"/>
                      </a:lnTo>
                      <a:lnTo>
                        <a:pt x="182" y="133"/>
                      </a:lnTo>
                      <a:lnTo>
                        <a:pt x="99" y="221"/>
                      </a:lnTo>
                      <a:lnTo>
                        <a:pt x="42" y="299"/>
                      </a:lnTo>
                      <a:lnTo>
                        <a:pt x="0" y="378"/>
                      </a:lnTo>
                      <a:lnTo>
                        <a:pt x="0" y="37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27040" y="2845440"/>
                  <a:ext cx="259560" cy="230760"/>
                </a:xfrm>
                <a:custGeom>
                  <a:avLst/>
                  <a:gdLst/>
                  <a:ahLst/>
                  <a:rect l="l" t="t" r="r" b="b"/>
                  <a:pathLst>
                    <a:path w="985" h="876">
                      <a:moveTo>
                        <a:pt x="0" y="876"/>
                      </a:moveTo>
                      <a:lnTo>
                        <a:pt x="40" y="852"/>
                      </a:lnTo>
                      <a:lnTo>
                        <a:pt x="82" y="823"/>
                      </a:lnTo>
                      <a:lnTo>
                        <a:pt x="129" y="789"/>
                      </a:lnTo>
                      <a:lnTo>
                        <a:pt x="179" y="751"/>
                      </a:lnTo>
                      <a:lnTo>
                        <a:pt x="224" y="713"/>
                      </a:lnTo>
                      <a:lnTo>
                        <a:pt x="279" y="644"/>
                      </a:lnTo>
                      <a:lnTo>
                        <a:pt x="321" y="354"/>
                      </a:lnTo>
                      <a:lnTo>
                        <a:pt x="342" y="259"/>
                      </a:lnTo>
                      <a:lnTo>
                        <a:pt x="371" y="171"/>
                      </a:lnTo>
                      <a:lnTo>
                        <a:pt x="390" y="131"/>
                      </a:lnTo>
                      <a:lnTo>
                        <a:pt x="413" y="97"/>
                      </a:lnTo>
                      <a:lnTo>
                        <a:pt x="437" y="67"/>
                      </a:lnTo>
                      <a:lnTo>
                        <a:pt x="466" y="44"/>
                      </a:lnTo>
                      <a:lnTo>
                        <a:pt x="525" y="15"/>
                      </a:lnTo>
                      <a:lnTo>
                        <a:pt x="578" y="0"/>
                      </a:lnTo>
                      <a:lnTo>
                        <a:pt x="664" y="8"/>
                      </a:lnTo>
                      <a:lnTo>
                        <a:pt x="732" y="44"/>
                      </a:lnTo>
                      <a:lnTo>
                        <a:pt x="749" y="53"/>
                      </a:lnTo>
                      <a:lnTo>
                        <a:pt x="798" y="78"/>
                      </a:lnTo>
                      <a:lnTo>
                        <a:pt x="848" y="105"/>
                      </a:lnTo>
                      <a:lnTo>
                        <a:pt x="873" y="116"/>
                      </a:lnTo>
                      <a:lnTo>
                        <a:pt x="958" y="257"/>
                      </a:lnTo>
                      <a:lnTo>
                        <a:pt x="985" y="378"/>
                      </a:lnTo>
                      <a:lnTo>
                        <a:pt x="899" y="285"/>
                      </a:lnTo>
                      <a:lnTo>
                        <a:pt x="728" y="289"/>
                      </a:lnTo>
                      <a:lnTo>
                        <a:pt x="451" y="635"/>
                      </a:lnTo>
                      <a:lnTo>
                        <a:pt x="274" y="863"/>
                      </a:lnTo>
                      <a:lnTo>
                        <a:pt x="0" y="876"/>
                      </a:lnTo>
                      <a:lnTo>
                        <a:pt x="0" y="876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70320" y="2674440"/>
                  <a:ext cx="238320" cy="175680"/>
                </a:xfrm>
                <a:custGeom>
                  <a:avLst/>
                  <a:gdLst/>
                  <a:ahLst/>
                  <a:rect l="l" t="t" r="r" b="b"/>
                  <a:pathLst>
                    <a:path w="905" h="667">
                      <a:moveTo>
                        <a:pt x="0" y="561"/>
                      </a:moveTo>
                      <a:lnTo>
                        <a:pt x="146" y="667"/>
                      </a:lnTo>
                      <a:lnTo>
                        <a:pt x="585" y="460"/>
                      </a:lnTo>
                      <a:lnTo>
                        <a:pt x="905" y="207"/>
                      </a:lnTo>
                      <a:lnTo>
                        <a:pt x="817" y="70"/>
                      </a:lnTo>
                      <a:lnTo>
                        <a:pt x="701" y="4"/>
                      </a:lnTo>
                      <a:lnTo>
                        <a:pt x="540" y="0"/>
                      </a:lnTo>
                      <a:lnTo>
                        <a:pt x="405" y="46"/>
                      </a:lnTo>
                      <a:lnTo>
                        <a:pt x="228" y="131"/>
                      </a:lnTo>
                      <a:lnTo>
                        <a:pt x="95" y="253"/>
                      </a:lnTo>
                      <a:lnTo>
                        <a:pt x="36" y="435"/>
                      </a:lnTo>
                      <a:lnTo>
                        <a:pt x="0" y="561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04720" y="2918160"/>
                  <a:ext cx="107280" cy="117360"/>
                </a:xfrm>
                <a:custGeom>
                  <a:avLst/>
                  <a:gdLst/>
                  <a:ahLst/>
                  <a:rect l="l" t="t" r="r" b="b"/>
                  <a:pathLst>
                    <a:path w="407" h="446">
                      <a:moveTo>
                        <a:pt x="0" y="328"/>
                      </a:moveTo>
                      <a:lnTo>
                        <a:pt x="65" y="93"/>
                      </a:lnTo>
                      <a:lnTo>
                        <a:pt x="190" y="11"/>
                      </a:lnTo>
                      <a:lnTo>
                        <a:pt x="236" y="3"/>
                      </a:lnTo>
                      <a:lnTo>
                        <a:pt x="301" y="0"/>
                      </a:lnTo>
                      <a:lnTo>
                        <a:pt x="350" y="15"/>
                      </a:lnTo>
                      <a:lnTo>
                        <a:pt x="382" y="59"/>
                      </a:lnTo>
                      <a:lnTo>
                        <a:pt x="407" y="205"/>
                      </a:lnTo>
                      <a:lnTo>
                        <a:pt x="400" y="277"/>
                      </a:lnTo>
                      <a:lnTo>
                        <a:pt x="373" y="330"/>
                      </a:lnTo>
                      <a:lnTo>
                        <a:pt x="348" y="351"/>
                      </a:lnTo>
                      <a:lnTo>
                        <a:pt x="320" y="372"/>
                      </a:lnTo>
                      <a:lnTo>
                        <a:pt x="259" y="408"/>
                      </a:lnTo>
                      <a:lnTo>
                        <a:pt x="209" y="435"/>
                      </a:lnTo>
                      <a:lnTo>
                        <a:pt x="189" y="446"/>
                      </a:lnTo>
                      <a:lnTo>
                        <a:pt x="38" y="412"/>
                      </a:lnTo>
                      <a:lnTo>
                        <a:pt x="0" y="328"/>
                      </a:lnTo>
                      <a:lnTo>
                        <a:pt x="0" y="328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36160" y="2865960"/>
                  <a:ext cx="79560" cy="96840"/>
                </a:xfrm>
                <a:custGeom>
                  <a:avLst/>
                  <a:gdLst/>
                  <a:ahLst/>
                  <a:rect l="l" t="t" r="r" b="b"/>
                  <a:pathLst>
                    <a:path w="303" h="369">
                      <a:moveTo>
                        <a:pt x="0" y="257"/>
                      </a:moveTo>
                      <a:lnTo>
                        <a:pt x="8" y="171"/>
                      </a:lnTo>
                      <a:lnTo>
                        <a:pt x="29" y="99"/>
                      </a:lnTo>
                      <a:lnTo>
                        <a:pt x="44" y="65"/>
                      </a:lnTo>
                      <a:lnTo>
                        <a:pt x="67" y="38"/>
                      </a:lnTo>
                      <a:lnTo>
                        <a:pt x="105" y="6"/>
                      </a:lnTo>
                      <a:lnTo>
                        <a:pt x="124" y="0"/>
                      </a:lnTo>
                      <a:lnTo>
                        <a:pt x="131" y="9"/>
                      </a:lnTo>
                      <a:lnTo>
                        <a:pt x="238" y="25"/>
                      </a:lnTo>
                      <a:lnTo>
                        <a:pt x="303" y="122"/>
                      </a:lnTo>
                      <a:lnTo>
                        <a:pt x="247" y="253"/>
                      </a:lnTo>
                      <a:lnTo>
                        <a:pt x="122" y="369"/>
                      </a:lnTo>
                      <a:lnTo>
                        <a:pt x="0" y="257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1960" y="2684160"/>
                  <a:ext cx="166680" cy="146880"/>
                </a:xfrm>
                <a:custGeom>
                  <a:avLst/>
                  <a:gdLst/>
                  <a:ahLst/>
                  <a:rect l="l" t="t" r="r" b="b"/>
                  <a:pathLst>
                    <a:path w="633" h="559">
                      <a:moveTo>
                        <a:pt x="0" y="559"/>
                      </a:moveTo>
                      <a:lnTo>
                        <a:pt x="24" y="542"/>
                      </a:lnTo>
                      <a:lnTo>
                        <a:pt x="55" y="521"/>
                      </a:lnTo>
                      <a:lnTo>
                        <a:pt x="93" y="494"/>
                      </a:lnTo>
                      <a:lnTo>
                        <a:pt x="137" y="464"/>
                      </a:lnTo>
                      <a:lnTo>
                        <a:pt x="186" y="428"/>
                      </a:lnTo>
                      <a:lnTo>
                        <a:pt x="237" y="388"/>
                      </a:lnTo>
                      <a:lnTo>
                        <a:pt x="289" y="344"/>
                      </a:lnTo>
                      <a:lnTo>
                        <a:pt x="340" y="298"/>
                      </a:lnTo>
                      <a:lnTo>
                        <a:pt x="387" y="253"/>
                      </a:lnTo>
                      <a:lnTo>
                        <a:pt x="429" y="205"/>
                      </a:lnTo>
                      <a:lnTo>
                        <a:pt x="464" y="160"/>
                      </a:lnTo>
                      <a:lnTo>
                        <a:pt x="502" y="74"/>
                      </a:lnTo>
                      <a:lnTo>
                        <a:pt x="486" y="0"/>
                      </a:lnTo>
                      <a:lnTo>
                        <a:pt x="513" y="19"/>
                      </a:lnTo>
                      <a:lnTo>
                        <a:pt x="540" y="40"/>
                      </a:lnTo>
                      <a:lnTo>
                        <a:pt x="570" y="66"/>
                      </a:lnTo>
                      <a:lnTo>
                        <a:pt x="633" y="158"/>
                      </a:lnTo>
                      <a:lnTo>
                        <a:pt x="604" y="188"/>
                      </a:lnTo>
                      <a:lnTo>
                        <a:pt x="572" y="224"/>
                      </a:lnTo>
                      <a:lnTo>
                        <a:pt x="541" y="253"/>
                      </a:lnTo>
                      <a:lnTo>
                        <a:pt x="530" y="266"/>
                      </a:lnTo>
                      <a:lnTo>
                        <a:pt x="194" y="477"/>
                      </a:lnTo>
                      <a:lnTo>
                        <a:pt x="0" y="559"/>
                      </a:lnTo>
                      <a:lnTo>
                        <a:pt x="0" y="559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9520" y="2992680"/>
                  <a:ext cx="411840" cy="150480"/>
                </a:xfrm>
                <a:custGeom>
                  <a:avLst/>
                  <a:gdLst/>
                  <a:ahLst/>
                  <a:rect l="l" t="t" r="r" b="b"/>
                  <a:pathLst>
                    <a:path w="1561" h="570">
                      <a:moveTo>
                        <a:pt x="6" y="127"/>
                      </a:moveTo>
                      <a:lnTo>
                        <a:pt x="0" y="61"/>
                      </a:lnTo>
                      <a:lnTo>
                        <a:pt x="10" y="15"/>
                      </a:lnTo>
                      <a:lnTo>
                        <a:pt x="42" y="0"/>
                      </a:lnTo>
                      <a:lnTo>
                        <a:pt x="96" y="32"/>
                      </a:lnTo>
                      <a:lnTo>
                        <a:pt x="151" y="87"/>
                      </a:lnTo>
                      <a:lnTo>
                        <a:pt x="192" y="144"/>
                      </a:lnTo>
                      <a:lnTo>
                        <a:pt x="208" y="167"/>
                      </a:lnTo>
                      <a:lnTo>
                        <a:pt x="225" y="180"/>
                      </a:lnTo>
                      <a:lnTo>
                        <a:pt x="270" y="213"/>
                      </a:lnTo>
                      <a:lnTo>
                        <a:pt x="303" y="234"/>
                      </a:lnTo>
                      <a:lnTo>
                        <a:pt x="341" y="256"/>
                      </a:lnTo>
                      <a:lnTo>
                        <a:pt x="383" y="281"/>
                      </a:lnTo>
                      <a:lnTo>
                        <a:pt x="430" y="306"/>
                      </a:lnTo>
                      <a:lnTo>
                        <a:pt x="480" y="331"/>
                      </a:lnTo>
                      <a:lnTo>
                        <a:pt x="533" y="353"/>
                      </a:lnTo>
                      <a:lnTo>
                        <a:pt x="588" y="374"/>
                      </a:lnTo>
                      <a:lnTo>
                        <a:pt x="643" y="391"/>
                      </a:lnTo>
                      <a:lnTo>
                        <a:pt x="759" y="412"/>
                      </a:lnTo>
                      <a:lnTo>
                        <a:pt x="871" y="409"/>
                      </a:lnTo>
                      <a:lnTo>
                        <a:pt x="1162" y="374"/>
                      </a:lnTo>
                      <a:lnTo>
                        <a:pt x="1232" y="376"/>
                      </a:lnTo>
                      <a:lnTo>
                        <a:pt x="1314" y="353"/>
                      </a:lnTo>
                      <a:lnTo>
                        <a:pt x="1404" y="327"/>
                      </a:lnTo>
                      <a:lnTo>
                        <a:pt x="1425" y="313"/>
                      </a:lnTo>
                      <a:lnTo>
                        <a:pt x="1461" y="294"/>
                      </a:lnTo>
                      <a:lnTo>
                        <a:pt x="1502" y="281"/>
                      </a:lnTo>
                      <a:lnTo>
                        <a:pt x="1537" y="281"/>
                      </a:lnTo>
                      <a:lnTo>
                        <a:pt x="1561" y="367"/>
                      </a:lnTo>
                      <a:lnTo>
                        <a:pt x="1552" y="454"/>
                      </a:lnTo>
                      <a:lnTo>
                        <a:pt x="1535" y="488"/>
                      </a:lnTo>
                      <a:lnTo>
                        <a:pt x="1525" y="507"/>
                      </a:lnTo>
                      <a:lnTo>
                        <a:pt x="1198" y="570"/>
                      </a:lnTo>
                      <a:lnTo>
                        <a:pt x="727" y="532"/>
                      </a:lnTo>
                      <a:lnTo>
                        <a:pt x="402" y="437"/>
                      </a:lnTo>
                      <a:lnTo>
                        <a:pt x="101" y="236"/>
                      </a:lnTo>
                      <a:lnTo>
                        <a:pt x="6" y="127"/>
                      </a:lnTo>
                      <a:lnTo>
                        <a:pt x="6" y="127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34520" y="2891880"/>
                  <a:ext cx="355320" cy="246960"/>
                </a:xfrm>
                <a:custGeom>
                  <a:avLst/>
                  <a:gdLst/>
                  <a:ahLst/>
                  <a:rect l="l" t="t" r="r" b="b"/>
                  <a:pathLst>
                    <a:path w="1348" h="937">
                      <a:moveTo>
                        <a:pt x="415" y="800"/>
                      </a:moveTo>
                      <a:lnTo>
                        <a:pt x="458" y="773"/>
                      </a:lnTo>
                      <a:lnTo>
                        <a:pt x="506" y="737"/>
                      </a:lnTo>
                      <a:lnTo>
                        <a:pt x="534" y="713"/>
                      </a:lnTo>
                      <a:lnTo>
                        <a:pt x="565" y="686"/>
                      </a:lnTo>
                      <a:lnTo>
                        <a:pt x="629" y="618"/>
                      </a:lnTo>
                      <a:lnTo>
                        <a:pt x="662" y="578"/>
                      </a:lnTo>
                      <a:lnTo>
                        <a:pt x="696" y="532"/>
                      </a:lnTo>
                      <a:lnTo>
                        <a:pt x="728" y="483"/>
                      </a:lnTo>
                      <a:lnTo>
                        <a:pt x="759" y="427"/>
                      </a:lnTo>
                      <a:lnTo>
                        <a:pt x="814" y="304"/>
                      </a:lnTo>
                      <a:lnTo>
                        <a:pt x="848" y="249"/>
                      </a:lnTo>
                      <a:lnTo>
                        <a:pt x="879" y="199"/>
                      </a:lnTo>
                      <a:lnTo>
                        <a:pt x="907" y="158"/>
                      </a:lnTo>
                      <a:lnTo>
                        <a:pt x="934" y="123"/>
                      </a:lnTo>
                      <a:lnTo>
                        <a:pt x="981" y="70"/>
                      </a:lnTo>
                      <a:lnTo>
                        <a:pt x="1017" y="36"/>
                      </a:lnTo>
                      <a:lnTo>
                        <a:pt x="1074" y="7"/>
                      </a:lnTo>
                      <a:lnTo>
                        <a:pt x="1110" y="0"/>
                      </a:lnTo>
                      <a:lnTo>
                        <a:pt x="1192" y="9"/>
                      </a:lnTo>
                      <a:lnTo>
                        <a:pt x="1244" y="44"/>
                      </a:lnTo>
                      <a:lnTo>
                        <a:pt x="1297" y="106"/>
                      </a:lnTo>
                      <a:lnTo>
                        <a:pt x="1339" y="226"/>
                      </a:lnTo>
                      <a:lnTo>
                        <a:pt x="1333" y="264"/>
                      </a:lnTo>
                      <a:lnTo>
                        <a:pt x="1348" y="452"/>
                      </a:lnTo>
                      <a:lnTo>
                        <a:pt x="1293" y="502"/>
                      </a:lnTo>
                      <a:lnTo>
                        <a:pt x="1232" y="245"/>
                      </a:lnTo>
                      <a:lnTo>
                        <a:pt x="1040" y="209"/>
                      </a:lnTo>
                      <a:lnTo>
                        <a:pt x="939" y="304"/>
                      </a:lnTo>
                      <a:lnTo>
                        <a:pt x="793" y="523"/>
                      </a:lnTo>
                      <a:lnTo>
                        <a:pt x="717" y="851"/>
                      </a:lnTo>
                      <a:lnTo>
                        <a:pt x="744" y="906"/>
                      </a:lnTo>
                      <a:lnTo>
                        <a:pt x="430" y="937"/>
                      </a:lnTo>
                      <a:lnTo>
                        <a:pt x="0" y="912"/>
                      </a:lnTo>
                      <a:lnTo>
                        <a:pt x="415" y="800"/>
                      </a:lnTo>
                      <a:lnTo>
                        <a:pt x="415" y="80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8240" y="2663640"/>
                  <a:ext cx="285840" cy="159480"/>
                </a:xfrm>
                <a:custGeom>
                  <a:avLst/>
                  <a:gdLst/>
                  <a:ahLst/>
                  <a:rect l="l" t="t" r="r" b="b"/>
                  <a:pathLst>
                    <a:path w="1086" h="606">
                      <a:moveTo>
                        <a:pt x="0" y="393"/>
                      </a:moveTo>
                      <a:lnTo>
                        <a:pt x="187" y="25"/>
                      </a:lnTo>
                      <a:lnTo>
                        <a:pt x="358" y="0"/>
                      </a:lnTo>
                      <a:lnTo>
                        <a:pt x="1046" y="150"/>
                      </a:lnTo>
                      <a:lnTo>
                        <a:pt x="1086" y="287"/>
                      </a:lnTo>
                      <a:lnTo>
                        <a:pt x="1016" y="565"/>
                      </a:lnTo>
                      <a:lnTo>
                        <a:pt x="940" y="606"/>
                      </a:lnTo>
                      <a:lnTo>
                        <a:pt x="223" y="570"/>
                      </a:lnTo>
                      <a:lnTo>
                        <a:pt x="19" y="475"/>
                      </a:lnTo>
                      <a:lnTo>
                        <a:pt x="0" y="393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a0e5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0000" y="2684160"/>
                  <a:ext cx="221040" cy="131040"/>
                </a:xfrm>
                <a:custGeom>
                  <a:avLst/>
                  <a:gdLst/>
                  <a:ahLst/>
                  <a:rect l="l" t="t" r="r" b="b"/>
                  <a:pathLst>
                    <a:path w="839" h="498">
                      <a:moveTo>
                        <a:pt x="590" y="0"/>
                      </a:moveTo>
                      <a:lnTo>
                        <a:pt x="576" y="19"/>
                      </a:lnTo>
                      <a:lnTo>
                        <a:pt x="538" y="68"/>
                      </a:lnTo>
                      <a:lnTo>
                        <a:pt x="481" y="139"/>
                      </a:lnTo>
                      <a:lnTo>
                        <a:pt x="447" y="179"/>
                      </a:lnTo>
                      <a:lnTo>
                        <a:pt x="409" y="220"/>
                      </a:lnTo>
                      <a:lnTo>
                        <a:pt x="369" y="262"/>
                      </a:lnTo>
                      <a:lnTo>
                        <a:pt x="325" y="304"/>
                      </a:lnTo>
                      <a:lnTo>
                        <a:pt x="282" y="344"/>
                      </a:lnTo>
                      <a:lnTo>
                        <a:pt x="238" y="380"/>
                      </a:lnTo>
                      <a:lnTo>
                        <a:pt x="194" y="411"/>
                      </a:lnTo>
                      <a:lnTo>
                        <a:pt x="148" y="437"/>
                      </a:lnTo>
                      <a:lnTo>
                        <a:pt x="65" y="468"/>
                      </a:lnTo>
                      <a:lnTo>
                        <a:pt x="0" y="485"/>
                      </a:lnTo>
                      <a:lnTo>
                        <a:pt x="67" y="494"/>
                      </a:lnTo>
                      <a:lnTo>
                        <a:pt x="232" y="498"/>
                      </a:lnTo>
                      <a:lnTo>
                        <a:pt x="331" y="462"/>
                      </a:lnTo>
                      <a:lnTo>
                        <a:pt x="430" y="416"/>
                      </a:lnTo>
                      <a:lnTo>
                        <a:pt x="487" y="392"/>
                      </a:lnTo>
                      <a:lnTo>
                        <a:pt x="544" y="361"/>
                      </a:lnTo>
                      <a:lnTo>
                        <a:pt x="601" y="329"/>
                      </a:lnTo>
                      <a:lnTo>
                        <a:pt x="656" y="295"/>
                      </a:lnTo>
                      <a:lnTo>
                        <a:pt x="707" y="258"/>
                      </a:lnTo>
                      <a:lnTo>
                        <a:pt x="753" y="222"/>
                      </a:lnTo>
                      <a:lnTo>
                        <a:pt x="820" y="144"/>
                      </a:lnTo>
                      <a:lnTo>
                        <a:pt x="839" y="65"/>
                      </a:lnTo>
                      <a:lnTo>
                        <a:pt x="590" y="0"/>
                      </a:lnTo>
                      <a:lnTo>
                        <a:pt x="59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43720" y="2891520"/>
                  <a:ext cx="65160" cy="72360"/>
                </a:xfrm>
                <a:custGeom>
                  <a:avLst/>
                  <a:gdLst/>
                  <a:ahLst/>
                  <a:rect l="l" t="t" r="r" b="b"/>
                  <a:pathLst>
                    <a:path w="249" h="276">
                      <a:moveTo>
                        <a:pt x="0" y="192"/>
                      </a:moveTo>
                      <a:lnTo>
                        <a:pt x="80" y="184"/>
                      </a:lnTo>
                      <a:lnTo>
                        <a:pt x="161" y="129"/>
                      </a:lnTo>
                      <a:lnTo>
                        <a:pt x="205" y="76"/>
                      </a:lnTo>
                      <a:lnTo>
                        <a:pt x="249" y="0"/>
                      </a:lnTo>
                      <a:lnTo>
                        <a:pt x="222" y="209"/>
                      </a:lnTo>
                      <a:lnTo>
                        <a:pt x="112" y="276"/>
                      </a:lnTo>
                      <a:lnTo>
                        <a:pt x="0" y="192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18120" y="2936160"/>
                  <a:ext cx="156960" cy="244440"/>
                </a:xfrm>
                <a:custGeom>
                  <a:avLst/>
                  <a:gdLst/>
                  <a:ahLst/>
                  <a:rect l="l" t="t" r="r" b="b"/>
                  <a:pathLst>
                    <a:path w="595" h="928">
                      <a:moveTo>
                        <a:pt x="0" y="726"/>
                      </a:moveTo>
                      <a:lnTo>
                        <a:pt x="23" y="774"/>
                      </a:lnTo>
                      <a:lnTo>
                        <a:pt x="49" y="817"/>
                      </a:lnTo>
                      <a:lnTo>
                        <a:pt x="86" y="865"/>
                      </a:lnTo>
                      <a:lnTo>
                        <a:pt x="106" y="886"/>
                      </a:lnTo>
                      <a:lnTo>
                        <a:pt x="131" y="905"/>
                      </a:lnTo>
                      <a:lnTo>
                        <a:pt x="183" y="928"/>
                      </a:lnTo>
                      <a:lnTo>
                        <a:pt x="241" y="926"/>
                      </a:lnTo>
                      <a:lnTo>
                        <a:pt x="306" y="888"/>
                      </a:lnTo>
                      <a:lnTo>
                        <a:pt x="338" y="857"/>
                      </a:lnTo>
                      <a:lnTo>
                        <a:pt x="369" y="825"/>
                      </a:lnTo>
                      <a:lnTo>
                        <a:pt x="424" y="760"/>
                      </a:lnTo>
                      <a:lnTo>
                        <a:pt x="472" y="698"/>
                      </a:lnTo>
                      <a:lnTo>
                        <a:pt x="510" y="639"/>
                      </a:lnTo>
                      <a:lnTo>
                        <a:pt x="538" y="586"/>
                      </a:lnTo>
                      <a:lnTo>
                        <a:pt x="559" y="544"/>
                      </a:lnTo>
                      <a:lnTo>
                        <a:pt x="576" y="508"/>
                      </a:lnTo>
                      <a:lnTo>
                        <a:pt x="595" y="169"/>
                      </a:lnTo>
                      <a:lnTo>
                        <a:pt x="511" y="25"/>
                      </a:lnTo>
                      <a:lnTo>
                        <a:pt x="335" y="0"/>
                      </a:lnTo>
                      <a:lnTo>
                        <a:pt x="127" y="300"/>
                      </a:lnTo>
                      <a:lnTo>
                        <a:pt x="116" y="335"/>
                      </a:lnTo>
                      <a:lnTo>
                        <a:pt x="91" y="413"/>
                      </a:lnTo>
                      <a:lnTo>
                        <a:pt x="61" y="509"/>
                      </a:lnTo>
                      <a:lnTo>
                        <a:pt x="42" y="595"/>
                      </a:lnTo>
                      <a:lnTo>
                        <a:pt x="15" y="694"/>
                      </a:lnTo>
                      <a:lnTo>
                        <a:pt x="0" y="726"/>
                      </a:lnTo>
                      <a:lnTo>
                        <a:pt x="0" y="726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80400" y="2997360"/>
                  <a:ext cx="62280" cy="123480"/>
                </a:xfrm>
                <a:custGeom>
                  <a:avLst/>
                  <a:gdLst/>
                  <a:ahLst/>
                  <a:rect l="l" t="t" r="r" b="b"/>
                  <a:pathLst>
                    <a:path w="236" h="469">
                      <a:moveTo>
                        <a:pt x="156" y="0"/>
                      </a:moveTo>
                      <a:lnTo>
                        <a:pt x="57" y="80"/>
                      </a:lnTo>
                      <a:lnTo>
                        <a:pt x="2" y="382"/>
                      </a:lnTo>
                      <a:lnTo>
                        <a:pt x="0" y="367"/>
                      </a:lnTo>
                      <a:lnTo>
                        <a:pt x="15" y="439"/>
                      </a:lnTo>
                      <a:lnTo>
                        <a:pt x="30" y="468"/>
                      </a:lnTo>
                      <a:lnTo>
                        <a:pt x="49" y="469"/>
                      </a:lnTo>
                      <a:lnTo>
                        <a:pt x="102" y="420"/>
                      </a:lnTo>
                      <a:lnTo>
                        <a:pt x="150" y="350"/>
                      </a:lnTo>
                      <a:lnTo>
                        <a:pt x="171" y="314"/>
                      </a:lnTo>
                      <a:lnTo>
                        <a:pt x="184" y="279"/>
                      </a:lnTo>
                      <a:lnTo>
                        <a:pt x="209" y="201"/>
                      </a:lnTo>
                      <a:lnTo>
                        <a:pt x="236" y="47"/>
                      </a:lnTo>
                      <a:lnTo>
                        <a:pt x="215" y="17"/>
                      </a:lnTo>
                      <a:lnTo>
                        <a:pt x="188" y="4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04720" y="2954520"/>
                  <a:ext cx="103680" cy="86400"/>
                </a:xfrm>
                <a:custGeom>
                  <a:avLst/>
                  <a:gdLst/>
                  <a:ahLst/>
                  <a:rect l="l" t="t" r="r" b="b"/>
                  <a:pathLst>
                    <a:path w="394" h="327">
                      <a:moveTo>
                        <a:pt x="0" y="183"/>
                      </a:moveTo>
                      <a:lnTo>
                        <a:pt x="36" y="202"/>
                      </a:lnTo>
                      <a:lnTo>
                        <a:pt x="130" y="217"/>
                      </a:lnTo>
                      <a:lnTo>
                        <a:pt x="257" y="170"/>
                      </a:lnTo>
                      <a:lnTo>
                        <a:pt x="291" y="141"/>
                      </a:lnTo>
                      <a:lnTo>
                        <a:pt x="325" y="105"/>
                      </a:lnTo>
                      <a:lnTo>
                        <a:pt x="360" y="57"/>
                      </a:lnTo>
                      <a:lnTo>
                        <a:pt x="394" y="0"/>
                      </a:lnTo>
                      <a:lnTo>
                        <a:pt x="392" y="107"/>
                      </a:lnTo>
                      <a:lnTo>
                        <a:pt x="381" y="154"/>
                      </a:lnTo>
                      <a:lnTo>
                        <a:pt x="360" y="202"/>
                      </a:lnTo>
                      <a:lnTo>
                        <a:pt x="327" y="248"/>
                      </a:lnTo>
                      <a:lnTo>
                        <a:pt x="305" y="268"/>
                      </a:lnTo>
                      <a:lnTo>
                        <a:pt x="280" y="287"/>
                      </a:lnTo>
                      <a:lnTo>
                        <a:pt x="227" y="316"/>
                      </a:lnTo>
                      <a:lnTo>
                        <a:pt x="179" y="327"/>
                      </a:lnTo>
                      <a:lnTo>
                        <a:pt x="99" y="316"/>
                      </a:lnTo>
                      <a:lnTo>
                        <a:pt x="46" y="287"/>
                      </a:lnTo>
                      <a:lnTo>
                        <a:pt x="29" y="270"/>
                      </a:lnTo>
                      <a:lnTo>
                        <a:pt x="0" y="183"/>
                      </a:lnTo>
                      <a:lnTo>
                        <a:pt x="0" y="183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74480" y="2698560"/>
                  <a:ext cx="259920" cy="132480"/>
                </a:xfrm>
                <a:custGeom>
                  <a:avLst/>
                  <a:gdLst/>
                  <a:ahLst/>
                  <a:rect l="l" t="t" r="r" b="b"/>
                  <a:pathLst>
                    <a:path w="985" h="506">
                      <a:moveTo>
                        <a:pt x="0" y="434"/>
                      </a:moveTo>
                      <a:lnTo>
                        <a:pt x="86" y="416"/>
                      </a:lnTo>
                      <a:lnTo>
                        <a:pt x="282" y="365"/>
                      </a:lnTo>
                      <a:lnTo>
                        <a:pt x="390" y="329"/>
                      </a:lnTo>
                      <a:lnTo>
                        <a:pt x="489" y="283"/>
                      </a:lnTo>
                      <a:lnTo>
                        <a:pt x="567" y="232"/>
                      </a:lnTo>
                      <a:lnTo>
                        <a:pt x="612" y="173"/>
                      </a:lnTo>
                      <a:lnTo>
                        <a:pt x="688" y="0"/>
                      </a:lnTo>
                      <a:lnTo>
                        <a:pt x="823" y="0"/>
                      </a:lnTo>
                      <a:lnTo>
                        <a:pt x="985" y="23"/>
                      </a:lnTo>
                      <a:lnTo>
                        <a:pt x="949" y="69"/>
                      </a:lnTo>
                      <a:lnTo>
                        <a:pt x="911" y="116"/>
                      </a:lnTo>
                      <a:lnTo>
                        <a:pt x="871" y="173"/>
                      </a:lnTo>
                      <a:lnTo>
                        <a:pt x="829" y="234"/>
                      </a:lnTo>
                      <a:lnTo>
                        <a:pt x="793" y="293"/>
                      </a:lnTo>
                      <a:lnTo>
                        <a:pt x="763" y="380"/>
                      </a:lnTo>
                      <a:lnTo>
                        <a:pt x="759" y="472"/>
                      </a:lnTo>
                      <a:lnTo>
                        <a:pt x="747" y="506"/>
                      </a:lnTo>
                      <a:lnTo>
                        <a:pt x="531" y="468"/>
                      </a:lnTo>
                      <a:lnTo>
                        <a:pt x="0" y="434"/>
                      </a:lnTo>
                      <a:lnTo>
                        <a:pt x="0" y="434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88960" y="2763000"/>
                  <a:ext cx="96840" cy="77400"/>
                </a:xfrm>
                <a:custGeom>
                  <a:avLst/>
                  <a:gdLst/>
                  <a:ahLst/>
                  <a:rect l="l" t="t" r="r" b="b"/>
                  <a:pathLst>
                    <a:path w="369" h="293">
                      <a:moveTo>
                        <a:pt x="0" y="223"/>
                      </a:moveTo>
                      <a:lnTo>
                        <a:pt x="42" y="208"/>
                      </a:lnTo>
                      <a:lnTo>
                        <a:pt x="142" y="166"/>
                      </a:lnTo>
                      <a:lnTo>
                        <a:pt x="203" y="133"/>
                      </a:lnTo>
                      <a:lnTo>
                        <a:pt x="264" y="95"/>
                      </a:lnTo>
                      <a:lnTo>
                        <a:pt x="321" y="52"/>
                      </a:lnTo>
                      <a:lnTo>
                        <a:pt x="369" y="0"/>
                      </a:lnTo>
                      <a:lnTo>
                        <a:pt x="319" y="227"/>
                      </a:lnTo>
                      <a:lnTo>
                        <a:pt x="340" y="293"/>
                      </a:lnTo>
                      <a:lnTo>
                        <a:pt x="302" y="278"/>
                      </a:lnTo>
                      <a:lnTo>
                        <a:pt x="209" y="246"/>
                      </a:lnTo>
                      <a:lnTo>
                        <a:pt x="97" y="221"/>
                      </a:lnTo>
                      <a:lnTo>
                        <a:pt x="0" y="223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02480" y="2597400"/>
                  <a:ext cx="333720" cy="202680"/>
                </a:xfrm>
                <a:custGeom>
                  <a:avLst/>
                  <a:gdLst/>
                  <a:ahLst/>
                  <a:rect l="l" t="t" r="r" b="b"/>
                  <a:pathLst>
                    <a:path w="1267" h="770">
                      <a:moveTo>
                        <a:pt x="232" y="320"/>
                      </a:moveTo>
                      <a:lnTo>
                        <a:pt x="337" y="302"/>
                      </a:lnTo>
                      <a:lnTo>
                        <a:pt x="559" y="314"/>
                      </a:lnTo>
                      <a:lnTo>
                        <a:pt x="843" y="371"/>
                      </a:lnTo>
                      <a:lnTo>
                        <a:pt x="991" y="424"/>
                      </a:lnTo>
                      <a:lnTo>
                        <a:pt x="1065" y="456"/>
                      </a:lnTo>
                      <a:lnTo>
                        <a:pt x="1136" y="494"/>
                      </a:lnTo>
                      <a:lnTo>
                        <a:pt x="1185" y="494"/>
                      </a:lnTo>
                      <a:lnTo>
                        <a:pt x="1242" y="462"/>
                      </a:lnTo>
                      <a:lnTo>
                        <a:pt x="1267" y="422"/>
                      </a:lnTo>
                      <a:lnTo>
                        <a:pt x="1259" y="405"/>
                      </a:lnTo>
                      <a:lnTo>
                        <a:pt x="1229" y="394"/>
                      </a:lnTo>
                      <a:lnTo>
                        <a:pt x="1122" y="373"/>
                      </a:lnTo>
                      <a:lnTo>
                        <a:pt x="953" y="335"/>
                      </a:lnTo>
                      <a:lnTo>
                        <a:pt x="835" y="310"/>
                      </a:lnTo>
                      <a:lnTo>
                        <a:pt x="691" y="283"/>
                      </a:lnTo>
                      <a:lnTo>
                        <a:pt x="516" y="255"/>
                      </a:lnTo>
                      <a:lnTo>
                        <a:pt x="307" y="225"/>
                      </a:lnTo>
                      <a:lnTo>
                        <a:pt x="293" y="211"/>
                      </a:lnTo>
                      <a:lnTo>
                        <a:pt x="322" y="190"/>
                      </a:lnTo>
                      <a:lnTo>
                        <a:pt x="383" y="162"/>
                      </a:lnTo>
                      <a:lnTo>
                        <a:pt x="462" y="129"/>
                      </a:lnTo>
                      <a:lnTo>
                        <a:pt x="554" y="97"/>
                      </a:lnTo>
                      <a:lnTo>
                        <a:pt x="641" y="69"/>
                      </a:lnTo>
                      <a:lnTo>
                        <a:pt x="769" y="38"/>
                      </a:lnTo>
                      <a:lnTo>
                        <a:pt x="839" y="15"/>
                      </a:lnTo>
                      <a:lnTo>
                        <a:pt x="837" y="0"/>
                      </a:lnTo>
                      <a:lnTo>
                        <a:pt x="628" y="38"/>
                      </a:lnTo>
                      <a:lnTo>
                        <a:pt x="531" y="67"/>
                      </a:lnTo>
                      <a:lnTo>
                        <a:pt x="424" y="103"/>
                      </a:lnTo>
                      <a:lnTo>
                        <a:pt x="314" y="152"/>
                      </a:lnTo>
                      <a:lnTo>
                        <a:pt x="261" y="181"/>
                      </a:lnTo>
                      <a:lnTo>
                        <a:pt x="208" y="213"/>
                      </a:lnTo>
                      <a:lnTo>
                        <a:pt x="181" y="247"/>
                      </a:lnTo>
                      <a:lnTo>
                        <a:pt x="153" y="289"/>
                      </a:lnTo>
                      <a:lnTo>
                        <a:pt x="120" y="342"/>
                      </a:lnTo>
                      <a:lnTo>
                        <a:pt x="84" y="407"/>
                      </a:lnTo>
                      <a:lnTo>
                        <a:pt x="52" y="481"/>
                      </a:lnTo>
                      <a:lnTo>
                        <a:pt x="0" y="648"/>
                      </a:lnTo>
                      <a:lnTo>
                        <a:pt x="0" y="770"/>
                      </a:lnTo>
                      <a:lnTo>
                        <a:pt x="48" y="696"/>
                      </a:lnTo>
                      <a:lnTo>
                        <a:pt x="54" y="643"/>
                      </a:lnTo>
                      <a:lnTo>
                        <a:pt x="71" y="601"/>
                      </a:lnTo>
                      <a:lnTo>
                        <a:pt x="116" y="506"/>
                      </a:lnTo>
                      <a:lnTo>
                        <a:pt x="145" y="451"/>
                      </a:lnTo>
                      <a:lnTo>
                        <a:pt x="173" y="397"/>
                      </a:lnTo>
                      <a:lnTo>
                        <a:pt x="204" y="352"/>
                      </a:lnTo>
                      <a:lnTo>
                        <a:pt x="232" y="320"/>
                      </a:lnTo>
                      <a:lnTo>
                        <a:pt x="232" y="3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6920" y="2820240"/>
                  <a:ext cx="223560" cy="161640"/>
                </a:xfrm>
                <a:custGeom>
                  <a:avLst/>
                  <a:gdLst/>
                  <a:ahLst/>
                  <a:rect l="l" t="t" r="r" b="b"/>
                  <a:pathLst>
                    <a:path w="848" h="614">
                      <a:moveTo>
                        <a:pt x="741" y="0"/>
                      </a:moveTo>
                      <a:lnTo>
                        <a:pt x="848" y="32"/>
                      </a:lnTo>
                      <a:lnTo>
                        <a:pt x="760" y="65"/>
                      </a:lnTo>
                      <a:lnTo>
                        <a:pt x="663" y="105"/>
                      </a:lnTo>
                      <a:lnTo>
                        <a:pt x="606" y="131"/>
                      </a:lnTo>
                      <a:lnTo>
                        <a:pt x="544" y="163"/>
                      </a:lnTo>
                      <a:lnTo>
                        <a:pt x="477" y="200"/>
                      </a:lnTo>
                      <a:lnTo>
                        <a:pt x="407" y="243"/>
                      </a:lnTo>
                      <a:lnTo>
                        <a:pt x="336" y="291"/>
                      </a:lnTo>
                      <a:lnTo>
                        <a:pt x="300" y="316"/>
                      </a:lnTo>
                      <a:lnTo>
                        <a:pt x="266" y="344"/>
                      </a:lnTo>
                      <a:lnTo>
                        <a:pt x="230" y="373"/>
                      </a:lnTo>
                      <a:lnTo>
                        <a:pt x="196" y="403"/>
                      </a:lnTo>
                      <a:lnTo>
                        <a:pt x="161" y="433"/>
                      </a:lnTo>
                      <a:lnTo>
                        <a:pt x="127" y="468"/>
                      </a:lnTo>
                      <a:lnTo>
                        <a:pt x="61" y="538"/>
                      </a:lnTo>
                      <a:lnTo>
                        <a:pt x="0" y="614"/>
                      </a:lnTo>
                      <a:lnTo>
                        <a:pt x="0" y="584"/>
                      </a:lnTo>
                      <a:lnTo>
                        <a:pt x="34" y="519"/>
                      </a:lnTo>
                      <a:lnTo>
                        <a:pt x="61" y="477"/>
                      </a:lnTo>
                      <a:lnTo>
                        <a:pt x="95" y="431"/>
                      </a:lnTo>
                      <a:lnTo>
                        <a:pt x="137" y="382"/>
                      </a:lnTo>
                      <a:lnTo>
                        <a:pt x="186" y="331"/>
                      </a:lnTo>
                      <a:lnTo>
                        <a:pt x="215" y="304"/>
                      </a:lnTo>
                      <a:lnTo>
                        <a:pt x="243" y="277"/>
                      </a:lnTo>
                      <a:lnTo>
                        <a:pt x="275" y="249"/>
                      </a:lnTo>
                      <a:lnTo>
                        <a:pt x="310" y="222"/>
                      </a:lnTo>
                      <a:lnTo>
                        <a:pt x="346" y="196"/>
                      </a:lnTo>
                      <a:lnTo>
                        <a:pt x="386" y="169"/>
                      </a:lnTo>
                      <a:lnTo>
                        <a:pt x="426" y="143"/>
                      </a:lnTo>
                      <a:lnTo>
                        <a:pt x="469" y="118"/>
                      </a:lnTo>
                      <a:lnTo>
                        <a:pt x="515" y="93"/>
                      </a:lnTo>
                      <a:lnTo>
                        <a:pt x="564" y="68"/>
                      </a:lnTo>
                      <a:lnTo>
                        <a:pt x="614" y="44"/>
                      </a:lnTo>
                      <a:lnTo>
                        <a:pt x="667" y="23"/>
                      </a:lnTo>
                      <a:lnTo>
                        <a:pt x="741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42960" y="2662560"/>
                  <a:ext cx="202320" cy="166320"/>
                </a:xfrm>
                <a:custGeom>
                  <a:avLst/>
                  <a:gdLst/>
                  <a:ahLst/>
                  <a:rect l="l" t="t" r="r" b="b"/>
                  <a:pathLst>
                    <a:path w="768" h="631">
                      <a:moveTo>
                        <a:pt x="74" y="599"/>
                      </a:moveTo>
                      <a:lnTo>
                        <a:pt x="88" y="536"/>
                      </a:lnTo>
                      <a:lnTo>
                        <a:pt x="110" y="466"/>
                      </a:lnTo>
                      <a:lnTo>
                        <a:pt x="147" y="382"/>
                      </a:lnTo>
                      <a:lnTo>
                        <a:pt x="171" y="339"/>
                      </a:lnTo>
                      <a:lnTo>
                        <a:pt x="200" y="293"/>
                      </a:lnTo>
                      <a:lnTo>
                        <a:pt x="236" y="247"/>
                      </a:lnTo>
                      <a:lnTo>
                        <a:pt x="278" y="206"/>
                      </a:lnTo>
                      <a:lnTo>
                        <a:pt x="325" y="164"/>
                      </a:lnTo>
                      <a:lnTo>
                        <a:pt x="379" y="126"/>
                      </a:lnTo>
                      <a:lnTo>
                        <a:pt x="441" y="93"/>
                      </a:lnTo>
                      <a:lnTo>
                        <a:pt x="510" y="65"/>
                      </a:lnTo>
                      <a:lnTo>
                        <a:pt x="610" y="31"/>
                      </a:lnTo>
                      <a:lnTo>
                        <a:pt x="685" y="6"/>
                      </a:lnTo>
                      <a:lnTo>
                        <a:pt x="768" y="0"/>
                      </a:lnTo>
                      <a:lnTo>
                        <a:pt x="740" y="59"/>
                      </a:lnTo>
                      <a:lnTo>
                        <a:pt x="645" y="67"/>
                      </a:lnTo>
                      <a:lnTo>
                        <a:pt x="561" y="103"/>
                      </a:lnTo>
                      <a:lnTo>
                        <a:pt x="458" y="148"/>
                      </a:lnTo>
                      <a:lnTo>
                        <a:pt x="392" y="188"/>
                      </a:lnTo>
                      <a:lnTo>
                        <a:pt x="323" y="232"/>
                      </a:lnTo>
                      <a:lnTo>
                        <a:pt x="253" y="308"/>
                      </a:lnTo>
                      <a:lnTo>
                        <a:pt x="209" y="371"/>
                      </a:lnTo>
                      <a:lnTo>
                        <a:pt x="171" y="451"/>
                      </a:lnTo>
                      <a:lnTo>
                        <a:pt x="154" y="536"/>
                      </a:lnTo>
                      <a:lnTo>
                        <a:pt x="166" y="595"/>
                      </a:lnTo>
                      <a:lnTo>
                        <a:pt x="181" y="631"/>
                      </a:lnTo>
                      <a:lnTo>
                        <a:pt x="0" y="622"/>
                      </a:lnTo>
                      <a:lnTo>
                        <a:pt x="74" y="599"/>
                      </a:lnTo>
                      <a:lnTo>
                        <a:pt x="74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96880" y="2597040"/>
                  <a:ext cx="358920" cy="176400"/>
                </a:xfrm>
                <a:custGeom>
                  <a:avLst/>
                  <a:gdLst/>
                  <a:ahLst/>
                  <a:rect l="l" t="t" r="r" b="b"/>
                  <a:pathLst>
                    <a:path w="1361" h="671">
                      <a:moveTo>
                        <a:pt x="126" y="29"/>
                      </a:moveTo>
                      <a:lnTo>
                        <a:pt x="280" y="23"/>
                      </a:lnTo>
                      <a:lnTo>
                        <a:pt x="639" y="65"/>
                      </a:lnTo>
                      <a:lnTo>
                        <a:pt x="742" y="95"/>
                      </a:lnTo>
                      <a:lnTo>
                        <a:pt x="846" y="135"/>
                      </a:lnTo>
                      <a:lnTo>
                        <a:pt x="949" y="187"/>
                      </a:lnTo>
                      <a:lnTo>
                        <a:pt x="1000" y="217"/>
                      </a:lnTo>
                      <a:lnTo>
                        <a:pt x="1050" y="251"/>
                      </a:lnTo>
                      <a:lnTo>
                        <a:pt x="1097" y="287"/>
                      </a:lnTo>
                      <a:lnTo>
                        <a:pt x="1143" y="329"/>
                      </a:lnTo>
                      <a:lnTo>
                        <a:pt x="1187" y="375"/>
                      </a:lnTo>
                      <a:lnTo>
                        <a:pt x="1226" y="426"/>
                      </a:lnTo>
                      <a:lnTo>
                        <a:pt x="1264" y="479"/>
                      </a:lnTo>
                      <a:lnTo>
                        <a:pt x="1301" y="538"/>
                      </a:lnTo>
                      <a:lnTo>
                        <a:pt x="1333" y="603"/>
                      </a:lnTo>
                      <a:lnTo>
                        <a:pt x="1361" y="671"/>
                      </a:lnTo>
                      <a:lnTo>
                        <a:pt x="1356" y="591"/>
                      </a:lnTo>
                      <a:lnTo>
                        <a:pt x="1337" y="508"/>
                      </a:lnTo>
                      <a:lnTo>
                        <a:pt x="1320" y="460"/>
                      </a:lnTo>
                      <a:lnTo>
                        <a:pt x="1295" y="409"/>
                      </a:lnTo>
                      <a:lnTo>
                        <a:pt x="1261" y="356"/>
                      </a:lnTo>
                      <a:lnTo>
                        <a:pt x="1219" y="303"/>
                      </a:lnTo>
                      <a:lnTo>
                        <a:pt x="1194" y="276"/>
                      </a:lnTo>
                      <a:lnTo>
                        <a:pt x="1168" y="251"/>
                      </a:lnTo>
                      <a:lnTo>
                        <a:pt x="1137" y="225"/>
                      </a:lnTo>
                      <a:lnTo>
                        <a:pt x="1103" y="200"/>
                      </a:lnTo>
                      <a:lnTo>
                        <a:pt x="1069" y="177"/>
                      </a:lnTo>
                      <a:lnTo>
                        <a:pt x="1029" y="154"/>
                      </a:lnTo>
                      <a:lnTo>
                        <a:pt x="985" y="133"/>
                      </a:lnTo>
                      <a:lnTo>
                        <a:pt x="939" y="112"/>
                      </a:lnTo>
                      <a:lnTo>
                        <a:pt x="835" y="78"/>
                      </a:lnTo>
                      <a:lnTo>
                        <a:pt x="715" y="50"/>
                      </a:lnTo>
                      <a:lnTo>
                        <a:pt x="652" y="40"/>
                      </a:lnTo>
                      <a:lnTo>
                        <a:pt x="498" y="19"/>
                      </a:lnTo>
                      <a:lnTo>
                        <a:pt x="299" y="0"/>
                      </a:lnTo>
                      <a:lnTo>
                        <a:pt x="99" y="2"/>
                      </a:lnTo>
                      <a:lnTo>
                        <a:pt x="0" y="16"/>
                      </a:lnTo>
                      <a:lnTo>
                        <a:pt x="21" y="23"/>
                      </a:lnTo>
                      <a:lnTo>
                        <a:pt x="126" y="29"/>
                      </a:lnTo>
                      <a:lnTo>
                        <a:pt x="126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943200" y="2743200"/>
                  <a:ext cx="81720" cy="156960"/>
                </a:xfrm>
                <a:custGeom>
                  <a:avLst/>
                  <a:gdLst/>
                  <a:ahLst/>
                  <a:rect l="l" t="t" r="r" b="b"/>
                  <a:pathLst>
                    <a:path w="310" h="595">
                      <a:moveTo>
                        <a:pt x="0" y="0"/>
                      </a:moveTo>
                      <a:lnTo>
                        <a:pt x="25" y="59"/>
                      </a:lnTo>
                      <a:lnTo>
                        <a:pt x="49" y="122"/>
                      </a:lnTo>
                      <a:lnTo>
                        <a:pt x="78" y="198"/>
                      </a:lnTo>
                      <a:lnTo>
                        <a:pt x="108" y="278"/>
                      </a:lnTo>
                      <a:lnTo>
                        <a:pt x="133" y="354"/>
                      </a:lnTo>
                      <a:lnTo>
                        <a:pt x="162" y="472"/>
                      </a:lnTo>
                      <a:lnTo>
                        <a:pt x="175" y="532"/>
                      </a:lnTo>
                      <a:lnTo>
                        <a:pt x="202" y="570"/>
                      </a:lnTo>
                      <a:lnTo>
                        <a:pt x="240" y="595"/>
                      </a:lnTo>
                      <a:lnTo>
                        <a:pt x="264" y="590"/>
                      </a:lnTo>
                      <a:lnTo>
                        <a:pt x="310" y="559"/>
                      </a:lnTo>
                      <a:lnTo>
                        <a:pt x="255" y="512"/>
                      </a:lnTo>
                      <a:lnTo>
                        <a:pt x="127" y="196"/>
                      </a:lnTo>
                      <a:lnTo>
                        <a:pt x="99" y="131"/>
                      </a:lnTo>
                      <a:lnTo>
                        <a:pt x="72" y="86"/>
                      </a:lnTo>
                      <a:lnTo>
                        <a:pt x="32" y="2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21360" y="2717280"/>
                  <a:ext cx="296280" cy="137520"/>
                </a:xfrm>
                <a:custGeom>
                  <a:avLst/>
                  <a:gdLst/>
                  <a:ahLst/>
                  <a:rect l="l" t="t" r="r" b="b"/>
                  <a:pathLst>
                    <a:path w="1126" h="523">
                      <a:moveTo>
                        <a:pt x="263" y="424"/>
                      </a:moveTo>
                      <a:lnTo>
                        <a:pt x="287" y="436"/>
                      </a:lnTo>
                      <a:lnTo>
                        <a:pt x="384" y="430"/>
                      </a:lnTo>
                      <a:lnTo>
                        <a:pt x="584" y="354"/>
                      </a:lnTo>
                      <a:lnTo>
                        <a:pt x="653" y="316"/>
                      </a:lnTo>
                      <a:lnTo>
                        <a:pt x="730" y="270"/>
                      </a:lnTo>
                      <a:lnTo>
                        <a:pt x="774" y="242"/>
                      </a:lnTo>
                      <a:lnTo>
                        <a:pt x="820" y="213"/>
                      </a:lnTo>
                      <a:lnTo>
                        <a:pt x="865" y="181"/>
                      </a:lnTo>
                      <a:lnTo>
                        <a:pt x="917" y="147"/>
                      </a:lnTo>
                      <a:lnTo>
                        <a:pt x="961" y="113"/>
                      </a:lnTo>
                      <a:lnTo>
                        <a:pt x="999" y="82"/>
                      </a:lnTo>
                      <a:lnTo>
                        <a:pt x="1046" y="25"/>
                      </a:lnTo>
                      <a:lnTo>
                        <a:pt x="1063" y="6"/>
                      </a:lnTo>
                      <a:lnTo>
                        <a:pt x="1077" y="0"/>
                      </a:lnTo>
                      <a:lnTo>
                        <a:pt x="1103" y="10"/>
                      </a:lnTo>
                      <a:lnTo>
                        <a:pt x="1126" y="48"/>
                      </a:lnTo>
                      <a:lnTo>
                        <a:pt x="1078" y="97"/>
                      </a:lnTo>
                      <a:lnTo>
                        <a:pt x="1052" y="122"/>
                      </a:lnTo>
                      <a:lnTo>
                        <a:pt x="1019" y="151"/>
                      </a:lnTo>
                      <a:lnTo>
                        <a:pt x="983" y="181"/>
                      </a:lnTo>
                      <a:lnTo>
                        <a:pt x="940" y="215"/>
                      </a:lnTo>
                      <a:lnTo>
                        <a:pt x="892" y="251"/>
                      </a:lnTo>
                      <a:lnTo>
                        <a:pt x="839" y="287"/>
                      </a:lnTo>
                      <a:lnTo>
                        <a:pt x="780" y="324"/>
                      </a:lnTo>
                      <a:lnTo>
                        <a:pt x="715" y="362"/>
                      </a:lnTo>
                      <a:lnTo>
                        <a:pt x="647" y="398"/>
                      </a:lnTo>
                      <a:lnTo>
                        <a:pt x="573" y="432"/>
                      </a:lnTo>
                      <a:lnTo>
                        <a:pt x="495" y="464"/>
                      </a:lnTo>
                      <a:lnTo>
                        <a:pt x="411" y="495"/>
                      </a:lnTo>
                      <a:lnTo>
                        <a:pt x="339" y="497"/>
                      </a:lnTo>
                      <a:lnTo>
                        <a:pt x="162" y="493"/>
                      </a:lnTo>
                      <a:lnTo>
                        <a:pt x="14" y="521"/>
                      </a:lnTo>
                      <a:lnTo>
                        <a:pt x="0" y="523"/>
                      </a:lnTo>
                      <a:lnTo>
                        <a:pt x="8" y="516"/>
                      </a:lnTo>
                      <a:lnTo>
                        <a:pt x="69" y="483"/>
                      </a:lnTo>
                      <a:lnTo>
                        <a:pt x="145" y="447"/>
                      </a:lnTo>
                      <a:lnTo>
                        <a:pt x="181" y="430"/>
                      </a:lnTo>
                      <a:lnTo>
                        <a:pt x="263" y="424"/>
                      </a:lnTo>
                      <a:lnTo>
                        <a:pt x="263" y="4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75440" y="2820960"/>
                  <a:ext cx="198000" cy="223200"/>
                </a:xfrm>
                <a:custGeom>
                  <a:avLst/>
                  <a:gdLst/>
                  <a:ahLst/>
                  <a:rect l="l" t="t" r="r" b="b"/>
                  <a:pathLst>
                    <a:path w="751" h="848">
                      <a:moveTo>
                        <a:pt x="631" y="0"/>
                      </a:moveTo>
                      <a:lnTo>
                        <a:pt x="587" y="23"/>
                      </a:lnTo>
                      <a:lnTo>
                        <a:pt x="506" y="108"/>
                      </a:lnTo>
                      <a:lnTo>
                        <a:pt x="456" y="188"/>
                      </a:lnTo>
                      <a:lnTo>
                        <a:pt x="411" y="295"/>
                      </a:lnTo>
                      <a:lnTo>
                        <a:pt x="338" y="614"/>
                      </a:lnTo>
                      <a:lnTo>
                        <a:pt x="48" y="768"/>
                      </a:lnTo>
                      <a:lnTo>
                        <a:pt x="0" y="848"/>
                      </a:lnTo>
                      <a:lnTo>
                        <a:pt x="17" y="836"/>
                      </a:lnTo>
                      <a:lnTo>
                        <a:pt x="63" y="808"/>
                      </a:lnTo>
                      <a:lnTo>
                        <a:pt x="127" y="766"/>
                      </a:lnTo>
                      <a:lnTo>
                        <a:pt x="164" y="745"/>
                      </a:lnTo>
                      <a:lnTo>
                        <a:pt x="202" y="722"/>
                      </a:lnTo>
                      <a:lnTo>
                        <a:pt x="278" y="682"/>
                      </a:lnTo>
                      <a:lnTo>
                        <a:pt x="346" y="654"/>
                      </a:lnTo>
                      <a:lnTo>
                        <a:pt x="395" y="642"/>
                      </a:lnTo>
                      <a:lnTo>
                        <a:pt x="418" y="656"/>
                      </a:lnTo>
                      <a:lnTo>
                        <a:pt x="460" y="428"/>
                      </a:lnTo>
                      <a:lnTo>
                        <a:pt x="483" y="321"/>
                      </a:lnTo>
                      <a:lnTo>
                        <a:pt x="517" y="217"/>
                      </a:lnTo>
                      <a:lnTo>
                        <a:pt x="538" y="169"/>
                      </a:lnTo>
                      <a:lnTo>
                        <a:pt x="561" y="127"/>
                      </a:lnTo>
                      <a:lnTo>
                        <a:pt x="589" y="91"/>
                      </a:lnTo>
                      <a:lnTo>
                        <a:pt x="620" y="63"/>
                      </a:lnTo>
                      <a:lnTo>
                        <a:pt x="677" y="59"/>
                      </a:lnTo>
                      <a:lnTo>
                        <a:pt x="719" y="97"/>
                      </a:lnTo>
                      <a:lnTo>
                        <a:pt x="749" y="199"/>
                      </a:lnTo>
                      <a:lnTo>
                        <a:pt x="751" y="177"/>
                      </a:lnTo>
                      <a:lnTo>
                        <a:pt x="749" y="112"/>
                      </a:lnTo>
                      <a:lnTo>
                        <a:pt x="738" y="42"/>
                      </a:lnTo>
                      <a:lnTo>
                        <a:pt x="726" y="17"/>
                      </a:lnTo>
                      <a:lnTo>
                        <a:pt x="709" y="4"/>
                      </a:lnTo>
                      <a:lnTo>
                        <a:pt x="631" y="0"/>
                      </a:lnTo>
                      <a:lnTo>
                        <a:pt x="6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21880" y="2662560"/>
                  <a:ext cx="95760" cy="76680"/>
                </a:xfrm>
                <a:custGeom>
                  <a:avLst/>
                  <a:gdLst/>
                  <a:ahLst/>
                  <a:rect l="l" t="t" r="r" b="b"/>
                  <a:pathLst>
                    <a:path w="365" h="293">
                      <a:moveTo>
                        <a:pt x="34" y="63"/>
                      </a:moveTo>
                      <a:lnTo>
                        <a:pt x="118" y="72"/>
                      </a:lnTo>
                      <a:lnTo>
                        <a:pt x="209" y="116"/>
                      </a:lnTo>
                      <a:lnTo>
                        <a:pt x="276" y="190"/>
                      </a:lnTo>
                      <a:lnTo>
                        <a:pt x="291" y="293"/>
                      </a:lnTo>
                      <a:lnTo>
                        <a:pt x="365" y="255"/>
                      </a:lnTo>
                      <a:lnTo>
                        <a:pt x="344" y="217"/>
                      </a:lnTo>
                      <a:lnTo>
                        <a:pt x="317" y="177"/>
                      </a:lnTo>
                      <a:lnTo>
                        <a:pt x="283" y="131"/>
                      </a:lnTo>
                      <a:lnTo>
                        <a:pt x="243" y="86"/>
                      </a:lnTo>
                      <a:lnTo>
                        <a:pt x="220" y="65"/>
                      </a:lnTo>
                      <a:lnTo>
                        <a:pt x="196" y="44"/>
                      </a:lnTo>
                      <a:lnTo>
                        <a:pt x="144" y="15"/>
                      </a:lnTo>
                      <a:lnTo>
                        <a:pt x="89" y="0"/>
                      </a:lnTo>
                      <a:lnTo>
                        <a:pt x="68" y="12"/>
                      </a:lnTo>
                      <a:lnTo>
                        <a:pt x="25" y="36"/>
                      </a:lnTo>
                      <a:lnTo>
                        <a:pt x="0" y="57"/>
                      </a:lnTo>
                      <a:lnTo>
                        <a:pt x="34" y="63"/>
                      </a:lnTo>
                      <a:lnTo>
                        <a:pt x="34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50920" y="2755800"/>
                  <a:ext cx="163800" cy="103680"/>
                </a:xfrm>
                <a:custGeom>
                  <a:avLst/>
                  <a:gdLst/>
                  <a:ahLst/>
                  <a:rect l="l" t="t" r="r" b="b"/>
                  <a:pathLst>
                    <a:path w="622" h="393">
                      <a:moveTo>
                        <a:pt x="595" y="0"/>
                      </a:moveTo>
                      <a:lnTo>
                        <a:pt x="552" y="21"/>
                      </a:lnTo>
                      <a:lnTo>
                        <a:pt x="502" y="43"/>
                      </a:lnTo>
                      <a:lnTo>
                        <a:pt x="445" y="72"/>
                      </a:lnTo>
                      <a:lnTo>
                        <a:pt x="382" y="104"/>
                      </a:lnTo>
                      <a:lnTo>
                        <a:pt x="322" y="137"/>
                      </a:lnTo>
                      <a:lnTo>
                        <a:pt x="265" y="167"/>
                      </a:lnTo>
                      <a:lnTo>
                        <a:pt x="221" y="196"/>
                      </a:lnTo>
                      <a:lnTo>
                        <a:pt x="183" y="222"/>
                      </a:lnTo>
                      <a:lnTo>
                        <a:pt x="145" y="254"/>
                      </a:lnTo>
                      <a:lnTo>
                        <a:pt x="109" y="287"/>
                      </a:lnTo>
                      <a:lnTo>
                        <a:pt x="74" y="319"/>
                      </a:lnTo>
                      <a:lnTo>
                        <a:pt x="44" y="348"/>
                      </a:lnTo>
                      <a:lnTo>
                        <a:pt x="21" y="370"/>
                      </a:lnTo>
                      <a:lnTo>
                        <a:pt x="0" y="393"/>
                      </a:lnTo>
                      <a:lnTo>
                        <a:pt x="152" y="287"/>
                      </a:lnTo>
                      <a:lnTo>
                        <a:pt x="202" y="262"/>
                      </a:lnTo>
                      <a:lnTo>
                        <a:pt x="251" y="237"/>
                      </a:lnTo>
                      <a:lnTo>
                        <a:pt x="310" y="207"/>
                      </a:lnTo>
                      <a:lnTo>
                        <a:pt x="392" y="169"/>
                      </a:lnTo>
                      <a:lnTo>
                        <a:pt x="496" y="129"/>
                      </a:lnTo>
                      <a:lnTo>
                        <a:pt x="584" y="99"/>
                      </a:lnTo>
                      <a:lnTo>
                        <a:pt x="622" y="85"/>
                      </a:lnTo>
                      <a:lnTo>
                        <a:pt x="595" y="0"/>
                      </a:lnTo>
                      <a:lnTo>
                        <a:pt x="5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51960" y="2840760"/>
                  <a:ext cx="144000" cy="227160"/>
                </a:xfrm>
                <a:custGeom>
                  <a:avLst/>
                  <a:gdLst/>
                  <a:ahLst/>
                  <a:rect l="l" t="t" r="r" b="b"/>
                  <a:pathLst>
                    <a:path w="548" h="861">
                      <a:moveTo>
                        <a:pt x="322" y="108"/>
                      </a:moveTo>
                      <a:lnTo>
                        <a:pt x="383" y="160"/>
                      </a:lnTo>
                      <a:lnTo>
                        <a:pt x="428" y="215"/>
                      </a:lnTo>
                      <a:lnTo>
                        <a:pt x="480" y="336"/>
                      </a:lnTo>
                      <a:lnTo>
                        <a:pt x="495" y="468"/>
                      </a:lnTo>
                      <a:lnTo>
                        <a:pt x="497" y="612"/>
                      </a:lnTo>
                      <a:lnTo>
                        <a:pt x="472" y="726"/>
                      </a:lnTo>
                      <a:lnTo>
                        <a:pt x="451" y="810"/>
                      </a:lnTo>
                      <a:lnTo>
                        <a:pt x="434" y="861"/>
                      </a:lnTo>
                      <a:lnTo>
                        <a:pt x="443" y="853"/>
                      </a:lnTo>
                      <a:lnTo>
                        <a:pt x="483" y="804"/>
                      </a:lnTo>
                      <a:lnTo>
                        <a:pt x="527" y="751"/>
                      </a:lnTo>
                      <a:lnTo>
                        <a:pt x="548" y="724"/>
                      </a:lnTo>
                      <a:lnTo>
                        <a:pt x="527" y="591"/>
                      </a:lnTo>
                      <a:lnTo>
                        <a:pt x="537" y="393"/>
                      </a:lnTo>
                      <a:lnTo>
                        <a:pt x="529" y="306"/>
                      </a:lnTo>
                      <a:lnTo>
                        <a:pt x="510" y="239"/>
                      </a:lnTo>
                      <a:lnTo>
                        <a:pt x="476" y="173"/>
                      </a:lnTo>
                      <a:lnTo>
                        <a:pt x="451" y="133"/>
                      </a:lnTo>
                      <a:lnTo>
                        <a:pt x="421" y="95"/>
                      </a:lnTo>
                      <a:lnTo>
                        <a:pt x="384" y="59"/>
                      </a:lnTo>
                      <a:lnTo>
                        <a:pt x="341" y="28"/>
                      </a:lnTo>
                      <a:lnTo>
                        <a:pt x="289" y="9"/>
                      </a:lnTo>
                      <a:lnTo>
                        <a:pt x="230" y="2"/>
                      </a:lnTo>
                      <a:lnTo>
                        <a:pt x="0" y="0"/>
                      </a:lnTo>
                      <a:lnTo>
                        <a:pt x="27" y="8"/>
                      </a:lnTo>
                      <a:lnTo>
                        <a:pt x="177" y="34"/>
                      </a:lnTo>
                      <a:lnTo>
                        <a:pt x="280" y="80"/>
                      </a:lnTo>
                      <a:lnTo>
                        <a:pt x="322" y="108"/>
                      </a:lnTo>
                      <a:lnTo>
                        <a:pt x="322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16360" y="2931480"/>
                  <a:ext cx="92160" cy="135720"/>
                </a:xfrm>
                <a:custGeom>
                  <a:avLst/>
                  <a:gdLst/>
                  <a:ahLst/>
                  <a:rect l="l" t="t" r="r" b="b"/>
                  <a:pathLst>
                    <a:path w="352" h="517">
                      <a:moveTo>
                        <a:pt x="6" y="0"/>
                      </a:moveTo>
                      <a:lnTo>
                        <a:pt x="0" y="160"/>
                      </a:lnTo>
                      <a:lnTo>
                        <a:pt x="8" y="241"/>
                      </a:lnTo>
                      <a:lnTo>
                        <a:pt x="31" y="297"/>
                      </a:lnTo>
                      <a:lnTo>
                        <a:pt x="46" y="314"/>
                      </a:lnTo>
                      <a:lnTo>
                        <a:pt x="78" y="338"/>
                      </a:lnTo>
                      <a:lnTo>
                        <a:pt x="126" y="373"/>
                      </a:lnTo>
                      <a:lnTo>
                        <a:pt x="179" y="407"/>
                      </a:lnTo>
                      <a:lnTo>
                        <a:pt x="236" y="443"/>
                      </a:lnTo>
                      <a:lnTo>
                        <a:pt x="287" y="475"/>
                      </a:lnTo>
                      <a:lnTo>
                        <a:pt x="352" y="517"/>
                      </a:lnTo>
                      <a:lnTo>
                        <a:pt x="348" y="513"/>
                      </a:lnTo>
                      <a:lnTo>
                        <a:pt x="302" y="477"/>
                      </a:lnTo>
                      <a:lnTo>
                        <a:pt x="270" y="451"/>
                      </a:lnTo>
                      <a:lnTo>
                        <a:pt x="238" y="422"/>
                      </a:lnTo>
                      <a:lnTo>
                        <a:pt x="206" y="392"/>
                      </a:lnTo>
                      <a:lnTo>
                        <a:pt x="179" y="365"/>
                      </a:lnTo>
                      <a:lnTo>
                        <a:pt x="97" y="306"/>
                      </a:lnTo>
                      <a:lnTo>
                        <a:pt x="44" y="241"/>
                      </a:lnTo>
                      <a:lnTo>
                        <a:pt x="25" y="8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3360" y="2925000"/>
                  <a:ext cx="177480" cy="216000"/>
                </a:xfrm>
                <a:custGeom>
                  <a:avLst/>
                  <a:gdLst/>
                  <a:ahLst/>
                  <a:rect l="l" t="t" r="r" b="b"/>
                  <a:pathLst>
                    <a:path w="673" h="820">
                      <a:moveTo>
                        <a:pt x="101" y="517"/>
                      </a:moveTo>
                      <a:lnTo>
                        <a:pt x="127" y="436"/>
                      </a:lnTo>
                      <a:lnTo>
                        <a:pt x="160" y="354"/>
                      </a:lnTo>
                      <a:lnTo>
                        <a:pt x="201" y="261"/>
                      </a:lnTo>
                      <a:lnTo>
                        <a:pt x="228" y="211"/>
                      </a:lnTo>
                      <a:lnTo>
                        <a:pt x="255" y="166"/>
                      </a:lnTo>
                      <a:lnTo>
                        <a:pt x="285" y="122"/>
                      </a:lnTo>
                      <a:lnTo>
                        <a:pt x="315" y="82"/>
                      </a:lnTo>
                      <a:lnTo>
                        <a:pt x="350" y="50"/>
                      </a:lnTo>
                      <a:lnTo>
                        <a:pt x="386" y="23"/>
                      </a:lnTo>
                      <a:lnTo>
                        <a:pt x="422" y="6"/>
                      </a:lnTo>
                      <a:lnTo>
                        <a:pt x="462" y="0"/>
                      </a:lnTo>
                      <a:lnTo>
                        <a:pt x="576" y="23"/>
                      </a:lnTo>
                      <a:lnTo>
                        <a:pt x="654" y="126"/>
                      </a:lnTo>
                      <a:lnTo>
                        <a:pt x="671" y="221"/>
                      </a:lnTo>
                      <a:lnTo>
                        <a:pt x="673" y="274"/>
                      </a:lnTo>
                      <a:lnTo>
                        <a:pt x="671" y="325"/>
                      </a:lnTo>
                      <a:lnTo>
                        <a:pt x="658" y="447"/>
                      </a:lnTo>
                      <a:lnTo>
                        <a:pt x="622" y="474"/>
                      </a:lnTo>
                      <a:lnTo>
                        <a:pt x="633" y="259"/>
                      </a:lnTo>
                      <a:lnTo>
                        <a:pt x="620" y="181"/>
                      </a:lnTo>
                      <a:lnTo>
                        <a:pt x="587" y="116"/>
                      </a:lnTo>
                      <a:lnTo>
                        <a:pt x="563" y="90"/>
                      </a:lnTo>
                      <a:lnTo>
                        <a:pt x="532" y="72"/>
                      </a:lnTo>
                      <a:lnTo>
                        <a:pt x="450" y="61"/>
                      </a:lnTo>
                      <a:lnTo>
                        <a:pt x="350" y="131"/>
                      </a:lnTo>
                      <a:lnTo>
                        <a:pt x="302" y="185"/>
                      </a:lnTo>
                      <a:lnTo>
                        <a:pt x="253" y="259"/>
                      </a:lnTo>
                      <a:lnTo>
                        <a:pt x="226" y="302"/>
                      </a:lnTo>
                      <a:lnTo>
                        <a:pt x="199" y="354"/>
                      </a:lnTo>
                      <a:lnTo>
                        <a:pt x="150" y="477"/>
                      </a:lnTo>
                      <a:lnTo>
                        <a:pt x="144" y="766"/>
                      </a:lnTo>
                      <a:lnTo>
                        <a:pt x="133" y="789"/>
                      </a:lnTo>
                      <a:lnTo>
                        <a:pt x="84" y="806"/>
                      </a:lnTo>
                      <a:lnTo>
                        <a:pt x="0" y="820"/>
                      </a:lnTo>
                      <a:lnTo>
                        <a:pt x="101" y="517"/>
                      </a:lnTo>
                      <a:lnTo>
                        <a:pt x="101" y="5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94640" y="2918880"/>
                  <a:ext cx="124920" cy="131400"/>
                </a:xfrm>
                <a:custGeom>
                  <a:avLst/>
                  <a:gdLst/>
                  <a:ahLst/>
                  <a:rect l="l" t="t" r="r" b="b"/>
                  <a:pathLst>
                    <a:path w="474" h="499">
                      <a:moveTo>
                        <a:pt x="74" y="85"/>
                      </a:moveTo>
                      <a:lnTo>
                        <a:pt x="46" y="123"/>
                      </a:lnTo>
                      <a:lnTo>
                        <a:pt x="2" y="222"/>
                      </a:lnTo>
                      <a:lnTo>
                        <a:pt x="0" y="345"/>
                      </a:lnTo>
                      <a:lnTo>
                        <a:pt x="14" y="378"/>
                      </a:lnTo>
                      <a:lnTo>
                        <a:pt x="35" y="408"/>
                      </a:lnTo>
                      <a:lnTo>
                        <a:pt x="63" y="439"/>
                      </a:lnTo>
                      <a:lnTo>
                        <a:pt x="101" y="465"/>
                      </a:lnTo>
                      <a:lnTo>
                        <a:pt x="143" y="488"/>
                      </a:lnTo>
                      <a:lnTo>
                        <a:pt x="181" y="499"/>
                      </a:lnTo>
                      <a:lnTo>
                        <a:pt x="253" y="498"/>
                      </a:lnTo>
                      <a:lnTo>
                        <a:pt x="316" y="471"/>
                      </a:lnTo>
                      <a:lnTo>
                        <a:pt x="367" y="429"/>
                      </a:lnTo>
                      <a:lnTo>
                        <a:pt x="407" y="380"/>
                      </a:lnTo>
                      <a:lnTo>
                        <a:pt x="438" y="334"/>
                      </a:lnTo>
                      <a:lnTo>
                        <a:pt x="462" y="285"/>
                      </a:lnTo>
                      <a:lnTo>
                        <a:pt x="474" y="150"/>
                      </a:lnTo>
                      <a:lnTo>
                        <a:pt x="464" y="98"/>
                      </a:lnTo>
                      <a:lnTo>
                        <a:pt x="443" y="53"/>
                      </a:lnTo>
                      <a:lnTo>
                        <a:pt x="426" y="34"/>
                      </a:lnTo>
                      <a:lnTo>
                        <a:pt x="407" y="17"/>
                      </a:lnTo>
                      <a:lnTo>
                        <a:pt x="350" y="0"/>
                      </a:lnTo>
                      <a:lnTo>
                        <a:pt x="373" y="28"/>
                      </a:lnTo>
                      <a:lnTo>
                        <a:pt x="409" y="106"/>
                      </a:lnTo>
                      <a:lnTo>
                        <a:pt x="409" y="220"/>
                      </a:lnTo>
                      <a:lnTo>
                        <a:pt x="377" y="288"/>
                      </a:lnTo>
                      <a:lnTo>
                        <a:pt x="352" y="323"/>
                      </a:lnTo>
                      <a:lnTo>
                        <a:pt x="318" y="359"/>
                      </a:lnTo>
                      <a:lnTo>
                        <a:pt x="295" y="376"/>
                      </a:lnTo>
                      <a:lnTo>
                        <a:pt x="236" y="403"/>
                      </a:lnTo>
                      <a:lnTo>
                        <a:pt x="160" y="403"/>
                      </a:lnTo>
                      <a:lnTo>
                        <a:pt x="80" y="338"/>
                      </a:lnTo>
                      <a:lnTo>
                        <a:pt x="86" y="199"/>
                      </a:lnTo>
                      <a:lnTo>
                        <a:pt x="107" y="142"/>
                      </a:lnTo>
                      <a:lnTo>
                        <a:pt x="145" y="89"/>
                      </a:lnTo>
                      <a:lnTo>
                        <a:pt x="171" y="62"/>
                      </a:lnTo>
                      <a:lnTo>
                        <a:pt x="204" y="41"/>
                      </a:lnTo>
                      <a:lnTo>
                        <a:pt x="242" y="20"/>
                      </a:lnTo>
                      <a:lnTo>
                        <a:pt x="285" y="3"/>
                      </a:lnTo>
                      <a:lnTo>
                        <a:pt x="249" y="0"/>
                      </a:lnTo>
                      <a:lnTo>
                        <a:pt x="107" y="57"/>
                      </a:lnTo>
                      <a:lnTo>
                        <a:pt x="74" y="85"/>
                      </a:lnTo>
                      <a:lnTo>
                        <a:pt x="74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75440" y="2680560"/>
                  <a:ext cx="4932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479">
                      <a:moveTo>
                        <a:pt x="0" y="28"/>
                      </a:moveTo>
                      <a:lnTo>
                        <a:pt x="106" y="435"/>
                      </a:lnTo>
                      <a:lnTo>
                        <a:pt x="122" y="479"/>
                      </a:lnTo>
                      <a:lnTo>
                        <a:pt x="186" y="414"/>
                      </a:lnTo>
                      <a:lnTo>
                        <a:pt x="3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15040" y="2791440"/>
                  <a:ext cx="47880" cy="210600"/>
                </a:xfrm>
                <a:custGeom>
                  <a:avLst/>
                  <a:gdLst/>
                  <a:ahLst/>
                  <a:rect l="l" t="t" r="r" b="b"/>
                  <a:pathLst>
                    <a:path w="183" h="800">
                      <a:moveTo>
                        <a:pt x="0" y="42"/>
                      </a:moveTo>
                      <a:lnTo>
                        <a:pt x="29" y="85"/>
                      </a:lnTo>
                      <a:lnTo>
                        <a:pt x="84" y="220"/>
                      </a:lnTo>
                      <a:lnTo>
                        <a:pt x="114" y="456"/>
                      </a:lnTo>
                      <a:lnTo>
                        <a:pt x="107" y="614"/>
                      </a:lnTo>
                      <a:lnTo>
                        <a:pt x="74" y="800"/>
                      </a:lnTo>
                      <a:lnTo>
                        <a:pt x="128" y="796"/>
                      </a:lnTo>
                      <a:lnTo>
                        <a:pt x="150" y="692"/>
                      </a:lnTo>
                      <a:lnTo>
                        <a:pt x="183" y="452"/>
                      </a:lnTo>
                      <a:lnTo>
                        <a:pt x="173" y="184"/>
                      </a:lnTo>
                      <a:lnTo>
                        <a:pt x="158" y="127"/>
                      </a:lnTo>
                      <a:lnTo>
                        <a:pt x="135" y="76"/>
                      </a:lnTo>
                      <a:lnTo>
                        <a:pt x="107" y="32"/>
                      </a:lnTo>
                      <a:lnTo>
                        <a:pt x="69" y="0"/>
                      </a:lnTo>
                      <a:lnTo>
                        <a:pt x="0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17800" y="2859840"/>
                  <a:ext cx="106560" cy="110520"/>
                </a:xfrm>
                <a:custGeom>
                  <a:avLst/>
                  <a:gdLst/>
                  <a:ahLst/>
                  <a:rect l="l" t="t" r="r" b="b"/>
                  <a:pathLst>
                    <a:path w="403" h="420">
                      <a:moveTo>
                        <a:pt x="0" y="295"/>
                      </a:moveTo>
                      <a:lnTo>
                        <a:pt x="17" y="177"/>
                      </a:lnTo>
                      <a:lnTo>
                        <a:pt x="32" y="129"/>
                      </a:lnTo>
                      <a:lnTo>
                        <a:pt x="57" y="86"/>
                      </a:lnTo>
                      <a:lnTo>
                        <a:pt x="89" y="48"/>
                      </a:lnTo>
                      <a:lnTo>
                        <a:pt x="133" y="23"/>
                      </a:lnTo>
                      <a:lnTo>
                        <a:pt x="245" y="0"/>
                      </a:lnTo>
                      <a:lnTo>
                        <a:pt x="352" y="21"/>
                      </a:lnTo>
                      <a:lnTo>
                        <a:pt x="388" y="55"/>
                      </a:lnTo>
                      <a:lnTo>
                        <a:pt x="403" y="112"/>
                      </a:lnTo>
                      <a:lnTo>
                        <a:pt x="395" y="190"/>
                      </a:lnTo>
                      <a:lnTo>
                        <a:pt x="380" y="242"/>
                      </a:lnTo>
                      <a:lnTo>
                        <a:pt x="355" y="299"/>
                      </a:lnTo>
                      <a:lnTo>
                        <a:pt x="336" y="327"/>
                      </a:lnTo>
                      <a:lnTo>
                        <a:pt x="300" y="361"/>
                      </a:lnTo>
                      <a:lnTo>
                        <a:pt x="256" y="394"/>
                      </a:lnTo>
                      <a:lnTo>
                        <a:pt x="209" y="417"/>
                      </a:lnTo>
                      <a:lnTo>
                        <a:pt x="159" y="420"/>
                      </a:lnTo>
                      <a:lnTo>
                        <a:pt x="116" y="399"/>
                      </a:lnTo>
                      <a:lnTo>
                        <a:pt x="83" y="346"/>
                      </a:lnTo>
                      <a:lnTo>
                        <a:pt x="64" y="251"/>
                      </a:lnTo>
                      <a:lnTo>
                        <a:pt x="74" y="207"/>
                      </a:lnTo>
                      <a:lnTo>
                        <a:pt x="93" y="249"/>
                      </a:lnTo>
                      <a:lnTo>
                        <a:pt x="114" y="283"/>
                      </a:lnTo>
                      <a:lnTo>
                        <a:pt x="140" y="320"/>
                      </a:lnTo>
                      <a:lnTo>
                        <a:pt x="173" y="342"/>
                      </a:lnTo>
                      <a:lnTo>
                        <a:pt x="209" y="348"/>
                      </a:lnTo>
                      <a:lnTo>
                        <a:pt x="287" y="266"/>
                      </a:lnTo>
                      <a:lnTo>
                        <a:pt x="323" y="143"/>
                      </a:lnTo>
                      <a:lnTo>
                        <a:pt x="313" y="107"/>
                      </a:lnTo>
                      <a:lnTo>
                        <a:pt x="296" y="84"/>
                      </a:lnTo>
                      <a:lnTo>
                        <a:pt x="249" y="67"/>
                      </a:lnTo>
                      <a:lnTo>
                        <a:pt x="222" y="65"/>
                      </a:lnTo>
                      <a:lnTo>
                        <a:pt x="102" y="107"/>
                      </a:lnTo>
                      <a:lnTo>
                        <a:pt x="38" y="202"/>
                      </a:lnTo>
                      <a:lnTo>
                        <a:pt x="0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67560" y="3060000"/>
                  <a:ext cx="232560" cy="55080"/>
                </a:xfrm>
                <a:custGeom>
                  <a:avLst/>
                  <a:gdLst/>
                  <a:ahLst/>
                  <a:rect l="l" t="t" r="r" b="b"/>
                  <a:pathLst>
                    <a:path w="883" h="211">
                      <a:moveTo>
                        <a:pt x="0" y="127"/>
                      </a:moveTo>
                      <a:lnTo>
                        <a:pt x="76" y="112"/>
                      </a:lnTo>
                      <a:lnTo>
                        <a:pt x="303" y="89"/>
                      </a:lnTo>
                      <a:lnTo>
                        <a:pt x="797" y="11"/>
                      </a:lnTo>
                      <a:lnTo>
                        <a:pt x="883" y="0"/>
                      </a:lnTo>
                      <a:lnTo>
                        <a:pt x="879" y="20"/>
                      </a:lnTo>
                      <a:lnTo>
                        <a:pt x="856" y="51"/>
                      </a:lnTo>
                      <a:lnTo>
                        <a:pt x="818" y="85"/>
                      </a:lnTo>
                      <a:lnTo>
                        <a:pt x="772" y="121"/>
                      </a:lnTo>
                      <a:lnTo>
                        <a:pt x="727" y="150"/>
                      </a:lnTo>
                      <a:lnTo>
                        <a:pt x="687" y="169"/>
                      </a:lnTo>
                      <a:lnTo>
                        <a:pt x="590" y="195"/>
                      </a:lnTo>
                      <a:lnTo>
                        <a:pt x="441" y="211"/>
                      </a:lnTo>
                      <a:lnTo>
                        <a:pt x="244" y="193"/>
                      </a:lnTo>
                      <a:lnTo>
                        <a:pt x="0" y="12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14200" y="3019320"/>
                  <a:ext cx="415800" cy="131760"/>
                </a:xfrm>
                <a:custGeom>
                  <a:avLst/>
                  <a:gdLst/>
                  <a:ahLst/>
                  <a:rect l="l" t="t" r="r" b="b"/>
                  <a:pathLst>
                    <a:path w="1578" h="500">
                      <a:moveTo>
                        <a:pt x="5" y="0"/>
                      </a:moveTo>
                      <a:lnTo>
                        <a:pt x="0" y="83"/>
                      </a:lnTo>
                      <a:lnTo>
                        <a:pt x="38" y="123"/>
                      </a:lnTo>
                      <a:lnTo>
                        <a:pt x="74" y="154"/>
                      </a:lnTo>
                      <a:lnTo>
                        <a:pt x="121" y="190"/>
                      </a:lnTo>
                      <a:lnTo>
                        <a:pt x="180" y="232"/>
                      </a:lnTo>
                      <a:lnTo>
                        <a:pt x="213" y="252"/>
                      </a:lnTo>
                      <a:lnTo>
                        <a:pt x="249" y="273"/>
                      </a:lnTo>
                      <a:lnTo>
                        <a:pt x="287" y="296"/>
                      </a:lnTo>
                      <a:lnTo>
                        <a:pt x="327" y="317"/>
                      </a:lnTo>
                      <a:lnTo>
                        <a:pt x="370" y="340"/>
                      </a:lnTo>
                      <a:lnTo>
                        <a:pt x="416" y="361"/>
                      </a:lnTo>
                      <a:lnTo>
                        <a:pt x="517" y="401"/>
                      </a:lnTo>
                      <a:lnTo>
                        <a:pt x="625" y="435"/>
                      </a:lnTo>
                      <a:lnTo>
                        <a:pt x="745" y="465"/>
                      </a:lnTo>
                      <a:lnTo>
                        <a:pt x="872" y="486"/>
                      </a:lnTo>
                      <a:lnTo>
                        <a:pt x="1157" y="500"/>
                      </a:lnTo>
                      <a:lnTo>
                        <a:pt x="1477" y="462"/>
                      </a:lnTo>
                      <a:lnTo>
                        <a:pt x="1578" y="391"/>
                      </a:lnTo>
                      <a:lnTo>
                        <a:pt x="1469" y="404"/>
                      </a:lnTo>
                      <a:lnTo>
                        <a:pt x="1201" y="422"/>
                      </a:lnTo>
                      <a:lnTo>
                        <a:pt x="874" y="416"/>
                      </a:lnTo>
                      <a:lnTo>
                        <a:pt x="581" y="361"/>
                      </a:lnTo>
                      <a:lnTo>
                        <a:pt x="465" y="313"/>
                      </a:lnTo>
                      <a:lnTo>
                        <a:pt x="363" y="264"/>
                      </a:lnTo>
                      <a:lnTo>
                        <a:pt x="270" y="216"/>
                      </a:lnTo>
                      <a:lnTo>
                        <a:pt x="192" y="171"/>
                      </a:lnTo>
                      <a:lnTo>
                        <a:pt x="125" y="129"/>
                      </a:lnTo>
                      <a:lnTo>
                        <a:pt x="76" y="93"/>
                      </a:lnTo>
                      <a:lnTo>
                        <a:pt x="26" y="4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1520" y="3082320"/>
                  <a:ext cx="90000" cy="50400"/>
                </a:xfrm>
                <a:custGeom>
                  <a:avLst/>
                  <a:gdLst/>
                  <a:ahLst/>
                  <a:rect l="l" t="t" r="r" b="b"/>
                  <a:pathLst>
                    <a:path w="342" h="192">
                      <a:moveTo>
                        <a:pt x="2" y="0"/>
                      </a:moveTo>
                      <a:lnTo>
                        <a:pt x="0" y="14"/>
                      </a:lnTo>
                      <a:lnTo>
                        <a:pt x="2" y="48"/>
                      </a:lnTo>
                      <a:lnTo>
                        <a:pt x="21" y="90"/>
                      </a:lnTo>
                      <a:lnTo>
                        <a:pt x="40" y="110"/>
                      </a:lnTo>
                      <a:lnTo>
                        <a:pt x="71" y="129"/>
                      </a:lnTo>
                      <a:lnTo>
                        <a:pt x="147" y="160"/>
                      </a:lnTo>
                      <a:lnTo>
                        <a:pt x="226" y="179"/>
                      </a:lnTo>
                      <a:lnTo>
                        <a:pt x="316" y="192"/>
                      </a:lnTo>
                      <a:lnTo>
                        <a:pt x="342" y="171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4760" y="2939400"/>
                  <a:ext cx="225720" cy="250200"/>
                </a:xfrm>
                <a:custGeom>
                  <a:avLst/>
                  <a:gdLst/>
                  <a:ahLst/>
                  <a:rect l="l" t="t" r="r" b="b"/>
                  <a:pathLst>
                    <a:path w="856" h="951">
                      <a:moveTo>
                        <a:pt x="0" y="765"/>
                      </a:moveTo>
                      <a:lnTo>
                        <a:pt x="14" y="791"/>
                      </a:lnTo>
                      <a:lnTo>
                        <a:pt x="52" y="850"/>
                      </a:lnTo>
                      <a:lnTo>
                        <a:pt x="76" y="881"/>
                      </a:lnTo>
                      <a:lnTo>
                        <a:pt x="105" y="909"/>
                      </a:lnTo>
                      <a:lnTo>
                        <a:pt x="137" y="930"/>
                      </a:lnTo>
                      <a:lnTo>
                        <a:pt x="170" y="941"/>
                      </a:lnTo>
                      <a:lnTo>
                        <a:pt x="375" y="951"/>
                      </a:lnTo>
                      <a:lnTo>
                        <a:pt x="481" y="939"/>
                      </a:lnTo>
                      <a:lnTo>
                        <a:pt x="552" y="909"/>
                      </a:lnTo>
                      <a:lnTo>
                        <a:pt x="586" y="871"/>
                      </a:lnTo>
                      <a:lnTo>
                        <a:pt x="645" y="806"/>
                      </a:lnTo>
                      <a:lnTo>
                        <a:pt x="679" y="763"/>
                      </a:lnTo>
                      <a:lnTo>
                        <a:pt x="715" y="715"/>
                      </a:lnTo>
                      <a:lnTo>
                        <a:pt x="748" y="662"/>
                      </a:lnTo>
                      <a:lnTo>
                        <a:pt x="780" y="603"/>
                      </a:lnTo>
                      <a:lnTo>
                        <a:pt x="831" y="476"/>
                      </a:lnTo>
                      <a:lnTo>
                        <a:pt x="856" y="335"/>
                      </a:lnTo>
                      <a:lnTo>
                        <a:pt x="839" y="185"/>
                      </a:lnTo>
                      <a:lnTo>
                        <a:pt x="812" y="109"/>
                      </a:lnTo>
                      <a:lnTo>
                        <a:pt x="791" y="69"/>
                      </a:lnTo>
                      <a:lnTo>
                        <a:pt x="769" y="31"/>
                      </a:lnTo>
                      <a:lnTo>
                        <a:pt x="740" y="14"/>
                      </a:lnTo>
                      <a:lnTo>
                        <a:pt x="687" y="0"/>
                      </a:lnTo>
                      <a:lnTo>
                        <a:pt x="580" y="10"/>
                      </a:lnTo>
                      <a:lnTo>
                        <a:pt x="533" y="63"/>
                      </a:lnTo>
                      <a:lnTo>
                        <a:pt x="502" y="103"/>
                      </a:lnTo>
                      <a:lnTo>
                        <a:pt x="472" y="149"/>
                      </a:lnTo>
                      <a:lnTo>
                        <a:pt x="443" y="192"/>
                      </a:lnTo>
                      <a:lnTo>
                        <a:pt x="421" y="229"/>
                      </a:lnTo>
                      <a:lnTo>
                        <a:pt x="400" y="265"/>
                      </a:lnTo>
                      <a:lnTo>
                        <a:pt x="436" y="208"/>
                      </a:lnTo>
                      <a:lnTo>
                        <a:pt x="474" y="154"/>
                      </a:lnTo>
                      <a:lnTo>
                        <a:pt x="523" y="96"/>
                      </a:lnTo>
                      <a:lnTo>
                        <a:pt x="552" y="71"/>
                      </a:lnTo>
                      <a:lnTo>
                        <a:pt x="578" y="46"/>
                      </a:lnTo>
                      <a:lnTo>
                        <a:pt x="635" y="16"/>
                      </a:lnTo>
                      <a:lnTo>
                        <a:pt x="692" y="14"/>
                      </a:lnTo>
                      <a:lnTo>
                        <a:pt x="742" y="50"/>
                      </a:lnTo>
                      <a:lnTo>
                        <a:pt x="812" y="185"/>
                      </a:lnTo>
                      <a:lnTo>
                        <a:pt x="824" y="354"/>
                      </a:lnTo>
                      <a:lnTo>
                        <a:pt x="801" y="453"/>
                      </a:lnTo>
                      <a:lnTo>
                        <a:pt x="782" y="508"/>
                      </a:lnTo>
                      <a:lnTo>
                        <a:pt x="757" y="563"/>
                      </a:lnTo>
                      <a:lnTo>
                        <a:pt x="727" y="624"/>
                      </a:lnTo>
                      <a:lnTo>
                        <a:pt x="691" y="687"/>
                      </a:lnTo>
                      <a:lnTo>
                        <a:pt x="647" y="751"/>
                      </a:lnTo>
                      <a:lnTo>
                        <a:pt x="597" y="822"/>
                      </a:lnTo>
                      <a:lnTo>
                        <a:pt x="569" y="850"/>
                      </a:lnTo>
                      <a:lnTo>
                        <a:pt x="538" y="869"/>
                      </a:lnTo>
                      <a:lnTo>
                        <a:pt x="499" y="886"/>
                      </a:lnTo>
                      <a:lnTo>
                        <a:pt x="371" y="907"/>
                      </a:lnTo>
                      <a:lnTo>
                        <a:pt x="170" y="898"/>
                      </a:lnTo>
                      <a:lnTo>
                        <a:pt x="37" y="776"/>
                      </a:lnTo>
                      <a:lnTo>
                        <a:pt x="0" y="765"/>
                      </a:lnTo>
                      <a:lnTo>
                        <a:pt x="0" y="7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31560" y="2825640"/>
                  <a:ext cx="150120" cy="226080"/>
                </a:xfrm>
                <a:custGeom>
                  <a:avLst/>
                  <a:gdLst/>
                  <a:ahLst/>
                  <a:rect l="l" t="t" r="r" b="b"/>
                  <a:pathLst>
                    <a:path w="571" h="857">
                      <a:moveTo>
                        <a:pt x="0" y="831"/>
                      </a:moveTo>
                      <a:lnTo>
                        <a:pt x="21" y="753"/>
                      </a:lnTo>
                      <a:lnTo>
                        <a:pt x="52" y="665"/>
                      </a:lnTo>
                      <a:lnTo>
                        <a:pt x="71" y="614"/>
                      </a:lnTo>
                      <a:lnTo>
                        <a:pt x="95" y="557"/>
                      </a:lnTo>
                      <a:lnTo>
                        <a:pt x="122" y="498"/>
                      </a:lnTo>
                      <a:lnTo>
                        <a:pt x="154" y="435"/>
                      </a:lnTo>
                      <a:lnTo>
                        <a:pt x="190" y="373"/>
                      </a:lnTo>
                      <a:lnTo>
                        <a:pt x="232" y="308"/>
                      </a:lnTo>
                      <a:lnTo>
                        <a:pt x="278" y="245"/>
                      </a:lnTo>
                      <a:lnTo>
                        <a:pt x="329" y="184"/>
                      </a:lnTo>
                      <a:lnTo>
                        <a:pt x="384" y="125"/>
                      </a:lnTo>
                      <a:lnTo>
                        <a:pt x="415" y="97"/>
                      </a:lnTo>
                      <a:lnTo>
                        <a:pt x="445" y="70"/>
                      </a:lnTo>
                      <a:lnTo>
                        <a:pt x="571" y="0"/>
                      </a:lnTo>
                      <a:lnTo>
                        <a:pt x="519" y="42"/>
                      </a:lnTo>
                      <a:lnTo>
                        <a:pt x="495" y="67"/>
                      </a:lnTo>
                      <a:lnTo>
                        <a:pt x="464" y="97"/>
                      </a:lnTo>
                      <a:lnTo>
                        <a:pt x="396" y="173"/>
                      </a:lnTo>
                      <a:lnTo>
                        <a:pt x="360" y="219"/>
                      </a:lnTo>
                      <a:lnTo>
                        <a:pt x="320" y="272"/>
                      </a:lnTo>
                      <a:lnTo>
                        <a:pt x="280" y="331"/>
                      </a:lnTo>
                      <a:lnTo>
                        <a:pt x="240" y="395"/>
                      </a:lnTo>
                      <a:lnTo>
                        <a:pt x="202" y="464"/>
                      </a:lnTo>
                      <a:lnTo>
                        <a:pt x="164" y="540"/>
                      </a:lnTo>
                      <a:lnTo>
                        <a:pt x="126" y="623"/>
                      </a:lnTo>
                      <a:lnTo>
                        <a:pt x="92" y="711"/>
                      </a:lnTo>
                      <a:lnTo>
                        <a:pt x="71" y="857"/>
                      </a:lnTo>
                      <a:lnTo>
                        <a:pt x="0" y="831"/>
                      </a:lnTo>
                      <a:lnTo>
                        <a:pt x="0" y="8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40440" y="2863080"/>
                  <a:ext cx="81720" cy="83520"/>
                </a:xfrm>
                <a:custGeom>
                  <a:avLst/>
                  <a:gdLst/>
                  <a:ahLst/>
                  <a:rect l="l" t="t" r="r" b="b"/>
                  <a:pathLst>
                    <a:path w="310" h="317">
                      <a:moveTo>
                        <a:pt x="9" y="307"/>
                      </a:moveTo>
                      <a:lnTo>
                        <a:pt x="2" y="317"/>
                      </a:lnTo>
                      <a:lnTo>
                        <a:pt x="0" y="298"/>
                      </a:lnTo>
                      <a:lnTo>
                        <a:pt x="22" y="211"/>
                      </a:lnTo>
                      <a:lnTo>
                        <a:pt x="45" y="155"/>
                      </a:lnTo>
                      <a:lnTo>
                        <a:pt x="74" y="100"/>
                      </a:lnTo>
                      <a:lnTo>
                        <a:pt x="108" y="53"/>
                      </a:lnTo>
                      <a:lnTo>
                        <a:pt x="148" y="22"/>
                      </a:lnTo>
                      <a:lnTo>
                        <a:pt x="220" y="0"/>
                      </a:lnTo>
                      <a:lnTo>
                        <a:pt x="270" y="7"/>
                      </a:lnTo>
                      <a:lnTo>
                        <a:pt x="310" y="38"/>
                      </a:lnTo>
                      <a:lnTo>
                        <a:pt x="207" y="85"/>
                      </a:lnTo>
                      <a:lnTo>
                        <a:pt x="161" y="119"/>
                      </a:lnTo>
                      <a:lnTo>
                        <a:pt x="112" y="167"/>
                      </a:lnTo>
                      <a:lnTo>
                        <a:pt x="60" y="228"/>
                      </a:lnTo>
                      <a:lnTo>
                        <a:pt x="9" y="307"/>
                      </a:lnTo>
                      <a:lnTo>
                        <a:pt x="9" y="307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66640" y="3143880"/>
                  <a:ext cx="100080" cy="11880"/>
                </a:xfrm>
                <a:custGeom>
                  <a:avLst/>
                  <a:gdLst/>
                  <a:ahLst/>
                  <a:rect l="l" t="t" r="r" b="b"/>
                  <a:pathLst>
                    <a:path w="380" h="48">
                      <a:moveTo>
                        <a:pt x="0" y="15"/>
                      </a:moveTo>
                      <a:lnTo>
                        <a:pt x="380" y="0"/>
                      </a:lnTo>
                      <a:lnTo>
                        <a:pt x="0" y="48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73840" y="3159000"/>
                  <a:ext cx="71280" cy="115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0" y="11"/>
                      </a:moveTo>
                      <a:lnTo>
                        <a:pt x="270" y="0"/>
                      </a:lnTo>
                      <a:lnTo>
                        <a:pt x="42" y="44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75720" y="2977920"/>
                  <a:ext cx="6948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521">
                      <a:moveTo>
                        <a:pt x="32" y="521"/>
                      </a:moveTo>
                      <a:lnTo>
                        <a:pt x="47" y="363"/>
                      </a:lnTo>
                      <a:lnTo>
                        <a:pt x="60" y="298"/>
                      </a:lnTo>
                      <a:lnTo>
                        <a:pt x="81" y="236"/>
                      </a:lnTo>
                      <a:lnTo>
                        <a:pt x="110" y="180"/>
                      </a:lnTo>
                      <a:lnTo>
                        <a:pt x="150" y="139"/>
                      </a:lnTo>
                      <a:lnTo>
                        <a:pt x="169" y="125"/>
                      </a:lnTo>
                      <a:lnTo>
                        <a:pt x="195" y="112"/>
                      </a:lnTo>
                      <a:lnTo>
                        <a:pt x="216" y="123"/>
                      </a:lnTo>
                      <a:lnTo>
                        <a:pt x="222" y="182"/>
                      </a:lnTo>
                      <a:lnTo>
                        <a:pt x="197" y="329"/>
                      </a:lnTo>
                      <a:lnTo>
                        <a:pt x="180" y="388"/>
                      </a:lnTo>
                      <a:lnTo>
                        <a:pt x="218" y="329"/>
                      </a:lnTo>
                      <a:lnTo>
                        <a:pt x="264" y="118"/>
                      </a:lnTo>
                      <a:lnTo>
                        <a:pt x="262" y="66"/>
                      </a:lnTo>
                      <a:lnTo>
                        <a:pt x="251" y="26"/>
                      </a:lnTo>
                      <a:lnTo>
                        <a:pt x="226" y="0"/>
                      </a:lnTo>
                      <a:lnTo>
                        <a:pt x="167" y="6"/>
                      </a:lnTo>
                      <a:lnTo>
                        <a:pt x="91" y="80"/>
                      </a:lnTo>
                      <a:lnTo>
                        <a:pt x="22" y="226"/>
                      </a:lnTo>
                      <a:lnTo>
                        <a:pt x="0" y="348"/>
                      </a:lnTo>
                      <a:lnTo>
                        <a:pt x="9" y="462"/>
                      </a:lnTo>
                      <a:lnTo>
                        <a:pt x="32" y="521"/>
                      </a:lnTo>
                      <a:lnTo>
                        <a:pt x="32" y="5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85000" y="3170880"/>
                  <a:ext cx="48240" cy="8280"/>
                </a:xfrm>
                <a:custGeom>
                  <a:avLst/>
                  <a:gdLst/>
                  <a:ahLst/>
                  <a:rect l="l" t="t" r="r" b="b"/>
                  <a:pathLst>
                    <a:path w="184" h="32">
                      <a:moveTo>
                        <a:pt x="38" y="32"/>
                      </a:moveTo>
                      <a:lnTo>
                        <a:pt x="184" y="0"/>
                      </a:lnTo>
                      <a:lnTo>
                        <a:pt x="0" y="0"/>
                      </a:lnTo>
                      <a:lnTo>
                        <a:pt x="38" y="32"/>
                      </a:lnTo>
                      <a:lnTo>
                        <a:pt x="3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71920" y="2881800"/>
                  <a:ext cx="101160" cy="133200"/>
                </a:xfrm>
                <a:custGeom>
                  <a:avLst/>
                  <a:gdLst/>
                  <a:ahLst/>
                  <a:rect l="l" t="t" r="r" b="b"/>
                  <a:pathLst>
                    <a:path w="384" h="505">
                      <a:moveTo>
                        <a:pt x="384" y="0"/>
                      </a:moveTo>
                      <a:lnTo>
                        <a:pt x="371" y="188"/>
                      </a:lnTo>
                      <a:lnTo>
                        <a:pt x="352" y="273"/>
                      </a:lnTo>
                      <a:lnTo>
                        <a:pt x="321" y="355"/>
                      </a:lnTo>
                      <a:lnTo>
                        <a:pt x="302" y="393"/>
                      </a:lnTo>
                      <a:lnTo>
                        <a:pt x="280" y="429"/>
                      </a:lnTo>
                      <a:lnTo>
                        <a:pt x="253" y="458"/>
                      </a:lnTo>
                      <a:lnTo>
                        <a:pt x="222" y="483"/>
                      </a:lnTo>
                      <a:lnTo>
                        <a:pt x="162" y="505"/>
                      </a:lnTo>
                      <a:lnTo>
                        <a:pt x="114" y="503"/>
                      </a:lnTo>
                      <a:lnTo>
                        <a:pt x="74" y="479"/>
                      </a:lnTo>
                      <a:lnTo>
                        <a:pt x="46" y="445"/>
                      </a:lnTo>
                      <a:lnTo>
                        <a:pt x="10" y="365"/>
                      </a:lnTo>
                      <a:lnTo>
                        <a:pt x="0" y="325"/>
                      </a:lnTo>
                      <a:lnTo>
                        <a:pt x="89" y="192"/>
                      </a:lnTo>
                      <a:lnTo>
                        <a:pt x="78" y="298"/>
                      </a:lnTo>
                      <a:lnTo>
                        <a:pt x="84" y="380"/>
                      </a:lnTo>
                      <a:lnTo>
                        <a:pt x="93" y="412"/>
                      </a:lnTo>
                      <a:lnTo>
                        <a:pt x="112" y="431"/>
                      </a:lnTo>
                      <a:lnTo>
                        <a:pt x="158" y="441"/>
                      </a:lnTo>
                      <a:lnTo>
                        <a:pt x="211" y="424"/>
                      </a:lnTo>
                      <a:lnTo>
                        <a:pt x="316" y="287"/>
                      </a:lnTo>
                      <a:lnTo>
                        <a:pt x="354" y="144"/>
                      </a:lnTo>
                      <a:lnTo>
                        <a:pt x="384" y="0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40960" y="2994840"/>
                  <a:ext cx="47160" cy="24480"/>
                </a:xfrm>
                <a:custGeom>
                  <a:avLst/>
                  <a:gdLst/>
                  <a:ahLst/>
                  <a:rect l="l" t="t" r="r" b="b"/>
                  <a:pathLst>
                    <a:path w="181" h="94">
                      <a:moveTo>
                        <a:pt x="0" y="8"/>
                      </a:moveTo>
                      <a:lnTo>
                        <a:pt x="15" y="35"/>
                      </a:lnTo>
                      <a:lnTo>
                        <a:pt x="36" y="56"/>
                      </a:lnTo>
                      <a:lnTo>
                        <a:pt x="65" y="73"/>
                      </a:lnTo>
                      <a:lnTo>
                        <a:pt x="181" y="94"/>
                      </a:lnTo>
                      <a:lnTo>
                        <a:pt x="114" y="63"/>
                      </a:lnTo>
                      <a:lnTo>
                        <a:pt x="59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84800" y="2945520"/>
                  <a:ext cx="56880" cy="86400"/>
                </a:xfrm>
                <a:custGeom>
                  <a:avLst/>
                  <a:gdLst/>
                  <a:ahLst/>
                  <a:rect l="l" t="t" r="r" b="b"/>
                  <a:pathLst>
                    <a:path w="217" h="327">
                      <a:moveTo>
                        <a:pt x="14" y="226"/>
                      </a:moveTo>
                      <a:lnTo>
                        <a:pt x="90" y="32"/>
                      </a:lnTo>
                      <a:lnTo>
                        <a:pt x="63" y="156"/>
                      </a:lnTo>
                      <a:lnTo>
                        <a:pt x="147" y="13"/>
                      </a:lnTo>
                      <a:lnTo>
                        <a:pt x="95" y="160"/>
                      </a:lnTo>
                      <a:lnTo>
                        <a:pt x="207" y="0"/>
                      </a:lnTo>
                      <a:lnTo>
                        <a:pt x="147" y="150"/>
                      </a:lnTo>
                      <a:lnTo>
                        <a:pt x="196" y="82"/>
                      </a:lnTo>
                      <a:lnTo>
                        <a:pt x="177" y="166"/>
                      </a:lnTo>
                      <a:lnTo>
                        <a:pt x="217" y="109"/>
                      </a:lnTo>
                      <a:lnTo>
                        <a:pt x="207" y="200"/>
                      </a:lnTo>
                      <a:lnTo>
                        <a:pt x="188" y="230"/>
                      </a:lnTo>
                      <a:lnTo>
                        <a:pt x="0" y="327"/>
                      </a:lnTo>
                      <a:lnTo>
                        <a:pt x="14" y="226"/>
                      </a:lnTo>
                      <a:lnTo>
                        <a:pt x="14" y="2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969840" y="2907360"/>
                  <a:ext cx="38880" cy="31320"/>
                </a:xfrm>
                <a:custGeom>
                  <a:avLst/>
                  <a:gdLst/>
                  <a:ahLst/>
                  <a:rect l="l" t="t" r="r" b="b"/>
                  <a:pathLst>
                    <a:path w="146" h="120">
                      <a:moveTo>
                        <a:pt x="0" y="120"/>
                      </a:moveTo>
                      <a:lnTo>
                        <a:pt x="146" y="0"/>
                      </a:lnTo>
                      <a:lnTo>
                        <a:pt x="5" y="61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954720" y="2878920"/>
                  <a:ext cx="138600" cy="86760"/>
                </a:xfrm>
                <a:custGeom>
                  <a:avLst/>
                  <a:gdLst/>
                  <a:ahLst/>
                  <a:rect l="l" t="t" r="r" b="b"/>
                  <a:pathLst>
                    <a:path w="526" h="331">
                      <a:moveTo>
                        <a:pt x="0" y="331"/>
                      </a:moveTo>
                      <a:lnTo>
                        <a:pt x="526" y="0"/>
                      </a:lnTo>
                      <a:lnTo>
                        <a:pt x="450" y="10"/>
                      </a:lnTo>
                      <a:lnTo>
                        <a:pt x="38" y="238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4080" y="3035880"/>
                  <a:ext cx="176040" cy="143280"/>
                </a:xfrm>
                <a:custGeom>
                  <a:avLst/>
                  <a:gdLst/>
                  <a:ahLst/>
                  <a:rect l="l" t="t" r="r" b="b"/>
                  <a:pathLst>
                    <a:path w="669" h="544">
                      <a:moveTo>
                        <a:pt x="0" y="544"/>
                      </a:moveTo>
                      <a:lnTo>
                        <a:pt x="108" y="512"/>
                      </a:lnTo>
                      <a:lnTo>
                        <a:pt x="669" y="0"/>
                      </a:lnTo>
                      <a:lnTo>
                        <a:pt x="576" y="38"/>
                      </a:lnTo>
                      <a:lnTo>
                        <a:pt x="185" y="337"/>
                      </a:lnTo>
                      <a:lnTo>
                        <a:pt x="0" y="544"/>
                      </a:lnTo>
                      <a:lnTo>
                        <a:pt x="0" y="5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927720" y="2919960"/>
                  <a:ext cx="115200" cy="90360"/>
                </a:xfrm>
                <a:custGeom>
                  <a:avLst/>
                  <a:gdLst/>
                  <a:ahLst/>
                  <a:rect l="l" t="t" r="r" b="b"/>
                  <a:pathLst>
                    <a:path w="439" h="344">
                      <a:moveTo>
                        <a:pt x="0" y="344"/>
                      </a:moveTo>
                      <a:lnTo>
                        <a:pt x="439" y="55"/>
                      </a:lnTo>
                      <a:lnTo>
                        <a:pt x="114" y="230"/>
                      </a:lnTo>
                      <a:lnTo>
                        <a:pt x="439" y="0"/>
                      </a:lnTo>
                      <a:lnTo>
                        <a:pt x="114" y="175"/>
                      </a:lnTo>
                      <a:lnTo>
                        <a:pt x="103" y="230"/>
                      </a:lnTo>
                      <a:lnTo>
                        <a:pt x="0" y="344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916920" y="2862360"/>
                  <a:ext cx="41400" cy="94680"/>
                </a:xfrm>
                <a:custGeom>
                  <a:avLst/>
                  <a:gdLst/>
                  <a:ahLst/>
                  <a:rect l="l" t="t" r="r" b="b"/>
                  <a:pathLst>
                    <a:path w="160" h="359">
                      <a:moveTo>
                        <a:pt x="25" y="359"/>
                      </a:moveTo>
                      <a:lnTo>
                        <a:pt x="0" y="266"/>
                      </a:lnTo>
                      <a:lnTo>
                        <a:pt x="14" y="161"/>
                      </a:lnTo>
                      <a:lnTo>
                        <a:pt x="38" y="98"/>
                      </a:lnTo>
                      <a:lnTo>
                        <a:pt x="57" y="64"/>
                      </a:lnTo>
                      <a:lnTo>
                        <a:pt x="80" y="28"/>
                      </a:lnTo>
                      <a:lnTo>
                        <a:pt x="92" y="19"/>
                      </a:lnTo>
                      <a:lnTo>
                        <a:pt x="114" y="3"/>
                      </a:lnTo>
                      <a:lnTo>
                        <a:pt x="141" y="0"/>
                      </a:lnTo>
                      <a:lnTo>
                        <a:pt x="154" y="24"/>
                      </a:lnTo>
                      <a:lnTo>
                        <a:pt x="160" y="131"/>
                      </a:lnTo>
                      <a:lnTo>
                        <a:pt x="152" y="188"/>
                      </a:lnTo>
                      <a:lnTo>
                        <a:pt x="133" y="237"/>
                      </a:lnTo>
                      <a:lnTo>
                        <a:pt x="107" y="260"/>
                      </a:lnTo>
                      <a:lnTo>
                        <a:pt x="105" y="239"/>
                      </a:lnTo>
                      <a:lnTo>
                        <a:pt x="107" y="79"/>
                      </a:lnTo>
                      <a:lnTo>
                        <a:pt x="61" y="150"/>
                      </a:lnTo>
                      <a:lnTo>
                        <a:pt x="48" y="207"/>
                      </a:lnTo>
                      <a:lnTo>
                        <a:pt x="33" y="323"/>
                      </a:lnTo>
                      <a:lnTo>
                        <a:pt x="25" y="359"/>
                      </a:lnTo>
                      <a:lnTo>
                        <a:pt x="25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75520" y="2780640"/>
                  <a:ext cx="47880" cy="39240"/>
                </a:xfrm>
                <a:custGeom>
                  <a:avLst/>
                  <a:gdLst/>
                  <a:ahLst/>
                  <a:rect l="l" t="t" r="r" b="b"/>
                  <a:pathLst>
                    <a:path w="183" h="148">
                      <a:moveTo>
                        <a:pt x="0" y="148"/>
                      </a:moveTo>
                      <a:lnTo>
                        <a:pt x="29" y="93"/>
                      </a:lnTo>
                      <a:lnTo>
                        <a:pt x="63" y="47"/>
                      </a:lnTo>
                      <a:lnTo>
                        <a:pt x="84" y="28"/>
                      </a:lnTo>
                      <a:lnTo>
                        <a:pt x="109" y="13"/>
                      </a:lnTo>
                      <a:lnTo>
                        <a:pt x="158" y="0"/>
                      </a:lnTo>
                      <a:lnTo>
                        <a:pt x="183" y="7"/>
                      </a:lnTo>
                      <a:lnTo>
                        <a:pt x="164" y="28"/>
                      </a:lnTo>
                      <a:lnTo>
                        <a:pt x="124" y="57"/>
                      </a:lnTo>
                      <a:lnTo>
                        <a:pt x="88" y="89"/>
                      </a:lnTo>
                      <a:lnTo>
                        <a:pt x="57" y="120"/>
                      </a:lnTo>
                      <a:lnTo>
                        <a:pt x="29" y="137"/>
                      </a:lnTo>
                      <a:lnTo>
                        <a:pt x="0" y="148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33080" y="3079440"/>
                  <a:ext cx="128520" cy="23400"/>
                </a:xfrm>
                <a:custGeom>
                  <a:avLst/>
                  <a:gdLst/>
                  <a:ahLst/>
                  <a:rect l="l" t="t" r="r" b="b"/>
                  <a:pathLst>
                    <a:path w="487" h="89">
                      <a:moveTo>
                        <a:pt x="0" y="72"/>
                      </a:moveTo>
                      <a:lnTo>
                        <a:pt x="196" y="55"/>
                      </a:lnTo>
                      <a:lnTo>
                        <a:pt x="455" y="7"/>
                      </a:lnTo>
                      <a:lnTo>
                        <a:pt x="487" y="0"/>
                      </a:lnTo>
                      <a:lnTo>
                        <a:pt x="461" y="28"/>
                      </a:lnTo>
                      <a:lnTo>
                        <a:pt x="430" y="45"/>
                      </a:lnTo>
                      <a:lnTo>
                        <a:pt x="388" y="64"/>
                      </a:lnTo>
                      <a:lnTo>
                        <a:pt x="284" y="89"/>
                      </a:lnTo>
                      <a:lnTo>
                        <a:pt x="82" y="83"/>
                      </a:lnTo>
                      <a:lnTo>
                        <a:pt x="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28120" y="2611080"/>
                  <a:ext cx="95400" cy="41040"/>
                </a:xfrm>
                <a:custGeom>
                  <a:avLst/>
                  <a:gdLst/>
                  <a:ahLst/>
                  <a:rect l="l" t="t" r="r" b="b"/>
                  <a:pathLst>
                    <a:path w="361" h="156">
                      <a:moveTo>
                        <a:pt x="0" y="133"/>
                      </a:moveTo>
                      <a:lnTo>
                        <a:pt x="34" y="114"/>
                      </a:lnTo>
                      <a:lnTo>
                        <a:pt x="74" y="94"/>
                      </a:lnTo>
                      <a:lnTo>
                        <a:pt x="121" y="71"/>
                      </a:lnTo>
                      <a:lnTo>
                        <a:pt x="178" y="48"/>
                      </a:lnTo>
                      <a:lnTo>
                        <a:pt x="239" y="25"/>
                      </a:lnTo>
                      <a:lnTo>
                        <a:pt x="361" y="0"/>
                      </a:lnTo>
                      <a:lnTo>
                        <a:pt x="329" y="14"/>
                      </a:lnTo>
                      <a:lnTo>
                        <a:pt x="256" y="46"/>
                      </a:lnTo>
                      <a:lnTo>
                        <a:pt x="182" y="90"/>
                      </a:lnTo>
                      <a:lnTo>
                        <a:pt x="146" y="133"/>
                      </a:lnTo>
                      <a:lnTo>
                        <a:pt x="139" y="149"/>
                      </a:lnTo>
                      <a:lnTo>
                        <a:pt x="120" y="156"/>
                      </a:lnTo>
                      <a:lnTo>
                        <a:pt x="70" y="154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9840" y="2886120"/>
                  <a:ext cx="29520" cy="32760"/>
                </a:xfrm>
                <a:custGeom>
                  <a:avLst/>
                  <a:gdLst/>
                  <a:ahLst/>
                  <a:rect l="l" t="t" r="r" b="b"/>
                  <a:pathLst>
                    <a:path w="113" h="125">
                      <a:moveTo>
                        <a:pt x="14" y="61"/>
                      </a:moveTo>
                      <a:lnTo>
                        <a:pt x="52" y="15"/>
                      </a:lnTo>
                      <a:lnTo>
                        <a:pt x="84" y="0"/>
                      </a:lnTo>
                      <a:lnTo>
                        <a:pt x="113" y="4"/>
                      </a:lnTo>
                      <a:lnTo>
                        <a:pt x="57" y="87"/>
                      </a:lnTo>
                      <a:lnTo>
                        <a:pt x="44" y="125"/>
                      </a:lnTo>
                      <a:lnTo>
                        <a:pt x="25" y="122"/>
                      </a:lnTo>
                      <a:lnTo>
                        <a:pt x="0" y="89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25960" y="2927160"/>
                  <a:ext cx="56880" cy="54360"/>
                </a:xfrm>
                <a:custGeom>
                  <a:avLst/>
                  <a:gdLst/>
                  <a:ahLst/>
                  <a:rect l="l" t="t" r="r" b="b"/>
                  <a:pathLst>
                    <a:path w="217" h="205">
                      <a:moveTo>
                        <a:pt x="0" y="205"/>
                      </a:moveTo>
                      <a:lnTo>
                        <a:pt x="12" y="137"/>
                      </a:lnTo>
                      <a:lnTo>
                        <a:pt x="42" y="78"/>
                      </a:lnTo>
                      <a:lnTo>
                        <a:pt x="69" y="49"/>
                      </a:lnTo>
                      <a:lnTo>
                        <a:pt x="109" y="23"/>
                      </a:lnTo>
                      <a:lnTo>
                        <a:pt x="173" y="0"/>
                      </a:lnTo>
                      <a:lnTo>
                        <a:pt x="207" y="7"/>
                      </a:lnTo>
                      <a:lnTo>
                        <a:pt x="217" y="38"/>
                      </a:lnTo>
                      <a:lnTo>
                        <a:pt x="188" y="108"/>
                      </a:lnTo>
                      <a:lnTo>
                        <a:pt x="137" y="161"/>
                      </a:lnTo>
                      <a:lnTo>
                        <a:pt x="99" y="184"/>
                      </a:lnTo>
                      <a:lnTo>
                        <a:pt x="50" y="199"/>
                      </a:lnTo>
                      <a:lnTo>
                        <a:pt x="0" y="205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47640" y="3029040"/>
                  <a:ext cx="72720" cy="128520"/>
                </a:xfrm>
                <a:custGeom>
                  <a:avLst/>
                  <a:gdLst/>
                  <a:ahLst/>
                  <a:rect l="l" t="t" r="r" b="b"/>
                  <a:pathLst>
                    <a:path w="276" h="488">
                      <a:moveTo>
                        <a:pt x="160" y="484"/>
                      </a:moveTo>
                      <a:lnTo>
                        <a:pt x="97" y="488"/>
                      </a:lnTo>
                      <a:lnTo>
                        <a:pt x="25" y="433"/>
                      </a:lnTo>
                      <a:lnTo>
                        <a:pt x="0" y="283"/>
                      </a:lnTo>
                      <a:lnTo>
                        <a:pt x="21" y="161"/>
                      </a:lnTo>
                      <a:lnTo>
                        <a:pt x="44" y="85"/>
                      </a:lnTo>
                      <a:lnTo>
                        <a:pt x="76" y="0"/>
                      </a:lnTo>
                      <a:lnTo>
                        <a:pt x="93" y="399"/>
                      </a:lnTo>
                      <a:lnTo>
                        <a:pt x="128" y="418"/>
                      </a:lnTo>
                      <a:lnTo>
                        <a:pt x="160" y="422"/>
                      </a:lnTo>
                      <a:lnTo>
                        <a:pt x="219" y="395"/>
                      </a:lnTo>
                      <a:lnTo>
                        <a:pt x="261" y="351"/>
                      </a:lnTo>
                      <a:lnTo>
                        <a:pt x="276" y="329"/>
                      </a:lnTo>
                      <a:lnTo>
                        <a:pt x="242" y="395"/>
                      </a:lnTo>
                      <a:lnTo>
                        <a:pt x="206" y="446"/>
                      </a:lnTo>
                      <a:lnTo>
                        <a:pt x="183" y="469"/>
                      </a:lnTo>
                      <a:lnTo>
                        <a:pt x="160" y="484"/>
                      </a:lnTo>
                      <a:lnTo>
                        <a:pt x="160" y="484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22120" y="3016800"/>
                  <a:ext cx="151560" cy="87840"/>
                </a:xfrm>
                <a:custGeom>
                  <a:avLst/>
                  <a:gdLst/>
                  <a:ahLst/>
                  <a:rect l="l" t="t" r="r" b="b"/>
                  <a:pathLst>
                    <a:path w="576" h="335">
                      <a:moveTo>
                        <a:pt x="0" y="0"/>
                      </a:moveTo>
                      <a:lnTo>
                        <a:pt x="49" y="38"/>
                      </a:lnTo>
                      <a:lnTo>
                        <a:pt x="105" y="78"/>
                      </a:lnTo>
                      <a:lnTo>
                        <a:pt x="139" y="101"/>
                      </a:lnTo>
                      <a:lnTo>
                        <a:pt x="177" y="127"/>
                      </a:lnTo>
                      <a:lnTo>
                        <a:pt x="219" y="154"/>
                      </a:lnTo>
                      <a:lnTo>
                        <a:pt x="264" y="183"/>
                      </a:lnTo>
                      <a:lnTo>
                        <a:pt x="312" y="209"/>
                      </a:lnTo>
                      <a:lnTo>
                        <a:pt x="361" y="238"/>
                      </a:lnTo>
                      <a:lnTo>
                        <a:pt x="413" y="264"/>
                      </a:lnTo>
                      <a:lnTo>
                        <a:pt x="466" y="289"/>
                      </a:lnTo>
                      <a:lnTo>
                        <a:pt x="521" y="314"/>
                      </a:lnTo>
                      <a:lnTo>
                        <a:pt x="576" y="335"/>
                      </a:lnTo>
                      <a:lnTo>
                        <a:pt x="534" y="321"/>
                      </a:lnTo>
                      <a:lnTo>
                        <a:pt x="430" y="283"/>
                      </a:lnTo>
                      <a:lnTo>
                        <a:pt x="367" y="261"/>
                      </a:lnTo>
                      <a:lnTo>
                        <a:pt x="302" y="234"/>
                      </a:lnTo>
                      <a:lnTo>
                        <a:pt x="240" y="203"/>
                      </a:lnTo>
                      <a:lnTo>
                        <a:pt x="186" y="173"/>
                      </a:lnTo>
                      <a:lnTo>
                        <a:pt x="141" y="143"/>
                      </a:lnTo>
                      <a:lnTo>
                        <a:pt x="101" y="112"/>
                      </a:lnTo>
                      <a:lnTo>
                        <a:pt x="68" y="84"/>
                      </a:lnTo>
                      <a:lnTo>
                        <a:pt x="44" y="5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06360" y="2766600"/>
                  <a:ext cx="327960" cy="196200"/>
                </a:xfrm>
                <a:custGeom>
                  <a:avLst/>
                  <a:gdLst/>
                  <a:ahLst/>
                  <a:rect l="l" t="t" r="r" b="b"/>
                  <a:pathLst>
                    <a:path w="1246" h="747">
                      <a:moveTo>
                        <a:pt x="419" y="0"/>
                      </a:moveTo>
                      <a:lnTo>
                        <a:pt x="426" y="26"/>
                      </a:lnTo>
                      <a:lnTo>
                        <a:pt x="455" y="55"/>
                      </a:lnTo>
                      <a:lnTo>
                        <a:pt x="510" y="89"/>
                      </a:lnTo>
                      <a:lnTo>
                        <a:pt x="607" y="125"/>
                      </a:lnTo>
                      <a:lnTo>
                        <a:pt x="753" y="159"/>
                      </a:lnTo>
                      <a:lnTo>
                        <a:pt x="962" y="190"/>
                      </a:lnTo>
                      <a:lnTo>
                        <a:pt x="1246" y="211"/>
                      </a:lnTo>
                      <a:lnTo>
                        <a:pt x="985" y="226"/>
                      </a:lnTo>
                      <a:lnTo>
                        <a:pt x="719" y="214"/>
                      </a:lnTo>
                      <a:lnTo>
                        <a:pt x="419" y="157"/>
                      </a:lnTo>
                      <a:lnTo>
                        <a:pt x="379" y="195"/>
                      </a:lnTo>
                      <a:lnTo>
                        <a:pt x="333" y="243"/>
                      </a:lnTo>
                      <a:lnTo>
                        <a:pt x="278" y="308"/>
                      </a:lnTo>
                      <a:lnTo>
                        <a:pt x="246" y="348"/>
                      </a:lnTo>
                      <a:lnTo>
                        <a:pt x="211" y="391"/>
                      </a:lnTo>
                      <a:lnTo>
                        <a:pt x="177" y="439"/>
                      </a:lnTo>
                      <a:lnTo>
                        <a:pt x="141" y="492"/>
                      </a:lnTo>
                      <a:lnTo>
                        <a:pt x="105" y="549"/>
                      </a:lnTo>
                      <a:lnTo>
                        <a:pt x="69" y="610"/>
                      </a:lnTo>
                      <a:lnTo>
                        <a:pt x="35" y="676"/>
                      </a:lnTo>
                      <a:lnTo>
                        <a:pt x="0" y="747"/>
                      </a:lnTo>
                      <a:lnTo>
                        <a:pt x="33" y="659"/>
                      </a:lnTo>
                      <a:lnTo>
                        <a:pt x="69" y="568"/>
                      </a:lnTo>
                      <a:lnTo>
                        <a:pt x="92" y="517"/>
                      </a:lnTo>
                      <a:lnTo>
                        <a:pt x="116" y="462"/>
                      </a:lnTo>
                      <a:lnTo>
                        <a:pt x="145" y="405"/>
                      </a:lnTo>
                      <a:lnTo>
                        <a:pt x="173" y="349"/>
                      </a:lnTo>
                      <a:lnTo>
                        <a:pt x="204" y="294"/>
                      </a:lnTo>
                      <a:lnTo>
                        <a:pt x="234" y="243"/>
                      </a:lnTo>
                      <a:lnTo>
                        <a:pt x="267" y="197"/>
                      </a:lnTo>
                      <a:lnTo>
                        <a:pt x="299" y="157"/>
                      </a:lnTo>
                      <a:lnTo>
                        <a:pt x="333" y="123"/>
                      </a:lnTo>
                      <a:lnTo>
                        <a:pt x="365" y="100"/>
                      </a:lnTo>
                      <a:lnTo>
                        <a:pt x="419" y="0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1039680" y="2670120"/>
                <a:ext cx="200160" cy="5047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3880" y="3082680"/>
                <a:ext cx="755640" cy="214200"/>
              </a:xfrm>
              <a:custGeom>
                <a:avLst/>
                <a:gdLst/>
                <a:ahLst/>
                <a:rect l="l" t="t" r="r" b="b"/>
                <a:pathLst>
                  <a:path w="476" h="135">
                    <a:moveTo>
                      <a:pt x="0" y="18"/>
                    </a:moveTo>
                    <a:cubicBezTo>
                      <a:pt x="7" y="53"/>
                      <a:pt x="15" y="88"/>
                      <a:pt x="48" y="105"/>
                    </a:cubicBezTo>
                    <a:cubicBezTo>
                      <a:pt x="81" y="122"/>
                      <a:pt x="129" y="135"/>
                      <a:pt x="200" y="118"/>
                    </a:cubicBezTo>
                    <a:cubicBezTo>
                      <a:pt x="271" y="101"/>
                      <a:pt x="373" y="50"/>
                      <a:pt x="476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71720" y="272700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1" y="12"/>
                    </a:moveTo>
                    <a:lnTo>
                      <a:pt x="1" y="63"/>
                    </a:lnTo>
                    <a:lnTo>
                      <a:pt x="81" y="77"/>
                    </a:lnTo>
                    <a:lnTo>
                      <a:pt x="8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87360" y="514440"/>
              <a:ext cx="1030320" cy="699840"/>
              <a:chOff x="387360" y="514440"/>
              <a:chExt cx="1030320" cy="69984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387360" y="514440"/>
                <a:ext cx="941400" cy="606240"/>
                <a:chOff x="387360" y="514440"/>
                <a:chExt cx="941400" cy="6062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96440" y="643320"/>
                  <a:ext cx="832320" cy="477360"/>
                </a:xfrm>
                <a:custGeom>
                  <a:avLst/>
                  <a:gdLst/>
                  <a:ahLst/>
                  <a:rect l="l" t="t" r="r" b="b"/>
                  <a:pathLst>
                    <a:path w="3154" h="1811">
                      <a:moveTo>
                        <a:pt x="220" y="1716"/>
                      </a:moveTo>
                      <a:lnTo>
                        <a:pt x="384" y="1752"/>
                      </a:lnTo>
                      <a:lnTo>
                        <a:pt x="532" y="1779"/>
                      </a:lnTo>
                      <a:lnTo>
                        <a:pt x="791" y="1811"/>
                      </a:lnTo>
                      <a:lnTo>
                        <a:pt x="1152" y="1811"/>
                      </a:lnTo>
                      <a:lnTo>
                        <a:pt x="1342" y="1773"/>
                      </a:lnTo>
                      <a:lnTo>
                        <a:pt x="1397" y="1747"/>
                      </a:lnTo>
                      <a:lnTo>
                        <a:pt x="1456" y="1707"/>
                      </a:lnTo>
                      <a:lnTo>
                        <a:pt x="1487" y="1686"/>
                      </a:lnTo>
                      <a:lnTo>
                        <a:pt x="1525" y="1659"/>
                      </a:lnTo>
                      <a:lnTo>
                        <a:pt x="1567" y="1631"/>
                      </a:lnTo>
                      <a:lnTo>
                        <a:pt x="1612" y="1598"/>
                      </a:lnTo>
                      <a:lnTo>
                        <a:pt x="1664" y="1564"/>
                      </a:lnTo>
                      <a:lnTo>
                        <a:pt x="1719" y="1526"/>
                      </a:lnTo>
                      <a:lnTo>
                        <a:pt x="1776" y="1486"/>
                      </a:lnTo>
                      <a:lnTo>
                        <a:pt x="1837" y="1444"/>
                      </a:lnTo>
                      <a:lnTo>
                        <a:pt x="1899" y="1401"/>
                      </a:lnTo>
                      <a:lnTo>
                        <a:pt x="1964" y="1355"/>
                      </a:lnTo>
                      <a:lnTo>
                        <a:pt x="1996" y="1332"/>
                      </a:lnTo>
                      <a:lnTo>
                        <a:pt x="2030" y="1309"/>
                      </a:lnTo>
                      <a:lnTo>
                        <a:pt x="2063" y="1287"/>
                      </a:lnTo>
                      <a:lnTo>
                        <a:pt x="2097" y="1264"/>
                      </a:lnTo>
                      <a:lnTo>
                        <a:pt x="2129" y="1239"/>
                      </a:lnTo>
                      <a:lnTo>
                        <a:pt x="2164" y="1216"/>
                      </a:lnTo>
                      <a:lnTo>
                        <a:pt x="2198" y="1193"/>
                      </a:lnTo>
                      <a:lnTo>
                        <a:pt x="2230" y="1169"/>
                      </a:lnTo>
                      <a:lnTo>
                        <a:pt x="2264" y="1146"/>
                      </a:lnTo>
                      <a:lnTo>
                        <a:pt x="2297" y="1123"/>
                      </a:lnTo>
                      <a:lnTo>
                        <a:pt x="2329" y="1100"/>
                      </a:lnTo>
                      <a:lnTo>
                        <a:pt x="2361" y="1077"/>
                      </a:lnTo>
                      <a:lnTo>
                        <a:pt x="2426" y="1034"/>
                      </a:lnTo>
                      <a:lnTo>
                        <a:pt x="2487" y="990"/>
                      </a:lnTo>
                      <a:lnTo>
                        <a:pt x="2546" y="946"/>
                      </a:lnTo>
                      <a:lnTo>
                        <a:pt x="2601" y="908"/>
                      </a:lnTo>
                      <a:lnTo>
                        <a:pt x="2654" y="870"/>
                      </a:lnTo>
                      <a:lnTo>
                        <a:pt x="2702" y="836"/>
                      </a:lnTo>
                      <a:lnTo>
                        <a:pt x="2745" y="804"/>
                      </a:lnTo>
                      <a:lnTo>
                        <a:pt x="2783" y="775"/>
                      </a:lnTo>
                      <a:lnTo>
                        <a:pt x="2844" y="730"/>
                      </a:lnTo>
                      <a:lnTo>
                        <a:pt x="2880" y="699"/>
                      </a:lnTo>
                      <a:lnTo>
                        <a:pt x="2920" y="656"/>
                      </a:lnTo>
                      <a:lnTo>
                        <a:pt x="2962" y="600"/>
                      </a:lnTo>
                      <a:lnTo>
                        <a:pt x="3002" y="543"/>
                      </a:lnTo>
                      <a:lnTo>
                        <a:pt x="3038" y="481"/>
                      </a:lnTo>
                      <a:lnTo>
                        <a:pt x="3072" y="422"/>
                      </a:lnTo>
                      <a:lnTo>
                        <a:pt x="3101" y="365"/>
                      </a:lnTo>
                      <a:lnTo>
                        <a:pt x="3139" y="281"/>
                      </a:lnTo>
                      <a:lnTo>
                        <a:pt x="3154" y="102"/>
                      </a:lnTo>
                      <a:lnTo>
                        <a:pt x="3139" y="74"/>
                      </a:lnTo>
                      <a:lnTo>
                        <a:pt x="3114" y="49"/>
                      </a:lnTo>
                      <a:lnTo>
                        <a:pt x="3078" y="28"/>
                      </a:lnTo>
                      <a:lnTo>
                        <a:pt x="3032" y="11"/>
                      </a:lnTo>
                      <a:lnTo>
                        <a:pt x="2897" y="0"/>
                      </a:lnTo>
                      <a:lnTo>
                        <a:pt x="2700" y="21"/>
                      </a:lnTo>
                      <a:lnTo>
                        <a:pt x="2470" y="70"/>
                      </a:lnTo>
                      <a:lnTo>
                        <a:pt x="2361" y="99"/>
                      </a:lnTo>
                      <a:lnTo>
                        <a:pt x="2255" y="129"/>
                      </a:lnTo>
                      <a:lnTo>
                        <a:pt x="2154" y="159"/>
                      </a:lnTo>
                      <a:lnTo>
                        <a:pt x="2057" y="192"/>
                      </a:lnTo>
                      <a:lnTo>
                        <a:pt x="1968" y="222"/>
                      </a:lnTo>
                      <a:lnTo>
                        <a:pt x="1884" y="254"/>
                      </a:lnTo>
                      <a:lnTo>
                        <a:pt x="1808" y="283"/>
                      </a:lnTo>
                      <a:lnTo>
                        <a:pt x="1740" y="310"/>
                      </a:lnTo>
                      <a:lnTo>
                        <a:pt x="1681" y="336"/>
                      </a:lnTo>
                      <a:lnTo>
                        <a:pt x="1629" y="357"/>
                      </a:lnTo>
                      <a:lnTo>
                        <a:pt x="1559" y="389"/>
                      </a:lnTo>
                      <a:lnTo>
                        <a:pt x="1536" y="401"/>
                      </a:lnTo>
                      <a:lnTo>
                        <a:pt x="1510" y="412"/>
                      </a:lnTo>
                      <a:lnTo>
                        <a:pt x="1441" y="448"/>
                      </a:lnTo>
                      <a:lnTo>
                        <a:pt x="1392" y="473"/>
                      </a:lnTo>
                      <a:lnTo>
                        <a:pt x="1335" y="503"/>
                      </a:lnTo>
                      <a:lnTo>
                        <a:pt x="1270" y="538"/>
                      </a:lnTo>
                      <a:lnTo>
                        <a:pt x="1202" y="576"/>
                      </a:lnTo>
                      <a:lnTo>
                        <a:pt x="1125" y="617"/>
                      </a:lnTo>
                      <a:lnTo>
                        <a:pt x="1046" y="663"/>
                      </a:lnTo>
                      <a:lnTo>
                        <a:pt x="1004" y="686"/>
                      </a:lnTo>
                      <a:lnTo>
                        <a:pt x="962" y="711"/>
                      </a:lnTo>
                      <a:lnTo>
                        <a:pt x="920" y="735"/>
                      </a:lnTo>
                      <a:lnTo>
                        <a:pt x="878" y="762"/>
                      </a:lnTo>
                      <a:lnTo>
                        <a:pt x="835" y="787"/>
                      </a:lnTo>
                      <a:lnTo>
                        <a:pt x="791" y="813"/>
                      </a:lnTo>
                      <a:lnTo>
                        <a:pt x="747" y="840"/>
                      </a:lnTo>
                      <a:lnTo>
                        <a:pt x="703" y="866"/>
                      </a:lnTo>
                      <a:lnTo>
                        <a:pt x="662" y="895"/>
                      </a:lnTo>
                      <a:lnTo>
                        <a:pt x="618" y="924"/>
                      </a:lnTo>
                      <a:lnTo>
                        <a:pt x="576" y="950"/>
                      </a:lnTo>
                      <a:lnTo>
                        <a:pt x="534" y="979"/>
                      </a:lnTo>
                      <a:lnTo>
                        <a:pt x="492" y="1007"/>
                      </a:lnTo>
                      <a:lnTo>
                        <a:pt x="452" y="1036"/>
                      </a:lnTo>
                      <a:lnTo>
                        <a:pt x="413" y="1064"/>
                      </a:lnTo>
                      <a:lnTo>
                        <a:pt x="374" y="1093"/>
                      </a:lnTo>
                      <a:lnTo>
                        <a:pt x="336" y="1121"/>
                      </a:lnTo>
                      <a:lnTo>
                        <a:pt x="300" y="1150"/>
                      </a:lnTo>
                      <a:lnTo>
                        <a:pt x="266" y="1178"/>
                      </a:lnTo>
                      <a:lnTo>
                        <a:pt x="234" y="1207"/>
                      </a:lnTo>
                      <a:lnTo>
                        <a:pt x="201" y="1235"/>
                      </a:lnTo>
                      <a:lnTo>
                        <a:pt x="171" y="1264"/>
                      </a:lnTo>
                      <a:lnTo>
                        <a:pt x="118" y="1317"/>
                      </a:lnTo>
                      <a:lnTo>
                        <a:pt x="74" y="1370"/>
                      </a:lnTo>
                      <a:lnTo>
                        <a:pt x="38" y="1422"/>
                      </a:lnTo>
                      <a:lnTo>
                        <a:pt x="0" y="1517"/>
                      </a:lnTo>
                      <a:lnTo>
                        <a:pt x="13" y="1598"/>
                      </a:lnTo>
                      <a:lnTo>
                        <a:pt x="40" y="1634"/>
                      </a:lnTo>
                      <a:lnTo>
                        <a:pt x="84" y="1667"/>
                      </a:lnTo>
                      <a:lnTo>
                        <a:pt x="143" y="1695"/>
                      </a:lnTo>
                      <a:lnTo>
                        <a:pt x="220" y="1716"/>
                      </a:lnTo>
                      <a:lnTo>
                        <a:pt x="220" y="1716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95640" y="523080"/>
                  <a:ext cx="796320" cy="527400"/>
                </a:xfrm>
                <a:custGeom>
                  <a:avLst/>
                  <a:gdLst/>
                  <a:ahLst/>
                  <a:rect l="l" t="t" r="r" b="b"/>
                  <a:pathLst>
                    <a:path w="3019" h="2003">
                      <a:moveTo>
                        <a:pt x="40" y="1591"/>
                      </a:moveTo>
                      <a:lnTo>
                        <a:pt x="68" y="1621"/>
                      </a:lnTo>
                      <a:lnTo>
                        <a:pt x="102" y="1653"/>
                      </a:lnTo>
                      <a:lnTo>
                        <a:pt x="150" y="1693"/>
                      </a:lnTo>
                      <a:lnTo>
                        <a:pt x="180" y="1716"/>
                      </a:lnTo>
                      <a:lnTo>
                        <a:pt x="213" y="1741"/>
                      </a:lnTo>
                      <a:lnTo>
                        <a:pt x="249" y="1765"/>
                      </a:lnTo>
                      <a:lnTo>
                        <a:pt x="289" y="1788"/>
                      </a:lnTo>
                      <a:lnTo>
                        <a:pt x="332" y="1813"/>
                      </a:lnTo>
                      <a:lnTo>
                        <a:pt x="380" y="1838"/>
                      </a:lnTo>
                      <a:lnTo>
                        <a:pt x="431" y="1860"/>
                      </a:lnTo>
                      <a:lnTo>
                        <a:pt x="487" y="1883"/>
                      </a:lnTo>
                      <a:lnTo>
                        <a:pt x="585" y="1917"/>
                      </a:lnTo>
                      <a:lnTo>
                        <a:pt x="696" y="1946"/>
                      </a:lnTo>
                      <a:lnTo>
                        <a:pt x="815" y="1969"/>
                      </a:lnTo>
                      <a:lnTo>
                        <a:pt x="945" y="1986"/>
                      </a:lnTo>
                      <a:lnTo>
                        <a:pt x="1239" y="2003"/>
                      </a:lnTo>
                      <a:lnTo>
                        <a:pt x="1576" y="1995"/>
                      </a:lnTo>
                      <a:lnTo>
                        <a:pt x="1601" y="1874"/>
                      </a:lnTo>
                      <a:lnTo>
                        <a:pt x="1633" y="1750"/>
                      </a:lnTo>
                      <a:lnTo>
                        <a:pt x="1652" y="1682"/>
                      </a:lnTo>
                      <a:lnTo>
                        <a:pt x="1675" y="1611"/>
                      </a:lnTo>
                      <a:lnTo>
                        <a:pt x="1698" y="1541"/>
                      </a:lnTo>
                      <a:lnTo>
                        <a:pt x="1724" y="1476"/>
                      </a:lnTo>
                      <a:lnTo>
                        <a:pt x="1753" y="1418"/>
                      </a:lnTo>
                      <a:lnTo>
                        <a:pt x="1783" y="1366"/>
                      </a:lnTo>
                      <a:lnTo>
                        <a:pt x="1817" y="1326"/>
                      </a:lnTo>
                      <a:lnTo>
                        <a:pt x="1852" y="1300"/>
                      </a:lnTo>
                      <a:lnTo>
                        <a:pt x="1924" y="1298"/>
                      </a:lnTo>
                      <a:lnTo>
                        <a:pt x="1989" y="1332"/>
                      </a:lnTo>
                      <a:lnTo>
                        <a:pt x="2036" y="1361"/>
                      </a:lnTo>
                      <a:lnTo>
                        <a:pt x="2087" y="1402"/>
                      </a:lnTo>
                      <a:lnTo>
                        <a:pt x="2101" y="1435"/>
                      </a:lnTo>
                      <a:lnTo>
                        <a:pt x="2165" y="1651"/>
                      </a:lnTo>
                      <a:lnTo>
                        <a:pt x="2262" y="1480"/>
                      </a:lnTo>
                      <a:lnTo>
                        <a:pt x="2646" y="1035"/>
                      </a:lnTo>
                      <a:lnTo>
                        <a:pt x="2855" y="1243"/>
                      </a:lnTo>
                      <a:lnTo>
                        <a:pt x="3019" y="1094"/>
                      </a:lnTo>
                      <a:lnTo>
                        <a:pt x="3006" y="1056"/>
                      </a:lnTo>
                      <a:lnTo>
                        <a:pt x="2970" y="958"/>
                      </a:lnTo>
                      <a:lnTo>
                        <a:pt x="2945" y="891"/>
                      </a:lnTo>
                      <a:lnTo>
                        <a:pt x="2913" y="815"/>
                      </a:lnTo>
                      <a:lnTo>
                        <a:pt x="2878" y="733"/>
                      </a:lnTo>
                      <a:lnTo>
                        <a:pt x="2838" y="650"/>
                      </a:lnTo>
                      <a:lnTo>
                        <a:pt x="2795" y="566"/>
                      </a:lnTo>
                      <a:lnTo>
                        <a:pt x="2772" y="524"/>
                      </a:lnTo>
                      <a:lnTo>
                        <a:pt x="2747" y="484"/>
                      </a:lnTo>
                      <a:lnTo>
                        <a:pt x="2722" y="444"/>
                      </a:lnTo>
                      <a:lnTo>
                        <a:pt x="2698" y="406"/>
                      </a:lnTo>
                      <a:lnTo>
                        <a:pt x="2671" y="368"/>
                      </a:lnTo>
                      <a:lnTo>
                        <a:pt x="2644" y="334"/>
                      </a:lnTo>
                      <a:lnTo>
                        <a:pt x="2589" y="273"/>
                      </a:lnTo>
                      <a:lnTo>
                        <a:pt x="2559" y="247"/>
                      </a:lnTo>
                      <a:lnTo>
                        <a:pt x="2530" y="224"/>
                      </a:lnTo>
                      <a:lnTo>
                        <a:pt x="2470" y="190"/>
                      </a:lnTo>
                      <a:lnTo>
                        <a:pt x="2409" y="171"/>
                      </a:lnTo>
                      <a:lnTo>
                        <a:pt x="2331" y="85"/>
                      </a:lnTo>
                      <a:lnTo>
                        <a:pt x="1979" y="0"/>
                      </a:lnTo>
                      <a:lnTo>
                        <a:pt x="1661" y="30"/>
                      </a:lnTo>
                      <a:lnTo>
                        <a:pt x="1418" y="39"/>
                      </a:lnTo>
                      <a:lnTo>
                        <a:pt x="1110" y="152"/>
                      </a:lnTo>
                      <a:lnTo>
                        <a:pt x="975" y="228"/>
                      </a:lnTo>
                      <a:lnTo>
                        <a:pt x="802" y="509"/>
                      </a:lnTo>
                      <a:lnTo>
                        <a:pt x="711" y="631"/>
                      </a:lnTo>
                      <a:lnTo>
                        <a:pt x="399" y="758"/>
                      </a:lnTo>
                      <a:lnTo>
                        <a:pt x="365" y="783"/>
                      </a:lnTo>
                      <a:lnTo>
                        <a:pt x="329" y="809"/>
                      </a:lnTo>
                      <a:lnTo>
                        <a:pt x="283" y="842"/>
                      </a:lnTo>
                      <a:lnTo>
                        <a:pt x="237" y="876"/>
                      </a:lnTo>
                      <a:lnTo>
                        <a:pt x="190" y="910"/>
                      </a:lnTo>
                      <a:lnTo>
                        <a:pt x="150" y="942"/>
                      </a:lnTo>
                      <a:lnTo>
                        <a:pt x="118" y="967"/>
                      </a:lnTo>
                      <a:lnTo>
                        <a:pt x="64" y="1041"/>
                      </a:lnTo>
                      <a:lnTo>
                        <a:pt x="63" y="1072"/>
                      </a:lnTo>
                      <a:lnTo>
                        <a:pt x="0" y="1239"/>
                      </a:lnTo>
                      <a:lnTo>
                        <a:pt x="40" y="1591"/>
                      </a:lnTo>
                      <a:lnTo>
                        <a:pt x="40" y="1591"/>
                      </a:lnTo>
                      <a:close/>
                    </a:path>
                  </a:pathLst>
                </a:cu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27440" y="748800"/>
                  <a:ext cx="128880" cy="187560"/>
                </a:xfrm>
                <a:custGeom>
                  <a:avLst/>
                  <a:gdLst/>
                  <a:ahLst/>
                  <a:rect l="l" t="t" r="r" b="b"/>
                  <a:pathLst>
                    <a:path w="489" h="711">
                      <a:moveTo>
                        <a:pt x="0" y="621"/>
                      </a:moveTo>
                      <a:lnTo>
                        <a:pt x="17" y="646"/>
                      </a:lnTo>
                      <a:lnTo>
                        <a:pt x="38" y="669"/>
                      </a:lnTo>
                      <a:lnTo>
                        <a:pt x="69" y="690"/>
                      </a:lnTo>
                      <a:lnTo>
                        <a:pt x="103" y="707"/>
                      </a:lnTo>
                      <a:lnTo>
                        <a:pt x="145" y="711"/>
                      </a:lnTo>
                      <a:lnTo>
                        <a:pt x="244" y="665"/>
                      </a:lnTo>
                      <a:lnTo>
                        <a:pt x="356" y="625"/>
                      </a:lnTo>
                      <a:lnTo>
                        <a:pt x="447" y="405"/>
                      </a:lnTo>
                      <a:lnTo>
                        <a:pt x="489" y="216"/>
                      </a:lnTo>
                      <a:lnTo>
                        <a:pt x="478" y="118"/>
                      </a:lnTo>
                      <a:lnTo>
                        <a:pt x="460" y="44"/>
                      </a:lnTo>
                      <a:lnTo>
                        <a:pt x="447" y="17"/>
                      </a:lnTo>
                      <a:lnTo>
                        <a:pt x="432" y="0"/>
                      </a:lnTo>
                      <a:lnTo>
                        <a:pt x="341" y="4"/>
                      </a:lnTo>
                      <a:lnTo>
                        <a:pt x="286" y="25"/>
                      </a:lnTo>
                      <a:lnTo>
                        <a:pt x="158" y="300"/>
                      </a:lnTo>
                      <a:lnTo>
                        <a:pt x="0" y="621"/>
                      </a:lnTo>
                      <a:lnTo>
                        <a:pt x="0" y="621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2400" y="894600"/>
                  <a:ext cx="72720" cy="41400"/>
                </a:xfrm>
                <a:custGeom>
                  <a:avLst/>
                  <a:gdLst/>
                  <a:ahLst/>
                  <a:rect l="l" t="t" r="r" b="b"/>
                  <a:pathLst>
                    <a:path w="276" h="158">
                      <a:moveTo>
                        <a:pt x="0" y="30"/>
                      </a:moveTo>
                      <a:lnTo>
                        <a:pt x="124" y="0"/>
                      </a:lnTo>
                      <a:lnTo>
                        <a:pt x="143" y="25"/>
                      </a:lnTo>
                      <a:lnTo>
                        <a:pt x="164" y="49"/>
                      </a:lnTo>
                      <a:lnTo>
                        <a:pt x="192" y="72"/>
                      </a:lnTo>
                      <a:lnTo>
                        <a:pt x="276" y="123"/>
                      </a:lnTo>
                      <a:lnTo>
                        <a:pt x="242" y="150"/>
                      </a:lnTo>
                      <a:lnTo>
                        <a:pt x="198" y="158"/>
                      </a:lnTo>
                      <a:lnTo>
                        <a:pt x="145" y="158"/>
                      </a:lnTo>
                      <a:lnTo>
                        <a:pt x="29" y="106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2e4f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12640" y="721800"/>
                  <a:ext cx="293760" cy="233640"/>
                </a:xfrm>
                <a:custGeom>
                  <a:avLst/>
                  <a:gdLst/>
                  <a:ahLst/>
                  <a:rect l="l" t="t" r="r" b="b"/>
                  <a:pathLst>
                    <a:path w="1114" h="888">
                      <a:moveTo>
                        <a:pt x="34" y="888"/>
                      </a:moveTo>
                      <a:lnTo>
                        <a:pt x="51" y="865"/>
                      </a:lnTo>
                      <a:lnTo>
                        <a:pt x="101" y="800"/>
                      </a:lnTo>
                      <a:lnTo>
                        <a:pt x="137" y="755"/>
                      </a:lnTo>
                      <a:lnTo>
                        <a:pt x="178" y="705"/>
                      </a:lnTo>
                      <a:lnTo>
                        <a:pt x="224" y="650"/>
                      </a:lnTo>
                      <a:lnTo>
                        <a:pt x="277" y="593"/>
                      </a:lnTo>
                      <a:lnTo>
                        <a:pt x="334" y="532"/>
                      </a:lnTo>
                      <a:lnTo>
                        <a:pt x="363" y="504"/>
                      </a:lnTo>
                      <a:lnTo>
                        <a:pt x="393" y="473"/>
                      </a:lnTo>
                      <a:lnTo>
                        <a:pt x="426" y="443"/>
                      </a:lnTo>
                      <a:lnTo>
                        <a:pt x="458" y="415"/>
                      </a:lnTo>
                      <a:lnTo>
                        <a:pt x="492" y="386"/>
                      </a:lnTo>
                      <a:lnTo>
                        <a:pt x="525" y="358"/>
                      </a:lnTo>
                      <a:lnTo>
                        <a:pt x="559" y="331"/>
                      </a:lnTo>
                      <a:lnTo>
                        <a:pt x="595" y="304"/>
                      </a:lnTo>
                      <a:lnTo>
                        <a:pt x="629" y="281"/>
                      </a:lnTo>
                      <a:lnTo>
                        <a:pt x="665" y="257"/>
                      </a:lnTo>
                      <a:lnTo>
                        <a:pt x="737" y="217"/>
                      </a:lnTo>
                      <a:lnTo>
                        <a:pt x="808" y="185"/>
                      </a:lnTo>
                      <a:lnTo>
                        <a:pt x="874" y="158"/>
                      </a:lnTo>
                      <a:lnTo>
                        <a:pt x="931" y="137"/>
                      </a:lnTo>
                      <a:lnTo>
                        <a:pt x="1017" y="105"/>
                      </a:lnTo>
                      <a:lnTo>
                        <a:pt x="1101" y="78"/>
                      </a:lnTo>
                      <a:lnTo>
                        <a:pt x="1114" y="80"/>
                      </a:lnTo>
                      <a:lnTo>
                        <a:pt x="1106" y="86"/>
                      </a:lnTo>
                      <a:lnTo>
                        <a:pt x="760" y="61"/>
                      </a:lnTo>
                      <a:lnTo>
                        <a:pt x="348" y="0"/>
                      </a:lnTo>
                      <a:lnTo>
                        <a:pt x="310" y="13"/>
                      </a:lnTo>
                      <a:lnTo>
                        <a:pt x="258" y="80"/>
                      </a:lnTo>
                      <a:lnTo>
                        <a:pt x="232" y="128"/>
                      </a:lnTo>
                      <a:lnTo>
                        <a:pt x="203" y="185"/>
                      </a:lnTo>
                      <a:lnTo>
                        <a:pt x="175" y="247"/>
                      </a:lnTo>
                      <a:lnTo>
                        <a:pt x="146" y="312"/>
                      </a:lnTo>
                      <a:lnTo>
                        <a:pt x="118" y="380"/>
                      </a:lnTo>
                      <a:lnTo>
                        <a:pt x="93" y="451"/>
                      </a:lnTo>
                      <a:lnTo>
                        <a:pt x="47" y="580"/>
                      </a:lnTo>
                      <a:lnTo>
                        <a:pt x="2" y="764"/>
                      </a:lnTo>
                      <a:lnTo>
                        <a:pt x="0" y="808"/>
                      </a:lnTo>
                      <a:lnTo>
                        <a:pt x="2" y="840"/>
                      </a:lnTo>
                      <a:lnTo>
                        <a:pt x="13" y="876"/>
                      </a:lnTo>
                      <a:lnTo>
                        <a:pt x="34" y="888"/>
                      </a:lnTo>
                      <a:lnTo>
                        <a:pt x="34" y="88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58960" y="915120"/>
                  <a:ext cx="57960" cy="126720"/>
                </a:xfrm>
                <a:custGeom>
                  <a:avLst/>
                  <a:gdLst/>
                  <a:ahLst/>
                  <a:rect l="l" t="t" r="r" b="b"/>
                  <a:pathLst>
                    <a:path w="220" h="483">
                      <a:moveTo>
                        <a:pt x="0" y="391"/>
                      </a:moveTo>
                      <a:lnTo>
                        <a:pt x="11" y="458"/>
                      </a:lnTo>
                      <a:lnTo>
                        <a:pt x="30" y="483"/>
                      </a:lnTo>
                      <a:lnTo>
                        <a:pt x="59" y="477"/>
                      </a:lnTo>
                      <a:lnTo>
                        <a:pt x="110" y="422"/>
                      </a:lnTo>
                      <a:lnTo>
                        <a:pt x="133" y="378"/>
                      </a:lnTo>
                      <a:lnTo>
                        <a:pt x="161" y="319"/>
                      </a:lnTo>
                      <a:lnTo>
                        <a:pt x="188" y="258"/>
                      </a:lnTo>
                      <a:lnTo>
                        <a:pt x="205" y="209"/>
                      </a:lnTo>
                      <a:lnTo>
                        <a:pt x="220" y="26"/>
                      </a:lnTo>
                      <a:lnTo>
                        <a:pt x="211" y="13"/>
                      </a:lnTo>
                      <a:lnTo>
                        <a:pt x="194" y="0"/>
                      </a:lnTo>
                      <a:lnTo>
                        <a:pt x="106" y="9"/>
                      </a:lnTo>
                      <a:lnTo>
                        <a:pt x="28" y="209"/>
                      </a:lnTo>
                      <a:lnTo>
                        <a:pt x="0" y="391"/>
                      </a:lnTo>
                      <a:lnTo>
                        <a:pt x="0" y="391"/>
                      </a:lnTo>
                      <a:close/>
                    </a:path>
                  </a:pathLst>
                </a:custGeom>
                <a:solidFill>
                  <a:srgbClr val="607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31440" y="849960"/>
                  <a:ext cx="127080" cy="127440"/>
                </a:xfrm>
                <a:custGeom>
                  <a:avLst/>
                  <a:gdLst/>
                  <a:ahLst/>
                  <a:rect l="l" t="t" r="r" b="b"/>
                  <a:pathLst>
                    <a:path w="481" h="483">
                      <a:moveTo>
                        <a:pt x="63" y="156"/>
                      </a:moveTo>
                      <a:lnTo>
                        <a:pt x="48" y="182"/>
                      </a:lnTo>
                      <a:lnTo>
                        <a:pt x="19" y="245"/>
                      </a:lnTo>
                      <a:lnTo>
                        <a:pt x="0" y="325"/>
                      </a:lnTo>
                      <a:lnTo>
                        <a:pt x="17" y="401"/>
                      </a:lnTo>
                      <a:lnTo>
                        <a:pt x="46" y="431"/>
                      </a:lnTo>
                      <a:lnTo>
                        <a:pt x="82" y="454"/>
                      </a:lnTo>
                      <a:lnTo>
                        <a:pt x="171" y="479"/>
                      </a:lnTo>
                      <a:lnTo>
                        <a:pt x="308" y="483"/>
                      </a:lnTo>
                      <a:lnTo>
                        <a:pt x="402" y="450"/>
                      </a:lnTo>
                      <a:lnTo>
                        <a:pt x="468" y="424"/>
                      </a:lnTo>
                      <a:lnTo>
                        <a:pt x="481" y="372"/>
                      </a:lnTo>
                      <a:lnTo>
                        <a:pt x="236" y="388"/>
                      </a:lnTo>
                      <a:lnTo>
                        <a:pt x="187" y="235"/>
                      </a:lnTo>
                      <a:lnTo>
                        <a:pt x="242" y="64"/>
                      </a:lnTo>
                      <a:lnTo>
                        <a:pt x="289" y="0"/>
                      </a:lnTo>
                      <a:lnTo>
                        <a:pt x="202" y="30"/>
                      </a:lnTo>
                      <a:lnTo>
                        <a:pt x="126" y="78"/>
                      </a:lnTo>
                      <a:lnTo>
                        <a:pt x="63" y="156"/>
                      </a:lnTo>
                      <a:lnTo>
                        <a:pt x="63" y="156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098720" y="793440"/>
                  <a:ext cx="32400" cy="83160"/>
                </a:xfrm>
                <a:custGeom>
                  <a:avLst/>
                  <a:gdLst/>
                  <a:ahLst/>
                  <a:rect l="l" t="t" r="r" b="b"/>
                  <a:pathLst>
                    <a:path w="124" h="316">
                      <a:moveTo>
                        <a:pt x="48" y="32"/>
                      </a:moveTo>
                      <a:lnTo>
                        <a:pt x="21" y="93"/>
                      </a:lnTo>
                      <a:lnTo>
                        <a:pt x="0" y="196"/>
                      </a:lnTo>
                      <a:lnTo>
                        <a:pt x="12" y="302"/>
                      </a:lnTo>
                      <a:lnTo>
                        <a:pt x="33" y="316"/>
                      </a:lnTo>
                      <a:lnTo>
                        <a:pt x="63" y="287"/>
                      </a:lnTo>
                      <a:lnTo>
                        <a:pt x="107" y="182"/>
                      </a:lnTo>
                      <a:lnTo>
                        <a:pt x="124" y="19"/>
                      </a:lnTo>
                      <a:lnTo>
                        <a:pt x="103" y="0"/>
                      </a:lnTo>
                      <a:lnTo>
                        <a:pt x="48" y="32"/>
                      </a:lnTo>
                      <a:lnTo>
                        <a:pt x="48" y="32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99920" y="551520"/>
                  <a:ext cx="316800" cy="100080"/>
                </a:xfrm>
                <a:custGeom>
                  <a:avLst/>
                  <a:gdLst/>
                  <a:ahLst/>
                  <a:rect l="l" t="t" r="r" b="b"/>
                  <a:pathLst>
                    <a:path w="1204" h="380">
                      <a:moveTo>
                        <a:pt x="0" y="211"/>
                      </a:moveTo>
                      <a:lnTo>
                        <a:pt x="65" y="194"/>
                      </a:lnTo>
                      <a:lnTo>
                        <a:pt x="215" y="152"/>
                      </a:lnTo>
                      <a:lnTo>
                        <a:pt x="303" y="125"/>
                      </a:lnTo>
                      <a:lnTo>
                        <a:pt x="388" y="99"/>
                      </a:lnTo>
                      <a:lnTo>
                        <a:pt x="466" y="72"/>
                      </a:lnTo>
                      <a:lnTo>
                        <a:pt x="525" y="47"/>
                      </a:lnTo>
                      <a:lnTo>
                        <a:pt x="576" y="28"/>
                      </a:lnTo>
                      <a:lnTo>
                        <a:pt x="630" y="13"/>
                      </a:lnTo>
                      <a:lnTo>
                        <a:pt x="736" y="0"/>
                      </a:lnTo>
                      <a:lnTo>
                        <a:pt x="900" y="26"/>
                      </a:lnTo>
                      <a:lnTo>
                        <a:pt x="930" y="47"/>
                      </a:lnTo>
                      <a:lnTo>
                        <a:pt x="968" y="78"/>
                      </a:lnTo>
                      <a:lnTo>
                        <a:pt x="1010" y="112"/>
                      </a:lnTo>
                      <a:lnTo>
                        <a:pt x="1052" y="150"/>
                      </a:lnTo>
                      <a:lnTo>
                        <a:pt x="1092" y="186"/>
                      </a:lnTo>
                      <a:lnTo>
                        <a:pt x="1124" y="215"/>
                      </a:lnTo>
                      <a:lnTo>
                        <a:pt x="1154" y="243"/>
                      </a:lnTo>
                      <a:lnTo>
                        <a:pt x="1204" y="304"/>
                      </a:lnTo>
                      <a:lnTo>
                        <a:pt x="1147" y="327"/>
                      </a:lnTo>
                      <a:lnTo>
                        <a:pt x="1073" y="380"/>
                      </a:lnTo>
                      <a:lnTo>
                        <a:pt x="1059" y="380"/>
                      </a:lnTo>
                      <a:lnTo>
                        <a:pt x="1052" y="346"/>
                      </a:lnTo>
                      <a:lnTo>
                        <a:pt x="1046" y="281"/>
                      </a:lnTo>
                      <a:lnTo>
                        <a:pt x="917" y="173"/>
                      </a:lnTo>
                      <a:lnTo>
                        <a:pt x="651" y="179"/>
                      </a:lnTo>
                      <a:lnTo>
                        <a:pt x="413" y="264"/>
                      </a:lnTo>
                      <a:lnTo>
                        <a:pt x="0" y="211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37280" y="1024200"/>
                  <a:ext cx="136080" cy="79920"/>
                </a:xfrm>
                <a:custGeom>
                  <a:avLst/>
                  <a:gdLst/>
                  <a:ahLst/>
                  <a:rect l="l" t="t" r="r" b="b"/>
                  <a:pathLst>
                    <a:path w="517" h="304">
                      <a:moveTo>
                        <a:pt x="0" y="133"/>
                      </a:moveTo>
                      <a:lnTo>
                        <a:pt x="91" y="245"/>
                      </a:lnTo>
                      <a:lnTo>
                        <a:pt x="279" y="304"/>
                      </a:lnTo>
                      <a:lnTo>
                        <a:pt x="410" y="276"/>
                      </a:lnTo>
                      <a:lnTo>
                        <a:pt x="517" y="255"/>
                      </a:lnTo>
                      <a:lnTo>
                        <a:pt x="425" y="257"/>
                      </a:lnTo>
                      <a:lnTo>
                        <a:pt x="338" y="217"/>
                      </a:lnTo>
                      <a:lnTo>
                        <a:pt x="268" y="131"/>
                      </a:lnTo>
                      <a:lnTo>
                        <a:pt x="228" y="0"/>
                      </a:lnTo>
                      <a:lnTo>
                        <a:pt x="216" y="27"/>
                      </a:lnTo>
                      <a:lnTo>
                        <a:pt x="192" y="52"/>
                      </a:lnTo>
                      <a:lnTo>
                        <a:pt x="152" y="72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314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25520" y="717480"/>
                  <a:ext cx="118080" cy="70560"/>
                </a:xfrm>
                <a:custGeom>
                  <a:avLst/>
                  <a:gdLst/>
                  <a:ahLst/>
                  <a:rect l="l" t="t" r="r" b="b"/>
                  <a:pathLst>
                    <a:path w="447" h="266">
                      <a:moveTo>
                        <a:pt x="0" y="260"/>
                      </a:moveTo>
                      <a:lnTo>
                        <a:pt x="36" y="236"/>
                      </a:lnTo>
                      <a:lnTo>
                        <a:pt x="74" y="211"/>
                      </a:lnTo>
                      <a:lnTo>
                        <a:pt x="122" y="179"/>
                      </a:lnTo>
                      <a:lnTo>
                        <a:pt x="173" y="146"/>
                      </a:lnTo>
                      <a:lnTo>
                        <a:pt x="226" y="112"/>
                      </a:lnTo>
                      <a:lnTo>
                        <a:pt x="274" y="82"/>
                      </a:lnTo>
                      <a:lnTo>
                        <a:pt x="314" y="59"/>
                      </a:lnTo>
                      <a:lnTo>
                        <a:pt x="373" y="27"/>
                      </a:lnTo>
                      <a:lnTo>
                        <a:pt x="414" y="8"/>
                      </a:lnTo>
                      <a:lnTo>
                        <a:pt x="447" y="0"/>
                      </a:lnTo>
                      <a:lnTo>
                        <a:pt x="418" y="15"/>
                      </a:lnTo>
                      <a:lnTo>
                        <a:pt x="350" y="59"/>
                      </a:lnTo>
                      <a:lnTo>
                        <a:pt x="308" y="89"/>
                      </a:lnTo>
                      <a:lnTo>
                        <a:pt x="264" y="123"/>
                      </a:lnTo>
                      <a:lnTo>
                        <a:pt x="222" y="160"/>
                      </a:lnTo>
                      <a:lnTo>
                        <a:pt x="184" y="198"/>
                      </a:lnTo>
                      <a:lnTo>
                        <a:pt x="154" y="230"/>
                      </a:lnTo>
                      <a:lnTo>
                        <a:pt x="129" y="251"/>
                      </a:lnTo>
                      <a:lnTo>
                        <a:pt x="97" y="266"/>
                      </a:lnTo>
                      <a:lnTo>
                        <a:pt x="76" y="258"/>
                      </a:lnTo>
                      <a:lnTo>
                        <a:pt x="0" y="260"/>
                      </a:lnTo>
                      <a:lnTo>
                        <a:pt x="0" y="2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25160" y="692640"/>
                  <a:ext cx="165240" cy="214920"/>
                </a:xfrm>
                <a:custGeom>
                  <a:avLst/>
                  <a:gdLst/>
                  <a:ahLst/>
                  <a:rect l="l" t="t" r="r" b="b"/>
                  <a:pathLst>
                    <a:path w="629" h="815">
                      <a:moveTo>
                        <a:pt x="224" y="363"/>
                      </a:moveTo>
                      <a:lnTo>
                        <a:pt x="245" y="526"/>
                      </a:lnTo>
                      <a:lnTo>
                        <a:pt x="213" y="587"/>
                      </a:lnTo>
                      <a:lnTo>
                        <a:pt x="177" y="648"/>
                      </a:lnTo>
                      <a:lnTo>
                        <a:pt x="152" y="673"/>
                      </a:lnTo>
                      <a:lnTo>
                        <a:pt x="122" y="692"/>
                      </a:lnTo>
                      <a:lnTo>
                        <a:pt x="42" y="703"/>
                      </a:lnTo>
                      <a:lnTo>
                        <a:pt x="8" y="709"/>
                      </a:lnTo>
                      <a:lnTo>
                        <a:pt x="0" y="726"/>
                      </a:lnTo>
                      <a:lnTo>
                        <a:pt x="15" y="751"/>
                      </a:lnTo>
                      <a:lnTo>
                        <a:pt x="42" y="777"/>
                      </a:lnTo>
                      <a:lnTo>
                        <a:pt x="78" y="802"/>
                      </a:lnTo>
                      <a:lnTo>
                        <a:pt x="118" y="815"/>
                      </a:lnTo>
                      <a:lnTo>
                        <a:pt x="181" y="793"/>
                      </a:lnTo>
                      <a:lnTo>
                        <a:pt x="209" y="739"/>
                      </a:lnTo>
                      <a:lnTo>
                        <a:pt x="230" y="703"/>
                      </a:lnTo>
                      <a:lnTo>
                        <a:pt x="253" y="661"/>
                      </a:lnTo>
                      <a:lnTo>
                        <a:pt x="278" y="616"/>
                      </a:lnTo>
                      <a:lnTo>
                        <a:pt x="304" y="566"/>
                      </a:lnTo>
                      <a:lnTo>
                        <a:pt x="331" y="515"/>
                      </a:lnTo>
                      <a:lnTo>
                        <a:pt x="357" y="466"/>
                      </a:lnTo>
                      <a:lnTo>
                        <a:pt x="384" y="414"/>
                      </a:lnTo>
                      <a:lnTo>
                        <a:pt x="409" y="367"/>
                      </a:lnTo>
                      <a:lnTo>
                        <a:pt x="434" y="323"/>
                      </a:lnTo>
                      <a:lnTo>
                        <a:pt x="453" y="285"/>
                      </a:lnTo>
                      <a:lnTo>
                        <a:pt x="483" y="228"/>
                      </a:lnTo>
                      <a:lnTo>
                        <a:pt x="494" y="207"/>
                      </a:lnTo>
                      <a:lnTo>
                        <a:pt x="629" y="76"/>
                      </a:lnTo>
                      <a:lnTo>
                        <a:pt x="614" y="0"/>
                      </a:lnTo>
                      <a:lnTo>
                        <a:pt x="595" y="13"/>
                      </a:lnTo>
                      <a:lnTo>
                        <a:pt x="548" y="49"/>
                      </a:lnTo>
                      <a:lnTo>
                        <a:pt x="515" y="72"/>
                      </a:lnTo>
                      <a:lnTo>
                        <a:pt x="479" y="99"/>
                      </a:lnTo>
                      <a:lnTo>
                        <a:pt x="441" y="129"/>
                      </a:lnTo>
                      <a:lnTo>
                        <a:pt x="401" y="160"/>
                      </a:lnTo>
                      <a:lnTo>
                        <a:pt x="363" y="192"/>
                      </a:lnTo>
                      <a:lnTo>
                        <a:pt x="327" y="222"/>
                      </a:lnTo>
                      <a:lnTo>
                        <a:pt x="295" y="253"/>
                      </a:lnTo>
                      <a:lnTo>
                        <a:pt x="266" y="281"/>
                      </a:lnTo>
                      <a:lnTo>
                        <a:pt x="224" y="363"/>
                      </a:lnTo>
                      <a:lnTo>
                        <a:pt x="224" y="3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35760" y="517320"/>
                  <a:ext cx="303480" cy="81000"/>
                </a:xfrm>
                <a:custGeom>
                  <a:avLst/>
                  <a:gdLst/>
                  <a:ahLst/>
                  <a:rect l="l" t="t" r="r" b="b"/>
                  <a:pathLst>
                    <a:path w="1152" h="308">
                      <a:moveTo>
                        <a:pt x="32" y="237"/>
                      </a:moveTo>
                      <a:lnTo>
                        <a:pt x="536" y="308"/>
                      </a:lnTo>
                      <a:lnTo>
                        <a:pt x="473" y="271"/>
                      </a:lnTo>
                      <a:lnTo>
                        <a:pt x="450" y="232"/>
                      </a:lnTo>
                      <a:lnTo>
                        <a:pt x="460" y="211"/>
                      </a:lnTo>
                      <a:lnTo>
                        <a:pt x="486" y="190"/>
                      </a:lnTo>
                      <a:lnTo>
                        <a:pt x="526" y="167"/>
                      </a:lnTo>
                      <a:lnTo>
                        <a:pt x="566" y="150"/>
                      </a:lnTo>
                      <a:lnTo>
                        <a:pt x="654" y="119"/>
                      </a:lnTo>
                      <a:lnTo>
                        <a:pt x="747" y="97"/>
                      </a:lnTo>
                      <a:lnTo>
                        <a:pt x="849" y="76"/>
                      </a:lnTo>
                      <a:lnTo>
                        <a:pt x="1152" y="47"/>
                      </a:lnTo>
                      <a:lnTo>
                        <a:pt x="1011" y="15"/>
                      </a:lnTo>
                      <a:lnTo>
                        <a:pt x="785" y="3"/>
                      </a:lnTo>
                      <a:lnTo>
                        <a:pt x="650" y="0"/>
                      </a:lnTo>
                      <a:lnTo>
                        <a:pt x="448" y="36"/>
                      </a:lnTo>
                      <a:lnTo>
                        <a:pt x="237" y="102"/>
                      </a:lnTo>
                      <a:lnTo>
                        <a:pt x="38" y="190"/>
                      </a:lnTo>
                      <a:lnTo>
                        <a:pt x="0" y="264"/>
                      </a:lnTo>
                      <a:lnTo>
                        <a:pt x="32" y="237"/>
                      </a:lnTo>
                      <a:lnTo>
                        <a:pt x="32" y="237"/>
                      </a:lnTo>
                      <a:close/>
                    </a:path>
                  </a:pathLst>
                </a:custGeom>
                <a:solidFill>
                  <a:srgbClr val="fff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964800" y="701280"/>
                  <a:ext cx="225000" cy="225360"/>
                </a:xfrm>
                <a:custGeom>
                  <a:avLst/>
                  <a:gdLst/>
                  <a:ahLst/>
                  <a:rect l="l" t="t" r="r" b="b"/>
                  <a:pathLst>
                    <a:path w="853" h="856">
                      <a:moveTo>
                        <a:pt x="5" y="804"/>
                      </a:moveTo>
                      <a:lnTo>
                        <a:pt x="87" y="578"/>
                      </a:lnTo>
                      <a:lnTo>
                        <a:pt x="89" y="650"/>
                      </a:lnTo>
                      <a:lnTo>
                        <a:pt x="169" y="512"/>
                      </a:lnTo>
                      <a:lnTo>
                        <a:pt x="152" y="629"/>
                      </a:lnTo>
                      <a:lnTo>
                        <a:pt x="230" y="464"/>
                      </a:lnTo>
                      <a:lnTo>
                        <a:pt x="243" y="588"/>
                      </a:lnTo>
                      <a:lnTo>
                        <a:pt x="274" y="390"/>
                      </a:lnTo>
                      <a:lnTo>
                        <a:pt x="310" y="232"/>
                      </a:lnTo>
                      <a:lnTo>
                        <a:pt x="332" y="166"/>
                      </a:lnTo>
                      <a:lnTo>
                        <a:pt x="359" y="114"/>
                      </a:lnTo>
                      <a:lnTo>
                        <a:pt x="388" y="80"/>
                      </a:lnTo>
                      <a:lnTo>
                        <a:pt x="416" y="53"/>
                      </a:lnTo>
                      <a:lnTo>
                        <a:pt x="469" y="23"/>
                      </a:lnTo>
                      <a:lnTo>
                        <a:pt x="524" y="10"/>
                      </a:lnTo>
                      <a:lnTo>
                        <a:pt x="589" y="0"/>
                      </a:lnTo>
                      <a:lnTo>
                        <a:pt x="644" y="12"/>
                      </a:lnTo>
                      <a:lnTo>
                        <a:pt x="694" y="55"/>
                      </a:lnTo>
                      <a:lnTo>
                        <a:pt x="736" y="131"/>
                      </a:lnTo>
                      <a:lnTo>
                        <a:pt x="770" y="217"/>
                      </a:lnTo>
                      <a:lnTo>
                        <a:pt x="806" y="312"/>
                      </a:lnTo>
                      <a:lnTo>
                        <a:pt x="853" y="420"/>
                      </a:lnTo>
                      <a:lnTo>
                        <a:pt x="682" y="550"/>
                      </a:lnTo>
                      <a:lnTo>
                        <a:pt x="690" y="481"/>
                      </a:lnTo>
                      <a:lnTo>
                        <a:pt x="701" y="274"/>
                      </a:lnTo>
                      <a:lnTo>
                        <a:pt x="652" y="183"/>
                      </a:lnTo>
                      <a:lnTo>
                        <a:pt x="570" y="185"/>
                      </a:lnTo>
                      <a:lnTo>
                        <a:pt x="545" y="207"/>
                      </a:lnTo>
                      <a:lnTo>
                        <a:pt x="490" y="264"/>
                      </a:lnTo>
                      <a:lnTo>
                        <a:pt x="433" y="344"/>
                      </a:lnTo>
                      <a:lnTo>
                        <a:pt x="399" y="432"/>
                      </a:lnTo>
                      <a:lnTo>
                        <a:pt x="372" y="608"/>
                      </a:lnTo>
                      <a:lnTo>
                        <a:pt x="357" y="698"/>
                      </a:lnTo>
                      <a:lnTo>
                        <a:pt x="355" y="770"/>
                      </a:lnTo>
                      <a:lnTo>
                        <a:pt x="112" y="852"/>
                      </a:lnTo>
                      <a:lnTo>
                        <a:pt x="0" y="856"/>
                      </a:lnTo>
                      <a:lnTo>
                        <a:pt x="5" y="804"/>
                      </a:lnTo>
                      <a:lnTo>
                        <a:pt x="5" y="80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040400" y="691200"/>
                  <a:ext cx="105840" cy="99360"/>
                </a:xfrm>
                <a:custGeom>
                  <a:avLst/>
                  <a:gdLst/>
                  <a:ahLst/>
                  <a:rect l="l" t="t" r="r" b="b"/>
                  <a:pathLst>
                    <a:path w="403" h="378">
                      <a:moveTo>
                        <a:pt x="0" y="378"/>
                      </a:moveTo>
                      <a:lnTo>
                        <a:pt x="9" y="244"/>
                      </a:lnTo>
                      <a:lnTo>
                        <a:pt x="25" y="186"/>
                      </a:lnTo>
                      <a:lnTo>
                        <a:pt x="47" y="129"/>
                      </a:lnTo>
                      <a:lnTo>
                        <a:pt x="84" y="78"/>
                      </a:lnTo>
                      <a:lnTo>
                        <a:pt x="106" y="55"/>
                      </a:lnTo>
                      <a:lnTo>
                        <a:pt x="133" y="34"/>
                      </a:lnTo>
                      <a:lnTo>
                        <a:pt x="186" y="8"/>
                      </a:lnTo>
                      <a:lnTo>
                        <a:pt x="238" y="0"/>
                      </a:lnTo>
                      <a:lnTo>
                        <a:pt x="323" y="23"/>
                      </a:lnTo>
                      <a:lnTo>
                        <a:pt x="380" y="63"/>
                      </a:lnTo>
                      <a:lnTo>
                        <a:pt x="403" y="84"/>
                      </a:lnTo>
                      <a:lnTo>
                        <a:pt x="386" y="74"/>
                      </a:lnTo>
                      <a:lnTo>
                        <a:pt x="340" y="65"/>
                      </a:lnTo>
                      <a:lnTo>
                        <a:pt x="272" y="76"/>
                      </a:lnTo>
                      <a:lnTo>
                        <a:pt x="182" y="133"/>
                      </a:lnTo>
                      <a:lnTo>
                        <a:pt x="99" y="221"/>
                      </a:lnTo>
                      <a:lnTo>
                        <a:pt x="42" y="299"/>
                      </a:lnTo>
                      <a:lnTo>
                        <a:pt x="0" y="378"/>
                      </a:lnTo>
                      <a:lnTo>
                        <a:pt x="0" y="37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04880" y="762840"/>
                  <a:ext cx="259560" cy="230760"/>
                </a:xfrm>
                <a:custGeom>
                  <a:avLst/>
                  <a:gdLst/>
                  <a:ahLst/>
                  <a:rect l="l" t="t" r="r" b="b"/>
                  <a:pathLst>
                    <a:path w="985" h="876">
                      <a:moveTo>
                        <a:pt x="0" y="876"/>
                      </a:moveTo>
                      <a:lnTo>
                        <a:pt x="40" y="852"/>
                      </a:lnTo>
                      <a:lnTo>
                        <a:pt x="82" y="823"/>
                      </a:lnTo>
                      <a:lnTo>
                        <a:pt x="129" y="789"/>
                      </a:lnTo>
                      <a:lnTo>
                        <a:pt x="179" y="751"/>
                      </a:lnTo>
                      <a:lnTo>
                        <a:pt x="224" y="713"/>
                      </a:lnTo>
                      <a:lnTo>
                        <a:pt x="279" y="644"/>
                      </a:lnTo>
                      <a:lnTo>
                        <a:pt x="321" y="354"/>
                      </a:lnTo>
                      <a:lnTo>
                        <a:pt x="342" y="259"/>
                      </a:lnTo>
                      <a:lnTo>
                        <a:pt x="371" y="171"/>
                      </a:lnTo>
                      <a:lnTo>
                        <a:pt x="390" y="131"/>
                      </a:lnTo>
                      <a:lnTo>
                        <a:pt x="413" y="97"/>
                      </a:lnTo>
                      <a:lnTo>
                        <a:pt x="437" y="67"/>
                      </a:lnTo>
                      <a:lnTo>
                        <a:pt x="466" y="44"/>
                      </a:lnTo>
                      <a:lnTo>
                        <a:pt x="525" y="15"/>
                      </a:lnTo>
                      <a:lnTo>
                        <a:pt x="578" y="0"/>
                      </a:lnTo>
                      <a:lnTo>
                        <a:pt x="664" y="8"/>
                      </a:lnTo>
                      <a:lnTo>
                        <a:pt x="732" y="44"/>
                      </a:lnTo>
                      <a:lnTo>
                        <a:pt x="749" y="53"/>
                      </a:lnTo>
                      <a:lnTo>
                        <a:pt x="798" y="78"/>
                      </a:lnTo>
                      <a:lnTo>
                        <a:pt x="848" y="105"/>
                      </a:lnTo>
                      <a:lnTo>
                        <a:pt x="873" y="116"/>
                      </a:lnTo>
                      <a:lnTo>
                        <a:pt x="958" y="257"/>
                      </a:lnTo>
                      <a:lnTo>
                        <a:pt x="985" y="378"/>
                      </a:lnTo>
                      <a:lnTo>
                        <a:pt x="899" y="285"/>
                      </a:lnTo>
                      <a:lnTo>
                        <a:pt x="728" y="289"/>
                      </a:lnTo>
                      <a:lnTo>
                        <a:pt x="451" y="635"/>
                      </a:lnTo>
                      <a:lnTo>
                        <a:pt x="274" y="863"/>
                      </a:lnTo>
                      <a:lnTo>
                        <a:pt x="0" y="876"/>
                      </a:lnTo>
                      <a:lnTo>
                        <a:pt x="0" y="876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48160" y="591840"/>
                  <a:ext cx="238320" cy="175680"/>
                </a:xfrm>
                <a:custGeom>
                  <a:avLst/>
                  <a:gdLst/>
                  <a:ahLst/>
                  <a:rect l="l" t="t" r="r" b="b"/>
                  <a:pathLst>
                    <a:path w="905" h="667">
                      <a:moveTo>
                        <a:pt x="0" y="561"/>
                      </a:moveTo>
                      <a:lnTo>
                        <a:pt x="146" y="667"/>
                      </a:lnTo>
                      <a:lnTo>
                        <a:pt x="585" y="460"/>
                      </a:lnTo>
                      <a:lnTo>
                        <a:pt x="905" y="207"/>
                      </a:lnTo>
                      <a:lnTo>
                        <a:pt x="817" y="70"/>
                      </a:lnTo>
                      <a:lnTo>
                        <a:pt x="701" y="4"/>
                      </a:lnTo>
                      <a:lnTo>
                        <a:pt x="540" y="0"/>
                      </a:lnTo>
                      <a:lnTo>
                        <a:pt x="405" y="46"/>
                      </a:lnTo>
                      <a:lnTo>
                        <a:pt x="228" y="131"/>
                      </a:lnTo>
                      <a:lnTo>
                        <a:pt x="95" y="253"/>
                      </a:lnTo>
                      <a:lnTo>
                        <a:pt x="36" y="435"/>
                      </a:lnTo>
                      <a:lnTo>
                        <a:pt x="0" y="561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82560" y="835560"/>
                  <a:ext cx="107280" cy="117360"/>
                </a:xfrm>
                <a:custGeom>
                  <a:avLst/>
                  <a:gdLst/>
                  <a:ahLst/>
                  <a:rect l="l" t="t" r="r" b="b"/>
                  <a:pathLst>
                    <a:path w="407" h="446">
                      <a:moveTo>
                        <a:pt x="0" y="328"/>
                      </a:moveTo>
                      <a:lnTo>
                        <a:pt x="65" y="93"/>
                      </a:lnTo>
                      <a:lnTo>
                        <a:pt x="190" y="11"/>
                      </a:lnTo>
                      <a:lnTo>
                        <a:pt x="236" y="3"/>
                      </a:lnTo>
                      <a:lnTo>
                        <a:pt x="301" y="0"/>
                      </a:lnTo>
                      <a:lnTo>
                        <a:pt x="350" y="15"/>
                      </a:lnTo>
                      <a:lnTo>
                        <a:pt x="382" y="59"/>
                      </a:lnTo>
                      <a:lnTo>
                        <a:pt x="407" y="205"/>
                      </a:lnTo>
                      <a:lnTo>
                        <a:pt x="400" y="277"/>
                      </a:lnTo>
                      <a:lnTo>
                        <a:pt x="373" y="330"/>
                      </a:lnTo>
                      <a:lnTo>
                        <a:pt x="348" y="351"/>
                      </a:lnTo>
                      <a:lnTo>
                        <a:pt x="320" y="372"/>
                      </a:lnTo>
                      <a:lnTo>
                        <a:pt x="259" y="408"/>
                      </a:lnTo>
                      <a:lnTo>
                        <a:pt x="209" y="435"/>
                      </a:lnTo>
                      <a:lnTo>
                        <a:pt x="189" y="446"/>
                      </a:lnTo>
                      <a:lnTo>
                        <a:pt x="38" y="412"/>
                      </a:lnTo>
                      <a:lnTo>
                        <a:pt x="0" y="328"/>
                      </a:lnTo>
                      <a:lnTo>
                        <a:pt x="0" y="328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14000" y="783360"/>
                  <a:ext cx="79560" cy="96840"/>
                </a:xfrm>
                <a:custGeom>
                  <a:avLst/>
                  <a:gdLst/>
                  <a:ahLst/>
                  <a:rect l="l" t="t" r="r" b="b"/>
                  <a:pathLst>
                    <a:path w="303" h="369">
                      <a:moveTo>
                        <a:pt x="0" y="257"/>
                      </a:moveTo>
                      <a:lnTo>
                        <a:pt x="8" y="171"/>
                      </a:lnTo>
                      <a:lnTo>
                        <a:pt x="29" y="99"/>
                      </a:lnTo>
                      <a:lnTo>
                        <a:pt x="44" y="65"/>
                      </a:lnTo>
                      <a:lnTo>
                        <a:pt x="67" y="38"/>
                      </a:lnTo>
                      <a:lnTo>
                        <a:pt x="105" y="6"/>
                      </a:lnTo>
                      <a:lnTo>
                        <a:pt x="124" y="0"/>
                      </a:lnTo>
                      <a:lnTo>
                        <a:pt x="131" y="9"/>
                      </a:lnTo>
                      <a:lnTo>
                        <a:pt x="238" y="25"/>
                      </a:lnTo>
                      <a:lnTo>
                        <a:pt x="303" y="122"/>
                      </a:lnTo>
                      <a:lnTo>
                        <a:pt x="247" y="253"/>
                      </a:lnTo>
                      <a:lnTo>
                        <a:pt x="122" y="369"/>
                      </a:lnTo>
                      <a:lnTo>
                        <a:pt x="0" y="257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919800" y="601560"/>
                  <a:ext cx="166680" cy="146880"/>
                </a:xfrm>
                <a:custGeom>
                  <a:avLst/>
                  <a:gdLst/>
                  <a:ahLst/>
                  <a:rect l="l" t="t" r="r" b="b"/>
                  <a:pathLst>
                    <a:path w="633" h="559">
                      <a:moveTo>
                        <a:pt x="0" y="559"/>
                      </a:moveTo>
                      <a:lnTo>
                        <a:pt x="24" y="542"/>
                      </a:lnTo>
                      <a:lnTo>
                        <a:pt x="55" y="521"/>
                      </a:lnTo>
                      <a:lnTo>
                        <a:pt x="93" y="494"/>
                      </a:lnTo>
                      <a:lnTo>
                        <a:pt x="137" y="464"/>
                      </a:lnTo>
                      <a:lnTo>
                        <a:pt x="186" y="428"/>
                      </a:lnTo>
                      <a:lnTo>
                        <a:pt x="237" y="388"/>
                      </a:lnTo>
                      <a:lnTo>
                        <a:pt x="289" y="344"/>
                      </a:lnTo>
                      <a:lnTo>
                        <a:pt x="340" y="298"/>
                      </a:lnTo>
                      <a:lnTo>
                        <a:pt x="387" y="253"/>
                      </a:lnTo>
                      <a:lnTo>
                        <a:pt x="429" y="205"/>
                      </a:lnTo>
                      <a:lnTo>
                        <a:pt x="464" y="160"/>
                      </a:lnTo>
                      <a:lnTo>
                        <a:pt x="502" y="74"/>
                      </a:lnTo>
                      <a:lnTo>
                        <a:pt x="486" y="0"/>
                      </a:lnTo>
                      <a:lnTo>
                        <a:pt x="513" y="19"/>
                      </a:lnTo>
                      <a:lnTo>
                        <a:pt x="540" y="40"/>
                      </a:lnTo>
                      <a:lnTo>
                        <a:pt x="570" y="66"/>
                      </a:lnTo>
                      <a:lnTo>
                        <a:pt x="633" y="158"/>
                      </a:lnTo>
                      <a:lnTo>
                        <a:pt x="604" y="188"/>
                      </a:lnTo>
                      <a:lnTo>
                        <a:pt x="572" y="224"/>
                      </a:lnTo>
                      <a:lnTo>
                        <a:pt x="541" y="253"/>
                      </a:lnTo>
                      <a:lnTo>
                        <a:pt x="530" y="266"/>
                      </a:lnTo>
                      <a:lnTo>
                        <a:pt x="194" y="477"/>
                      </a:lnTo>
                      <a:lnTo>
                        <a:pt x="0" y="559"/>
                      </a:lnTo>
                      <a:lnTo>
                        <a:pt x="0" y="559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87360" y="910080"/>
                  <a:ext cx="411840" cy="150480"/>
                </a:xfrm>
                <a:custGeom>
                  <a:avLst/>
                  <a:gdLst/>
                  <a:ahLst/>
                  <a:rect l="l" t="t" r="r" b="b"/>
                  <a:pathLst>
                    <a:path w="1561" h="570">
                      <a:moveTo>
                        <a:pt x="6" y="127"/>
                      </a:moveTo>
                      <a:lnTo>
                        <a:pt x="0" y="61"/>
                      </a:lnTo>
                      <a:lnTo>
                        <a:pt x="10" y="15"/>
                      </a:lnTo>
                      <a:lnTo>
                        <a:pt x="42" y="0"/>
                      </a:lnTo>
                      <a:lnTo>
                        <a:pt x="96" y="32"/>
                      </a:lnTo>
                      <a:lnTo>
                        <a:pt x="151" y="87"/>
                      </a:lnTo>
                      <a:lnTo>
                        <a:pt x="192" y="144"/>
                      </a:lnTo>
                      <a:lnTo>
                        <a:pt x="208" y="167"/>
                      </a:lnTo>
                      <a:lnTo>
                        <a:pt x="225" y="180"/>
                      </a:lnTo>
                      <a:lnTo>
                        <a:pt x="270" y="213"/>
                      </a:lnTo>
                      <a:lnTo>
                        <a:pt x="303" y="234"/>
                      </a:lnTo>
                      <a:lnTo>
                        <a:pt x="341" y="256"/>
                      </a:lnTo>
                      <a:lnTo>
                        <a:pt x="383" y="281"/>
                      </a:lnTo>
                      <a:lnTo>
                        <a:pt x="430" y="306"/>
                      </a:lnTo>
                      <a:lnTo>
                        <a:pt x="480" y="331"/>
                      </a:lnTo>
                      <a:lnTo>
                        <a:pt x="533" y="353"/>
                      </a:lnTo>
                      <a:lnTo>
                        <a:pt x="588" y="374"/>
                      </a:lnTo>
                      <a:lnTo>
                        <a:pt x="643" y="391"/>
                      </a:lnTo>
                      <a:lnTo>
                        <a:pt x="759" y="412"/>
                      </a:lnTo>
                      <a:lnTo>
                        <a:pt x="871" y="409"/>
                      </a:lnTo>
                      <a:lnTo>
                        <a:pt x="1162" y="374"/>
                      </a:lnTo>
                      <a:lnTo>
                        <a:pt x="1232" y="376"/>
                      </a:lnTo>
                      <a:lnTo>
                        <a:pt x="1314" y="353"/>
                      </a:lnTo>
                      <a:lnTo>
                        <a:pt x="1404" y="327"/>
                      </a:lnTo>
                      <a:lnTo>
                        <a:pt x="1425" y="313"/>
                      </a:lnTo>
                      <a:lnTo>
                        <a:pt x="1461" y="294"/>
                      </a:lnTo>
                      <a:lnTo>
                        <a:pt x="1502" y="281"/>
                      </a:lnTo>
                      <a:lnTo>
                        <a:pt x="1537" y="281"/>
                      </a:lnTo>
                      <a:lnTo>
                        <a:pt x="1561" y="367"/>
                      </a:lnTo>
                      <a:lnTo>
                        <a:pt x="1552" y="454"/>
                      </a:lnTo>
                      <a:lnTo>
                        <a:pt x="1535" y="488"/>
                      </a:lnTo>
                      <a:lnTo>
                        <a:pt x="1525" y="507"/>
                      </a:lnTo>
                      <a:lnTo>
                        <a:pt x="1198" y="570"/>
                      </a:lnTo>
                      <a:lnTo>
                        <a:pt x="727" y="532"/>
                      </a:lnTo>
                      <a:lnTo>
                        <a:pt x="402" y="437"/>
                      </a:lnTo>
                      <a:lnTo>
                        <a:pt x="101" y="236"/>
                      </a:lnTo>
                      <a:lnTo>
                        <a:pt x="6" y="127"/>
                      </a:lnTo>
                      <a:lnTo>
                        <a:pt x="6" y="127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12360" y="809280"/>
                  <a:ext cx="355320" cy="246960"/>
                </a:xfrm>
                <a:custGeom>
                  <a:avLst/>
                  <a:gdLst/>
                  <a:ahLst/>
                  <a:rect l="l" t="t" r="r" b="b"/>
                  <a:pathLst>
                    <a:path w="1348" h="937">
                      <a:moveTo>
                        <a:pt x="415" y="800"/>
                      </a:moveTo>
                      <a:lnTo>
                        <a:pt x="458" y="773"/>
                      </a:lnTo>
                      <a:lnTo>
                        <a:pt x="506" y="737"/>
                      </a:lnTo>
                      <a:lnTo>
                        <a:pt x="534" y="713"/>
                      </a:lnTo>
                      <a:lnTo>
                        <a:pt x="565" y="686"/>
                      </a:lnTo>
                      <a:lnTo>
                        <a:pt x="629" y="618"/>
                      </a:lnTo>
                      <a:lnTo>
                        <a:pt x="662" y="578"/>
                      </a:lnTo>
                      <a:lnTo>
                        <a:pt x="696" y="532"/>
                      </a:lnTo>
                      <a:lnTo>
                        <a:pt x="728" y="483"/>
                      </a:lnTo>
                      <a:lnTo>
                        <a:pt x="759" y="427"/>
                      </a:lnTo>
                      <a:lnTo>
                        <a:pt x="814" y="304"/>
                      </a:lnTo>
                      <a:lnTo>
                        <a:pt x="848" y="249"/>
                      </a:lnTo>
                      <a:lnTo>
                        <a:pt x="879" y="199"/>
                      </a:lnTo>
                      <a:lnTo>
                        <a:pt x="907" y="158"/>
                      </a:lnTo>
                      <a:lnTo>
                        <a:pt x="934" y="123"/>
                      </a:lnTo>
                      <a:lnTo>
                        <a:pt x="981" y="70"/>
                      </a:lnTo>
                      <a:lnTo>
                        <a:pt x="1017" y="36"/>
                      </a:lnTo>
                      <a:lnTo>
                        <a:pt x="1074" y="7"/>
                      </a:lnTo>
                      <a:lnTo>
                        <a:pt x="1110" y="0"/>
                      </a:lnTo>
                      <a:lnTo>
                        <a:pt x="1192" y="9"/>
                      </a:lnTo>
                      <a:lnTo>
                        <a:pt x="1244" y="44"/>
                      </a:lnTo>
                      <a:lnTo>
                        <a:pt x="1297" y="106"/>
                      </a:lnTo>
                      <a:lnTo>
                        <a:pt x="1339" y="226"/>
                      </a:lnTo>
                      <a:lnTo>
                        <a:pt x="1333" y="264"/>
                      </a:lnTo>
                      <a:lnTo>
                        <a:pt x="1348" y="452"/>
                      </a:lnTo>
                      <a:lnTo>
                        <a:pt x="1293" y="502"/>
                      </a:lnTo>
                      <a:lnTo>
                        <a:pt x="1232" y="245"/>
                      </a:lnTo>
                      <a:lnTo>
                        <a:pt x="1040" y="209"/>
                      </a:lnTo>
                      <a:lnTo>
                        <a:pt x="939" y="304"/>
                      </a:lnTo>
                      <a:lnTo>
                        <a:pt x="793" y="523"/>
                      </a:lnTo>
                      <a:lnTo>
                        <a:pt x="717" y="851"/>
                      </a:lnTo>
                      <a:lnTo>
                        <a:pt x="744" y="906"/>
                      </a:lnTo>
                      <a:lnTo>
                        <a:pt x="430" y="937"/>
                      </a:lnTo>
                      <a:lnTo>
                        <a:pt x="0" y="912"/>
                      </a:lnTo>
                      <a:lnTo>
                        <a:pt x="415" y="800"/>
                      </a:lnTo>
                      <a:lnTo>
                        <a:pt x="415" y="80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6080" y="581040"/>
                  <a:ext cx="285840" cy="159480"/>
                </a:xfrm>
                <a:custGeom>
                  <a:avLst/>
                  <a:gdLst/>
                  <a:ahLst/>
                  <a:rect l="l" t="t" r="r" b="b"/>
                  <a:pathLst>
                    <a:path w="1086" h="606">
                      <a:moveTo>
                        <a:pt x="0" y="393"/>
                      </a:moveTo>
                      <a:lnTo>
                        <a:pt x="187" y="25"/>
                      </a:lnTo>
                      <a:lnTo>
                        <a:pt x="358" y="0"/>
                      </a:lnTo>
                      <a:lnTo>
                        <a:pt x="1046" y="150"/>
                      </a:lnTo>
                      <a:lnTo>
                        <a:pt x="1086" y="287"/>
                      </a:lnTo>
                      <a:lnTo>
                        <a:pt x="1016" y="565"/>
                      </a:lnTo>
                      <a:lnTo>
                        <a:pt x="940" y="606"/>
                      </a:lnTo>
                      <a:lnTo>
                        <a:pt x="223" y="570"/>
                      </a:lnTo>
                      <a:lnTo>
                        <a:pt x="19" y="475"/>
                      </a:lnTo>
                      <a:lnTo>
                        <a:pt x="0" y="393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a0e5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27840" y="601560"/>
                  <a:ext cx="221040" cy="131040"/>
                </a:xfrm>
                <a:custGeom>
                  <a:avLst/>
                  <a:gdLst/>
                  <a:ahLst/>
                  <a:rect l="l" t="t" r="r" b="b"/>
                  <a:pathLst>
                    <a:path w="839" h="498">
                      <a:moveTo>
                        <a:pt x="590" y="0"/>
                      </a:moveTo>
                      <a:lnTo>
                        <a:pt x="576" y="19"/>
                      </a:lnTo>
                      <a:lnTo>
                        <a:pt x="538" y="68"/>
                      </a:lnTo>
                      <a:lnTo>
                        <a:pt x="481" y="139"/>
                      </a:lnTo>
                      <a:lnTo>
                        <a:pt x="447" y="179"/>
                      </a:lnTo>
                      <a:lnTo>
                        <a:pt x="409" y="220"/>
                      </a:lnTo>
                      <a:lnTo>
                        <a:pt x="369" y="262"/>
                      </a:lnTo>
                      <a:lnTo>
                        <a:pt x="325" y="304"/>
                      </a:lnTo>
                      <a:lnTo>
                        <a:pt x="282" y="344"/>
                      </a:lnTo>
                      <a:lnTo>
                        <a:pt x="238" y="380"/>
                      </a:lnTo>
                      <a:lnTo>
                        <a:pt x="194" y="411"/>
                      </a:lnTo>
                      <a:lnTo>
                        <a:pt x="148" y="437"/>
                      </a:lnTo>
                      <a:lnTo>
                        <a:pt x="65" y="468"/>
                      </a:lnTo>
                      <a:lnTo>
                        <a:pt x="0" y="485"/>
                      </a:lnTo>
                      <a:lnTo>
                        <a:pt x="67" y="494"/>
                      </a:lnTo>
                      <a:lnTo>
                        <a:pt x="232" y="498"/>
                      </a:lnTo>
                      <a:lnTo>
                        <a:pt x="331" y="462"/>
                      </a:lnTo>
                      <a:lnTo>
                        <a:pt x="430" y="416"/>
                      </a:lnTo>
                      <a:lnTo>
                        <a:pt x="487" y="392"/>
                      </a:lnTo>
                      <a:lnTo>
                        <a:pt x="544" y="361"/>
                      </a:lnTo>
                      <a:lnTo>
                        <a:pt x="601" y="329"/>
                      </a:lnTo>
                      <a:lnTo>
                        <a:pt x="656" y="295"/>
                      </a:lnTo>
                      <a:lnTo>
                        <a:pt x="707" y="258"/>
                      </a:lnTo>
                      <a:lnTo>
                        <a:pt x="753" y="222"/>
                      </a:lnTo>
                      <a:lnTo>
                        <a:pt x="820" y="144"/>
                      </a:lnTo>
                      <a:lnTo>
                        <a:pt x="839" y="65"/>
                      </a:lnTo>
                      <a:lnTo>
                        <a:pt x="590" y="0"/>
                      </a:lnTo>
                      <a:lnTo>
                        <a:pt x="59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21560" y="808920"/>
                  <a:ext cx="65160" cy="72360"/>
                </a:xfrm>
                <a:custGeom>
                  <a:avLst/>
                  <a:gdLst/>
                  <a:ahLst/>
                  <a:rect l="l" t="t" r="r" b="b"/>
                  <a:pathLst>
                    <a:path w="249" h="276">
                      <a:moveTo>
                        <a:pt x="0" y="192"/>
                      </a:moveTo>
                      <a:lnTo>
                        <a:pt x="80" y="184"/>
                      </a:lnTo>
                      <a:lnTo>
                        <a:pt x="161" y="129"/>
                      </a:lnTo>
                      <a:lnTo>
                        <a:pt x="205" y="76"/>
                      </a:lnTo>
                      <a:lnTo>
                        <a:pt x="249" y="0"/>
                      </a:lnTo>
                      <a:lnTo>
                        <a:pt x="222" y="209"/>
                      </a:lnTo>
                      <a:lnTo>
                        <a:pt x="112" y="276"/>
                      </a:lnTo>
                      <a:lnTo>
                        <a:pt x="0" y="192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5960" y="853560"/>
                  <a:ext cx="156960" cy="244440"/>
                </a:xfrm>
                <a:custGeom>
                  <a:avLst/>
                  <a:gdLst/>
                  <a:ahLst/>
                  <a:rect l="l" t="t" r="r" b="b"/>
                  <a:pathLst>
                    <a:path w="595" h="928">
                      <a:moveTo>
                        <a:pt x="0" y="726"/>
                      </a:moveTo>
                      <a:lnTo>
                        <a:pt x="23" y="774"/>
                      </a:lnTo>
                      <a:lnTo>
                        <a:pt x="49" y="817"/>
                      </a:lnTo>
                      <a:lnTo>
                        <a:pt x="86" y="865"/>
                      </a:lnTo>
                      <a:lnTo>
                        <a:pt x="106" y="886"/>
                      </a:lnTo>
                      <a:lnTo>
                        <a:pt x="131" y="905"/>
                      </a:lnTo>
                      <a:lnTo>
                        <a:pt x="183" y="928"/>
                      </a:lnTo>
                      <a:lnTo>
                        <a:pt x="241" y="926"/>
                      </a:lnTo>
                      <a:lnTo>
                        <a:pt x="306" y="888"/>
                      </a:lnTo>
                      <a:lnTo>
                        <a:pt x="338" y="857"/>
                      </a:lnTo>
                      <a:lnTo>
                        <a:pt x="369" y="825"/>
                      </a:lnTo>
                      <a:lnTo>
                        <a:pt x="424" y="760"/>
                      </a:lnTo>
                      <a:lnTo>
                        <a:pt x="472" y="698"/>
                      </a:lnTo>
                      <a:lnTo>
                        <a:pt x="510" y="639"/>
                      </a:lnTo>
                      <a:lnTo>
                        <a:pt x="538" y="586"/>
                      </a:lnTo>
                      <a:lnTo>
                        <a:pt x="559" y="544"/>
                      </a:lnTo>
                      <a:lnTo>
                        <a:pt x="576" y="508"/>
                      </a:lnTo>
                      <a:lnTo>
                        <a:pt x="595" y="169"/>
                      </a:lnTo>
                      <a:lnTo>
                        <a:pt x="511" y="25"/>
                      </a:lnTo>
                      <a:lnTo>
                        <a:pt x="335" y="0"/>
                      </a:lnTo>
                      <a:lnTo>
                        <a:pt x="127" y="300"/>
                      </a:lnTo>
                      <a:lnTo>
                        <a:pt x="116" y="335"/>
                      </a:lnTo>
                      <a:lnTo>
                        <a:pt x="91" y="413"/>
                      </a:lnTo>
                      <a:lnTo>
                        <a:pt x="61" y="509"/>
                      </a:lnTo>
                      <a:lnTo>
                        <a:pt x="42" y="595"/>
                      </a:lnTo>
                      <a:lnTo>
                        <a:pt x="15" y="694"/>
                      </a:lnTo>
                      <a:lnTo>
                        <a:pt x="0" y="726"/>
                      </a:lnTo>
                      <a:lnTo>
                        <a:pt x="0" y="726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58240" y="914760"/>
                  <a:ext cx="62280" cy="123480"/>
                </a:xfrm>
                <a:custGeom>
                  <a:avLst/>
                  <a:gdLst/>
                  <a:ahLst/>
                  <a:rect l="l" t="t" r="r" b="b"/>
                  <a:pathLst>
                    <a:path w="236" h="469">
                      <a:moveTo>
                        <a:pt x="156" y="0"/>
                      </a:moveTo>
                      <a:lnTo>
                        <a:pt x="57" y="80"/>
                      </a:lnTo>
                      <a:lnTo>
                        <a:pt x="2" y="382"/>
                      </a:lnTo>
                      <a:lnTo>
                        <a:pt x="0" y="367"/>
                      </a:lnTo>
                      <a:lnTo>
                        <a:pt x="15" y="439"/>
                      </a:lnTo>
                      <a:lnTo>
                        <a:pt x="30" y="468"/>
                      </a:lnTo>
                      <a:lnTo>
                        <a:pt x="49" y="469"/>
                      </a:lnTo>
                      <a:lnTo>
                        <a:pt x="102" y="420"/>
                      </a:lnTo>
                      <a:lnTo>
                        <a:pt x="150" y="350"/>
                      </a:lnTo>
                      <a:lnTo>
                        <a:pt x="171" y="314"/>
                      </a:lnTo>
                      <a:lnTo>
                        <a:pt x="184" y="279"/>
                      </a:lnTo>
                      <a:lnTo>
                        <a:pt x="209" y="201"/>
                      </a:lnTo>
                      <a:lnTo>
                        <a:pt x="236" y="47"/>
                      </a:lnTo>
                      <a:lnTo>
                        <a:pt x="215" y="17"/>
                      </a:lnTo>
                      <a:lnTo>
                        <a:pt x="188" y="4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82560" y="871920"/>
                  <a:ext cx="103680" cy="86400"/>
                </a:xfrm>
                <a:custGeom>
                  <a:avLst/>
                  <a:gdLst/>
                  <a:ahLst/>
                  <a:rect l="l" t="t" r="r" b="b"/>
                  <a:pathLst>
                    <a:path w="394" h="327">
                      <a:moveTo>
                        <a:pt x="0" y="183"/>
                      </a:moveTo>
                      <a:lnTo>
                        <a:pt x="36" y="202"/>
                      </a:lnTo>
                      <a:lnTo>
                        <a:pt x="130" y="217"/>
                      </a:lnTo>
                      <a:lnTo>
                        <a:pt x="257" y="170"/>
                      </a:lnTo>
                      <a:lnTo>
                        <a:pt x="291" y="141"/>
                      </a:lnTo>
                      <a:lnTo>
                        <a:pt x="325" y="105"/>
                      </a:lnTo>
                      <a:lnTo>
                        <a:pt x="360" y="57"/>
                      </a:lnTo>
                      <a:lnTo>
                        <a:pt x="394" y="0"/>
                      </a:lnTo>
                      <a:lnTo>
                        <a:pt x="392" y="107"/>
                      </a:lnTo>
                      <a:lnTo>
                        <a:pt x="381" y="154"/>
                      </a:lnTo>
                      <a:lnTo>
                        <a:pt x="360" y="202"/>
                      </a:lnTo>
                      <a:lnTo>
                        <a:pt x="327" y="248"/>
                      </a:lnTo>
                      <a:lnTo>
                        <a:pt x="305" y="268"/>
                      </a:lnTo>
                      <a:lnTo>
                        <a:pt x="280" y="287"/>
                      </a:lnTo>
                      <a:lnTo>
                        <a:pt x="227" y="316"/>
                      </a:lnTo>
                      <a:lnTo>
                        <a:pt x="179" y="327"/>
                      </a:lnTo>
                      <a:lnTo>
                        <a:pt x="99" y="316"/>
                      </a:lnTo>
                      <a:lnTo>
                        <a:pt x="46" y="287"/>
                      </a:lnTo>
                      <a:lnTo>
                        <a:pt x="29" y="270"/>
                      </a:lnTo>
                      <a:lnTo>
                        <a:pt x="0" y="183"/>
                      </a:lnTo>
                      <a:lnTo>
                        <a:pt x="0" y="183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52320" y="615960"/>
                  <a:ext cx="259920" cy="132480"/>
                </a:xfrm>
                <a:custGeom>
                  <a:avLst/>
                  <a:gdLst/>
                  <a:ahLst/>
                  <a:rect l="l" t="t" r="r" b="b"/>
                  <a:pathLst>
                    <a:path w="985" h="506">
                      <a:moveTo>
                        <a:pt x="0" y="434"/>
                      </a:moveTo>
                      <a:lnTo>
                        <a:pt x="86" y="416"/>
                      </a:lnTo>
                      <a:lnTo>
                        <a:pt x="282" y="365"/>
                      </a:lnTo>
                      <a:lnTo>
                        <a:pt x="390" y="329"/>
                      </a:lnTo>
                      <a:lnTo>
                        <a:pt x="489" y="283"/>
                      </a:lnTo>
                      <a:lnTo>
                        <a:pt x="567" y="232"/>
                      </a:lnTo>
                      <a:lnTo>
                        <a:pt x="612" y="173"/>
                      </a:lnTo>
                      <a:lnTo>
                        <a:pt x="688" y="0"/>
                      </a:lnTo>
                      <a:lnTo>
                        <a:pt x="823" y="0"/>
                      </a:lnTo>
                      <a:lnTo>
                        <a:pt x="985" y="23"/>
                      </a:lnTo>
                      <a:lnTo>
                        <a:pt x="949" y="69"/>
                      </a:lnTo>
                      <a:lnTo>
                        <a:pt x="911" y="116"/>
                      </a:lnTo>
                      <a:lnTo>
                        <a:pt x="871" y="173"/>
                      </a:lnTo>
                      <a:lnTo>
                        <a:pt x="829" y="234"/>
                      </a:lnTo>
                      <a:lnTo>
                        <a:pt x="793" y="293"/>
                      </a:lnTo>
                      <a:lnTo>
                        <a:pt x="763" y="380"/>
                      </a:lnTo>
                      <a:lnTo>
                        <a:pt x="759" y="472"/>
                      </a:lnTo>
                      <a:lnTo>
                        <a:pt x="747" y="506"/>
                      </a:lnTo>
                      <a:lnTo>
                        <a:pt x="531" y="468"/>
                      </a:lnTo>
                      <a:lnTo>
                        <a:pt x="0" y="434"/>
                      </a:lnTo>
                      <a:lnTo>
                        <a:pt x="0" y="434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66800" y="680400"/>
                  <a:ext cx="96840" cy="77400"/>
                </a:xfrm>
                <a:custGeom>
                  <a:avLst/>
                  <a:gdLst/>
                  <a:ahLst/>
                  <a:rect l="l" t="t" r="r" b="b"/>
                  <a:pathLst>
                    <a:path w="369" h="293">
                      <a:moveTo>
                        <a:pt x="0" y="223"/>
                      </a:moveTo>
                      <a:lnTo>
                        <a:pt x="42" y="208"/>
                      </a:lnTo>
                      <a:lnTo>
                        <a:pt x="142" y="166"/>
                      </a:lnTo>
                      <a:lnTo>
                        <a:pt x="203" y="133"/>
                      </a:lnTo>
                      <a:lnTo>
                        <a:pt x="264" y="95"/>
                      </a:lnTo>
                      <a:lnTo>
                        <a:pt x="321" y="52"/>
                      </a:lnTo>
                      <a:lnTo>
                        <a:pt x="369" y="0"/>
                      </a:lnTo>
                      <a:lnTo>
                        <a:pt x="319" y="227"/>
                      </a:lnTo>
                      <a:lnTo>
                        <a:pt x="340" y="293"/>
                      </a:lnTo>
                      <a:lnTo>
                        <a:pt x="302" y="278"/>
                      </a:lnTo>
                      <a:lnTo>
                        <a:pt x="209" y="246"/>
                      </a:lnTo>
                      <a:lnTo>
                        <a:pt x="97" y="221"/>
                      </a:lnTo>
                      <a:lnTo>
                        <a:pt x="0" y="223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80320" y="514800"/>
                  <a:ext cx="333720" cy="202680"/>
                </a:xfrm>
                <a:custGeom>
                  <a:avLst/>
                  <a:gdLst/>
                  <a:ahLst/>
                  <a:rect l="l" t="t" r="r" b="b"/>
                  <a:pathLst>
                    <a:path w="1267" h="770">
                      <a:moveTo>
                        <a:pt x="232" y="320"/>
                      </a:moveTo>
                      <a:lnTo>
                        <a:pt x="337" y="302"/>
                      </a:lnTo>
                      <a:lnTo>
                        <a:pt x="559" y="314"/>
                      </a:lnTo>
                      <a:lnTo>
                        <a:pt x="843" y="371"/>
                      </a:lnTo>
                      <a:lnTo>
                        <a:pt x="991" y="424"/>
                      </a:lnTo>
                      <a:lnTo>
                        <a:pt x="1065" y="456"/>
                      </a:lnTo>
                      <a:lnTo>
                        <a:pt x="1136" y="494"/>
                      </a:lnTo>
                      <a:lnTo>
                        <a:pt x="1185" y="494"/>
                      </a:lnTo>
                      <a:lnTo>
                        <a:pt x="1242" y="462"/>
                      </a:lnTo>
                      <a:lnTo>
                        <a:pt x="1267" y="422"/>
                      </a:lnTo>
                      <a:lnTo>
                        <a:pt x="1259" y="405"/>
                      </a:lnTo>
                      <a:lnTo>
                        <a:pt x="1229" y="394"/>
                      </a:lnTo>
                      <a:lnTo>
                        <a:pt x="1122" y="373"/>
                      </a:lnTo>
                      <a:lnTo>
                        <a:pt x="953" y="335"/>
                      </a:lnTo>
                      <a:lnTo>
                        <a:pt x="835" y="310"/>
                      </a:lnTo>
                      <a:lnTo>
                        <a:pt x="691" y="283"/>
                      </a:lnTo>
                      <a:lnTo>
                        <a:pt x="516" y="255"/>
                      </a:lnTo>
                      <a:lnTo>
                        <a:pt x="307" y="225"/>
                      </a:lnTo>
                      <a:lnTo>
                        <a:pt x="293" y="211"/>
                      </a:lnTo>
                      <a:lnTo>
                        <a:pt x="322" y="190"/>
                      </a:lnTo>
                      <a:lnTo>
                        <a:pt x="383" y="162"/>
                      </a:lnTo>
                      <a:lnTo>
                        <a:pt x="462" y="129"/>
                      </a:lnTo>
                      <a:lnTo>
                        <a:pt x="554" y="97"/>
                      </a:lnTo>
                      <a:lnTo>
                        <a:pt x="641" y="69"/>
                      </a:lnTo>
                      <a:lnTo>
                        <a:pt x="769" y="38"/>
                      </a:lnTo>
                      <a:lnTo>
                        <a:pt x="839" y="15"/>
                      </a:lnTo>
                      <a:lnTo>
                        <a:pt x="837" y="0"/>
                      </a:lnTo>
                      <a:lnTo>
                        <a:pt x="628" y="38"/>
                      </a:lnTo>
                      <a:lnTo>
                        <a:pt x="531" y="67"/>
                      </a:lnTo>
                      <a:lnTo>
                        <a:pt x="424" y="103"/>
                      </a:lnTo>
                      <a:lnTo>
                        <a:pt x="314" y="152"/>
                      </a:lnTo>
                      <a:lnTo>
                        <a:pt x="261" y="181"/>
                      </a:lnTo>
                      <a:lnTo>
                        <a:pt x="208" y="213"/>
                      </a:lnTo>
                      <a:lnTo>
                        <a:pt x="181" y="247"/>
                      </a:lnTo>
                      <a:lnTo>
                        <a:pt x="153" y="289"/>
                      </a:lnTo>
                      <a:lnTo>
                        <a:pt x="120" y="342"/>
                      </a:lnTo>
                      <a:lnTo>
                        <a:pt x="84" y="407"/>
                      </a:lnTo>
                      <a:lnTo>
                        <a:pt x="52" y="481"/>
                      </a:lnTo>
                      <a:lnTo>
                        <a:pt x="0" y="648"/>
                      </a:lnTo>
                      <a:lnTo>
                        <a:pt x="0" y="770"/>
                      </a:lnTo>
                      <a:lnTo>
                        <a:pt x="48" y="696"/>
                      </a:lnTo>
                      <a:lnTo>
                        <a:pt x="54" y="643"/>
                      </a:lnTo>
                      <a:lnTo>
                        <a:pt x="71" y="601"/>
                      </a:lnTo>
                      <a:lnTo>
                        <a:pt x="116" y="506"/>
                      </a:lnTo>
                      <a:lnTo>
                        <a:pt x="145" y="451"/>
                      </a:lnTo>
                      <a:lnTo>
                        <a:pt x="173" y="397"/>
                      </a:lnTo>
                      <a:lnTo>
                        <a:pt x="204" y="352"/>
                      </a:lnTo>
                      <a:lnTo>
                        <a:pt x="232" y="320"/>
                      </a:lnTo>
                      <a:lnTo>
                        <a:pt x="232" y="3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4760" y="737640"/>
                  <a:ext cx="223560" cy="161640"/>
                </a:xfrm>
                <a:custGeom>
                  <a:avLst/>
                  <a:gdLst/>
                  <a:ahLst/>
                  <a:rect l="l" t="t" r="r" b="b"/>
                  <a:pathLst>
                    <a:path w="848" h="614">
                      <a:moveTo>
                        <a:pt x="741" y="0"/>
                      </a:moveTo>
                      <a:lnTo>
                        <a:pt x="848" y="32"/>
                      </a:lnTo>
                      <a:lnTo>
                        <a:pt x="760" y="65"/>
                      </a:lnTo>
                      <a:lnTo>
                        <a:pt x="663" y="105"/>
                      </a:lnTo>
                      <a:lnTo>
                        <a:pt x="606" y="131"/>
                      </a:lnTo>
                      <a:lnTo>
                        <a:pt x="544" y="163"/>
                      </a:lnTo>
                      <a:lnTo>
                        <a:pt x="477" y="200"/>
                      </a:lnTo>
                      <a:lnTo>
                        <a:pt x="407" y="243"/>
                      </a:lnTo>
                      <a:lnTo>
                        <a:pt x="336" y="291"/>
                      </a:lnTo>
                      <a:lnTo>
                        <a:pt x="300" y="316"/>
                      </a:lnTo>
                      <a:lnTo>
                        <a:pt x="266" y="344"/>
                      </a:lnTo>
                      <a:lnTo>
                        <a:pt x="230" y="373"/>
                      </a:lnTo>
                      <a:lnTo>
                        <a:pt x="196" y="403"/>
                      </a:lnTo>
                      <a:lnTo>
                        <a:pt x="161" y="433"/>
                      </a:lnTo>
                      <a:lnTo>
                        <a:pt x="127" y="468"/>
                      </a:lnTo>
                      <a:lnTo>
                        <a:pt x="61" y="538"/>
                      </a:lnTo>
                      <a:lnTo>
                        <a:pt x="0" y="614"/>
                      </a:lnTo>
                      <a:lnTo>
                        <a:pt x="0" y="584"/>
                      </a:lnTo>
                      <a:lnTo>
                        <a:pt x="34" y="519"/>
                      </a:lnTo>
                      <a:lnTo>
                        <a:pt x="61" y="477"/>
                      </a:lnTo>
                      <a:lnTo>
                        <a:pt x="95" y="431"/>
                      </a:lnTo>
                      <a:lnTo>
                        <a:pt x="137" y="382"/>
                      </a:lnTo>
                      <a:lnTo>
                        <a:pt x="186" y="331"/>
                      </a:lnTo>
                      <a:lnTo>
                        <a:pt x="215" y="304"/>
                      </a:lnTo>
                      <a:lnTo>
                        <a:pt x="243" y="277"/>
                      </a:lnTo>
                      <a:lnTo>
                        <a:pt x="275" y="249"/>
                      </a:lnTo>
                      <a:lnTo>
                        <a:pt x="310" y="222"/>
                      </a:lnTo>
                      <a:lnTo>
                        <a:pt x="346" y="196"/>
                      </a:lnTo>
                      <a:lnTo>
                        <a:pt x="386" y="169"/>
                      </a:lnTo>
                      <a:lnTo>
                        <a:pt x="426" y="143"/>
                      </a:lnTo>
                      <a:lnTo>
                        <a:pt x="469" y="118"/>
                      </a:lnTo>
                      <a:lnTo>
                        <a:pt x="515" y="93"/>
                      </a:lnTo>
                      <a:lnTo>
                        <a:pt x="564" y="68"/>
                      </a:lnTo>
                      <a:lnTo>
                        <a:pt x="614" y="44"/>
                      </a:lnTo>
                      <a:lnTo>
                        <a:pt x="667" y="23"/>
                      </a:lnTo>
                      <a:lnTo>
                        <a:pt x="741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0800" y="579960"/>
                  <a:ext cx="202320" cy="166320"/>
                </a:xfrm>
                <a:custGeom>
                  <a:avLst/>
                  <a:gdLst/>
                  <a:ahLst/>
                  <a:rect l="l" t="t" r="r" b="b"/>
                  <a:pathLst>
                    <a:path w="768" h="631">
                      <a:moveTo>
                        <a:pt x="74" y="599"/>
                      </a:moveTo>
                      <a:lnTo>
                        <a:pt x="88" y="536"/>
                      </a:lnTo>
                      <a:lnTo>
                        <a:pt x="110" y="466"/>
                      </a:lnTo>
                      <a:lnTo>
                        <a:pt x="147" y="382"/>
                      </a:lnTo>
                      <a:lnTo>
                        <a:pt x="171" y="339"/>
                      </a:lnTo>
                      <a:lnTo>
                        <a:pt x="200" y="293"/>
                      </a:lnTo>
                      <a:lnTo>
                        <a:pt x="236" y="247"/>
                      </a:lnTo>
                      <a:lnTo>
                        <a:pt x="278" y="206"/>
                      </a:lnTo>
                      <a:lnTo>
                        <a:pt x="325" y="164"/>
                      </a:lnTo>
                      <a:lnTo>
                        <a:pt x="379" y="126"/>
                      </a:lnTo>
                      <a:lnTo>
                        <a:pt x="441" y="93"/>
                      </a:lnTo>
                      <a:lnTo>
                        <a:pt x="510" y="65"/>
                      </a:lnTo>
                      <a:lnTo>
                        <a:pt x="610" y="31"/>
                      </a:lnTo>
                      <a:lnTo>
                        <a:pt x="685" y="6"/>
                      </a:lnTo>
                      <a:lnTo>
                        <a:pt x="768" y="0"/>
                      </a:lnTo>
                      <a:lnTo>
                        <a:pt x="740" y="59"/>
                      </a:lnTo>
                      <a:lnTo>
                        <a:pt x="645" y="67"/>
                      </a:lnTo>
                      <a:lnTo>
                        <a:pt x="561" y="103"/>
                      </a:lnTo>
                      <a:lnTo>
                        <a:pt x="458" y="148"/>
                      </a:lnTo>
                      <a:lnTo>
                        <a:pt x="392" y="188"/>
                      </a:lnTo>
                      <a:lnTo>
                        <a:pt x="323" y="232"/>
                      </a:lnTo>
                      <a:lnTo>
                        <a:pt x="253" y="308"/>
                      </a:lnTo>
                      <a:lnTo>
                        <a:pt x="209" y="371"/>
                      </a:lnTo>
                      <a:lnTo>
                        <a:pt x="171" y="451"/>
                      </a:lnTo>
                      <a:lnTo>
                        <a:pt x="154" y="536"/>
                      </a:lnTo>
                      <a:lnTo>
                        <a:pt x="166" y="595"/>
                      </a:lnTo>
                      <a:lnTo>
                        <a:pt x="181" y="631"/>
                      </a:lnTo>
                      <a:lnTo>
                        <a:pt x="0" y="622"/>
                      </a:lnTo>
                      <a:lnTo>
                        <a:pt x="74" y="599"/>
                      </a:lnTo>
                      <a:lnTo>
                        <a:pt x="74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74720" y="514440"/>
                  <a:ext cx="358920" cy="176400"/>
                </a:xfrm>
                <a:custGeom>
                  <a:avLst/>
                  <a:gdLst/>
                  <a:ahLst/>
                  <a:rect l="l" t="t" r="r" b="b"/>
                  <a:pathLst>
                    <a:path w="1361" h="671">
                      <a:moveTo>
                        <a:pt x="126" y="29"/>
                      </a:moveTo>
                      <a:lnTo>
                        <a:pt x="280" y="23"/>
                      </a:lnTo>
                      <a:lnTo>
                        <a:pt x="639" y="65"/>
                      </a:lnTo>
                      <a:lnTo>
                        <a:pt x="742" y="95"/>
                      </a:lnTo>
                      <a:lnTo>
                        <a:pt x="846" y="135"/>
                      </a:lnTo>
                      <a:lnTo>
                        <a:pt x="949" y="187"/>
                      </a:lnTo>
                      <a:lnTo>
                        <a:pt x="1000" y="217"/>
                      </a:lnTo>
                      <a:lnTo>
                        <a:pt x="1050" y="251"/>
                      </a:lnTo>
                      <a:lnTo>
                        <a:pt x="1097" y="287"/>
                      </a:lnTo>
                      <a:lnTo>
                        <a:pt x="1143" y="329"/>
                      </a:lnTo>
                      <a:lnTo>
                        <a:pt x="1187" y="375"/>
                      </a:lnTo>
                      <a:lnTo>
                        <a:pt x="1226" y="426"/>
                      </a:lnTo>
                      <a:lnTo>
                        <a:pt x="1264" y="479"/>
                      </a:lnTo>
                      <a:lnTo>
                        <a:pt x="1301" y="538"/>
                      </a:lnTo>
                      <a:lnTo>
                        <a:pt x="1333" y="603"/>
                      </a:lnTo>
                      <a:lnTo>
                        <a:pt x="1361" y="671"/>
                      </a:lnTo>
                      <a:lnTo>
                        <a:pt x="1356" y="591"/>
                      </a:lnTo>
                      <a:lnTo>
                        <a:pt x="1337" y="508"/>
                      </a:lnTo>
                      <a:lnTo>
                        <a:pt x="1320" y="460"/>
                      </a:lnTo>
                      <a:lnTo>
                        <a:pt x="1295" y="409"/>
                      </a:lnTo>
                      <a:lnTo>
                        <a:pt x="1261" y="356"/>
                      </a:lnTo>
                      <a:lnTo>
                        <a:pt x="1219" y="303"/>
                      </a:lnTo>
                      <a:lnTo>
                        <a:pt x="1194" y="276"/>
                      </a:lnTo>
                      <a:lnTo>
                        <a:pt x="1168" y="251"/>
                      </a:lnTo>
                      <a:lnTo>
                        <a:pt x="1137" y="225"/>
                      </a:lnTo>
                      <a:lnTo>
                        <a:pt x="1103" y="200"/>
                      </a:lnTo>
                      <a:lnTo>
                        <a:pt x="1069" y="177"/>
                      </a:lnTo>
                      <a:lnTo>
                        <a:pt x="1029" y="154"/>
                      </a:lnTo>
                      <a:lnTo>
                        <a:pt x="985" y="133"/>
                      </a:lnTo>
                      <a:lnTo>
                        <a:pt x="939" y="112"/>
                      </a:lnTo>
                      <a:lnTo>
                        <a:pt x="835" y="78"/>
                      </a:lnTo>
                      <a:lnTo>
                        <a:pt x="715" y="50"/>
                      </a:lnTo>
                      <a:lnTo>
                        <a:pt x="652" y="40"/>
                      </a:lnTo>
                      <a:lnTo>
                        <a:pt x="498" y="19"/>
                      </a:lnTo>
                      <a:lnTo>
                        <a:pt x="299" y="0"/>
                      </a:lnTo>
                      <a:lnTo>
                        <a:pt x="99" y="2"/>
                      </a:lnTo>
                      <a:lnTo>
                        <a:pt x="0" y="16"/>
                      </a:lnTo>
                      <a:lnTo>
                        <a:pt x="21" y="23"/>
                      </a:lnTo>
                      <a:lnTo>
                        <a:pt x="126" y="29"/>
                      </a:lnTo>
                      <a:lnTo>
                        <a:pt x="126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121040" y="660600"/>
                  <a:ext cx="81720" cy="156960"/>
                </a:xfrm>
                <a:custGeom>
                  <a:avLst/>
                  <a:gdLst/>
                  <a:ahLst/>
                  <a:rect l="l" t="t" r="r" b="b"/>
                  <a:pathLst>
                    <a:path w="310" h="595">
                      <a:moveTo>
                        <a:pt x="0" y="0"/>
                      </a:moveTo>
                      <a:lnTo>
                        <a:pt x="25" y="59"/>
                      </a:lnTo>
                      <a:lnTo>
                        <a:pt x="49" y="122"/>
                      </a:lnTo>
                      <a:lnTo>
                        <a:pt x="78" y="198"/>
                      </a:lnTo>
                      <a:lnTo>
                        <a:pt x="108" y="278"/>
                      </a:lnTo>
                      <a:lnTo>
                        <a:pt x="133" y="354"/>
                      </a:lnTo>
                      <a:lnTo>
                        <a:pt x="162" y="472"/>
                      </a:lnTo>
                      <a:lnTo>
                        <a:pt x="175" y="532"/>
                      </a:lnTo>
                      <a:lnTo>
                        <a:pt x="202" y="570"/>
                      </a:lnTo>
                      <a:lnTo>
                        <a:pt x="240" y="595"/>
                      </a:lnTo>
                      <a:lnTo>
                        <a:pt x="264" y="590"/>
                      </a:lnTo>
                      <a:lnTo>
                        <a:pt x="310" y="559"/>
                      </a:lnTo>
                      <a:lnTo>
                        <a:pt x="255" y="512"/>
                      </a:lnTo>
                      <a:lnTo>
                        <a:pt x="127" y="196"/>
                      </a:lnTo>
                      <a:lnTo>
                        <a:pt x="99" y="131"/>
                      </a:lnTo>
                      <a:lnTo>
                        <a:pt x="72" y="86"/>
                      </a:lnTo>
                      <a:lnTo>
                        <a:pt x="32" y="2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99200" y="634680"/>
                  <a:ext cx="296280" cy="137520"/>
                </a:xfrm>
                <a:custGeom>
                  <a:avLst/>
                  <a:gdLst/>
                  <a:ahLst/>
                  <a:rect l="l" t="t" r="r" b="b"/>
                  <a:pathLst>
                    <a:path w="1126" h="523">
                      <a:moveTo>
                        <a:pt x="263" y="424"/>
                      </a:moveTo>
                      <a:lnTo>
                        <a:pt x="287" y="436"/>
                      </a:lnTo>
                      <a:lnTo>
                        <a:pt x="384" y="430"/>
                      </a:lnTo>
                      <a:lnTo>
                        <a:pt x="584" y="354"/>
                      </a:lnTo>
                      <a:lnTo>
                        <a:pt x="653" y="316"/>
                      </a:lnTo>
                      <a:lnTo>
                        <a:pt x="730" y="270"/>
                      </a:lnTo>
                      <a:lnTo>
                        <a:pt x="774" y="242"/>
                      </a:lnTo>
                      <a:lnTo>
                        <a:pt x="820" y="213"/>
                      </a:lnTo>
                      <a:lnTo>
                        <a:pt x="865" y="181"/>
                      </a:lnTo>
                      <a:lnTo>
                        <a:pt x="917" y="147"/>
                      </a:lnTo>
                      <a:lnTo>
                        <a:pt x="961" y="113"/>
                      </a:lnTo>
                      <a:lnTo>
                        <a:pt x="999" y="82"/>
                      </a:lnTo>
                      <a:lnTo>
                        <a:pt x="1046" y="25"/>
                      </a:lnTo>
                      <a:lnTo>
                        <a:pt x="1063" y="6"/>
                      </a:lnTo>
                      <a:lnTo>
                        <a:pt x="1077" y="0"/>
                      </a:lnTo>
                      <a:lnTo>
                        <a:pt x="1103" y="10"/>
                      </a:lnTo>
                      <a:lnTo>
                        <a:pt x="1126" y="48"/>
                      </a:lnTo>
                      <a:lnTo>
                        <a:pt x="1078" y="97"/>
                      </a:lnTo>
                      <a:lnTo>
                        <a:pt x="1052" y="122"/>
                      </a:lnTo>
                      <a:lnTo>
                        <a:pt x="1019" y="151"/>
                      </a:lnTo>
                      <a:lnTo>
                        <a:pt x="983" y="181"/>
                      </a:lnTo>
                      <a:lnTo>
                        <a:pt x="940" y="215"/>
                      </a:lnTo>
                      <a:lnTo>
                        <a:pt x="892" y="251"/>
                      </a:lnTo>
                      <a:lnTo>
                        <a:pt x="839" y="287"/>
                      </a:lnTo>
                      <a:lnTo>
                        <a:pt x="780" y="324"/>
                      </a:lnTo>
                      <a:lnTo>
                        <a:pt x="715" y="362"/>
                      </a:lnTo>
                      <a:lnTo>
                        <a:pt x="647" y="398"/>
                      </a:lnTo>
                      <a:lnTo>
                        <a:pt x="573" y="432"/>
                      </a:lnTo>
                      <a:lnTo>
                        <a:pt x="495" y="464"/>
                      </a:lnTo>
                      <a:lnTo>
                        <a:pt x="411" y="495"/>
                      </a:lnTo>
                      <a:lnTo>
                        <a:pt x="339" y="497"/>
                      </a:lnTo>
                      <a:lnTo>
                        <a:pt x="162" y="493"/>
                      </a:lnTo>
                      <a:lnTo>
                        <a:pt x="14" y="521"/>
                      </a:lnTo>
                      <a:lnTo>
                        <a:pt x="0" y="523"/>
                      </a:lnTo>
                      <a:lnTo>
                        <a:pt x="8" y="516"/>
                      </a:lnTo>
                      <a:lnTo>
                        <a:pt x="69" y="483"/>
                      </a:lnTo>
                      <a:lnTo>
                        <a:pt x="145" y="447"/>
                      </a:lnTo>
                      <a:lnTo>
                        <a:pt x="181" y="430"/>
                      </a:lnTo>
                      <a:lnTo>
                        <a:pt x="263" y="424"/>
                      </a:lnTo>
                      <a:lnTo>
                        <a:pt x="263" y="4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953280" y="738360"/>
                  <a:ext cx="198000" cy="223200"/>
                </a:xfrm>
                <a:custGeom>
                  <a:avLst/>
                  <a:gdLst/>
                  <a:ahLst/>
                  <a:rect l="l" t="t" r="r" b="b"/>
                  <a:pathLst>
                    <a:path w="751" h="848">
                      <a:moveTo>
                        <a:pt x="631" y="0"/>
                      </a:moveTo>
                      <a:lnTo>
                        <a:pt x="587" y="23"/>
                      </a:lnTo>
                      <a:lnTo>
                        <a:pt x="506" y="108"/>
                      </a:lnTo>
                      <a:lnTo>
                        <a:pt x="456" y="188"/>
                      </a:lnTo>
                      <a:lnTo>
                        <a:pt x="411" y="295"/>
                      </a:lnTo>
                      <a:lnTo>
                        <a:pt x="338" y="614"/>
                      </a:lnTo>
                      <a:lnTo>
                        <a:pt x="48" y="768"/>
                      </a:lnTo>
                      <a:lnTo>
                        <a:pt x="0" y="848"/>
                      </a:lnTo>
                      <a:lnTo>
                        <a:pt x="17" y="836"/>
                      </a:lnTo>
                      <a:lnTo>
                        <a:pt x="63" y="808"/>
                      </a:lnTo>
                      <a:lnTo>
                        <a:pt x="127" y="766"/>
                      </a:lnTo>
                      <a:lnTo>
                        <a:pt x="164" y="745"/>
                      </a:lnTo>
                      <a:lnTo>
                        <a:pt x="202" y="722"/>
                      </a:lnTo>
                      <a:lnTo>
                        <a:pt x="278" y="682"/>
                      </a:lnTo>
                      <a:lnTo>
                        <a:pt x="346" y="654"/>
                      </a:lnTo>
                      <a:lnTo>
                        <a:pt x="395" y="642"/>
                      </a:lnTo>
                      <a:lnTo>
                        <a:pt x="418" y="656"/>
                      </a:lnTo>
                      <a:lnTo>
                        <a:pt x="460" y="428"/>
                      </a:lnTo>
                      <a:lnTo>
                        <a:pt x="483" y="321"/>
                      </a:lnTo>
                      <a:lnTo>
                        <a:pt x="517" y="217"/>
                      </a:lnTo>
                      <a:lnTo>
                        <a:pt x="538" y="169"/>
                      </a:lnTo>
                      <a:lnTo>
                        <a:pt x="561" y="127"/>
                      </a:lnTo>
                      <a:lnTo>
                        <a:pt x="589" y="91"/>
                      </a:lnTo>
                      <a:lnTo>
                        <a:pt x="620" y="63"/>
                      </a:lnTo>
                      <a:lnTo>
                        <a:pt x="677" y="59"/>
                      </a:lnTo>
                      <a:lnTo>
                        <a:pt x="719" y="97"/>
                      </a:lnTo>
                      <a:lnTo>
                        <a:pt x="749" y="199"/>
                      </a:lnTo>
                      <a:lnTo>
                        <a:pt x="751" y="177"/>
                      </a:lnTo>
                      <a:lnTo>
                        <a:pt x="749" y="112"/>
                      </a:lnTo>
                      <a:lnTo>
                        <a:pt x="738" y="42"/>
                      </a:lnTo>
                      <a:lnTo>
                        <a:pt x="726" y="17"/>
                      </a:lnTo>
                      <a:lnTo>
                        <a:pt x="709" y="4"/>
                      </a:lnTo>
                      <a:lnTo>
                        <a:pt x="631" y="0"/>
                      </a:lnTo>
                      <a:lnTo>
                        <a:pt x="6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99720" y="579960"/>
                  <a:ext cx="95760" cy="76680"/>
                </a:xfrm>
                <a:custGeom>
                  <a:avLst/>
                  <a:gdLst/>
                  <a:ahLst/>
                  <a:rect l="l" t="t" r="r" b="b"/>
                  <a:pathLst>
                    <a:path w="365" h="293">
                      <a:moveTo>
                        <a:pt x="34" y="63"/>
                      </a:moveTo>
                      <a:lnTo>
                        <a:pt x="118" y="72"/>
                      </a:lnTo>
                      <a:lnTo>
                        <a:pt x="209" y="116"/>
                      </a:lnTo>
                      <a:lnTo>
                        <a:pt x="276" y="190"/>
                      </a:lnTo>
                      <a:lnTo>
                        <a:pt x="291" y="293"/>
                      </a:lnTo>
                      <a:lnTo>
                        <a:pt x="365" y="255"/>
                      </a:lnTo>
                      <a:lnTo>
                        <a:pt x="344" y="217"/>
                      </a:lnTo>
                      <a:lnTo>
                        <a:pt x="317" y="177"/>
                      </a:lnTo>
                      <a:lnTo>
                        <a:pt x="283" y="131"/>
                      </a:lnTo>
                      <a:lnTo>
                        <a:pt x="243" y="86"/>
                      </a:lnTo>
                      <a:lnTo>
                        <a:pt x="220" y="65"/>
                      </a:lnTo>
                      <a:lnTo>
                        <a:pt x="196" y="44"/>
                      </a:lnTo>
                      <a:lnTo>
                        <a:pt x="144" y="15"/>
                      </a:lnTo>
                      <a:lnTo>
                        <a:pt x="89" y="0"/>
                      </a:lnTo>
                      <a:lnTo>
                        <a:pt x="68" y="12"/>
                      </a:lnTo>
                      <a:lnTo>
                        <a:pt x="25" y="36"/>
                      </a:lnTo>
                      <a:lnTo>
                        <a:pt x="0" y="57"/>
                      </a:lnTo>
                      <a:lnTo>
                        <a:pt x="34" y="63"/>
                      </a:lnTo>
                      <a:lnTo>
                        <a:pt x="34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28760" y="673200"/>
                  <a:ext cx="163800" cy="103680"/>
                </a:xfrm>
                <a:custGeom>
                  <a:avLst/>
                  <a:gdLst/>
                  <a:ahLst/>
                  <a:rect l="l" t="t" r="r" b="b"/>
                  <a:pathLst>
                    <a:path w="622" h="393">
                      <a:moveTo>
                        <a:pt x="595" y="0"/>
                      </a:moveTo>
                      <a:lnTo>
                        <a:pt x="552" y="21"/>
                      </a:lnTo>
                      <a:lnTo>
                        <a:pt x="502" y="43"/>
                      </a:lnTo>
                      <a:lnTo>
                        <a:pt x="445" y="72"/>
                      </a:lnTo>
                      <a:lnTo>
                        <a:pt x="382" y="104"/>
                      </a:lnTo>
                      <a:lnTo>
                        <a:pt x="322" y="137"/>
                      </a:lnTo>
                      <a:lnTo>
                        <a:pt x="265" y="167"/>
                      </a:lnTo>
                      <a:lnTo>
                        <a:pt x="221" y="196"/>
                      </a:lnTo>
                      <a:lnTo>
                        <a:pt x="183" y="222"/>
                      </a:lnTo>
                      <a:lnTo>
                        <a:pt x="145" y="254"/>
                      </a:lnTo>
                      <a:lnTo>
                        <a:pt x="109" y="287"/>
                      </a:lnTo>
                      <a:lnTo>
                        <a:pt x="74" y="319"/>
                      </a:lnTo>
                      <a:lnTo>
                        <a:pt x="44" y="348"/>
                      </a:lnTo>
                      <a:lnTo>
                        <a:pt x="21" y="370"/>
                      </a:lnTo>
                      <a:lnTo>
                        <a:pt x="0" y="393"/>
                      </a:lnTo>
                      <a:lnTo>
                        <a:pt x="152" y="287"/>
                      </a:lnTo>
                      <a:lnTo>
                        <a:pt x="202" y="262"/>
                      </a:lnTo>
                      <a:lnTo>
                        <a:pt x="251" y="237"/>
                      </a:lnTo>
                      <a:lnTo>
                        <a:pt x="310" y="207"/>
                      </a:lnTo>
                      <a:lnTo>
                        <a:pt x="392" y="169"/>
                      </a:lnTo>
                      <a:lnTo>
                        <a:pt x="496" y="129"/>
                      </a:lnTo>
                      <a:lnTo>
                        <a:pt x="584" y="99"/>
                      </a:lnTo>
                      <a:lnTo>
                        <a:pt x="622" y="85"/>
                      </a:lnTo>
                      <a:lnTo>
                        <a:pt x="595" y="0"/>
                      </a:lnTo>
                      <a:lnTo>
                        <a:pt x="5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29800" y="758160"/>
                  <a:ext cx="144000" cy="227160"/>
                </a:xfrm>
                <a:custGeom>
                  <a:avLst/>
                  <a:gdLst/>
                  <a:ahLst/>
                  <a:rect l="l" t="t" r="r" b="b"/>
                  <a:pathLst>
                    <a:path w="548" h="861">
                      <a:moveTo>
                        <a:pt x="322" y="108"/>
                      </a:moveTo>
                      <a:lnTo>
                        <a:pt x="383" y="160"/>
                      </a:lnTo>
                      <a:lnTo>
                        <a:pt x="428" y="215"/>
                      </a:lnTo>
                      <a:lnTo>
                        <a:pt x="480" y="336"/>
                      </a:lnTo>
                      <a:lnTo>
                        <a:pt x="495" y="468"/>
                      </a:lnTo>
                      <a:lnTo>
                        <a:pt x="497" y="612"/>
                      </a:lnTo>
                      <a:lnTo>
                        <a:pt x="472" y="726"/>
                      </a:lnTo>
                      <a:lnTo>
                        <a:pt x="451" y="810"/>
                      </a:lnTo>
                      <a:lnTo>
                        <a:pt x="434" y="861"/>
                      </a:lnTo>
                      <a:lnTo>
                        <a:pt x="443" y="853"/>
                      </a:lnTo>
                      <a:lnTo>
                        <a:pt x="483" y="804"/>
                      </a:lnTo>
                      <a:lnTo>
                        <a:pt x="527" y="751"/>
                      </a:lnTo>
                      <a:lnTo>
                        <a:pt x="548" y="724"/>
                      </a:lnTo>
                      <a:lnTo>
                        <a:pt x="527" y="591"/>
                      </a:lnTo>
                      <a:lnTo>
                        <a:pt x="537" y="393"/>
                      </a:lnTo>
                      <a:lnTo>
                        <a:pt x="529" y="306"/>
                      </a:lnTo>
                      <a:lnTo>
                        <a:pt x="510" y="239"/>
                      </a:lnTo>
                      <a:lnTo>
                        <a:pt x="476" y="173"/>
                      </a:lnTo>
                      <a:lnTo>
                        <a:pt x="451" y="133"/>
                      </a:lnTo>
                      <a:lnTo>
                        <a:pt x="421" y="95"/>
                      </a:lnTo>
                      <a:lnTo>
                        <a:pt x="384" y="59"/>
                      </a:lnTo>
                      <a:lnTo>
                        <a:pt x="341" y="28"/>
                      </a:lnTo>
                      <a:lnTo>
                        <a:pt x="289" y="9"/>
                      </a:lnTo>
                      <a:lnTo>
                        <a:pt x="230" y="2"/>
                      </a:lnTo>
                      <a:lnTo>
                        <a:pt x="0" y="0"/>
                      </a:lnTo>
                      <a:lnTo>
                        <a:pt x="27" y="8"/>
                      </a:lnTo>
                      <a:lnTo>
                        <a:pt x="177" y="34"/>
                      </a:lnTo>
                      <a:lnTo>
                        <a:pt x="280" y="80"/>
                      </a:lnTo>
                      <a:lnTo>
                        <a:pt x="322" y="108"/>
                      </a:lnTo>
                      <a:lnTo>
                        <a:pt x="322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94200" y="848880"/>
                  <a:ext cx="92160" cy="135720"/>
                </a:xfrm>
                <a:custGeom>
                  <a:avLst/>
                  <a:gdLst/>
                  <a:ahLst/>
                  <a:rect l="l" t="t" r="r" b="b"/>
                  <a:pathLst>
                    <a:path w="352" h="517">
                      <a:moveTo>
                        <a:pt x="6" y="0"/>
                      </a:moveTo>
                      <a:lnTo>
                        <a:pt x="0" y="160"/>
                      </a:lnTo>
                      <a:lnTo>
                        <a:pt x="8" y="241"/>
                      </a:lnTo>
                      <a:lnTo>
                        <a:pt x="31" y="297"/>
                      </a:lnTo>
                      <a:lnTo>
                        <a:pt x="46" y="314"/>
                      </a:lnTo>
                      <a:lnTo>
                        <a:pt x="78" y="338"/>
                      </a:lnTo>
                      <a:lnTo>
                        <a:pt x="126" y="373"/>
                      </a:lnTo>
                      <a:lnTo>
                        <a:pt x="179" y="407"/>
                      </a:lnTo>
                      <a:lnTo>
                        <a:pt x="236" y="443"/>
                      </a:lnTo>
                      <a:lnTo>
                        <a:pt x="287" y="475"/>
                      </a:lnTo>
                      <a:lnTo>
                        <a:pt x="352" y="517"/>
                      </a:lnTo>
                      <a:lnTo>
                        <a:pt x="348" y="513"/>
                      </a:lnTo>
                      <a:lnTo>
                        <a:pt x="302" y="477"/>
                      </a:lnTo>
                      <a:lnTo>
                        <a:pt x="270" y="451"/>
                      </a:lnTo>
                      <a:lnTo>
                        <a:pt x="238" y="422"/>
                      </a:lnTo>
                      <a:lnTo>
                        <a:pt x="206" y="392"/>
                      </a:lnTo>
                      <a:lnTo>
                        <a:pt x="179" y="365"/>
                      </a:lnTo>
                      <a:lnTo>
                        <a:pt x="97" y="306"/>
                      </a:lnTo>
                      <a:lnTo>
                        <a:pt x="44" y="241"/>
                      </a:lnTo>
                      <a:lnTo>
                        <a:pt x="25" y="8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81200" y="842400"/>
                  <a:ext cx="177480" cy="216000"/>
                </a:xfrm>
                <a:custGeom>
                  <a:avLst/>
                  <a:gdLst/>
                  <a:ahLst/>
                  <a:rect l="l" t="t" r="r" b="b"/>
                  <a:pathLst>
                    <a:path w="673" h="820">
                      <a:moveTo>
                        <a:pt x="101" y="517"/>
                      </a:moveTo>
                      <a:lnTo>
                        <a:pt x="127" y="436"/>
                      </a:lnTo>
                      <a:lnTo>
                        <a:pt x="160" y="354"/>
                      </a:lnTo>
                      <a:lnTo>
                        <a:pt x="201" y="261"/>
                      </a:lnTo>
                      <a:lnTo>
                        <a:pt x="228" y="211"/>
                      </a:lnTo>
                      <a:lnTo>
                        <a:pt x="255" y="166"/>
                      </a:lnTo>
                      <a:lnTo>
                        <a:pt x="285" y="122"/>
                      </a:lnTo>
                      <a:lnTo>
                        <a:pt x="315" y="82"/>
                      </a:lnTo>
                      <a:lnTo>
                        <a:pt x="350" y="50"/>
                      </a:lnTo>
                      <a:lnTo>
                        <a:pt x="386" y="23"/>
                      </a:lnTo>
                      <a:lnTo>
                        <a:pt x="422" y="6"/>
                      </a:lnTo>
                      <a:lnTo>
                        <a:pt x="462" y="0"/>
                      </a:lnTo>
                      <a:lnTo>
                        <a:pt x="576" y="23"/>
                      </a:lnTo>
                      <a:lnTo>
                        <a:pt x="654" y="126"/>
                      </a:lnTo>
                      <a:lnTo>
                        <a:pt x="671" y="221"/>
                      </a:lnTo>
                      <a:lnTo>
                        <a:pt x="673" y="274"/>
                      </a:lnTo>
                      <a:lnTo>
                        <a:pt x="671" y="325"/>
                      </a:lnTo>
                      <a:lnTo>
                        <a:pt x="658" y="447"/>
                      </a:lnTo>
                      <a:lnTo>
                        <a:pt x="622" y="474"/>
                      </a:lnTo>
                      <a:lnTo>
                        <a:pt x="633" y="259"/>
                      </a:lnTo>
                      <a:lnTo>
                        <a:pt x="620" y="181"/>
                      </a:lnTo>
                      <a:lnTo>
                        <a:pt x="587" y="116"/>
                      </a:lnTo>
                      <a:lnTo>
                        <a:pt x="563" y="90"/>
                      </a:lnTo>
                      <a:lnTo>
                        <a:pt x="532" y="72"/>
                      </a:lnTo>
                      <a:lnTo>
                        <a:pt x="450" y="61"/>
                      </a:lnTo>
                      <a:lnTo>
                        <a:pt x="350" y="131"/>
                      </a:lnTo>
                      <a:lnTo>
                        <a:pt x="302" y="185"/>
                      </a:lnTo>
                      <a:lnTo>
                        <a:pt x="253" y="259"/>
                      </a:lnTo>
                      <a:lnTo>
                        <a:pt x="226" y="302"/>
                      </a:lnTo>
                      <a:lnTo>
                        <a:pt x="199" y="354"/>
                      </a:lnTo>
                      <a:lnTo>
                        <a:pt x="150" y="477"/>
                      </a:lnTo>
                      <a:lnTo>
                        <a:pt x="144" y="766"/>
                      </a:lnTo>
                      <a:lnTo>
                        <a:pt x="133" y="789"/>
                      </a:lnTo>
                      <a:lnTo>
                        <a:pt x="84" y="806"/>
                      </a:lnTo>
                      <a:lnTo>
                        <a:pt x="0" y="820"/>
                      </a:lnTo>
                      <a:lnTo>
                        <a:pt x="101" y="517"/>
                      </a:lnTo>
                      <a:lnTo>
                        <a:pt x="101" y="5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72480" y="836280"/>
                  <a:ext cx="124920" cy="131400"/>
                </a:xfrm>
                <a:custGeom>
                  <a:avLst/>
                  <a:gdLst/>
                  <a:ahLst/>
                  <a:rect l="l" t="t" r="r" b="b"/>
                  <a:pathLst>
                    <a:path w="474" h="499">
                      <a:moveTo>
                        <a:pt x="74" y="85"/>
                      </a:moveTo>
                      <a:lnTo>
                        <a:pt x="46" y="123"/>
                      </a:lnTo>
                      <a:lnTo>
                        <a:pt x="2" y="222"/>
                      </a:lnTo>
                      <a:lnTo>
                        <a:pt x="0" y="345"/>
                      </a:lnTo>
                      <a:lnTo>
                        <a:pt x="14" y="378"/>
                      </a:lnTo>
                      <a:lnTo>
                        <a:pt x="35" y="408"/>
                      </a:lnTo>
                      <a:lnTo>
                        <a:pt x="63" y="439"/>
                      </a:lnTo>
                      <a:lnTo>
                        <a:pt x="101" y="465"/>
                      </a:lnTo>
                      <a:lnTo>
                        <a:pt x="143" y="488"/>
                      </a:lnTo>
                      <a:lnTo>
                        <a:pt x="181" y="499"/>
                      </a:lnTo>
                      <a:lnTo>
                        <a:pt x="253" y="498"/>
                      </a:lnTo>
                      <a:lnTo>
                        <a:pt x="316" y="471"/>
                      </a:lnTo>
                      <a:lnTo>
                        <a:pt x="367" y="429"/>
                      </a:lnTo>
                      <a:lnTo>
                        <a:pt x="407" y="380"/>
                      </a:lnTo>
                      <a:lnTo>
                        <a:pt x="438" y="334"/>
                      </a:lnTo>
                      <a:lnTo>
                        <a:pt x="462" y="285"/>
                      </a:lnTo>
                      <a:lnTo>
                        <a:pt x="474" y="150"/>
                      </a:lnTo>
                      <a:lnTo>
                        <a:pt x="464" y="98"/>
                      </a:lnTo>
                      <a:lnTo>
                        <a:pt x="443" y="53"/>
                      </a:lnTo>
                      <a:lnTo>
                        <a:pt x="426" y="34"/>
                      </a:lnTo>
                      <a:lnTo>
                        <a:pt x="407" y="17"/>
                      </a:lnTo>
                      <a:lnTo>
                        <a:pt x="350" y="0"/>
                      </a:lnTo>
                      <a:lnTo>
                        <a:pt x="373" y="28"/>
                      </a:lnTo>
                      <a:lnTo>
                        <a:pt x="409" y="106"/>
                      </a:lnTo>
                      <a:lnTo>
                        <a:pt x="409" y="220"/>
                      </a:lnTo>
                      <a:lnTo>
                        <a:pt x="377" y="288"/>
                      </a:lnTo>
                      <a:lnTo>
                        <a:pt x="352" y="323"/>
                      </a:lnTo>
                      <a:lnTo>
                        <a:pt x="318" y="359"/>
                      </a:lnTo>
                      <a:lnTo>
                        <a:pt x="295" y="376"/>
                      </a:lnTo>
                      <a:lnTo>
                        <a:pt x="236" y="403"/>
                      </a:lnTo>
                      <a:lnTo>
                        <a:pt x="160" y="403"/>
                      </a:lnTo>
                      <a:lnTo>
                        <a:pt x="80" y="338"/>
                      </a:lnTo>
                      <a:lnTo>
                        <a:pt x="86" y="199"/>
                      </a:lnTo>
                      <a:lnTo>
                        <a:pt x="107" y="142"/>
                      </a:lnTo>
                      <a:lnTo>
                        <a:pt x="145" y="89"/>
                      </a:lnTo>
                      <a:lnTo>
                        <a:pt x="171" y="62"/>
                      </a:lnTo>
                      <a:lnTo>
                        <a:pt x="204" y="41"/>
                      </a:lnTo>
                      <a:lnTo>
                        <a:pt x="242" y="20"/>
                      </a:lnTo>
                      <a:lnTo>
                        <a:pt x="285" y="3"/>
                      </a:lnTo>
                      <a:lnTo>
                        <a:pt x="249" y="0"/>
                      </a:lnTo>
                      <a:lnTo>
                        <a:pt x="107" y="57"/>
                      </a:lnTo>
                      <a:lnTo>
                        <a:pt x="74" y="85"/>
                      </a:lnTo>
                      <a:lnTo>
                        <a:pt x="74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953280" y="597960"/>
                  <a:ext cx="4932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479">
                      <a:moveTo>
                        <a:pt x="0" y="28"/>
                      </a:moveTo>
                      <a:lnTo>
                        <a:pt x="106" y="435"/>
                      </a:lnTo>
                      <a:lnTo>
                        <a:pt x="122" y="479"/>
                      </a:lnTo>
                      <a:lnTo>
                        <a:pt x="186" y="414"/>
                      </a:lnTo>
                      <a:lnTo>
                        <a:pt x="3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992880" y="708840"/>
                  <a:ext cx="47880" cy="210600"/>
                </a:xfrm>
                <a:custGeom>
                  <a:avLst/>
                  <a:gdLst/>
                  <a:ahLst/>
                  <a:rect l="l" t="t" r="r" b="b"/>
                  <a:pathLst>
                    <a:path w="183" h="800">
                      <a:moveTo>
                        <a:pt x="0" y="42"/>
                      </a:moveTo>
                      <a:lnTo>
                        <a:pt x="29" y="85"/>
                      </a:lnTo>
                      <a:lnTo>
                        <a:pt x="84" y="220"/>
                      </a:lnTo>
                      <a:lnTo>
                        <a:pt x="114" y="456"/>
                      </a:lnTo>
                      <a:lnTo>
                        <a:pt x="107" y="614"/>
                      </a:lnTo>
                      <a:lnTo>
                        <a:pt x="74" y="800"/>
                      </a:lnTo>
                      <a:lnTo>
                        <a:pt x="128" y="796"/>
                      </a:lnTo>
                      <a:lnTo>
                        <a:pt x="150" y="692"/>
                      </a:lnTo>
                      <a:lnTo>
                        <a:pt x="183" y="452"/>
                      </a:lnTo>
                      <a:lnTo>
                        <a:pt x="173" y="184"/>
                      </a:lnTo>
                      <a:lnTo>
                        <a:pt x="158" y="127"/>
                      </a:lnTo>
                      <a:lnTo>
                        <a:pt x="135" y="76"/>
                      </a:lnTo>
                      <a:lnTo>
                        <a:pt x="107" y="32"/>
                      </a:lnTo>
                      <a:lnTo>
                        <a:pt x="69" y="0"/>
                      </a:lnTo>
                      <a:lnTo>
                        <a:pt x="0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95640" y="777240"/>
                  <a:ext cx="106560" cy="110520"/>
                </a:xfrm>
                <a:custGeom>
                  <a:avLst/>
                  <a:gdLst/>
                  <a:ahLst/>
                  <a:rect l="l" t="t" r="r" b="b"/>
                  <a:pathLst>
                    <a:path w="403" h="420">
                      <a:moveTo>
                        <a:pt x="0" y="295"/>
                      </a:moveTo>
                      <a:lnTo>
                        <a:pt x="17" y="177"/>
                      </a:lnTo>
                      <a:lnTo>
                        <a:pt x="32" y="129"/>
                      </a:lnTo>
                      <a:lnTo>
                        <a:pt x="57" y="86"/>
                      </a:lnTo>
                      <a:lnTo>
                        <a:pt x="89" y="48"/>
                      </a:lnTo>
                      <a:lnTo>
                        <a:pt x="133" y="23"/>
                      </a:lnTo>
                      <a:lnTo>
                        <a:pt x="245" y="0"/>
                      </a:lnTo>
                      <a:lnTo>
                        <a:pt x="352" y="21"/>
                      </a:lnTo>
                      <a:lnTo>
                        <a:pt x="388" y="55"/>
                      </a:lnTo>
                      <a:lnTo>
                        <a:pt x="403" y="112"/>
                      </a:lnTo>
                      <a:lnTo>
                        <a:pt x="395" y="190"/>
                      </a:lnTo>
                      <a:lnTo>
                        <a:pt x="380" y="242"/>
                      </a:lnTo>
                      <a:lnTo>
                        <a:pt x="355" y="299"/>
                      </a:lnTo>
                      <a:lnTo>
                        <a:pt x="336" y="327"/>
                      </a:lnTo>
                      <a:lnTo>
                        <a:pt x="300" y="361"/>
                      </a:lnTo>
                      <a:lnTo>
                        <a:pt x="256" y="394"/>
                      </a:lnTo>
                      <a:lnTo>
                        <a:pt x="209" y="417"/>
                      </a:lnTo>
                      <a:lnTo>
                        <a:pt x="159" y="420"/>
                      </a:lnTo>
                      <a:lnTo>
                        <a:pt x="116" y="399"/>
                      </a:lnTo>
                      <a:lnTo>
                        <a:pt x="83" y="346"/>
                      </a:lnTo>
                      <a:lnTo>
                        <a:pt x="64" y="251"/>
                      </a:lnTo>
                      <a:lnTo>
                        <a:pt x="74" y="207"/>
                      </a:lnTo>
                      <a:lnTo>
                        <a:pt x="93" y="249"/>
                      </a:lnTo>
                      <a:lnTo>
                        <a:pt x="114" y="283"/>
                      </a:lnTo>
                      <a:lnTo>
                        <a:pt x="140" y="320"/>
                      </a:lnTo>
                      <a:lnTo>
                        <a:pt x="173" y="342"/>
                      </a:lnTo>
                      <a:lnTo>
                        <a:pt x="209" y="348"/>
                      </a:lnTo>
                      <a:lnTo>
                        <a:pt x="287" y="266"/>
                      </a:lnTo>
                      <a:lnTo>
                        <a:pt x="323" y="143"/>
                      </a:lnTo>
                      <a:lnTo>
                        <a:pt x="313" y="107"/>
                      </a:lnTo>
                      <a:lnTo>
                        <a:pt x="296" y="84"/>
                      </a:lnTo>
                      <a:lnTo>
                        <a:pt x="249" y="67"/>
                      </a:lnTo>
                      <a:lnTo>
                        <a:pt x="222" y="65"/>
                      </a:lnTo>
                      <a:lnTo>
                        <a:pt x="102" y="107"/>
                      </a:lnTo>
                      <a:lnTo>
                        <a:pt x="38" y="202"/>
                      </a:lnTo>
                      <a:lnTo>
                        <a:pt x="0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45400" y="977400"/>
                  <a:ext cx="232560" cy="55080"/>
                </a:xfrm>
                <a:custGeom>
                  <a:avLst/>
                  <a:gdLst/>
                  <a:ahLst/>
                  <a:rect l="l" t="t" r="r" b="b"/>
                  <a:pathLst>
                    <a:path w="883" h="211">
                      <a:moveTo>
                        <a:pt x="0" y="127"/>
                      </a:moveTo>
                      <a:lnTo>
                        <a:pt x="76" y="112"/>
                      </a:lnTo>
                      <a:lnTo>
                        <a:pt x="303" y="89"/>
                      </a:lnTo>
                      <a:lnTo>
                        <a:pt x="797" y="11"/>
                      </a:lnTo>
                      <a:lnTo>
                        <a:pt x="883" y="0"/>
                      </a:lnTo>
                      <a:lnTo>
                        <a:pt x="879" y="20"/>
                      </a:lnTo>
                      <a:lnTo>
                        <a:pt x="856" y="51"/>
                      </a:lnTo>
                      <a:lnTo>
                        <a:pt x="818" y="85"/>
                      </a:lnTo>
                      <a:lnTo>
                        <a:pt x="772" y="121"/>
                      </a:lnTo>
                      <a:lnTo>
                        <a:pt x="727" y="150"/>
                      </a:lnTo>
                      <a:lnTo>
                        <a:pt x="687" y="169"/>
                      </a:lnTo>
                      <a:lnTo>
                        <a:pt x="590" y="195"/>
                      </a:lnTo>
                      <a:lnTo>
                        <a:pt x="441" y="211"/>
                      </a:lnTo>
                      <a:lnTo>
                        <a:pt x="244" y="193"/>
                      </a:lnTo>
                      <a:lnTo>
                        <a:pt x="0" y="12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92040" y="936720"/>
                  <a:ext cx="415800" cy="131760"/>
                </a:xfrm>
                <a:custGeom>
                  <a:avLst/>
                  <a:gdLst/>
                  <a:ahLst/>
                  <a:rect l="l" t="t" r="r" b="b"/>
                  <a:pathLst>
                    <a:path w="1578" h="500">
                      <a:moveTo>
                        <a:pt x="5" y="0"/>
                      </a:moveTo>
                      <a:lnTo>
                        <a:pt x="0" y="83"/>
                      </a:lnTo>
                      <a:lnTo>
                        <a:pt x="38" y="123"/>
                      </a:lnTo>
                      <a:lnTo>
                        <a:pt x="74" y="154"/>
                      </a:lnTo>
                      <a:lnTo>
                        <a:pt x="121" y="190"/>
                      </a:lnTo>
                      <a:lnTo>
                        <a:pt x="180" y="232"/>
                      </a:lnTo>
                      <a:lnTo>
                        <a:pt x="213" y="252"/>
                      </a:lnTo>
                      <a:lnTo>
                        <a:pt x="249" y="273"/>
                      </a:lnTo>
                      <a:lnTo>
                        <a:pt x="287" y="296"/>
                      </a:lnTo>
                      <a:lnTo>
                        <a:pt x="327" y="317"/>
                      </a:lnTo>
                      <a:lnTo>
                        <a:pt x="370" y="340"/>
                      </a:lnTo>
                      <a:lnTo>
                        <a:pt x="416" y="361"/>
                      </a:lnTo>
                      <a:lnTo>
                        <a:pt x="517" y="401"/>
                      </a:lnTo>
                      <a:lnTo>
                        <a:pt x="625" y="435"/>
                      </a:lnTo>
                      <a:lnTo>
                        <a:pt x="745" y="465"/>
                      </a:lnTo>
                      <a:lnTo>
                        <a:pt x="872" y="486"/>
                      </a:lnTo>
                      <a:lnTo>
                        <a:pt x="1157" y="500"/>
                      </a:lnTo>
                      <a:lnTo>
                        <a:pt x="1477" y="462"/>
                      </a:lnTo>
                      <a:lnTo>
                        <a:pt x="1578" y="391"/>
                      </a:lnTo>
                      <a:lnTo>
                        <a:pt x="1469" y="404"/>
                      </a:lnTo>
                      <a:lnTo>
                        <a:pt x="1201" y="422"/>
                      </a:lnTo>
                      <a:lnTo>
                        <a:pt x="874" y="416"/>
                      </a:lnTo>
                      <a:lnTo>
                        <a:pt x="581" y="361"/>
                      </a:lnTo>
                      <a:lnTo>
                        <a:pt x="465" y="313"/>
                      </a:lnTo>
                      <a:lnTo>
                        <a:pt x="363" y="264"/>
                      </a:lnTo>
                      <a:lnTo>
                        <a:pt x="270" y="216"/>
                      </a:lnTo>
                      <a:lnTo>
                        <a:pt x="192" y="171"/>
                      </a:lnTo>
                      <a:lnTo>
                        <a:pt x="125" y="129"/>
                      </a:lnTo>
                      <a:lnTo>
                        <a:pt x="76" y="93"/>
                      </a:lnTo>
                      <a:lnTo>
                        <a:pt x="26" y="4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9360" y="999720"/>
                  <a:ext cx="90000" cy="50400"/>
                </a:xfrm>
                <a:custGeom>
                  <a:avLst/>
                  <a:gdLst/>
                  <a:ahLst/>
                  <a:rect l="l" t="t" r="r" b="b"/>
                  <a:pathLst>
                    <a:path w="342" h="192">
                      <a:moveTo>
                        <a:pt x="2" y="0"/>
                      </a:moveTo>
                      <a:lnTo>
                        <a:pt x="0" y="14"/>
                      </a:lnTo>
                      <a:lnTo>
                        <a:pt x="2" y="48"/>
                      </a:lnTo>
                      <a:lnTo>
                        <a:pt x="21" y="90"/>
                      </a:lnTo>
                      <a:lnTo>
                        <a:pt x="40" y="110"/>
                      </a:lnTo>
                      <a:lnTo>
                        <a:pt x="71" y="129"/>
                      </a:lnTo>
                      <a:lnTo>
                        <a:pt x="147" y="160"/>
                      </a:lnTo>
                      <a:lnTo>
                        <a:pt x="226" y="179"/>
                      </a:lnTo>
                      <a:lnTo>
                        <a:pt x="316" y="192"/>
                      </a:lnTo>
                      <a:lnTo>
                        <a:pt x="342" y="171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32600" y="856800"/>
                  <a:ext cx="225720" cy="250200"/>
                </a:xfrm>
                <a:custGeom>
                  <a:avLst/>
                  <a:gdLst/>
                  <a:ahLst/>
                  <a:rect l="l" t="t" r="r" b="b"/>
                  <a:pathLst>
                    <a:path w="856" h="951">
                      <a:moveTo>
                        <a:pt x="0" y="765"/>
                      </a:moveTo>
                      <a:lnTo>
                        <a:pt x="14" y="791"/>
                      </a:lnTo>
                      <a:lnTo>
                        <a:pt x="52" y="850"/>
                      </a:lnTo>
                      <a:lnTo>
                        <a:pt x="76" y="881"/>
                      </a:lnTo>
                      <a:lnTo>
                        <a:pt x="105" y="909"/>
                      </a:lnTo>
                      <a:lnTo>
                        <a:pt x="137" y="930"/>
                      </a:lnTo>
                      <a:lnTo>
                        <a:pt x="170" y="941"/>
                      </a:lnTo>
                      <a:lnTo>
                        <a:pt x="375" y="951"/>
                      </a:lnTo>
                      <a:lnTo>
                        <a:pt x="481" y="939"/>
                      </a:lnTo>
                      <a:lnTo>
                        <a:pt x="552" y="909"/>
                      </a:lnTo>
                      <a:lnTo>
                        <a:pt x="586" y="871"/>
                      </a:lnTo>
                      <a:lnTo>
                        <a:pt x="645" y="806"/>
                      </a:lnTo>
                      <a:lnTo>
                        <a:pt x="679" y="763"/>
                      </a:lnTo>
                      <a:lnTo>
                        <a:pt x="715" y="715"/>
                      </a:lnTo>
                      <a:lnTo>
                        <a:pt x="748" y="662"/>
                      </a:lnTo>
                      <a:lnTo>
                        <a:pt x="780" y="603"/>
                      </a:lnTo>
                      <a:lnTo>
                        <a:pt x="831" y="476"/>
                      </a:lnTo>
                      <a:lnTo>
                        <a:pt x="856" y="335"/>
                      </a:lnTo>
                      <a:lnTo>
                        <a:pt x="839" y="185"/>
                      </a:lnTo>
                      <a:lnTo>
                        <a:pt x="812" y="109"/>
                      </a:lnTo>
                      <a:lnTo>
                        <a:pt x="791" y="69"/>
                      </a:lnTo>
                      <a:lnTo>
                        <a:pt x="769" y="31"/>
                      </a:lnTo>
                      <a:lnTo>
                        <a:pt x="740" y="14"/>
                      </a:lnTo>
                      <a:lnTo>
                        <a:pt x="687" y="0"/>
                      </a:lnTo>
                      <a:lnTo>
                        <a:pt x="580" y="10"/>
                      </a:lnTo>
                      <a:lnTo>
                        <a:pt x="533" y="63"/>
                      </a:lnTo>
                      <a:lnTo>
                        <a:pt x="502" y="103"/>
                      </a:lnTo>
                      <a:lnTo>
                        <a:pt x="472" y="149"/>
                      </a:lnTo>
                      <a:lnTo>
                        <a:pt x="443" y="192"/>
                      </a:lnTo>
                      <a:lnTo>
                        <a:pt x="421" y="229"/>
                      </a:lnTo>
                      <a:lnTo>
                        <a:pt x="400" y="265"/>
                      </a:lnTo>
                      <a:lnTo>
                        <a:pt x="436" y="208"/>
                      </a:lnTo>
                      <a:lnTo>
                        <a:pt x="474" y="154"/>
                      </a:lnTo>
                      <a:lnTo>
                        <a:pt x="523" y="96"/>
                      </a:lnTo>
                      <a:lnTo>
                        <a:pt x="552" y="71"/>
                      </a:lnTo>
                      <a:lnTo>
                        <a:pt x="578" y="46"/>
                      </a:lnTo>
                      <a:lnTo>
                        <a:pt x="635" y="16"/>
                      </a:lnTo>
                      <a:lnTo>
                        <a:pt x="692" y="14"/>
                      </a:lnTo>
                      <a:lnTo>
                        <a:pt x="742" y="50"/>
                      </a:lnTo>
                      <a:lnTo>
                        <a:pt x="812" y="185"/>
                      </a:lnTo>
                      <a:lnTo>
                        <a:pt x="824" y="354"/>
                      </a:lnTo>
                      <a:lnTo>
                        <a:pt x="801" y="453"/>
                      </a:lnTo>
                      <a:lnTo>
                        <a:pt x="782" y="508"/>
                      </a:lnTo>
                      <a:lnTo>
                        <a:pt x="757" y="563"/>
                      </a:lnTo>
                      <a:lnTo>
                        <a:pt x="727" y="624"/>
                      </a:lnTo>
                      <a:lnTo>
                        <a:pt x="691" y="687"/>
                      </a:lnTo>
                      <a:lnTo>
                        <a:pt x="647" y="751"/>
                      </a:lnTo>
                      <a:lnTo>
                        <a:pt x="597" y="822"/>
                      </a:lnTo>
                      <a:lnTo>
                        <a:pt x="569" y="850"/>
                      </a:lnTo>
                      <a:lnTo>
                        <a:pt x="538" y="869"/>
                      </a:lnTo>
                      <a:lnTo>
                        <a:pt x="499" y="886"/>
                      </a:lnTo>
                      <a:lnTo>
                        <a:pt x="371" y="907"/>
                      </a:lnTo>
                      <a:lnTo>
                        <a:pt x="170" y="898"/>
                      </a:lnTo>
                      <a:lnTo>
                        <a:pt x="37" y="776"/>
                      </a:lnTo>
                      <a:lnTo>
                        <a:pt x="0" y="765"/>
                      </a:lnTo>
                      <a:lnTo>
                        <a:pt x="0" y="7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09400" y="743040"/>
                  <a:ext cx="150120" cy="226080"/>
                </a:xfrm>
                <a:custGeom>
                  <a:avLst/>
                  <a:gdLst/>
                  <a:ahLst/>
                  <a:rect l="l" t="t" r="r" b="b"/>
                  <a:pathLst>
                    <a:path w="571" h="857">
                      <a:moveTo>
                        <a:pt x="0" y="831"/>
                      </a:moveTo>
                      <a:lnTo>
                        <a:pt x="21" y="753"/>
                      </a:lnTo>
                      <a:lnTo>
                        <a:pt x="52" y="665"/>
                      </a:lnTo>
                      <a:lnTo>
                        <a:pt x="71" y="614"/>
                      </a:lnTo>
                      <a:lnTo>
                        <a:pt x="95" y="557"/>
                      </a:lnTo>
                      <a:lnTo>
                        <a:pt x="122" y="498"/>
                      </a:lnTo>
                      <a:lnTo>
                        <a:pt x="154" y="435"/>
                      </a:lnTo>
                      <a:lnTo>
                        <a:pt x="190" y="373"/>
                      </a:lnTo>
                      <a:lnTo>
                        <a:pt x="232" y="308"/>
                      </a:lnTo>
                      <a:lnTo>
                        <a:pt x="278" y="245"/>
                      </a:lnTo>
                      <a:lnTo>
                        <a:pt x="329" y="184"/>
                      </a:lnTo>
                      <a:lnTo>
                        <a:pt x="384" y="125"/>
                      </a:lnTo>
                      <a:lnTo>
                        <a:pt x="415" y="97"/>
                      </a:lnTo>
                      <a:lnTo>
                        <a:pt x="445" y="70"/>
                      </a:lnTo>
                      <a:lnTo>
                        <a:pt x="571" y="0"/>
                      </a:lnTo>
                      <a:lnTo>
                        <a:pt x="519" y="42"/>
                      </a:lnTo>
                      <a:lnTo>
                        <a:pt x="495" y="67"/>
                      </a:lnTo>
                      <a:lnTo>
                        <a:pt x="464" y="97"/>
                      </a:lnTo>
                      <a:lnTo>
                        <a:pt x="396" y="173"/>
                      </a:lnTo>
                      <a:lnTo>
                        <a:pt x="360" y="219"/>
                      </a:lnTo>
                      <a:lnTo>
                        <a:pt x="320" y="272"/>
                      </a:lnTo>
                      <a:lnTo>
                        <a:pt x="280" y="331"/>
                      </a:lnTo>
                      <a:lnTo>
                        <a:pt x="240" y="395"/>
                      </a:lnTo>
                      <a:lnTo>
                        <a:pt x="202" y="464"/>
                      </a:lnTo>
                      <a:lnTo>
                        <a:pt x="164" y="540"/>
                      </a:lnTo>
                      <a:lnTo>
                        <a:pt x="126" y="623"/>
                      </a:lnTo>
                      <a:lnTo>
                        <a:pt x="92" y="711"/>
                      </a:lnTo>
                      <a:lnTo>
                        <a:pt x="71" y="857"/>
                      </a:lnTo>
                      <a:lnTo>
                        <a:pt x="0" y="831"/>
                      </a:lnTo>
                      <a:lnTo>
                        <a:pt x="0" y="8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18280" y="780480"/>
                  <a:ext cx="81720" cy="83520"/>
                </a:xfrm>
                <a:custGeom>
                  <a:avLst/>
                  <a:gdLst/>
                  <a:ahLst/>
                  <a:rect l="l" t="t" r="r" b="b"/>
                  <a:pathLst>
                    <a:path w="310" h="317">
                      <a:moveTo>
                        <a:pt x="9" y="307"/>
                      </a:moveTo>
                      <a:lnTo>
                        <a:pt x="2" y="317"/>
                      </a:lnTo>
                      <a:lnTo>
                        <a:pt x="0" y="298"/>
                      </a:lnTo>
                      <a:lnTo>
                        <a:pt x="22" y="211"/>
                      </a:lnTo>
                      <a:lnTo>
                        <a:pt x="45" y="155"/>
                      </a:lnTo>
                      <a:lnTo>
                        <a:pt x="74" y="100"/>
                      </a:lnTo>
                      <a:lnTo>
                        <a:pt x="108" y="53"/>
                      </a:lnTo>
                      <a:lnTo>
                        <a:pt x="148" y="22"/>
                      </a:lnTo>
                      <a:lnTo>
                        <a:pt x="220" y="0"/>
                      </a:lnTo>
                      <a:lnTo>
                        <a:pt x="270" y="7"/>
                      </a:lnTo>
                      <a:lnTo>
                        <a:pt x="310" y="38"/>
                      </a:lnTo>
                      <a:lnTo>
                        <a:pt x="207" y="85"/>
                      </a:lnTo>
                      <a:lnTo>
                        <a:pt x="161" y="119"/>
                      </a:lnTo>
                      <a:lnTo>
                        <a:pt x="112" y="167"/>
                      </a:lnTo>
                      <a:lnTo>
                        <a:pt x="60" y="228"/>
                      </a:lnTo>
                      <a:lnTo>
                        <a:pt x="9" y="307"/>
                      </a:lnTo>
                      <a:lnTo>
                        <a:pt x="9" y="307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44480" y="1061280"/>
                  <a:ext cx="100080" cy="11880"/>
                </a:xfrm>
                <a:custGeom>
                  <a:avLst/>
                  <a:gdLst/>
                  <a:ahLst/>
                  <a:rect l="l" t="t" r="r" b="b"/>
                  <a:pathLst>
                    <a:path w="380" h="48">
                      <a:moveTo>
                        <a:pt x="0" y="15"/>
                      </a:moveTo>
                      <a:lnTo>
                        <a:pt x="380" y="0"/>
                      </a:lnTo>
                      <a:lnTo>
                        <a:pt x="0" y="48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51680" y="1076400"/>
                  <a:ext cx="71280" cy="115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0" y="11"/>
                      </a:moveTo>
                      <a:lnTo>
                        <a:pt x="270" y="0"/>
                      </a:lnTo>
                      <a:lnTo>
                        <a:pt x="42" y="44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53560" y="895320"/>
                  <a:ext cx="6948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521">
                      <a:moveTo>
                        <a:pt x="32" y="521"/>
                      </a:moveTo>
                      <a:lnTo>
                        <a:pt x="47" y="363"/>
                      </a:lnTo>
                      <a:lnTo>
                        <a:pt x="60" y="298"/>
                      </a:lnTo>
                      <a:lnTo>
                        <a:pt x="81" y="236"/>
                      </a:lnTo>
                      <a:lnTo>
                        <a:pt x="110" y="180"/>
                      </a:lnTo>
                      <a:lnTo>
                        <a:pt x="150" y="139"/>
                      </a:lnTo>
                      <a:lnTo>
                        <a:pt x="169" y="125"/>
                      </a:lnTo>
                      <a:lnTo>
                        <a:pt x="195" y="112"/>
                      </a:lnTo>
                      <a:lnTo>
                        <a:pt x="216" y="123"/>
                      </a:lnTo>
                      <a:lnTo>
                        <a:pt x="222" y="182"/>
                      </a:lnTo>
                      <a:lnTo>
                        <a:pt x="197" y="329"/>
                      </a:lnTo>
                      <a:lnTo>
                        <a:pt x="180" y="388"/>
                      </a:lnTo>
                      <a:lnTo>
                        <a:pt x="218" y="329"/>
                      </a:lnTo>
                      <a:lnTo>
                        <a:pt x="264" y="118"/>
                      </a:lnTo>
                      <a:lnTo>
                        <a:pt x="262" y="66"/>
                      </a:lnTo>
                      <a:lnTo>
                        <a:pt x="251" y="26"/>
                      </a:lnTo>
                      <a:lnTo>
                        <a:pt x="226" y="0"/>
                      </a:lnTo>
                      <a:lnTo>
                        <a:pt x="167" y="6"/>
                      </a:lnTo>
                      <a:lnTo>
                        <a:pt x="91" y="80"/>
                      </a:lnTo>
                      <a:lnTo>
                        <a:pt x="22" y="226"/>
                      </a:lnTo>
                      <a:lnTo>
                        <a:pt x="0" y="348"/>
                      </a:lnTo>
                      <a:lnTo>
                        <a:pt x="9" y="462"/>
                      </a:lnTo>
                      <a:lnTo>
                        <a:pt x="32" y="521"/>
                      </a:lnTo>
                      <a:lnTo>
                        <a:pt x="32" y="5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2840" y="1088280"/>
                  <a:ext cx="48240" cy="8280"/>
                </a:xfrm>
                <a:custGeom>
                  <a:avLst/>
                  <a:gdLst/>
                  <a:ahLst/>
                  <a:rect l="l" t="t" r="r" b="b"/>
                  <a:pathLst>
                    <a:path w="184" h="32">
                      <a:moveTo>
                        <a:pt x="38" y="32"/>
                      </a:moveTo>
                      <a:lnTo>
                        <a:pt x="184" y="0"/>
                      </a:lnTo>
                      <a:lnTo>
                        <a:pt x="0" y="0"/>
                      </a:lnTo>
                      <a:lnTo>
                        <a:pt x="38" y="32"/>
                      </a:lnTo>
                      <a:lnTo>
                        <a:pt x="3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049760" y="799200"/>
                  <a:ext cx="101160" cy="133200"/>
                </a:xfrm>
                <a:custGeom>
                  <a:avLst/>
                  <a:gdLst/>
                  <a:ahLst/>
                  <a:rect l="l" t="t" r="r" b="b"/>
                  <a:pathLst>
                    <a:path w="384" h="505">
                      <a:moveTo>
                        <a:pt x="384" y="0"/>
                      </a:moveTo>
                      <a:lnTo>
                        <a:pt x="371" y="188"/>
                      </a:lnTo>
                      <a:lnTo>
                        <a:pt x="352" y="273"/>
                      </a:lnTo>
                      <a:lnTo>
                        <a:pt x="321" y="355"/>
                      </a:lnTo>
                      <a:lnTo>
                        <a:pt x="302" y="393"/>
                      </a:lnTo>
                      <a:lnTo>
                        <a:pt x="280" y="429"/>
                      </a:lnTo>
                      <a:lnTo>
                        <a:pt x="253" y="458"/>
                      </a:lnTo>
                      <a:lnTo>
                        <a:pt x="222" y="483"/>
                      </a:lnTo>
                      <a:lnTo>
                        <a:pt x="162" y="505"/>
                      </a:lnTo>
                      <a:lnTo>
                        <a:pt x="114" y="503"/>
                      </a:lnTo>
                      <a:lnTo>
                        <a:pt x="74" y="479"/>
                      </a:lnTo>
                      <a:lnTo>
                        <a:pt x="46" y="445"/>
                      </a:lnTo>
                      <a:lnTo>
                        <a:pt x="10" y="365"/>
                      </a:lnTo>
                      <a:lnTo>
                        <a:pt x="0" y="325"/>
                      </a:lnTo>
                      <a:lnTo>
                        <a:pt x="89" y="192"/>
                      </a:lnTo>
                      <a:lnTo>
                        <a:pt x="78" y="298"/>
                      </a:lnTo>
                      <a:lnTo>
                        <a:pt x="84" y="380"/>
                      </a:lnTo>
                      <a:lnTo>
                        <a:pt x="93" y="412"/>
                      </a:lnTo>
                      <a:lnTo>
                        <a:pt x="112" y="431"/>
                      </a:lnTo>
                      <a:lnTo>
                        <a:pt x="158" y="441"/>
                      </a:lnTo>
                      <a:lnTo>
                        <a:pt x="211" y="424"/>
                      </a:lnTo>
                      <a:lnTo>
                        <a:pt x="316" y="287"/>
                      </a:lnTo>
                      <a:lnTo>
                        <a:pt x="354" y="144"/>
                      </a:lnTo>
                      <a:lnTo>
                        <a:pt x="384" y="0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018800" y="912240"/>
                  <a:ext cx="47160" cy="24480"/>
                </a:xfrm>
                <a:custGeom>
                  <a:avLst/>
                  <a:gdLst/>
                  <a:ahLst/>
                  <a:rect l="l" t="t" r="r" b="b"/>
                  <a:pathLst>
                    <a:path w="181" h="94">
                      <a:moveTo>
                        <a:pt x="0" y="8"/>
                      </a:moveTo>
                      <a:lnTo>
                        <a:pt x="15" y="35"/>
                      </a:lnTo>
                      <a:lnTo>
                        <a:pt x="36" y="56"/>
                      </a:lnTo>
                      <a:lnTo>
                        <a:pt x="65" y="73"/>
                      </a:lnTo>
                      <a:lnTo>
                        <a:pt x="181" y="94"/>
                      </a:lnTo>
                      <a:lnTo>
                        <a:pt x="114" y="63"/>
                      </a:lnTo>
                      <a:lnTo>
                        <a:pt x="59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962640" y="862920"/>
                  <a:ext cx="56880" cy="86400"/>
                </a:xfrm>
                <a:custGeom>
                  <a:avLst/>
                  <a:gdLst/>
                  <a:ahLst/>
                  <a:rect l="l" t="t" r="r" b="b"/>
                  <a:pathLst>
                    <a:path w="217" h="327">
                      <a:moveTo>
                        <a:pt x="14" y="226"/>
                      </a:moveTo>
                      <a:lnTo>
                        <a:pt x="90" y="32"/>
                      </a:lnTo>
                      <a:lnTo>
                        <a:pt x="63" y="156"/>
                      </a:lnTo>
                      <a:lnTo>
                        <a:pt x="147" y="13"/>
                      </a:lnTo>
                      <a:lnTo>
                        <a:pt x="95" y="160"/>
                      </a:lnTo>
                      <a:lnTo>
                        <a:pt x="207" y="0"/>
                      </a:lnTo>
                      <a:lnTo>
                        <a:pt x="147" y="150"/>
                      </a:lnTo>
                      <a:lnTo>
                        <a:pt x="196" y="82"/>
                      </a:lnTo>
                      <a:lnTo>
                        <a:pt x="177" y="166"/>
                      </a:lnTo>
                      <a:lnTo>
                        <a:pt x="217" y="109"/>
                      </a:lnTo>
                      <a:lnTo>
                        <a:pt x="207" y="200"/>
                      </a:lnTo>
                      <a:lnTo>
                        <a:pt x="188" y="230"/>
                      </a:lnTo>
                      <a:lnTo>
                        <a:pt x="0" y="327"/>
                      </a:lnTo>
                      <a:lnTo>
                        <a:pt x="14" y="226"/>
                      </a:lnTo>
                      <a:lnTo>
                        <a:pt x="14" y="2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147680" y="824760"/>
                  <a:ext cx="38880" cy="31320"/>
                </a:xfrm>
                <a:custGeom>
                  <a:avLst/>
                  <a:gdLst/>
                  <a:ahLst/>
                  <a:rect l="l" t="t" r="r" b="b"/>
                  <a:pathLst>
                    <a:path w="146" h="120">
                      <a:moveTo>
                        <a:pt x="0" y="120"/>
                      </a:moveTo>
                      <a:lnTo>
                        <a:pt x="146" y="0"/>
                      </a:lnTo>
                      <a:lnTo>
                        <a:pt x="5" y="61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132560" y="796320"/>
                  <a:ext cx="138600" cy="86760"/>
                </a:xfrm>
                <a:custGeom>
                  <a:avLst/>
                  <a:gdLst/>
                  <a:ahLst/>
                  <a:rect l="l" t="t" r="r" b="b"/>
                  <a:pathLst>
                    <a:path w="526" h="331">
                      <a:moveTo>
                        <a:pt x="0" y="331"/>
                      </a:moveTo>
                      <a:lnTo>
                        <a:pt x="526" y="0"/>
                      </a:lnTo>
                      <a:lnTo>
                        <a:pt x="450" y="10"/>
                      </a:lnTo>
                      <a:lnTo>
                        <a:pt x="38" y="238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871920" y="953280"/>
                  <a:ext cx="176040" cy="143280"/>
                </a:xfrm>
                <a:custGeom>
                  <a:avLst/>
                  <a:gdLst/>
                  <a:ahLst/>
                  <a:rect l="l" t="t" r="r" b="b"/>
                  <a:pathLst>
                    <a:path w="669" h="544">
                      <a:moveTo>
                        <a:pt x="0" y="544"/>
                      </a:moveTo>
                      <a:lnTo>
                        <a:pt x="108" y="512"/>
                      </a:lnTo>
                      <a:lnTo>
                        <a:pt x="669" y="0"/>
                      </a:lnTo>
                      <a:lnTo>
                        <a:pt x="576" y="38"/>
                      </a:lnTo>
                      <a:lnTo>
                        <a:pt x="185" y="337"/>
                      </a:lnTo>
                      <a:lnTo>
                        <a:pt x="0" y="544"/>
                      </a:lnTo>
                      <a:lnTo>
                        <a:pt x="0" y="5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05560" y="837360"/>
                  <a:ext cx="115200" cy="90360"/>
                </a:xfrm>
                <a:custGeom>
                  <a:avLst/>
                  <a:gdLst/>
                  <a:ahLst/>
                  <a:rect l="l" t="t" r="r" b="b"/>
                  <a:pathLst>
                    <a:path w="439" h="344">
                      <a:moveTo>
                        <a:pt x="0" y="344"/>
                      </a:moveTo>
                      <a:lnTo>
                        <a:pt x="439" y="55"/>
                      </a:lnTo>
                      <a:lnTo>
                        <a:pt x="114" y="230"/>
                      </a:lnTo>
                      <a:lnTo>
                        <a:pt x="439" y="0"/>
                      </a:lnTo>
                      <a:lnTo>
                        <a:pt x="114" y="175"/>
                      </a:lnTo>
                      <a:lnTo>
                        <a:pt x="103" y="230"/>
                      </a:lnTo>
                      <a:lnTo>
                        <a:pt x="0" y="344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94760" y="779760"/>
                  <a:ext cx="41400" cy="94680"/>
                </a:xfrm>
                <a:custGeom>
                  <a:avLst/>
                  <a:gdLst/>
                  <a:ahLst/>
                  <a:rect l="l" t="t" r="r" b="b"/>
                  <a:pathLst>
                    <a:path w="160" h="359">
                      <a:moveTo>
                        <a:pt x="25" y="359"/>
                      </a:moveTo>
                      <a:lnTo>
                        <a:pt x="0" y="266"/>
                      </a:lnTo>
                      <a:lnTo>
                        <a:pt x="14" y="161"/>
                      </a:lnTo>
                      <a:lnTo>
                        <a:pt x="38" y="98"/>
                      </a:lnTo>
                      <a:lnTo>
                        <a:pt x="57" y="64"/>
                      </a:lnTo>
                      <a:lnTo>
                        <a:pt x="80" y="28"/>
                      </a:lnTo>
                      <a:lnTo>
                        <a:pt x="92" y="19"/>
                      </a:lnTo>
                      <a:lnTo>
                        <a:pt x="114" y="3"/>
                      </a:lnTo>
                      <a:lnTo>
                        <a:pt x="141" y="0"/>
                      </a:lnTo>
                      <a:lnTo>
                        <a:pt x="154" y="24"/>
                      </a:lnTo>
                      <a:lnTo>
                        <a:pt x="160" y="131"/>
                      </a:lnTo>
                      <a:lnTo>
                        <a:pt x="152" y="188"/>
                      </a:lnTo>
                      <a:lnTo>
                        <a:pt x="133" y="237"/>
                      </a:lnTo>
                      <a:lnTo>
                        <a:pt x="107" y="260"/>
                      </a:lnTo>
                      <a:lnTo>
                        <a:pt x="105" y="239"/>
                      </a:lnTo>
                      <a:lnTo>
                        <a:pt x="107" y="79"/>
                      </a:lnTo>
                      <a:lnTo>
                        <a:pt x="61" y="150"/>
                      </a:lnTo>
                      <a:lnTo>
                        <a:pt x="48" y="207"/>
                      </a:lnTo>
                      <a:lnTo>
                        <a:pt x="33" y="323"/>
                      </a:lnTo>
                      <a:lnTo>
                        <a:pt x="25" y="359"/>
                      </a:lnTo>
                      <a:lnTo>
                        <a:pt x="25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053360" y="698040"/>
                  <a:ext cx="47880" cy="39240"/>
                </a:xfrm>
                <a:custGeom>
                  <a:avLst/>
                  <a:gdLst/>
                  <a:ahLst/>
                  <a:rect l="l" t="t" r="r" b="b"/>
                  <a:pathLst>
                    <a:path w="183" h="148">
                      <a:moveTo>
                        <a:pt x="0" y="148"/>
                      </a:moveTo>
                      <a:lnTo>
                        <a:pt x="29" y="93"/>
                      </a:lnTo>
                      <a:lnTo>
                        <a:pt x="63" y="47"/>
                      </a:lnTo>
                      <a:lnTo>
                        <a:pt x="84" y="28"/>
                      </a:lnTo>
                      <a:lnTo>
                        <a:pt x="109" y="13"/>
                      </a:lnTo>
                      <a:lnTo>
                        <a:pt x="158" y="0"/>
                      </a:lnTo>
                      <a:lnTo>
                        <a:pt x="183" y="7"/>
                      </a:lnTo>
                      <a:lnTo>
                        <a:pt x="164" y="28"/>
                      </a:lnTo>
                      <a:lnTo>
                        <a:pt x="124" y="57"/>
                      </a:lnTo>
                      <a:lnTo>
                        <a:pt x="88" y="89"/>
                      </a:lnTo>
                      <a:lnTo>
                        <a:pt x="57" y="120"/>
                      </a:lnTo>
                      <a:lnTo>
                        <a:pt x="29" y="137"/>
                      </a:lnTo>
                      <a:lnTo>
                        <a:pt x="0" y="148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10920" y="996840"/>
                  <a:ext cx="128520" cy="23400"/>
                </a:xfrm>
                <a:custGeom>
                  <a:avLst/>
                  <a:gdLst/>
                  <a:ahLst/>
                  <a:rect l="l" t="t" r="r" b="b"/>
                  <a:pathLst>
                    <a:path w="487" h="89">
                      <a:moveTo>
                        <a:pt x="0" y="72"/>
                      </a:moveTo>
                      <a:lnTo>
                        <a:pt x="196" y="55"/>
                      </a:lnTo>
                      <a:lnTo>
                        <a:pt x="455" y="7"/>
                      </a:lnTo>
                      <a:lnTo>
                        <a:pt x="487" y="0"/>
                      </a:lnTo>
                      <a:lnTo>
                        <a:pt x="461" y="28"/>
                      </a:lnTo>
                      <a:lnTo>
                        <a:pt x="430" y="45"/>
                      </a:lnTo>
                      <a:lnTo>
                        <a:pt x="388" y="64"/>
                      </a:lnTo>
                      <a:lnTo>
                        <a:pt x="284" y="89"/>
                      </a:lnTo>
                      <a:lnTo>
                        <a:pt x="82" y="83"/>
                      </a:lnTo>
                      <a:lnTo>
                        <a:pt x="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05960" y="528480"/>
                  <a:ext cx="95400" cy="41040"/>
                </a:xfrm>
                <a:custGeom>
                  <a:avLst/>
                  <a:gdLst/>
                  <a:ahLst/>
                  <a:rect l="l" t="t" r="r" b="b"/>
                  <a:pathLst>
                    <a:path w="361" h="156">
                      <a:moveTo>
                        <a:pt x="0" y="133"/>
                      </a:moveTo>
                      <a:lnTo>
                        <a:pt x="34" y="114"/>
                      </a:lnTo>
                      <a:lnTo>
                        <a:pt x="74" y="94"/>
                      </a:lnTo>
                      <a:lnTo>
                        <a:pt x="121" y="71"/>
                      </a:lnTo>
                      <a:lnTo>
                        <a:pt x="178" y="48"/>
                      </a:lnTo>
                      <a:lnTo>
                        <a:pt x="239" y="25"/>
                      </a:lnTo>
                      <a:lnTo>
                        <a:pt x="361" y="0"/>
                      </a:lnTo>
                      <a:lnTo>
                        <a:pt x="329" y="14"/>
                      </a:lnTo>
                      <a:lnTo>
                        <a:pt x="256" y="46"/>
                      </a:lnTo>
                      <a:lnTo>
                        <a:pt x="182" y="90"/>
                      </a:lnTo>
                      <a:lnTo>
                        <a:pt x="146" y="133"/>
                      </a:lnTo>
                      <a:lnTo>
                        <a:pt x="139" y="149"/>
                      </a:lnTo>
                      <a:lnTo>
                        <a:pt x="120" y="156"/>
                      </a:lnTo>
                      <a:lnTo>
                        <a:pt x="70" y="154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27680" y="803520"/>
                  <a:ext cx="29520" cy="32760"/>
                </a:xfrm>
                <a:custGeom>
                  <a:avLst/>
                  <a:gdLst/>
                  <a:ahLst/>
                  <a:rect l="l" t="t" r="r" b="b"/>
                  <a:pathLst>
                    <a:path w="113" h="125">
                      <a:moveTo>
                        <a:pt x="14" y="61"/>
                      </a:moveTo>
                      <a:lnTo>
                        <a:pt x="52" y="15"/>
                      </a:lnTo>
                      <a:lnTo>
                        <a:pt x="84" y="0"/>
                      </a:lnTo>
                      <a:lnTo>
                        <a:pt x="113" y="4"/>
                      </a:lnTo>
                      <a:lnTo>
                        <a:pt x="57" y="87"/>
                      </a:lnTo>
                      <a:lnTo>
                        <a:pt x="44" y="125"/>
                      </a:lnTo>
                      <a:lnTo>
                        <a:pt x="25" y="122"/>
                      </a:lnTo>
                      <a:lnTo>
                        <a:pt x="0" y="89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03800" y="844560"/>
                  <a:ext cx="56880" cy="54360"/>
                </a:xfrm>
                <a:custGeom>
                  <a:avLst/>
                  <a:gdLst/>
                  <a:ahLst/>
                  <a:rect l="l" t="t" r="r" b="b"/>
                  <a:pathLst>
                    <a:path w="217" h="205">
                      <a:moveTo>
                        <a:pt x="0" y="205"/>
                      </a:moveTo>
                      <a:lnTo>
                        <a:pt x="12" y="137"/>
                      </a:lnTo>
                      <a:lnTo>
                        <a:pt x="42" y="78"/>
                      </a:lnTo>
                      <a:lnTo>
                        <a:pt x="69" y="49"/>
                      </a:lnTo>
                      <a:lnTo>
                        <a:pt x="109" y="23"/>
                      </a:lnTo>
                      <a:lnTo>
                        <a:pt x="173" y="0"/>
                      </a:lnTo>
                      <a:lnTo>
                        <a:pt x="207" y="7"/>
                      </a:lnTo>
                      <a:lnTo>
                        <a:pt x="217" y="38"/>
                      </a:lnTo>
                      <a:lnTo>
                        <a:pt x="188" y="108"/>
                      </a:lnTo>
                      <a:lnTo>
                        <a:pt x="137" y="161"/>
                      </a:lnTo>
                      <a:lnTo>
                        <a:pt x="99" y="184"/>
                      </a:lnTo>
                      <a:lnTo>
                        <a:pt x="50" y="199"/>
                      </a:lnTo>
                      <a:lnTo>
                        <a:pt x="0" y="205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825480" y="946440"/>
                  <a:ext cx="72720" cy="128520"/>
                </a:xfrm>
                <a:custGeom>
                  <a:avLst/>
                  <a:gdLst/>
                  <a:ahLst/>
                  <a:rect l="l" t="t" r="r" b="b"/>
                  <a:pathLst>
                    <a:path w="276" h="488">
                      <a:moveTo>
                        <a:pt x="160" y="484"/>
                      </a:moveTo>
                      <a:lnTo>
                        <a:pt x="97" y="488"/>
                      </a:lnTo>
                      <a:lnTo>
                        <a:pt x="25" y="433"/>
                      </a:lnTo>
                      <a:lnTo>
                        <a:pt x="0" y="283"/>
                      </a:lnTo>
                      <a:lnTo>
                        <a:pt x="21" y="161"/>
                      </a:lnTo>
                      <a:lnTo>
                        <a:pt x="44" y="85"/>
                      </a:lnTo>
                      <a:lnTo>
                        <a:pt x="76" y="0"/>
                      </a:lnTo>
                      <a:lnTo>
                        <a:pt x="93" y="399"/>
                      </a:lnTo>
                      <a:lnTo>
                        <a:pt x="128" y="418"/>
                      </a:lnTo>
                      <a:lnTo>
                        <a:pt x="160" y="422"/>
                      </a:lnTo>
                      <a:lnTo>
                        <a:pt x="219" y="395"/>
                      </a:lnTo>
                      <a:lnTo>
                        <a:pt x="261" y="351"/>
                      </a:lnTo>
                      <a:lnTo>
                        <a:pt x="276" y="329"/>
                      </a:lnTo>
                      <a:lnTo>
                        <a:pt x="242" y="395"/>
                      </a:lnTo>
                      <a:lnTo>
                        <a:pt x="206" y="446"/>
                      </a:lnTo>
                      <a:lnTo>
                        <a:pt x="183" y="469"/>
                      </a:lnTo>
                      <a:lnTo>
                        <a:pt x="160" y="484"/>
                      </a:lnTo>
                      <a:lnTo>
                        <a:pt x="160" y="484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99960" y="934200"/>
                  <a:ext cx="151560" cy="87840"/>
                </a:xfrm>
                <a:custGeom>
                  <a:avLst/>
                  <a:gdLst/>
                  <a:ahLst/>
                  <a:rect l="l" t="t" r="r" b="b"/>
                  <a:pathLst>
                    <a:path w="576" h="335">
                      <a:moveTo>
                        <a:pt x="0" y="0"/>
                      </a:moveTo>
                      <a:lnTo>
                        <a:pt x="49" y="38"/>
                      </a:lnTo>
                      <a:lnTo>
                        <a:pt x="105" y="78"/>
                      </a:lnTo>
                      <a:lnTo>
                        <a:pt x="139" y="101"/>
                      </a:lnTo>
                      <a:lnTo>
                        <a:pt x="177" y="127"/>
                      </a:lnTo>
                      <a:lnTo>
                        <a:pt x="219" y="154"/>
                      </a:lnTo>
                      <a:lnTo>
                        <a:pt x="264" y="183"/>
                      </a:lnTo>
                      <a:lnTo>
                        <a:pt x="312" y="209"/>
                      </a:lnTo>
                      <a:lnTo>
                        <a:pt x="361" y="238"/>
                      </a:lnTo>
                      <a:lnTo>
                        <a:pt x="413" y="264"/>
                      </a:lnTo>
                      <a:lnTo>
                        <a:pt x="466" y="289"/>
                      </a:lnTo>
                      <a:lnTo>
                        <a:pt x="521" y="314"/>
                      </a:lnTo>
                      <a:lnTo>
                        <a:pt x="576" y="335"/>
                      </a:lnTo>
                      <a:lnTo>
                        <a:pt x="534" y="321"/>
                      </a:lnTo>
                      <a:lnTo>
                        <a:pt x="430" y="283"/>
                      </a:lnTo>
                      <a:lnTo>
                        <a:pt x="367" y="261"/>
                      </a:lnTo>
                      <a:lnTo>
                        <a:pt x="302" y="234"/>
                      </a:lnTo>
                      <a:lnTo>
                        <a:pt x="240" y="203"/>
                      </a:lnTo>
                      <a:lnTo>
                        <a:pt x="186" y="173"/>
                      </a:lnTo>
                      <a:lnTo>
                        <a:pt x="141" y="143"/>
                      </a:lnTo>
                      <a:lnTo>
                        <a:pt x="101" y="112"/>
                      </a:lnTo>
                      <a:lnTo>
                        <a:pt x="68" y="84"/>
                      </a:lnTo>
                      <a:lnTo>
                        <a:pt x="44" y="5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84200" y="684000"/>
                  <a:ext cx="327960" cy="196200"/>
                </a:xfrm>
                <a:custGeom>
                  <a:avLst/>
                  <a:gdLst/>
                  <a:ahLst/>
                  <a:rect l="l" t="t" r="r" b="b"/>
                  <a:pathLst>
                    <a:path w="1246" h="747">
                      <a:moveTo>
                        <a:pt x="419" y="0"/>
                      </a:moveTo>
                      <a:lnTo>
                        <a:pt x="426" y="26"/>
                      </a:lnTo>
                      <a:lnTo>
                        <a:pt x="455" y="55"/>
                      </a:lnTo>
                      <a:lnTo>
                        <a:pt x="510" y="89"/>
                      </a:lnTo>
                      <a:lnTo>
                        <a:pt x="607" y="125"/>
                      </a:lnTo>
                      <a:lnTo>
                        <a:pt x="753" y="159"/>
                      </a:lnTo>
                      <a:lnTo>
                        <a:pt x="962" y="190"/>
                      </a:lnTo>
                      <a:lnTo>
                        <a:pt x="1246" y="211"/>
                      </a:lnTo>
                      <a:lnTo>
                        <a:pt x="985" y="226"/>
                      </a:lnTo>
                      <a:lnTo>
                        <a:pt x="719" y="214"/>
                      </a:lnTo>
                      <a:lnTo>
                        <a:pt x="419" y="157"/>
                      </a:lnTo>
                      <a:lnTo>
                        <a:pt x="379" y="195"/>
                      </a:lnTo>
                      <a:lnTo>
                        <a:pt x="333" y="243"/>
                      </a:lnTo>
                      <a:lnTo>
                        <a:pt x="278" y="308"/>
                      </a:lnTo>
                      <a:lnTo>
                        <a:pt x="246" y="348"/>
                      </a:lnTo>
                      <a:lnTo>
                        <a:pt x="211" y="391"/>
                      </a:lnTo>
                      <a:lnTo>
                        <a:pt x="177" y="439"/>
                      </a:lnTo>
                      <a:lnTo>
                        <a:pt x="141" y="492"/>
                      </a:lnTo>
                      <a:lnTo>
                        <a:pt x="105" y="549"/>
                      </a:lnTo>
                      <a:lnTo>
                        <a:pt x="69" y="610"/>
                      </a:lnTo>
                      <a:lnTo>
                        <a:pt x="35" y="676"/>
                      </a:lnTo>
                      <a:lnTo>
                        <a:pt x="0" y="747"/>
                      </a:lnTo>
                      <a:lnTo>
                        <a:pt x="33" y="659"/>
                      </a:lnTo>
                      <a:lnTo>
                        <a:pt x="69" y="568"/>
                      </a:lnTo>
                      <a:lnTo>
                        <a:pt x="92" y="517"/>
                      </a:lnTo>
                      <a:lnTo>
                        <a:pt x="116" y="462"/>
                      </a:lnTo>
                      <a:lnTo>
                        <a:pt x="145" y="405"/>
                      </a:lnTo>
                      <a:lnTo>
                        <a:pt x="173" y="349"/>
                      </a:lnTo>
                      <a:lnTo>
                        <a:pt x="204" y="294"/>
                      </a:lnTo>
                      <a:lnTo>
                        <a:pt x="234" y="243"/>
                      </a:lnTo>
                      <a:lnTo>
                        <a:pt x="267" y="197"/>
                      </a:lnTo>
                      <a:lnTo>
                        <a:pt x="299" y="157"/>
                      </a:lnTo>
                      <a:lnTo>
                        <a:pt x="333" y="123"/>
                      </a:lnTo>
                      <a:lnTo>
                        <a:pt x="365" y="100"/>
                      </a:lnTo>
                      <a:lnTo>
                        <a:pt x="419" y="0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1217520" y="587520"/>
                <a:ext cx="200160" cy="5047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1720" y="1000080"/>
                <a:ext cx="755640" cy="214200"/>
              </a:xfrm>
              <a:custGeom>
                <a:avLst/>
                <a:gdLst/>
                <a:ahLst/>
                <a:rect l="l" t="t" r="r" b="b"/>
                <a:pathLst>
                  <a:path w="476" h="135">
                    <a:moveTo>
                      <a:pt x="0" y="18"/>
                    </a:moveTo>
                    <a:cubicBezTo>
                      <a:pt x="7" y="53"/>
                      <a:pt x="15" y="88"/>
                      <a:pt x="48" y="105"/>
                    </a:cubicBezTo>
                    <a:cubicBezTo>
                      <a:pt x="81" y="122"/>
                      <a:pt x="129" y="135"/>
                      <a:pt x="200" y="118"/>
                    </a:cubicBezTo>
                    <a:cubicBezTo>
                      <a:pt x="271" y="101"/>
                      <a:pt x="373" y="50"/>
                      <a:pt x="476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49560" y="64440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1" y="12"/>
                    </a:moveTo>
                    <a:lnTo>
                      <a:pt x="1" y="63"/>
                    </a:lnTo>
                    <a:lnTo>
                      <a:pt x="81" y="77"/>
                    </a:lnTo>
                    <a:lnTo>
                      <a:pt x="8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1530360" y="2685960"/>
              <a:ext cx="1030320" cy="699840"/>
              <a:chOff x="1530360" y="2685960"/>
              <a:chExt cx="1030320" cy="6998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1530360" y="2685960"/>
                <a:ext cx="941400" cy="606240"/>
                <a:chOff x="1530360" y="2685960"/>
                <a:chExt cx="941400" cy="6062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639440" y="2814840"/>
                  <a:ext cx="832320" cy="477360"/>
                </a:xfrm>
                <a:custGeom>
                  <a:avLst/>
                  <a:gdLst/>
                  <a:ahLst/>
                  <a:rect l="l" t="t" r="r" b="b"/>
                  <a:pathLst>
                    <a:path w="3154" h="1811">
                      <a:moveTo>
                        <a:pt x="220" y="1716"/>
                      </a:moveTo>
                      <a:lnTo>
                        <a:pt x="384" y="1752"/>
                      </a:lnTo>
                      <a:lnTo>
                        <a:pt x="532" y="1779"/>
                      </a:lnTo>
                      <a:lnTo>
                        <a:pt x="791" y="1811"/>
                      </a:lnTo>
                      <a:lnTo>
                        <a:pt x="1152" y="1811"/>
                      </a:lnTo>
                      <a:lnTo>
                        <a:pt x="1342" y="1773"/>
                      </a:lnTo>
                      <a:lnTo>
                        <a:pt x="1397" y="1747"/>
                      </a:lnTo>
                      <a:lnTo>
                        <a:pt x="1456" y="1707"/>
                      </a:lnTo>
                      <a:lnTo>
                        <a:pt x="1487" y="1686"/>
                      </a:lnTo>
                      <a:lnTo>
                        <a:pt x="1525" y="1659"/>
                      </a:lnTo>
                      <a:lnTo>
                        <a:pt x="1567" y="1631"/>
                      </a:lnTo>
                      <a:lnTo>
                        <a:pt x="1612" y="1598"/>
                      </a:lnTo>
                      <a:lnTo>
                        <a:pt x="1664" y="1564"/>
                      </a:lnTo>
                      <a:lnTo>
                        <a:pt x="1719" y="1526"/>
                      </a:lnTo>
                      <a:lnTo>
                        <a:pt x="1776" y="1486"/>
                      </a:lnTo>
                      <a:lnTo>
                        <a:pt x="1837" y="1444"/>
                      </a:lnTo>
                      <a:lnTo>
                        <a:pt x="1899" y="1401"/>
                      </a:lnTo>
                      <a:lnTo>
                        <a:pt x="1964" y="1355"/>
                      </a:lnTo>
                      <a:lnTo>
                        <a:pt x="1996" y="1332"/>
                      </a:lnTo>
                      <a:lnTo>
                        <a:pt x="2030" y="1309"/>
                      </a:lnTo>
                      <a:lnTo>
                        <a:pt x="2063" y="1287"/>
                      </a:lnTo>
                      <a:lnTo>
                        <a:pt x="2097" y="1264"/>
                      </a:lnTo>
                      <a:lnTo>
                        <a:pt x="2129" y="1239"/>
                      </a:lnTo>
                      <a:lnTo>
                        <a:pt x="2164" y="1216"/>
                      </a:lnTo>
                      <a:lnTo>
                        <a:pt x="2198" y="1193"/>
                      </a:lnTo>
                      <a:lnTo>
                        <a:pt x="2230" y="1169"/>
                      </a:lnTo>
                      <a:lnTo>
                        <a:pt x="2264" y="1146"/>
                      </a:lnTo>
                      <a:lnTo>
                        <a:pt x="2297" y="1123"/>
                      </a:lnTo>
                      <a:lnTo>
                        <a:pt x="2329" y="1100"/>
                      </a:lnTo>
                      <a:lnTo>
                        <a:pt x="2361" y="1077"/>
                      </a:lnTo>
                      <a:lnTo>
                        <a:pt x="2426" y="1034"/>
                      </a:lnTo>
                      <a:lnTo>
                        <a:pt x="2487" y="990"/>
                      </a:lnTo>
                      <a:lnTo>
                        <a:pt x="2546" y="946"/>
                      </a:lnTo>
                      <a:lnTo>
                        <a:pt x="2601" y="908"/>
                      </a:lnTo>
                      <a:lnTo>
                        <a:pt x="2654" y="870"/>
                      </a:lnTo>
                      <a:lnTo>
                        <a:pt x="2702" y="836"/>
                      </a:lnTo>
                      <a:lnTo>
                        <a:pt x="2745" y="804"/>
                      </a:lnTo>
                      <a:lnTo>
                        <a:pt x="2783" y="775"/>
                      </a:lnTo>
                      <a:lnTo>
                        <a:pt x="2844" y="730"/>
                      </a:lnTo>
                      <a:lnTo>
                        <a:pt x="2880" y="699"/>
                      </a:lnTo>
                      <a:lnTo>
                        <a:pt x="2920" y="656"/>
                      </a:lnTo>
                      <a:lnTo>
                        <a:pt x="2962" y="600"/>
                      </a:lnTo>
                      <a:lnTo>
                        <a:pt x="3002" y="543"/>
                      </a:lnTo>
                      <a:lnTo>
                        <a:pt x="3038" y="481"/>
                      </a:lnTo>
                      <a:lnTo>
                        <a:pt x="3072" y="422"/>
                      </a:lnTo>
                      <a:lnTo>
                        <a:pt x="3101" y="365"/>
                      </a:lnTo>
                      <a:lnTo>
                        <a:pt x="3139" y="281"/>
                      </a:lnTo>
                      <a:lnTo>
                        <a:pt x="3154" y="102"/>
                      </a:lnTo>
                      <a:lnTo>
                        <a:pt x="3139" y="74"/>
                      </a:lnTo>
                      <a:lnTo>
                        <a:pt x="3114" y="49"/>
                      </a:lnTo>
                      <a:lnTo>
                        <a:pt x="3078" y="28"/>
                      </a:lnTo>
                      <a:lnTo>
                        <a:pt x="3032" y="11"/>
                      </a:lnTo>
                      <a:lnTo>
                        <a:pt x="2897" y="0"/>
                      </a:lnTo>
                      <a:lnTo>
                        <a:pt x="2700" y="21"/>
                      </a:lnTo>
                      <a:lnTo>
                        <a:pt x="2470" y="70"/>
                      </a:lnTo>
                      <a:lnTo>
                        <a:pt x="2361" y="99"/>
                      </a:lnTo>
                      <a:lnTo>
                        <a:pt x="2255" y="129"/>
                      </a:lnTo>
                      <a:lnTo>
                        <a:pt x="2154" y="159"/>
                      </a:lnTo>
                      <a:lnTo>
                        <a:pt x="2057" y="192"/>
                      </a:lnTo>
                      <a:lnTo>
                        <a:pt x="1968" y="222"/>
                      </a:lnTo>
                      <a:lnTo>
                        <a:pt x="1884" y="254"/>
                      </a:lnTo>
                      <a:lnTo>
                        <a:pt x="1808" y="283"/>
                      </a:lnTo>
                      <a:lnTo>
                        <a:pt x="1740" y="310"/>
                      </a:lnTo>
                      <a:lnTo>
                        <a:pt x="1681" y="336"/>
                      </a:lnTo>
                      <a:lnTo>
                        <a:pt x="1629" y="357"/>
                      </a:lnTo>
                      <a:lnTo>
                        <a:pt x="1559" y="389"/>
                      </a:lnTo>
                      <a:lnTo>
                        <a:pt x="1536" y="401"/>
                      </a:lnTo>
                      <a:lnTo>
                        <a:pt x="1510" y="412"/>
                      </a:lnTo>
                      <a:lnTo>
                        <a:pt x="1441" y="448"/>
                      </a:lnTo>
                      <a:lnTo>
                        <a:pt x="1392" y="473"/>
                      </a:lnTo>
                      <a:lnTo>
                        <a:pt x="1335" y="503"/>
                      </a:lnTo>
                      <a:lnTo>
                        <a:pt x="1270" y="538"/>
                      </a:lnTo>
                      <a:lnTo>
                        <a:pt x="1202" y="576"/>
                      </a:lnTo>
                      <a:lnTo>
                        <a:pt x="1125" y="617"/>
                      </a:lnTo>
                      <a:lnTo>
                        <a:pt x="1046" y="663"/>
                      </a:lnTo>
                      <a:lnTo>
                        <a:pt x="1004" y="686"/>
                      </a:lnTo>
                      <a:lnTo>
                        <a:pt x="962" y="711"/>
                      </a:lnTo>
                      <a:lnTo>
                        <a:pt x="920" y="735"/>
                      </a:lnTo>
                      <a:lnTo>
                        <a:pt x="878" y="762"/>
                      </a:lnTo>
                      <a:lnTo>
                        <a:pt x="835" y="787"/>
                      </a:lnTo>
                      <a:lnTo>
                        <a:pt x="791" y="813"/>
                      </a:lnTo>
                      <a:lnTo>
                        <a:pt x="747" y="840"/>
                      </a:lnTo>
                      <a:lnTo>
                        <a:pt x="703" y="866"/>
                      </a:lnTo>
                      <a:lnTo>
                        <a:pt x="662" y="895"/>
                      </a:lnTo>
                      <a:lnTo>
                        <a:pt x="618" y="924"/>
                      </a:lnTo>
                      <a:lnTo>
                        <a:pt x="576" y="950"/>
                      </a:lnTo>
                      <a:lnTo>
                        <a:pt x="534" y="979"/>
                      </a:lnTo>
                      <a:lnTo>
                        <a:pt x="492" y="1007"/>
                      </a:lnTo>
                      <a:lnTo>
                        <a:pt x="452" y="1036"/>
                      </a:lnTo>
                      <a:lnTo>
                        <a:pt x="413" y="1064"/>
                      </a:lnTo>
                      <a:lnTo>
                        <a:pt x="374" y="1093"/>
                      </a:lnTo>
                      <a:lnTo>
                        <a:pt x="336" y="1121"/>
                      </a:lnTo>
                      <a:lnTo>
                        <a:pt x="300" y="1150"/>
                      </a:lnTo>
                      <a:lnTo>
                        <a:pt x="266" y="1178"/>
                      </a:lnTo>
                      <a:lnTo>
                        <a:pt x="234" y="1207"/>
                      </a:lnTo>
                      <a:lnTo>
                        <a:pt x="201" y="1235"/>
                      </a:lnTo>
                      <a:lnTo>
                        <a:pt x="171" y="1264"/>
                      </a:lnTo>
                      <a:lnTo>
                        <a:pt x="118" y="1317"/>
                      </a:lnTo>
                      <a:lnTo>
                        <a:pt x="74" y="1370"/>
                      </a:lnTo>
                      <a:lnTo>
                        <a:pt x="38" y="1422"/>
                      </a:lnTo>
                      <a:lnTo>
                        <a:pt x="0" y="1517"/>
                      </a:lnTo>
                      <a:lnTo>
                        <a:pt x="13" y="1598"/>
                      </a:lnTo>
                      <a:lnTo>
                        <a:pt x="40" y="1634"/>
                      </a:lnTo>
                      <a:lnTo>
                        <a:pt x="84" y="1667"/>
                      </a:lnTo>
                      <a:lnTo>
                        <a:pt x="143" y="1695"/>
                      </a:lnTo>
                      <a:lnTo>
                        <a:pt x="220" y="1716"/>
                      </a:lnTo>
                      <a:lnTo>
                        <a:pt x="220" y="1716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538640" y="2694600"/>
                  <a:ext cx="796320" cy="527400"/>
                </a:xfrm>
                <a:custGeom>
                  <a:avLst/>
                  <a:gdLst/>
                  <a:ahLst/>
                  <a:rect l="l" t="t" r="r" b="b"/>
                  <a:pathLst>
                    <a:path w="3019" h="2003">
                      <a:moveTo>
                        <a:pt x="40" y="1591"/>
                      </a:moveTo>
                      <a:lnTo>
                        <a:pt x="68" y="1621"/>
                      </a:lnTo>
                      <a:lnTo>
                        <a:pt x="102" y="1653"/>
                      </a:lnTo>
                      <a:lnTo>
                        <a:pt x="150" y="1693"/>
                      </a:lnTo>
                      <a:lnTo>
                        <a:pt x="180" y="1716"/>
                      </a:lnTo>
                      <a:lnTo>
                        <a:pt x="213" y="1741"/>
                      </a:lnTo>
                      <a:lnTo>
                        <a:pt x="249" y="1765"/>
                      </a:lnTo>
                      <a:lnTo>
                        <a:pt x="289" y="1788"/>
                      </a:lnTo>
                      <a:lnTo>
                        <a:pt x="332" y="1813"/>
                      </a:lnTo>
                      <a:lnTo>
                        <a:pt x="380" y="1838"/>
                      </a:lnTo>
                      <a:lnTo>
                        <a:pt x="431" y="1860"/>
                      </a:lnTo>
                      <a:lnTo>
                        <a:pt x="487" y="1883"/>
                      </a:lnTo>
                      <a:lnTo>
                        <a:pt x="585" y="1917"/>
                      </a:lnTo>
                      <a:lnTo>
                        <a:pt x="696" y="1946"/>
                      </a:lnTo>
                      <a:lnTo>
                        <a:pt x="815" y="1969"/>
                      </a:lnTo>
                      <a:lnTo>
                        <a:pt x="945" y="1986"/>
                      </a:lnTo>
                      <a:lnTo>
                        <a:pt x="1239" y="2003"/>
                      </a:lnTo>
                      <a:lnTo>
                        <a:pt x="1576" y="1995"/>
                      </a:lnTo>
                      <a:lnTo>
                        <a:pt x="1601" y="1874"/>
                      </a:lnTo>
                      <a:lnTo>
                        <a:pt x="1633" y="1750"/>
                      </a:lnTo>
                      <a:lnTo>
                        <a:pt x="1652" y="1682"/>
                      </a:lnTo>
                      <a:lnTo>
                        <a:pt x="1675" y="1611"/>
                      </a:lnTo>
                      <a:lnTo>
                        <a:pt x="1698" y="1541"/>
                      </a:lnTo>
                      <a:lnTo>
                        <a:pt x="1724" y="1476"/>
                      </a:lnTo>
                      <a:lnTo>
                        <a:pt x="1753" y="1418"/>
                      </a:lnTo>
                      <a:lnTo>
                        <a:pt x="1783" y="1366"/>
                      </a:lnTo>
                      <a:lnTo>
                        <a:pt x="1817" y="1326"/>
                      </a:lnTo>
                      <a:lnTo>
                        <a:pt x="1852" y="1300"/>
                      </a:lnTo>
                      <a:lnTo>
                        <a:pt x="1924" y="1298"/>
                      </a:lnTo>
                      <a:lnTo>
                        <a:pt x="1989" y="1332"/>
                      </a:lnTo>
                      <a:lnTo>
                        <a:pt x="2036" y="1361"/>
                      </a:lnTo>
                      <a:lnTo>
                        <a:pt x="2087" y="1402"/>
                      </a:lnTo>
                      <a:lnTo>
                        <a:pt x="2101" y="1435"/>
                      </a:lnTo>
                      <a:lnTo>
                        <a:pt x="2165" y="1651"/>
                      </a:lnTo>
                      <a:lnTo>
                        <a:pt x="2262" y="1480"/>
                      </a:lnTo>
                      <a:lnTo>
                        <a:pt x="2646" y="1035"/>
                      </a:lnTo>
                      <a:lnTo>
                        <a:pt x="2855" y="1243"/>
                      </a:lnTo>
                      <a:lnTo>
                        <a:pt x="3019" y="1094"/>
                      </a:lnTo>
                      <a:lnTo>
                        <a:pt x="3006" y="1056"/>
                      </a:lnTo>
                      <a:lnTo>
                        <a:pt x="2970" y="958"/>
                      </a:lnTo>
                      <a:lnTo>
                        <a:pt x="2945" y="891"/>
                      </a:lnTo>
                      <a:lnTo>
                        <a:pt x="2913" y="815"/>
                      </a:lnTo>
                      <a:lnTo>
                        <a:pt x="2878" y="733"/>
                      </a:lnTo>
                      <a:lnTo>
                        <a:pt x="2838" y="650"/>
                      </a:lnTo>
                      <a:lnTo>
                        <a:pt x="2795" y="566"/>
                      </a:lnTo>
                      <a:lnTo>
                        <a:pt x="2772" y="524"/>
                      </a:lnTo>
                      <a:lnTo>
                        <a:pt x="2747" y="484"/>
                      </a:lnTo>
                      <a:lnTo>
                        <a:pt x="2722" y="444"/>
                      </a:lnTo>
                      <a:lnTo>
                        <a:pt x="2698" y="406"/>
                      </a:lnTo>
                      <a:lnTo>
                        <a:pt x="2671" y="368"/>
                      </a:lnTo>
                      <a:lnTo>
                        <a:pt x="2644" y="334"/>
                      </a:lnTo>
                      <a:lnTo>
                        <a:pt x="2589" y="273"/>
                      </a:lnTo>
                      <a:lnTo>
                        <a:pt x="2559" y="247"/>
                      </a:lnTo>
                      <a:lnTo>
                        <a:pt x="2530" y="224"/>
                      </a:lnTo>
                      <a:lnTo>
                        <a:pt x="2470" y="190"/>
                      </a:lnTo>
                      <a:lnTo>
                        <a:pt x="2409" y="171"/>
                      </a:lnTo>
                      <a:lnTo>
                        <a:pt x="2331" y="85"/>
                      </a:lnTo>
                      <a:lnTo>
                        <a:pt x="1979" y="0"/>
                      </a:lnTo>
                      <a:lnTo>
                        <a:pt x="1661" y="30"/>
                      </a:lnTo>
                      <a:lnTo>
                        <a:pt x="1418" y="39"/>
                      </a:lnTo>
                      <a:lnTo>
                        <a:pt x="1110" y="152"/>
                      </a:lnTo>
                      <a:lnTo>
                        <a:pt x="975" y="228"/>
                      </a:lnTo>
                      <a:lnTo>
                        <a:pt x="802" y="509"/>
                      </a:lnTo>
                      <a:lnTo>
                        <a:pt x="711" y="631"/>
                      </a:lnTo>
                      <a:lnTo>
                        <a:pt x="399" y="758"/>
                      </a:lnTo>
                      <a:lnTo>
                        <a:pt x="365" y="783"/>
                      </a:lnTo>
                      <a:lnTo>
                        <a:pt x="329" y="809"/>
                      </a:lnTo>
                      <a:lnTo>
                        <a:pt x="283" y="842"/>
                      </a:lnTo>
                      <a:lnTo>
                        <a:pt x="237" y="876"/>
                      </a:lnTo>
                      <a:lnTo>
                        <a:pt x="190" y="910"/>
                      </a:lnTo>
                      <a:lnTo>
                        <a:pt x="150" y="942"/>
                      </a:lnTo>
                      <a:lnTo>
                        <a:pt x="118" y="967"/>
                      </a:lnTo>
                      <a:lnTo>
                        <a:pt x="64" y="1041"/>
                      </a:lnTo>
                      <a:lnTo>
                        <a:pt x="63" y="1072"/>
                      </a:lnTo>
                      <a:lnTo>
                        <a:pt x="0" y="1239"/>
                      </a:lnTo>
                      <a:lnTo>
                        <a:pt x="40" y="1591"/>
                      </a:lnTo>
                      <a:lnTo>
                        <a:pt x="40" y="1591"/>
                      </a:lnTo>
                      <a:close/>
                    </a:path>
                  </a:pathLst>
                </a:cu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170440" y="2920320"/>
                  <a:ext cx="128880" cy="187560"/>
                </a:xfrm>
                <a:custGeom>
                  <a:avLst/>
                  <a:gdLst/>
                  <a:ahLst/>
                  <a:rect l="l" t="t" r="r" b="b"/>
                  <a:pathLst>
                    <a:path w="489" h="711">
                      <a:moveTo>
                        <a:pt x="0" y="621"/>
                      </a:moveTo>
                      <a:lnTo>
                        <a:pt x="17" y="646"/>
                      </a:lnTo>
                      <a:lnTo>
                        <a:pt x="38" y="669"/>
                      </a:lnTo>
                      <a:lnTo>
                        <a:pt x="69" y="690"/>
                      </a:lnTo>
                      <a:lnTo>
                        <a:pt x="103" y="707"/>
                      </a:lnTo>
                      <a:lnTo>
                        <a:pt x="145" y="711"/>
                      </a:lnTo>
                      <a:lnTo>
                        <a:pt x="244" y="665"/>
                      </a:lnTo>
                      <a:lnTo>
                        <a:pt x="356" y="625"/>
                      </a:lnTo>
                      <a:lnTo>
                        <a:pt x="447" y="405"/>
                      </a:lnTo>
                      <a:lnTo>
                        <a:pt x="489" y="216"/>
                      </a:lnTo>
                      <a:lnTo>
                        <a:pt x="478" y="118"/>
                      </a:lnTo>
                      <a:lnTo>
                        <a:pt x="460" y="44"/>
                      </a:lnTo>
                      <a:lnTo>
                        <a:pt x="447" y="17"/>
                      </a:lnTo>
                      <a:lnTo>
                        <a:pt x="432" y="0"/>
                      </a:lnTo>
                      <a:lnTo>
                        <a:pt x="341" y="4"/>
                      </a:lnTo>
                      <a:lnTo>
                        <a:pt x="286" y="25"/>
                      </a:lnTo>
                      <a:lnTo>
                        <a:pt x="158" y="300"/>
                      </a:lnTo>
                      <a:lnTo>
                        <a:pt x="0" y="621"/>
                      </a:lnTo>
                      <a:lnTo>
                        <a:pt x="0" y="621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65400" y="3066120"/>
                  <a:ext cx="72720" cy="41400"/>
                </a:xfrm>
                <a:custGeom>
                  <a:avLst/>
                  <a:gdLst/>
                  <a:ahLst/>
                  <a:rect l="l" t="t" r="r" b="b"/>
                  <a:pathLst>
                    <a:path w="276" h="158">
                      <a:moveTo>
                        <a:pt x="0" y="30"/>
                      </a:moveTo>
                      <a:lnTo>
                        <a:pt x="124" y="0"/>
                      </a:lnTo>
                      <a:lnTo>
                        <a:pt x="143" y="25"/>
                      </a:lnTo>
                      <a:lnTo>
                        <a:pt x="164" y="49"/>
                      </a:lnTo>
                      <a:lnTo>
                        <a:pt x="192" y="72"/>
                      </a:lnTo>
                      <a:lnTo>
                        <a:pt x="276" y="123"/>
                      </a:lnTo>
                      <a:lnTo>
                        <a:pt x="242" y="150"/>
                      </a:lnTo>
                      <a:lnTo>
                        <a:pt x="198" y="158"/>
                      </a:lnTo>
                      <a:lnTo>
                        <a:pt x="145" y="158"/>
                      </a:lnTo>
                      <a:lnTo>
                        <a:pt x="29" y="106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2e4f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655640" y="2893320"/>
                  <a:ext cx="293760" cy="233640"/>
                </a:xfrm>
                <a:custGeom>
                  <a:avLst/>
                  <a:gdLst/>
                  <a:ahLst/>
                  <a:rect l="l" t="t" r="r" b="b"/>
                  <a:pathLst>
                    <a:path w="1114" h="888">
                      <a:moveTo>
                        <a:pt x="34" y="888"/>
                      </a:moveTo>
                      <a:lnTo>
                        <a:pt x="51" y="865"/>
                      </a:lnTo>
                      <a:lnTo>
                        <a:pt x="101" y="800"/>
                      </a:lnTo>
                      <a:lnTo>
                        <a:pt x="137" y="755"/>
                      </a:lnTo>
                      <a:lnTo>
                        <a:pt x="178" y="705"/>
                      </a:lnTo>
                      <a:lnTo>
                        <a:pt x="224" y="650"/>
                      </a:lnTo>
                      <a:lnTo>
                        <a:pt x="277" y="593"/>
                      </a:lnTo>
                      <a:lnTo>
                        <a:pt x="334" y="532"/>
                      </a:lnTo>
                      <a:lnTo>
                        <a:pt x="363" y="504"/>
                      </a:lnTo>
                      <a:lnTo>
                        <a:pt x="393" y="473"/>
                      </a:lnTo>
                      <a:lnTo>
                        <a:pt x="426" y="443"/>
                      </a:lnTo>
                      <a:lnTo>
                        <a:pt x="458" y="415"/>
                      </a:lnTo>
                      <a:lnTo>
                        <a:pt x="492" y="386"/>
                      </a:lnTo>
                      <a:lnTo>
                        <a:pt x="525" y="358"/>
                      </a:lnTo>
                      <a:lnTo>
                        <a:pt x="559" y="331"/>
                      </a:lnTo>
                      <a:lnTo>
                        <a:pt x="595" y="304"/>
                      </a:lnTo>
                      <a:lnTo>
                        <a:pt x="629" y="281"/>
                      </a:lnTo>
                      <a:lnTo>
                        <a:pt x="665" y="257"/>
                      </a:lnTo>
                      <a:lnTo>
                        <a:pt x="737" y="217"/>
                      </a:lnTo>
                      <a:lnTo>
                        <a:pt x="808" y="185"/>
                      </a:lnTo>
                      <a:lnTo>
                        <a:pt x="874" y="158"/>
                      </a:lnTo>
                      <a:lnTo>
                        <a:pt x="931" y="137"/>
                      </a:lnTo>
                      <a:lnTo>
                        <a:pt x="1017" y="105"/>
                      </a:lnTo>
                      <a:lnTo>
                        <a:pt x="1101" y="78"/>
                      </a:lnTo>
                      <a:lnTo>
                        <a:pt x="1114" y="80"/>
                      </a:lnTo>
                      <a:lnTo>
                        <a:pt x="1106" y="86"/>
                      </a:lnTo>
                      <a:lnTo>
                        <a:pt x="760" y="61"/>
                      </a:lnTo>
                      <a:lnTo>
                        <a:pt x="348" y="0"/>
                      </a:lnTo>
                      <a:lnTo>
                        <a:pt x="310" y="13"/>
                      </a:lnTo>
                      <a:lnTo>
                        <a:pt x="258" y="80"/>
                      </a:lnTo>
                      <a:lnTo>
                        <a:pt x="232" y="128"/>
                      </a:lnTo>
                      <a:lnTo>
                        <a:pt x="203" y="185"/>
                      </a:lnTo>
                      <a:lnTo>
                        <a:pt x="175" y="247"/>
                      </a:lnTo>
                      <a:lnTo>
                        <a:pt x="146" y="312"/>
                      </a:lnTo>
                      <a:lnTo>
                        <a:pt x="118" y="380"/>
                      </a:lnTo>
                      <a:lnTo>
                        <a:pt x="93" y="451"/>
                      </a:lnTo>
                      <a:lnTo>
                        <a:pt x="47" y="580"/>
                      </a:lnTo>
                      <a:lnTo>
                        <a:pt x="2" y="764"/>
                      </a:lnTo>
                      <a:lnTo>
                        <a:pt x="0" y="808"/>
                      </a:lnTo>
                      <a:lnTo>
                        <a:pt x="2" y="840"/>
                      </a:lnTo>
                      <a:lnTo>
                        <a:pt x="13" y="876"/>
                      </a:lnTo>
                      <a:lnTo>
                        <a:pt x="34" y="888"/>
                      </a:lnTo>
                      <a:lnTo>
                        <a:pt x="34" y="88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001960" y="3086640"/>
                  <a:ext cx="57960" cy="126720"/>
                </a:xfrm>
                <a:custGeom>
                  <a:avLst/>
                  <a:gdLst/>
                  <a:ahLst/>
                  <a:rect l="l" t="t" r="r" b="b"/>
                  <a:pathLst>
                    <a:path w="220" h="483">
                      <a:moveTo>
                        <a:pt x="0" y="391"/>
                      </a:moveTo>
                      <a:lnTo>
                        <a:pt x="11" y="458"/>
                      </a:lnTo>
                      <a:lnTo>
                        <a:pt x="30" y="483"/>
                      </a:lnTo>
                      <a:lnTo>
                        <a:pt x="59" y="477"/>
                      </a:lnTo>
                      <a:lnTo>
                        <a:pt x="110" y="422"/>
                      </a:lnTo>
                      <a:lnTo>
                        <a:pt x="133" y="378"/>
                      </a:lnTo>
                      <a:lnTo>
                        <a:pt x="161" y="319"/>
                      </a:lnTo>
                      <a:lnTo>
                        <a:pt x="188" y="258"/>
                      </a:lnTo>
                      <a:lnTo>
                        <a:pt x="205" y="209"/>
                      </a:lnTo>
                      <a:lnTo>
                        <a:pt x="220" y="26"/>
                      </a:lnTo>
                      <a:lnTo>
                        <a:pt x="211" y="13"/>
                      </a:lnTo>
                      <a:lnTo>
                        <a:pt x="194" y="0"/>
                      </a:lnTo>
                      <a:lnTo>
                        <a:pt x="106" y="9"/>
                      </a:lnTo>
                      <a:lnTo>
                        <a:pt x="28" y="209"/>
                      </a:lnTo>
                      <a:lnTo>
                        <a:pt x="0" y="391"/>
                      </a:lnTo>
                      <a:lnTo>
                        <a:pt x="0" y="391"/>
                      </a:lnTo>
                      <a:close/>
                    </a:path>
                  </a:pathLst>
                </a:custGeom>
                <a:solidFill>
                  <a:srgbClr val="607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74440" y="3021480"/>
                  <a:ext cx="127080" cy="127440"/>
                </a:xfrm>
                <a:custGeom>
                  <a:avLst/>
                  <a:gdLst/>
                  <a:ahLst/>
                  <a:rect l="l" t="t" r="r" b="b"/>
                  <a:pathLst>
                    <a:path w="481" h="483">
                      <a:moveTo>
                        <a:pt x="63" y="156"/>
                      </a:moveTo>
                      <a:lnTo>
                        <a:pt x="48" y="182"/>
                      </a:lnTo>
                      <a:lnTo>
                        <a:pt x="19" y="245"/>
                      </a:lnTo>
                      <a:lnTo>
                        <a:pt x="0" y="325"/>
                      </a:lnTo>
                      <a:lnTo>
                        <a:pt x="17" y="401"/>
                      </a:lnTo>
                      <a:lnTo>
                        <a:pt x="46" y="431"/>
                      </a:lnTo>
                      <a:lnTo>
                        <a:pt x="82" y="454"/>
                      </a:lnTo>
                      <a:lnTo>
                        <a:pt x="171" y="479"/>
                      </a:lnTo>
                      <a:lnTo>
                        <a:pt x="308" y="483"/>
                      </a:lnTo>
                      <a:lnTo>
                        <a:pt x="402" y="450"/>
                      </a:lnTo>
                      <a:lnTo>
                        <a:pt x="468" y="424"/>
                      </a:lnTo>
                      <a:lnTo>
                        <a:pt x="481" y="372"/>
                      </a:lnTo>
                      <a:lnTo>
                        <a:pt x="236" y="388"/>
                      </a:lnTo>
                      <a:lnTo>
                        <a:pt x="187" y="235"/>
                      </a:lnTo>
                      <a:lnTo>
                        <a:pt x="242" y="64"/>
                      </a:lnTo>
                      <a:lnTo>
                        <a:pt x="289" y="0"/>
                      </a:lnTo>
                      <a:lnTo>
                        <a:pt x="202" y="30"/>
                      </a:lnTo>
                      <a:lnTo>
                        <a:pt x="126" y="78"/>
                      </a:lnTo>
                      <a:lnTo>
                        <a:pt x="63" y="156"/>
                      </a:lnTo>
                      <a:lnTo>
                        <a:pt x="63" y="156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241720" y="2964960"/>
                  <a:ext cx="32400" cy="83160"/>
                </a:xfrm>
                <a:custGeom>
                  <a:avLst/>
                  <a:gdLst/>
                  <a:ahLst/>
                  <a:rect l="l" t="t" r="r" b="b"/>
                  <a:pathLst>
                    <a:path w="124" h="316">
                      <a:moveTo>
                        <a:pt x="48" y="32"/>
                      </a:moveTo>
                      <a:lnTo>
                        <a:pt x="21" y="93"/>
                      </a:lnTo>
                      <a:lnTo>
                        <a:pt x="0" y="196"/>
                      </a:lnTo>
                      <a:lnTo>
                        <a:pt x="12" y="302"/>
                      </a:lnTo>
                      <a:lnTo>
                        <a:pt x="33" y="316"/>
                      </a:lnTo>
                      <a:lnTo>
                        <a:pt x="63" y="287"/>
                      </a:lnTo>
                      <a:lnTo>
                        <a:pt x="107" y="182"/>
                      </a:lnTo>
                      <a:lnTo>
                        <a:pt x="124" y="19"/>
                      </a:lnTo>
                      <a:lnTo>
                        <a:pt x="103" y="0"/>
                      </a:lnTo>
                      <a:lnTo>
                        <a:pt x="48" y="32"/>
                      </a:lnTo>
                      <a:lnTo>
                        <a:pt x="48" y="32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942920" y="2723040"/>
                  <a:ext cx="316800" cy="100080"/>
                </a:xfrm>
                <a:custGeom>
                  <a:avLst/>
                  <a:gdLst/>
                  <a:ahLst/>
                  <a:rect l="l" t="t" r="r" b="b"/>
                  <a:pathLst>
                    <a:path w="1204" h="380">
                      <a:moveTo>
                        <a:pt x="0" y="211"/>
                      </a:moveTo>
                      <a:lnTo>
                        <a:pt x="65" y="194"/>
                      </a:lnTo>
                      <a:lnTo>
                        <a:pt x="215" y="152"/>
                      </a:lnTo>
                      <a:lnTo>
                        <a:pt x="303" y="125"/>
                      </a:lnTo>
                      <a:lnTo>
                        <a:pt x="388" y="99"/>
                      </a:lnTo>
                      <a:lnTo>
                        <a:pt x="466" y="72"/>
                      </a:lnTo>
                      <a:lnTo>
                        <a:pt x="525" y="47"/>
                      </a:lnTo>
                      <a:lnTo>
                        <a:pt x="576" y="28"/>
                      </a:lnTo>
                      <a:lnTo>
                        <a:pt x="630" y="13"/>
                      </a:lnTo>
                      <a:lnTo>
                        <a:pt x="736" y="0"/>
                      </a:lnTo>
                      <a:lnTo>
                        <a:pt x="900" y="26"/>
                      </a:lnTo>
                      <a:lnTo>
                        <a:pt x="930" y="47"/>
                      </a:lnTo>
                      <a:lnTo>
                        <a:pt x="968" y="78"/>
                      </a:lnTo>
                      <a:lnTo>
                        <a:pt x="1010" y="112"/>
                      </a:lnTo>
                      <a:lnTo>
                        <a:pt x="1052" y="150"/>
                      </a:lnTo>
                      <a:lnTo>
                        <a:pt x="1092" y="186"/>
                      </a:lnTo>
                      <a:lnTo>
                        <a:pt x="1124" y="215"/>
                      </a:lnTo>
                      <a:lnTo>
                        <a:pt x="1154" y="243"/>
                      </a:lnTo>
                      <a:lnTo>
                        <a:pt x="1204" y="304"/>
                      </a:lnTo>
                      <a:lnTo>
                        <a:pt x="1147" y="327"/>
                      </a:lnTo>
                      <a:lnTo>
                        <a:pt x="1073" y="380"/>
                      </a:lnTo>
                      <a:lnTo>
                        <a:pt x="1059" y="380"/>
                      </a:lnTo>
                      <a:lnTo>
                        <a:pt x="1052" y="346"/>
                      </a:lnTo>
                      <a:lnTo>
                        <a:pt x="1046" y="281"/>
                      </a:lnTo>
                      <a:lnTo>
                        <a:pt x="917" y="173"/>
                      </a:lnTo>
                      <a:lnTo>
                        <a:pt x="651" y="179"/>
                      </a:lnTo>
                      <a:lnTo>
                        <a:pt x="413" y="264"/>
                      </a:lnTo>
                      <a:lnTo>
                        <a:pt x="0" y="211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80280" y="3195720"/>
                  <a:ext cx="136080" cy="79920"/>
                </a:xfrm>
                <a:custGeom>
                  <a:avLst/>
                  <a:gdLst/>
                  <a:ahLst/>
                  <a:rect l="l" t="t" r="r" b="b"/>
                  <a:pathLst>
                    <a:path w="517" h="304">
                      <a:moveTo>
                        <a:pt x="0" y="133"/>
                      </a:moveTo>
                      <a:lnTo>
                        <a:pt x="91" y="245"/>
                      </a:lnTo>
                      <a:lnTo>
                        <a:pt x="279" y="304"/>
                      </a:lnTo>
                      <a:lnTo>
                        <a:pt x="410" y="276"/>
                      </a:lnTo>
                      <a:lnTo>
                        <a:pt x="517" y="255"/>
                      </a:lnTo>
                      <a:lnTo>
                        <a:pt x="425" y="257"/>
                      </a:lnTo>
                      <a:lnTo>
                        <a:pt x="338" y="217"/>
                      </a:lnTo>
                      <a:lnTo>
                        <a:pt x="268" y="131"/>
                      </a:lnTo>
                      <a:lnTo>
                        <a:pt x="228" y="0"/>
                      </a:lnTo>
                      <a:lnTo>
                        <a:pt x="216" y="27"/>
                      </a:lnTo>
                      <a:lnTo>
                        <a:pt x="192" y="52"/>
                      </a:lnTo>
                      <a:lnTo>
                        <a:pt x="152" y="72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314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568520" y="2889000"/>
                  <a:ext cx="118080" cy="70560"/>
                </a:xfrm>
                <a:custGeom>
                  <a:avLst/>
                  <a:gdLst/>
                  <a:ahLst/>
                  <a:rect l="l" t="t" r="r" b="b"/>
                  <a:pathLst>
                    <a:path w="447" h="266">
                      <a:moveTo>
                        <a:pt x="0" y="260"/>
                      </a:moveTo>
                      <a:lnTo>
                        <a:pt x="36" y="236"/>
                      </a:lnTo>
                      <a:lnTo>
                        <a:pt x="74" y="211"/>
                      </a:lnTo>
                      <a:lnTo>
                        <a:pt x="122" y="179"/>
                      </a:lnTo>
                      <a:lnTo>
                        <a:pt x="173" y="146"/>
                      </a:lnTo>
                      <a:lnTo>
                        <a:pt x="226" y="112"/>
                      </a:lnTo>
                      <a:lnTo>
                        <a:pt x="274" y="82"/>
                      </a:lnTo>
                      <a:lnTo>
                        <a:pt x="314" y="59"/>
                      </a:lnTo>
                      <a:lnTo>
                        <a:pt x="373" y="27"/>
                      </a:lnTo>
                      <a:lnTo>
                        <a:pt x="414" y="8"/>
                      </a:lnTo>
                      <a:lnTo>
                        <a:pt x="447" y="0"/>
                      </a:lnTo>
                      <a:lnTo>
                        <a:pt x="418" y="15"/>
                      </a:lnTo>
                      <a:lnTo>
                        <a:pt x="350" y="59"/>
                      </a:lnTo>
                      <a:lnTo>
                        <a:pt x="308" y="89"/>
                      </a:lnTo>
                      <a:lnTo>
                        <a:pt x="264" y="123"/>
                      </a:lnTo>
                      <a:lnTo>
                        <a:pt x="222" y="160"/>
                      </a:lnTo>
                      <a:lnTo>
                        <a:pt x="184" y="198"/>
                      </a:lnTo>
                      <a:lnTo>
                        <a:pt x="154" y="230"/>
                      </a:lnTo>
                      <a:lnTo>
                        <a:pt x="129" y="251"/>
                      </a:lnTo>
                      <a:lnTo>
                        <a:pt x="97" y="266"/>
                      </a:lnTo>
                      <a:lnTo>
                        <a:pt x="76" y="258"/>
                      </a:lnTo>
                      <a:lnTo>
                        <a:pt x="0" y="260"/>
                      </a:lnTo>
                      <a:lnTo>
                        <a:pt x="0" y="2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568160" y="2864160"/>
                  <a:ext cx="165240" cy="214920"/>
                </a:xfrm>
                <a:custGeom>
                  <a:avLst/>
                  <a:gdLst/>
                  <a:ahLst/>
                  <a:rect l="l" t="t" r="r" b="b"/>
                  <a:pathLst>
                    <a:path w="629" h="815">
                      <a:moveTo>
                        <a:pt x="224" y="363"/>
                      </a:moveTo>
                      <a:lnTo>
                        <a:pt x="245" y="526"/>
                      </a:lnTo>
                      <a:lnTo>
                        <a:pt x="213" y="587"/>
                      </a:lnTo>
                      <a:lnTo>
                        <a:pt x="177" y="648"/>
                      </a:lnTo>
                      <a:lnTo>
                        <a:pt x="152" y="673"/>
                      </a:lnTo>
                      <a:lnTo>
                        <a:pt x="122" y="692"/>
                      </a:lnTo>
                      <a:lnTo>
                        <a:pt x="42" y="703"/>
                      </a:lnTo>
                      <a:lnTo>
                        <a:pt x="8" y="709"/>
                      </a:lnTo>
                      <a:lnTo>
                        <a:pt x="0" y="726"/>
                      </a:lnTo>
                      <a:lnTo>
                        <a:pt x="15" y="751"/>
                      </a:lnTo>
                      <a:lnTo>
                        <a:pt x="42" y="777"/>
                      </a:lnTo>
                      <a:lnTo>
                        <a:pt x="78" y="802"/>
                      </a:lnTo>
                      <a:lnTo>
                        <a:pt x="118" y="815"/>
                      </a:lnTo>
                      <a:lnTo>
                        <a:pt x="181" y="793"/>
                      </a:lnTo>
                      <a:lnTo>
                        <a:pt x="209" y="739"/>
                      </a:lnTo>
                      <a:lnTo>
                        <a:pt x="230" y="703"/>
                      </a:lnTo>
                      <a:lnTo>
                        <a:pt x="253" y="661"/>
                      </a:lnTo>
                      <a:lnTo>
                        <a:pt x="278" y="616"/>
                      </a:lnTo>
                      <a:lnTo>
                        <a:pt x="304" y="566"/>
                      </a:lnTo>
                      <a:lnTo>
                        <a:pt x="331" y="515"/>
                      </a:lnTo>
                      <a:lnTo>
                        <a:pt x="357" y="466"/>
                      </a:lnTo>
                      <a:lnTo>
                        <a:pt x="384" y="414"/>
                      </a:lnTo>
                      <a:lnTo>
                        <a:pt x="409" y="367"/>
                      </a:lnTo>
                      <a:lnTo>
                        <a:pt x="434" y="323"/>
                      </a:lnTo>
                      <a:lnTo>
                        <a:pt x="453" y="285"/>
                      </a:lnTo>
                      <a:lnTo>
                        <a:pt x="483" y="228"/>
                      </a:lnTo>
                      <a:lnTo>
                        <a:pt x="494" y="207"/>
                      </a:lnTo>
                      <a:lnTo>
                        <a:pt x="629" y="76"/>
                      </a:lnTo>
                      <a:lnTo>
                        <a:pt x="614" y="0"/>
                      </a:lnTo>
                      <a:lnTo>
                        <a:pt x="595" y="13"/>
                      </a:lnTo>
                      <a:lnTo>
                        <a:pt x="548" y="49"/>
                      </a:lnTo>
                      <a:lnTo>
                        <a:pt x="515" y="72"/>
                      </a:lnTo>
                      <a:lnTo>
                        <a:pt x="479" y="99"/>
                      </a:lnTo>
                      <a:lnTo>
                        <a:pt x="441" y="129"/>
                      </a:lnTo>
                      <a:lnTo>
                        <a:pt x="401" y="160"/>
                      </a:lnTo>
                      <a:lnTo>
                        <a:pt x="363" y="192"/>
                      </a:lnTo>
                      <a:lnTo>
                        <a:pt x="327" y="222"/>
                      </a:lnTo>
                      <a:lnTo>
                        <a:pt x="295" y="253"/>
                      </a:lnTo>
                      <a:lnTo>
                        <a:pt x="266" y="281"/>
                      </a:lnTo>
                      <a:lnTo>
                        <a:pt x="224" y="363"/>
                      </a:lnTo>
                      <a:lnTo>
                        <a:pt x="224" y="3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778760" y="2688840"/>
                  <a:ext cx="303480" cy="81000"/>
                </a:xfrm>
                <a:custGeom>
                  <a:avLst/>
                  <a:gdLst/>
                  <a:ahLst/>
                  <a:rect l="l" t="t" r="r" b="b"/>
                  <a:pathLst>
                    <a:path w="1152" h="308">
                      <a:moveTo>
                        <a:pt x="32" y="237"/>
                      </a:moveTo>
                      <a:lnTo>
                        <a:pt x="536" y="308"/>
                      </a:lnTo>
                      <a:lnTo>
                        <a:pt x="473" y="271"/>
                      </a:lnTo>
                      <a:lnTo>
                        <a:pt x="450" y="232"/>
                      </a:lnTo>
                      <a:lnTo>
                        <a:pt x="460" y="211"/>
                      </a:lnTo>
                      <a:lnTo>
                        <a:pt x="486" y="190"/>
                      </a:lnTo>
                      <a:lnTo>
                        <a:pt x="526" y="167"/>
                      </a:lnTo>
                      <a:lnTo>
                        <a:pt x="566" y="150"/>
                      </a:lnTo>
                      <a:lnTo>
                        <a:pt x="654" y="119"/>
                      </a:lnTo>
                      <a:lnTo>
                        <a:pt x="747" y="97"/>
                      </a:lnTo>
                      <a:lnTo>
                        <a:pt x="849" y="76"/>
                      </a:lnTo>
                      <a:lnTo>
                        <a:pt x="1152" y="47"/>
                      </a:lnTo>
                      <a:lnTo>
                        <a:pt x="1011" y="15"/>
                      </a:lnTo>
                      <a:lnTo>
                        <a:pt x="785" y="3"/>
                      </a:lnTo>
                      <a:lnTo>
                        <a:pt x="650" y="0"/>
                      </a:lnTo>
                      <a:lnTo>
                        <a:pt x="448" y="36"/>
                      </a:lnTo>
                      <a:lnTo>
                        <a:pt x="237" y="102"/>
                      </a:lnTo>
                      <a:lnTo>
                        <a:pt x="38" y="190"/>
                      </a:lnTo>
                      <a:lnTo>
                        <a:pt x="0" y="264"/>
                      </a:lnTo>
                      <a:lnTo>
                        <a:pt x="32" y="237"/>
                      </a:lnTo>
                      <a:lnTo>
                        <a:pt x="32" y="237"/>
                      </a:lnTo>
                      <a:close/>
                    </a:path>
                  </a:pathLst>
                </a:custGeom>
                <a:solidFill>
                  <a:srgbClr val="fff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107800" y="2872800"/>
                  <a:ext cx="225000" cy="225360"/>
                </a:xfrm>
                <a:custGeom>
                  <a:avLst/>
                  <a:gdLst/>
                  <a:ahLst/>
                  <a:rect l="l" t="t" r="r" b="b"/>
                  <a:pathLst>
                    <a:path w="853" h="856">
                      <a:moveTo>
                        <a:pt x="5" y="804"/>
                      </a:moveTo>
                      <a:lnTo>
                        <a:pt x="87" y="578"/>
                      </a:lnTo>
                      <a:lnTo>
                        <a:pt x="89" y="650"/>
                      </a:lnTo>
                      <a:lnTo>
                        <a:pt x="169" y="512"/>
                      </a:lnTo>
                      <a:lnTo>
                        <a:pt x="152" y="629"/>
                      </a:lnTo>
                      <a:lnTo>
                        <a:pt x="230" y="464"/>
                      </a:lnTo>
                      <a:lnTo>
                        <a:pt x="243" y="588"/>
                      </a:lnTo>
                      <a:lnTo>
                        <a:pt x="274" y="390"/>
                      </a:lnTo>
                      <a:lnTo>
                        <a:pt x="310" y="232"/>
                      </a:lnTo>
                      <a:lnTo>
                        <a:pt x="332" y="166"/>
                      </a:lnTo>
                      <a:lnTo>
                        <a:pt x="359" y="114"/>
                      </a:lnTo>
                      <a:lnTo>
                        <a:pt x="388" y="80"/>
                      </a:lnTo>
                      <a:lnTo>
                        <a:pt x="416" y="53"/>
                      </a:lnTo>
                      <a:lnTo>
                        <a:pt x="469" y="23"/>
                      </a:lnTo>
                      <a:lnTo>
                        <a:pt x="524" y="10"/>
                      </a:lnTo>
                      <a:lnTo>
                        <a:pt x="589" y="0"/>
                      </a:lnTo>
                      <a:lnTo>
                        <a:pt x="644" y="12"/>
                      </a:lnTo>
                      <a:lnTo>
                        <a:pt x="694" y="55"/>
                      </a:lnTo>
                      <a:lnTo>
                        <a:pt x="736" y="131"/>
                      </a:lnTo>
                      <a:lnTo>
                        <a:pt x="770" y="217"/>
                      </a:lnTo>
                      <a:lnTo>
                        <a:pt x="806" y="312"/>
                      </a:lnTo>
                      <a:lnTo>
                        <a:pt x="853" y="420"/>
                      </a:lnTo>
                      <a:lnTo>
                        <a:pt x="682" y="550"/>
                      </a:lnTo>
                      <a:lnTo>
                        <a:pt x="690" y="481"/>
                      </a:lnTo>
                      <a:lnTo>
                        <a:pt x="701" y="274"/>
                      </a:lnTo>
                      <a:lnTo>
                        <a:pt x="652" y="183"/>
                      </a:lnTo>
                      <a:lnTo>
                        <a:pt x="570" y="185"/>
                      </a:lnTo>
                      <a:lnTo>
                        <a:pt x="545" y="207"/>
                      </a:lnTo>
                      <a:lnTo>
                        <a:pt x="490" y="264"/>
                      </a:lnTo>
                      <a:lnTo>
                        <a:pt x="433" y="344"/>
                      </a:lnTo>
                      <a:lnTo>
                        <a:pt x="399" y="432"/>
                      </a:lnTo>
                      <a:lnTo>
                        <a:pt x="372" y="608"/>
                      </a:lnTo>
                      <a:lnTo>
                        <a:pt x="357" y="698"/>
                      </a:lnTo>
                      <a:lnTo>
                        <a:pt x="355" y="770"/>
                      </a:lnTo>
                      <a:lnTo>
                        <a:pt x="112" y="852"/>
                      </a:lnTo>
                      <a:lnTo>
                        <a:pt x="0" y="856"/>
                      </a:lnTo>
                      <a:lnTo>
                        <a:pt x="5" y="804"/>
                      </a:lnTo>
                      <a:lnTo>
                        <a:pt x="5" y="80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183400" y="2862720"/>
                  <a:ext cx="105840" cy="99360"/>
                </a:xfrm>
                <a:custGeom>
                  <a:avLst/>
                  <a:gdLst/>
                  <a:ahLst/>
                  <a:rect l="l" t="t" r="r" b="b"/>
                  <a:pathLst>
                    <a:path w="403" h="378">
                      <a:moveTo>
                        <a:pt x="0" y="378"/>
                      </a:moveTo>
                      <a:lnTo>
                        <a:pt x="9" y="244"/>
                      </a:lnTo>
                      <a:lnTo>
                        <a:pt x="25" y="186"/>
                      </a:lnTo>
                      <a:lnTo>
                        <a:pt x="47" y="129"/>
                      </a:lnTo>
                      <a:lnTo>
                        <a:pt x="84" y="78"/>
                      </a:lnTo>
                      <a:lnTo>
                        <a:pt x="106" y="55"/>
                      </a:lnTo>
                      <a:lnTo>
                        <a:pt x="133" y="34"/>
                      </a:lnTo>
                      <a:lnTo>
                        <a:pt x="186" y="8"/>
                      </a:lnTo>
                      <a:lnTo>
                        <a:pt x="238" y="0"/>
                      </a:lnTo>
                      <a:lnTo>
                        <a:pt x="323" y="23"/>
                      </a:lnTo>
                      <a:lnTo>
                        <a:pt x="380" y="63"/>
                      </a:lnTo>
                      <a:lnTo>
                        <a:pt x="403" y="84"/>
                      </a:lnTo>
                      <a:lnTo>
                        <a:pt x="386" y="74"/>
                      </a:lnTo>
                      <a:lnTo>
                        <a:pt x="340" y="65"/>
                      </a:lnTo>
                      <a:lnTo>
                        <a:pt x="272" y="76"/>
                      </a:lnTo>
                      <a:lnTo>
                        <a:pt x="182" y="133"/>
                      </a:lnTo>
                      <a:lnTo>
                        <a:pt x="99" y="221"/>
                      </a:lnTo>
                      <a:lnTo>
                        <a:pt x="42" y="299"/>
                      </a:lnTo>
                      <a:lnTo>
                        <a:pt x="0" y="378"/>
                      </a:lnTo>
                      <a:lnTo>
                        <a:pt x="0" y="37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47880" y="2934360"/>
                  <a:ext cx="259560" cy="230760"/>
                </a:xfrm>
                <a:custGeom>
                  <a:avLst/>
                  <a:gdLst/>
                  <a:ahLst/>
                  <a:rect l="l" t="t" r="r" b="b"/>
                  <a:pathLst>
                    <a:path w="985" h="876">
                      <a:moveTo>
                        <a:pt x="0" y="876"/>
                      </a:moveTo>
                      <a:lnTo>
                        <a:pt x="40" y="852"/>
                      </a:lnTo>
                      <a:lnTo>
                        <a:pt x="82" y="823"/>
                      </a:lnTo>
                      <a:lnTo>
                        <a:pt x="129" y="789"/>
                      </a:lnTo>
                      <a:lnTo>
                        <a:pt x="179" y="751"/>
                      </a:lnTo>
                      <a:lnTo>
                        <a:pt x="224" y="713"/>
                      </a:lnTo>
                      <a:lnTo>
                        <a:pt x="279" y="644"/>
                      </a:lnTo>
                      <a:lnTo>
                        <a:pt x="321" y="354"/>
                      </a:lnTo>
                      <a:lnTo>
                        <a:pt x="342" y="259"/>
                      </a:lnTo>
                      <a:lnTo>
                        <a:pt x="371" y="171"/>
                      </a:lnTo>
                      <a:lnTo>
                        <a:pt x="390" y="131"/>
                      </a:lnTo>
                      <a:lnTo>
                        <a:pt x="413" y="97"/>
                      </a:lnTo>
                      <a:lnTo>
                        <a:pt x="437" y="67"/>
                      </a:lnTo>
                      <a:lnTo>
                        <a:pt x="466" y="44"/>
                      </a:lnTo>
                      <a:lnTo>
                        <a:pt x="525" y="15"/>
                      </a:lnTo>
                      <a:lnTo>
                        <a:pt x="578" y="0"/>
                      </a:lnTo>
                      <a:lnTo>
                        <a:pt x="664" y="8"/>
                      </a:lnTo>
                      <a:lnTo>
                        <a:pt x="732" y="44"/>
                      </a:lnTo>
                      <a:lnTo>
                        <a:pt x="749" y="53"/>
                      </a:lnTo>
                      <a:lnTo>
                        <a:pt x="798" y="78"/>
                      </a:lnTo>
                      <a:lnTo>
                        <a:pt x="848" y="105"/>
                      </a:lnTo>
                      <a:lnTo>
                        <a:pt x="873" y="116"/>
                      </a:lnTo>
                      <a:lnTo>
                        <a:pt x="958" y="257"/>
                      </a:lnTo>
                      <a:lnTo>
                        <a:pt x="985" y="378"/>
                      </a:lnTo>
                      <a:lnTo>
                        <a:pt x="899" y="285"/>
                      </a:lnTo>
                      <a:lnTo>
                        <a:pt x="728" y="289"/>
                      </a:lnTo>
                      <a:lnTo>
                        <a:pt x="451" y="635"/>
                      </a:lnTo>
                      <a:lnTo>
                        <a:pt x="274" y="863"/>
                      </a:lnTo>
                      <a:lnTo>
                        <a:pt x="0" y="876"/>
                      </a:lnTo>
                      <a:lnTo>
                        <a:pt x="0" y="876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991160" y="2763360"/>
                  <a:ext cx="238320" cy="175680"/>
                </a:xfrm>
                <a:custGeom>
                  <a:avLst/>
                  <a:gdLst/>
                  <a:ahLst/>
                  <a:rect l="l" t="t" r="r" b="b"/>
                  <a:pathLst>
                    <a:path w="905" h="667">
                      <a:moveTo>
                        <a:pt x="0" y="561"/>
                      </a:moveTo>
                      <a:lnTo>
                        <a:pt x="146" y="667"/>
                      </a:lnTo>
                      <a:lnTo>
                        <a:pt x="585" y="460"/>
                      </a:lnTo>
                      <a:lnTo>
                        <a:pt x="905" y="207"/>
                      </a:lnTo>
                      <a:lnTo>
                        <a:pt x="817" y="70"/>
                      </a:lnTo>
                      <a:lnTo>
                        <a:pt x="701" y="4"/>
                      </a:lnTo>
                      <a:lnTo>
                        <a:pt x="540" y="0"/>
                      </a:lnTo>
                      <a:lnTo>
                        <a:pt x="405" y="46"/>
                      </a:lnTo>
                      <a:lnTo>
                        <a:pt x="228" y="131"/>
                      </a:lnTo>
                      <a:lnTo>
                        <a:pt x="95" y="253"/>
                      </a:lnTo>
                      <a:lnTo>
                        <a:pt x="36" y="435"/>
                      </a:lnTo>
                      <a:lnTo>
                        <a:pt x="0" y="561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25560" y="3007080"/>
                  <a:ext cx="107280" cy="117360"/>
                </a:xfrm>
                <a:custGeom>
                  <a:avLst/>
                  <a:gdLst/>
                  <a:ahLst/>
                  <a:rect l="l" t="t" r="r" b="b"/>
                  <a:pathLst>
                    <a:path w="407" h="446">
                      <a:moveTo>
                        <a:pt x="0" y="328"/>
                      </a:moveTo>
                      <a:lnTo>
                        <a:pt x="65" y="93"/>
                      </a:lnTo>
                      <a:lnTo>
                        <a:pt x="190" y="11"/>
                      </a:lnTo>
                      <a:lnTo>
                        <a:pt x="236" y="3"/>
                      </a:lnTo>
                      <a:lnTo>
                        <a:pt x="301" y="0"/>
                      </a:lnTo>
                      <a:lnTo>
                        <a:pt x="350" y="15"/>
                      </a:lnTo>
                      <a:lnTo>
                        <a:pt x="382" y="59"/>
                      </a:lnTo>
                      <a:lnTo>
                        <a:pt x="407" y="205"/>
                      </a:lnTo>
                      <a:lnTo>
                        <a:pt x="400" y="277"/>
                      </a:lnTo>
                      <a:lnTo>
                        <a:pt x="373" y="330"/>
                      </a:lnTo>
                      <a:lnTo>
                        <a:pt x="348" y="351"/>
                      </a:lnTo>
                      <a:lnTo>
                        <a:pt x="320" y="372"/>
                      </a:lnTo>
                      <a:lnTo>
                        <a:pt x="259" y="408"/>
                      </a:lnTo>
                      <a:lnTo>
                        <a:pt x="209" y="435"/>
                      </a:lnTo>
                      <a:lnTo>
                        <a:pt x="189" y="446"/>
                      </a:lnTo>
                      <a:lnTo>
                        <a:pt x="38" y="412"/>
                      </a:lnTo>
                      <a:lnTo>
                        <a:pt x="0" y="328"/>
                      </a:lnTo>
                      <a:lnTo>
                        <a:pt x="0" y="328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57000" y="2954880"/>
                  <a:ext cx="79560" cy="96840"/>
                </a:xfrm>
                <a:custGeom>
                  <a:avLst/>
                  <a:gdLst/>
                  <a:ahLst/>
                  <a:rect l="l" t="t" r="r" b="b"/>
                  <a:pathLst>
                    <a:path w="303" h="369">
                      <a:moveTo>
                        <a:pt x="0" y="257"/>
                      </a:moveTo>
                      <a:lnTo>
                        <a:pt x="8" y="171"/>
                      </a:lnTo>
                      <a:lnTo>
                        <a:pt x="29" y="99"/>
                      </a:lnTo>
                      <a:lnTo>
                        <a:pt x="44" y="65"/>
                      </a:lnTo>
                      <a:lnTo>
                        <a:pt x="67" y="38"/>
                      </a:lnTo>
                      <a:lnTo>
                        <a:pt x="105" y="6"/>
                      </a:lnTo>
                      <a:lnTo>
                        <a:pt x="124" y="0"/>
                      </a:lnTo>
                      <a:lnTo>
                        <a:pt x="131" y="9"/>
                      </a:lnTo>
                      <a:lnTo>
                        <a:pt x="238" y="25"/>
                      </a:lnTo>
                      <a:lnTo>
                        <a:pt x="303" y="122"/>
                      </a:lnTo>
                      <a:lnTo>
                        <a:pt x="247" y="253"/>
                      </a:lnTo>
                      <a:lnTo>
                        <a:pt x="122" y="369"/>
                      </a:lnTo>
                      <a:lnTo>
                        <a:pt x="0" y="257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062800" y="2773080"/>
                  <a:ext cx="166680" cy="146880"/>
                </a:xfrm>
                <a:custGeom>
                  <a:avLst/>
                  <a:gdLst/>
                  <a:ahLst/>
                  <a:rect l="l" t="t" r="r" b="b"/>
                  <a:pathLst>
                    <a:path w="633" h="559">
                      <a:moveTo>
                        <a:pt x="0" y="559"/>
                      </a:moveTo>
                      <a:lnTo>
                        <a:pt x="24" y="542"/>
                      </a:lnTo>
                      <a:lnTo>
                        <a:pt x="55" y="521"/>
                      </a:lnTo>
                      <a:lnTo>
                        <a:pt x="93" y="494"/>
                      </a:lnTo>
                      <a:lnTo>
                        <a:pt x="137" y="464"/>
                      </a:lnTo>
                      <a:lnTo>
                        <a:pt x="186" y="428"/>
                      </a:lnTo>
                      <a:lnTo>
                        <a:pt x="237" y="388"/>
                      </a:lnTo>
                      <a:lnTo>
                        <a:pt x="289" y="344"/>
                      </a:lnTo>
                      <a:lnTo>
                        <a:pt x="340" y="298"/>
                      </a:lnTo>
                      <a:lnTo>
                        <a:pt x="387" y="253"/>
                      </a:lnTo>
                      <a:lnTo>
                        <a:pt x="429" y="205"/>
                      </a:lnTo>
                      <a:lnTo>
                        <a:pt x="464" y="160"/>
                      </a:lnTo>
                      <a:lnTo>
                        <a:pt x="502" y="74"/>
                      </a:lnTo>
                      <a:lnTo>
                        <a:pt x="486" y="0"/>
                      </a:lnTo>
                      <a:lnTo>
                        <a:pt x="513" y="19"/>
                      </a:lnTo>
                      <a:lnTo>
                        <a:pt x="540" y="40"/>
                      </a:lnTo>
                      <a:lnTo>
                        <a:pt x="570" y="66"/>
                      </a:lnTo>
                      <a:lnTo>
                        <a:pt x="633" y="158"/>
                      </a:lnTo>
                      <a:lnTo>
                        <a:pt x="604" y="188"/>
                      </a:lnTo>
                      <a:lnTo>
                        <a:pt x="572" y="224"/>
                      </a:lnTo>
                      <a:lnTo>
                        <a:pt x="541" y="253"/>
                      </a:lnTo>
                      <a:lnTo>
                        <a:pt x="530" y="266"/>
                      </a:lnTo>
                      <a:lnTo>
                        <a:pt x="194" y="477"/>
                      </a:lnTo>
                      <a:lnTo>
                        <a:pt x="0" y="559"/>
                      </a:lnTo>
                      <a:lnTo>
                        <a:pt x="0" y="559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530360" y="3081600"/>
                  <a:ext cx="411840" cy="150480"/>
                </a:xfrm>
                <a:custGeom>
                  <a:avLst/>
                  <a:gdLst/>
                  <a:ahLst/>
                  <a:rect l="l" t="t" r="r" b="b"/>
                  <a:pathLst>
                    <a:path w="1561" h="570">
                      <a:moveTo>
                        <a:pt x="6" y="127"/>
                      </a:moveTo>
                      <a:lnTo>
                        <a:pt x="0" y="61"/>
                      </a:lnTo>
                      <a:lnTo>
                        <a:pt x="10" y="15"/>
                      </a:lnTo>
                      <a:lnTo>
                        <a:pt x="42" y="0"/>
                      </a:lnTo>
                      <a:lnTo>
                        <a:pt x="96" y="32"/>
                      </a:lnTo>
                      <a:lnTo>
                        <a:pt x="151" y="87"/>
                      </a:lnTo>
                      <a:lnTo>
                        <a:pt x="192" y="144"/>
                      </a:lnTo>
                      <a:lnTo>
                        <a:pt x="208" y="167"/>
                      </a:lnTo>
                      <a:lnTo>
                        <a:pt x="225" y="180"/>
                      </a:lnTo>
                      <a:lnTo>
                        <a:pt x="270" y="213"/>
                      </a:lnTo>
                      <a:lnTo>
                        <a:pt x="303" y="234"/>
                      </a:lnTo>
                      <a:lnTo>
                        <a:pt x="341" y="256"/>
                      </a:lnTo>
                      <a:lnTo>
                        <a:pt x="383" y="281"/>
                      </a:lnTo>
                      <a:lnTo>
                        <a:pt x="430" y="306"/>
                      </a:lnTo>
                      <a:lnTo>
                        <a:pt x="480" y="331"/>
                      </a:lnTo>
                      <a:lnTo>
                        <a:pt x="533" y="353"/>
                      </a:lnTo>
                      <a:lnTo>
                        <a:pt x="588" y="374"/>
                      </a:lnTo>
                      <a:lnTo>
                        <a:pt x="643" y="391"/>
                      </a:lnTo>
                      <a:lnTo>
                        <a:pt x="759" y="412"/>
                      </a:lnTo>
                      <a:lnTo>
                        <a:pt x="871" y="409"/>
                      </a:lnTo>
                      <a:lnTo>
                        <a:pt x="1162" y="374"/>
                      </a:lnTo>
                      <a:lnTo>
                        <a:pt x="1232" y="376"/>
                      </a:lnTo>
                      <a:lnTo>
                        <a:pt x="1314" y="353"/>
                      </a:lnTo>
                      <a:lnTo>
                        <a:pt x="1404" y="327"/>
                      </a:lnTo>
                      <a:lnTo>
                        <a:pt x="1425" y="313"/>
                      </a:lnTo>
                      <a:lnTo>
                        <a:pt x="1461" y="294"/>
                      </a:lnTo>
                      <a:lnTo>
                        <a:pt x="1502" y="281"/>
                      </a:lnTo>
                      <a:lnTo>
                        <a:pt x="1537" y="281"/>
                      </a:lnTo>
                      <a:lnTo>
                        <a:pt x="1561" y="367"/>
                      </a:lnTo>
                      <a:lnTo>
                        <a:pt x="1552" y="454"/>
                      </a:lnTo>
                      <a:lnTo>
                        <a:pt x="1535" y="488"/>
                      </a:lnTo>
                      <a:lnTo>
                        <a:pt x="1525" y="507"/>
                      </a:lnTo>
                      <a:lnTo>
                        <a:pt x="1198" y="570"/>
                      </a:lnTo>
                      <a:lnTo>
                        <a:pt x="727" y="532"/>
                      </a:lnTo>
                      <a:lnTo>
                        <a:pt x="402" y="437"/>
                      </a:lnTo>
                      <a:lnTo>
                        <a:pt x="101" y="236"/>
                      </a:lnTo>
                      <a:lnTo>
                        <a:pt x="6" y="127"/>
                      </a:lnTo>
                      <a:lnTo>
                        <a:pt x="6" y="127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55360" y="2980800"/>
                  <a:ext cx="355320" cy="246960"/>
                </a:xfrm>
                <a:custGeom>
                  <a:avLst/>
                  <a:gdLst/>
                  <a:ahLst/>
                  <a:rect l="l" t="t" r="r" b="b"/>
                  <a:pathLst>
                    <a:path w="1348" h="937">
                      <a:moveTo>
                        <a:pt x="415" y="800"/>
                      </a:moveTo>
                      <a:lnTo>
                        <a:pt x="458" y="773"/>
                      </a:lnTo>
                      <a:lnTo>
                        <a:pt x="506" y="737"/>
                      </a:lnTo>
                      <a:lnTo>
                        <a:pt x="534" y="713"/>
                      </a:lnTo>
                      <a:lnTo>
                        <a:pt x="565" y="686"/>
                      </a:lnTo>
                      <a:lnTo>
                        <a:pt x="629" y="618"/>
                      </a:lnTo>
                      <a:lnTo>
                        <a:pt x="662" y="578"/>
                      </a:lnTo>
                      <a:lnTo>
                        <a:pt x="696" y="532"/>
                      </a:lnTo>
                      <a:lnTo>
                        <a:pt x="728" y="483"/>
                      </a:lnTo>
                      <a:lnTo>
                        <a:pt x="759" y="427"/>
                      </a:lnTo>
                      <a:lnTo>
                        <a:pt x="814" y="304"/>
                      </a:lnTo>
                      <a:lnTo>
                        <a:pt x="848" y="249"/>
                      </a:lnTo>
                      <a:lnTo>
                        <a:pt x="879" y="199"/>
                      </a:lnTo>
                      <a:lnTo>
                        <a:pt x="907" y="158"/>
                      </a:lnTo>
                      <a:lnTo>
                        <a:pt x="934" y="123"/>
                      </a:lnTo>
                      <a:lnTo>
                        <a:pt x="981" y="70"/>
                      </a:lnTo>
                      <a:lnTo>
                        <a:pt x="1017" y="36"/>
                      </a:lnTo>
                      <a:lnTo>
                        <a:pt x="1074" y="7"/>
                      </a:lnTo>
                      <a:lnTo>
                        <a:pt x="1110" y="0"/>
                      </a:lnTo>
                      <a:lnTo>
                        <a:pt x="1192" y="9"/>
                      </a:lnTo>
                      <a:lnTo>
                        <a:pt x="1244" y="44"/>
                      </a:lnTo>
                      <a:lnTo>
                        <a:pt x="1297" y="106"/>
                      </a:lnTo>
                      <a:lnTo>
                        <a:pt x="1339" y="226"/>
                      </a:lnTo>
                      <a:lnTo>
                        <a:pt x="1333" y="264"/>
                      </a:lnTo>
                      <a:lnTo>
                        <a:pt x="1348" y="452"/>
                      </a:lnTo>
                      <a:lnTo>
                        <a:pt x="1293" y="502"/>
                      </a:lnTo>
                      <a:lnTo>
                        <a:pt x="1232" y="245"/>
                      </a:lnTo>
                      <a:lnTo>
                        <a:pt x="1040" y="209"/>
                      </a:lnTo>
                      <a:lnTo>
                        <a:pt x="939" y="304"/>
                      </a:lnTo>
                      <a:lnTo>
                        <a:pt x="793" y="523"/>
                      </a:lnTo>
                      <a:lnTo>
                        <a:pt x="717" y="851"/>
                      </a:lnTo>
                      <a:lnTo>
                        <a:pt x="744" y="906"/>
                      </a:lnTo>
                      <a:lnTo>
                        <a:pt x="430" y="937"/>
                      </a:lnTo>
                      <a:lnTo>
                        <a:pt x="0" y="912"/>
                      </a:lnTo>
                      <a:lnTo>
                        <a:pt x="415" y="800"/>
                      </a:lnTo>
                      <a:lnTo>
                        <a:pt x="415" y="80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29080" y="2752560"/>
                  <a:ext cx="285840" cy="159480"/>
                </a:xfrm>
                <a:custGeom>
                  <a:avLst/>
                  <a:gdLst/>
                  <a:ahLst/>
                  <a:rect l="l" t="t" r="r" b="b"/>
                  <a:pathLst>
                    <a:path w="1086" h="606">
                      <a:moveTo>
                        <a:pt x="0" y="393"/>
                      </a:moveTo>
                      <a:lnTo>
                        <a:pt x="187" y="25"/>
                      </a:lnTo>
                      <a:lnTo>
                        <a:pt x="358" y="0"/>
                      </a:lnTo>
                      <a:lnTo>
                        <a:pt x="1046" y="150"/>
                      </a:lnTo>
                      <a:lnTo>
                        <a:pt x="1086" y="287"/>
                      </a:lnTo>
                      <a:lnTo>
                        <a:pt x="1016" y="565"/>
                      </a:lnTo>
                      <a:lnTo>
                        <a:pt x="940" y="606"/>
                      </a:lnTo>
                      <a:lnTo>
                        <a:pt x="223" y="570"/>
                      </a:lnTo>
                      <a:lnTo>
                        <a:pt x="19" y="475"/>
                      </a:lnTo>
                      <a:lnTo>
                        <a:pt x="0" y="393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a0e5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70840" y="2773080"/>
                  <a:ext cx="221040" cy="131040"/>
                </a:xfrm>
                <a:custGeom>
                  <a:avLst/>
                  <a:gdLst/>
                  <a:ahLst/>
                  <a:rect l="l" t="t" r="r" b="b"/>
                  <a:pathLst>
                    <a:path w="839" h="498">
                      <a:moveTo>
                        <a:pt x="590" y="0"/>
                      </a:moveTo>
                      <a:lnTo>
                        <a:pt x="576" y="19"/>
                      </a:lnTo>
                      <a:lnTo>
                        <a:pt x="538" y="68"/>
                      </a:lnTo>
                      <a:lnTo>
                        <a:pt x="481" y="139"/>
                      </a:lnTo>
                      <a:lnTo>
                        <a:pt x="447" y="179"/>
                      </a:lnTo>
                      <a:lnTo>
                        <a:pt x="409" y="220"/>
                      </a:lnTo>
                      <a:lnTo>
                        <a:pt x="369" y="262"/>
                      </a:lnTo>
                      <a:lnTo>
                        <a:pt x="325" y="304"/>
                      </a:lnTo>
                      <a:lnTo>
                        <a:pt x="282" y="344"/>
                      </a:lnTo>
                      <a:lnTo>
                        <a:pt x="238" y="380"/>
                      </a:lnTo>
                      <a:lnTo>
                        <a:pt x="194" y="411"/>
                      </a:lnTo>
                      <a:lnTo>
                        <a:pt x="148" y="437"/>
                      </a:lnTo>
                      <a:lnTo>
                        <a:pt x="65" y="468"/>
                      </a:lnTo>
                      <a:lnTo>
                        <a:pt x="0" y="485"/>
                      </a:lnTo>
                      <a:lnTo>
                        <a:pt x="67" y="494"/>
                      </a:lnTo>
                      <a:lnTo>
                        <a:pt x="232" y="498"/>
                      </a:lnTo>
                      <a:lnTo>
                        <a:pt x="331" y="462"/>
                      </a:lnTo>
                      <a:lnTo>
                        <a:pt x="430" y="416"/>
                      </a:lnTo>
                      <a:lnTo>
                        <a:pt x="487" y="392"/>
                      </a:lnTo>
                      <a:lnTo>
                        <a:pt x="544" y="361"/>
                      </a:lnTo>
                      <a:lnTo>
                        <a:pt x="601" y="329"/>
                      </a:lnTo>
                      <a:lnTo>
                        <a:pt x="656" y="295"/>
                      </a:lnTo>
                      <a:lnTo>
                        <a:pt x="707" y="258"/>
                      </a:lnTo>
                      <a:lnTo>
                        <a:pt x="753" y="222"/>
                      </a:lnTo>
                      <a:lnTo>
                        <a:pt x="820" y="144"/>
                      </a:lnTo>
                      <a:lnTo>
                        <a:pt x="839" y="65"/>
                      </a:lnTo>
                      <a:lnTo>
                        <a:pt x="590" y="0"/>
                      </a:lnTo>
                      <a:lnTo>
                        <a:pt x="59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564560" y="2980440"/>
                  <a:ext cx="65160" cy="72360"/>
                </a:xfrm>
                <a:custGeom>
                  <a:avLst/>
                  <a:gdLst/>
                  <a:ahLst/>
                  <a:rect l="l" t="t" r="r" b="b"/>
                  <a:pathLst>
                    <a:path w="249" h="276">
                      <a:moveTo>
                        <a:pt x="0" y="192"/>
                      </a:moveTo>
                      <a:lnTo>
                        <a:pt x="80" y="184"/>
                      </a:lnTo>
                      <a:lnTo>
                        <a:pt x="161" y="129"/>
                      </a:lnTo>
                      <a:lnTo>
                        <a:pt x="205" y="76"/>
                      </a:lnTo>
                      <a:lnTo>
                        <a:pt x="249" y="0"/>
                      </a:lnTo>
                      <a:lnTo>
                        <a:pt x="222" y="209"/>
                      </a:lnTo>
                      <a:lnTo>
                        <a:pt x="112" y="276"/>
                      </a:lnTo>
                      <a:lnTo>
                        <a:pt x="0" y="192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938960" y="3025080"/>
                  <a:ext cx="156960" cy="244440"/>
                </a:xfrm>
                <a:custGeom>
                  <a:avLst/>
                  <a:gdLst/>
                  <a:ahLst/>
                  <a:rect l="l" t="t" r="r" b="b"/>
                  <a:pathLst>
                    <a:path w="595" h="928">
                      <a:moveTo>
                        <a:pt x="0" y="726"/>
                      </a:moveTo>
                      <a:lnTo>
                        <a:pt x="23" y="774"/>
                      </a:lnTo>
                      <a:lnTo>
                        <a:pt x="49" y="817"/>
                      </a:lnTo>
                      <a:lnTo>
                        <a:pt x="86" y="865"/>
                      </a:lnTo>
                      <a:lnTo>
                        <a:pt x="106" y="886"/>
                      </a:lnTo>
                      <a:lnTo>
                        <a:pt x="131" y="905"/>
                      </a:lnTo>
                      <a:lnTo>
                        <a:pt x="183" y="928"/>
                      </a:lnTo>
                      <a:lnTo>
                        <a:pt x="241" y="926"/>
                      </a:lnTo>
                      <a:lnTo>
                        <a:pt x="306" y="888"/>
                      </a:lnTo>
                      <a:lnTo>
                        <a:pt x="338" y="857"/>
                      </a:lnTo>
                      <a:lnTo>
                        <a:pt x="369" y="825"/>
                      </a:lnTo>
                      <a:lnTo>
                        <a:pt x="424" y="760"/>
                      </a:lnTo>
                      <a:lnTo>
                        <a:pt x="472" y="698"/>
                      </a:lnTo>
                      <a:lnTo>
                        <a:pt x="510" y="639"/>
                      </a:lnTo>
                      <a:lnTo>
                        <a:pt x="538" y="586"/>
                      </a:lnTo>
                      <a:lnTo>
                        <a:pt x="559" y="544"/>
                      </a:lnTo>
                      <a:lnTo>
                        <a:pt x="576" y="508"/>
                      </a:lnTo>
                      <a:lnTo>
                        <a:pt x="595" y="169"/>
                      </a:lnTo>
                      <a:lnTo>
                        <a:pt x="511" y="25"/>
                      </a:lnTo>
                      <a:lnTo>
                        <a:pt x="335" y="0"/>
                      </a:lnTo>
                      <a:lnTo>
                        <a:pt x="127" y="300"/>
                      </a:lnTo>
                      <a:lnTo>
                        <a:pt x="116" y="335"/>
                      </a:lnTo>
                      <a:lnTo>
                        <a:pt x="91" y="413"/>
                      </a:lnTo>
                      <a:lnTo>
                        <a:pt x="61" y="509"/>
                      </a:lnTo>
                      <a:lnTo>
                        <a:pt x="42" y="595"/>
                      </a:lnTo>
                      <a:lnTo>
                        <a:pt x="15" y="694"/>
                      </a:lnTo>
                      <a:lnTo>
                        <a:pt x="0" y="726"/>
                      </a:lnTo>
                      <a:lnTo>
                        <a:pt x="0" y="726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001240" y="3086280"/>
                  <a:ext cx="62280" cy="123480"/>
                </a:xfrm>
                <a:custGeom>
                  <a:avLst/>
                  <a:gdLst/>
                  <a:ahLst/>
                  <a:rect l="l" t="t" r="r" b="b"/>
                  <a:pathLst>
                    <a:path w="236" h="469">
                      <a:moveTo>
                        <a:pt x="156" y="0"/>
                      </a:moveTo>
                      <a:lnTo>
                        <a:pt x="57" y="80"/>
                      </a:lnTo>
                      <a:lnTo>
                        <a:pt x="2" y="382"/>
                      </a:lnTo>
                      <a:lnTo>
                        <a:pt x="0" y="367"/>
                      </a:lnTo>
                      <a:lnTo>
                        <a:pt x="15" y="439"/>
                      </a:lnTo>
                      <a:lnTo>
                        <a:pt x="30" y="468"/>
                      </a:lnTo>
                      <a:lnTo>
                        <a:pt x="49" y="469"/>
                      </a:lnTo>
                      <a:lnTo>
                        <a:pt x="102" y="420"/>
                      </a:lnTo>
                      <a:lnTo>
                        <a:pt x="150" y="350"/>
                      </a:lnTo>
                      <a:lnTo>
                        <a:pt x="171" y="314"/>
                      </a:lnTo>
                      <a:lnTo>
                        <a:pt x="184" y="279"/>
                      </a:lnTo>
                      <a:lnTo>
                        <a:pt x="209" y="201"/>
                      </a:lnTo>
                      <a:lnTo>
                        <a:pt x="236" y="47"/>
                      </a:lnTo>
                      <a:lnTo>
                        <a:pt x="215" y="17"/>
                      </a:lnTo>
                      <a:lnTo>
                        <a:pt x="188" y="4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25560" y="3043440"/>
                  <a:ext cx="103680" cy="86400"/>
                </a:xfrm>
                <a:custGeom>
                  <a:avLst/>
                  <a:gdLst/>
                  <a:ahLst/>
                  <a:rect l="l" t="t" r="r" b="b"/>
                  <a:pathLst>
                    <a:path w="394" h="327">
                      <a:moveTo>
                        <a:pt x="0" y="183"/>
                      </a:moveTo>
                      <a:lnTo>
                        <a:pt x="36" y="202"/>
                      </a:lnTo>
                      <a:lnTo>
                        <a:pt x="130" y="217"/>
                      </a:lnTo>
                      <a:lnTo>
                        <a:pt x="257" y="170"/>
                      </a:lnTo>
                      <a:lnTo>
                        <a:pt x="291" y="141"/>
                      </a:lnTo>
                      <a:lnTo>
                        <a:pt x="325" y="105"/>
                      </a:lnTo>
                      <a:lnTo>
                        <a:pt x="360" y="57"/>
                      </a:lnTo>
                      <a:lnTo>
                        <a:pt x="394" y="0"/>
                      </a:lnTo>
                      <a:lnTo>
                        <a:pt x="392" y="107"/>
                      </a:lnTo>
                      <a:lnTo>
                        <a:pt x="381" y="154"/>
                      </a:lnTo>
                      <a:lnTo>
                        <a:pt x="360" y="202"/>
                      </a:lnTo>
                      <a:lnTo>
                        <a:pt x="327" y="248"/>
                      </a:lnTo>
                      <a:lnTo>
                        <a:pt x="305" y="268"/>
                      </a:lnTo>
                      <a:lnTo>
                        <a:pt x="280" y="287"/>
                      </a:lnTo>
                      <a:lnTo>
                        <a:pt x="227" y="316"/>
                      </a:lnTo>
                      <a:lnTo>
                        <a:pt x="179" y="327"/>
                      </a:lnTo>
                      <a:lnTo>
                        <a:pt x="99" y="316"/>
                      </a:lnTo>
                      <a:lnTo>
                        <a:pt x="46" y="287"/>
                      </a:lnTo>
                      <a:lnTo>
                        <a:pt x="29" y="270"/>
                      </a:lnTo>
                      <a:lnTo>
                        <a:pt x="0" y="183"/>
                      </a:lnTo>
                      <a:lnTo>
                        <a:pt x="0" y="183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95320" y="2787480"/>
                  <a:ext cx="259920" cy="132480"/>
                </a:xfrm>
                <a:custGeom>
                  <a:avLst/>
                  <a:gdLst/>
                  <a:ahLst/>
                  <a:rect l="l" t="t" r="r" b="b"/>
                  <a:pathLst>
                    <a:path w="985" h="506">
                      <a:moveTo>
                        <a:pt x="0" y="434"/>
                      </a:moveTo>
                      <a:lnTo>
                        <a:pt x="86" y="416"/>
                      </a:lnTo>
                      <a:lnTo>
                        <a:pt x="282" y="365"/>
                      </a:lnTo>
                      <a:lnTo>
                        <a:pt x="390" y="329"/>
                      </a:lnTo>
                      <a:lnTo>
                        <a:pt x="489" y="283"/>
                      </a:lnTo>
                      <a:lnTo>
                        <a:pt x="567" y="232"/>
                      </a:lnTo>
                      <a:lnTo>
                        <a:pt x="612" y="173"/>
                      </a:lnTo>
                      <a:lnTo>
                        <a:pt x="688" y="0"/>
                      </a:lnTo>
                      <a:lnTo>
                        <a:pt x="823" y="0"/>
                      </a:lnTo>
                      <a:lnTo>
                        <a:pt x="985" y="23"/>
                      </a:lnTo>
                      <a:lnTo>
                        <a:pt x="949" y="69"/>
                      </a:lnTo>
                      <a:lnTo>
                        <a:pt x="911" y="116"/>
                      </a:lnTo>
                      <a:lnTo>
                        <a:pt x="871" y="173"/>
                      </a:lnTo>
                      <a:lnTo>
                        <a:pt x="829" y="234"/>
                      </a:lnTo>
                      <a:lnTo>
                        <a:pt x="793" y="293"/>
                      </a:lnTo>
                      <a:lnTo>
                        <a:pt x="763" y="380"/>
                      </a:lnTo>
                      <a:lnTo>
                        <a:pt x="759" y="472"/>
                      </a:lnTo>
                      <a:lnTo>
                        <a:pt x="747" y="506"/>
                      </a:lnTo>
                      <a:lnTo>
                        <a:pt x="531" y="468"/>
                      </a:lnTo>
                      <a:lnTo>
                        <a:pt x="0" y="434"/>
                      </a:lnTo>
                      <a:lnTo>
                        <a:pt x="0" y="434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909800" y="2851920"/>
                  <a:ext cx="96840" cy="77400"/>
                </a:xfrm>
                <a:custGeom>
                  <a:avLst/>
                  <a:gdLst/>
                  <a:ahLst/>
                  <a:rect l="l" t="t" r="r" b="b"/>
                  <a:pathLst>
                    <a:path w="369" h="293">
                      <a:moveTo>
                        <a:pt x="0" y="223"/>
                      </a:moveTo>
                      <a:lnTo>
                        <a:pt x="42" y="208"/>
                      </a:lnTo>
                      <a:lnTo>
                        <a:pt x="142" y="166"/>
                      </a:lnTo>
                      <a:lnTo>
                        <a:pt x="203" y="133"/>
                      </a:lnTo>
                      <a:lnTo>
                        <a:pt x="264" y="95"/>
                      </a:lnTo>
                      <a:lnTo>
                        <a:pt x="321" y="52"/>
                      </a:lnTo>
                      <a:lnTo>
                        <a:pt x="369" y="0"/>
                      </a:lnTo>
                      <a:lnTo>
                        <a:pt x="319" y="227"/>
                      </a:lnTo>
                      <a:lnTo>
                        <a:pt x="340" y="293"/>
                      </a:lnTo>
                      <a:lnTo>
                        <a:pt x="302" y="278"/>
                      </a:lnTo>
                      <a:lnTo>
                        <a:pt x="209" y="246"/>
                      </a:lnTo>
                      <a:lnTo>
                        <a:pt x="97" y="221"/>
                      </a:lnTo>
                      <a:lnTo>
                        <a:pt x="0" y="223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723320" y="2686320"/>
                  <a:ext cx="333720" cy="202680"/>
                </a:xfrm>
                <a:custGeom>
                  <a:avLst/>
                  <a:gdLst/>
                  <a:ahLst/>
                  <a:rect l="l" t="t" r="r" b="b"/>
                  <a:pathLst>
                    <a:path w="1267" h="770">
                      <a:moveTo>
                        <a:pt x="232" y="320"/>
                      </a:moveTo>
                      <a:lnTo>
                        <a:pt x="337" y="302"/>
                      </a:lnTo>
                      <a:lnTo>
                        <a:pt x="559" y="314"/>
                      </a:lnTo>
                      <a:lnTo>
                        <a:pt x="843" y="371"/>
                      </a:lnTo>
                      <a:lnTo>
                        <a:pt x="991" y="424"/>
                      </a:lnTo>
                      <a:lnTo>
                        <a:pt x="1065" y="456"/>
                      </a:lnTo>
                      <a:lnTo>
                        <a:pt x="1136" y="494"/>
                      </a:lnTo>
                      <a:lnTo>
                        <a:pt x="1185" y="494"/>
                      </a:lnTo>
                      <a:lnTo>
                        <a:pt x="1242" y="462"/>
                      </a:lnTo>
                      <a:lnTo>
                        <a:pt x="1267" y="422"/>
                      </a:lnTo>
                      <a:lnTo>
                        <a:pt x="1259" y="405"/>
                      </a:lnTo>
                      <a:lnTo>
                        <a:pt x="1229" y="394"/>
                      </a:lnTo>
                      <a:lnTo>
                        <a:pt x="1122" y="373"/>
                      </a:lnTo>
                      <a:lnTo>
                        <a:pt x="953" y="335"/>
                      </a:lnTo>
                      <a:lnTo>
                        <a:pt x="835" y="310"/>
                      </a:lnTo>
                      <a:lnTo>
                        <a:pt x="691" y="283"/>
                      </a:lnTo>
                      <a:lnTo>
                        <a:pt x="516" y="255"/>
                      </a:lnTo>
                      <a:lnTo>
                        <a:pt x="307" y="225"/>
                      </a:lnTo>
                      <a:lnTo>
                        <a:pt x="293" y="211"/>
                      </a:lnTo>
                      <a:lnTo>
                        <a:pt x="322" y="190"/>
                      </a:lnTo>
                      <a:lnTo>
                        <a:pt x="383" y="162"/>
                      </a:lnTo>
                      <a:lnTo>
                        <a:pt x="462" y="129"/>
                      </a:lnTo>
                      <a:lnTo>
                        <a:pt x="554" y="97"/>
                      </a:lnTo>
                      <a:lnTo>
                        <a:pt x="641" y="69"/>
                      </a:lnTo>
                      <a:lnTo>
                        <a:pt x="769" y="38"/>
                      </a:lnTo>
                      <a:lnTo>
                        <a:pt x="839" y="15"/>
                      </a:lnTo>
                      <a:lnTo>
                        <a:pt x="837" y="0"/>
                      </a:lnTo>
                      <a:lnTo>
                        <a:pt x="628" y="38"/>
                      </a:lnTo>
                      <a:lnTo>
                        <a:pt x="531" y="67"/>
                      </a:lnTo>
                      <a:lnTo>
                        <a:pt x="424" y="103"/>
                      </a:lnTo>
                      <a:lnTo>
                        <a:pt x="314" y="152"/>
                      </a:lnTo>
                      <a:lnTo>
                        <a:pt x="261" y="181"/>
                      </a:lnTo>
                      <a:lnTo>
                        <a:pt x="208" y="213"/>
                      </a:lnTo>
                      <a:lnTo>
                        <a:pt x="181" y="247"/>
                      </a:lnTo>
                      <a:lnTo>
                        <a:pt x="153" y="289"/>
                      </a:lnTo>
                      <a:lnTo>
                        <a:pt x="120" y="342"/>
                      </a:lnTo>
                      <a:lnTo>
                        <a:pt x="84" y="407"/>
                      </a:lnTo>
                      <a:lnTo>
                        <a:pt x="52" y="481"/>
                      </a:lnTo>
                      <a:lnTo>
                        <a:pt x="0" y="648"/>
                      </a:lnTo>
                      <a:lnTo>
                        <a:pt x="0" y="770"/>
                      </a:lnTo>
                      <a:lnTo>
                        <a:pt x="48" y="696"/>
                      </a:lnTo>
                      <a:lnTo>
                        <a:pt x="54" y="643"/>
                      </a:lnTo>
                      <a:lnTo>
                        <a:pt x="71" y="601"/>
                      </a:lnTo>
                      <a:lnTo>
                        <a:pt x="116" y="506"/>
                      </a:lnTo>
                      <a:lnTo>
                        <a:pt x="145" y="451"/>
                      </a:lnTo>
                      <a:lnTo>
                        <a:pt x="173" y="397"/>
                      </a:lnTo>
                      <a:lnTo>
                        <a:pt x="204" y="352"/>
                      </a:lnTo>
                      <a:lnTo>
                        <a:pt x="232" y="320"/>
                      </a:lnTo>
                      <a:lnTo>
                        <a:pt x="232" y="3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787760" y="2909160"/>
                  <a:ext cx="223560" cy="161640"/>
                </a:xfrm>
                <a:custGeom>
                  <a:avLst/>
                  <a:gdLst/>
                  <a:ahLst/>
                  <a:rect l="l" t="t" r="r" b="b"/>
                  <a:pathLst>
                    <a:path w="848" h="614">
                      <a:moveTo>
                        <a:pt x="741" y="0"/>
                      </a:moveTo>
                      <a:lnTo>
                        <a:pt x="848" y="32"/>
                      </a:lnTo>
                      <a:lnTo>
                        <a:pt x="760" y="65"/>
                      </a:lnTo>
                      <a:lnTo>
                        <a:pt x="663" y="105"/>
                      </a:lnTo>
                      <a:lnTo>
                        <a:pt x="606" y="131"/>
                      </a:lnTo>
                      <a:lnTo>
                        <a:pt x="544" y="163"/>
                      </a:lnTo>
                      <a:lnTo>
                        <a:pt x="477" y="200"/>
                      </a:lnTo>
                      <a:lnTo>
                        <a:pt x="407" y="243"/>
                      </a:lnTo>
                      <a:lnTo>
                        <a:pt x="336" y="291"/>
                      </a:lnTo>
                      <a:lnTo>
                        <a:pt x="300" y="316"/>
                      </a:lnTo>
                      <a:lnTo>
                        <a:pt x="266" y="344"/>
                      </a:lnTo>
                      <a:lnTo>
                        <a:pt x="230" y="373"/>
                      </a:lnTo>
                      <a:lnTo>
                        <a:pt x="196" y="403"/>
                      </a:lnTo>
                      <a:lnTo>
                        <a:pt x="161" y="433"/>
                      </a:lnTo>
                      <a:lnTo>
                        <a:pt x="127" y="468"/>
                      </a:lnTo>
                      <a:lnTo>
                        <a:pt x="61" y="538"/>
                      </a:lnTo>
                      <a:lnTo>
                        <a:pt x="0" y="614"/>
                      </a:lnTo>
                      <a:lnTo>
                        <a:pt x="0" y="584"/>
                      </a:lnTo>
                      <a:lnTo>
                        <a:pt x="34" y="519"/>
                      </a:lnTo>
                      <a:lnTo>
                        <a:pt x="61" y="477"/>
                      </a:lnTo>
                      <a:lnTo>
                        <a:pt x="95" y="431"/>
                      </a:lnTo>
                      <a:lnTo>
                        <a:pt x="137" y="382"/>
                      </a:lnTo>
                      <a:lnTo>
                        <a:pt x="186" y="331"/>
                      </a:lnTo>
                      <a:lnTo>
                        <a:pt x="215" y="304"/>
                      </a:lnTo>
                      <a:lnTo>
                        <a:pt x="243" y="277"/>
                      </a:lnTo>
                      <a:lnTo>
                        <a:pt x="275" y="249"/>
                      </a:lnTo>
                      <a:lnTo>
                        <a:pt x="310" y="222"/>
                      </a:lnTo>
                      <a:lnTo>
                        <a:pt x="346" y="196"/>
                      </a:lnTo>
                      <a:lnTo>
                        <a:pt x="386" y="169"/>
                      </a:lnTo>
                      <a:lnTo>
                        <a:pt x="426" y="143"/>
                      </a:lnTo>
                      <a:lnTo>
                        <a:pt x="469" y="118"/>
                      </a:lnTo>
                      <a:lnTo>
                        <a:pt x="515" y="93"/>
                      </a:lnTo>
                      <a:lnTo>
                        <a:pt x="564" y="68"/>
                      </a:lnTo>
                      <a:lnTo>
                        <a:pt x="614" y="44"/>
                      </a:lnTo>
                      <a:lnTo>
                        <a:pt x="667" y="23"/>
                      </a:lnTo>
                      <a:lnTo>
                        <a:pt x="741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751480"/>
                  <a:ext cx="202320" cy="166320"/>
                </a:xfrm>
                <a:custGeom>
                  <a:avLst/>
                  <a:gdLst/>
                  <a:ahLst/>
                  <a:rect l="l" t="t" r="r" b="b"/>
                  <a:pathLst>
                    <a:path w="768" h="631">
                      <a:moveTo>
                        <a:pt x="74" y="599"/>
                      </a:moveTo>
                      <a:lnTo>
                        <a:pt x="88" y="536"/>
                      </a:lnTo>
                      <a:lnTo>
                        <a:pt x="110" y="466"/>
                      </a:lnTo>
                      <a:lnTo>
                        <a:pt x="147" y="382"/>
                      </a:lnTo>
                      <a:lnTo>
                        <a:pt x="171" y="339"/>
                      </a:lnTo>
                      <a:lnTo>
                        <a:pt x="200" y="293"/>
                      </a:lnTo>
                      <a:lnTo>
                        <a:pt x="236" y="247"/>
                      </a:lnTo>
                      <a:lnTo>
                        <a:pt x="278" y="206"/>
                      </a:lnTo>
                      <a:lnTo>
                        <a:pt x="325" y="164"/>
                      </a:lnTo>
                      <a:lnTo>
                        <a:pt x="379" y="126"/>
                      </a:lnTo>
                      <a:lnTo>
                        <a:pt x="441" y="93"/>
                      </a:lnTo>
                      <a:lnTo>
                        <a:pt x="510" y="65"/>
                      </a:lnTo>
                      <a:lnTo>
                        <a:pt x="610" y="31"/>
                      </a:lnTo>
                      <a:lnTo>
                        <a:pt x="685" y="6"/>
                      </a:lnTo>
                      <a:lnTo>
                        <a:pt x="768" y="0"/>
                      </a:lnTo>
                      <a:lnTo>
                        <a:pt x="740" y="59"/>
                      </a:lnTo>
                      <a:lnTo>
                        <a:pt x="645" y="67"/>
                      </a:lnTo>
                      <a:lnTo>
                        <a:pt x="561" y="103"/>
                      </a:lnTo>
                      <a:lnTo>
                        <a:pt x="458" y="148"/>
                      </a:lnTo>
                      <a:lnTo>
                        <a:pt x="392" y="188"/>
                      </a:lnTo>
                      <a:lnTo>
                        <a:pt x="323" y="232"/>
                      </a:lnTo>
                      <a:lnTo>
                        <a:pt x="253" y="308"/>
                      </a:lnTo>
                      <a:lnTo>
                        <a:pt x="209" y="371"/>
                      </a:lnTo>
                      <a:lnTo>
                        <a:pt x="171" y="451"/>
                      </a:lnTo>
                      <a:lnTo>
                        <a:pt x="154" y="536"/>
                      </a:lnTo>
                      <a:lnTo>
                        <a:pt x="166" y="595"/>
                      </a:lnTo>
                      <a:lnTo>
                        <a:pt x="181" y="631"/>
                      </a:lnTo>
                      <a:lnTo>
                        <a:pt x="0" y="622"/>
                      </a:lnTo>
                      <a:lnTo>
                        <a:pt x="74" y="599"/>
                      </a:lnTo>
                      <a:lnTo>
                        <a:pt x="74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17720" y="2685960"/>
                  <a:ext cx="358920" cy="176400"/>
                </a:xfrm>
                <a:custGeom>
                  <a:avLst/>
                  <a:gdLst/>
                  <a:ahLst/>
                  <a:rect l="l" t="t" r="r" b="b"/>
                  <a:pathLst>
                    <a:path w="1361" h="671">
                      <a:moveTo>
                        <a:pt x="126" y="29"/>
                      </a:moveTo>
                      <a:lnTo>
                        <a:pt x="280" y="23"/>
                      </a:lnTo>
                      <a:lnTo>
                        <a:pt x="639" y="65"/>
                      </a:lnTo>
                      <a:lnTo>
                        <a:pt x="742" y="95"/>
                      </a:lnTo>
                      <a:lnTo>
                        <a:pt x="846" y="135"/>
                      </a:lnTo>
                      <a:lnTo>
                        <a:pt x="949" y="187"/>
                      </a:lnTo>
                      <a:lnTo>
                        <a:pt x="1000" y="217"/>
                      </a:lnTo>
                      <a:lnTo>
                        <a:pt x="1050" y="251"/>
                      </a:lnTo>
                      <a:lnTo>
                        <a:pt x="1097" y="287"/>
                      </a:lnTo>
                      <a:lnTo>
                        <a:pt x="1143" y="329"/>
                      </a:lnTo>
                      <a:lnTo>
                        <a:pt x="1187" y="375"/>
                      </a:lnTo>
                      <a:lnTo>
                        <a:pt x="1226" y="426"/>
                      </a:lnTo>
                      <a:lnTo>
                        <a:pt x="1264" y="479"/>
                      </a:lnTo>
                      <a:lnTo>
                        <a:pt x="1301" y="538"/>
                      </a:lnTo>
                      <a:lnTo>
                        <a:pt x="1333" y="603"/>
                      </a:lnTo>
                      <a:lnTo>
                        <a:pt x="1361" y="671"/>
                      </a:lnTo>
                      <a:lnTo>
                        <a:pt x="1356" y="591"/>
                      </a:lnTo>
                      <a:lnTo>
                        <a:pt x="1337" y="508"/>
                      </a:lnTo>
                      <a:lnTo>
                        <a:pt x="1320" y="460"/>
                      </a:lnTo>
                      <a:lnTo>
                        <a:pt x="1295" y="409"/>
                      </a:lnTo>
                      <a:lnTo>
                        <a:pt x="1261" y="356"/>
                      </a:lnTo>
                      <a:lnTo>
                        <a:pt x="1219" y="303"/>
                      </a:lnTo>
                      <a:lnTo>
                        <a:pt x="1194" y="276"/>
                      </a:lnTo>
                      <a:lnTo>
                        <a:pt x="1168" y="251"/>
                      </a:lnTo>
                      <a:lnTo>
                        <a:pt x="1137" y="225"/>
                      </a:lnTo>
                      <a:lnTo>
                        <a:pt x="1103" y="200"/>
                      </a:lnTo>
                      <a:lnTo>
                        <a:pt x="1069" y="177"/>
                      </a:lnTo>
                      <a:lnTo>
                        <a:pt x="1029" y="154"/>
                      </a:lnTo>
                      <a:lnTo>
                        <a:pt x="985" y="133"/>
                      </a:lnTo>
                      <a:lnTo>
                        <a:pt x="939" y="112"/>
                      </a:lnTo>
                      <a:lnTo>
                        <a:pt x="835" y="78"/>
                      </a:lnTo>
                      <a:lnTo>
                        <a:pt x="715" y="50"/>
                      </a:lnTo>
                      <a:lnTo>
                        <a:pt x="652" y="40"/>
                      </a:lnTo>
                      <a:lnTo>
                        <a:pt x="498" y="19"/>
                      </a:lnTo>
                      <a:lnTo>
                        <a:pt x="299" y="0"/>
                      </a:lnTo>
                      <a:lnTo>
                        <a:pt x="99" y="2"/>
                      </a:lnTo>
                      <a:lnTo>
                        <a:pt x="0" y="16"/>
                      </a:lnTo>
                      <a:lnTo>
                        <a:pt x="21" y="23"/>
                      </a:lnTo>
                      <a:lnTo>
                        <a:pt x="126" y="29"/>
                      </a:lnTo>
                      <a:lnTo>
                        <a:pt x="126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264040" y="2832120"/>
                  <a:ext cx="81720" cy="156960"/>
                </a:xfrm>
                <a:custGeom>
                  <a:avLst/>
                  <a:gdLst/>
                  <a:ahLst/>
                  <a:rect l="l" t="t" r="r" b="b"/>
                  <a:pathLst>
                    <a:path w="310" h="595">
                      <a:moveTo>
                        <a:pt x="0" y="0"/>
                      </a:moveTo>
                      <a:lnTo>
                        <a:pt x="25" y="59"/>
                      </a:lnTo>
                      <a:lnTo>
                        <a:pt x="49" y="122"/>
                      </a:lnTo>
                      <a:lnTo>
                        <a:pt x="78" y="198"/>
                      </a:lnTo>
                      <a:lnTo>
                        <a:pt x="108" y="278"/>
                      </a:lnTo>
                      <a:lnTo>
                        <a:pt x="133" y="354"/>
                      </a:lnTo>
                      <a:lnTo>
                        <a:pt x="162" y="472"/>
                      </a:lnTo>
                      <a:lnTo>
                        <a:pt x="175" y="532"/>
                      </a:lnTo>
                      <a:lnTo>
                        <a:pt x="202" y="570"/>
                      </a:lnTo>
                      <a:lnTo>
                        <a:pt x="240" y="595"/>
                      </a:lnTo>
                      <a:lnTo>
                        <a:pt x="264" y="590"/>
                      </a:lnTo>
                      <a:lnTo>
                        <a:pt x="310" y="559"/>
                      </a:lnTo>
                      <a:lnTo>
                        <a:pt x="255" y="512"/>
                      </a:lnTo>
                      <a:lnTo>
                        <a:pt x="127" y="196"/>
                      </a:lnTo>
                      <a:lnTo>
                        <a:pt x="99" y="131"/>
                      </a:lnTo>
                      <a:lnTo>
                        <a:pt x="72" y="86"/>
                      </a:lnTo>
                      <a:lnTo>
                        <a:pt x="32" y="2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942200" y="2806200"/>
                  <a:ext cx="296280" cy="137520"/>
                </a:xfrm>
                <a:custGeom>
                  <a:avLst/>
                  <a:gdLst/>
                  <a:ahLst/>
                  <a:rect l="l" t="t" r="r" b="b"/>
                  <a:pathLst>
                    <a:path w="1126" h="523">
                      <a:moveTo>
                        <a:pt x="263" y="424"/>
                      </a:moveTo>
                      <a:lnTo>
                        <a:pt x="287" y="436"/>
                      </a:lnTo>
                      <a:lnTo>
                        <a:pt x="384" y="430"/>
                      </a:lnTo>
                      <a:lnTo>
                        <a:pt x="584" y="354"/>
                      </a:lnTo>
                      <a:lnTo>
                        <a:pt x="653" y="316"/>
                      </a:lnTo>
                      <a:lnTo>
                        <a:pt x="730" y="270"/>
                      </a:lnTo>
                      <a:lnTo>
                        <a:pt x="774" y="242"/>
                      </a:lnTo>
                      <a:lnTo>
                        <a:pt x="820" y="213"/>
                      </a:lnTo>
                      <a:lnTo>
                        <a:pt x="865" y="181"/>
                      </a:lnTo>
                      <a:lnTo>
                        <a:pt x="917" y="147"/>
                      </a:lnTo>
                      <a:lnTo>
                        <a:pt x="961" y="113"/>
                      </a:lnTo>
                      <a:lnTo>
                        <a:pt x="999" y="82"/>
                      </a:lnTo>
                      <a:lnTo>
                        <a:pt x="1046" y="25"/>
                      </a:lnTo>
                      <a:lnTo>
                        <a:pt x="1063" y="6"/>
                      </a:lnTo>
                      <a:lnTo>
                        <a:pt x="1077" y="0"/>
                      </a:lnTo>
                      <a:lnTo>
                        <a:pt x="1103" y="10"/>
                      </a:lnTo>
                      <a:lnTo>
                        <a:pt x="1126" y="48"/>
                      </a:lnTo>
                      <a:lnTo>
                        <a:pt x="1078" y="97"/>
                      </a:lnTo>
                      <a:lnTo>
                        <a:pt x="1052" y="122"/>
                      </a:lnTo>
                      <a:lnTo>
                        <a:pt x="1019" y="151"/>
                      </a:lnTo>
                      <a:lnTo>
                        <a:pt x="983" y="181"/>
                      </a:lnTo>
                      <a:lnTo>
                        <a:pt x="940" y="215"/>
                      </a:lnTo>
                      <a:lnTo>
                        <a:pt x="892" y="251"/>
                      </a:lnTo>
                      <a:lnTo>
                        <a:pt x="839" y="287"/>
                      </a:lnTo>
                      <a:lnTo>
                        <a:pt x="780" y="324"/>
                      </a:lnTo>
                      <a:lnTo>
                        <a:pt x="715" y="362"/>
                      </a:lnTo>
                      <a:lnTo>
                        <a:pt x="647" y="398"/>
                      </a:lnTo>
                      <a:lnTo>
                        <a:pt x="573" y="432"/>
                      </a:lnTo>
                      <a:lnTo>
                        <a:pt x="495" y="464"/>
                      </a:lnTo>
                      <a:lnTo>
                        <a:pt x="411" y="495"/>
                      </a:lnTo>
                      <a:lnTo>
                        <a:pt x="339" y="497"/>
                      </a:lnTo>
                      <a:lnTo>
                        <a:pt x="162" y="493"/>
                      </a:lnTo>
                      <a:lnTo>
                        <a:pt x="14" y="521"/>
                      </a:lnTo>
                      <a:lnTo>
                        <a:pt x="0" y="523"/>
                      </a:lnTo>
                      <a:lnTo>
                        <a:pt x="8" y="516"/>
                      </a:lnTo>
                      <a:lnTo>
                        <a:pt x="69" y="483"/>
                      </a:lnTo>
                      <a:lnTo>
                        <a:pt x="145" y="447"/>
                      </a:lnTo>
                      <a:lnTo>
                        <a:pt x="181" y="430"/>
                      </a:lnTo>
                      <a:lnTo>
                        <a:pt x="263" y="424"/>
                      </a:lnTo>
                      <a:lnTo>
                        <a:pt x="263" y="4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96280" y="2909880"/>
                  <a:ext cx="198000" cy="223200"/>
                </a:xfrm>
                <a:custGeom>
                  <a:avLst/>
                  <a:gdLst/>
                  <a:ahLst/>
                  <a:rect l="l" t="t" r="r" b="b"/>
                  <a:pathLst>
                    <a:path w="751" h="848">
                      <a:moveTo>
                        <a:pt x="631" y="0"/>
                      </a:moveTo>
                      <a:lnTo>
                        <a:pt x="587" y="23"/>
                      </a:lnTo>
                      <a:lnTo>
                        <a:pt x="506" y="108"/>
                      </a:lnTo>
                      <a:lnTo>
                        <a:pt x="456" y="188"/>
                      </a:lnTo>
                      <a:lnTo>
                        <a:pt x="411" y="295"/>
                      </a:lnTo>
                      <a:lnTo>
                        <a:pt x="338" y="614"/>
                      </a:lnTo>
                      <a:lnTo>
                        <a:pt x="48" y="768"/>
                      </a:lnTo>
                      <a:lnTo>
                        <a:pt x="0" y="848"/>
                      </a:lnTo>
                      <a:lnTo>
                        <a:pt x="17" y="836"/>
                      </a:lnTo>
                      <a:lnTo>
                        <a:pt x="63" y="808"/>
                      </a:lnTo>
                      <a:lnTo>
                        <a:pt x="127" y="766"/>
                      </a:lnTo>
                      <a:lnTo>
                        <a:pt x="164" y="745"/>
                      </a:lnTo>
                      <a:lnTo>
                        <a:pt x="202" y="722"/>
                      </a:lnTo>
                      <a:lnTo>
                        <a:pt x="278" y="682"/>
                      </a:lnTo>
                      <a:lnTo>
                        <a:pt x="346" y="654"/>
                      </a:lnTo>
                      <a:lnTo>
                        <a:pt x="395" y="642"/>
                      </a:lnTo>
                      <a:lnTo>
                        <a:pt x="418" y="656"/>
                      </a:lnTo>
                      <a:lnTo>
                        <a:pt x="460" y="428"/>
                      </a:lnTo>
                      <a:lnTo>
                        <a:pt x="483" y="321"/>
                      </a:lnTo>
                      <a:lnTo>
                        <a:pt x="517" y="217"/>
                      </a:lnTo>
                      <a:lnTo>
                        <a:pt x="538" y="169"/>
                      </a:lnTo>
                      <a:lnTo>
                        <a:pt x="561" y="127"/>
                      </a:lnTo>
                      <a:lnTo>
                        <a:pt x="589" y="91"/>
                      </a:lnTo>
                      <a:lnTo>
                        <a:pt x="620" y="63"/>
                      </a:lnTo>
                      <a:lnTo>
                        <a:pt x="677" y="59"/>
                      </a:lnTo>
                      <a:lnTo>
                        <a:pt x="719" y="97"/>
                      </a:lnTo>
                      <a:lnTo>
                        <a:pt x="749" y="199"/>
                      </a:lnTo>
                      <a:lnTo>
                        <a:pt x="751" y="177"/>
                      </a:lnTo>
                      <a:lnTo>
                        <a:pt x="749" y="112"/>
                      </a:lnTo>
                      <a:lnTo>
                        <a:pt x="738" y="42"/>
                      </a:lnTo>
                      <a:lnTo>
                        <a:pt x="726" y="17"/>
                      </a:lnTo>
                      <a:lnTo>
                        <a:pt x="709" y="4"/>
                      </a:lnTo>
                      <a:lnTo>
                        <a:pt x="631" y="0"/>
                      </a:lnTo>
                      <a:lnTo>
                        <a:pt x="6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142720" y="2751480"/>
                  <a:ext cx="95760" cy="76680"/>
                </a:xfrm>
                <a:custGeom>
                  <a:avLst/>
                  <a:gdLst/>
                  <a:ahLst/>
                  <a:rect l="l" t="t" r="r" b="b"/>
                  <a:pathLst>
                    <a:path w="365" h="293">
                      <a:moveTo>
                        <a:pt x="34" y="63"/>
                      </a:moveTo>
                      <a:lnTo>
                        <a:pt x="118" y="72"/>
                      </a:lnTo>
                      <a:lnTo>
                        <a:pt x="209" y="116"/>
                      </a:lnTo>
                      <a:lnTo>
                        <a:pt x="276" y="190"/>
                      </a:lnTo>
                      <a:lnTo>
                        <a:pt x="291" y="293"/>
                      </a:lnTo>
                      <a:lnTo>
                        <a:pt x="365" y="255"/>
                      </a:lnTo>
                      <a:lnTo>
                        <a:pt x="344" y="217"/>
                      </a:lnTo>
                      <a:lnTo>
                        <a:pt x="317" y="177"/>
                      </a:lnTo>
                      <a:lnTo>
                        <a:pt x="283" y="131"/>
                      </a:lnTo>
                      <a:lnTo>
                        <a:pt x="243" y="86"/>
                      </a:lnTo>
                      <a:lnTo>
                        <a:pt x="220" y="65"/>
                      </a:lnTo>
                      <a:lnTo>
                        <a:pt x="196" y="44"/>
                      </a:lnTo>
                      <a:lnTo>
                        <a:pt x="144" y="15"/>
                      </a:lnTo>
                      <a:lnTo>
                        <a:pt x="89" y="0"/>
                      </a:lnTo>
                      <a:lnTo>
                        <a:pt x="68" y="12"/>
                      </a:lnTo>
                      <a:lnTo>
                        <a:pt x="25" y="36"/>
                      </a:lnTo>
                      <a:lnTo>
                        <a:pt x="0" y="57"/>
                      </a:lnTo>
                      <a:lnTo>
                        <a:pt x="34" y="63"/>
                      </a:lnTo>
                      <a:lnTo>
                        <a:pt x="34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571760" y="2844720"/>
                  <a:ext cx="163800" cy="103680"/>
                </a:xfrm>
                <a:custGeom>
                  <a:avLst/>
                  <a:gdLst/>
                  <a:ahLst/>
                  <a:rect l="l" t="t" r="r" b="b"/>
                  <a:pathLst>
                    <a:path w="622" h="393">
                      <a:moveTo>
                        <a:pt x="595" y="0"/>
                      </a:moveTo>
                      <a:lnTo>
                        <a:pt x="552" y="21"/>
                      </a:lnTo>
                      <a:lnTo>
                        <a:pt x="502" y="43"/>
                      </a:lnTo>
                      <a:lnTo>
                        <a:pt x="445" y="72"/>
                      </a:lnTo>
                      <a:lnTo>
                        <a:pt x="382" y="104"/>
                      </a:lnTo>
                      <a:lnTo>
                        <a:pt x="322" y="137"/>
                      </a:lnTo>
                      <a:lnTo>
                        <a:pt x="265" y="167"/>
                      </a:lnTo>
                      <a:lnTo>
                        <a:pt x="221" y="196"/>
                      </a:lnTo>
                      <a:lnTo>
                        <a:pt x="183" y="222"/>
                      </a:lnTo>
                      <a:lnTo>
                        <a:pt x="145" y="254"/>
                      </a:lnTo>
                      <a:lnTo>
                        <a:pt x="109" y="287"/>
                      </a:lnTo>
                      <a:lnTo>
                        <a:pt x="74" y="319"/>
                      </a:lnTo>
                      <a:lnTo>
                        <a:pt x="44" y="348"/>
                      </a:lnTo>
                      <a:lnTo>
                        <a:pt x="21" y="370"/>
                      </a:lnTo>
                      <a:lnTo>
                        <a:pt x="0" y="393"/>
                      </a:lnTo>
                      <a:lnTo>
                        <a:pt x="152" y="287"/>
                      </a:lnTo>
                      <a:lnTo>
                        <a:pt x="202" y="262"/>
                      </a:lnTo>
                      <a:lnTo>
                        <a:pt x="251" y="237"/>
                      </a:lnTo>
                      <a:lnTo>
                        <a:pt x="310" y="207"/>
                      </a:lnTo>
                      <a:lnTo>
                        <a:pt x="392" y="169"/>
                      </a:lnTo>
                      <a:lnTo>
                        <a:pt x="496" y="129"/>
                      </a:lnTo>
                      <a:lnTo>
                        <a:pt x="584" y="99"/>
                      </a:lnTo>
                      <a:lnTo>
                        <a:pt x="622" y="85"/>
                      </a:lnTo>
                      <a:lnTo>
                        <a:pt x="595" y="0"/>
                      </a:lnTo>
                      <a:lnTo>
                        <a:pt x="5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972800" y="2929680"/>
                  <a:ext cx="144000" cy="227160"/>
                </a:xfrm>
                <a:custGeom>
                  <a:avLst/>
                  <a:gdLst/>
                  <a:ahLst/>
                  <a:rect l="l" t="t" r="r" b="b"/>
                  <a:pathLst>
                    <a:path w="548" h="861">
                      <a:moveTo>
                        <a:pt x="322" y="108"/>
                      </a:moveTo>
                      <a:lnTo>
                        <a:pt x="383" y="160"/>
                      </a:lnTo>
                      <a:lnTo>
                        <a:pt x="428" y="215"/>
                      </a:lnTo>
                      <a:lnTo>
                        <a:pt x="480" y="336"/>
                      </a:lnTo>
                      <a:lnTo>
                        <a:pt x="495" y="468"/>
                      </a:lnTo>
                      <a:lnTo>
                        <a:pt x="497" y="612"/>
                      </a:lnTo>
                      <a:lnTo>
                        <a:pt x="472" y="726"/>
                      </a:lnTo>
                      <a:lnTo>
                        <a:pt x="451" y="810"/>
                      </a:lnTo>
                      <a:lnTo>
                        <a:pt x="434" y="861"/>
                      </a:lnTo>
                      <a:lnTo>
                        <a:pt x="443" y="853"/>
                      </a:lnTo>
                      <a:lnTo>
                        <a:pt x="483" y="804"/>
                      </a:lnTo>
                      <a:lnTo>
                        <a:pt x="527" y="751"/>
                      </a:lnTo>
                      <a:lnTo>
                        <a:pt x="548" y="724"/>
                      </a:lnTo>
                      <a:lnTo>
                        <a:pt x="527" y="591"/>
                      </a:lnTo>
                      <a:lnTo>
                        <a:pt x="537" y="393"/>
                      </a:lnTo>
                      <a:lnTo>
                        <a:pt x="529" y="306"/>
                      </a:lnTo>
                      <a:lnTo>
                        <a:pt x="510" y="239"/>
                      </a:lnTo>
                      <a:lnTo>
                        <a:pt x="476" y="173"/>
                      </a:lnTo>
                      <a:lnTo>
                        <a:pt x="451" y="133"/>
                      </a:lnTo>
                      <a:lnTo>
                        <a:pt x="421" y="95"/>
                      </a:lnTo>
                      <a:lnTo>
                        <a:pt x="384" y="59"/>
                      </a:lnTo>
                      <a:lnTo>
                        <a:pt x="341" y="28"/>
                      </a:lnTo>
                      <a:lnTo>
                        <a:pt x="289" y="9"/>
                      </a:lnTo>
                      <a:lnTo>
                        <a:pt x="230" y="2"/>
                      </a:lnTo>
                      <a:lnTo>
                        <a:pt x="0" y="0"/>
                      </a:lnTo>
                      <a:lnTo>
                        <a:pt x="27" y="8"/>
                      </a:lnTo>
                      <a:lnTo>
                        <a:pt x="177" y="34"/>
                      </a:lnTo>
                      <a:lnTo>
                        <a:pt x="280" y="80"/>
                      </a:lnTo>
                      <a:lnTo>
                        <a:pt x="322" y="108"/>
                      </a:lnTo>
                      <a:lnTo>
                        <a:pt x="322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537200" y="3020400"/>
                  <a:ext cx="92160" cy="135720"/>
                </a:xfrm>
                <a:custGeom>
                  <a:avLst/>
                  <a:gdLst/>
                  <a:ahLst/>
                  <a:rect l="l" t="t" r="r" b="b"/>
                  <a:pathLst>
                    <a:path w="352" h="517">
                      <a:moveTo>
                        <a:pt x="6" y="0"/>
                      </a:moveTo>
                      <a:lnTo>
                        <a:pt x="0" y="160"/>
                      </a:lnTo>
                      <a:lnTo>
                        <a:pt x="8" y="241"/>
                      </a:lnTo>
                      <a:lnTo>
                        <a:pt x="31" y="297"/>
                      </a:lnTo>
                      <a:lnTo>
                        <a:pt x="46" y="314"/>
                      </a:lnTo>
                      <a:lnTo>
                        <a:pt x="78" y="338"/>
                      </a:lnTo>
                      <a:lnTo>
                        <a:pt x="126" y="373"/>
                      </a:lnTo>
                      <a:lnTo>
                        <a:pt x="179" y="407"/>
                      </a:lnTo>
                      <a:lnTo>
                        <a:pt x="236" y="443"/>
                      </a:lnTo>
                      <a:lnTo>
                        <a:pt x="287" y="475"/>
                      </a:lnTo>
                      <a:lnTo>
                        <a:pt x="352" y="517"/>
                      </a:lnTo>
                      <a:lnTo>
                        <a:pt x="348" y="513"/>
                      </a:lnTo>
                      <a:lnTo>
                        <a:pt x="302" y="477"/>
                      </a:lnTo>
                      <a:lnTo>
                        <a:pt x="270" y="451"/>
                      </a:lnTo>
                      <a:lnTo>
                        <a:pt x="238" y="422"/>
                      </a:lnTo>
                      <a:lnTo>
                        <a:pt x="206" y="392"/>
                      </a:lnTo>
                      <a:lnTo>
                        <a:pt x="179" y="365"/>
                      </a:lnTo>
                      <a:lnTo>
                        <a:pt x="97" y="306"/>
                      </a:lnTo>
                      <a:lnTo>
                        <a:pt x="44" y="241"/>
                      </a:lnTo>
                      <a:lnTo>
                        <a:pt x="25" y="8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24200" y="3013920"/>
                  <a:ext cx="177480" cy="216000"/>
                </a:xfrm>
                <a:custGeom>
                  <a:avLst/>
                  <a:gdLst/>
                  <a:ahLst/>
                  <a:rect l="l" t="t" r="r" b="b"/>
                  <a:pathLst>
                    <a:path w="673" h="820">
                      <a:moveTo>
                        <a:pt x="101" y="517"/>
                      </a:moveTo>
                      <a:lnTo>
                        <a:pt x="127" y="436"/>
                      </a:lnTo>
                      <a:lnTo>
                        <a:pt x="160" y="354"/>
                      </a:lnTo>
                      <a:lnTo>
                        <a:pt x="201" y="261"/>
                      </a:lnTo>
                      <a:lnTo>
                        <a:pt x="228" y="211"/>
                      </a:lnTo>
                      <a:lnTo>
                        <a:pt x="255" y="166"/>
                      </a:lnTo>
                      <a:lnTo>
                        <a:pt x="285" y="122"/>
                      </a:lnTo>
                      <a:lnTo>
                        <a:pt x="315" y="82"/>
                      </a:lnTo>
                      <a:lnTo>
                        <a:pt x="350" y="50"/>
                      </a:lnTo>
                      <a:lnTo>
                        <a:pt x="386" y="23"/>
                      </a:lnTo>
                      <a:lnTo>
                        <a:pt x="422" y="6"/>
                      </a:lnTo>
                      <a:lnTo>
                        <a:pt x="462" y="0"/>
                      </a:lnTo>
                      <a:lnTo>
                        <a:pt x="576" y="23"/>
                      </a:lnTo>
                      <a:lnTo>
                        <a:pt x="654" y="126"/>
                      </a:lnTo>
                      <a:lnTo>
                        <a:pt x="671" y="221"/>
                      </a:lnTo>
                      <a:lnTo>
                        <a:pt x="673" y="274"/>
                      </a:lnTo>
                      <a:lnTo>
                        <a:pt x="671" y="325"/>
                      </a:lnTo>
                      <a:lnTo>
                        <a:pt x="658" y="447"/>
                      </a:lnTo>
                      <a:lnTo>
                        <a:pt x="622" y="474"/>
                      </a:lnTo>
                      <a:lnTo>
                        <a:pt x="633" y="259"/>
                      </a:lnTo>
                      <a:lnTo>
                        <a:pt x="620" y="181"/>
                      </a:lnTo>
                      <a:lnTo>
                        <a:pt x="587" y="116"/>
                      </a:lnTo>
                      <a:lnTo>
                        <a:pt x="563" y="90"/>
                      </a:lnTo>
                      <a:lnTo>
                        <a:pt x="532" y="72"/>
                      </a:lnTo>
                      <a:lnTo>
                        <a:pt x="450" y="61"/>
                      </a:lnTo>
                      <a:lnTo>
                        <a:pt x="350" y="131"/>
                      </a:lnTo>
                      <a:lnTo>
                        <a:pt x="302" y="185"/>
                      </a:lnTo>
                      <a:lnTo>
                        <a:pt x="253" y="259"/>
                      </a:lnTo>
                      <a:lnTo>
                        <a:pt x="226" y="302"/>
                      </a:lnTo>
                      <a:lnTo>
                        <a:pt x="199" y="354"/>
                      </a:lnTo>
                      <a:lnTo>
                        <a:pt x="150" y="477"/>
                      </a:lnTo>
                      <a:lnTo>
                        <a:pt x="144" y="766"/>
                      </a:lnTo>
                      <a:lnTo>
                        <a:pt x="133" y="789"/>
                      </a:lnTo>
                      <a:lnTo>
                        <a:pt x="84" y="806"/>
                      </a:lnTo>
                      <a:lnTo>
                        <a:pt x="0" y="820"/>
                      </a:lnTo>
                      <a:lnTo>
                        <a:pt x="101" y="517"/>
                      </a:lnTo>
                      <a:lnTo>
                        <a:pt x="101" y="5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815480" y="3007800"/>
                  <a:ext cx="124920" cy="131400"/>
                </a:xfrm>
                <a:custGeom>
                  <a:avLst/>
                  <a:gdLst/>
                  <a:ahLst/>
                  <a:rect l="l" t="t" r="r" b="b"/>
                  <a:pathLst>
                    <a:path w="474" h="499">
                      <a:moveTo>
                        <a:pt x="74" y="85"/>
                      </a:moveTo>
                      <a:lnTo>
                        <a:pt x="46" y="123"/>
                      </a:lnTo>
                      <a:lnTo>
                        <a:pt x="2" y="222"/>
                      </a:lnTo>
                      <a:lnTo>
                        <a:pt x="0" y="345"/>
                      </a:lnTo>
                      <a:lnTo>
                        <a:pt x="14" y="378"/>
                      </a:lnTo>
                      <a:lnTo>
                        <a:pt x="35" y="408"/>
                      </a:lnTo>
                      <a:lnTo>
                        <a:pt x="63" y="439"/>
                      </a:lnTo>
                      <a:lnTo>
                        <a:pt x="101" y="465"/>
                      </a:lnTo>
                      <a:lnTo>
                        <a:pt x="143" y="488"/>
                      </a:lnTo>
                      <a:lnTo>
                        <a:pt x="181" y="499"/>
                      </a:lnTo>
                      <a:lnTo>
                        <a:pt x="253" y="498"/>
                      </a:lnTo>
                      <a:lnTo>
                        <a:pt x="316" y="471"/>
                      </a:lnTo>
                      <a:lnTo>
                        <a:pt x="367" y="429"/>
                      </a:lnTo>
                      <a:lnTo>
                        <a:pt x="407" y="380"/>
                      </a:lnTo>
                      <a:lnTo>
                        <a:pt x="438" y="334"/>
                      </a:lnTo>
                      <a:lnTo>
                        <a:pt x="462" y="285"/>
                      </a:lnTo>
                      <a:lnTo>
                        <a:pt x="474" y="150"/>
                      </a:lnTo>
                      <a:lnTo>
                        <a:pt x="464" y="98"/>
                      </a:lnTo>
                      <a:lnTo>
                        <a:pt x="443" y="53"/>
                      </a:lnTo>
                      <a:lnTo>
                        <a:pt x="426" y="34"/>
                      </a:lnTo>
                      <a:lnTo>
                        <a:pt x="407" y="17"/>
                      </a:lnTo>
                      <a:lnTo>
                        <a:pt x="350" y="0"/>
                      </a:lnTo>
                      <a:lnTo>
                        <a:pt x="373" y="28"/>
                      </a:lnTo>
                      <a:lnTo>
                        <a:pt x="409" y="106"/>
                      </a:lnTo>
                      <a:lnTo>
                        <a:pt x="409" y="220"/>
                      </a:lnTo>
                      <a:lnTo>
                        <a:pt x="377" y="288"/>
                      </a:lnTo>
                      <a:lnTo>
                        <a:pt x="352" y="323"/>
                      </a:lnTo>
                      <a:lnTo>
                        <a:pt x="318" y="359"/>
                      </a:lnTo>
                      <a:lnTo>
                        <a:pt x="295" y="376"/>
                      </a:lnTo>
                      <a:lnTo>
                        <a:pt x="236" y="403"/>
                      </a:lnTo>
                      <a:lnTo>
                        <a:pt x="160" y="403"/>
                      </a:lnTo>
                      <a:lnTo>
                        <a:pt x="80" y="338"/>
                      </a:lnTo>
                      <a:lnTo>
                        <a:pt x="86" y="199"/>
                      </a:lnTo>
                      <a:lnTo>
                        <a:pt x="107" y="142"/>
                      </a:lnTo>
                      <a:lnTo>
                        <a:pt x="145" y="89"/>
                      </a:lnTo>
                      <a:lnTo>
                        <a:pt x="171" y="62"/>
                      </a:lnTo>
                      <a:lnTo>
                        <a:pt x="204" y="41"/>
                      </a:lnTo>
                      <a:lnTo>
                        <a:pt x="242" y="20"/>
                      </a:lnTo>
                      <a:lnTo>
                        <a:pt x="285" y="3"/>
                      </a:lnTo>
                      <a:lnTo>
                        <a:pt x="249" y="0"/>
                      </a:lnTo>
                      <a:lnTo>
                        <a:pt x="107" y="57"/>
                      </a:lnTo>
                      <a:lnTo>
                        <a:pt x="74" y="85"/>
                      </a:lnTo>
                      <a:lnTo>
                        <a:pt x="74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096280" y="2769480"/>
                  <a:ext cx="4932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479">
                      <a:moveTo>
                        <a:pt x="0" y="28"/>
                      </a:moveTo>
                      <a:lnTo>
                        <a:pt x="106" y="435"/>
                      </a:lnTo>
                      <a:lnTo>
                        <a:pt x="122" y="479"/>
                      </a:lnTo>
                      <a:lnTo>
                        <a:pt x="186" y="414"/>
                      </a:lnTo>
                      <a:lnTo>
                        <a:pt x="3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135880" y="2880360"/>
                  <a:ext cx="47880" cy="210600"/>
                </a:xfrm>
                <a:custGeom>
                  <a:avLst/>
                  <a:gdLst/>
                  <a:ahLst/>
                  <a:rect l="l" t="t" r="r" b="b"/>
                  <a:pathLst>
                    <a:path w="183" h="800">
                      <a:moveTo>
                        <a:pt x="0" y="42"/>
                      </a:moveTo>
                      <a:lnTo>
                        <a:pt x="29" y="85"/>
                      </a:lnTo>
                      <a:lnTo>
                        <a:pt x="84" y="220"/>
                      </a:lnTo>
                      <a:lnTo>
                        <a:pt x="114" y="456"/>
                      </a:lnTo>
                      <a:lnTo>
                        <a:pt x="107" y="614"/>
                      </a:lnTo>
                      <a:lnTo>
                        <a:pt x="74" y="800"/>
                      </a:lnTo>
                      <a:lnTo>
                        <a:pt x="128" y="796"/>
                      </a:lnTo>
                      <a:lnTo>
                        <a:pt x="150" y="692"/>
                      </a:lnTo>
                      <a:lnTo>
                        <a:pt x="183" y="452"/>
                      </a:lnTo>
                      <a:lnTo>
                        <a:pt x="173" y="184"/>
                      </a:lnTo>
                      <a:lnTo>
                        <a:pt x="158" y="127"/>
                      </a:lnTo>
                      <a:lnTo>
                        <a:pt x="135" y="76"/>
                      </a:lnTo>
                      <a:lnTo>
                        <a:pt x="107" y="32"/>
                      </a:lnTo>
                      <a:lnTo>
                        <a:pt x="69" y="0"/>
                      </a:lnTo>
                      <a:lnTo>
                        <a:pt x="0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538640" y="2948760"/>
                  <a:ext cx="106560" cy="110520"/>
                </a:xfrm>
                <a:custGeom>
                  <a:avLst/>
                  <a:gdLst/>
                  <a:ahLst/>
                  <a:rect l="l" t="t" r="r" b="b"/>
                  <a:pathLst>
                    <a:path w="403" h="420">
                      <a:moveTo>
                        <a:pt x="0" y="295"/>
                      </a:moveTo>
                      <a:lnTo>
                        <a:pt x="17" y="177"/>
                      </a:lnTo>
                      <a:lnTo>
                        <a:pt x="32" y="129"/>
                      </a:lnTo>
                      <a:lnTo>
                        <a:pt x="57" y="86"/>
                      </a:lnTo>
                      <a:lnTo>
                        <a:pt x="89" y="48"/>
                      </a:lnTo>
                      <a:lnTo>
                        <a:pt x="133" y="23"/>
                      </a:lnTo>
                      <a:lnTo>
                        <a:pt x="245" y="0"/>
                      </a:lnTo>
                      <a:lnTo>
                        <a:pt x="352" y="21"/>
                      </a:lnTo>
                      <a:lnTo>
                        <a:pt x="388" y="55"/>
                      </a:lnTo>
                      <a:lnTo>
                        <a:pt x="403" y="112"/>
                      </a:lnTo>
                      <a:lnTo>
                        <a:pt x="395" y="190"/>
                      </a:lnTo>
                      <a:lnTo>
                        <a:pt x="380" y="242"/>
                      </a:lnTo>
                      <a:lnTo>
                        <a:pt x="355" y="299"/>
                      </a:lnTo>
                      <a:lnTo>
                        <a:pt x="336" y="327"/>
                      </a:lnTo>
                      <a:lnTo>
                        <a:pt x="300" y="361"/>
                      </a:lnTo>
                      <a:lnTo>
                        <a:pt x="256" y="394"/>
                      </a:lnTo>
                      <a:lnTo>
                        <a:pt x="209" y="417"/>
                      </a:lnTo>
                      <a:lnTo>
                        <a:pt x="159" y="420"/>
                      </a:lnTo>
                      <a:lnTo>
                        <a:pt x="116" y="399"/>
                      </a:lnTo>
                      <a:lnTo>
                        <a:pt x="83" y="346"/>
                      </a:lnTo>
                      <a:lnTo>
                        <a:pt x="64" y="251"/>
                      </a:lnTo>
                      <a:lnTo>
                        <a:pt x="74" y="207"/>
                      </a:lnTo>
                      <a:lnTo>
                        <a:pt x="93" y="249"/>
                      </a:lnTo>
                      <a:lnTo>
                        <a:pt x="114" y="283"/>
                      </a:lnTo>
                      <a:lnTo>
                        <a:pt x="140" y="320"/>
                      </a:lnTo>
                      <a:lnTo>
                        <a:pt x="173" y="342"/>
                      </a:lnTo>
                      <a:lnTo>
                        <a:pt x="209" y="348"/>
                      </a:lnTo>
                      <a:lnTo>
                        <a:pt x="287" y="266"/>
                      </a:lnTo>
                      <a:lnTo>
                        <a:pt x="323" y="143"/>
                      </a:lnTo>
                      <a:lnTo>
                        <a:pt x="313" y="107"/>
                      </a:lnTo>
                      <a:lnTo>
                        <a:pt x="296" y="84"/>
                      </a:lnTo>
                      <a:lnTo>
                        <a:pt x="249" y="67"/>
                      </a:lnTo>
                      <a:lnTo>
                        <a:pt x="222" y="65"/>
                      </a:lnTo>
                      <a:lnTo>
                        <a:pt x="102" y="107"/>
                      </a:lnTo>
                      <a:lnTo>
                        <a:pt x="38" y="202"/>
                      </a:lnTo>
                      <a:lnTo>
                        <a:pt x="0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688400" y="3148920"/>
                  <a:ext cx="232560" cy="55080"/>
                </a:xfrm>
                <a:custGeom>
                  <a:avLst/>
                  <a:gdLst/>
                  <a:ahLst/>
                  <a:rect l="l" t="t" r="r" b="b"/>
                  <a:pathLst>
                    <a:path w="883" h="211">
                      <a:moveTo>
                        <a:pt x="0" y="127"/>
                      </a:moveTo>
                      <a:lnTo>
                        <a:pt x="76" y="112"/>
                      </a:lnTo>
                      <a:lnTo>
                        <a:pt x="303" y="89"/>
                      </a:lnTo>
                      <a:lnTo>
                        <a:pt x="797" y="11"/>
                      </a:lnTo>
                      <a:lnTo>
                        <a:pt x="883" y="0"/>
                      </a:lnTo>
                      <a:lnTo>
                        <a:pt x="879" y="20"/>
                      </a:lnTo>
                      <a:lnTo>
                        <a:pt x="856" y="51"/>
                      </a:lnTo>
                      <a:lnTo>
                        <a:pt x="818" y="85"/>
                      </a:lnTo>
                      <a:lnTo>
                        <a:pt x="772" y="121"/>
                      </a:lnTo>
                      <a:lnTo>
                        <a:pt x="727" y="150"/>
                      </a:lnTo>
                      <a:lnTo>
                        <a:pt x="687" y="169"/>
                      </a:lnTo>
                      <a:lnTo>
                        <a:pt x="590" y="195"/>
                      </a:lnTo>
                      <a:lnTo>
                        <a:pt x="441" y="211"/>
                      </a:lnTo>
                      <a:lnTo>
                        <a:pt x="244" y="193"/>
                      </a:lnTo>
                      <a:lnTo>
                        <a:pt x="0" y="12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535040" y="3108240"/>
                  <a:ext cx="415800" cy="131760"/>
                </a:xfrm>
                <a:custGeom>
                  <a:avLst/>
                  <a:gdLst/>
                  <a:ahLst/>
                  <a:rect l="l" t="t" r="r" b="b"/>
                  <a:pathLst>
                    <a:path w="1578" h="500">
                      <a:moveTo>
                        <a:pt x="5" y="0"/>
                      </a:moveTo>
                      <a:lnTo>
                        <a:pt x="0" y="83"/>
                      </a:lnTo>
                      <a:lnTo>
                        <a:pt x="38" y="123"/>
                      </a:lnTo>
                      <a:lnTo>
                        <a:pt x="74" y="154"/>
                      </a:lnTo>
                      <a:lnTo>
                        <a:pt x="121" y="190"/>
                      </a:lnTo>
                      <a:lnTo>
                        <a:pt x="180" y="232"/>
                      </a:lnTo>
                      <a:lnTo>
                        <a:pt x="213" y="252"/>
                      </a:lnTo>
                      <a:lnTo>
                        <a:pt x="249" y="273"/>
                      </a:lnTo>
                      <a:lnTo>
                        <a:pt x="287" y="296"/>
                      </a:lnTo>
                      <a:lnTo>
                        <a:pt x="327" y="317"/>
                      </a:lnTo>
                      <a:lnTo>
                        <a:pt x="370" y="340"/>
                      </a:lnTo>
                      <a:lnTo>
                        <a:pt x="416" y="361"/>
                      </a:lnTo>
                      <a:lnTo>
                        <a:pt x="517" y="401"/>
                      </a:lnTo>
                      <a:lnTo>
                        <a:pt x="625" y="435"/>
                      </a:lnTo>
                      <a:lnTo>
                        <a:pt x="745" y="465"/>
                      </a:lnTo>
                      <a:lnTo>
                        <a:pt x="872" y="486"/>
                      </a:lnTo>
                      <a:lnTo>
                        <a:pt x="1157" y="500"/>
                      </a:lnTo>
                      <a:lnTo>
                        <a:pt x="1477" y="462"/>
                      </a:lnTo>
                      <a:lnTo>
                        <a:pt x="1578" y="391"/>
                      </a:lnTo>
                      <a:lnTo>
                        <a:pt x="1469" y="404"/>
                      </a:lnTo>
                      <a:lnTo>
                        <a:pt x="1201" y="422"/>
                      </a:lnTo>
                      <a:lnTo>
                        <a:pt x="874" y="416"/>
                      </a:lnTo>
                      <a:lnTo>
                        <a:pt x="581" y="361"/>
                      </a:lnTo>
                      <a:lnTo>
                        <a:pt x="465" y="313"/>
                      </a:lnTo>
                      <a:lnTo>
                        <a:pt x="363" y="264"/>
                      </a:lnTo>
                      <a:lnTo>
                        <a:pt x="270" y="216"/>
                      </a:lnTo>
                      <a:lnTo>
                        <a:pt x="192" y="171"/>
                      </a:lnTo>
                      <a:lnTo>
                        <a:pt x="125" y="129"/>
                      </a:lnTo>
                      <a:lnTo>
                        <a:pt x="76" y="93"/>
                      </a:lnTo>
                      <a:lnTo>
                        <a:pt x="26" y="4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602360" y="3171240"/>
                  <a:ext cx="90000" cy="50400"/>
                </a:xfrm>
                <a:custGeom>
                  <a:avLst/>
                  <a:gdLst/>
                  <a:ahLst/>
                  <a:rect l="l" t="t" r="r" b="b"/>
                  <a:pathLst>
                    <a:path w="342" h="192">
                      <a:moveTo>
                        <a:pt x="2" y="0"/>
                      </a:moveTo>
                      <a:lnTo>
                        <a:pt x="0" y="14"/>
                      </a:lnTo>
                      <a:lnTo>
                        <a:pt x="2" y="48"/>
                      </a:lnTo>
                      <a:lnTo>
                        <a:pt x="21" y="90"/>
                      </a:lnTo>
                      <a:lnTo>
                        <a:pt x="40" y="110"/>
                      </a:lnTo>
                      <a:lnTo>
                        <a:pt x="71" y="129"/>
                      </a:lnTo>
                      <a:lnTo>
                        <a:pt x="147" y="160"/>
                      </a:lnTo>
                      <a:lnTo>
                        <a:pt x="226" y="179"/>
                      </a:lnTo>
                      <a:lnTo>
                        <a:pt x="316" y="192"/>
                      </a:lnTo>
                      <a:lnTo>
                        <a:pt x="342" y="171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875600" y="3028320"/>
                  <a:ext cx="225720" cy="250200"/>
                </a:xfrm>
                <a:custGeom>
                  <a:avLst/>
                  <a:gdLst/>
                  <a:ahLst/>
                  <a:rect l="l" t="t" r="r" b="b"/>
                  <a:pathLst>
                    <a:path w="856" h="951">
                      <a:moveTo>
                        <a:pt x="0" y="765"/>
                      </a:moveTo>
                      <a:lnTo>
                        <a:pt x="14" y="791"/>
                      </a:lnTo>
                      <a:lnTo>
                        <a:pt x="52" y="850"/>
                      </a:lnTo>
                      <a:lnTo>
                        <a:pt x="76" y="881"/>
                      </a:lnTo>
                      <a:lnTo>
                        <a:pt x="105" y="909"/>
                      </a:lnTo>
                      <a:lnTo>
                        <a:pt x="137" y="930"/>
                      </a:lnTo>
                      <a:lnTo>
                        <a:pt x="170" y="941"/>
                      </a:lnTo>
                      <a:lnTo>
                        <a:pt x="375" y="951"/>
                      </a:lnTo>
                      <a:lnTo>
                        <a:pt x="481" y="939"/>
                      </a:lnTo>
                      <a:lnTo>
                        <a:pt x="552" y="909"/>
                      </a:lnTo>
                      <a:lnTo>
                        <a:pt x="586" y="871"/>
                      </a:lnTo>
                      <a:lnTo>
                        <a:pt x="645" y="806"/>
                      </a:lnTo>
                      <a:lnTo>
                        <a:pt x="679" y="763"/>
                      </a:lnTo>
                      <a:lnTo>
                        <a:pt x="715" y="715"/>
                      </a:lnTo>
                      <a:lnTo>
                        <a:pt x="748" y="662"/>
                      </a:lnTo>
                      <a:lnTo>
                        <a:pt x="780" y="603"/>
                      </a:lnTo>
                      <a:lnTo>
                        <a:pt x="831" y="476"/>
                      </a:lnTo>
                      <a:lnTo>
                        <a:pt x="856" y="335"/>
                      </a:lnTo>
                      <a:lnTo>
                        <a:pt x="839" y="185"/>
                      </a:lnTo>
                      <a:lnTo>
                        <a:pt x="812" y="109"/>
                      </a:lnTo>
                      <a:lnTo>
                        <a:pt x="791" y="69"/>
                      </a:lnTo>
                      <a:lnTo>
                        <a:pt x="769" y="31"/>
                      </a:lnTo>
                      <a:lnTo>
                        <a:pt x="740" y="14"/>
                      </a:lnTo>
                      <a:lnTo>
                        <a:pt x="687" y="0"/>
                      </a:lnTo>
                      <a:lnTo>
                        <a:pt x="580" y="10"/>
                      </a:lnTo>
                      <a:lnTo>
                        <a:pt x="533" y="63"/>
                      </a:lnTo>
                      <a:lnTo>
                        <a:pt x="502" y="103"/>
                      </a:lnTo>
                      <a:lnTo>
                        <a:pt x="472" y="149"/>
                      </a:lnTo>
                      <a:lnTo>
                        <a:pt x="443" y="192"/>
                      </a:lnTo>
                      <a:lnTo>
                        <a:pt x="421" y="229"/>
                      </a:lnTo>
                      <a:lnTo>
                        <a:pt x="400" y="265"/>
                      </a:lnTo>
                      <a:lnTo>
                        <a:pt x="436" y="208"/>
                      </a:lnTo>
                      <a:lnTo>
                        <a:pt x="474" y="154"/>
                      </a:lnTo>
                      <a:lnTo>
                        <a:pt x="523" y="96"/>
                      </a:lnTo>
                      <a:lnTo>
                        <a:pt x="552" y="71"/>
                      </a:lnTo>
                      <a:lnTo>
                        <a:pt x="578" y="46"/>
                      </a:lnTo>
                      <a:lnTo>
                        <a:pt x="635" y="16"/>
                      </a:lnTo>
                      <a:lnTo>
                        <a:pt x="692" y="14"/>
                      </a:lnTo>
                      <a:lnTo>
                        <a:pt x="742" y="50"/>
                      </a:lnTo>
                      <a:lnTo>
                        <a:pt x="812" y="185"/>
                      </a:lnTo>
                      <a:lnTo>
                        <a:pt x="824" y="354"/>
                      </a:lnTo>
                      <a:lnTo>
                        <a:pt x="801" y="453"/>
                      </a:lnTo>
                      <a:lnTo>
                        <a:pt x="782" y="508"/>
                      </a:lnTo>
                      <a:lnTo>
                        <a:pt x="757" y="563"/>
                      </a:lnTo>
                      <a:lnTo>
                        <a:pt x="727" y="624"/>
                      </a:lnTo>
                      <a:lnTo>
                        <a:pt x="691" y="687"/>
                      </a:lnTo>
                      <a:lnTo>
                        <a:pt x="647" y="751"/>
                      </a:lnTo>
                      <a:lnTo>
                        <a:pt x="597" y="822"/>
                      </a:lnTo>
                      <a:lnTo>
                        <a:pt x="569" y="850"/>
                      </a:lnTo>
                      <a:lnTo>
                        <a:pt x="538" y="869"/>
                      </a:lnTo>
                      <a:lnTo>
                        <a:pt x="499" y="886"/>
                      </a:lnTo>
                      <a:lnTo>
                        <a:pt x="371" y="907"/>
                      </a:lnTo>
                      <a:lnTo>
                        <a:pt x="170" y="898"/>
                      </a:lnTo>
                      <a:lnTo>
                        <a:pt x="37" y="776"/>
                      </a:lnTo>
                      <a:lnTo>
                        <a:pt x="0" y="765"/>
                      </a:lnTo>
                      <a:lnTo>
                        <a:pt x="0" y="7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652400" y="2914560"/>
                  <a:ext cx="150120" cy="226080"/>
                </a:xfrm>
                <a:custGeom>
                  <a:avLst/>
                  <a:gdLst/>
                  <a:ahLst/>
                  <a:rect l="l" t="t" r="r" b="b"/>
                  <a:pathLst>
                    <a:path w="571" h="857">
                      <a:moveTo>
                        <a:pt x="0" y="831"/>
                      </a:moveTo>
                      <a:lnTo>
                        <a:pt x="21" y="753"/>
                      </a:lnTo>
                      <a:lnTo>
                        <a:pt x="52" y="665"/>
                      </a:lnTo>
                      <a:lnTo>
                        <a:pt x="71" y="614"/>
                      </a:lnTo>
                      <a:lnTo>
                        <a:pt x="95" y="557"/>
                      </a:lnTo>
                      <a:lnTo>
                        <a:pt x="122" y="498"/>
                      </a:lnTo>
                      <a:lnTo>
                        <a:pt x="154" y="435"/>
                      </a:lnTo>
                      <a:lnTo>
                        <a:pt x="190" y="373"/>
                      </a:lnTo>
                      <a:lnTo>
                        <a:pt x="232" y="308"/>
                      </a:lnTo>
                      <a:lnTo>
                        <a:pt x="278" y="245"/>
                      </a:lnTo>
                      <a:lnTo>
                        <a:pt x="329" y="184"/>
                      </a:lnTo>
                      <a:lnTo>
                        <a:pt x="384" y="125"/>
                      </a:lnTo>
                      <a:lnTo>
                        <a:pt x="415" y="97"/>
                      </a:lnTo>
                      <a:lnTo>
                        <a:pt x="445" y="70"/>
                      </a:lnTo>
                      <a:lnTo>
                        <a:pt x="571" y="0"/>
                      </a:lnTo>
                      <a:lnTo>
                        <a:pt x="519" y="42"/>
                      </a:lnTo>
                      <a:lnTo>
                        <a:pt x="495" y="67"/>
                      </a:lnTo>
                      <a:lnTo>
                        <a:pt x="464" y="97"/>
                      </a:lnTo>
                      <a:lnTo>
                        <a:pt x="396" y="173"/>
                      </a:lnTo>
                      <a:lnTo>
                        <a:pt x="360" y="219"/>
                      </a:lnTo>
                      <a:lnTo>
                        <a:pt x="320" y="272"/>
                      </a:lnTo>
                      <a:lnTo>
                        <a:pt x="280" y="331"/>
                      </a:lnTo>
                      <a:lnTo>
                        <a:pt x="240" y="395"/>
                      </a:lnTo>
                      <a:lnTo>
                        <a:pt x="202" y="464"/>
                      </a:lnTo>
                      <a:lnTo>
                        <a:pt x="164" y="540"/>
                      </a:lnTo>
                      <a:lnTo>
                        <a:pt x="126" y="623"/>
                      </a:lnTo>
                      <a:lnTo>
                        <a:pt x="92" y="711"/>
                      </a:lnTo>
                      <a:lnTo>
                        <a:pt x="71" y="857"/>
                      </a:lnTo>
                      <a:lnTo>
                        <a:pt x="0" y="831"/>
                      </a:lnTo>
                      <a:lnTo>
                        <a:pt x="0" y="8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961280" y="2952000"/>
                  <a:ext cx="81720" cy="83520"/>
                </a:xfrm>
                <a:custGeom>
                  <a:avLst/>
                  <a:gdLst/>
                  <a:ahLst/>
                  <a:rect l="l" t="t" r="r" b="b"/>
                  <a:pathLst>
                    <a:path w="310" h="317">
                      <a:moveTo>
                        <a:pt x="9" y="307"/>
                      </a:moveTo>
                      <a:lnTo>
                        <a:pt x="2" y="317"/>
                      </a:lnTo>
                      <a:lnTo>
                        <a:pt x="0" y="298"/>
                      </a:lnTo>
                      <a:lnTo>
                        <a:pt x="22" y="211"/>
                      </a:lnTo>
                      <a:lnTo>
                        <a:pt x="45" y="155"/>
                      </a:lnTo>
                      <a:lnTo>
                        <a:pt x="74" y="100"/>
                      </a:lnTo>
                      <a:lnTo>
                        <a:pt x="108" y="53"/>
                      </a:lnTo>
                      <a:lnTo>
                        <a:pt x="148" y="22"/>
                      </a:lnTo>
                      <a:lnTo>
                        <a:pt x="220" y="0"/>
                      </a:lnTo>
                      <a:lnTo>
                        <a:pt x="270" y="7"/>
                      </a:lnTo>
                      <a:lnTo>
                        <a:pt x="310" y="38"/>
                      </a:lnTo>
                      <a:lnTo>
                        <a:pt x="207" y="85"/>
                      </a:lnTo>
                      <a:lnTo>
                        <a:pt x="161" y="119"/>
                      </a:lnTo>
                      <a:lnTo>
                        <a:pt x="112" y="167"/>
                      </a:lnTo>
                      <a:lnTo>
                        <a:pt x="60" y="228"/>
                      </a:lnTo>
                      <a:lnTo>
                        <a:pt x="9" y="307"/>
                      </a:lnTo>
                      <a:lnTo>
                        <a:pt x="9" y="307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887480" y="3232800"/>
                  <a:ext cx="100080" cy="11880"/>
                </a:xfrm>
                <a:custGeom>
                  <a:avLst/>
                  <a:gdLst/>
                  <a:ahLst/>
                  <a:rect l="l" t="t" r="r" b="b"/>
                  <a:pathLst>
                    <a:path w="380" h="48">
                      <a:moveTo>
                        <a:pt x="0" y="15"/>
                      </a:moveTo>
                      <a:lnTo>
                        <a:pt x="380" y="0"/>
                      </a:lnTo>
                      <a:lnTo>
                        <a:pt x="0" y="48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894680" y="3247920"/>
                  <a:ext cx="71280" cy="115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0" y="11"/>
                      </a:moveTo>
                      <a:lnTo>
                        <a:pt x="270" y="0"/>
                      </a:lnTo>
                      <a:lnTo>
                        <a:pt x="42" y="44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96560" y="3066840"/>
                  <a:ext cx="6948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521">
                      <a:moveTo>
                        <a:pt x="32" y="521"/>
                      </a:moveTo>
                      <a:lnTo>
                        <a:pt x="47" y="363"/>
                      </a:lnTo>
                      <a:lnTo>
                        <a:pt x="60" y="298"/>
                      </a:lnTo>
                      <a:lnTo>
                        <a:pt x="81" y="236"/>
                      </a:lnTo>
                      <a:lnTo>
                        <a:pt x="110" y="180"/>
                      </a:lnTo>
                      <a:lnTo>
                        <a:pt x="150" y="139"/>
                      </a:lnTo>
                      <a:lnTo>
                        <a:pt x="169" y="125"/>
                      </a:lnTo>
                      <a:lnTo>
                        <a:pt x="195" y="112"/>
                      </a:lnTo>
                      <a:lnTo>
                        <a:pt x="216" y="123"/>
                      </a:lnTo>
                      <a:lnTo>
                        <a:pt x="222" y="182"/>
                      </a:lnTo>
                      <a:lnTo>
                        <a:pt x="197" y="329"/>
                      </a:lnTo>
                      <a:lnTo>
                        <a:pt x="180" y="388"/>
                      </a:lnTo>
                      <a:lnTo>
                        <a:pt x="218" y="329"/>
                      </a:lnTo>
                      <a:lnTo>
                        <a:pt x="264" y="118"/>
                      </a:lnTo>
                      <a:lnTo>
                        <a:pt x="262" y="66"/>
                      </a:lnTo>
                      <a:lnTo>
                        <a:pt x="251" y="26"/>
                      </a:lnTo>
                      <a:lnTo>
                        <a:pt x="226" y="0"/>
                      </a:lnTo>
                      <a:lnTo>
                        <a:pt x="167" y="6"/>
                      </a:lnTo>
                      <a:lnTo>
                        <a:pt x="91" y="80"/>
                      </a:lnTo>
                      <a:lnTo>
                        <a:pt x="22" y="226"/>
                      </a:lnTo>
                      <a:lnTo>
                        <a:pt x="0" y="348"/>
                      </a:lnTo>
                      <a:lnTo>
                        <a:pt x="9" y="462"/>
                      </a:lnTo>
                      <a:lnTo>
                        <a:pt x="32" y="521"/>
                      </a:lnTo>
                      <a:lnTo>
                        <a:pt x="32" y="5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905840" y="3259800"/>
                  <a:ext cx="48240" cy="8280"/>
                </a:xfrm>
                <a:custGeom>
                  <a:avLst/>
                  <a:gdLst/>
                  <a:ahLst/>
                  <a:rect l="l" t="t" r="r" b="b"/>
                  <a:pathLst>
                    <a:path w="184" h="32">
                      <a:moveTo>
                        <a:pt x="38" y="32"/>
                      </a:moveTo>
                      <a:lnTo>
                        <a:pt x="184" y="0"/>
                      </a:lnTo>
                      <a:lnTo>
                        <a:pt x="0" y="0"/>
                      </a:lnTo>
                      <a:lnTo>
                        <a:pt x="38" y="32"/>
                      </a:lnTo>
                      <a:lnTo>
                        <a:pt x="3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192760" y="2970720"/>
                  <a:ext cx="101160" cy="133200"/>
                </a:xfrm>
                <a:custGeom>
                  <a:avLst/>
                  <a:gdLst/>
                  <a:ahLst/>
                  <a:rect l="l" t="t" r="r" b="b"/>
                  <a:pathLst>
                    <a:path w="384" h="505">
                      <a:moveTo>
                        <a:pt x="384" y="0"/>
                      </a:moveTo>
                      <a:lnTo>
                        <a:pt x="371" y="188"/>
                      </a:lnTo>
                      <a:lnTo>
                        <a:pt x="352" y="273"/>
                      </a:lnTo>
                      <a:lnTo>
                        <a:pt x="321" y="355"/>
                      </a:lnTo>
                      <a:lnTo>
                        <a:pt x="302" y="393"/>
                      </a:lnTo>
                      <a:lnTo>
                        <a:pt x="280" y="429"/>
                      </a:lnTo>
                      <a:lnTo>
                        <a:pt x="253" y="458"/>
                      </a:lnTo>
                      <a:lnTo>
                        <a:pt x="222" y="483"/>
                      </a:lnTo>
                      <a:lnTo>
                        <a:pt x="162" y="505"/>
                      </a:lnTo>
                      <a:lnTo>
                        <a:pt x="114" y="503"/>
                      </a:lnTo>
                      <a:lnTo>
                        <a:pt x="74" y="479"/>
                      </a:lnTo>
                      <a:lnTo>
                        <a:pt x="46" y="445"/>
                      </a:lnTo>
                      <a:lnTo>
                        <a:pt x="10" y="365"/>
                      </a:lnTo>
                      <a:lnTo>
                        <a:pt x="0" y="325"/>
                      </a:lnTo>
                      <a:lnTo>
                        <a:pt x="89" y="192"/>
                      </a:lnTo>
                      <a:lnTo>
                        <a:pt x="78" y="298"/>
                      </a:lnTo>
                      <a:lnTo>
                        <a:pt x="84" y="380"/>
                      </a:lnTo>
                      <a:lnTo>
                        <a:pt x="93" y="412"/>
                      </a:lnTo>
                      <a:lnTo>
                        <a:pt x="112" y="431"/>
                      </a:lnTo>
                      <a:lnTo>
                        <a:pt x="158" y="441"/>
                      </a:lnTo>
                      <a:lnTo>
                        <a:pt x="211" y="424"/>
                      </a:lnTo>
                      <a:lnTo>
                        <a:pt x="316" y="287"/>
                      </a:lnTo>
                      <a:lnTo>
                        <a:pt x="354" y="144"/>
                      </a:lnTo>
                      <a:lnTo>
                        <a:pt x="384" y="0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161800" y="3083760"/>
                  <a:ext cx="47160" cy="24480"/>
                </a:xfrm>
                <a:custGeom>
                  <a:avLst/>
                  <a:gdLst/>
                  <a:ahLst/>
                  <a:rect l="l" t="t" r="r" b="b"/>
                  <a:pathLst>
                    <a:path w="181" h="94">
                      <a:moveTo>
                        <a:pt x="0" y="8"/>
                      </a:moveTo>
                      <a:lnTo>
                        <a:pt x="15" y="35"/>
                      </a:lnTo>
                      <a:lnTo>
                        <a:pt x="36" y="56"/>
                      </a:lnTo>
                      <a:lnTo>
                        <a:pt x="65" y="73"/>
                      </a:lnTo>
                      <a:lnTo>
                        <a:pt x="181" y="94"/>
                      </a:lnTo>
                      <a:lnTo>
                        <a:pt x="114" y="63"/>
                      </a:lnTo>
                      <a:lnTo>
                        <a:pt x="59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105640" y="3034440"/>
                  <a:ext cx="56880" cy="86400"/>
                </a:xfrm>
                <a:custGeom>
                  <a:avLst/>
                  <a:gdLst/>
                  <a:ahLst/>
                  <a:rect l="l" t="t" r="r" b="b"/>
                  <a:pathLst>
                    <a:path w="217" h="327">
                      <a:moveTo>
                        <a:pt x="14" y="226"/>
                      </a:moveTo>
                      <a:lnTo>
                        <a:pt x="90" y="32"/>
                      </a:lnTo>
                      <a:lnTo>
                        <a:pt x="63" y="156"/>
                      </a:lnTo>
                      <a:lnTo>
                        <a:pt x="147" y="13"/>
                      </a:lnTo>
                      <a:lnTo>
                        <a:pt x="95" y="160"/>
                      </a:lnTo>
                      <a:lnTo>
                        <a:pt x="207" y="0"/>
                      </a:lnTo>
                      <a:lnTo>
                        <a:pt x="147" y="150"/>
                      </a:lnTo>
                      <a:lnTo>
                        <a:pt x="196" y="82"/>
                      </a:lnTo>
                      <a:lnTo>
                        <a:pt x="177" y="166"/>
                      </a:lnTo>
                      <a:lnTo>
                        <a:pt x="217" y="109"/>
                      </a:lnTo>
                      <a:lnTo>
                        <a:pt x="207" y="200"/>
                      </a:lnTo>
                      <a:lnTo>
                        <a:pt x="188" y="230"/>
                      </a:lnTo>
                      <a:lnTo>
                        <a:pt x="0" y="327"/>
                      </a:lnTo>
                      <a:lnTo>
                        <a:pt x="14" y="226"/>
                      </a:lnTo>
                      <a:lnTo>
                        <a:pt x="14" y="2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90680" y="2996280"/>
                  <a:ext cx="38880" cy="31320"/>
                </a:xfrm>
                <a:custGeom>
                  <a:avLst/>
                  <a:gdLst/>
                  <a:ahLst/>
                  <a:rect l="l" t="t" r="r" b="b"/>
                  <a:pathLst>
                    <a:path w="146" h="120">
                      <a:moveTo>
                        <a:pt x="0" y="120"/>
                      </a:moveTo>
                      <a:lnTo>
                        <a:pt x="146" y="0"/>
                      </a:lnTo>
                      <a:lnTo>
                        <a:pt x="5" y="61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75560" y="2967840"/>
                  <a:ext cx="138600" cy="86760"/>
                </a:xfrm>
                <a:custGeom>
                  <a:avLst/>
                  <a:gdLst/>
                  <a:ahLst/>
                  <a:rect l="l" t="t" r="r" b="b"/>
                  <a:pathLst>
                    <a:path w="526" h="331">
                      <a:moveTo>
                        <a:pt x="0" y="331"/>
                      </a:moveTo>
                      <a:lnTo>
                        <a:pt x="526" y="0"/>
                      </a:lnTo>
                      <a:lnTo>
                        <a:pt x="450" y="10"/>
                      </a:lnTo>
                      <a:lnTo>
                        <a:pt x="38" y="238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014920" y="3124800"/>
                  <a:ext cx="176040" cy="143280"/>
                </a:xfrm>
                <a:custGeom>
                  <a:avLst/>
                  <a:gdLst/>
                  <a:ahLst/>
                  <a:rect l="l" t="t" r="r" b="b"/>
                  <a:pathLst>
                    <a:path w="669" h="544">
                      <a:moveTo>
                        <a:pt x="0" y="544"/>
                      </a:moveTo>
                      <a:lnTo>
                        <a:pt x="108" y="512"/>
                      </a:lnTo>
                      <a:lnTo>
                        <a:pt x="669" y="0"/>
                      </a:lnTo>
                      <a:lnTo>
                        <a:pt x="576" y="38"/>
                      </a:lnTo>
                      <a:lnTo>
                        <a:pt x="185" y="337"/>
                      </a:lnTo>
                      <a:lnTo>
                        <a:pt x="0" y="544"/>
                      </a:lnTo>
                      <a:lnTo>
                        <a:pt x="0" y="5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48560" y="3008880"/>
                  <a:ext cx="115200" cy="90360"/>
                </a:xfrm>
                <a:custGeom>
                  <a:avLst/>
                  <a:gdLst/>
                  <a:ahLst/>
                  <a:rect l="l" t="t" r="r" b="b"/>
                  <a:pathLst>
                    <a:path w="439" h="344">
                      <a:moveTo>
                        <a:pt x="0" y="344"/>
                      </a:moveTo>
                      <a:lnTo>
                        <a:pt x="439" y="55"/>
                      </a:lnTo>
                      <a:lnTo>
                        <a:pt x="114" y="230"/>
                      </a:lnTo>
                      <a:lnTo>
                        <a:pt x="439" y="0"/>
                      </a:lnTo>
                      <a:lnTo>
                        <a:pt x="114" y="175"/>
                      </a:lnTo>
                      <a:lnTo>
                        <a:pt x="103" y="230"/>
                      </a:lnTo>
                      <a:lnTo>
                        <a:pt x="0" y="344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37760" y="2951280"/>
                  <a:ext cx="41400" cy="94680"/>
                </a:xfrm>
                <a:custGeom>
                  <a:avLst/>
                  <a:gdLst/>
                  <a:ahLst/>
                  <a:rect l="l" t="t" r="r" b="b"/>
                  <a:pathLst>
                    <a:path w="160" h="359">
                      <a:moveTo>
                        <a:pt x="25" y="359"/>
                      </a:moveTo>
                      <a:lnTo>
                        <a:pt x="0" y="266"/>
                      </a:lnTo>
                      <a:lnTo>
                        <a:pt x="14" y="161"/>
                      </a:lnTo>
                      <a:lnTo>
                        <a:pt x="38" y="98"/>
                      </a:lnTo>
                      <a:lnTo>
                        <a:pt x="57" y="64"/>
                      </a:lnTo>
                      <a:lnTo>
                        <a:pt x="80" y="28"/>
                      </a:lnTo>
                      <a:lnTo>
                        <a:pt x="92" y="19"/>
                      </a:lnTo>
                      <a:lnTo>
                        <a:pt x="114" y="3"/>
                      </a:lnTo>
                      <a:lnTo>
                        <a:pt x="141" y="0"/>
                      </a:lnTo>
                      <a:lnTo>
                        <a:pt x="154" y="24"/>
                      </a:lnTo>
                      <a:lnTo>
                        <a:pt x="160" y="131"/>
                      </a:lnTo>
                      <a:lnTo>
                        <a:pt x="152" y="188"/>
                      </a:lnTo>
                      <a:lnTo>
                        <a:pt x="133" y="237"/>
                      </a:lnTo>
                      <a:lnTo>
                        <a:pt x="107" y="260"/>
                      </a:lnTo>
                      <a:lnTo>
                        <a:pt x="105" y="239"/>
                      </a:lnTo>
                      <a:lnTo>
                        <a:pt x="107" y="79"/>
                      </a:lnTo>
                      <a:lnTo>
                        <a:pt x="61" y="150"/>
                      </a:lnTo>
                      <a:lnTo>
                        <a:pt x="48" y="207"/>
                      </a:lnTo>
                      <a:lnTo>
                        <a:pt x="33" y="323"/>
                      </a:lnTo>
                      <a:lnTo>
                        <a:pt x="25" y="359"/>
                      </a:lnTo>
                      <a:lnTo>
                        <a:pt x="25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196360" y="2869560"/>
                  <a:ext cx="47880" cy="39240"/>
                </a:xfrm>
                <a:custGeom>
                  <a:avLst/>
                  <a:gdLst/>
                  <a:ahLst/>
                  <a:rect l="l" t="t" r="r" b="b"/>
                  <a:pathLst>
                    <a:path w="183" h="148">
                      <a:moveTo>
                        <a:pt x="0" y="148"/>
                      </a:moveTo>
                      <a:lnTo>
                        <a:pt x="29" y="93"/>
                      </a:lnTo>
                      <a:lnTo>
                        <a:pt x="63" y="47"/>
                      </a:lnTo>
                      <a:lnTo>
                        <a:pt x="84" y="28"/>
                      </a:lnTo>
                      <a:lnTo>
                        <a:pt x="109" y="13"/>
                      </a:lnTo>
                      <a:lnTo>
                        <a:pt x="158" y="0"/>
                      </a:lnTo>
                      <a:lnTo>
                        <a:pt x="183" y="7"/>
                      </a:lnTo>
                      <a:lnTo>
                        <a:pt x="164" y="28"/>
                      </a:lnTo>
                      <a:lnTo>
                        <a:pt x="124" y="57"/>
                      </a:lnTo>
                      <a:lnTo>
                        <a:pt x="88" y="89"/>
                      </a:lnTo>
                      <a:lnTo>
                        <a:pt x="57" y="120"/>
                      </a:lnTo>
                      <a:lnTo>
                        <a:pt x="29" y="137"/>
                      </a:lnTo>
                      <a:lnTo>
                        <a:pt x="0" y="148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753920" y="3168360"/>
                  <a:ext cx="128520" cy="23400"/>
                </a:xfrm>
                <a:custGeom>
                  <a:avLst/>
                  <a:gdLst/>
                  <a:ahLst/>
                  <a:rect l="l" t="t" r="r" b="b"/>
                  <a:pathLst>
                    <a:path w="487" h="89">
                      <a:moveTo>
                        <a:pt x="0" y="72"/>
                      </a:moveTo>
                      <a:lnTo>
                        <a:pt x="196" y="55"/>
                      </a:lnTo>
                      <a:lnTo>
                        <a:pt x="455" y="7"/>
                      </a:lnTo>
                      <a:lnTo>
                        <a:pt x="487" y="0"/>
                      </a:lnTo>
                      <a:lnTo>
                        <a:pt x="461" y="28"/>
                      </a:lnTo>
                      <a:lnTo>
                        <a:pt x="430" y="45"/>
                      </a:lnTo>
                      <a:lnTo>
                        <a:pt x="388" y="64"/>
                      </a:lnTo>
                      <a:lnTo>
                        <a:pt x="284" y="89"/>
                      </a:lnTo>
                      <a:lnTo>
                        <a:pt x="82" y="83"/>
                      </a:lnTo>
                      <a:lnTo>
                        <a:pt x="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848960" y="2700000"/>
                  <a:ext cx="95400" cy="41040"/>
                </a:xfrm>
                <a:custGeom>
                  <a:avLst/>
                  <a:gdLst/>
                  <a:ahLst/>
                  <a:rect l="l" t="t" r="r" b="b"/>
                  <a:pathLst>
                    <a:path w="361" h="156">
                      <a:moveTo>
                        <a:pt x="0" y="133"/>
                      </a:moveTo>
                      <a:lnTo>
                        <a:pt x="34" y="114"/>
                      </a:lnTo>
                      <a:lnTo>
                        <a:pt x="74" y="94"/>
                      </a:lnTo>
                      <a:lnTo>
                        <a:pt x="121" y="71"/>
                      </a:lnTo>
                      <a:lnTo>
                        <a:pt x="178" y="48"/>
                      </a:lnTo>
                      <a:lnTo>
                        <a:pt x="239" y="25"/>
                      </a:lnTo>
                      <a:lnTo>
                        <a:pt x="361" y="0"/>
                      </a:lnTo>
                      <a:lnTo>
                        <a:pt x="329" y="14"/>
                      </a:lnTo>
                      <a:lnTo>
                        <a:pt x="256" y="46"/>
                      </a:lnTo>
                      <a:lnTo>
                        <a:pt x="182" y="90"/>
                      </a:lnTo>
                      <a:lnTo>
                        <a:pt x="146" y="133"/>
                      </a:lnTo>
                      <a:lnTo>
                        <a:pt x="139" y="149"/>
                      </a:lnTo>
                      <a:lnTo>
                        <a:pt x="120" y="156"/>
                      </a:lnTo>
                      <a:lnTo>
                        <a:pt x="70" y="154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570680" y="2975040"/>
                  <a:ext cx="29520" cy="32760"/>
                </a:xfrm>
                <a:custGeom>
                  <a:avLst/>
                  <a:gdLst/>
                  <a:ahLst/>
                  <a:rect l="l" t="t" r="r" b="b"/>
                  <a:pathLst>
                    <a:path w="113" h="125">
                      <a:moveTo>
                        <a:pt x="14" y="61"/>
                      </a:moveTo>
                      <a:lnTo>
                        <a:pt x="52" y="15"/>
                      </a:lnTo>
                      <a:lnTo>
                        <a:pt x="84" y="0"/>
                      </a:lnTo>
                      <a:lnTo>
                        <a:pt x="113" y="4"/>
                      </a:lnTo>
                      <a:lnTo>
                        <a:pt x="57" y="87"/>
                      </a:lnTo>
                      <a:lnTo>
                        <a:pt x="44" y="125"/>
                      </a:lnTo>
                      <a:lnTo>
                        <a:pt x="25" y="122"/>
                      </a:lnTo>
                      <a:lnTo>
                        <a:pt x="0" y="89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846800" y="3016080"/>
                  <a:ext cx="56880" cy="54360"/>
                </a:xfrm>
                <a:custGeom>
                  <a:avLst/>
                  <a:gdLst/>
                  <a:ahLst/>
                  <a:rect l="l" t="t" r="r" b="b"/>
                  <a:pathLst>
                    <a:path w="217" h="205">
                      <a:moveTo>
                        <a:pt x="0" y="205"/>
                      </a:moveTo>
                      <a:lnTo>
                        <a:pt x="12" y="137"/>
                      </a:lnTo>
                      <a:lnTo>
                        <a:pt x="42" y="78"/>
                      </a:lnTo>
                      <a:lnTo>
                        <a:pt x="69" y="49"/>
                      </a:lnTo>
                      <a:lnTo>
                        <a:pt x="109" y="23"/>
                      </a:lnTo>
                      <a:lnTo>
                        <a:pt x="173" y="0"/>
                      </a:lnTo>
                      <a:lnTo>
                        <a:pt x="207" y="7"/>
                      </a:lnTo>
                      <a:lnTo>
                        <a:pt x="217" y="38"/>
                      </a:lnTo>
                      <a:lnTo>
                        <a:pt x="188" y="108"/>
                      </a:lnTo>
                      <a:lnTo>
                        <a:pt x="137" y="161"/>
                      </a:lnTo>
                      <a:lnTo>
                        <a:pt x="99" y="184"/>
                      </a:lnTo>
                      <a:lnTo>
                        <a:pt x="50" y="199"/>
                      </a:lnTo>
                      <a:lnTo>
                        <a:pt x="0" y="205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968480" y="3117960"/>
                  <a:ext cx="72720" cy="128520"/>
                </a:xfrm>
                <a:custGeom>
                  <a:avLst/>
                  <a:gdLst/>
                  <a:ahLst/>
                  <a:rect l="l" t="t" r="r" b="b"/>
                  <a:pathLst>
                    <a:path w="276" h="488">
                      <a:moveTo>
                        <a:pt x="160" y="484"/>
                      </a:moveTo>
                      <a:lnTo>
                        <a:pt x="97" y="488"/>
                      </a:lnTo>
                      <a:lnTo>
                        <a:pt x="25" y="433"/>
                      </a:lnTo>
                      <a:lnTo>
                        <a:pt x="0" y="283"/>
                      </a:lnTo>
                      <a:lnTo>
                        <a:pt x="21" y="161"/>
                      </a:lnTo>
                      <a:lnTo>
                        <a:pt x="44" y="85"/>
                      </a:lnTo>
                      <a:lnTo>
                        <a:pt x="76" y="0"/>
                      </a:lnTo>
                      <a:lnTo>
                        <a:pt x="93" y="399"/>
                      </a:lnTo>
                      <a:lnTo>
                        <a:pt x="128" y="418"/>
                      </a:lnTo>
                      <a:lnTo>
                        <a:pt x="160" y="422"/>
                      </a:lnTo>
                      <a:lnTo>
                        <a:pt x="219" y="395"/>
                      </a:lnTo>
                      <a:lnTo>
                        <a:pt x="261" y="351"/>
                      </a:lnTo>
                      <a:lnTo>
                        <a:pt x="276" y="329"/>
                      </a:lnTo>
                      <a:lnTo>
                        <a:pt x="242" y="395"/>
                      </a:lnTo>
                      <a:lnTo>
                        <a:pt x="206" y="446"/>
                      </a:lnTo>
                      <a:lnTo>
                        <a:pt x="183" y="469"/>
                      </a:lnTo>
                      <a:lnTo>
                        <a:pt x="160" y="484"/>
                      </a:lnTo>
                      <a:lnTo>
                        <a:pt x="160" y="484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542960" y="3105720"/>
                  <a:ext cx="151560" cy="87840"/>
                </a:xfrm>
                <a:custGeom>
                  <a:avLst/>
                  <a:gdLst/>
                  <a:ahLst/>
                  <a:rect l="l" t="t" r="r" b="b"/>
                  <a:pathLst>
                    <a:path w="576" h="335">
                      <a:moveTo>
                        <a:pt x="0" y="0"/>
                      </a:moveTo>
                      <a:lnTo>
                        <a:pt x="49" y="38"/>
                      </a:lnTo>
                      <a:lnTo>
                        <a:pt x="105" y="78"/>
                      </a:lnTo>
                      <a:lnTo>
                        <a:pt x="139" y="101"/>
                      </a:lnTo>
                      <a:lnTo>
                        <a:pt x="177" y="127"/>
                      </a:lnTo>
                      <a:lnTo>
                        <a:pt x="219" y="154"/>
                      </a:lnTo>
                      <a:lnTo>
                        <a:pt x="264" y="183"/>
                      </a:lnTo>
                      <a:lnTo>
                        <a:pt x="312" y="209"/>
                      </a:lnTo>
                      <a:lnTo>
                        <a:pt x="361" y="238"/>
                      </a:lnTo>
                      <a:lnTo>
                        <a:pt x="413" y="264"/>
                      </a:lnTo>
                      <a:lnTo>
                        <a:pt x="466" y="289"/>
                      </a:lnTo>
                      <a:lnTo>
                        <a:pt x="521" y="314"/>
                      </a:lnTo>
                      <a:lnTo>
                        <a:pt x="576" y="335"/>
                      </a:lnTo>
                      <a:lnTo>
                        <a:pt x="534" y="321"/>
                      </a:lnTo>
                      <a:lnTo>
                        <a:pt x="430" y="283"/>
                      </a:lnTo>
                      <a:lnTo>
                        <a:pt x="367" y="261"/>
                      </a:lnTo>
                      <a:lnTo>
                        <a:pt x="302" y="234"/>
                      </a:lnTo>
                      <a:lnTo>
                        <a:pt x="240" y="203"/>
                      </a:lnTo>
                      <a:lnTo>
                        <a:pt x="186" y="173"/>
                      </a:lnTo>
                      <a:lnTo>
                        <a:pt x="141" y="143"/>
                      </a:lnTo>
                      <a:lnTo>
                        <a:pt x="101" y="112"/>
                      </a:lnTo>
                      <a:lnTo>
                        <a:pt x="68" y="84"/>
                      </a:lnTo>
                      <a:lnTo>
                        <a:pt x="44" y="5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627200" y="2855520"/>
                  <a:ext cx="327960" cy="196200"/>
                </a:xfrm>
                <a:custGeom>
                  <a:avLst/>
                  <a:gdLst/>
                  <a:ahLst/>
                  <a:rect l="l" t="t" r="r" b="b"/>
                  <a:pathLst>
                    <a:path w="1246" h="747">
                      <a:moveTo>
                        <a:pt x="419" y="0"/>
                      </a:moveTo>
                      <a:lnTo>
                        <a:pt x="426" y="26"/>
                      </a:lnTo>
                      <a:lnTo>
                        <a:pt x="455" y="55"/>
                      </a:lnTo>
                      <a:lnTo>
                        <a:pt x="510" y="89"/>
                      </a:lnTo>
                      <a:lnTo>
                        <a:pt x="607" y="125"/>
                      </a:lnTo>
                      <a:lnTo>
                        <a:pt x="753" y="159"/>
                      </a:lnTo>
                      <a:lnTo>
                        <a:pt x="962" y="190"/>
                      </a:lnTo>
                      <a:lnTo>
                        <a:pt x="1246" y="211"/>
                      </a:lnTo>
                      <a:lnTo>
                        <a:pt x="985" y="226"/>
                      </a:lnTo>
                      <a:lnTo>
                        <a:pt x="719" y="214"/>
                      </a:lnTo>
                      <a:lnTo>
                        <a:pt x="419" y="157"/>
                      </a:lnTo>
                      <a:lnTo>
                        <a:pt x="379" y="195"/>
                      </a:lnTo>
                      <a:lnTo>
                        <a:pt x="333" y="243"/>
                      </a:lnTo>
                      <a:lnTo>
                        <a:pt x="278" y="308"/>
                      </a:lnTo>
                      <a:lnTo>
                        <a:pt x="246" y="348"/>
                      </a:lnTo>
                      <a:lnTo>
                        <a:pt x="211" y="391"/>
                      </a:lnTo>
                      <a:lnTo>
                        <a:pt x="177" y="439"/>
                      </a:lnTo>
                      <a:lnTo>
                        <a:pt x="141" y="492"/>
                      </a:lnTo>
                      <a:lnTo>
                        <a:pt x="105" y="549"/>
                      </a:lnTo>
                      <a:lnTo>
                        <a:pt x="69" y="610"/>
                      </a:lnTo>
                      <a:lnTo>
                        <a:pt x="35" y="676"/>
                      </a:lnTo>
                      <a:lnTo>
                        <a:pt x="0" y="747"/>
                      </a:lnTo>
                      <a:lnTo>
                        <a:pt x="33" y="659"/>
                      </a:lnTo>
                      <a:lnTo>
                        <a:pt x="69" y="568"/>
                      </a:lnTo>
                      <a:lnTo>
                        <a:pt x="92" y="517"/>
                      </a:lnTo>
                      <a:lnTo>
                        <a:pt x="116" y="462"/>
                      </a:lnTo>
                      <a:lnTo>
                        <a:pt x="145" y="405"/>
                      </a:lnTo>
                      <a:lnTo>
                        <a:pt x="173" y="349"/>
                      </a:lnTo>
                      <a:lnTo>
                        <a:pt x="204" y="294"/>
                      </a:lnTo>
                      <a:lnTo>
                        <a:pt x="234" y="243"/>
                      </a:lnTo>
                      <a:lnTo>
                        <a:pt x="267" y="197"/>
                      </a:lnTo>
                      <a:lnTo>
                        <a:pt x="299" y="157"/>
                      </a:lnTo>
                      <a:lnTo>
                        <a:pt x="333" y="123"/>
                      </a:lnTo>
                      <a:lnTo>
                        <a:pt x="365" y="100"/>
                      </a:lnTo>
                      <a:lnTo>
                        <a:pt x="419" y="0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>
                <a:off x="2360520" y="2759040"/>
                <a:ext cx="200160" cy="5047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74720" y="3171600"/>
                <a:ext cx="755640" cy="214200"/>
              </a:xfrm>
              <a:custGeom>
                <a:avLst/>
                <a:gdLst/>
                <a:ahLst/>
                <a:rect l="l" t="t" r="r" b="b"/>
                <a:pathLst>
                  <a:path w="476" h="135">
                    <a:moveTo>
                      <a:pt x="0" y="18"/>
                    </a:moveTo>
                    <a:cubicBezTo>
                      <a:pt x="7" y="53"/>
                      <a:pt x="15" y="88"/>
                      <a:pt x="48" y="105"/>
                    </a:cubicBezTo>
                    <a:cubicBezTo>
                      <a:pt x="81" y="122"/>
                      <a:pt x="129" y="135"/>
                      <a:pt x="200" y="118"/>
                    </a:cubicBezTo>
                    <a:cubicBezTo>
                      <a:pt x="271" y="101"/>
                      <a:pt x="373" y="50"/>
                      <a:pt x="476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92560" y="281592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1" y="12"/>
                    </a:moveTo>
                    <a:lnTo>
                      <a:pt x="1" y="63"/>
                    </a:lnTo>
                    <a:lnTo>
                      <a:pt x="81" y="77"/>
                    </a:lnTo>
                    <a:lnTo>
                      <a:pt x="8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600200" y="596880"/>
              <a:ext cx="1030320" cy="699840"/>
              <a:chOff x="1600200" y="596880"/>
              <a:chExt cx="1030320" cy="69984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600200" y="596880"/>
                <a:ext cx="941400" cy="606240"/>
                <a:chOff x="1600200" y="596880"/>
                <a:chExt cx="941400" cy="606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709280" y="725760"/>
                  <a:ext cx="832320" cy="477360"/>
                </a:xfrm>
                <a:custGeom>
                  <a:avLst/>
                  <a:gdLst/>
                  <a:ahLst/>
                  <a:rect l="l" t="t" r="r" b="b"/>
                  <a:pathLst>
                    <a:path w="3154" h="1811">
                      <a:moveTo>
                        <a:pt x="220" y="1716"/>
                      </a:moveTo>
                      <a:lnTo>
                        <a:pt x="384" y="1752"/>
                      </a:lnTo>
                      <a:lnTo>
                        <a:pt x="532" y="1779"/>
                      </a:lnTo>
                      <a:lnTo>
                        <a:pt x="791" y="1811"/>
                      </a:lnTo>
                      <a:lnTo>
                        <a:pt x="1152" y="1811"/>
                      </a:lnTo>
                      <a:lnTo>
                        <a:pt x="1342" y="1773"/>
                      </a:lnTo>
                      <a:lnTo>
                        <a:pt x="1397" y="1747"/>
                      </a:lnTo>
                      <a:lnTo>
                        <a:pt x="1456" y="1707"/>
                      </a:lnTo>
                      <a:lnTo>
                        <a:pt x="1487" y="1686"/>
                      </a:lnTo>
                      <a:lnTo>
                        <a:pt x="1525" y="1659"/>
                      </a:lnTo>
                      <a:lnTo>
                        <a:pt x="1567" y="1631"/>
                      </a:lnTo>
                      <a:lnTo>
                        <a:pt x="1612" y="1598"/>
                      </a:lnTo>
                      <a:lnTo>
                        <a:pt x="1664" y="1564"/>
                      </a:lnTo>
                      <a:lnTo>
                        <a:pt x="1719" y="1526"/>
                      </a:lnTo>
                      <a:lnTo>
                        <a:pt x="1776" y="1486"/>
                      </a:lnTo>
                      <a:lnTo>
                        <a:pt x="1837" y="1444"/>
                      </a:lnTo>
                      <a:lnTo>
                        <a:pt x="1899" y="1401"/>
                      </a:lnTo>
                      <a:lnTo>
                        <a:pt x="1964" y="1355"/>
                      </a:lnTo>
                      <a:lnTo>
                        <a:pt x="1996" y="1332"/>
                      </a:lnTo>
                      <a:lnTo>
                        <a:pt x="2030" y="1309"/>
                      </a:lnTo>
                      <a:lnTo>
                        <a:pt x="2063" y="1287"/>
                      </a:lnTo>
                      <a:lnTo>
                        <a:pt x="2097" y="1264"/>
                      </a:lnTo>
                      <a:lnTo>
                        <a:pt x="2129" y="1239"/>
                      </a:lnTo>
                      <a:lnTo>
                        <a:pt x="2164" y="1216"/>
                      </a:lnTo>
                      <a:lnTo>
                        <a:pt x="2198" y="1193"/>
                      </a:lnTo>
                      <a:lnTo>
                        <a:pt x="2230" y="1169"/>
                      </a:lnTo>
                      <a:lnTo>
                        <a:pt x="2264" y="1146"/>
                      </a:lnTo>
                      <a:lnTo>
                        <a:pt x="2297" y="1123"/>
                      </a:lnTo>
                      <a:lnTo>
                        <a:pt x="2329" y="1100"/>
                      </a:lnTo>
                      <a:lnTo>
                        <a:pt x="2361" y="1077"/>
                      </a:lnTo>
                      <a:lnTo>
                        <a:pt x="2426" y="1034"/>
                      </a:lnTo>
                      <a:lnTo>
                        <a:pt x="2487" y="990"/>
                      </a:lnTo>
                      <a:lnTo>
                        <a:pt x="2546" y="946"/>
                      </a:lnTo>
                      <a:lnTo>
                        <a:pt x="2601" y="908"/>
                      </a:lnTo>
                      <a:lnTo>
                        <a:pt x="2654" y="870"/>
                      </a:lnTo>
                      <a:lnTo>
                        <a:pt x="2702" y="836"/>
                      </a:lnTo>
                      <a:lnTo>
                        <a:pt x="2745" y="804"/>
                      </a:lnTo>
                      <a:lnTo>
                        <a:pt x="2783" y="775"/>
                      </a:lnTo>
                      <a:lnTo>
                        <a:pt x="2844" y="730"/>
                      </a:lnTo>
                      <a:lnTo>
                        <a:pt x="2880" y="699"/>
                      </a:lnTo>
                      <a:lnTo>
                        <a:pt x="2920" y="656"/>
                      </a:lnTo>
                      <a:lnTo>
                        <a:pt x="2962" y="600"/>
                      </a:lnTo>
                      <a:lnTo>
                        <a:pt x="3002" y="543"/>
                      </a:lnTo>
                      <a:lnTo>
                        <a:pt x="3038" y="481"/>
                      </a:lnTo>
                      <a:lnTo>
                        <a:pt x="3072" y="422"/>
                      </a:lnTo>
                      <a:lnTo>
                        <a:pt x="3101" y="365"/>
                      </a:lnTo>
                      <a:lnTo>
                        <a:pt x="3139" y="281"/>
                      </a:lnTo>
                      <a:lnTo>
                        <a:pt x="3154" y="102"/>
                      </a:lnTo>
                      <a:lnTo>
                        <a:pt x="3139" y="74"/>
                      </a:lnTo>
                      <a:lnTo>
                        <a:pt x="3114" y="49"/>
                      </a:lnTo>
                      <a:lnTo>
                        <a:pt x="3078" y="28"/>
                      </a:lnTo>
                      <a:lnTo>
                        <a:pt x="3032" y="11"/>
                      </a:lnTo>
                      <a:lnTo>
                        <a:pt x="2897" y="0"/>
                      </a:lnTo>
                      <a:lnTo>
                        <a:pt x="2700" y="21"/>
                      </a:lnTo>
                      <a:lnTo>
                        <a:pt x="2470" y="70"/>
                      </a:lnTo>
                      <a:lnTo>
                        <a:pt x="2361" y="99"/>
                      </a:lnTo>
                      <a:lnTo>
                        <a:pt x="2255" y="129"/>
                      </a:lnTo>
                      <a:lnTo>
                        <a:pt x="2154" y="159"/>
                      </a:lnTo>
                      <a:lnTo>
                        <a:pt x="2057" y="192"/>
                      </a:lnTo>
                      <a:lnTo>
                        <a:pt x="1968" y="222"/>
                      </a:lnTo>
                      <a:lnTo>
                        <a:pt x="1884" y="254"/>
                      </a:lnTo>
                      <a:lnTo>
                        <a:pt x="1808" y="283"/>
                      </a:lnTo>
                      <a:lnTo>
                        <a:pt x="1740" y="310"/>
                      </a:lnTo>
                      <a:lnTo>
                        <a:pt x="1681" y="336"/>
                      </a:lnTo>
                      <a:lnTo>
                        <a:pt x="1629" y="357"/>
                      </a:lnTo>
                      <a:lnTo>
                        <a:pt x="1559" y="389"/>
                      </a:lnTo>
                      <a:lnTo>
                        <a:pt x="1536" y="401"/>
                      </a:lnTo>
                      <a:lnTo>
                        <a:pt x="1510" y="412"/>
                      </a:lnTo>
                      <a:lnTo>
                        <a:pt x="1441" y="448"/>
                      </a:lnTo>
                      <a:lnTo>
                        <a:pt x="1392" y="473"/>
                      </a:lnTo>
                      <a:lnTo>
                        <a:pt x="1335" y="503"/>
                      </a:lnTo>
                      <a:lnTo>
                        <a:pt x="1270" y="538"/>
                      </a:lnTo>
                      <a:lnTo>
                        <a:pt x="1202" y="576"/>
                      </a:lnTo>
                      <a:lnTo>
                        <a:pt x="1125" y="617"/>
                      </a:lnTo>
                      <a:lnTo>
                        <a:pt x="1046" y="663"/>
                      </a:lnTo>
                      <a:lnTo>
                        <a:pt x="1004" y="686"/>
                      </a:lnTo>
                      <a:lnTo>
                        <a:pt x="962" y="711"/>
                      </a:lnTo>
                      <a:lnTo>
                        <a:pt x="920" y="735"/>
                      </a:lnTo>
                      <a:lnTo>
                        <a:pt x="878" y="762"/>
                      </a:lnTo>
                      <a:lnTo>
                        <a:pt x="835" y="787"/>
                      </a:lnTo>
                      <a:lnTo>
                        <a:pt x="791" y="813"/>
                      </a:lnTo>
                      <a:lnTo>
                        <a:pt x="747" y="840"/>
                      </a:lnTo>
                      <a:lnTo>
                        <a:pt x="703" y="866"/>
                      </a:lnTo>
                      <a:lnTo>
                        <a:pt x="662" y="895"/>
                      </a:lnTo>
                      <a:lnTo>
                        <a:pt x="618" y="924"/>
                      </a:lnTo>
                      <a:lnTo>
                        <a:pt x="576" y="950"/>
                      </a:lnTo>
                      <a:lnTo>
                        <a:pt x="534" y="979"/>
                      </a:lnTo>
                      <a:lnTo>
                        <a:pt x="492" y="1007"/>
                      </a:lnTo>
                      <a:lnTo>
                        <a:pt x="452" y="1036"/>
                      </a:lnTo>
                      <a:lnTo>
                        <a:pt x="413" y="1064"/>
                      </a:lnTo>
                      <a:lnTo>
                        <a:pt x="374" y="1093"/>
                      </a:lnTo>
                      <a:lnTo>
                        <a:pt x="336" y="1121"/>
                      </a:lnTo>
                      <a:lnTo>
                        <a:pt x="300" y="1150"/>
                      </a:lnTo>
                      <a:lnTo>
                        <a:pt x="266" y="1178"/>
                      </a:lnTo>
                      <a:lnTo>
                        <a:pt x="234" y="1207"/>
                      </a:lnTo>
                      <a:lnTo>
                        <a:pt x="201" y="1235"/>
                      </a:lnTo>
                      <a:lnTo>
                        <a:pt x="171" y="1264"/>
                      </a:lnTo>
                      <a:lnTo>
                        <a:pt x="118" y="1317"/>
                      </a:lnTo>
                      <a:lnTo>
                        <a:pt x="74" y="1370"/>
                      </a:lnTo>
                      <a:lnTo>
                        <a:pt x="38" y="1422"/>
                      </a:lnTo>
                      <a:lnTo>
                        <a:pt x="0" y="1517"/>
                      </a:lnTo>
                      <a:lnTo>
                        <a:pt x="13" y="1598"/>
                      </a:lnTo>
                      <a:lnTo>
                        <a:pt x="40" y="1634"/>
                      </a:lnTo>
                      <a:lnTo>
                        <a:pt x="84" y="1667"/>
                      </a:lnTo>
                      <a:lnTo>
                        <a:pt x="143" y="1695"/>
                      </a:lnTo>
                      <a:lnTo>
                        <a:pt x="220" y="1716"/>
                      </a:lnTo>
                      <a:lnTo>
                        <a:pt x="220" y="1716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608480" y="605520"/>
                  <a:ext cx="796320" cy="527400"/>
                </a:xfrm>
                <a:custGeom>
                  <a:avLst/>
                  <a:gdLst/>
                  <a:ahLst/>
                  <a:rect l="l" t="t" r="r" b="b"/>
                  <a:pathLst>
                    <a:path w="3019" h="2003">
                      <a:moveTo>
                        <a:pt x="40" y="1591"/>
                      </a:moveTo>
                      <a:lnTo>
                        <a:pt x="68" y="1621"/>
                      </a:lnTo>
                      <a:lnTo>
                        <a:pt x="102" y="1653"/>
                      </a:lnTo>
                      <a:lnTo>
                        <a:pt x="150" y="1693"/>
                      </a:lnTo>
                      <a:lnTo>
                        <a:pt x="180" y="1716"/>
                      </a:lnTo>
                      <a:lnTo>
                        <a:pt x="213" y="1741"/>
                      </a:lnTo>
                      <a:lnTo>
                        <a:pt x="249" y="1765"/>
                      </a:lnTo>
                      <a:lnTo>
                        <a:pt x="289" y="1788"/>
                      </a:lnTo>
                      <a:lnTo>
                        <a:pt x="332" y="1813"/>
                      </a:lnTo>
                      <a:lnTo>
                        <a:pt x="380" y="1838"/>
                      </a:lnTo>
                      <a:lnTo>
                        <a:pt x="431" y="1860"/>
                      </a:lnTo>
                      <a:lnTo>
                        <a:pt x="487" y="1883"/>
                      </a:lnTo>
                      <a:lnTo>
                        <a:pt x="585" y="1917"/>
                      </a:lnTo>
                      <a:lnTo>
                        <a:pt x="696" y="1946"/>
                      </a:lnTo>
                      <a:lnTo>
                        <a:pt x="815" y="1969"/>
                      </a:lnTo>
                      <a:lnTo>
                        <a:pt x="945" y="1986"/>
                      </a:lnTo>
                      <a:lnTo>
                        <a:pt x="1239" y="2003"/>
                      </a:lnTo>
                      <a:lnTo>
                        <a:pt x="1576" y="1995"/>
                      </a:lnTo>
                      <a:lnTo>
                        <a:pt x="1601" y="1874"/>
                      </a:lnTo>
                      <a:lnTo>
                        <a:pt x="1633" y="1750"/>
                      </a:lnTo>
                      <a:lnTo>
                        <a:pt x="1652" y="1682"/>
                      </a:lnTo>
                      <a:lnTo>
                        <a:pt x="1675" y="1611"/>
                      </a:lnTo>
                      <a:lnTo>
                        <a:pt x="1698" y="1541"/>
                      </a:lnTo>
                      <a:lnTo>
                        <a:pt x="1724" y="1476"/>
                      </a:lnTo>
                      <a:lnTo>
                        <a:pt x="1753" y="1418"/>
                      </a:lnTo>
                      <a:lnTo>
                        <a:pt x="1783" y="1366"/>
                      </a:lnTo>
                      <a:lnTo>
                        <a:pt x="1817" y="1326"/>
                      </a:lnTo>
                      <a:lnTo>
                        <a:pt x="1852" y="1300"/>
                      </a:lnTo>
                      <a:lnTo>
                        <a:pt x="1924" y="1298"/>
                      </a:lnTo>
                      <a:lnTo>
                        <a:pt x="1989" y="1332"/>
                      </a:lnTo>
                      <a:lnTo>
                        <a:pt x="2036" y="1361"/>
                      </a:lnTo>
                      <a:lnTo>
                        <a:pt x="2087" y="1402"/>
                      </a:lnTo>
                      <a:lnTo>
                        <a:pt x="2101" y="1435"/>
                      </a:lnTo>
                      <a:lnTo>
                        <a:pt x="2165" y="1651"/>
                      </a:lnTo>
                      <a:lnTo>
                        <a:pt x="2262" y="1480"/>
                      </a:lnTo>
                      <a:lnTo>
                        <a:pt x="2646" y="1035"/>
                      </a:lnTo>
                      <a:lnTo>
                        <a:pt x="2855" y="1243"/>
                      </a:lnTo>
                      <a:lnTo>
                        <a:pt x="3019" y="1094"/>
                      </a:lnTo>
                      <a:lnTo>
                        <a:pt x="3006" y="1056"/>
                      </a:lnTo>
                      <a:lnTo>
                        <a:pt x="2970" y="958"/>
                      </a:lnTo>
                      <a:lnTo>
                        <a:pt x="2945" y="891"/>
                      </a:lnTo>
                      <a:lnTo>
                        <a:pt x="2913" y="815"/>
                      </a:lnTo>
                      <a:lnTo>
                        <a:pt x="2878" y="733"/>
                      </a:lnTo>
                      <a:lnTo>
                        <a:pt x="2838" y="650"/>
                      </a:lnTo>
                      <a:lnTo>
                        <a:pt x="2795" y="566"/>
                      </a:lnTo>
                      <a:lnTo>
                        <a:pt x="2772" y="524"/>
                      </a:lnTo>
                      <a:lnTo>
                        <a:pt x="2747" y="484"/>
                      </a:lnTo>
                      <a:lnTo>
                        <a:pt x="2722" y="444"/>
                      </a:lnTo>
                      <a:lnTo>
                        <a:pt x="2698" y="406"/>
                      </a:lnTo>
                      <a:lnTo>
                        <a:pt x="2671" y="368"/>
                      </a:lnTo>
                      <a:lnTo>
                        <a:pt x="2644" y="334"/>
                      </a:lnTo>
                      <a:lnTo>
                        <a:pt x="2589" y="273"/>
                      </a:lnTo>
                      <a:lnTo>
                        <a:pt x="2559" y="247"/>
                      </a:lnTo>
                      <a:lnTo>
                        <a:pt x="2530" y="224"/>
                      </a:lnTo>
                      <a:lnTo>
                        <a:pt x="2470" y="190"/>
                      </a:lnTo>
                      <a:lnTo>
                        <a:pt x="2409" y="171"/>
                      </a:lnTo>
                      <a:lnTo>
                        <a:pt x="2331" y="85"/>
                      </a:lnTo>
                      <a:lnTo>
                        <a:pt x="1979" y="0"/>
                      </a:lnTo>
                      <a:lnTo>
                        <a:pt x="1661" y="30"/>
                      </a:lnTo>
                      <a:lnTo>
                        <a:pt x="1418" y="39"/>
                      </a:lnTo>
                      <a:lnTo>
                        <a:pt x="1110" y="152"/>
                      </a:lnTo>
                      <a:lnTo>
                        <a:pt x="975" y="228"/>
                      </a:lnTo>
                      <a:lnTo>
                        <a:pt x="802" y="509"/>
                      </a:lnTo>
                      <a:lnTo>
                        <a:pt x="711" y="631"/>
                      </a:lnTo>
                      <a:lnTo>
                        <a:pt x="399" y="758"/>
                      </a:lnTo>
                      <a:lnTo>
                        <a:pt x="365" y="783"/>
                      </a:lnTo>
                      <a:lnTo>
                        <a:pt x="329" y="809"/>
                      </a:lnTo>
                      <a:lnTo>
                        <a:pt x="283" y="842"/>
                      </a:lnTo>
                      <a:lnTo>
                        <a:pt x="237" y="876"/>
                      </a:lnTo>
                      <a:lnTo>
                        <a:pt x="190" y="910"/>
                      </a:lnTo>
                      <a:lnTo>
                        <a:pt x="150" y="942"/>
                      </a:lnTo>
                      <a:lnTo>
                        <a:pt x="118" y="967"/>
                      </a:lnTo>
                      <a:lnTo>
                        <a:pt x="64" y="1041"/>
                      </a:lnTo>
                      <a:lnTo>
                        <a:pt x="63" y="1072"/>
                      </a:lnTo>
                      <a:lnTo>
                        <a:pt x="0" y="1239"/>
                      </a:lnTo>
                      <a:lnTo>
                        <a:pt x="40" y="1591"/>
                      </a:lnTo>
                      <a:lnTo>
                        <a:pt x="40" y="1591"/>
                      </a:lnTo>
                      <a:close/>
                    </a:path>
                  </a:pathLst>
                </a:cu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40280" y="831240"/>
                  <a:ext cx="128880" cy="187560"/>
                </a:xfrm>
                <a:custGeom>
                  <a:avLst/>
                  <a:gdLst/>
                  <a:ahLst/>
                  <a:rect l="l" t="t" r="r" b="b"/>
                  <a:pathLst>
                    <a:path w="489" h="711">
                      <a:moveTo>
                        <a:pt x="0" y="621"/>
                      </a:moveTo>
                      <a:lnTo>
                        <a:pt x="17" y="646"/>
                      </a:lnTo>
                      <a:lnTo>
                        <a:pt x="38" y="669"/>
                      </a:lnTo>
                      <a:lnTo>
                        <a:pt x="69" y="690"/>
                      </a:lnTo>
                      <a:lnTo>
                        <a:pt x="103" y="707"/>
                      </a:lnTo>
                      <a:lnTo>
                        <a:pt x="145" y="711"/>
                      </a:lnTo>
                      <a:lnTo>
                        <a:pt x="244" y="665"/>
                      </a:lnTo>
                      <a:lnTo>
                        <a:pt x="356" y="625"/>
                      </a:lnTo>
                      <a:lnTo>
                        <a:pt x="447" y="405"/>
                      </a:lnTo>
                      <a:lnTo>
                        <a:pt x="489" y="216"/>
                      </a:lnTo>
                      <a:lnTo>
                        <a:pt x="478" y="118"/>
                      </a:lnTo>
                      <a:lnTo>
                        <a:pt x="460" y="44"/>
                      </a:lnTo>
                      <a:lnTo>
                        <a:pt x="447" y="17"/>
                      </a:lnTo>
                      <a:lnTo>
                        <a:pt x="432" y="0"/>
                      </a:lnTo>
                      <a:lnTo>
                        <a:pt x="341" y="4"/>
                      </a:lnTo>
                      <a:lnTo>
                        <a:pt x="286" y="25"/>
                      </a:lnTo>
                      <a:lnTo>
                        <a:pt x="158" y="300"/>
                      </a:lnTo>
                      <a:lnTo>
                        <a:pt x="0" y="621"/>
                      </a:lnTo>
                      <a:lnTo>
                        <a:pt x="0" y="621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35240" y="977040"/>
                  <a:ext cx="72720" cy="41400"/>
                </a:xfrm>
                <a:custGeom>
                  <a:avLst/>
                  <a:gdLst/>
                  <a:ahLst/>
                  <a:rect l="l" t="t" r="r" b="b"/>
                  <a:pathLst>
                    <a:path w="276" h="158">
                      <a:moveTo>
                        <a:pt x="0" y="30"/>
                      </a:moveTo>
                      <a:lnTo>
                        <a:pt x="124" y="0"/>
                      </a:lnTo>
                      <a:lnTo>
                        <a:pt x="143" y="25"/>
                      </a:lnTo>
                      <a:lnTo>
                        <a:pt x="164" y="49"/>
                      </a:lnTo>
                      <a:lnTo>
                        <a:pt x="192" y="72"/>
                      </a:lnTo>
                      <a:lnTo>
                        <a:pt x="276" y="123"/>
                      </a:lnTo>
                      <a:lnTo>
                        <a:pt x="242" y="150"/>
                      </a:lnTo>
                      <a:lnTo>
                        <a:pt x="198" y="158"/>
                      </a:lnTo>
                      <a:lnTo>
                        <a:pt x="145" y="158"/>
                      </a:lnTo>
                      <a:lnTo>
                        <a:pt x="29" y="106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2e4f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725480" y="804240"/>
                  <a:ext cx="293760" cy="233640"/>
                </a:xfrm>
                <a:custGeom>
                  <a:avLst/>
                  <a:gdLst/>
                  <a:ahLst/>
                  <a:rect l="l" t="t" r="r" b="b"/>
                  <a:pathLst>
                    <a:path w="1114" h="888">
                      <a:moveTo>
                        <a:pt x="34" y="888"/>
                      </a:moveTo>
                      <a:lnTo>
                        <a:pt x="51" y="865"/>
                      </a:lnTo>
                      <a:lnTo>
                        <a:pt x="101" y="800"/>
                      </a:lnTo>
                      <a:lnTo>
                        <a:pt x="137" y="755"/>
                      </a:lnTo>
                      <a:lnTo>
                        <a:pt x="178" y="705"/>
                      </a:lnTo>
                      <a:lnTo>
                        <a:pt x="224" y="650"/>
                      </a:lnTo>
                      <a:lnTo>
                        <a:pt x="277" y="593"/>
                      </a:lnTo>
                      <a:lnTo>
                        <a:pt x="334" y="532"/>
                      </a:lnTo>
                      <a:lnTo>
                        <a:pt x="363" y="504"/>
                      </a:lnTo>
                      <a:lnTo>
                        <a:pt x="393" y="473"/>
                      </a:lnTo>
                      <a:lnTo>
                        <a:pt x="426" y="443"/>
                      </a:lnTo>
                      <a:lnTo>
                        <a:pt x="458" y="415"/>
                      </a:lnTo>
                      <a:lnTo>
                        <a:pt x="492" y="386"/>
                      </a:lnTo>
                      <a:lnTo>
                        <a:pt x="525" y="358"/>
                      </a:lnTo>
                      <a:lnTo>
                        <a:pt x="559" y="331"/>
                      </a:lnTo>
                      <a:lnTo>
                        <a:pt x="595" y="304"/>
                      </a:lnTo>
                      <a:lnTo>
                        <a:pt x="629" y="281"/>
                      </a:lnTo>
                      <a:lnTo>
                        <a:pt x="665" y="257"/>
                      </a:lnTo>
                      <a:lnTo>
                        <a:pt x="737" y="217"/>
                      </a:lnTo>
                      <a:lnTo>
                        <a:pt x="808" y="185"/>
                      </a:lnTo>
                      <a:lnTo>
                        <a:pt x="874" y="158"/>
                      </a:lnTo>
                      <a:lnTo>
                        <a:pt x="931" y="137"/>
                      </a:lnTo>
                      <a:lnTo>
                        <a:pt x="1017" y="105"/>
                      </a:lnTo>
                      <a:lnTo>
                        <a:pt x="1101" y="78"/>
                      </a:lnTo>
                      <a:lnTo>
                        <a:pt x="1114" y="80"/>
                      </a:lnTo>
                      <a:lnTo>
                        <a:pt x="1106" y="86"/>
                      </a:lnTo>
                      <a:lnTo>
                        <a:pt x="760" y="61"/>
                      </a:lnTo>
                      <a:lnTo>
                        <a:pt x="348" y="0"/>
                      </a:lnTo>
                      <a:lnTo>
                        <a:pt x="310" y="13"/>
                      </a:lnTo>
                      <a:lnTo>
                        <a:pt x="258" y="80"/>
                      </a:lnTo>
                      <a:lnTo>
                        <a:pt x="232" y="128"/>
                      </a:lnTo>
                      <a:lnTo>
                        <a:pt x="203" y="185"/>
                      </a:lnTo>
                      <a:lnTo>
                        <a:pt x="175" y="247"/>
                      </a:lnTo>
                      <a:lnTo>
                        <a:pt x="146" y="312"/>
                      </a:lnTo>
                      <a:lnTo>
                        <a:pt x="118" y="380"/>
                      </a:lnTo>
                      <a:lnTo>
                        <a:pt x="93" y="451"/>
                      </a:lnTo>
                      <a:lnTo>
                        <a:pt x="47" y="580"/>
                      </a:lnTo>
                      <a:lnTo>
                        <a:pt x="2" y="764"/>
                      </a:lnTo>
                      <a:lnTo>
                        <a:pt x="0" y="808"/>
                      </a:lnTo>
                      <a:lnTo>
                        <a:pt x="2" y="840"/>
                      </a:lnTo>
                      <a:lnTo>
                        <a:pt x="13" y="876"/>
                      </a:lnTo>
                      <a:lnTo>
                        <a:pt x="34" y="888"/>
                      </a:lnTo>
                      <a:lnTo>
                        <a:pt x="34" y="88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71800" y="997560"/>
                  <a:ext cx="57960" cy="126720"/>
                </a:xfrm>
                <a:custGeom>
                  <a:avLst/>
                  <a:gdLst/>
                  <a:ahLst/>
                  <a:rect l="l" t="t" r="r" b="b"/>
                  <a:pathLst>
                    <a:path w="220" h="483">
                      <a:moveTo>
                        <a:pt x="0" y="391"/>
                      </a:moveTo>
                      <a:lnTo>
                        <a:pt x="11" y="458"/>
                      </a:lnTo>
                      <a:lnTo>
                        <a:pt x="30" y="483"/>
                      </a:lnTo>
                      <a:lnTo>
                        <a:pt x="59" y="477"/>
                      </a:lnTo>
                      <a:lnTo>
                        <a:pt x="110" y="422"/>
                      </a:lnTo>
                      <a:lnTo>
                        <a:pt x="133" y="378"/>
                      </a:lnTo>
                      <a:lnTo>
                        <a:pt x="161" y="319"/>
                      </a:lnTo>
                      <a:lnTo>
                        <a:pt x="188" y="258"/>
                      </a:lnTo>
                      <a:lnTo>
                        <a:pt x="205" y="209"/>
                      </a:lnTo>
                      <a:lnTo>
                        <a:pt x="220" y="26"/>
                      </a:lnTo>
                      <a:lnTo>
                        <a:pt x="211" y="13"/>
                      </a:lnTo>
                      <a:lnTo>
                        <a:pt x="194" y="0"/>
                      </a:lnTo>
                      <a:lnTo>
                        <a:pt x="106" y="9"/>
                      </a:lnTo>
                      <a:lnTo>
                        <a:pt x="28" y="209"/>
                      </a:lnTo>
                      <a:lnTo>
                        <a:pt x="0" y="391"/>
                      </a:lnTo>
                      <a:lnTo>
                        <a:pt x="0" y="391"/>
                      </a:lnTo>
                      <a:close/>
                    </a:path>
                  </a:pathLst>
                </a:custGeom>
                <a:solidFill>
                  <a:srgbClr val="607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844280" y="932400"/>
                  <a:ext cx="127080" cy="127440"/>
                </a:xfrm>
                <a:custGeom>
                  <a:avLst/>
                  <a:gdLst/>
                  <a:ahLst/>
                  <a:rect l="l" t="t" r="r" b="b"/>
                  <a:pathLst>
                    <a:path w="481" h="483">
                      <a:moveTo>
                        <a:pt x="63" y="156"/>
                      </a:moveTo>
                      <a:lnTo>
                        <a:pt x="48" y="182"/>
                      </a:lnTo>
                      <a:lnTo>
                        <a:pt x="19" y="245"/>
                      </a:lnTo>
                      <a:lnTo>
                        <a:pt x="0" y="325"/>
                      </a:lnTo>
                      <a:lnTo>
                        <a:pt x="17" y="401"/>
                      </a:lnTo>
                      <a:lnTo>
                        <a:pt x="46" y="431"/>
                      </a:lnTo>
                      <a:lnTo>
                        <a:pt x="82" y="454"/>
                      </a:lnTo>
                      <a:lnTo>
                        <a:pt x="171" y="479"/>
                      </a:lnTo>
                      <a:lnTo>
                        <a:pt x="308" y="483"/>
                      </a:lnTo>
                      <a:lnTo>
                        <a:pt x="402" y="450"/>
                      </a:lnTo>
                      <a:lnTo>
                        <a:pt x="468" y="424"/>
                      </a:lnTo>
                      <a:lnTo>
                        <a:pt x="481" y="372"/>
                      </a:lnTo>
                      <a:lnTo>
                        <a:pt x="236" y="388"/>
                      </a:lnTo>
                      <a:lnTo>
                        <a:pt x="187" y="235"/>
                      </a:lnTo>
                      <a:lnTo>
                        <a:pt x="242" y="64"/>
                      </a:lnTo>
                      <a:lnTo>
                        <a:pt x="289" y="0"/>
                      </a:lnTo>
                      <a:lnTo>
                        <a:pt x="202" y="30"/>
                      </a:lnTo>
                      <a:lnTo>
                        <a:pt x="126" y="78"/>
                      </a:lnTo>
                      <a:lnTo>
                        <a:pt x="63" y="156"/>
                      </a:lnTo>
                      <a:lnTo>
                        <a:pt x="63" y="156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311560" y="875880"/>
                  <a:ext cx="32400" cy="83160"/>
                </a:xfrm>
                <a:custGeom>
                  <a:avLst/>
                  <a:gdLst/>
                  <a:ahLst/>
                  <a:rect l="l" t="t" r="r" b="b"/>
                  <a:pathLst>
                    <a:path w="124" h="316">
                      <a:moveTo>
                        <a:pt x="48" y="32"/>
                      </a:moveTo>
                      <a:lnTo>
                        <a:pt x="21" y="93"/>
                      </a:lnTo>
                      <a:lnTo>
                        <a:pt x="0" y="196"/>
                      </a:lnTo>
                      <a:lnTo>
                        <a:pt x="12" y="302"/>
                      </a:lnTo>
                      <a:lnTo>
                        <a:pt x="33" y="316"/>
                      </a:lnTo>
                      <a:lnTo>
                        <a:pt x="63" y="287"/>
                      </a:lnTo>
                      <a:lnTo>
                        <a:pt x="107" y="182"/>
                      </a:lnTo>
                      <a:lnTo>
                        <a:pt x="124" y="19"/>
                      </a:lnTo>
                      <a:lnTo>
                        <a:pt x="103" y="0"/>
                      </a:lnTo>
                      <a:lnTo>
                        <a:pt x="48" y="32"/>
                      </a:lnTo>
                      <a:lnTo>
                        <a:pt x="48" y="32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012760" y="633960"/>
                  <a:ext cx="316800" cy="100080"/>
                </a:xfrm>
                <a:custGeom>
                  <a:avLst/>
                  <a:gdLst/>
                  <a:ahLst/>
                  <a:rect l="l" t="t" r="r" b="b"/>
                  <a:pathLst>
                    <a:path w="1204" h="380">
                      <a:moveTo>
                        <a:pt x="0" y="211"/>
                      </a:moveTo>
                      <a:lnTo>
                        <a:pt x="65" y="194"/>
                      </a:lnTo>
                      <a:lnTo>
                        <a:pt x="215" y="152"/>
                      </a:lnTo>
                      <a:lnTo>
                        <a:pt x="303" y="125"/>
                      </a:lnTo>
                      <a:lnTo>
                        <a:pt x="388" y="99"/>
                      </a:lnTo>
                      <a:lnTo>
                        <a:pt x="466" y="72"/>
                      </a:lnTo>
                      <a:lnTo>
                        <a:pt x="525" y="47"/>
                      </a:lnTo>
                      <a:lnTo>
                        <a:pt x="576" y="28"/>
                      </a:lnTo>
                      <a:lnTo>
                        <a:pt x="630" y="13"/>
                      </a:lnTo>
                      <a:lnTo>
                        <a:pt x="736" y="0"/>
                      </a:lnTo>
                      <a:lnTo>
                        <a:pt x="900" y="26"/>
                      </a:lnTo>
                      <a:lnTo>
                        <a:pt x="930" y="47"/>
                      </a:lnTo>
                      <a:lnTo>
                        <a:pt x="968" y="78"/>
                      </a:lnTo>
                      <a:lnTo>
                        <a:pt x="1010" y="112"/>
                      </a:lnTo>
                      <a:lnTo>
                        <a:pt x="1052" y="150"/>
                      </a:lnTo>
                      <a:lnTo>
                        <a:pt x="1092" y="186"/>
                      </a:lnTo>
                      <a:lnTo>
                        <a:pt x="1124" y="215"/>
                      </a:lnTo>
                      <a:lnTo>
                        <a:pt x="1154" y="243"/>
                      </a:lnTo>
                      <a:lnTo>
                        <a:pt x="1204" y="304"/>
                      </a:lnTo>
                      <a:lnTo>
                        <a:pt x="1147" y="327"/>
                      </a:lnTo>
                      <a:lnTo>
                        <a:pt x="1073" y="380"/>
                      </a:lnTo>
                      <a:lnTo>
                        <a:pt x="1059" y="380"/>
                      </a:lnTo>
                      <a:lnTo>
                        <a:pt x="1052" y="346"/>
                      </a:lnTo>
                      <a:lnTo>
                        <a:pt x="1046" y="281"/>
                      </a:lnTo>
                      <a:lnTo>
                        <a:pt x="917" y="173"/>
                      </a:lnTo>
                      <a:lnTo>
                        <a:pt x="651" y="179"/>
                      </a:lnTo>
                      <a:lnTo>
                        <a:pt x="413" y="264"/>
                      </a:lnTo>
                      <a:lnTo>
                        <a:pt x="0" y="211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950120" y="1106640"/>
                  <a:ext cx="136080" cy="79920"/>
                </a:xfrm>
                <a:custGeom>
                  <a:avLst/>
                  <a:gdLst/>
                  <a:ahLst/>
                  <a:rect l="l" t="t" r="r" b="b"/>
                  <a:pathLst>
                    <a:path w="517" h="304">
                      <a:moveTo>
                        <a:pt x="0" y="133"/>
                      </a:moveTo>
                      <a:lnTo>
                        <a:pt x="91" y="245"/>
                      </a:lnTo>
                      <a:lnTo>
                        <a:pt x="279" y="304"/>
                      </a:lnTo>
                      <a:lnTo>
                        <a:pt x="410" y="276"/>
                      </a:lnTo>
                      <a:lnTo>
                        <a:pt x="517" y="255"/>
                      </a:lnTo>
                      <a:lnTo>
                        <a:pt x="425" y="257"/>
                      </a:lnTo>
                      <a:lnTo>
                        <a:pt x="338" y="217"/>
                      </a:lnTo>
                      <a:lnTo>
                        <a:pt x="268" y="131"/>
                      </a:lnTo>
                      <a:lnTo>
                        <a:pt x="228" y="0"/>
                      </a:lnTo>
                      <a:lnTo>
                        <a:pt x="216" y="27"/>
                      </a:lnTo>
                      <a:lnTo>
                        <a:pt x="192" y="52"/>
                      </a:lnTo>
                      <a:lnTo>
                        <a:pt x="152" y="72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314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638360" y="799920"/>
                  <a:ext cx="118080" cy="70560"/>
                </a:xfrm>
                <a:custGeom>
                  <a:avLst/>
                  <a:gdLst/>
                  <a:ahLst/>
                  <a:rect l="l" t="t" r="r" b="b"/>
                  <a:pathLst>
                    <a:path w="447" h="266">
                      <a:moveTo>
                        <a:pt x="0" y="260"/>
                      </a:moveTo>
                      <a:lnTo>
                        <a:pt x="36" y="236"/>
                      </a:lnTo>
                      <a:lnTo>
                        <a:pt x="74" y="211"/>
                      </a:lnTo>
                      <a:lnTo>
                        <a:pt x="122" y="179"/>
                      </a:lnTo>
                      <a:lnTo>
                        <a:pt x="173" y="146"/>
                      </a:lnTo>
                      <a:lnTo>
                        <a:pt x="226" y="112"/>
                      </a:lnTo>
                      <a:lnTo>
                        <a:pt x="274" y="82"/>
                      </a:lnTo>
                      <a:lnTo>
                        <a:pt x="314" y="59"/>
                      </a:lnTo>
                      <a:lnTo>
                        <a:pt x="373" y="27"/>
                      </a:lnTo>
                      <a:lnTo>
                        <a:pt x="414" y="8"/>
                      </a:lnTo>
                      <a:lnTo>
                        <a:pt x="447" y="0"/>
                      </a:lnTo>
                      <a:lnTo>
                        <a:pt x="418" y="15"/>
                      </a:lnTo>
                      <a:lnTo>
                        <a:pt x="350" y="59"/>
                      </a:lnTo>
                      <a:lnTo>
                        <a:pt x="308" y="89"/>
                      </a:lnTo>
                      <a:lnTo>
                        <a:pt x="264" y="123"/>
                      </a:lnTo>
                      <a:lnTo>
                        <a:pt x="222" y="160"/>
                      </a:lnTo>
                      <a:lnTo>
                        <a:pt x="184" y="198"/>
                      </a:lnTo>
                      <a:lnTo>
                        <a:pt x="154" y="230"/>
                      </a:lnTo>
                      <a:lnTo>
                        <a:pt x="129" y="251"/>
                      </a:lnTo>
                      <a:lnTo>
                        <a:pt x="97" y="266"/>
                      </a:lnTo>
                      <a:lnTo>
                        <a:pt x="76" y="258"/>
                      </a:lnTo>
                      <a:lnTo>
                        <a:pt x="0" y="260"/>
                      </a:lnTo>
                      <a:lnTo>
                        <a:pt x="0" y="2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638000" y="775080"/>
                  <a:ext cx="165240" cy="214920"/>
                </a:xfrm>
                <a:custGeom>
                  <a:avLst/>
                  <a:gdLst/>
                  <a:ahLst/>
                  <a:rect l="l" t="t" r="r" b="b"/>
                  <a:pathLst>
                    <a:path w="629" h="815">
                      <a:moveTo>
                        <a:pt x="224" y="363"/>
                      </a:moveTo>
                      <a:lnTo>
                        <a:pt x="245" y="526"/>
                      </a:lnTo>
                      <a:lnTo>
                        <a:pt x="213" y="587"/>
                      </a:lnTo>
                      <a:lnTo>
                        <a:pt x="177" y="648"/>
                      </a:lnTo>
                      <a:lnTo>
                        <a:pt x="152" y="673"/>
                      </a:lnTo>
                      <a:lnTo>
                        <a:pt x="122" y="692"/>
                      </a:lnTo>
                      <a:lnTo>
                        <a:pt x="42" y="703"/>
                      </a:lnTo>
                      <a:lnTo>
                        <a:pt x="8" y="709"/>
                      </a:lnTo>
                      <a:lnTo>
                        <a:pt x="0" y="726"/>
                      </a:lnTo>
                      <a:lnTo>
                        <a:pt x="15" y="751"/>
                      </a:lnTo>
                      <a:lnTo>
                        <a:pt x="42" y="777"/>
                      </a:lnTo>
                      <a:lnTo>
                        <a:pt x="78" y="802"/>
                      </a:lnTo>
                      <a:lnTo>
                        <a:pt x="118" y="815"/>
                      </a:lnTo>
                      <a:lnTo>
                        <a:pt x="181" y="793"/>
                      </a:lnTo>
                      <a:lnTo>
                        <a:pt x="209" y="739"/>
                      </a:lnTo>
                      <a:lnTo>
                        <a:pt x="230" y="703"/>
                      </a:lnTo>
                      <a:lnTo>
                        <a:pt x="253" y="661"/>
                      </a:lnTo>
                      <a:lnTo>
                        <a:pt x="278" y="616"/>
                      </a:lnTo>
                      <a:lnTo>
                        <a:pt x="304" y="566"/>
                      </a:lnTo>
                      <a:lnTo>
                        <a:pt x="331" y="515"/>
                      </a:lnTo>
                      <a:lnTo>
                        <a:pt x="357" y="466"/>
                      </a:lnTo>
                      <a:lnTo>
                        <a:pt x="384" y="414"/>
                      </a:lnTo>
                      <a:lnTo>
                        <a:pt x="409" y="367"/>
                      </a:lnTo>
                      <a:lnTo>
                        <a:pt x="434" y="323"/>
                      </a:lnTo>
                      <a:lnTo>
                        <a:pt x="453" y="285"/>
                      </a:lnTo>
                      <a:lnTo>
                        <a:pt x="483" y="228"/>
                      </a:lnTo>
                      <a:lnTo>
                        <a:pt x="494" y="207"/>
                      </a:lnTo>
                      <a:lnTo>
                        <a:pt x="629" y="76"/>
                      </a:lnTo>
                      <a:lnTo>
                        <a:pt x="614" y="0"/>
                      </a:lnTo>
                      <a:lnTo>
                        <a:pt x="595" y="13"/>
                      </a:lnTo>
                      <a:lnTo>
                        <a:pt x="548" y="49"/>
                      </a:lnTo>
                      <a:lnTo>
                        <a:pt x="515" y="72"/>
                      </a:lnTo>
                      <a:lnTo>
                        <a:pt x="479" y="99"/>
                      </a:lnTo>
                      <a:lnTo>
                        <a:pt x="441" y="129"/>
                      </a:lnTo>
                      <a:lnTo>
                        <a:pt x="401" y="160"/>
                      </a:lnTo>
                      <a:lnTo>
                        <a:pt x="363" y="192"/>
                      </a:lnTo>
                      <a:lnTo>
                        <a:pt x="327" y="222"/>
                      </a:lnTo>
                      <a:lnTo>
                        <a:pt x="295" y="253"/>
                      </a:lnTo>
                      <a:lnTo>
                        <a:pt x="266" y="281"/>
                      </a:lnTo>
                      <a:lnTo>
                        <a:pt x="224" y="363"/>
                      </a:lnTo>
                      <a:lnTo>
                        <a:pt x="224" y="3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848600" y="599760"/>
                  <a:ext cx="303480" cy="81000"/>
                </a:xfrm>
                <a:custGeom>
                  <a:avLst/>
                  <a:gdLst/>
                  <a:ahLst/>
                  <a:rect l="l" t="t" r="r" b="b"/>
                  <a:pathLst>
                    <a:path w="1152" h="308">
                      <a:moveTo>
                        <a:pt x="32" y="237"/>
                      </a:moveTo>
                      <a:lnTo>
                        <a:pt x="536" y="308"/>
                      </a:lnTo>
                      <a:lnTo>
                        <a:pt x="473" y="271"/>
                      </a:lnTo>
                      <a:lnTo>
                        <a:pt x="450" y="232"/>
                      </a:lnTo>
                      <a:lnTo>
                        <a:pt x="460" y="211"/>
                      </a:lnTo>
                      <a:lnTo>
                        <a:pt x="486" y="190"/>
                      </a:lnTo>
                      <a:lnTo>
                        <a:pt x="526" y="167"/>
                      </a:lnTo>
                      <a:lnTo>
                        <a:pt x="566" y="150"/>
                      </a:lnTo>
                      <a:lnTo>
                        <a:pt x="654" y="119"/>
                      </a:lnTo>
                      <a:lnTo>
                        <a:pt x="747" y="97"/>
                      </a:lnTo>
                      <a:lnTo>
                        <a:pt x="849" y="76"/>
                      </a:lnTo>
                      <a:lnTo>
                        <a:pt x="1152" y="47"/>
                      </a:lnTo>
                      <a:lnTo>
                        <a:pt x="1011" y="15"/>
                      </a:lnTo>
                      <a:lnTo>
                        <a:pt x="785" y="3"/>
                      </a:lnTo>
                      <a:lnTo>
                        <a:pt x="650" y="0"/>
                      </a:lnTo>
                      <a:lnTo>
                        <a:pt x="448" y="36"/>
                      </a:lnTo>
                      <a:lnTo>
                        <a:pt x="237" y="102"/>
                      </a:lnTo>
                      <a:lnTo>
                        <a:pt x="38" y="190"/>
                      </a:lnTo>
                      <a:lnTo>
                        <a:pt x="0" y="264"/>
                      </a:lnTo>
                      <a:lnTo>
                        <a:pt x="32" y="237"/>
                      </a:lnTo>
                      <a:lnTo>
                        <a:pt x="32" y="237"/>
                      </a:lnTo>
                      <a:close/>
                    </a:path>
                  </a:pathLst>
                </a:custGeom>
                <a:solidFill>
                  <a:srgbClr val="fff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177640" y="783720"/>
                  <a:ext cx="225000" cy="225360"/>
                </a:xfrm>
                <a:custGeom>
                  <a:avLst/>
                  <a:gdLst/>
                  <a:ahLst/>
                  <a:rect l="l" t="t" r="r" b="b"/>
                  <a:pathLst>
                    <a:path w="853" h="856">
                      <a:moveTo>
                        <a:pt x="5" y="804"/>
                      </a:moveTo>
                      <a:lnTo>
                        <a:pt x="87" y="578"/>
                      </a:lnTo>
                      <a:lnTo>
                        <a:pt x="89" y="650"/>
                      </a:lnTo>
                      <a:lnTo>
                        <a:pt x="169" y="512"/>
                      </a:lnTo>
                      <a:lnTo>
                        <a:pt x="152" y="629"/>
                      </a:lnTo>
                      <a:lnTo>
                        <a:pt x="230" y="464"/>
                      </a:lnTo>
                      <a:lnTo>
                        <a:pt x="243" y="588"/>
                      </a:lnTo>
                      <a:lnTo>
                        <a:pt x="274" y="390"/>
                      </a:lnTo>
                      <a:lnTo>
                        <a:pt x="310" y="232"/>
                      </a:lnTo>
                      <a:lnTo>
                        <a:pt x="332" y="166"/>
                      </a:lnTo>
                      <a:lnTo>
                        <a:pt x="359" y="114"/>
                      </a:lnTo>
                      <a:lnTo>
                        <a:pt x="388" y="80"/>
                      </a:lnTo>
                      <a:lnTo>
                        <a:pt x="416" y="53"/>
                      </a:lnTo>
                      <a:lnTo>
                        <a:pt x="469" y="23"/>
                      </a:lnTo>
                      <a:lnTo>
                        <a:pt x="524" y="10"/>
                      </a:lnTo>
                      <a:lnTo>
                        <a:pt x="589" y="0"/>
                      </a:lnTo>
                      <a:lnTo>
                        <a:pt x="644" y="12"/>
                      </a:lnTo>
                      <a:lnTo>
                        <a:pt x="694" y="55"/>
                      </a:lnTo>
                      <a:lnTo>
                        <a:pt x="736" y="131"/>
                      </a:lnTo>
                      <a:lnTo>
                        <a:pt x="770" y="217"/>
                      </a:lnTo>
                      <a:lnTo>
                        <a:pt x="806" y="312"/>
                      </a:lnTo>
                      <a:lnTo>
                        <a:pt x="853" y="420"/>
                      </a:lnTo>
                      <a:lnTo>
                        <a:pt x="682" y="550"/>
                      </a:lnTo>
                      <a:lnTo>
                        <a:pt x="690" y="481"/>
                      </a:lnTo>
                      <a:lnTo>
                        <a:pt x="701" y="274"/>
                      </a:lnTo>
                      <a:lnTo>
                        <a:pt x="652" y="183"/>
                      </a:lnTo>
                      <a:lnTo>
                        <a:pt x="570" y="185"/>
                      </a:lnTo>
                      <a:lnTo>
                        <a:pt x="545" y="207"/>
                      </a:lnTo>
                      <a:lnTo>
                        <a:pt x="490" y="264"/>
                      </a:lnTo>
                      <a:lnTo>
                        <a:pt x="433" y="344"/>
                      </a:lnTo>
                      <a:lnTo>
                        <a:pt x="399" y="432"/>
                      </a:lnTo>
                      <a:lnTo>
                        <a:pt x="372" y="608"/>
                      </a:lnTo>
                      <a:lnTo>
                        <a:pt x="357" y="698"/>
                      </a:lnTo>
                      <a:lnTo>
                        <a:pt x="355" y="770"/>
                      </a:lnTo>
                      <a:lnTo>
                        <a:pt x="112" y="852"/>
                      </a:lnTo>
                      <a:lnTo>
                        <a:pt x="0" y="856"/>
                      </a:lnTo>
                      <a:lnTo>
                        <a:pt x="5" y="804"/>
                      </a:lnTo>
                      <a:lnTo>
                        <a:pt x="5" y="80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253240" y="773640"/>
                  <a:ext cx="105840" cy="99360"/>
                </a:xfrm>
                <a:custGeom>
                  <a:avLst/>
                  <a:gdLst/>
                  <a:ahLst/>
                  <a:rect l="l" t="t" r="r" b="b"/>
                  <a:pathLst>
                    <a:path w="403" h="378">
                      <a:moveTo>
                        <a:pt x="0" y="378"/>
                      </a:moveTo>
                      <a:lnTo>
                        <a:pt x="9" y="244"/>
                      </a:lnTo>
                      <a:lnTo>
                        <a:pt x="25" y="186"/>
                      </a:lnTo>
                      <a:lnTo>
                        <a:pt x="47" y="129"/>
                      </a:lnTo>
                      <a:lnTo>
                        <a:pt x="84" y="78"/>
                      </a:lnTo>
                      <a:lnTo>
                        <a:pt x="106" y="55"/>
                      </a:lnTo>
                      <a:lnTo>
                        <a:pt x="133" y="34"/>
                      </a:lnTo>
                      <a:lnTo>
                        <a:pt x="186" y="8"/>
                      </a:lnTo>
                      <a:lnTo>
                        <a:pt x="238" y="0"/>
                      </a:lnTo>
                      <a:lnTo>
                        <a:pt x="323" y="23"/>
                      </a:lnTo>
                      <a:lnTo>
                        <a:pt x="380" y="63"/>
                      </a:lnTo>
                      <a:lnTo>
                        <a:pt x="403" y="84"/>
                      </a:lnTo>
                      <a:lnTo>
                        <a:pt x="386" y="74"/>
                      </a:lnTo>
                      <a:lnTo>
                        <a:pt x="340" y="65"/>
                      </a:lnTo>
                      <a:lnTo>
                        <a:pt x="272" y="76"/>
                      </a:lnTo>
                      <a:lnTo>
                        <a:pt x="182" y="133"/>
                      </a:lnTo>
                      <a:lnTo>
                        <a:pt x="99" y="221"/>
                      </a:lnTo>
                      <a:lnTo>
                        <a:pt x="42" y="299"/>
                      </a:lnTo>
                      <a:lnTo>
                        <a:pt x="0" y="378"/>
                      </a:lnTo>
                      <a:lnTo>
                        <a:pt x="0" y="37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917720" y="845280"/>
                  <a:ext cx="259560" cy="230760"/>
                </a:xfrm>
                <a:custGeom>
                  <a:avLst/>
                  <a:gdLst/>
                  <a:ahLst/>
                  <a:rect l="l" t="t" r="r" b="b"/>
                  <a:pathLst>
                    <a:path w="985" h="876">
                      <a:moveTo>
                        <a:pt x="0" y="876"/>
                      </a:moveTo>
                      <a:lnTo>
                        <a:pt x="40" y="852"/>
                      </a:lnTo>
                      <a:lnTo>
                        <a:pt x="82" y="823"/>
                      </a:lnTo>
                      <a:lnTo>
                        <a:pt x="129" y="789"/>
                      </a:lnTo>
                      <a:lnTo>
                        <a:pt x="179" y="751"/>
                      </a:lnTo>
                      <a:lnTo>
                        <a:pt x="224" y="713"/>
                      </a:lnTo>
                      <a:lnTo>
                        <a:pt x="279" y="644"/>
                      </a:lnTo>
                      <a:lnTo>
                        <a:pt x="321" y="354"/>
                      </a:lnTo>
                      <a:lnTo>
                        <a:pt x="342" y="259"/>
                      </a:lnTo>
                      <a:lnTo>
                        <a:pt x="371" y="171"/>
                      </a:lnTo>
                      <a:lnTo>
                        <a:pt x="390" y="131"/>
                      </a:lnTo>
                      <a:lnTo>
                        <a:pt x="413" y="97"/>
                      </a:lnTo>
                      <a:lnTo>
                        <a:pt x="437" y="67"/>
                      </a:lnTo>
                      <a:lnTo>
                        <a:pt x="466" y="44"/>
                      </a:lnTo>
                      <a:lnTo>
                        <a:pt x="525" y="15"/>
                      </a:lnTo>
                      <a:lnTo>
                        <a:pt x="578" y="0"/>
                      </a:lnTo>
                      <a:lnTo>
                        <a:pt x="664" y="8"/>
                      </a:lnTo>
                      <a:lnTo>
                        <a:pt x="732" y="44"/>
                      </a:lnTo>
                      <a:lnTo>
                        <a:pt x="749" y="53"/>
                      </a:lnTo>
                      <a:lnTo>
                        <a:pt x="798" y="78"/>
                      </a:lnTo>
                      <a:lnTo>
                        <a:pt x="848" y="105"/>
                      </a:lnTo>
                      <a:lnTo>
                        <a:pt x="873" y="116"/>
                      </a:lnTo>
                      <a:lnTo>
                        <a:pt x="958" y="257"/>
                      </a:lnTo>
                      <a:lnTo>
                        <a:pt x="985" y="378"/>
                      </a:lnTo>
                      <a:lnTo>
                        <a:pt x="899" y="285"/>
                      </a:lnTo>
                      <a:lnTo>
                        <a:pt x="728" y="289"/>
                      </a:lnTo>
                      <a:lnTo>
                        <a:pt x="451" y="635"/>
                      </a:lnTo>
                      <a:lnTo>
                        <a:pt x="274" y="863"/>
                      </a:lnTo>
                      <a:lnTo>
                        <a:pt x="0" y="876"/>
                      </a:lnTo>
                      <a:lnTo>
                        <a:pt x="0" y="876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061000" y="674280"/>
                  <a:ext cx="238320" cy="175680"/>
                </a:xfrm>
                <a:custGeom>
                  <a:avLst/>
                  <a:gdLst/>
                  <a:ahLst/>
                  <a:rect l="l" t="t" r="r" b="b"/>
                  <a:pathLst>
                    <a:path w="905" h="667">
                      <a:moveTo>
                        <a:pt x="0" y="561"/>
                      </a:moveTo>
                      <a:lnTo>
                        <a:pt x="146" y="667"/>
                      </a:lnTo>
                      <a:lnTo>
                        <a:pt x="585" y="460"/>
                      </a:lnTo>
                      <a:lnTo>
                        <a:pt x="905" y="207"/>
                      </a:lnTo>
                      <a:lnTo>
                        <a:pt x="817" y="70"/>
                      </a:lnTo>
                      <a:lnTo>
                        <a:pt x="701" y="4"/>
                      </a:lnTo>
                      <a:lnTo>
                        <a:pt x="540" y="0"/>
                      </a:lnTo>
                      <a:lnTo>
                        <a:pt x="405" y="46"/>
                      </a:lnTo>
                      <a:lnTo>
                        <a:pt x="228" y="131"/>
                      </a:lnTo>
                      <a:lnTo>
                        <a:pt x="95" y="253"/>
                      </a:lnTo>
                      <a:lnTo>
                        <a:pt x="36" y="435"/>
                      </a:lnTo>
                      <a:lnTo>
                        <a:pt x="0" y="561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895400" y="918000"/>
                  <a:ext cx="107280" cy="117360"/>
                </a:xfrm>
                <a:custGeom>
                  <a:avLst/>
                  <a:gdLst/>
                  <a:ahLst/>
                  <a:rect l="l" t="t" r="r" b="b"/>
                  <a:pathLst>
                    <a:path w="407" h="446">
                      <a:moveTo>
                        <a:pt x="0" y="328"/>
                      </a:moveTo>
                      <a:lnTo>
                        <a:pt x="65" y="93"/>
                      </a:lnTo>
                      <a:lnTo>
                        <a:pt x="190" y="11"/>
                      </a:lnTo>
                      <a:lnTo>
                        <a:pt x="236" y="3"/>
                      </a:lnTo>
                      <a:lnTo>
                        <a:pt x="301" y="0"/>
                      </a:lnTo>
                      <a:lnTo>
                        <a:pt x="350" y="15"/>
                      </a:lnTo>
                      <a:lnTo>
                        <a:pt x="382" y="59"/>
                      </a:lnTo>
                      <a:lnTo>
                        <a:pt x="407" y="205"/>
                      </a:lnTo>
                      <a:lnTo>
                        <a:pt x="400" y="277"/>
                      </a:lnTo>
                      <a:lnTo>
                        <a:pt x="373" y="330"/>
                      </a:lnTo>
                      <a:lnTo>
                        <a:pt x="348" y="351"/>
                      </a:lnTo>
                      <a:lnTo>
                        <a:pt x="320" y="372"/>
                      </a:lnTo>
                      <a:lnTo>
                        <a:pt x="259" y="408"/>
                      </a:lnTo>
                      <a:lnTo>
                        <a:pt x="209" y="435"/>
                      </a:lnTo>
                      <a:lnTo>
                        <a:pt x="189" y="446"/>
                      </a:lnTo>
                      <a:lnTo>
                        <a:pt x="38" y="412"/>
                      </a:lnTo>
                      <a:lnTo>
                        <a:pt x="0" y="328"/>
                      </a:lnTo>
                      <a:lnTo>
                        <a:pt x="0" y="328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626840" y="865800"/>
                  <a:ext cx="79560" cy="96840"/>
                </a:xfrm>
                <a:custGeom>
                  <a:avLst/>
                  <a:gdLst/>
                  <a:ahLst/>
                  <a:rect l="l" t="t" r="r" b="b"/>
                  <a:pathLst>
                    <a:path w="303" h="369">
                      <a:moveTo>
                        <a:pt x="0" y="257"/>
                      </a:moveTo>
                      <a:lnTo>
                        <a:pt x="8" y="171"/>
                      </a:lnTo>
                      <a:lnTo>
                        <a:pt x="29" y="99"/>
                      </a:lnTo>
                      <a:lnTo>
                        <a:pt x="44" y="65"/>
                      </a:lnTo>
                      <a:lnTo>
                        <a:pt x="67" y="38"/>
                      </a:lnTo>
                      <a:lnTo>
                        <a:pt x="105" y="6"/>
                      </a:lnTo>
                      <a:lnTo>
                        <a:pt x="124" y="0"/>
                      </a:lnTo>
                      <a:lnTo>
                        <a:pt x="131" y="9"/>
                      </a:lnTo>
                      <a:lnTo>
                        <a:pt x="238" y="25"/>
                      </a:lnTo>
                      <a:lnTo>
                        <a:pt x="303" y="122"/>
                      </a:lnTo>
                      <a:lnTo>
                        <a:pt x="247" y="253"/>
                      </a:lnTo>
                      <a:lnTo>
                        <a:pt x="122" y="369"/>
                      </a:lnTo>
                      <a:lnTo>
                        <a:pt x="0" y="257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132640" y="684000"/>
                  <a:ext cx="166680" cy="146880"/>
                </a:xfrm>
                <a:custGeom>
                  <a:avLst/>
                  <a:gdLst/>
                  <a:ahLst/>
                  <a:rect l="l" t="t" r="r" b="b"/>
                  <a:pathLst>
                    <a:path w="633" h="559">
                      <a:moveTo>
                        <a:pt x="0" y="559"/>
                      </a:moveTo>
                      <a:lnTo>
                        <a:pt x="24" y="542"/>
                      </a:lnTo>
                      <a:lnTo>
                        <a:pt x="55" y="521"/>
                      </a:lnTo>
                      <a:lnTo>
                        <a:pt x="93" y="494"/>
                      </a:lnTo>
                      <a:lnTo>
                        <a:pt x="137" y="464"/>
                      </a:lnTo>
                      <a:lnTo>
                        <a:pt x="186" y="428"/>
                      </a:lnTo>
                      <a:lnTo>
                        <a:pt x="237" y="388"/>
                      </a:lnTo>
                      <a:lnTo>
                        <a:pt x="289" y="344"/>
                      </a:lnTo>
                      <a:lnTo>
                        <a:pt x="340" y="298"/>
                      </a:lnTo>
                      <a:lnTo>
                        <a:pt x="387" y="253"/>
                      </a:lnTo>
                      <a:lnTo>
                        <a:pt x="429" y="205"/>
                      </a:lnTo>
                      <a:lnTo>
                        <a:pt x="464" y="160"/>
                      </a:lnTo>
                      <a:lnTo>
                        <a:pt x="502" y="74"/>
                      </a:lnTo>
                      <a:lnTo>
                        <a:pt x="486" y="0"/>
                      </a:lnTo>
                      <a:lnTo>
                        <a:pt x="513" y="19"/>
                      </a:lnTo>
                      <a:lnTo>
                        <a:pt x="540" y="40"/>
                      </a:lnTo>
                      <a:lnTo>
                        <a:pt x="570" y="66"/>
                      </a:lnTo>
                      <a:lnTo>
                        <a:pt x="633" y="158"/>
                      </a:lnTo>
                      <a:lnTo>
                        <a:pt x="604" y="188"/>
                      </a:lnTo>
                      <a:lnTo>
                        <a:pt x="572" y="224"/>
                      </a:lnTo>
                      <a:lnTo>
                        <a:pt x="541" y="253"/>
                      </a:lnTo>
                      <a:lnTo>
                        <a:pt x="530" y="266"/>
                      </a:lnTo>
                      <a:lnTo>
                        <a:pt x="194" y="477"/>
                      </a:lnTo>
                      <a:lnTo>
                        <a:pt x="0" y="559"/>
                      </a:lnTo>
                      <a:lnTo>
                        <a:pt x="0" y="559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600200" y="992520"/>
                  <a:ext cx="411840" cy="150480"/>
                </a:xfrm>
                <a:custGeom>
                  <a:avLst/>
                  <a:gdLst/>
                  <a:ahLst/>
                  <a:rect l="l" t="t" r="r" b="b"/>
                  <a:pathLst>
                    <a:path w="1561" h="570">
                      <a:moveTo>
                        <a:pt x="6" y="127"/>
                      </a:moveTo>
                      <a:lnTo>
                        <a:pt x="0" y="61"/>
                      </a:lnTo>
                      <a:lnTo>
                        <a:pt x="10" y="15"/>
                      </a:lnTo>
                      <a:lnTo>
                        <a:pt x="42" y="0"/>
                      </a:lnTo>
                      <a:lnTo>
                        <a:pt x="96" y="32"/>
                      </a:lnTo>
                      <a:lnTo>
                        <a:pt x="151" y="87"/>
                      </a:lnTo>
                      <a:lnTo>
                        <a:pt x="192" y="144"/>
                      </a:lnTo>
                      <a:lnTo>
                        <a:pt x="208" y="167"/>
                      </a:lnTo>
                      <a:lnTo>
                        <a:pt x="225" y="180"/>
                      </a:lnTo>
                      <a:lnTo>
                        <a:pt x="270" y="213"/>
                      </a:lnTo>
                      <a:lnTo>
                        <a:pt x="303" y="234"/>
                      </a:lnTo>
                      <a:lnTo>
                        <a:pt x="341" y="256"/>
                      </a:lnTo>
                      <a:lnTo>
                        <a:pt x="383" y="281"/>
                      </a:lnTo>
                      <a:lnTo>
                        <a:pt x="430" y="306"/>
                      </a:lnTo>
                      <a:lnTo>
                        <a:pt x="480" y="331"/>
                      </a:lnTo>
                      <a:lnTo>
                        <a:pt x="533" y="353"/>
                      </a:lnTo>
                      <a:lnTo>
                        <a:pt x="588" y="374"/>
                      </a:lnTo>
                      <a:lnTo>
                        <a:pt x="643" y="391"/>
                      </a:lnTo>
                      <a:lnTo>
                        <a:pt x="759" y="412"/>
                      </a:lnTo>
                      <a:lnTo>
                        <a:pt x="871" y="409"/>
                      </a:lnTo>
                      <a:lnTo>
                        <a:pt x="1162" y="374"/>
                      </a:lnTo>
                      <a:lnTo>
                        <a:pt x="1232" y="376"/>
                      </a:lnTo>
                      <a:lnTo>
                        <a:pt x="1314" y="353"/>
                      </a:lnTo>
                      <a:lnTo>
                        <a:pt x="1404" y="327"/>
                      </a:lnTo>
                      <a:lnTo>
                        <a:pt x="1425" y="313"/>
                      </a:lnTo>
                      <a:lnTo>
                        <a:pt x="1461" y="294"/>
                      </a:lnTo>
                      <a:lnTo>
                        <a:pt x="1502" y="281"/>
                      </a:lnTo>
                      <a:lnTo>
                        <a:pt x="1537" y="281"/>
                      </a:lnTo>
                      <a:lnTo>
                        <a:pt x="1561" y="367"/>
                      </a:lnTo>
                      <a:lnTo>
                        <a:pt x="1552" y="454"/>
                      </a:lnTo>
                      <a:lnTo>
                        <a:pt x="1535" y="488"/>
                      </a:lnTo>
                      <a:lnTo>
                        <a:pt x="1525" y="507"/>
                      </a:lnTo>
                      <a:lnTo>
                        <a:pt x="1198" y="570"/>
                      </a:lnTo>
                      <a:lnTo>
                        <a:pt x="727" y="532"/>
                      </a:lnTo>
                      <a:lnTo>
                        <a:pt x="402" y="437"/>
                      </a:lnTo>
                      <a:lnTo>
                        <a:pt x="101" y="236"/>
                      </a:lnTo>
                      <a:lnTo>
                        <a:pt x="6" y="127"/>
                      </a:lnTo>
                      <a:lnTo>
                        <a:pt x="6" y="127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825200" y="891720"/>
                  <a:ext cx="355320" cy="246960"/>
                </a:xfrm>
                <a:custGeom>
                  <a:avLst/>
                  <a:gdLst/>
                  <a:ahLst/>
                  <a:rect l="l" t="t" r="r" b="b"/>
                  <a:pathLst>
                    <a:path w="1348" h="937">
                      <a:moveTo>
                        <a:pt x="415" y="800"/>
                      </a:moveTo>
                      <a:lnTo>
                        <a:pt x="458" y="773"/>
                      </a:lnTo>
                      <a:lnTo>
                        <a:pt x="506" y="737"/>
                      </a:lnTo>
                      <a:lnTo>
                        <a:pt x="534" y="713"/>
                      </a:lnTo>
                      <a:lnTo>
                        <a:pt x="565" y="686"/>
                      </a:lnTo>
                      <a:lnTo>
                        <a:pt x="629" y="618"/>
                      </a:lnTo>
                      <a:lnTo>
                        <a:pt x="662" y="578"/>
                      </a:lnTo>
                      <a:lnTo>
                        <a:pt x="696" y="532"/>
                      </a:lnTo>
                      <a:lnTo>
                        <a:pt x="728" y="483"/>
                      </a:lnTo>
                      <a:lnTo>
                        <a:pt x="759" y="427"/>
                      </a:lnTo>
                      <a:lnTo>
                        <a:pt x="814" y="304"/>
                      </a:lnTo>
                      <a:lnTo>
                        <a:pt x="848" y="249"/>
                      </a:lnTo>
                      <a:lnTo>
                        <a:pt x="879" y="199"/>
                      </a:lnTo>
                      <a:lnTo>
                        <a:pt x="907" y="158"/>
                      </a:lnTo>
                      <a:lnTo>
                        <a:pt x="934" y="123"/>
                      </a:lnTo>
                      <a:lnTo>
                        <a:pt x="981" y="70"/>
                      </a:lnTo>
                      <a:lnTo>
                        <a:pt x="1017" y="36"/>
                      </a:lnTo>
                      <a:lnTo>
                        <a:pt x="1074" y="7"/>
                      </a:lnTo>
                      <a:lnTo>
                        <a:pt x="1110" y="0"/>
                      </a:lnTo>
                      <a:lnTo>
                        <a:pt x="1192" y="9"/>
                      </a:lnTo>
                      <a:lnTo>
                        <a:pt x="1244" y="44"/>
                      </a:lnTo>
                      <a:lnTo>
                        <a:pt x="1297" y="106"/>
                      </a:lnTo>
                      <a:lnTo>
                        <a:pt x="1339" y="226"/>
                      </a:lnTo>
                      <a:lnTo>
                        <a:pt x="1333" y="264"/>
                      </a:lnTo>
                      <a:lnTo>
                        <a:pt x="1348" y="452"/>
                      </a:lnTo>
                      <a:lnTo>
                        <a:pt x="1293" y="502"/>
                      </a:lnTo>
                      <a:lnTo>
                        <a:pt x="1232" y="245"/>
                      </a:lnTo>
                      <a:lnTo>
                        <a:pt x="1040" y="209"/>
                      </a:lnTo>
                      <a:lnTo>
                        <a:pt x="939" y="304"/>
                      </a:lnTo>
                      <a:lnTo>
                        <a:pt x="793" y="523"/>
                      </a:lnTo>
                      <a:lnTo>
                        <a:pt x="717" y="851"/>
                      </a:lnTo>
                      <a:lnTo>
                        <a:pt x="744" y="906"/>
                      </a:lnTo>
                      <a:lnTo>
                        <a:pt x="430" y="937"/>
                      </a:lnTo>
                      <a:lnTo>
                        <a:pt x="0" y="912"/>
                      </a:lnTo>
                      <a:lnTo>
                        <a:pt x="415" y="800"/>
                      </a:lnTo>
                      <a:lnTo>
                        <a:pt x="415" y="80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798920" y="663480"/>
                  <a:ext cx="285840" cy="159480"/>
                </a:xfrm>
                <a:custGeom>
                  <a:avLst/>
                  <a:gdLst/>
                  <a:ahLst/>
                  <a:rect l="l" t="t" r="r" b="b"/>
                  <a:pathLst>
                    <a:path w="1086" h="606">
                      <a:moveTo>
                        <a:pt x="0" y="393"/>
                      </a:moveTo>
                      <a:lnTo>
                        <a:pt x="187" y="25"/>
                      </a:lnTo>
                      <a:lnTo>
                        <a:pt x="358" y="0"/>
                      </a:lnTo>
                      <a:lnTo>
                        <a:pt x="1046" y="150"/>
                      </a:lnTo>
                      <a:lnTo>
                        <a:pt x="1086" y="287"/>
                      </a:lnTo>
                      <a:lnTo>
                        <a:pt x="1016" y="565"/>
                      </a:lnTo>
                      <a:lnTo>
                        <a:pt x="940" y="606"/>
                      </a:lnTo>
                      <a:lnTo>
                        <a:pt x="223" y="570"/>
                      </a:lnTo>
                      <a:lnTo>
                        <a:pt x="19" y="475"/>
                      </a:lnTo>
                      <a:lnTo>
                        <a:pt x="0" y="393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a0e5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840680" y="684000"/>
                  <a:ext cx="221040" cy="131040"/>
                </a:xfrm>
                <a:custGeom>
                  <a:avLst/>
                  <a:gdLst/>
                  <a:ahLst/>
                  <a:rect l="l" t="t" r="r" b="b"/>
                  <a:pathLst>
                    <a:path w="839" h="498">
                      <a:moveTo>
                        <a:pt x="590" y="0"/>
                      </a:moveTo>
                      <a:lnTo>
                        <a:pt x="576" y="19"/>
                      </a:lnTo>
                      <a:lnTo>
                        <a:pt x="538" y="68"/>
                      </a:lnTo>
                      <a:lnTo>
                        <a:pt x="481" y="139"/>
                      </a:lnTo>
                      <a:lnTo>
                        <a:pt x="447" y="179"/>
                      </a:lnTo>
                      <a:lnTo>
                        <a:pt x="409" y="220"/>
                      </a:lnTo>
                      <a:lnTo>
                        <a:pt x="369" y="262"/>
                      </a:lnTo>
                      <a:lnTo>
                        <a:pt x="325" y="304"/>
                      </a:lnTo>
                      <a:lnTo>
                        <a:pt x="282" y="344"/>
                      </a:lnTo>
                      <a:lnTo>
                        <a:pt x="238" y="380"/>
                      </a:lnTo>
                      <a:lnTo>
                        <a:pt x="194" y="411"/>
                      </a:lnTo>
                      <a:lnTo>
                        <a:pt x="148" y="437"/>
                      </a:lnTo>
                      <a:lnTo>
                        <a:pt x="65" y="468"/>
                      </a:lnTo>
                      <a:lnTo>
                        <a:pt x="0" y="485"/>
                      </a:lnTo>
                      <a:lnTo>
                        <a:pt x="67" y="494"/>
                      </a:lnTo>
                      <a:lnTo>
                        <a:pt x="232" y="498"/>
                      </a:lnTo>
                      <a:lnTo>
                        <a:pt x="331" y="462"/>
                      </a:lnTo>
                      <a:lnTo>
                        <a:pt x="430" y="416"/>
                      </a:lnTo>
                      <a:lnTo>
                        <a:pt x="487" y="392"/>
                      </a:lnTo>
                      <a:lnTo>
                        <a:pt x="544" y="361"/>
                      </a:lnTo>
                      <a:lnTo>
                        <a:pt x="601" y="329"/>
                      </a:lnTo>
                      <a:lnTo>
                        <a:pt x="656" y="295"/>
                      </a:lnTo>
                      <a:lnTo>
                        <a:pt x="707" y="258"/>
                      </a:lnTo>
                      <a:lnTo>
                        <a:pt x="753" y="222"/>
                      </a:lnTo>
                      <a:lnTo>
                        <a:pt x="820" y="144"/>
                      </a:lnTo>
                      <a:lnTo>
                        <a:pt x="839" y="65"/>
                      </a:lnTo>
                      <a:lnTo>
                        <a:pt x="590" y="0"/>
                      </a:lnTo>
                      <a:lnTo>
                        <a:pt x="59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634400" y="891360"/>
                  <a:ext cx="65160" cy="72360"/>
                </a:xfrm>
                <a:custGeom>
                  <a:avLst/>
                  <a:gdLst/>
                  <a:ahLst/>
                  <a:rect l="l" t="t" r="r" b="b"/>
                  <a:pathLst>
                    <a:path w="249" h="276">
                      <a:moveTo>
                        <a:pt x="0" y="192"/>
                      </a:moveTo>
                      <a:lnTo>
                        <a:pt x="80" y="184"/>
                      </a:lnTo>
                      <a:lnTo>
                        <a:pt x="161" y="129"/>
                      </a:lnTo>
                      <a:lnTo>
                        <a:pt x="205" y="76"/>
                      </a:lnTo>
                      <a:lnTo>
                        <a:pt x="249" y="0"/>
                      </a:lnTo>
                      <a:lnTo>
                        <a:pt x="222" y="209"/>
                      </a:lnTo>
                      <a:lnTo>
                        <a:pt x="112" y="276"/>
                      </a:lnTo>
                      <a:lnTo>
                        <a:pt x="0" y="192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008800" y="936000"/>
                  <a:ext cx="156960" cy="244440"/>
                </a:xfrm>
                <a:custGeom>
                  <a:avLst/>
                  <a:gdLst/>
                  <a:ahLst/>
                  <a:rect l="l" t="t" r="r" b="b"/>
                  <a:pathLst>
                    <a:path w="595" h="928">
                      <a:moveTo>
                        <a:pt x="0" y="726"/>
                      </a:moveTo>
                      <a:lnTo>
                        <a:pt x="23" y="774"/>
                      </a:lnTo>
                      <a:lnTo>
                        <a:pt x="49" y="817"/>
                      </a:lnTo>
                      <a:lnTo>
                        <a:pt x="86" y="865"/>
                      </a:lnTo>
                      <a:lnTo>
                        <a:pt x="106" y="886"/>
                      </a:lnTo>
                      <a:lnTo>
                        <a:pt x="131" y="905"/>
                      </a:lnTo>
                      <a:lnTo>
                        <a:pt x="183" y="928"/>
                      </a:lnTo>
                      <a:lnTo>
                        <a:pt x="241" y="926"/>
                      </a:lnTo>
                      <a:lnTo>
                        <a:pt x="306" y="888"/>
                      </a:lnTo>
                      <a:lnTo>
                        <a:pt x="338" y="857"/>
                      </a:lnTo>
                      <a:lnTo>
                        <a:pt x="369" y="825"/>
                      </a:lnTo>
                      <a:lnTo>
                        <a:pt x="424" y="760"/>
                      </a:lnTo>
                      <a:lnTo>
                        <a:pt x="472" y="698"/>
                      </a:lnTo>
                      <a:lnTo>
                        <a:pt x="510" y="639"/>
                      </a:lnTo>
                      <a:lnTo>
                        <a:pt x="538" y="586"/>
                      </a:lnTo>
                      <a:lnTo>
                        <a:pt x="559" y="544"/>
                      </a:lnTo>
                      <a:lnTo>
                        <a:pt x="576" y="508"/>
                      </a:lnTo>
                      <a:lnTo>
                        <a:pt x="595" y="169"/>
                      </a:lnTo>
                      <a:lnTo>
                        <a:pt x="511" y="25"/>
                      </a:lnTo>
                      <a:lnTo>
                        <a:pt x="335" y="0"/>
                      </a:lnTo>
                      <a:lnTo>
                        <a:pt x="127" y="300"/>
                      </a:lnTo>
                      <a:lnTo>
                        <a:pt x="116" y="335"/>
                      </a:lnTo>
                      <a:lnTo>
                        <a:pt x="91" y="413"/>
                      </a:lnTo>
                      <a:lnTo>
                        <a:pt x="61" y="509"/>
                      </a:lnTo>
                      <a:lnTo>
                        <a:pt x="42" y="595"/>
                      </a:lnTo>
                      <a:lnTo>
                        <a:pt x="15" y="694"/>
                      </a:lnTo>
                      <a:lnTo>
                        <a:pt x="0" y="726"/>
                      </a:lnTo>
                      <a:lnTo>
                        <a:pt x="0" y="726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071080" y="997200"/>
                  <a:ext cx="62280" cy="123480"/>
                </a:xfrm>
                <a:custGeom>
                  <a:avLst/>
                  <a:gdLst/>
                  <a:ahLst/>
                  <a:rect l="l" t="t" r="r" b="b"/>
                  <a:pathLst>
                    <a:path w="236" h="469">
                      <a:moveTo>
                        <a:pt x="156" y="0"/>
                      </a:moveTo>
                      <a:lnTo>
                        <a:pt x="57" y="80"/>
                      </a:lnTo>
                      <a:lnTo>
                        <a:pt x="2" y="382"/>
                      </a:lnTo>
                      <a:lnTo>
                        <a:pt x="0" y="367"/>
                      </a:lnTo>
                      <a:lnTo>
                        <a:pt x="15" y="439"/>
                      </a:lnTo>
                      <a:lnTo>
                        <a:pt x="30" y="468"/>
                      </a:lnTo>
                      <a:lnTo>
                        <a:pt x="49" y="469"/>
                      </a:lnTo>
                      <a:lnTo>
                        <a:pt x="102" y="420"/>
                      </a:lnTo>
                      <a:lnTo>
                        <a:pt x="150" y="350"/>
                      </a:lnTo>
                      <a:lnTo>
                        <a:pt x="171" y="314"/>
                      </a:lnTo>
                      <a:lnTo>
                        <a:pt x="184" y="279"/>
                      </a:lnTo>
                      <a:lnTo>
                        <a:pt x="209" y="201"/>
                      </a:lnTo>
                      <a:lnTo>
                        <a:pt x="236" y="47"/>
                      </a:lnTo>
                      <a:lnTo>
                        <a:pt x="215" y="17"/>
                      </a:lnTo>
                      <a:lnTo>
                        <a:pt x="188" y="4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895400" y="954360"/>
                  <a:ext cx="103680" cy="86400"/>
                </a:xfrm>
                <a:custGeom>
                  <a:avLst/>
                  <a:gdLst/>
                  <a:ahLst/>
                  <a:rect l="l" t="t" r="r" b="b"/>
                  <a:pathLst>
                    <a:path w="394" h="327">
                      <a:moveTo>
                        <a:pt x="0" y="183"/>
                      </a:moveTo>
                      <a:lnTo>
                        <a:pt x="36" y="202"/>
                      </a:lnTo>
                      <a:lnTo>
                        <a:pt x="130" y="217"/>
                      </a:lnTo>
                      <a:lnTo>
                        <a:pt x="257" y="170"/>
                      </a:lnTo>
                      <a:lnTo>
                        <a:pt x="291" y="141"/>
                      </a:lnTo>
                      <a:lnTo>
                        <a:pt x="325" y="105"/>
                      </a:lnTo>
                      <a:lnTo>
                        <a:pt x="360" y="57"/>
                      </a:lnTo>
                      <a:lnTo>
                        <a:pt x="394" y="0"/>
                      </a:lnTo>
                      <a:lnTo>
                        <a:pt x="392" y="107"/>
                      </a:lnTo>
                      <a:lnTo>
                        <a:pt x="381" y="154"/>
                      </a:lnTo>
                      <a:lnTo>
                        <a:pt x="360" y="202"/>
                      </a:lnTo>
                      <a:lnTo>
                        <a:pt x="327" y="248"/>
                      </a:lnTo>
                      <a:lnTo>
                        <a:pt x="305" y="268"/>
                      </a:lnTo>
                      <a:lnTo>
                        <a:pt x="280" y="287"/>
                      </a:lnTo>
                      <a:lnTo>
                        <a:pt x="227" y="316"/>
                      </a:lnTo>
                      <a:lnTo>
                        <a:pt x="179" y="327"/>
                      </a:lnTo>
                      <a:lnTo>
                        <a:pt x="99" y="316"/>
                      </a:lnTo>
                      <a:lnTo>
                        <a:pt x="46" y="287"/>
                      </a:lnTo>
                      <a:lnTo>
                        <a:pt x="29" y="270"/>
                      </a:lnTo>
                      <a:lnTo>
                        <a:pt x="0" y="183"/>
                      </a:lnTo>
                      <a:lnTo>
                        <a:pt x="0" y="183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865160" y="698400"/>
                  <a:ext cx="259920" cy="132480"/>
                </a:xfrm>
                <a:custGeom>
                  <a:avLst/>
                  <a:gdLst/>
                  <a:ahLst/>
                  <a:rect l="l" t="t" r="r" b="b"/>
                  <a:pathLst>
                    <a:path w="985" h="506">
                      <a:moveTo>
                        <a:pt x="0" y="434"/>
                      </a:moveTo>
                      <a:lnTo>
                        <a:pt x="86" y="416"/>
                      </a:lnTo>
                      <a:lnTo>
                        <a:pt x="282" y="365"/>
                      </a:lnTo>
                      <a:lnTo>
                        <a:pt x="390" y="329"/>
                      </a:lnTo>
                      <a:lnTo>
                        <a:pt x="489" y="283"/>
                      </a:lnTo>
                      <a:lnTo>
                        <a:pt x="567" y="232"/>
                      </a:lnTo>
                      <a:lnTo>
                        <a:pt x="612" y="173"/>
                      </a:lnTo>
                      <a:lnTo>
                        <a:pt x="688" y="0"/>
                      </a:lnTo>
                      <a:lnTo>
                        <a:pt x="823" y="0"/>
                      </a:lnTo>
                      <a:lnTo>
                        <a:pt x="985" y="23"/>
                      </a:lnTo>
                      <a:lnTo>
                        <a:pt x="949" y="69"/>
                      </a:lnTo>
                      <a:lnTo>
                        <a:pt x="911" y="116"/>
                      </a:lnTo>
                      <a:lnTo>
                        <a:pt x="871" y="173"/>
                      </a:lnTo>
                      <a:lnTo>
                        <a:pt x="829" y="234"/>
                      </a:lnTo>
                      <a:lnTo>
                        <a:pt x="793" y="293"/>
                      </a:lnTo>
                      <a:lnTo>
                        <a:pt x="763" y="380"/>
                      </a:lnTo>
                      <a:lnTo>
                        <a:pt x="759" y="472"/>
                      </a:lnTo>
                      <a:lnTo>
                        <a:pt x="747" y="506"/>
                      </a:lnTo>
                      <a:lnTo>
                        <a:pt x="531" y="468"/>
                      </a:lnTo>
                      <a:lnTo>
                        <a:pt x="0" y="434"/>
                      </a:lnTo>
                      <a:lnTo>
                        <a:pt x="0" y="434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979640" y="762840"/>
                  <a:ext cx="96840" cy="77400"/>
                </a:xfrm>
                <a:custGeom>
                  <a:avLst/>
                  <a:gdLst/>
                  <a:ahLst/>
                  <a:rect l="l" t="t" r="r" b="b"/>
                  <a:pathLst>
                    <a:path w="369" h="293">
                      <a:moveTo>
                        <a:pt x="0" y="223"/>
                      </a:moveTo>
                      <a:lnTo>
                        <a:pt x="42" y="208"/>
                      </a:lnTo>
                      <a:lnTo>
                        <a:pt x="142" y="166"/>
                      </a:lnTo>
                      <a:lnTo>
                        <a:pt x="203" y="133"/>
                      </a:lnTo>
                      <a:lnTo>
                        <a:pt x="264" y="95"/>
                      </a:lnTo>
                      <a:lnTo>
                        <a:pt x="321" y="52"/>
                      </a:lnTo>
                      <a:lnTo>
                        <a:pt x="369" y="0"/>
                      </a:lnTo>
                      <a:lnTo>
                        <a:pt x="319" y="227"/>
                      </a:lnTo>
                      <a:lnTo>
                        <a:pt x="340" y="293"/>
                      </a:lnTo>
                      <a:lnTo>
                        <a:pt x="302" y="278"/>
                      </a:lnTo>
                      <a:lnTo>
                        <a:pt x="209" y="246"/>
                      </a:lnTo>
                      <a:lnTo>
                        <a:pt x="97" y="221"/>
                      </a:lnTo>
                      <a:lnTo>
                        <a:pt x="0" y="223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793160" y="597240"/>
                  <a:ext cx="333720" cy="202680"/>
                </a:xfrm>
                <a:custGeom>
                  <a:avLst/>
                  <a:gdLst/>
                  <a:ahLst/>
                  <a:rect l="l" t="t" r="r" b="b"/>
                  <a:pathLst>
                    <a:path w="1267" h="770">
                      <a:moveTo>
                        <a:pt x="232" y="320"/>
                      </a:moveTo>
                      <a:lnTo>
                        <a:pt x="337" y="302"/>
                      </a:lnTo>
                      <a:lnTo>
                        <a:pt x="559" y="314"/>
                      </a:lnTo>
                      <a:lnTo>
                        <a:pt x="843" y="371"/>
                      </a:lnTo>
                      <a:lnTo>
                        <a:pt x="991" y="424"/>
                      </a:lnTo>
                      <a:lnTo>
                        <a:pt x="1065" y="456"/>
                      </a:lnTo>
                      <a:lnTo>
                        <a:pt x="1136" y="494"/>
                      </a:lnTo>
                      <a:lnTo>
                        <a:pt x="1185" y="494"/>
                      </a:lnTo>
                      <a:lnTo>
                        <a:pt x="1242" y="462"/>
                      </a:lnTo>
                      <a:lnTo>
                        <a:pt x="1267" y="422"/>
                      </a:lnTo>
                      <a:lnTo>
                        <a:pt x="1259" y="405"/>
                      </a:lnTo>
                      <a:lnTo>
                        <a:pt x="1229" y="394"/>
                      </a:lnTo>
                      <a:lnTo>
                        <a:pt x="1122" y="373"/>
                      </a:lnTo>
                      <a:lnTo>
                        <a:pt x="953" y="335"/>
                      </a:lnTo>
                      <a:lnTo>
                        <a:pt x="835" y="310"/>
                      </a:lnTo>
                      <a:lnTo>
                        <a:pt x="691" y="283"/>
                      </a:lnTo>
                      <a:lnTo>
                        <a:pt x="516" y="255"/>
                      </a:lnTo>
                      <a:lnTo>
                        <a:pt x="307" y="225"/>
                      </a:lnTo>
                      <a:lnTo>
                        <a:pt x="293" y="211"/>
                      </a:lnTo>
                      <a:lnTo>
                        <a:pt x="322" y="190"/>
                      </a:lnTo>
                      <a:lnTo>
                        <a:pt x="383" y="162"/>
                      </a:lnTo>
                      <a:lnTo>
                        <a:pt x="462" y="129"/>
                      </a:lnTo>
                      <a:lnTo>
                        <a:pt x="554" y="97"/>
                      </a:lnTo>
                      <a:lnTo>
                        <a:pt x="641" y="69"/>
                      </a:lnTo>
                      <a:lnTo>
                        <a:pt x="769" y="38"/>
                      </a:lnTo>
                      <a:lnTo>
                        <a:pt x="839" y="15"/>
                      </a:lnTo>
                      <a:lnTo>
                        <a:pt x="837" y="0"/>
                      </a:lnTo>
                      <a:lnTo>
                        <a:pt x="628" y="38"/>
                      </a:lnTo>
                      <a:lnTo>
                        <a:pt x="531" y="67"/>
                      </a:lnTo>
                      <a:lnTo>
                        <a:pt x="424" y="103"/>
                      </a:lnTo>
                      <a:lnTo>
                        <a:pt x="314" y="152"/>
                      </a:lnTo>
                      <a:lnTo>
                        <a:pt x="261" y="181"/>
                      </a:lnTo>
                      <a:lnTo>
                        <a:pt x="208" y="213"/>
                      </a:lnTo>
                      <a:lnTo>
                        <a:pt x="181" y="247"/>
                      </a:lnTo>
                      <a:lnTo>
                        <a:pt x="153" y="289"/>
                      </a:lnTo>
                      <a:lnTo>
                        <a:pt x="120" y="342"/>
                      </a:lnTo>
                      <a:lnTo>
                        <a:pt x="84" y="407"/>
                      </a:lnTo>
                      <a:lnTo>
                        <a:pt x="52" y="481"/>
                      </a:lnTo>
                      <a:lnTo>
                        <a:pt x="0" y="648"/>
                      </a:lnTo>
                      <a:lnTo>
                        <a:pt x="0" y="770"/>
                      </a:lnTo>
                      <a:lnTo>
                        <a:pt x="48" y="696"/>
                      </a:lnTo>
                      <a:lnTo>
                        <a:pt x="54" y="643"/>
                      </a:lnTo>
                      <a:lnTo>
                        <a:pt x="71" y="601"/>
                      </a:lnTo>
                      <a:lnTo>
                        <a:pt x="116" y="506"/>
                      </a:lnTo>
                      <a:lnTo>
                        <a:pt x="145" y="451"/>
                      </a:lnTo>
                      <a:lnTo>
                        <a:pt x="173" y="397"/>
                      </a:lnTo>
                      <a:lnTo>
                        <a:pt x="204" y="352"/>
                      </a:lnTo>
                      <a:lnTo>
                        <a:pt x="232" y="320"/>
                      </a:lnTo>
                      <a:lnTo>
                        <a:pt x="232" y="3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857600" y="820080"/>
                  <a:ext cx="223560" cy="161640"/>
                </a:xfrm>
                <a:custGeom>
                  <a:avLst/>
                  <a:gdLst/>
                  <a:ahLst/>
                  <a:rect l="l" t="t" r="r" b="b"/>
                  <a:pathLst>
                    <a:path w="848" h="614">
                      <a:moveTo>
                        <a:pt x="741" y="0"/>
                      </a:moveTo>
                      <a:lnTo>
                        <a:pt x="848" y="32"/>
                      </a:lnTo>
                      <a:lnTo>
                        <a:pt x="760" y="65"/>
                      </a:lnTo>
                      <a:lnTo>
                        <a:pt x="663" y="105"/>
                      </a:lnTo>
                      <a:lnTo>
                        <a:pt x="606" y="131"/>
                      </a:lnTo>
                      <a:lnTo>
                        <a:pt x="544" y="163"/>
                      </a:lnTo>
                      <a:lnTo>
                        <a:pt x="477" y="200"/>
                      </a:lnTo>
                      <a:lnTo>
                        <a:pt x="407" y="243"/>
                      </a:lnTo>
                      <a:lnTo>
                        <a:pt x="336" y="291"/>
                      </a:lnTo>
                      <a:lnTo>
                        <a:pt x="300" y="316"/>
                      </a:lnTo>
                      <a:lnTo>
                        <a:pt x="266" y="344"/>
                      </a:lnTo>
                      <a:lnTo>
                        <a:pt x="230" y="373"/>
                      </a:lnTo>
                      <a:lnTo>
                        <a:pt x="196" y="403"/>
                      </a:lnTo>
                      <a:lnTo>
                        <a:pt x="161" y="433"/>
                      </a:lnTo>
                      <a:lnTo>
                        <a:pt x="127" y="468"/>
                      </a:lnTo>
                      <a:lnTo>
                        <a:pt x="61" y="538"/>
                      </a:lnTo>
                      <a:lnTo>
                        <a:pt x="0" y="614"/>
                      </a:lnTo>
                      <a:lnTo>
                        <a:pt x="0" y="584"/>
                      </a:lnTo>
                      <a:lnTo>
                        <a:pt x="34" y="519"/>
                      </a:lnTo>
                      <a:lnTo>
                        <a:pt x="61" y="477"/>
                      </a:lnTo>
                      <a:lnTo>
                        <a:pt x="95" y="431"/>
                      </a:lnTo>
                      <a:lnTo>
                        <a:pt x="137" y="382"/>
                      </a:lnTo>
                      <a:lnTo>
                        <a:pt x="186" y="331"/>
                      </a:lnTo>
                      <a:lnTo>
                        <a:pt x="215" y="304"/>
                      </a:lnTo>
                      <a:lnTo>
                        <a:pt x="243" y="277"/>
                      </a:lnTo>
                      <a:lnTo>
                        <a:pt x="275" y="249"/>
                      </a:lnTo>
                      <a:lnTo>
                        <a:pt x="310" y="222"/>
                      </a:lnTo>
                      <a:lnTo>
                        <a:pt x="346" y="196"/>
                      </a:lnTo>
                      <a:lnTo>
                        <a:pt x="386" y="169"/>
                      </a:lnTo>
                      <a:lnTo>
                        <a:pt x="426" y="143"/>
                      </a:lnTo>
                      <a:lnTo>
                        <a:pt x="469" y="118"/>
                      </a:lnTo>
                      <a:lnTo>
                        <a:pt x="515" y="93"/>
                      </a:lnTo>
                      <a:lnTo>
                        <a:pt x="564" y="68"/>
                      </a:lnTo>
                      <a:lnTo>
                        <a:pt x="614" y="44"/>
                      </a:lnTo>
                      <a:lnTo>
                        <a:pt x="667" y="23"/>
                      </a:lnTo>
                      <a:lnTo>
                        <a:pt x="741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033640" y="662400"/>
                  <a:ext cx="202320" cy="166320"/>
                </a:xfrm>
                <a:custGeom>
                  <a:avLst/>
                  <a:gdLst/>
                  <a:ahLst/>
                  <a:rect l="l" t="t" r="r" b="b"/>
                  <a:pathLst>
                    <a:path w="768" h="631">
                      <a:moveTo>
                        <a:pt x="74" y="599"/>
                      </a:moveTo>
                      <a:lnTo>
                        <a:pt x="88" y="536"/>
                      </a:lnTo>
                      <a:lnTo>
                        <a:pt x="110" y="466"/>
                      </a:lnTo>
                      <a:lnTo>
                        <a:pt x="147" y="382"/>
                      </a:lnTo>
                      <a:lnTo>
                        <a:pt x="171" y="339"/>
                      </a:lnTo>
                      <a:lnTo>
                        <a:pt x="200" y="293"/>
                      </a:lnTo>
                      <a:lnTo>
                        <a:pt x="236" y="247"/>
                      </a:lnTo>
                      <a:lnTo>
                        <a:pt x="278" y="206"/>
                      </a:lnTo>
                      <a:lnTo>
                        <a:pt x="325" y="164"/>
                      </a:lnTo>
                      <a:lnTo>
                        <a:pt x="379" y="126"/>
                      </a:lnTo>
                      <a:lnTo>
                        <a:pt x="441" y="93"/>
                      </a:lnTo>
                      <a:lnTo>
                        <a:pt x="510" y="65"/>
                      </a:lnTo>
                      <a:lnTo>
                        <a:pt x="610" y="31"/>
                      </a:lnTo>
                      <a:lnTo>
                        <a:pt x="685" y="6"/>
                      </a:lnTo>
                      <a:lnTo>
                        <a:pt x="768" y="0"/>
                      </a:lnTo>
                      <a:lnTo>
                        <a:pt x="740" y="59"/>
                      </a:lnTo>
                      <a:lnTo>
                        <a:pt x="645" y="67"/>
                      </a:lnTo>
                      <a:lnTo>
                        <a:pt x="561" y="103"/>
                      </a:lnTo>
                      <a:lnTo>
                        <a:pt x="458" y="148"/>
                      </a:lnTo>
                      <a:lnTo>
                        <a:pt x="392" y="188"/>
                      </a:lnTo>
                      <a:lnTo>
                        <a:pt x="323" y="232"/>
                      </a:lnTo>
                      <a:lnTo>
                        <a:pt x="253" y="308"/>
                      </a:lnTo>
                      <a:lnTo>
                        <a:pt x="209" y="371"/>
                      </a:lnTo>
                      <a:lnTo>
                        <a:pt x="171" y="451"/>
                      </a:lnTo>
                      <a:lnTo>
                        <a:pt x="154" y="536"/>
                      </a:lnTo>
                      <a:lnTo>
                        <a:pt x="166" y="595"/>
                      </a:lnTo>
                      <a:lnTo>
                        <a:pt x="181" y="631"/>
                      </a:lnTo>
                      <a:lnTo>
                        <a:pt x="0" y="622"/>
                      </a:lnTo>
                      <a:lnTo>
                        <a:pt x="74" y="599"/>
                      </a:lnTo>
                      <a:lnTo>
                        <a:pt x="74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987560" y="596880"/>
                  <a:ext cx="358920" cy="176400"/>
                </a:xfrm>
                <a:custGeom>
                  <a:avLst/>
                  <a:gdLst/>
                  <a:ahLst/>
                  <a:rect l="l" t="t" r="r" b="b"/>
                  <a:pathLst>
                    <a:path w="1361" h="671">
                      <a:moveTo>
                        <a:pt x="126" y="29"/>
                      </a:moveTo>
                      <a:lnTo>
                        <a:pt x="280" y="23"/>
                      </a:lnTo>
                      <a:lnTo>
                        <a:pt x="639" y="65"/>
                      </a:lnTo>
                      <a:lnTo>
                        <a:pt x="742" y="95"/>
                      </a:lnTo>
                      <a:lnTo>
                        <a:pt x="846" y="135"/>
                      </a:lnTo>
                      <a:lnTo>
                        <a:pt x="949" y="187"/>
                      </a:lnTo>
                      <a:lnTo>
                        <a:pt x="1000" y="217"/>
                      </a:lnTo>
                      <a:lnTo>
                        <a:pt x="1050" y="251"/>
                      </a:lnTo>
                      <a:lnTo>
                        <a:pt x="1097" y="287"/>
                      </a:lnTo>
                      <a:lnTo>
                        <a:pt x="1143" y="329"/>
                      </a:lnTo>
                      <a:lnTo>
                        <a:pt x="1187" y="375"/>
                      </a:lnTo>
                      <a:lnTo>
                        <a:pt x="1226" y="426"/>
                      </a:lnTo>
                      <a:lnTo>
                        <a:pt x="1264" y="479"/>
                      </a:lnTo>
                      <a:lnTo>
                        <a:pt x="1301" y="538"/>
                      </a:lnTo>
                      <a:lnTo>
                        <a:pt x="1333" y="603"/>
                      </a:lnTo>
                      <a:lnTo>
                        <a:pt x="1361" y="671"/>
                      </a:lnTo>
                      <a:lnTo>
                        <a:pt x="1356" y="591"/>
                      </a:lnTo>
                      <a:lnTo>
                        <a:pt x="1337" y="508"/>
                      </a:lnTo>
                      <a:lnTo>
                        <a:pt x="1320" y="460"/>
                      </a:lnTo>
                      <a:lnTo>
                        <a:pt x="1295" y="409"/>
                      </a:lnTo>
                      <a:lnTo>
                        <a:pt x="1261" y="356"/>
                      </a:lnTo>
                      <a:lnTo>
                        <a:pt x="1219" y="303"/>
                      </a:lnTo>
                      <a:lnTo>
                        <a:pt x="1194" y="276"/>
                      </a:lnTo>
                      <a:lnTo>
                        <a:pt x="1168" y="251"/>
                      </a:lnTo>
                      <a:lnTo>
                        <a:pt x="1137" y="225"/>
                      </a:lnTo>
                      <a:lnTo>
                        <a:pt x="1103" y="200"/>
                      </a:lnTo>
                      <a:lnTo>
                        <a:pt x="1069" y="177"/>
                      </a:lnTo>
                      <a:lnTo>
                        <a:pt x="1029" y="154"/>
                      </a:lnTo>
                      <a:lnTo>
                        <a:pt x="985" y="133"/>
                      </a:lnTo>
                      <a:lnTo>
                        <a:pt x="939" y="112"/>
                      </a:lnTo>
                      <a:lnTo>
                        <a:pt x="835" y="78"/>
                      </a:lnTo>
                      <a:lnTo>
                        <a:pt x="715" y="50"/>
                      </a:lnTo>
                      <a:lnTo>
                        <a:pt x="652" y="40"/>
                      </a:lnTo>
                      <a:lnTo>
                        <a:pt x="498" y="19"/>
                      </a:lnTo>
                      <a:lnTo>
                        <a:pt x="299" y="0"/>
                      </a:lnTo>
                      <a:lnTo>
                        <a:pt x="99" y="2"/>
                      </a:lnTo>
                      <a:lnTo>
                        <a:pt x="0" y="16"/>
                      </a:lnTo>
                      <a:lnTo>
                        <a:pt x="21" y="23"/>
                      </a:lnTo>
                      <a:lnTo>
                        <a:pt x="126" y="29"/>
                      </a:lnTo>
                      <a:lnTo>
                        <a:pt x="126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33880" y="743040"/>
                  <a:ext cx="81720" cy="156960"/>
                </a:xfrm>
                <a:custGeom>
                  <a:avLst/>
                  <a:gdLst/>
                  <a:ahLst/>
                  <a:rect l="l" t="t" r="r" b="b"/>
                  <a:pathLst>
                    <a:path w="310" h="595">
                      <a:moveTo>
                        <a:pt x="0" y="0"/>
                      </a:moveTo>
                      <a:lnTo>
                        <a:pt x="25" y="59"/>
                      </a:lnTo>
                      <a:lnTo>
                        <a:pt x="49" y="122"/>
                      </a:lnTo>
                      <a:lnTo>
                        <a:pt x="78" y="198"/>
                      </a:lnTo>
                      <a:lnTo>
                        <a:pt x="108" y="278"/>
                      </a:lnTo>
                      <a:lnTo>
                        <a:pt x="133" y="354"/>
                      </a:lnTo>
                      <a:lnTo>
                        <a:pt x="162" y="472"/>
                      </a:lnTo>
                      <a:lnTo>
                        <a:pt x="175" y="532"/>
                      </a:lnTo>
                      <a:lnTo>
                        <a:pt x="202" y="570"/>
                      </a:lnTo>
                      <a:lnTo>
                        <a:pt x="240" y="595"/>
                      </a:lnTo>
                      <a:lnTo>
                        <a:pt x="264" y="590"/>
                      </a:lnTo>
                      <a:lnTo>
                        <a:pt x="310" y="559"/>
                      </a:lnTo>
                      <a:lnTo>
                        <a:pt x="255" y="512"/>
                      </a:lnTo>
                      <a:lnTo>
                        <a:pt x="127" y="196"/>
                      </a:lnTo>
                      <a:lnTo>
                        <a:pt x="99" y="131"/>
                      </a:lnTo>
                      <a:lnTo>
                        <a:pt x="72" y="86"/>
                      </a:lnTo>
                      <a:lnTo>
                        <a:pt x="32" y="2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012040" y="717120"/>
                  <a:ext cx="296280" cy="137520"/>
                </a:xfrm>
                <a:custGeom>
                  <a:avLst/>
                  <a:gdLst/>
                  <a:ahLst/>
                  <a:rect l="l" t="t" r="r" b="b"/>
                  <a:pathLst>
                    <a:path w="1126" h="523">
                      <a:moveTo>
                        <a:pt x="263" y="424"/>
                      </a:moveTo>
                      <a:lnTo>
                        <a:pt x="287" y="436"/>
                      </a:lnTo>
                      <a:lnTo>
                        <a:pt x="384" y="430"/>
                      </a:lnTo>
                      <a:lnTo>
                        <a:pt x="584" y="354"/>
                      </a:lnTo>
                      <a:lnTo>
                        <a:pt x="653" y="316"/>
                      </a:lnTo>
                      <a:lnTo>
                        <a:pt x="730" y="270"/>
                      </a:lnTo>
                      <a:lnTo>
                        <a:pt x="774" y="242"/>
                      </a:lnTo>
                      <a:lnTo>
                        <a:pt x="820" y="213"/>
                      </a:lnTo>
                      <a:lnTo>
                        <a:pt x="865" y="181"/>
                      </a:lnTo>
                      <a:lnTo>
                        <a:pt x="917" y="147"/>
                      </a:lnTo>
                      <a:lnTo>
                        <a:pt x="961" y="113"/>
                      </a:lnTo>
                      <a:lnTo>
                        <a:pt x="999" y="82"/>
                      </a:lnTo>
                      <a:lnTo>
                        <a:pt x="1046" y="25"/>
                      </a:lnTo>
                      <a:lnTo>
                        <a:pt x="1063" y="6"/>
                      </a:lnTo>
                      <a:lnTo>
                        <a:pt x="1077" y="0"/>
                      </a:lnTo>
                      <a:lnTo>
                        <a:pt x="1103" y="10"/>
                      </a:lnTo>
                      <a:lnTo>
                        <a:pt x="1126" y="48"/>
                      </a:lnTo>
                      <a:lnTo>
                        <a:pt x="1078" y="97"/>
                      </a:lnTo>
                      <a:lnTo>
                        <a:pt x="1052" y="122"/>
                      </a:lnTo>
                      <a:lnTo>
                        <a:pt x="1019" y="151"/>
                      </a:lnTo>
                      <a:lnTo>
                        <a:pt x="983" y="181"/>
                      </a:lnTo>
                      <a:lnTo>
                        <a:pt x="940" y="215"/>
                      </a:lnTo>
                      <a:lnTo>
                        <a:pt x="892" y="251"/>
                      </a:lnTo>
                      <a:lnTo>
                        <a:pt x="839" y="287"/>
                      </a:lnTo>
                      <a:lnTo>
                        <a:pt x="780" y="324"/>
                      </a:lnTo>
                      <a:lnTo>
                        <a:pt x="715" y="362"/>
                      </a:lnTo>
                      <a:lnTo>
                        <a:pt x="647" y="398"/>
                      </a:lnTo>
                      <a:lnTo>
                        <a:pt x="573" y="432"/>
                      </a:lnTo>
                      <a:lnTo>
                        <a:pt x="495" y="464"/>
                      </a:lnTo>
                      <a:lnTo>
                        <a:pt x="411" y="495"/>
                      </a:lnTo>
                      <a:lnTo>
                        <a:pt x="339" y="497"/>
                      </a:lnTo>
                      <a:lnTo>
                        <a:pt x="162" y="493"/>
                      </a:lnTo>
                      <a:lnTo>
                        <a:pt x="14" y="521"/>
                      </a:lnTo>
                      <a:lnTo>
                        <a:pt x="0" y="523"/>
                      </a:lnTo>
                      <a:lnTo>
                        <a:pt x="8" y="516"/>
                      </a:lnTo>
                      <a:lnTo>
                        <a:pt x="69" y="483"/>
                      </a:lnTo>
                      <a:lnTo>
                        <a:pt x="145" y="447"/>
                      </a:lnTo>
                      <a:lnTo>
                        <a:pt x="181" y="430"/>
                      </a:lnTo>
                      <a:lnTo>
                        <a:pt x="263" y="424"/>
                      </a:lnTo>
                      <a:lnTo>
                        <a:pt x="263" y="4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166120" y="820800"/>
                  <a:ext cx="198000" cy="223200"/>
                </a:xfrm>
                <a:custGeom>
                  <a:avLst/>
                  <a:gdLst/>
                  <a:ahLst/>
                  <a:rect l="l" t="t" r="r" b="b"/>
                  <a:pathLst>
                    <a:path w="751" h="848">
                      <a:moveTo>
                        <a:pt x="631" y="0"/>
                      </a:moveTo>
                      <a:lnTo>
                        <a:pt x="587" y="23"/>
                      </a:lnTo>
                      <a:lnTo>
                        <a:pt x="506" y="108"/>
                      </a:lnTo>
                      <a:lnTo>
                        <a:pt x="456" y="188"/>
                      </a:lnTo>
                      <a:lnTo>
                        <a:pt x="411" y="295"/>
                      </a:lnTo>
                      <a:lnTo>
                        <a:pt x="338" y="614"/>
                      </a:lnTo>
                      <a:lnTo>
                        <a:pt x="48" y="768"/>
                      </a:lnTo>
                      <a:lnTo>
                        <a:pt x="0" y="848"/>
                      </a:lnTo>
                      <a:lnTo>
                        <a:pt x="17" y="836"/>
                      </a:lnTo>
                      <a:lnTo>
                        <a:pt x="63" y="808"/>
                      </a:lnTo>
                      <a:lnTo>
                        <a:pt x="127" y="766"/>
                      </a:lnTo>
                      <a:lnTo>
                        <a:pt x="164" y="745"/>
                      </a:lnTo>
                      <a:lnTo>
                        <a:pt x="202" y="722"/>
                      </a:lnTo>
                      <a:lnTo>
                        <a:pt x="278" y="682"/>
                      </a:lnTo>
                      <a:lnTo>
                        <a:pt x="346" y="654"/>
                      </a:lnTo>
                      <a:lnTo>
                        <a:pt x="395" y="642"/>
                      </a:lnTo>
                      <a:lnTo>
                        <a:pt x="418" y="656"/>
                      </a:lnTo>
                      <a:lnTo>
                        <a:pt x="460" y="428"/>
                      </a:lnTo>
                      <a:lnTo>
                        <a:pt x="483" y="321"/>
                      </a:lnTo>
                      <a:lnTo>
                        <a:pt x="517" y="217"/>
                      </a:lnTo>
                      <a:lnTo>
                        <a:pt x="538" y="169"/>
                      </a:lnTo>
                      <a:lnTo>
                        <a:pt x="561" y="127"/>
                      </a:lnTo>
                      <a:lnTo>
                        <a:pt x="589" y="91"/>
                      </a:lnTo>
                      <a:lnTo>
                        <a:pt x="620" y="63"/>
                      </a:lnTo>
                      <a:lnTo>
                        <a:pt x="677" y="59"/>
                      </a:lnTo>
                      <a:lnTo>
                        <a:pt x="719" y="97"/>
                      </a:lnTo>
                      <a:lnTo>
                        <a:pt x="749" y="199"/>
                      </a:lnTo>
                      <a:lnTo>
                        <a:pt x="751" y="177"/>
                      </a:lnTo>
                      <a:lnTo>
                        <a:pt x="749" y="112"/>
                      </a:lnTo>
                      <a:lnTo>
                        <a:pt x="738" y="42"/>
                      </a:lnTo>
                      <a:lnTo>
                        <a:pt x="726" y="17"/>
                      </a:lnTo>
                      <a:lnTo>
                        <a:pt x="709" y="4"/>
                      </a:lnTo>
                      <a:lnTo>
                        <a:pt x="631" y="0"/>
                      </a:lnTo>
                      <a:lnTo>
                        <a:pt x="6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212560" y="662400"/>
                  <a:ext cx="95760" cy="76680"/>
                </a:xfrm>
                <a:custGeom>
                  <a:avLst/>
                  <a:gdLst/>
                  <a:ahLst/>
                  <a:rect l="l" t="t" r="r" b="b"/>
                  <a:pathLst>
                    <a:path w="365" h="293">
                      <a:moveTo>
                        <a:pt x="34" y="63"/>
                      </a:moveTo>
                      <a:lnTo>
                        <a:pt x="118" y="72"/>
                      </a:lnTo>
                      <a:lnTo>
                        <a:pt x="209" y="116"/>
                      </a:lnTo>
                      <a:lnTo>
                        <a:pt x="276" y="190"/>
                      </a:lnTo>
                      <a:lnTo>
                        <a:pt x="291" y="293"/>
                      </a:lnTo>
                      <a:lnTo>
                        <a:pt x="365" y="255"/>
                      </a:lnTo>
                      <a:lnTo>
                        <a:pt x="344" y="217"/>
                      </a:lnTo>
                      <a:lnTo>
                        <a:pt x="317" y="177"/>
                      </a:lnTo>
                      <a:lnTo>
                        <a:pt x="283" y="131"/>
                      </a:lnTo>
                      <a:lnTo>
                        <a:pt x="243" y="86"/>
                      </a:lnTo>
                      <a:lnTo>
                        <a:pt x="220" y="65"/>
                      </a:lnTo>
                      <a:lnTo>
                        <a:pt x="196" y="44"/>
                      </a:lnTo>
                      <a:lnTo>
                        <a:pt x="144" y="15"/>
                      </a:lnTo>
                      <a:lnTo>
                        <a:pt x="89" y="0"/>
                      </a:lnTo>
                      <a:lnTo>
                        <a:pt x="68" y="12"/>
                      </a:lnTo>
                      <a:lnTo>
                        <a:pt x="25" y="36"/>
                      </a:lnTo>
                      <a:lnTo>
                        <a:pt x="0" y="57"/>
                      </a:lnTo>
                      <a:lnTo>
                        <a:pt x="34" y="63"/>
                      </a:lnTo>
                      <a:lnTo>
                        <a:pt x="34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641600" y="755640"/>
                  <a:ext cx="163800" cy="103680"/>
                </a:xfrm>
                <a:custGeom>
                  <a:avLst/>
                  <a:gdLst/>
                  <a:ahLst/>
                  <a:rect l="l" t="t" r="r" b="b"/>
                  <a:pathLst>
                    <a:path w="622" h="393">
                      <a:moveTo>
                        <a:pt x="595" y="0"/>
                      </a:moveTo>
                      <a:lnTo>
                        <a:pt x="552" y="21"/>
                      </a:lnTo>
                      <a:lnTo>
                        <a:pt x="502" y="43"/>
                      </a:lnTo>
                      <a:lnTo>
                        <a:pt x="445" y="72"/>
                      </a:lnTo>
                      <a:lnTo>
                        <a:pt x="382" y="104"/>
                      </a:lnTo>
                      <a:lnTo>
                        <a:pt x="322" y="137"/>
                      </a:lnTo>
                      <a:lnTo>
                        <a:pt x="265" y="167"/>
                      </a:lnTo>
                      <a:lnTo>
                        <a:pt x="221" y="196"/>
                      </a:lnTo>
                      <a:lnTo>
                        <a:pt x="183" y="222"/>
                      </a:lnTo>
                      <a:lnTo>
                        <a:pt x="145" y="254"/>
                      </a:lnTo>
                      <a:lnTo>
                        <a:pt x="109" y="287"/>
                      </a:lnTo>
                      <a:lnTo>
                        <a:pt x="74" y="319"/>
                      </a:lnTo>
                      <a:lnTo>
                        <a:pt x="44" y="348"/>
                      </a:lnTo>
                      <a:lnTo>
                        <a:pt x="21" y="370"/>
                      </a:lnTo>
                      <a:lnTo>
                        <a:pt x="0" y="393"/>
                      </a:lnTo>
                      <a:lnTo>
                        <a:pt x="152" y="287"/>
                      </a:lnTo>
                      <a:lnTo>
                        <a:pt x="202" y="262"/>
                      </a:lnTo>
                      <a:lnTo>
                        <a:pt x="251" y="237"/>
                      </a:lnTo>
                      <a:lnTo>
                        <a:pt x="310" y="207"/>
                      </a:lnTo>
                      <a:lnTo>
                        <a:pt x="392" y="169"/>
                      </a:lnTo>
                      <a:lnTo>
                        <a:pt x="496" y="129"/>
                      </a:lnTo>
                      <a:lnTo>
                        <a:pt x="584" y="99"/>
                      </a:lnTo>
                      <a:lnTo>
                        <a:pt x="622" y="85"/>
                      </a:lnTo>
                      <a:lnTo>
                        <a:pt x="595" y="0"/>
                      </a:lnTo>
                      <a:lnTo>
                        <a:pt x="5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042640" y="840600"/>
                  <a:ext cx="144000" cy="227160"/>
                </a:xfrm>
                <a:custGeom>
                  <a:avLst/>
                  <a:gdLst/>
                  <a:ahLst/>
                  <a:rect l="l" t="t" r="r" b="b"/>
                  <a:pathLst>
                    <a:path w="548" h="861">
                      <a:moveTo>
                        <a:pt x="322" y="108"/>
                      </a:moveTo>
                      <a:lnTo>
                        <a:pt x="383" y="160"/>
                      </a:lnTo>
                      <a:lnTo>
                        <a:pt x="428" y="215"/>
                      </a:lnTo>
                      <a:lnTo>
                        <a:pt x="480" y="336"/>
                      </a:lnTo>
                      <a:lnTo>
                        <a:pt x="495" y="468"/>
                      </a:lnTo>
                      <a:lnTo>
                        <a:pt x="497" y="612"/>
                      </a:lnTo>
                      <a:lnTo>
                        <a:pt x="472" y="726"/>
                      </a:lnTo>
                      <a:lnTo>
                        <a:pt x="451" y="810"/>
                      </a:lnTo>
                      <a:lnTo>
                        <a:pt x="434" y="861"/>
                      </a:lnTo>
                      <a:lnTo>
                        <a:pt x="443" y="853"/>
                      </a:lnTo>
                      <a:lnTo>
                        <a:pt x="483" y="804"/>
                      </a:lnTo>
                      <a:lnTo>
                        <a:pt x="527" y="751"/>
                      </a:lnTo>
                      <a:lnTo>
                        <a:pt x="548" y="724"/>
                      </a:lnTo>
                      <a:lnTo>
                        <a:pt x="527" y="591"/>
                      </a:lnTo>
                      <a:lnTo>
                        <a:pt x="537" y="393"/>
                      </a:lnTo>
                      <a:lnTo>
                        <a:pt x="529" y="306"/>
                      </a:lnTo>
                      <a:lnTo>
                        <a:pt x="510" y="239"/>
                      </a:lnTo>
                      <a:lnTo>
                        <a:pt x="476" y="173"/>
                      </a:lnTo>
                      <a:lnTo>
                        <a:pt x="451" y="133"/>
                      </a:lnTo>
                      <a:lnTo>
                        <a:pt x="421" y="95"/>
                      </a:lnTo>
                      <a:lnTo>
                        <a:pt x="384" y="59"/>
                      </a:lnTo>
                      <a:lnTo>
                        <a:pt x="341" y="28"/>
                      </a:lnTo>
                      <a:lnTo>
                        <a:pt x="289" y="9"/>
                      </a:lnTo>
                      <a:lnTo>
                        <a:pt x="230" y="2"/>
                      </a:lnTo>
                      <a:lnTo>
                        <a:pt x="0" y="0"/>
                      </a:lnTo>
                      <a:lnTo>
                        <a:pt x="27" y="8"/>
                      </a:lnTo>
                      <a:lnTo>
                        <a:pt x="177" y="34"/>
                      </a:lnTo>
                      <a:lnTo>
                        <a:pt x="280" y="80"/>
                      </a:lnTo>
                      <a:lnTo>
                        <a:pt x="322" y="108"/>
                      </a:lnTo>
                      <a:lnTo>
                        <a:pt x="322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607040" y="931320"/>
                  <a:ext cx="92160" cy="135720"/>
                </a:xfrm>
                <a:custGeom>
                  <a:avLst/>
                  <a:gdLst/>
                  <a:ahLst/>
                  <a:rect l="l" t="t" r="r" b="b"/>
                  <a:pathLst>
                    <a:path w="352" h="517">
                      <a:moveTo>
                        <a:pt x="6" y="0"/>
                      </a:moveTo>
                      <a:lnTo>
                        <a:pt x="0" y="160"/>
                      </a:lnTo>
                      <a:lnTo>
                        <a:pt x="8" y="241"/>
                      </a:lnTo>
                      <a:lnTo>
                        <a:pt x="31" y="297"/>
                      </a:lnTo>
                      <a:lnTo>
                        <a:pt x="46" y="314"/>
                      </a:lnTo>
                      <a:lnTo>
                        <a:pt x="78" y="338"/>
                      </a:lnTo>
                      <a:lnTo>
                        <a:pt x="126" y="373"/>
                      </a:lnTo>
                      <a:lnTo>
                        <a:pt x="179" y="407"/>
                      </a:lnTo>
                      <a:lnTo>
                        <a:pt x="236" y="443"/>
                      </a:lnTo>
                      <a:lnTo>
                        <a:pt x="287" y="475"/>
                      </a:lnTo>
                      <a:lnTo>
                        <a:pt x="352" y="517"/>
                      </a:lnTo>
                      <a:lnTo>
                        <a:pt x="348" y="513"/>
                      </a:lnTo>
                      <a:lnTo>
                        <a:pt x="302" y="477"/>
                      </a:lnTo>
                      <a:lnTo>
                        <a:pt x="270" y="451"/>
                      </a:lnTo>
                      <a:lnTo>
                        <a:pt x="238" y="422"/>
                      </a:lnTo>
                      <a:lnTo>
                        <a:pt x="206" y="392"/>
                      </a:lnTo>
                      <a:lnTo>
                        <a:pt x="179" y="365"/>
                      </a:lnTo>
                      <a:lnTo>
                        <a:pt x="97" y="306"/>
                      </a:lnTo>
                      <a:lnTo>
                        <a:pt x="44" y="241"/>
                      </a:lnTo>
                      <a:lnTo>
                        <a:pt x="25" y="8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94040" y="924840"/>
                  <a:ext cx="177480" cy="216000"/>
                </a:xfrm>
                <a:custGeom>
                  <a:avLst/>
                  <a:gdLst/>
                  <a:ahLst/>
                  <a:rect l="l" t="t" r="r" b="b"/>
                  <a:pathLst>
                    <a:path w="673" h="820">
                      <a:moveTo>
                        <a:pt x="101" y="517"/>
                      </a:moveTo>
                      <a:lnTo>
                        <a:pt x="127" y="436"/>
                      </a:lnTo>
                      <a:lnTo>
                        <a:pt x="160" y="354"/>
                      </a:lnTo>
                      <a:lnTo>
                        <a:pt x="201" y="261"/>
                      </a:lnTo>
                      <a:lnTo>
                        <a:pt x="228" y="211"/>
                      </a:lnTo>
                      <a:lnTo>
                        <a:pt x="255" y="166"/>
                      </a:lnTo>
                      <a:lnTo>
                        <a:pt x="285" y="122"/>
                      </a:lnTo>
                      <a:lnTo>
                        <a:pt x="315" y="82"/>
                      </a:lnTo>
                      <a:lnTo>
                        <a:pt x="350" y="50"/>
                      </a:lnTo>
                      <a:lnTo>
                        <a:pt x="386" y="23"/>
                      </a:lnTo>
                      <a:lnTo>
                        <a:pt x="422" y="6"/>
                      </a:lnTo>
                      <a:lnTo>
                        <a:pt x="462" y="0"/>
                      </a:lnTo>
                      <a:lnTo>
                        <a:pt x="576" y="23"/>
                      </a:lnTo>
                      <a:lnTo>
                        <a:pt x="654" y="126"/>
                      </a:lnTo>
                      <a:lnTo>
                        <a:pt x="671" y="221"/>
                      </a:lnTo>
                      <a:lnTo>
                        <a:pt x="673" y="274"/>
                      </a:lnTo>
                      <a:lnTo>
                        <a:pt x="671" y="325"/>
                      </a:lnTo>
                      <a:lnTo>
                        <a:pt x="658" y="447"/>
                      </a:lnTo>
                      <a:lnTo>
                        <a:pt x="622" y="474"/>
                      </a:lnTo>
                      <a:lnTo>
                        <a:pt x="633" y="259"/>
                      </a:lnTo>
                      <a:lnTo>
                        <a:pt x="620" y="181"/>
                      </a:lnTo>
                      <a:lnTo>
                        <a:pt x="587" y="116"/>
                      </a:lnTo>
                      <a:lnTo>
                        <a:pt x="563" y="90"/>
                      </a:lnTo>
                      <a:lnTo>
                        <a:pt x="532" y="72"/>
                      </a:lnTo>
                      <a:lnTo>
                        <a:pt x="450" y="61"/>
                      </a:lnTo>
                      <a:lnTo>
                        <a:pt x="350" y="131"/>
                      </a:lnTo>
                      <a:lnTo>
                        <a:pt x="302" y="185"/>
                      </a:lnTo>
                      <a:lnTo>
                        <a:pt x="253" y="259"/>
                      </a:lnTo>
                      <a:lnTo>
                        <a:pt x="226" y="302"/>
                      </a:lnTo>
                      <a:lnTo>
                        <a:pt x="199" y="354"/>
                      </a:lnTo>
                      <a:lnTo>
                        <a:pt x="150" y="477"/>
                      </a:lnTo>
                      <a:lnTo>
                        <a:pt x="144" y="766"/>
                      </a:lnTo>
                      <a:lnTo>
                        <a:pt x="133" y="789"/>
                      </a:lnTo>
                      <a:lnTo>
                        <a:pt x="84" y="806"/>
                      </a:lnTo>
                      <a:lnTo>
                        <a:pt x="0" y="820"/>
                      </a:lnTo>
                      <a:lnTo>
                        <a:pt x="101" y="517"/>
                      </a:lnTo>
                      <a:lnTo>
                        <a:pt x="101" y="5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885320" y="918720"/>
                  <a:ext cx="124920" cy="131400"/>
                </a:xfrm>
                <a:custGeom>
                  <a:avLst/>
                  <a:gdLst/>
                  <a:ahLst/>
                  <a:rect l="l" t="t" r="r" b="b"/>
                  <a:pathLst>
                    <a:path w="474" h="499">
                      <a:moveTo>
                        <a:pt x="74" y="85"/>
                      </a:moveTo>
                      <a:lnTo>
                        <a:pt x="46" y="123"/>
                      </a:lnTo>
                      <a:lnTo>
                        <a:pt x="2" y="222"/>
                      </a:lnTo>
                      <a:lnTo>
                        <a:pt x="0" y="345"/>
                      </a:lnTo>
                      <a:lnTo>
                        <a:pt x="14" y="378"/>
                      </a:lnTo>
                      <a:lnTo>
                        <a:pt x="35" y="408"/>
                      </a:lnTo>
                      <a:lnTo>
                        <a:pt x="63" y="439"/>
                      </a:lnTo>
                      <a:lnTo>
                        <a:pt x="101" y="465"/>
                      </a:lnTo>
                      <a:lnTo>
                        <a:pt x="143" y="488"/>
                      </a:lnTo>
                      <a:lnTo>
                        <a:pt x="181" y="499"/>
                      </a:lnTo>
                      <a:lnTo>
                        <a:pt x="253" y="498"/>
                      </a:lnTo>
                      <a:lnTo>
                        <a:pt x="316" y="471"/>
                      </a:lnTo>
                      <a:lnTo>
                        <a:pt x="367" y="429"/>
                      </a:lnTo>
                      <a:lnTo>
                        <a:pt x="407" y="380"/>
                      </a:lnTo>
                      <a:lnTo>
                        <a:pt x="438" y="334"/>
                      </a:lnTo>
                      <a:lnTo>
                        <a:pt x="462" y="285"/>
                      </a:lnTo>
                      <a:lnTo>
                        <a:pt x="474" y="150"/>
                      </a:lnTo>
                      <a:lnTo>
                        <a:pt x="464" y="98"/>
                      </a:lnTo>
                      <a:lnTo>
                        <a:pt x="443" y="53"/>
                      </a:lnTo>
                      <a:lnTo>
                        <a:pt x="426" y="34"/>
                      </a:lnTo>
                      <a:lnTo>
                        <a:pt x="407" y="17"/>
                      </a:lnTo>
                      <a:lnTo>
                        <a:pt x="350" y="0"/>
                      </a:lnTo>
                      <a:lnTo>
                        <a:pt x="373" y="28"/>
                      </a:lnTo>
                      <a:lnTo>
                        <a:pt x="409" y="106"/>
                      </a:lnTo>
                      <a:lnTo>
                        <a:pt x="409" y="220"/>
                      </a:lnTo>
                      <a:lnTo>
                        <a:pt x="377" y="288"/>
                      </a:lnTo>
                      <a:lnTo>
                        <a:pt x="352" y="323"/>
                      </a:lnTo>
                      <a:lnTo>
                        <a:pt x="318" y="359"/>
                      </a:lnTo>
                      <a:lnTo>
                        <a:pt x="295" y="376"/>
                      </a:lnTo>
                      <a:lnTo>
                        <a:pt x="236" y="403"/>
                      </a:lnTo>
                      <a:lnTo>
                        <a:pt x="160" y="403"/>
                      </a:lnTo>
                      <a:lnTo>
                        <a:pt x="80" y="338"/>
                      </a:lnTo>
                      <a:lnTo>
                        <a:pt x="86" y="199"/>
                      </a:lnTo>
                      <a:lnTo>
                        <a:pt x="107" y="142"/>
                      </a:lnTo>
                      <a:lnTo>
                        <a:pt x="145" y="89"/>
                      </a:lnTo>
                      <a:lnTo>
                        <a:pt x="171" y="62"/>
                      </a:lnTo>
                      <a:lnTo>
                        <a:pt x="204" y="41"/>
                      </a:lnTo>
                      <a:lnTo>
                        <a:pt x="242" y="20"/>
                      </a:lnTo>
                      <a:lnTo>
                        <a:pt x="285" y="3"/>
                      </a:lnTo>
                      <a:lnTo>
                        <a:pt x="249" y="0"/>
                      </a:lnTo>
                      <a:lnTo>
                        <a:pt x="107" y="57"/>
                      </a:lnTo>
                      <a:lnTo>
                        <a:pt x="74" y="85"/>
                      </a:lnTo>
                      <a:lnTo>
                        <a:pt x="74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166120" y="680400"/>
                  <a:ext cx="4932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479">
                      <a:moveTo>
                        <a:pt x="0" y="28"/>
                      </a:moveTo>
                      <a:lnTo>
                        <a:pt x="106" y="435"/>
                      </a:lnTo>
                      <a:lnTo>
                        <a:pt x="122" y="479"/>
                      </a:lnTo>
                      <a:lnTo>
                        <a:pt x="186" y="414"/>
                      </a:lnTo>
                      <a:lnTo>
                        <a:pt x="3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205720" y="791280"/>
                  <a:ext cx="47880" cy="210600"/>
                </a:xfrm>
                <a:custGeom>
                  <a:avLst/>
                  <a:gdLst/>
                  <a:ahLst/>
                  <a:rect l="l" t="t" r="r" b="b"/>
                  <a:pathLst>
                    <a:path w="183" h="800">
                      <a:moveTo>
                        <a:pt x="0" y="42"/>
                      </a:moveTo>
                      <a:lnTo>
                        <a:pt x="29" y="85"/>
                      </a:lnTo>
                      <a:lnTo>
                        <a:pt x="84" y="220"/>
                      </a:lnTo>
                      <a:lnTo>
                        <a:pt x="114" y="456"/>
                      </a:lnTo>
                      <a:lnTo>
                        <a:pt x="107" y="614"/>
                      </a:lnTo>
                      <a:lnTo>
                        <a:pt x="74" y="800"/>
                      </a:lnTo>
                      <a:lnTo>
                        <a:pt x="128" y="796"/>
                      </a:lnTo>
                      <a:lnTo>
                        <a:pt x="150" y="692"/>
                      </a:lnTo>
                      <a:lnTo>
                        <a:pt x="183" y="452"/>
                      </a:lnTo>
                      <a:lnTo>
                        <a:pt x="173" y="184"/>
                      </a:lnTo>
                      <a:lnTo>
                        <a:pt x="158" y="127"/>
                      </a:lnTo>
                      <a:lnTo>
                        <a:pt x="135" y="76"/>
                      </a:lnTo>
                      <a:lnTo>
                        <a:pt x="107" y="32"/>
                      </a:lnTo>
                      <a:lnTo>
                        <a:pt x="69" y="0"/>
                      </a:lnTo>
                      <a:lnTo>
                        <a:pt x="0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608480" y="859680"/>
                  <a:ext cx="106560" cy="110520"/>
                </a:xfrm>
                <a:custGeom>
                  <a:avLst/>
                  <a:gdLst/>
                  <a:ahLst/>
                  <a:rect l="l" t="t" r="r" b="b"/>
                  <a:pathLst>
                    <a:path w="403" h="420">
                      <a:moveTo>
                        <a:pt x="0" y="295"/>
                      </a:moveTo>
                      <a:lnTo>
                        <a:pt x="17" y="177"/>
                      </a:lnTo>
                      <a:lnTo>
                        <a:pt x="32" y="129"/>
                      </a:lnTo>
                      <a:lnTo>
                        <a:pt x="57" y="86"/>
                      </a:lnTo>
                      <a:lnTo>
                        <a:pt x="89" y="48"/>
                      </a:lnTo>
                      <a:lnTo>
                        <a:pt x="133" y="23"/>
                      </a:lnTo>
                      <a:lnTo>
                        <a:pt x="245" y="0"/>
                      </a:lnTo>
                      <a:lnTo>
                        <a:pt x="352" y="21"/>
                      </a:lnTo>
                      <a:lnTo>
                        <a:pt x="388" y="55"/>
                      </a:lnTo>
                      <a:lnTo>
                        <a:pt x="403" y="112"/>
                      </a:lnTo>
                      <a:lnTo>
                        <a:pt x="395" y="190"/>
                      </a:lnTo>
                      <a:lnTo>
                        <a:pt x="380" y="242"/>
                      </a:lnTo>
                      <a:lnTo>
                        <a:pt x="355" y="299"/>
                      </a:lnTo>
                      <a:lnTo>
                        <a:pt x="336" y="327"/>
                      </a:lnTo>
                      <a:lnTo>
                        <a:pt x="300" y="361"/>
                      </a:lnTo>
                      <a:lnTo>
                        <a:pt x="256" y="394"/>
                      </a:lnTo>
                      <a:lnTo>
                        <a:pt x="209" y="417"/>
                      </a:lnTo>
                      <a:lnTo>
                        <a:pt x="159" y="420"/>
                      </a:lnTo>
                      <a:lnTo>
                        <a:pt x="116" y="399"/>
                      </a:lnTo>
                      <a:lnTo>
                        <a:pt x="83" y="346"/>
                      </a:lnTo>
                      <a:lnTo>
                        <a:pt x="64" y="251"/>
                      </a:lnTo>
                      <a:lnTo>
                        <a:pt x="74" y="207"/>
                      </a:lnTo>
                      <a:lnTo>
                        <a:pt x="93" y="249"/>
                      </a:lnTo>
                      <a:lnTo>
                        <a:pt x="114" y="283"/>
                      </a:lnTo>
                      <a:lnTo>
                        <a:pt x="140" y="320"/>
                      </a:lnTo>
                      <a:lnTo>
                        <a:pt x="173" y="342"/>
                      </a:lnTo>
                      <a:lnTo>
                        <a:pt x="209" y="348"/>
                      </a:lnTo>
                      <a:lnTo>
                        <a:pt x="287" y="266"/>
                      </a:lnTo>
                      <a:lnTo>
                        <a:pt x="323" y="143"/>
                      </a:lnTo>
                      <a:lnTo>
                        <a:pt x="313" y="107"/>
                      </a:lnTo>
                      <a:lnTo>
                        <a:pt x="296" y="84"/>
                      </a:lnTo>
                      <a:lnTo>
                        <a:pt x="249" y="67"/>
                      </a:lnTo>
                      <a:lnTo>
                        <a:pt x="222" y="65"/>
                      </a:lnTo>
                      <a:lnTo>
                        <a:pt x="102" y="107"/>
                      </a:lnTo>
                      <a:lnTo>
                        <a:pt x="38" y="202"/>
                      </a:lnTo>
                      <a:lnTo>
                        <a:pt x="0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758240" y="1059840"/>
                  <a:ext cx="232560" cy="55080"/>
                </a:xfrm>
                <a:custGeom>
                  <a:avLst/>
                  <a:gdLst/>
                  <a:ahLst/>
                  <a:rect l="l" t="t" r="r" b="b"/>
                  <a:pathLst>
                    <a:path w="883" h="211">
                      <a:moveTo>
                        <a:pt x="0" y="127"/>
                      </a:moveTo>
                      <a:lnTo>
                        <a:pt x="76" y="112"/>
                      </a:lnTo>
                      <a:lnTo>
                        <a:pt x="303" y="89"/>
                      </a:lnTo>
                      <a:lnTo>
                        <a:pt x="797" y="11"/>
                      </a:lnTo>
                      <a:lnTo>
                        <a:pt x="883" y="0"/>
                      </a:lnTo>
                      <a:lnTo>
                        <a:pt x="879" y="20"/>
                      </a:lnTo>
                      <a:lnTo>
                        <a:pt x="856" y="51"/>
                      </a:lnTo>
                      <a:lnTo>
                        <a:pt x="818" y="85"/>
                      </a:lnTo>
                      <a:lnTo>
                        <a:pt x="772" y="121"/>
                      </a:lnTo>
                      <a:lnTo>
                        <a:pt x="727" y="150"/>
                      </a:lnTo>
                      <a:lnTo>
                        <a:pt x="687" y="169"/>
                      </a:lnTo>
                      <a:lnTo>
                        <a:pt x="590" y="195"/>
                      </a:lnTo>
                      <a:lnTo>
                        <a:pt x="441" y="211"/>
                      </a:lnTo>
                      <a:lnTo>
                        <a:pt x="244" y="193"/>
                      </a:lnTo>
                      <a:lnTo>
                        <a:pt x="0" y="12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604880" y="1019160"/>
                  <a:ext cx="415800" cy="131760"/>
                </a:xfrm>
                <a:custGeom>
                  <a:avLst/>
                  <a:gdLst/>
                  <a:ahLst/>
                  <a:rect l="l" t="t" r="r" b="b"/>
                  <a:pathLst>
                    <a:path w="1578" h="500">
                      <a:moveTo>
                        <a:pt x="5" y="0"/>
                      </a:moveTo>
                      <a:lnTo>
                        <a:pt x="0" y="83"/>
                      </a:lnTo>
                      <a:lnTo>
                        <a:pt x="38" y="123"/>
                      </a:lnTo>
                      <a:lnTo>
                        <a:pt x="74" y="154"/>
                      </a:lnTo>
                      <a:lnTo>
                        <a:pt x="121" y="190"/>
                      </a:lnTo>
                      <a:lnTo>
                        <a:pt x="180" y="232"/>
                      </a:lnTo>
                      <a:lnTo>
                        <a:pt x="213" y="252"/>
                      </a:lnTo>
                      <a:lnTo>
                        <a:pt x="249" y="273"/>
                      </a:lnTo>
                      <a:lnTo>
                        <a:pt x="287" y="296"/>
                      </a:lnTo>
                      <a:lnTo>
                        <a:pt x="327" y="317"/>
                      </a:lnTo>
                      <a:lnTo>
                        <a:pt x="370" y="340"/>
                      </a:lnTo>
                      <a:lnTo>
                        <a:pt x="416" y="361"/>
                      </a:lnTo>
                      <a:lnTo>
                        <a:pt x="517" y="401"/>
                      </a:lnTo>
                      <a:lnTo>
                        <a:pt x="625" y="435"/>
                      </a:lnTo>
                      <a:lnTo>
                        <a:pt x="745" y="465"/>
                      </a:lnTo>
                      <a:lnTo>
                        <a:pt x="872" y="486"/>
                      </a:lnTo>
                      <a:lnTo>
                        <a:pt x="1157" y="500"/>
                      </a:lnTo>
                      <a:lnTo>
                        <a:pt x="1477" y="462"/>
                      </a:lnTo>
                      <a:lnTo>
                        <a:pt x="1578" y="391"/>
                      </a:lnTo>
                      <a:lnTo>
                        <a:pt x="1469" y="404"/>
                      </a:lnTo>
                      <a:lnTo>
                        <a:pt x="1201" y="422"/>
                      </a:lnTo>
                      <a:lnTo>
                        <a:pt x="874" y="416"/>
                      </a:lnTo>
                      <a:lnTo>
                        <a:pt x="581" y="361"/>
                      </a:lnTo>
                      <a:lnTo>
                        <a:pt x="465" y="313"/>
                      </a:lnTo>
                      <a:lnTo>
                        <a:pt x="363" y="264"/>
                      </a:lnTo>
                      <a:lnTo>
                        <a:pt x="270" y="216"/>
                      </a:lnTo>
                      <a:lnTo>
                        <a:pt x="192" y="171"/>
                      </a:lnTo>
                      <a:lnTo>
                        <a:pt x="125" y="129"/>
                      </a:lnTo>
                      <a:lnTo>
                        <a:pt x="76" y="93"/>
                      </a:lnTo>
                      <a:lnTo>
                        <a:pt x="26" y="4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672200" y="1082160"/>
                  <a:ext cx="90000" cy="50400"/>
                </a:xfrm>
                <a:custGeom>
                  <a:avLst/>
                  <a:gdLst/>
                  <a:ahLst/>
                  <a:rect l="l" t="t" r="r" b="b"/>
                  <a:pathLst>
                    <a:path w="342" h="192">
                      <a:moveTo>
                        <a:pt x="2" y="0"/>
                      </a:moveTo>
                      <a:lnTo>
                        <a:pt x="0" y="14"/>
                      </a:lnTo>
                      <a:lnTo>
                        <a:pt x="2" y="48"/>
                      </a:lnTo>
                      <a:lnTo>
                        <a:pt x="21" y="90"/>
                      </a:lnTo>
                      <a:lnTo>
                        <a:pt x="40" y="110"/>
                      </a:lnTo>
                      <a:lnTo>
                        <a:pt x="71" y="129"/>
                      </a:lnTo>
                      <a:lnTo>
                        <a:pt x="147" y="160"/>
                      </a:lnTo>
                      <a:lnTo>
                        <a:pt x="226" y="179"/>
                      </a:lnTo>
                      <a:lnTo>
                        <a:pt x="316" y="192"/>
                      </a:lnTo>
                      <a:lnTo>
                        <a:pt x="342" y="171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945440" y="939240"/>
                  <a:ext cx="225720" cy="250200"/>
                </a:xfrm>
                <a:custGeom>
                  <a:avLst/>
                  <a:gdLst/>
                  <a:ahLst/>
                  <a:rect l="l" t="t" r="r" b="b"/>
                  <a:pathLst>
                    <a:path w="856" h="951">
                      <a:moveTo>
                        <a:pt x="0" y="765"/>
                      </a:moveTo>
                      <a:lnTo>
                        <a:pt x="14" y="791"/>
                      </a:lnTo>
                      <a:lnTo>
                        <a:pt x="52" y="850"/>
                      </a:lnTo>
                      <a:lnTo>
                        <a:pt x="76" y="881"/>
                      </a:lnTo>
                      <a:lnTo>
                        <a:pt x="105" y="909"/>
                      </a:lnTo>
                      <a:lnTo>
                        <a:pt x="137" y="930"/>
                      </a:lnTo>
                      <a:lnTo>
                        <a:pt x="170" y="941"/>
                      </a:lnTo>
                      <a:lnTo>
                        <a:pt x="375" y="951"/>
                      </a:lnTo>
                      <a:lnTo>
                        <a:pt x="481" y="939"/>
                      </a:lnTo>
                      <a:lnTo>
                        <a:pt x="552" y="909"/>
                      </a:lnTo>
                      <a:lnTo>
                        <a:pt x="586" y="871"/>
                      </a:lnTo>
                      <a:lnTo>
                        <a:pt x="645" y="806"/>
                      </a:lnTo>
                      <a:lnTo>
                        <a:pt x="679" y="763"/>
                      </a:lnTo>
                      <a:lnTo>
                        <a:pt x="715" y="715"/>
                      </a:lnTo>
                      <a:lnTo>
                        <a:pt x="748" y="662"/>
                      </a:lnTo>
                      <a:lnTo>
                        <a:pt x="780" y="603"/>
                      </a:lnTo>
                      <a:lnTo>
                        <a:pt x="831" y="476"/>
                      </a:lnTo>
                      <a:lnTo>
                        <a:pt x="856" y="335"/>
                      </a:lnTo>
                      <a:lnTo>
                        <a:pt x="839" y="185"/>
                      </a:lnTo>
                      <a:lnTo>
                        <a:pt x="812" y="109"/>
                      </a:lnTo>
                      <a:lnTo>
                        <a:pt x="791" y="69"/>
                      </a:lnTo>
                      <a:lnTo>
                        <a:pt x="769" y="31"/>
                      </a:lnTo>
                      <a:lnTo>
                        <a:pt x="740" y="14"/>
                      </a:lnTo>
                      <a:lnTo>
                        <a:pt x="687" y="0"/>
                      </a:lnTo>
                      <a:lnTo>
                        <a:pt x="580" y="10"/>
                      </a:lnTo>
                      <a:lnTo>
                        <a:pt x="533" y="63"/>
                      </a:lnTo>
                      <a:lnTo>
                        <a:pt x="502" y="103"/>
                      </a:lnTo>
                      <a:lnTo>
                        <a:pt x="472" y="149"/>
                      </a:lnTo>
                      <a:lnTo>
                        <a:pt x="443" y="192"/>
                      </a:lnTo>
                      <a:lnTo>
                        <a:pt x="421" y="229"/>
                      </a:lnTo>
                      <a:lnTo>
                        <a:pt x="400" y="265"/>
                      </a:lnTo>
                      <a:lnTo>
                        <a:pt x="436" y="208"/>
                      </a:lnTo>
                      <a:lnTo>
                        <a:pt x="474" y="154"/>
                      </a:lnTo>
                      <a:lnTo>
                        <a:pt x="523" y="96"/>
                      </a:lnTo>
                      <a:lnTo>
                        <a:pt x="552" y="71"/>
                      </a:lnTo>
                      <a:lnTo>
                        <a:pt x="578" y="46"/>
                      </a:lnTo>
                      <a:lnTo>
                        <a:pt x="635" y="16"/>
                      </a:lnTo>
                      <a:lnTo>
                        <a:pt x="692" y="14"/>
                      </a:lnTo>
                      <a:lnTo>
                        <a:pt x="742" y="50"/>
                      </a:lnTo>
                      <a:lnTo>
                        <a:pt x="812" y="185"/>
                      </a:lnTo>
                      <a:lnTo>
                        <a:pt x="824" y="354"/>
                      </a:lnTo>
                      <a:lnTo>
                        <a:pt x="801" y="453"/>
                      </a:lnTo>
                      <a:lnTo>
                        <a:pt x="782" y="508"/>
                      </a:lnTo>
                      <a:lnTo>
                        <a:pt x="757" y="563"/>
                      </a:lnTo>
                      <a:lnTo>
                        <a:pt x="727" y="624"/>
                      </a:lnTo>
                      <a:lnTo>
                        <a:pt x="691" y="687"/>
                      </a:lnTo>
                      <a:lnTo>
                        <a:pt x="647" y="751"/>
                      </a:lnTo>
                      <a:lnTo>
                        <a:pt x="597" y="822"/>
                      </a:lnTo>
                      <a:lnTo>
                        <a:pt x="569" y="850"/>
                      </a:lnTo>
                      <a:lnTo>
                        <a:pt x="538" y="869"/>
                      </a:lnTo>
                      <a:lnTo>
                        <a:pt x="499" y="886"/>
                      </a:lnTo>
                      <a:lnTo>
                        <a:pt x="371" y="907"/>
                      </a:lnTo>
                      <a:lnTo>
                        <a:pt x="170" y="898"/>
                      </a:lnTo>
                      <a:lnTo>
                        <a:pt x="37" y="776"/>
                      </a:lnTo>
                      <a:lnTo>
                        <a:pt x="0" y="765"/>
                      </a:lnTo>
                      <a:lnTo>
                        <a:pt x="0" y="7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722240" y="825480"/>
                  <a:ext cx="150120" cy="226080"/>
                </a:xfrm>
                <a:custGeom>
                  <a:avLst/>
                  <a:gdLst/>
                  <a:ahLst/>
                  <a:rect l="l" t="t" r="r" b="b"/>
                  <a:pathLst>
                    <a:path w="571" h="857">
                      <a:moveTo>
                        <a:pt x="0" y="831"/>
                      </a:moveTo>
                      <a:lnTo>
                        <a:pt x="21" y="753"/>
                      </a:lnTo>
                      <a:lnTo>
                        <a:pt x="52" y="665"/>
                      </a:lnTo>
                      <a:lnTo>
                        <a:pt x="71" y="614"/>
                      </a:lnTo>
                      <a:lnTo>
                        <a:pt x="95" y="557"/>
                      </a:lnTo>
                      <a:lnTo>
                        <a:pt x="122" y="498"/>
                      </a:lnTo>
                      <a:lnTo>
                        <a:pt x="154" y="435"/>
                      </a:lnTo>
                      <a:lnTo>
                        <a:pt x="190" y="373"/>
                      </a:lnTo>
                      <a:lnTo>
                        <a:pt x="232" y="308"/>
                      </a:lnTo>
                      <a:lnTo>
                        <a:pt x="278" y="245"/>
                      </a:lnTo>
                      <a:lnTo>
                        <a:pt x="329" y="184"/>
                      </a:lnTo>
                      <a:lnTo>
                        <a:pt x="384" y="125"/>
                      </a:lnTo>
                      <a:lnTo>
                        <a:pt x="415" y="97"/>
                      </a:lnTo>
                      <a:lnTo>
                        <a:pt x="445" y="70"/>
                      </a:lnTo>
                      <a:lnTo>
                        <a:pt x="571" y="0"/>
                      </a:lnTo>
                      <a:lnTo>
                        <a:pt x="519" y="42"/>
                      </a:lnTo>
                      <a:lnTo>
                        <a:pt x="495" y="67"/>
                      </a:lnTo>
                      <a:lnTo>
                        <a:pt x="464" y="97"/>
                      </a:lnTo>
                      <a:lnTo>
                        <a:pt x="396" y="173"/>
                      </a:lnTo>
                      <a:lnTo>
                        <a:pt x="360" y="219"/>
                      </a:lnTo>
                      <a:lnTo>
                        <a:pt x="320" y="272"/>
                      </a:lnTo>
                      <a:lnTo>
                        <a:pt x="280" y="331"/>
                      </a:lnTo>
                      <a:lnTo>
                        <a:pt x="240" y="395"/>
                      </a:lnTo>
                      <a:lnTo>
                        <a:pt x="202" y="464"/>
                      </a:lnTo>
                      <a:lnTo>
                        <a:pt x="164" y="540"/>
                      </a:lnTo>
                      <a:lnTo>
                        <a:pt x="126" y="623"/>
                      </a:lnTo>
                      <a:lnTo>
                        <a:pt x="92" y="711"/>
                      </a:lnTo>
                      <a:lnTo>
                        <a:pt x="71" y="857"/>
                      </a:lnTo>
                      <a:lnTo>
                        <a:pt x="0" y="831"/>
                      </a:lnTo>
                      <a:lnTo>
                        <a:pt x="0" y="8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031120" y="862920"/>
                  <a:ext cx="81720" cy="83520"/>
                </a:xfrm>
                <a:custGeom>
                  <a:avLst/>
                  <a:gdLst/>
                  <a:ahLst/>
                  <a:rect l="l" t="t" r="r" b="b"/>
                  <a:pathLst>
                    <a:path w="310" h="317">
                      <a:moveTo>
                        <a:pt x="9" y="307"/>
                      </a:moveTo>
                      <a:lnTo>
                        <a:pt x="2" y="317"/>
                      </a:lnTo>
                      <a:lnTo>
                        <a:pt x="0" y="298"/>
                      </a:lnTo>
                      <a:lnTo>
                        <a:pt x="22" y="211"/>
                      </a:lnTo>
                      <a:lnTo>
                        <a:pt x="45" y="155"/>
                      </a:lnTo>
                      <a:lnTo>
                        <a:pt x="74" y="100"/>
                      </a:lnTo>
                      <a:lnTo>
                        <a:pt x="108" y="53"/>
                      </a:lnTo>
                      <a:lnTo>
                        <a:pt x="148" y="22"/>
                      </a:lnTo>
                      <a:lnTo>
                        <a:pt x="220" y="0"/>
                      </a:lnTo>
                      <a:lnTo>
                        <a:pt x="270" y="7"/>
                      </a:lnTo>
                      <a:lnTo>
                        <a:pt x="310" y="38"/>
                      </a:lnTo>
                      <a:lnTo>
                        <a:pt x="207" y="85"/>
                      </a:lnTo>
                      <a:lnTo>
                        <a:pt x="161" y="119"/>
                      </a:lnTo>
                      <a:lnTo>
                        <a:pt x="112" y="167"/>
                      </a:lnTo>
                      <a:lnTo>
                        <a:pt x="60" y="228"/>
                      </a:lnTo>
                      <a:lnTo>
                        <a:pt x="9" y="307"/>
                      </a:lnTo>
                      <a:lnTo>
                        <a:pt x="9" y="307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57320" y="1143720"/>
                  <a:ext cx="100080" cy="11880"/>
                </a:xfrm>
                <a:custGeom>
                  <a:avLst/>
                  <a:gdLst/>
                  <a:ahLst/>
                  <a:rect l="l" t="t" r="r" b="b"/>
                  <a:pathLst>
                    <a:path w="380" h="48">
                      <a:moveTo>
                        <a:pt x="0" y="15"/>
                      </a:moveTo>
                      <a:lnTo>
                        <a:pt x="380" y="0"/>
                      </a:lnTo>
                      <a:lnTo>
                        <a:pt x="0" y="48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964520" y="1158840"/>
                  <a:ext cx="71280" cy="115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0" y="11"/>
                      </a:moveTo>
                      <a:lnTo>
                        <a:pt x="270" y="0"/>
                      </a:lnTo>
                      <a:lnTo>
                        <a:pt x="42" y="44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66400" y="977760"/>
                  <a:ext cx="6948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521">
                      <a:moveTo>
                        <a:pt x="32" y="521"/>
                      </a:moveTo>
                      <a:lnTo>
                        <a:pt x="47" y="363"/>
                      </a:lnTo>
                      <a:lnTo>
                        <a:pt x="60" y="298"/>
                      </a:lnTo>
                      <a:lnTo>
                        <a:pt x="81" y="236"/>
                      </a:lnTo>
                      <a:lnTo>
                        <a:pt x="110" y="180"/>
                      </a:lnTo>
                      <a:lnTo>
                        <a:pt x="150" y="139"/>
                      </a:lnTo>
                      <a:lnTo>
                        <a:pt x="169" y="125"/>
                      </a:lnTo>
                      <a:lnTo>
                        <a:pt x="195" y="112"/>
                      </a:lnTo>
                      <a:lnTo>
                        <a:pt x="216" y="123"/>
                      </a:lnTo>
                      <a:lnTo>
                        <a:pt x="222" y="182"/>
                      </a:lnTo>
                      <a:lnTo>
                        <a:pt x="197" y="329"/>
                      </a:lnTo>
                      <a:lnTo>
                        <a:pt x="180" y="388"/>
                      </a:lnTo>
                      <a:lnTo>
                        <a:pt x="218" y="329"/>
                      </a:lnTo>
                      <a:lnTo>
                        <a:pt x="264" y="118"/>
                      </a:lnTo>
                      <a:lnTo>
                        <a:pt x="262" y="66"/>
                      </a:lnTo>
                      <a:lnTo>
                        <a:pt x="251" y="26"/>
                      </a:lnTo>
                      <a:lnTo>
                        <a:pt x="226" y="0"/>
                      </a:lnTo>
                      <a:lnTo>
                        <a:pt x="167" y="6"/>
                      </a:lnTo>
                      <a:lnTo>
                        <a:pt x="91" y="80"/>
                      </a:lnTo>
                      <a:lnTo>
                        <a:pt x="22" y="226"/>
                      </a:lnTo>
                      <a:lnTo>
                        <a:pt x="0" y="348"/>
                      </a:lnTo>
                      <a:lnTo>
                        <a:pt x="9" y="462"/>
                      </a:lnTo>
                      <a:lnTo>
                        <a:pt x="32" y="521"/>
                      </a:lnTo>
                      <a:lnTo>
                        <a:pt x="32" y="5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975680" y="1170720"/>
                  <a:ext cx="48240" cy="8280"/>
                </a:xfrm>
                <a:custGeom>
                  <a:avLst/>
                  <a:gdLst/>
                  <a:ahLst/>
                  <a:rect l="l" t="t" r="r" b="b"/>
                  <a:pathLst>
                    <a:path w="184" h="32">
                      <a:moveTo>
                        <a:pt x="38" y="32"/>
                      </a:moveTo>
                      <a:lnTo>
                        <a:pt x="184" y="0"/>
                      </a:lnTo>
                      <a:lnTo>
                        <a:pt x="0" y="0"/>
                      </a:lnTo>
                      <a:lnTo>
                        <a:pt x="38" y="32"/>
                      </a:lnTo>
                      <a:lnTo>
                        <a:pt x="3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262600" y="881640"/>
                  <a:ext cx="101160" cy="133200"/>
                </a:xfrm>
                <a:custGeom>
                  <a:avLst/>
                  <a:gdLst/>
                  <a:ahLst/>
                  <a:rect l="l" t="t" r="r" b="b"/>
                  <a:pathLst>
                    <a:path w="384" h="505">
                      <a:moveTo>
                        <a:pt x="384" y="0"/>
                      </a:moveTo>
                      <a:lnTo>
                        <a:pt x="371" y="188"/>
                      </a:lnTo>
                      <a:lnTo>
                        <a:pt x="352" y="273"/>
                      </a:lnTo>
                      <a:lnTo>
                        <a:pt x="321" y="355"/>
                      </a:lnTo>
                      <a:lnTo>
                        <a:pt x="302" y="393"/>
                      </a:lnTo>
                      <a:lnTo>
                        <a:pt x="280" y="429"/>
                      </a:lnTo>
                      <a:lnTo>
                        <a:pt x="253" y="458"/>
                      </a:lnTo>
                      <a:lnTo>
                        <a:pt x="222" y="483"/>
                      </a:lnTo>
                      <a:lnTo>
                        <a:pt x="162" y="505"/>
                      </a:lnTo>
                      <a:lnTo>
                        <a:pt x="114" y="503"/>
                      </a:lnTo>
                      <a:lnTo>
                        <a:pt x="74" y="479"/>
                      </a:lnTo>
                      <a:lnTo>
                        <a:pt x="46" y="445"/>
                      </a:lnTo>
                      <a:lnTo>
                        <a:pt x="10" y="365"/>
                      </a:lnTo>
                      <a:lnTo>
                        <a:pt x="0" y="325"/>
                      </a:lnTo>
                      <a:lnTo>
                        <a:pt x="89" y="192"/>
                      </a:lnTo>
                      <a:lnTo>
                        <a:pt x="78" y="298"/>
                      </a:lnTo>
                      <a:lnTo>
                        <a:pt x="84" y="380"/>
                      </a:lnTo>
                      <a:lnTo>
                        <a:pt x="93" y="412"/>
                      </a:lnTo>
                      <a:lnTo>
                        <a:pt x="112" y="431"/>
                      </a:lnTo>
                      <a:lnTo>
                        <a:pt x="158" y="441"/>
                      </a:lnTo>
                      <a:lnTo>
                        <a:pt x="211" y="424"/>
                      </a:lnTo>
                      <a:lnTo>
                        <a:pt x="316" y="287"/>
                      </a:lnTo>
                      <a:lnTo>
                        <a:pt x="354" y="144"/>
                      </a:lnTo>
                      <a:lnTo>
                        <a:pt x="384" y="0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231640" y="994680"/>
                  <a:ext cx="47160" cy="24480"/>
                </a:xfrm>
                <a:custGeom>
                  <a:avLst/>
                  <a:gdLst/>
                  <a:ahLst/>
                  <a:rect l="l" t="t" r="r" b="b"/>
                  <a:pathLst>
                    <a:path w="181" h="94">
                      <a:moveTo>
                        <a:pt x="0" y="8"/>
                      </a:moveTo>
                      <a:lnTo>
                        <a:pt x="15" y="35"/>
                      </a:lnTo>
                      <a:lnTo>
                        <a:pt x="36" y="56"/>
                      </a:lnTo>
                      <a:lnTo>
                        <a:pt x="65" y="73"/>
                      </a:lnTo>
                      <a:lnTo>
                        <a:pt x="181" y="94"/>
                      </a:lnTo>
                      <a:lnTo>
                        <a:pt x="114" y="63"/>
                      </a:lnTo>
                      <a:lnTo>
                        <a:pt x="59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175480" y="945360"/>
                  <a:ext cx="56880" cy="86400"/>
                </a:xfrm>
                <a:custGeom>
                  <a:avLst/>
                  <a:gdLst/>
                  <a:ahLst/>
                  <a:rect l="l" t="t" r="r" b="b"/>
                  <a:pathLst>
                    <a:path w="217" h="327">
                      <a:moveTo>
                        <a:pt x="14" y="226"/>
                      </a:moveTo>
                      <a:lnTo>
                        <a:pt x="90" y="32"/>
                      </a:lnTo>
                      <a:lnTo>
                        <a:pt x="63" y="156"/>
                      </a:lnTo>
                      <a:lnTo>
                        <a:pt x="147" y="13"/>
                      </a:lnTo>
                      <a:lnTo>
                        <a:pt x="95" y="160"/>
                      </a:lnTo>
                      <a:lnTo>
                        <a:pt x="207" y="0"/>
                      </a:lnTo>
                      <a:lnTo>
                        <a:pt x="147" y="150"/>
                      </a:lnTo>
                      <a:lnTo>
                        <a:pt x="196" y="82"/>
                      </a:lnTo>
                      <a:lnTo>
                        <a:pt x="177" y="166"/>
                      </a:lnTo>
                      <a:lnTo>
                        <a:pt x="217" y="109"/>
                      </a:lnTo>
                      <a:lnTo>
                        <a:pt x="207" y="200"/>
                      </a:lnTo>
                      <a:lnTo>
                        <a:pt x="188" y="230"/>
                      </a:lnTo>
                      <a:lnTo>
                        <a:pt x="0" y="327"/>
                      </a:lnTo>
                      <a:lnTo>
                        <a:pt x="14" y="226"/>
                      </a:lnTo>
                      <a:lnTo>
                        <a:pt x="14" y="2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60520" y="907200"/>
                  <a:ext cx="38880" cy="31320"/>
                </a:xfrm>
                <a:custGeom>
                  <a:avLst/>
                  <a:gdLst/>
                  <a:ahLst/>
                  <a:rect l="l" t="t" r="r" b="b"/>
                  <a:pathLst>
                    <a:path w="146" h="120">
                      <a:moveTo>
                        <a:pt x="0" y="120"/>
                      </a:moveTo>
                      <a:lnTo>
                        <a:pt x="146" y="0"/>
                      </a:lnTo>
                      <a:lnTo>
                        <a:pt x="5" y="61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45400" y="878760"/>
                  <a:ext cx="138600" cy="86760"/>
                </a:xfrm>
                <a:custGeom>
                  <a:avLst/>
                  <a:gdLst/>
                  <a:ahLst/>
                  <a:rect l="l" t="t" r="r" b="b"/>
                  <a:pathLst>
                    <a:path w="526" h="331">
                      <a:moveTo>
                        <a:pt x="0" y="331"/>
                      </a:moveTo>
                      <a:lnTo>
                        <a:pt x="526" y="0"/>
                      </a:lnTo>
                      <a:lnTo>
                        <a:pt x="450" y="10"/>
                      </a:lnTo>
                      <a:lnTo>
                        <a:pt x="38" y="238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084760" y="1035720"/>
                  <a:ext cx="176040" cy="143280"/>
                </a:xfrm>
                <a:custGeom>
                  <a:avLst/>
                  <a:gdLst/>
                  <a:ahLst/>
                  <a:rect l="l" t="t" r="r" b="b"/>
                  <a:pathLst>
                    <a:path w="669" h="544">
                      <a:moveTo>
                        <a:pt x="0" y="544"/>
                      </a:moveTo>
                      <a:lnTo>
                        <a:pt x="108" y="512"/>
                      </a:lnTo>
                      <a:lnTo>
                        <a:pt x="669" y="0"/>
                      </a:lnTo>
                      <a:lnTo>
                        <a:pt x="576" y="38"/>
                      </a:lnTo>
                      <a:lnTo>
                        <a:pt x="185" y="337"/>
                      </a:lnTo>
                      <a:lnTo>
                        <a:pt x="0" y="544"/>
                      </a:lnTo>
                      <a:lnTo>
                        <a:pt x="0" y="5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318400" y="919800"/>
                  <a:ext cx="115200" cy="90360"/>
                </a:xfrm>
                <a:custGeom>
                  <a:avLst/>
                  <a:gdLst/>
                  <a:ahLst/>
                  <a:rect l="l" t="t" r="r" b="b"/>
                  <a:pathLst>
                    <a:path w="439" h="344">
                      <a:moveTo>
                        <a:pt x="0" y="344"/>
                      </a:moveTo>
                      <a:lnTo>
                        <a:pt x="439" y="55"/>
                      </a:lnTo>
                      <a:lnTo>
                        <a:pt x="114" y="230"/>
                      </a:lnTo>
                      <a:lnTo>
                        <a:pt x="439" y="0"/>
                      </a:lnTo>
                      <a:lnTo>
                        <a:pt x="114" y="175"/>
                      </a:lnTo>
                      <a:lnTo>
                        <a:pt x="103" y="230"/>
                      </a:lnTo>
                      <a:lnTo>
                        <a:pt x="0" y="344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307600" y="862200"/>
                  <a:ext cx="41400" cy="94680"/>
                </a:xfrm>
                <a:custGeom>
                  <a:avLst/>
                  <a:gdLst/>
                  <a:ahLst/>
                  <a:rect l="l" t="t" r="r" b="b"/>
                  <a:pathLst>
                    <a:path w="160" h="359">
                      <a:moveTo>
                        <a:pt x="25" y="359"/>
                      </a:moveTo>
                      <a:lnTo>
                        <a:pt x="0" y="266"/>
                      </a:lnTo>
                      <a:lnTo>
                        <a:pt x="14" y="161"/>
                      </a:lnTo>
                      <a:lnTo>
                        <a:pt x="38" y="98"/>
                      </a:lnTo>
                      <a:lnTo>
                        <a:pt x="57" y="64"/>
                      </a:lnTo>
                      <a:lnTo>
                        <a:pt x="80" y="28"/>
                      </a:lnTo>
                      <a:lnTo>
                        <a:pt x="92" y="19"/>
                      </a:lnTo>
                      <a:lnTo>
                        <a:pt x="114" y="3"/>
                      </a:lnTo>
                      <a:lnTo>
                        <a:pt x="141" y="0"/>
                      </a:lnTo>
                      <a:lnTo>
                        <a:pt x="154" y="24"/>
                      </a:lnTo>
                      <a:lnTo>
                        <a:pt x="160" y="131"/>
                      </a:lnTo>
                      <a:lnTo>
                        <a:pt x="152" y="188"/>
                      </a:lnTo>
                      <a:lnTo>
                        <a:pt x="133" y="237"/>
                      </a:lnTo>
                      <a:lnTo>
                        <a:pt x="107" y="260"/>
                      </a:lnTo>
                      <a:lnTo>
                        <a:pt x="105" y="239"/>
                      </a:lnTo>
                      <a:lnTo>
                        <a:pt x="107" y="79"/>
                      </a:lnTo>
                      <a:lnTo>
                        <a:pt x="61" y="150"/>
                      </a:lnTo>
                      <a:lnTo>
                        <a:pt x="48" y="207"/>
                      </a:lnTo>
                      <a:lnTo>
                        <a:pt x="33" y="323"/>
                      </a:lnTo>
                      <a:lnTo>
                        <a:pt x="25" y="359"/>
                      </a:lnTo>
                      <a:lnTo>
                        <a:pt x="25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266200" y="780480"/>
                  <a:ext cx="47880" cy="39240"/>
                </a:xfrm>
                <a:custGeom>
                  <a:avLst/>
                  <a:gdLst/>
                  <a:ahLst/>
                  <a:rect l="l" t="t" r="r" b="b"/>
                  <a:pathLst>
                    <a:path w="183" h="148">
                      <a:moveTo>
                        <a:pt x="0" y="148"/>
                      </a:moveTo>
                      <a:lnTo>
                        <a:pt x="29" y="93"/>
                      </a:lnTo>
                      <a:lnTo>
                        <a:pt x="63" y="47"/>
                      </a:lnTo>
                      <a:lnTo>
                        <a:pt x="84" y="28"/>
                      </a:lnTo>
                      <a:lnTo>
                        <a:pt x="109" y="13"/>
                      </a:lnTo>
                      <a:lnTo>
                        <a:pt x="158" y="0"/>
                      </a:lnTo>
                      <a:lnTo>
                        <a:pt x="183" y="7"/>
                      </a:lnTo>
                      <a:lnTo>
                        <a:pt x="164" y="28"/>
                      </a:lnTo>
                      <a:lnTo>
                        <a:pt x="124" y="57"/>
                      </a:lnTo>
                      <a:lnTo>
                        <a:pt x="88" y="89"/>
                      </a:lnTo>
                      <a:lnTo>
                        <a:pt x="57" y="120"/>
                      </a:lnTo>
                      <a:lnTo>
                        <a:pt x="29" y="137"/>
                      </a:lnTo>
                      <a:lnTo>
                        <a:pt x="0" y="148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823760" y="1079280"/>
                  <a:ext cx="128520" cy="23400"/>
                </a:xfrm>
                <a:custGeom>
                  <a:avLst/>
                  <a:gdLst/>
                  <a:ahLst/>
                  <a:rect l="l" t="t" r="r" b="b"/>
                  <a:pathLst>
                    <a:path w="487" h="89">
                      <a:moveTo>
                        <a:pt x="0" y="72"/>
                      </a:moveTo>
                      <a:lnTo>
                        <a:pt x="196" y="55"/>
                      </a:lnTo>
                      <a:lnTo>
                        <a:pt x="455" y="7"/>
                      </a:lnTo>
                      <a:lnTo>
                        <a:pt x="487" y="0"/>
                      </a:lnTo>
                      <a:lnTo>
                        <a:pt x="461" y="28"/>
                      </a:lnTo>
                      <a:lnTo>
                        <a:pt x="430" y="45"/>
                      </a:lnTo>
                      <a:lnTo>
                        <a:pt x="388" y="64"/>
                      </a:lnTo>
                      <a:lnTo>
                        <a:pt x="284" y="89"/>
                      </a:lnTo>
                      <a:lnTo>
                        <a:pt x="82" y="83"/>
                      </a:lnTo>
                      <a:lnTo>
                        <a:pt x="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918800" y="610920"/>
                  <a:ext cx="95400" cy="41040"/>
                </a:xfrm>
                <a:custGeom>
                  <a:avLst/>
                  <a:gdLst/>
                  <a:ahLst/>
                  <a:rect l="l" t="t" r="r" b="b"/>
                  <a:pathLst>
                    <a:path w="361" h="156">
                      <a:moveTo>
                        <a:pt x="0" y="133"/>
                      </a:moveTo>
                      <a:lnTo>
                        <a:pt x="34" y="114"/>
                      </a:lnTo>
                      <a:lnTo>
                        <a:pt x="74" y="94"/>
                      </a:lnTo>
                      <a:lnTo>
                        <a:pt x="121" y="71"/>
                      </a:lnTo>
                      <a:lnTo>
                        <a:pt x="178" y="48"/>
                      </a:lnTo>
                      <a:lnTo>
                        <a:pt x="239" y="25"/>
                      </a:lnTo>
                      <a:lnTo>
                        <a:pt x="361" y="0"/>
                      </a:lnTo>
                      <a:lnTo>
                        <a:pt x="329" y="14"/>
                      </a:lnTo>
                      <a:lnTo>
                        <a:pt x="256" y="46"/>
                      </a:lnTo>
                      <a:lnTo>
                        <a:pt x="182" y="90"/>
                      </a:lnTo>
                      <a:lnTo>
                        <a:pt x="146" y="133"/>
                      </a:lnTo>
                      <a:lnTo>
                        <a:pt x="139" y="149"/>
                      </a:lnTo>
                      <a:lnTo>
                        <a:pt x="120" y="156"/>
                      </a:lnTo>
                      <a:lnTo>
                        <a:pt x="70" y="154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640520" y="885960"/>
                  <a:ext cx="29520" cy="32760"/>
                </a:xfrm>
                <a:custGeom>
                  <a:avLst/>
                  <a:gdLst/>
                  <a:ahLst/>
                  <a:rect l="l" t="t" r="r" b="b"/>
                  <a:pathLst>
                    <a:path w="113" h="125">
                      <a:moveTo>
                        <a:pt x="14" y="61"/>
                      </a:moveTo>
                      <a:lnTo>
                        <a:pt x="52" y="15"/>
                      </a:lnTo>
                      <a:lnTo>
                        <a:pt x="84" y="0"/>
                      </a:lnTo>
                      <a:lnTo>
                        <a:pt x="113" y="4"/>
                      </a:lnTo>
                      <a:lnTo>
                        <a:pt x="57" y="87"/>
                      </a:lnTo>
                      <a:lnTo>
                        <a:pt x="44" y="125"/>
                      </a:lnTo>
                      <a:lnTo>
                        <a:pt x="25" y="122"/>
                      </a:lnTo>
                      <a:lnTo>
                        <a:pt x="0" y="89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16640" y="927000"/>
                  <a:ext cx="56880" cy="54360"/>
                </a:xfrm>
                <a:custGeom>
                  <a:avLst/>
                  <a:gdLst/>
                  <a:ahLst/>
                  <a:rect l="l" t="t" r="r" b="b"/>
                  <a:pathLst>
                    <a:path w="217" h="205">
                      <a:moveTo>
                        <a:pt x="0" y="205"/>
                      </a:moveTo>
                      <a:lnTo>
                        <a:pt x="12" y="137"/>
                      </a:lnTo>
                      <a:lnTo>
                        <a:pt x="42" y="78"/>
                      </a:lnTo>
                      <a:lnTo>
                        <a:pt x="69" y="49"/>
                      </a:lnTo>
                      <a:lnTo>
                        <a:pt x="109" y="23"/>
                      </a:lnTo>
                      <a:lnTo>
                        <a:pt x="173" y="0"/>
                      </a:lnTo>
                      <a:lnTo>
                        <a:pt x="207" y="7"/>
                      </a:lnTo>
                      <a:lnTo>
                        <a:pt x="217" y="38"/>
                      </a:lnTo>
                      <a:lnTo>
                        <a:pt x="188" y="108"/>
                      </a:lnTo>
                      <a:lnTo>
                        <a:pt x="137" y="161"/>
                      </a:lnTo>
                      <a:lnTo>
                        <a:pt x="99" y="184"/>
                      </a:lnTo>
                      <a:lnTo>
                        <a:pt x="50" y="199"/>
                      </a:lnTo>
                      <a:lnTo>
                        <a:pt x="0" y="205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38320" y="1028880"/>
                  <a:ext cx="72720" cy="128520"/>
                </a:xfrm>
                <a:custGeom>
                  <a:avLst/>
                  <a:gdLst/>
                  <a:ahLst/>
                  <a:rect l="l" t="t" r="r" b="b"/>
                  <a:pathLst>
                    <a:path w="276" h="488">
                      <a:moveTo>
                        <a:pt x="160" y="484"/>
                      </a:moveTo>
                      <a:lnTo>
                        <a:pt x="97" y="488"/>
                      </a:lnTo>
                      <a:lnTo>
                        <a:pt x="25" y="433"/>
                      </a:lnTo>
                      <a:lnTo>
                        <a:pt x="0" y="283"/>
                      </a:lnTo>
                      <a:lnTo>
                        <a:pt x="21" y="161"/>
                      </a:lnTo>
                      <a:lnTo>
                        <a:pt x="44" y="85"/>
                      </a:lnTo>
                      <a:lnTo>
                        <a:pt x="76" y="0"/>
                      </a:lnTo>
                      <a:lnTo>
                        <a:pt x="93" y="399"/>
                      </a:lnTo>
                      <a:lnTo>
                        <a:pt x="128" y="418"/>
                      </a:lnTo>
                      <a:lnTo>
                        <a:pt x="160" y="422"/>
                      </a:lnTo>
                      <a:lnTo>
                        <a:pt x="219" y="395"/>
                      </a:lnTo>
                      <a:lnTo>
                        <a:pt x="261" y="351"/>
                      </a:lnTo>
                      <a:lnTo>
                        <a:pt x="276" y="329"/>
                      </a:lnTo>
                      <a:lnTo>
                        <a:pt x="242" y="395"/>
                      </a:lnTo>
                      <a:lnTo>
                        <a:pt x="206" y="446"/>
                      </a:lnTo>
                      <a:lnTo>
                        <a:pt x="183" y="469"/>
                      </a:lnTo>
                      <a:lnTo>
                        <a:pt x="160" y="484"/>
                      </a:lnTo>
                      <a:lnTo>
                        <a:pt x="160" y="484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612800" y="1016640"/>
                  <a:ext cx="151560" cy="87840"/>
                </a:xfrm>
                <a:custGeom>
                  <a:avLst/>
                  <a:gdLst/>
                  <a:ahLst/>
                  <a:rect l="l" t="t" r="r" b="b"/>
                  <a:pathLst>
                    <a:path w="576" h="335">
                      <a:moveTo>
                        <a:pt x="0" y="0"/>
                      </a:moveTo>
                      <a:lnTo>
                        <a:pt x="49" y="38"/>
                      </a:lnTo>
                      <a:lnTo>
                        <a:pt x="105" y="78"/>
                      </a:lnTo>
                      <a:lnTo>
                        <a:pt x="139" y="101"/>
                      </a:lnTo>
                      <a:lnTo>
                        <a:pt x="177" y="127"/>
                      </a:lnTo>
                      <a:lnTo>
                        <a:pt x="219" y="154"/>
                      </a:lnTo>
                      <a:lnTo>
                        <a:pt x="264" y="183"/>
                      </a:lnTo>
                      <a:lnTo>
                        <a:pt x="312" y="209"/>
                      </a:lnTo>
                      <a:lnTo>
                        <a:pt x="361" y="238"/>
                      </a:lnTo>
                      <a:lnTo>
                        <a:pt x="413" y="264"/>
                      </a:lnTo>
                      <a:lnTo>
                        <a:pt x="466" y="289"/>
                      </a:lnTo>
                      <a:lnTo>
                        <a:pt x="521" y="314"/>
                      </a:lnTo>
                      <a:lnTo>
                        <a:pt x="576" y="335"/>
                      </a:lnTo>
                      <a:lnTo>
                        <a:pt x="534" y="321"/>
                      </a:lnTo>
                      <a:lnTo>
                        <a:pt x="430" y="283"/>
                      </a:lnTo>
                      <a:lnTo>
                        <a:pt x="367" y="261"/>
                      </a:lnTo>
                      <a:lnTo>
                        <a:pt x="302" y="234"/>
                      </a:lnTo>
                      <a:lnTo>
                        <a:pt x="240" y="203"/>
                      </a:lnTo>
                      <a:lnTo>
                        <a:pt x="186" y="173"/>
                      </a:lnTo>
                      <a:lnTo>
                        <a:pt x="141" y="143"/>
                      </a:lnTo>
                      <a:lnTo>
                        <a:pt x="101" y="112"/>
                      </a:lnTo>
                      <a:lnTo>
                        <a:pt x="68" y="84"/>
                      </a:lnTo>
                      <a:lnTo>
                        <a:pt x="44" y="5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697040" y="766440"/>
                  <a:ext cx="327960" cy="196200"/>
                </a:xfrm>
                <a:custGeom>
                  <a:avLst/>
                  <a:gdLst/>
                  <a:ahLst/>
                  <a:rect l="l" t="t" r="r" b="b"/>
                  <a:pathLst>
                    <a:path w="1246" h="747">
                      <a:moveTo>
                        <a:pt x="419" y="0"/>
                      </a:moveTo>
                      <a:lnTo>
                        <a:pt x="426" y="26"/>
                      </a:lnTo>
                      <a:lnTo>
                        <a:pt x="455" y="55"/>
                      </a:lnTo>
                      <a:lnTo>
                        <a:pt x="510" y="89"/>
                      </a:lnTo>
                      <a:lnTo>
                        <a:pt x="607" y="125"/>
                      </a:lnTo>
                      <a:lnTo>
                        <a:pt x="753" y="159"/>
                      </a:lnTo>
                      <a:lnTo>
                        <a:pt x="962" y="190"/>
                      </a:lnTo>
                      <a:lnTo>
                        <a:pt x="1246" y="211"/>
                      </a:lnTo>
                      <a:lnTo>
                        <a:pt x="985" y="226"/>
                      </a:lnTo>
                      <a:lnTo>
                        <a:pt x="719" y="214"/>
                      </a:lnTo>
                      <a:lnTo>
                        <a:pt x="419" y="157"/>
                      </a:lnTo>
                      <a:lnTo>
                        <a:pt x="379" y="195"/>
                      </a:lnTo>
                      <a:lnTo>
                        <a:pt x="333" y="243"/>
                      </a:lnTo>
                      <a:lnTo>
                        <a:pt x="278" y="308"/>
                      </a:lnTo>
                      <a:lnTo>
                        <a:pt x="246" y="348"/>
                      </a:lnTo>
                      <a:lnTo>
                        <a:pt x="211" y="391"/>
                      </a:lnTo>
                      <a:lnTo>
                        <a:pt x="177" y="439"/>
                      </a:lnTo>
                      <a:lnTo>
                        <a:pt x="141" y="492"/>
                      </a:lnTo>
                      <a:lnTo>
                        <a:pt x="105" y="549"/>
                      </a:lnTo>
                      <a:lnTo>
                        <a:pt x="69" y="610"/>
                      </a:lnTo>
                      <a:lnTo>
                        <a:pt x="35" y="676"/>
                      </a:lnTo>
                      <a:lnTo>
                        <a:pt x="0" y="747"/>
                      </a:lnTo>
                      <a:lnTo>
                        <a:pt x="33" y="659"/>
                      </a:lnTo>
                      <a:lnTo>
                        <a:pt x="69" y="568"/>
                      </a:lnTo>
                      <a:lnTo>
                        <a:pt x="92" y="517"/>
                      </a:lnTo>
                      <a:lnTo>
                        <a:pt x="116" y="462"/>
                      </a:lnTo>
                      <a:lnTo>
                        <a:pt x="145" y="405"/>
                      </a:lnTo>
                      <a:lnTo>
                        <a:pt x="173" y="349"/>
                      </a:lnTo>
                      <a:lnTo>
                        <a:pt x="204" y="294"/>
                      </a:lnTo>
                      <a:lnTo>
                        <a:pt x="234" y="243"/>
                      </a:lnTo>
                      <a:lnTo>
                        <a:pt x="267" y="197"/>
                      </a:lnTo>
                      <a:lnTo>
                        <a:pt x="299" y="157"/>
                      </a:lnTo>
                      <a:lnTo>
                        <a:pt x="333" y="123"/>
                      </a:lnTo>
                      <a:lnTo>
                        <a:pt x="365" y="100"/>
                      </a:lnTo>
                      <a:lnTo>
                        <a:pt x="419" y="0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"/>
              <p:cNvSpPr/>
              <p:nvPr/>
            </p:nvSpPr>
            <p:spPr>
              <a:xfrm>
                <a:off x="2430360" y="669960"/>
                <a:ext cx="200160" cy="5047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744560" y="1082520"/>
                <a:ext cx="755640" cy="214200"/>
              </a:xfrm>
              <a:custGeom>
                <a:avLst/>
                <a:gdLst/>
                <a:ahLst/>
                <a:rect l="l" t="t" r="r" b="b"/>
                <a:pathLst>
                  <a:path w="476" h="135">
                    <a:moveTo>
                      <a:pt x="0" y="18"/>
                    </a:moveTo>
                    <a:cubicBezTo>
                      <a:pt x="7" y="53"/>
                      <a:pt x="15" y="88"/>
                      <a:pt x="48" y="105"/>
                    </a:cubicBezTo>
                    <a:cubicBezTo>
                      <a:pt x="81" y="122"/>
                      <a:pt x="129" y="135"/>
                      <a:pt x="200" y="118"/>
                    </a:cubicBezTo>
                    <a:cubicBezTo>
                      <a:pt x="271" y="101"/>
                      <a:pt x="373" y="50"/>
                      <a:pt x="476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462400" y="72684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1" y="12"/>
                    </a:moveTo>
                    <a:lnTo>
                      <a:pt x="1" y="63"/>
                    </a:lnTo>
                    <a:lnTo>
                      <a:pt x="81" y="77"/>
                    </a:lnTo>
                    <a:lnTo>
                      <a:pt x="8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889360" y="577800"/>
              <a:ext cx="1030320" cy="699840"/>
              <a:chOff x="2889360" y="577800"/>
              <a:chExt cx="1030320" cy="69984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2889360" y="577800"/>
                <a:ext cx="941400" cy="606240"/>
                <a:chOff x="2889360" y="577800"/>
                <a:chExt cx="941400" cy="60624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998440" y="706680"/>
                  <a:ext cx="832320" cy="477360"/>
                </a:xfrm>
                <a:custGeom>
                  <a:avLst/>
                  <a:gdLst/>
                  <a:ahLst/>
                  <a:rect l="l" t="t" r="r" b="b"/>
                  <a:pathLst>
                    <a:path w="3154" h="1811">
                      <a:moveTo>
                        <a:pt x="220" y="1716"/>
                      </a:moveTo>
                      <a:lnTo>
                        <a:pt x="384" y="1752"/>
                      </a:lnTo>
                      <a:lnTo>
                        <a:pt x="532" y="1779"/>
                      </a:lnTo>
                      <a:lnTo>
                        <a:pt x="791" y="1811"/>
                      </a:lnTo>
                      <a:lnTo>
                        <a:pt x="1152" y="1811"/>
                      </a:lnTo>
                      <a:lnTo>
                        <a:pt x="1342" y="1773"/>
                      </a:lnTo>
                      <a:lnTo>
                        <a:pt x="1397" y="1747"/>
                      </a:lnTo>
                      <a:lnTo>
                        <a:pt x="1456" y="1707"/>
                      </a:lnTo>
                      <a:lnTo>
                        <a:pt x="1487" y="1686"/>
                      </a:lnTo>
                      <a:lnTo>
                        <a:pt x="1525" y="1659"/>
                      </a:lnTo>
                      <a:lnTo>
                        <a:pt x="1567" y="1631"/>
                      </a:lnTo>
                      <a:lnTo>
                        <a:pt x="1612" y="1598"/>
                      </a:lnTo>
                      <a:lnTo>
                        <a:pt x="1664" y="1564"/>
                      </a:lnTo>
                      <a:lnTo>
                        <a:pt x="1719" y="1526"/>
                      </a:lnTo>
                      <a:lnTo>
                        <a:pt x="1776" y="1486"/>
                      </a:lnTo>
                      <a:lnTo>
                        <a:pt x="1837" y="1444"/>
                      </a:lnTo>
                      <a:lnTo>
                        <a:pt x="1899" y="1401"/>
                      </a:lnTo>
                      <a:lnTo>
                        <a:pt x="1964" y="1355"/>
                      </a:lnTo>
                      <a:lnTo>
                        <a:pt x="1996" y="1332"/>
                      </a:lnTo>
                      <a:lnTo>
                        <a:pt x="2030" y="1309"/>
                      </a:lnTo>
                      <a:lnTo>
                        <a:pt x="2063" y="1287"/>
                      </a:lnTo>
                      <a:lnTo>
                        <a:pt x="2097" y="1264"/>
                      </a:lnTo>
                      <a:lnTo>
                        <a:pt x="2129" y="1239"/>
                      </a:lnTo>
                      <a:lnTo>
                        <a:pt x="2164" y="1216"/>
                      </a:lnTo>
                      <a:lnTo>
                        <a:pt x="2198" y="1193"/>
                      </a:lnTo>
                      <a:lnTo>
                        <a:pt x="2230" y="1169"/>
                      </a:lnTo>
                      <a:lnTo>
                        <a:pt x="2264" y="1146"/>
                      </a:lnTo>
                      <a:lnTo>
                        <a:pt x="2297" y="1123"/>
                      </a:lnTo>
                      <a:lnTo>
                        <a:pt x="2329" y="1100"/>
                      </a:lnTo>
                      <a:lnTo>
                        <a:pt x="2361" y="1077"/>
                      </a:lnTo>
                      <a:lnTo>
                        <a:pt x="2426" y="1034"/>
                      </a:lnTo>
                      <a:lnTo>
                        <a:pt x="2487" y="990"/>
                      </a:lnTo>
                      <a:lnTo>
                        <a:pt x="2546" y="946"/>
                      </a:lnTo>
                      <a:lnTo>
                        <a:pt x="2601" y="908"/>
                      </a:lnTo>
                      <a:lnTo>
                        <a:pt x="2654" y="870"/>
                      </a:lnTo>
                      <a:lnTo>
                        <a:pt x="2702" y="836"/>
                      </a:lnTo>
                      <a:lnTo>
                        <a:pt x="2745" y="804"/>
                      </a:lnTo>
                      <a:lnTo>
                        <a:pt x="2783" y="775"/>
                      </a:lnTo>
                      <a:lnTo>
                        <a:pt x="2844" y="730"/>
                      </a:lnTo>
                      <a:lnTo>
                        <a:pt x="2880" y="699"/>
                      </a:lnTo>
                      <a:lnTo>
                        <a:pt x="2920" y="656"/>
                      </a:lnTo>
                      <a:lnTo>
                        <a:pt x="2962" y="600"/>
                      </a:lnTo>
                      <a:lnTo>
                        <a:pt x="3002" y="543"/>
                      </a:lnTo>
                      <a:lnTo>
                        <a:pt x="3038" y="481"/>
                      </a:lnTo>
                      <a:lnTo>
                        <a:pt x="3072" y="422"/>
                      </a:lnTo>
                      <a:lnTo>
                        <a:pt x="3101" y="365"/>
                      </a:lnTo>
                      <a:lnTo>
                        <a:pt x="3139" y="281"/>
                      </a:lnTo>
                      <a:lnTo>
                        <a:pt x="3154" y="102"/>
                      </a:lnTo>
                      <a:lnTo>
                        <a:pt x="3139" y="74"/>
                      </a:lnTo>
                      <a:lnTo>
                        <a:pt x="3114" y="49"/>
                      </a:lnTo>
                      <a:lnTo>
                        <a:pt x="3078" y="28"/>
                      </a:lnTo>
                      <a:lnTo>
                        <a:pt x="3032" y="11"/>
                      </a:lnTo>
                      <a:lnTo>
                        <a:pt x="2897" y="0"/>
                      </a:lnTo>
                      <a:lnTo>
                        <a:pt x="2700" y="21"/>
                      </a:lnTo>
                      <a:lnTo>
                        <a:pt x="2470" y="70"/>
                      </a:lnTo>
                      <a:lnTo>
                        <a:pt x="2361" y="99"/>
                      </a:lnTo>
                      <a:lnTo>
                        <a:pt x="2255" y="129"/>
                      </a:lnTo>
                      <a:lnTo>
                        <a:pt x="2154" y="159"/>
                      </a:lnTo>
                      <a:lnTo>
                        <a:pt x="2057" y="192"/>
                      </a:lnTo>
                      <a:lnTo>
                        <a:pt x="1968" y="222"/>
                      </a:lnTo>
                      <a:lnTo>
                        <a:pt x="1884" y="254"/>
                      </a:lnTo>
                      <a:lnTo>
                        <a:pt x="1808" y="283"/>
                      </a:lnTo>
                      <a:lnTo>
                        <a:pt x="1740" y="310"/>
                      </a:lnTo>
                      <a:lnTo>
                        <a:pt x="1681" y="336"/>
                      </a:lnTo>
                      <a:lnTo>
                        <a:pt x="1629" y="357"/>
                      </a:lnTo>
                      <a:lnTo>
                        <a:pt x="1559" y="389"/>
                      </a:lnTo>
                      <a:lnTo>
                        <a:pt x="1536" y="401"/>
                      </a:lnTo>
                      <a:lnTo>
                        <a:pt x="1510" y="412"/>
                      </a:lnTo>
                      <a:lnTo>
                        <a:pt x="1441" y="448"/>
                      </a:lnTo>
                      <a:lnTo>
                        <a:pt x="1392" y="473"/>
                      </a:lnTo>
                      <a:lnTo>
                        <a:pt x="1335" y="503"/>
                      </a:lnTo>
                      <a:lnTo>
                        <a:pt x="1270" y="538"/>
                      </a:lnTo>
                      <a:lnTo>
                        <a:pt x="1202" y="576"/>
                      </a:lnTo>
                      <a:lnTo>
                        <a:pt x="1125" y="617"/>
                      </a:lnTo>
                      <a:lnTo>
                        <a:pt x="1046" y="663"/>
                      </a:lnTo>
                      <a:lnTo>
                        <a:pt x="1004" y="686"/>
                      </a:lnTo>
                      <a:lnTo>
                        <a:pt x="962" y="711"/>
                      </a:lnTo>
                      <a:lnTo>
                        <a:pt x="920" y="735"/>
                      </a:lnTo>
                      <a:lnTo>
                        <a:pt x="878" y="762"/>
                      </a:lnTo>
                      <a:lnTo>
                        <a:pt x="835" y="787"/>
                      </a:lnTo>
                      <a:lnTo>
                        <a:pt x="791" y="813"/>
                      </a:lnTo>
                      <a:lnTo>
                        <a:pt x="747" y="840"/>
                      </a:lnTo>
                      <a:lnTo>
                        <a:pt x="703" y="866"/>
                      </a:lnTo>
                      <a:lnTo>
                        <a:pt x="662" y="895"/>
                      </a:lnTo>
                      <a:lnTo>
                        <a:pt x="618" y="924"/>
                      </a:lnTo>
                      <a:lnTo>
                        <a:pt x="576" y="950"/>
                      </a:lnTo>
                      <a:lnTo>
                        <a:pt x="534" y="979"/>
                      </a:lnTo>
                      <a:lnTo>
                        <a:pt x="492" y="1007"/>
                      </a:lnTo>
                      <a:lnTo>
                        <a:pt x="452" y="1036"/>
                      </a:lnTo>
                      <a:lnTo>
                        <a:pt x="413" y="1064"/>
                      </a:lnTo>
                      <a:lnTo>
                        <a:pt x="374" y="1093"/>
                      </a:lnTo>
                      <a:lnTo>
                        <a:pt x="336" y="1121"/>
                      </a:lnTo>
                      <a:lnTo>
                        <a:pt x="300" y="1150"/>
                      </a:lnTo>
                      <a:lnTo>
                        <a:pt x="266" y="1178"/>
                      </a:lnTo>
                      <a:lnTo>
                        <a:pt x="234" y="1207"/>
                      </a:lnTo>
                      <a:lnTo>
                        <a:pt x="201" y="1235"/>
                      </a:lnTo>
                      <a:lnTo>
                        <a:pt x="171" y="1264"/>
                      </a:lnTo>
                      <a:lnTo>
                        <a:pt x="118" y="1317"/>
                      </a:lnTo>
                      <a:lnTo>
                        <a:pt x="74" y="1370"/>
                      </a:lnTo>
                      <a:lnTo>
                        <a:pt x="38" y="1422"/>
                      </a:lnTo>
                      <a:lnTo>
                        <a:pt x="0" y="1517"/>
                      </a:lnTo>
                      <a:lnTo>
                        <a:pt x="13" y="1598"/>
                      </a:lnTo>
                      <a:lnTo>
                        <a:pt x="40" y="1634"/>
                      </a:lnTo>
                      <a:lnTo>
                        <a:pt x="84" y="1667"/>
                      </a:lnTo>
                      <a:lnTo>
                        <a:pt x="143" y="1695"/>
                      </a:lnTo>
                      <a:lnTo>
                        <a:pt x="220" y="1716"/>
                      </a:lnTo>
                      <a:lnTo>
                        <a:pt x="220" y="1716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97640" y="586440"/>
                  <a:ext cx="796320" cy="527400"/>
                </a:xfrm>
                <a:custGeom>
                  <a:avLst/>
                  <a:gdLst/>
                  <a:ahLst/>
                  <a:rect l="l" t="t" r="r" b="b"/>
                  <a:pathLst>
                    <a:path w="3019" h="2003">
                      <a:moveTo>
                        <a:pt x="40" y="1591"/>
                      </a:moveTo>
                      <a:lnTo>
                        <a:pt x="68" y="1621"/>
                      </a:lnTo>
                      <a:lnTo>
                        <a:pt x="102" y="1653"/>
                      </a:lnTo>
                      <a:lnTo>
                        <a:pt x="150" y="1693"/>
                      </a:lnTo>
                      <a:lnTo>
                        <a:pt x="180" y="1716"/>
                      </a:lnTo>
                      <a:lnTo>
                        <a:pt x="213" y="1741"/>
                      </a:lnTo>
                      <a:lnTo>
                        <a:pt x="249" y="1765"/>
                      </a:lnTo>
                      <a:lnTo>
                        <a:pt x="289" y="1788"/>
                      </a:lnTo>
                      <a:lnTo>
                        <a:pt x="332" y="1813"/>
                      </a:lnTo>
                      <a:lnTo>
                        <a:pt x="380" y="1838"/>
                      </a:lnTo>
                      <a:lnTo>
                        <a:pt x="431" y="1860"/>
                      </a:lnTo>
                      <a:lnTo>
                        <a:pt x="487" y="1883"/>
                      </a:lnTo>
                      <a:lnTo>
                        <a:pt x="585" y="1917"/>
                      </a:lnTo>
                      <a:lnTo>
                        <a:pt x="696" y="1946"/>
                      </a:lnTo>
                      <a:lnTo>
                        <a:pt x="815" y="1969"/>
                      </a:lnTo>
                      <a:lnTo>
                        <a:pt x="945" y="1986"/>
                      </a:lnTo>
                      <a:lnTo>
                        <a:pt x="1239" y="2003"/>
                      </a:lnTo>
                      <a:lnTo>
                        <a:pt x="1576" y="1995"/>
                      </a:lnTo>
                      <a:lnTo>
                        <a:pt x="1601" y="1874"/>
                      </a:lnTo>
                      <a:lnTo>
                        <a:pt x="1633" y="1750"/>
                      </a:lnTo>
                      <a:lnTo>
                        <a:pt x="1652" y="1682"/>
                      </a:lnTo>
                      <a:lnTo>
                        <a:pt x="1675" y="1611"/>
                      </a:lnTo>
                      <a:lnTo>
                        <a:pt x="1698" y="1541"/>
                      </a:lnTo>
                      <a:lnTo>
                        <a:pt x="1724" y="1476"/>
                      </a:lnTo>
                      <a:lnTo>
                        <a:pt x="1753" y="1418"/>
                      </a:lnTo>
                      <a:lnTo>
                        <a:pt x="1783" y="1366"/>
                      </a:lnTo>
                      <a:lnTo>
                        <a:pt x="1817" y="1326"/>
                      </a:lnTo>
                      <a:lnTo>
                        <a:pt x="1852" y="1300"/>
                      </a:lnTo>
                      <a:lnTo>
                        <a:pt x="1924" y="1298"/>
                      </a:lnTo>
                      <a:lnTo>
                        <a:pt x="1989" y="1332"/>
                      </a:lnTo>
                      <a:lnTo>
                        <a:pt x="2036" y="1361"/>
                      </a:lnTo>
                      <a:lnTo>
                        <a:pt x="2087" y="1402"/>
                      </a:lnTo>
                      <a:lnTo>
                        <a:pt x="2101" y="1435"/>
                      </a:lnTo>
                      <a:lnTo>
                        <a:pt x="2165" y="1651"/>
                      </a:lnTo>
                      <a:lnTo>
                        <a:pt x="2262" y="1480"/>
                      </a:lnTo>
                      <a:lnTo>
                        <a:pt x="2646" y="1035"/>
                      </a:lnTo>
                      <a:lnTo>
                        <a:pt x="2855" y="1243"/>
                      </a:lnTo>
                      <a:lnTo>
                        <a:pt x="3019" y="1094"/>
                      </a:lnTo>
                      <a:lnTo>
                        <a:pt x="3006" y="1056"/>
                      </a:lnTo>
                      <a:lnTo>
                        <a:pt x="2970" y="958"/>
                      </a:lnTo>
                      <a:lnTo>
                        <a:pt x="2945" y="891"/>
                      </a:lnTo>
                      <a:lnTo>
                        <a:pt x="2913" y="815"/>
                      </a:lnTo>
                      <a:lnTo>
                        <a:pt x="2878" y="733"/>
                      </a:lnTo>
                      <a:lnTo>
                        <a:pt x="2838" y="650"/>
                      </a:lnTo>
                      <a:lnTo>
                        <a:pt x="2795" y="566"/>
                      </a:lnTo>
                      <a:lnTo>
                        <a:pt x="2772" y="524"/>
                      </a:lnTo>
                      <a:lnTo>
                        <a:pt x="2747" y="484"/>
                      </a:lnTo>
                      <a:lnTo>
                        <a:pt x="2722" y="444"/>
                      </a:lnTo>
                      <a:lnTo>
                        <a:pt x="2698" y="406"/>
                      </a:lnTo>
                      <a:lnTo>
                        <a:pt x="2671" y="368"/>
                      </a:lnTo>
                      <a:lnTo>
                        <a:pt x="2644" y="334"/>
                      </a:lnTo>
                      <a:lnTo>
                        <a:pt x="2589" y="273"/>
                      </a:lnTo>
                      <a:lnTo>
                        <a:pt x="2559" y="247"/>
                      </a:lnTo>
                      <a:lnTo>
                        <a:pt x="2530" y="224"/>
                      </a:lnTo>
                      <a:lnTo>
                        <a:pt x="2470" y="190"/>
                      </a:lnTo>
                      <a:lnTo>
                        <a:pt x="2409" y="171"/>
                      </a:lnTo>
                      <a:lnTo>
                        <a:pt x="2331" y="85"/>
                      </a:lnTo>
                      <a:lnTo>
                        <a:pt x="1979" y="0"/>
                      </a:lnTo>
                      <a:lnTo>
                        <a:pt x="1661" y="30"/>
                      </a:lnTo>
                      <a:lnTo>
                        <a:pt x="1418" y="39"/>
                      </a:lnTo>
                      <a:lnTo>
                        <a:pt x="1110" y="152"/>
                      </a:lnTo>
                      <a:lnTo>
                        <a:pt x="975" y="228"/>
                      </a:lnTo>
                      <a:lnTo>
                        <a:pt x="802" y="509"/>
                      </a:lnTo>
                      <a:lnTo>
                        <a:pt x="711" y="631"/>
                      </a:lnTo>
                      <a:lnTo>
                        <a:pt x="399" y="758"/>
                      </a:lnTo>
                      <a:lnTo>
                        <a:pt x="365" y="783"/>
                      </a:lnTo>
                      <a:lnTo>
                        <a:pt x="329" y="809"/>
                      </a:lnTo>
                      <a:lnTo>
                        <a:pt x="283" y="842"/>
                      </a:lnTo>
                      <a:lnTo>
                        <a:pt x="237" y="876"/>
                      </a:lnTo>
                      <a:lnTo>
                        <a:pt x="190" y="910"/>
                      </a:lnTo>
                      <a:lnTo>
                        <a:pt x="150" y="942"/>
                      </a:lnTo>
                      <a:lnTo>
                        <a:pt x="118" y="967"/>
                      </a:lnTo>
                      <a:lnTo>
                        <a:pt x="64" y="1041"/>
                      </a:lnTo>
                      <a:lnTo>
                        <a:pt x="63" y="1072"/>
                      </a:lnTo>
                      <a:lnTo>
                        <a:pt x="0" y="1239"/>
                      </a:lnTo>
                      <a:lnTo>
                        <a:pt x="40" y="1591"/>
                      </a:lnTo>
                      <a:lnTo>
                        <a:pt x="40" y="1591"/>
                      </a:lnTo>
                      <a:close/>
                    </a:path>
                  </a:pathLst>
                </a:cu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529440" y="812160"/>
                  <a:ext cx="128880" cy="187560"/>
                </a:xfrm>
                <a:custGeom>
                  <a:avLst/>
                  <a:gdLst/>
                  <a:ahLst/>
                  <a:rect l="l" t="t" r="r" b="b"/>
                  <a:pathLst>
                    <a:path w="489" h="711">
                      <a:moveTo>
                        <a:pt x="0" y="621"/>
                      </a:moveTo>
                      <a:lnTo>
                        <a:pt x="17" y="646"/>
                      </a:lnTo>
                      <a:lnTo>
                        <a:pt x="38" y="669"/>
                      </a:lnTo>
                      <a:lnTo>
                        <a:pt x="69" y="690"/>
                      </a:lnTo>
                      <a:lnTo>
                        <a:pt x="103" y="707"/>
                      </a:lnTo>
                      <a:lnTo>
                        <a:pt x="145" y="711"/>
                      </a:lnTo>
                      <a:lnTo>
                        <a:pt x="244" y="665"/>
                      </a:lnTo>
                      <a:lnTo>
                        <a:pt x="356" y="625"/>
                      </a:lnTo>
                      <a:lnTo>
                        <a:pt x="447" y="405"/>
                      </a:lnTo>
                      <a:lnTo>
                        <a:pt x="489" y="216"/>
                      </a:lnTo>
                      <a:lnTo>
                        <a:pt x="478" y="118"/>
                      </a:lnTo>
                      <a:lnTo>
                        <a:pt x="460" y="44"/>
                      </a:lnTo>
                      <a:lnTo>
                        <a:pt x="447" y="17"/>
                      </a:lnTo>
                      <a:lnTo>
                        <a:pt x="432" y="0"/>
                      </a:lnTo>
                      <a:lnTo>
                        <a:pt x="341" y="4"/>
                      </a:lnTo>
                      <a:lnTo>
                        <a:pt x="286" y="25"/>
                      </a:lnTo>
                      <a:lnTo>
                        <a:pt x="158" y="300"/>
                      </a:lnTo>
                      <a:lnTo>
                        <a:pt x="0" y="621"/>
                      </a:lnTo>
                      <a:lnTo>
                        <a:pt x="0" y="621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524400" y="957960"/>
                  <a:ext cx="72720" cy="41400"/>
                </a:xfrm>
                <a:custGeom>
                  <a:avLst/>
                  <a:gdLst/>
                  <a:ahLst/>
                  <a:rect l="l" t="t" r="r" b="b"/>
                  <a:pathLst>
                    <a:path w="276" h="158">
                      <a:moveTo>
                        <a:pt x="0" y="30"/>
                      </a:moveTo>
                      <a:lnTo>
                        <a:pt x="124" y="0"/>
                      </a:lnTo>
                      <a:lnTo>
                        <a:pt x="143" y="25"/>
                      </a:lnTo>
                      <a:lnTo>
                        <a:pt x="164" y="49"/>
                      </a:lnTo>
                      <a:lnTo>
                        <a:pt x="192" y="72"/>
                      </a:lnTo>
                      <a:lnTo>
                        <a:pt x="276" y="123"/>
                      </a:lnTo>
                      <a:lnTo>
                        <a:pt x="242" y="150"/>
                      </a:lnTo>
                      <a:lnTo>
                        <a:pt x="198" y="158"/>
                      </a:lnTo>
                      <a:lnTo>
                        <a:pt x="145" y="158"/>
                      </a:lnTo>
                      <a:lnTo>
                        <a:pt x="29" y="106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2e4f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014640" y="785160"/>
                  <a:ext cx="293760" cy="233640"/>
                </a:xfrm>
                <a:custGeom>
                  <a:avLst/>
                  <a:gdLst/>
                  <a:ahLst/>
                  <a:rect l="l" t="t" r="r" b="b"/>
                  <a:pathLst>
                    <a:path w="1114" h="888">
                      <a:moveTo>
                        <a:pt x="34" y="888"/>
                      </a:moveTo>
                      <a:lnTo>
                        <a:pt x="51" y="865"/>
                      </a:lnTo>
                      <a:lnTo>
                        <a:pt x="101" y="800"/>
                      </a:lnTo>
                      <a:lnTo>
                        <a:pt x="137" y="755"/>
                      </a:lnTo>
                      <a:lnTo>
                        <a:pt x="178" y="705"/>
                      </a:lnTo>
                      <a:lnTo>
                        <a:pt x="224" y="650"/>
                      </a:lnTo>
                      <a:lnTo>
                        <a:pt x="277" y="593"/>
                      </a:lnTo>
                      <a:lnTo>
                        <a:pt x="334" y="532"/>
                      </a:lnTo>
                      <a:lnTo>
                        <a:pt x="363" y="504"/>
                      </a:lnTo>
                      <a:lnTo>
                        <a:pt x="393" y="473"/>
                      </a:lnTo>
                      <a:lnTo>
                        <a:pt x="426" y="443"/>
                      </a:lnTo>
                      <a:lnTo>
                        <a:pt x="458" y="415"/>
                      </a:lnTo>
                      <a:lnTo>
                        <a:pt x="492" y="386"/>
                      </a:lnTo>
                      <a:lnTo>
                        <a:pt x="525" y="358"/>
                      </a:lnTo>
                      <a:lnTo>
                        <a:pt x="559" y="331"/>
                      </a:lnTo>
                      <a:lnTo>
                        <a:pt x="595" y="304"/>
                      </a:lnTo>
                      <a:lnTo>
                        <a:pt x="629" y="281"/>
                      </a:lnTo>
                      <a:lnTo>
                        <a:pt x="665" y="257"/>
                      </a:lnTo>
                      <a:lnTo>
                        <a:pt x="737" y="217"/>
                      </a:lnTo>
                      <a:lnTo>
                        <a:pt x="808" y="185"/>
                      </a:lnTo>
                      <a:lnTo>
                        <a:pt x="874" y="158"/>
                      </a:lnTo>
                      <a:lnTo>
                        <a:pt x="931" y="137"/>
                      </a:lnTo>
                      <a:lnTo>
                        <a:pt x="1017" y="105"/>
                      </a:lnTo>
                      <a:lnTo>
                        <a:pt x="1101" y="78"/>
                      </a:lnTo>
                      <a:lnTo>
                        <a:pt x="1114" y="80"/>
                      </a:lnTo>
                      <a:lnTo>
                        <a:pt x="1106" y="86"/>
                      </a:lnTo>
                      <a:lnTo>
                        <a:pt x="760" y="61"/>
                      </a:lnTo>
                      <a:lnTo>
                        <a:pt x="348" y="0"/>
                      </a:lnTo>
                      <a:lnTo>
                        <a:pt x="310" y="13"/>
                      </a:lnTo>
                      <a:lnTo>
                        <a:pt x="258" y="80"/>
                      </a:lnTo>
                      <a:lnTo>
                        <a:pt x="232" y="128"/>
                      </a:lnTo>
                      <a:lnTo>
                        <a:pt x="203" y="185"/>
                      </a:lnTo>
                      <a:lnTo>
                        <a:pt x="175" y="247"/>
                      </a:lnTo>
                      <a:lnTo>
                        <a:pt x="146" y="312"/>
                      </a:lnTo>
                      <a:lnTo>
                        <a:pt x="118" y="380"/>
                      </a:lnTo>
                      <a:lnTo>
                        <a:pt x="93" y="451"/>
                      </a:lnTo>
                      <a:lnTo>
                        <a:pt x="47" y="580"/>
                      </a:lnTo>
                      <a:lnTo>
                        <a:pt x="2" y="764"/>
                      </a:lnTo>
                      <a:lnTo>
                        <a:pt x="0" y="808"/>
                      </a:lnTo>
                      <a:lnTo>
                        <a:pt x="2" y="840"/>
                      </a:lnTo>
                      <a:lnTo>
                        <a:pt x="13" y="876"/>
                      </a:lnTo>
                      <a:lnTo>
                        <a:pt x="34" y="888"/>
                      </a:lnTo>
                      <a:lnTo>
                        <a:pt x="34" y="88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360960" y="978480"/>
                  <a:ext cx="57960" cy="126720"/>
                </a:xfrm>
                <a:custGeom>
                  <a:avLst/>
                  <a:gdLst/>
                  <a:ahLst/>
                  <a:rect l="l" t="t" r="r" b="b"/>
                  <a:pathLst>
                    <a:path w="220" h="483">
                      <a:moveTo>
                        <a:pt x="0" y="391"/>
                      </a:moveTo>
                      <a:lnTo>
                        <a:pt x="11" y="458"/>
                      </a:lnTo>
                      <a:lnTo>
                        <a:pt x="30" y="483"/>
                      </a:lnTo>
                      <a:lnTo>
                        <a:pt x="59" y="477"/>
                      </a:lnTo>
                      <a:lnTo>
                        <a:pt x="110" y="422"/>
                      </a:lnTo>
                      <a:lnTo>
                        <a:pt x="133" y="378"/>
                      </a:lnTo>
                      <a:lnTo>
                        <a:pt x="161" y="319"/>
                      </a:lnTo>
                      <a:lnTo>
                        <a:pt x="188" y="258"/>
                      </a:lnTo>
                      <a:lnTo>
                        <a:pt x="205" y="209"/>
                      </a:lnTo>
                      <a:lnTo>
                        <a:pt x="220" y="26"/>
                      </a:lnTo>
                      <a:lnTo>
                        <a:pt x="211" y="13"/>
                      </a:lnTo>
                      <a:lnTo>
                        <a:pt x="194" y="0"/>
                      </a:lnTo>
                      <a:lnTo>
                        <a:pt x="106" y="9"/>
                      </a:lnTo>
                      <a:lnTo>
                        <a:pt x="28" y="209"/>
                      </a:lnTo>
                      <a:lnTo>
                        <a:pt x="0" y="391"/>
                      </a:lnTo>
                      <a:lnTo>
                        <a:pt x="0" y="391"/>
                      </a:lnTo>
                      <a:close/>
                    </a:path>
                  </a:pathLst>
                </a:custGeom>
                <a:solidFill>
                  <a:srgbClr val="607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133440" y="913320"/>
                  <a:ext cx="127080" cy="127440"/>
                </a:xfrm>
                <a:custGeom>
                  <a:avLst/>
                  <a:gdLst/>
                  <a:ahLst/>
                  <a:rect l="l" t="t" r="r" b="b"/>
                  <a:pathLst>
                    <a:path w="481" h="483">
                      <a:moveTo>
                        <a:pt x="63" y="156"/>
                      </a:moveTo>
                      <a:lnTo>
                        <a:pt x="48" y="182"/>
                      </a:lnTo>
                      <a:lnTo>
                        <a:pt x="19" y="245"/>
                      </a:lnTo>
                      <a:lnTo>
                        <a:pt x="0" y="325"/>
                      </a:lnTo>
                      <a:lnTo>
                        <a:pt x="17" y="401"/>
                      </a:lnTo>
                      <a:lnTo>
                        <a:pt x="46" y="431"/>
                      </a:lnTo>
                      <a:lnTo>
                        <a:pt x="82" y="454"/>
                      </a:lnTo>
                      <a:lnTo>
                        <a:pt x="171" y="479"/>
                      </a:lnTo>
                      <a:lnTo>
                        <a:pt x="308" y="483"/>
                      </a:lnTo>
                      <a:lnTo>
                        <a:pt x="402" y="450"/>
                      </a:lnTo>
                      <a:lnTo>
                        <a:pt x="468" y="424"/>
                      </a:lnTo>
                      <a:lnTo>
                        <a:pt x="481" y="372"/>
                      </a:lnTo>
                      <a:lnTo>
                        <a:pt x="236" y="388"/>
                      </a:lnTo>
                      <a:lnTo>
                        <a:pt x="187" y="235"/>
                      </a:lnTo>
                      <a:lnTo>
                        <a:pt x="242" y="64"/>
                      </a:lnTo>
                      <a:lnTo>
                        <a:pt x="289" y="0"/>
                      </a:lnTo>
                      <a:lnTo>
                        <a:pt x="202" y="30"/>
                      </a:lnTo>
                      <a:lnTo>
                        <a:pt x="126" y="78"/>
                      </a:lnTo>
                      <a:lnTo>
                        <a:pt x="63" y="156"/>
                      </a:lnTo>
                      <a:lnTo>
                        <a:pt x="63" y="156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600720" y="856800"/>
                  <a:ext cx="32400" cy="83160"/>
                </a:xfrm>
                <a:custGeom>
                  <a:avLst/>
                  <a:gdLst/>
                  <a:ahLst/>
                  <a:rect l="l" t="t" r="r" b="b"/>
                  <a:pathLst>
                    <a:path w="124" h="316">
                      <a:moveTo>
                        <a:pt x="48" y="32"/>
                      </a:moveTo>
                      <a:lnTo>
                        <a:pt x="21" y="93"/>
                      </a:lnTo>
                      <a:lnTo>
                        <a:pt x="0" y="196"/>
                      </a:lnTo>
                      <a:lnTo>
                        <a:pt x="12" y="302"/>
                      </a:lnTo>
                      <a:lnTo>
                        <a:pt x="33" y="316"/>
                      </a:lnTo>
                      <a:lnTo>
                        <a:pt x="63" y="287"/>
                      </a:lnTo>
                      <a:lnTo>
                        <a:pt x="107" y="182"/>
                      </a:lnTo>
                      <a:lnTo>
                        <a:pt x="124" y="19"/>
                      </a:lnTo>
                      <a:lnTo>
                        <a:pt x="103" y="0"/>
                      </a:lnTo>
                      <a:lnTo>
                        <a:pt x="48" y="32"/>
                      </a:lnTo>
                      <a:lnTo>
                        <a:pt x="48" y="32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01920" y="614880"/>
                  <a:ext cx="316800" cy="100080"/>
                </a:xfrm>
                <a:custGeom>
                  <a:avLst/>
                  <a:gdLst/>
                  <a:ahLst/>
                  <a:rect l="l" t="t" r="r" b="b"/>
                  <a:pathLst>
                    <a:path w="1204" h="380">
                      <a:moveTo>
                        <a:pt x="0" y="211"/>
                      </a:moveTo>
                      <a:lnTo>
                        <a:pt x="65" y="194"/>
                      </a:lnTo>
                      <a:lnTo>
                        <a:pt x="215" y="152"/>
                      </a:lnTo>
                      <a:lnTo>
                        <a:pt x="303" y="125"/>
                      </a:lnTo>
                      <a:lnTo>
                        <a:pt x="388" y="99"/>
                      </a:lnTo>
                      <a:lnTo>
                        <a:pt x="466" y="72"/>
                      </a:lnTo>
                      <a:lnTo>
                        <a:pt x="525" y="47"/>
                      </a:lnTo>
                      <a:lnTo>
                        <a:pt x="576" y="28"/>
                      </a:lnTo>
                      <a:lnTo>
                        <a:pt x="630" y="13"/>
                      </a:lnTo>
                      <a:lnTo>
                        <a:pt x="736" y="0"/>
                      </a:lnTo>
                      <a:lnTo>
                        <a:pt x="900" y="26"/>
                      </a:lnTo>
                      <a:lnTo>
                        <a:pt x="930" y="47"/>
                      </a:lnTo>
                      <a:lnTo>
                        <a:pt x="968" y="78"/>
                      </a:lnTo>
                      <a:lnTo>
                        <a:pt x="1010" y="112"/>
                      </a:lnTo>
                      <a:lnTo>
                        <a:pt x="1052" y="150"/>
                      </a:lnTo>
                      <a:lnTo>
                        <a:pt x="1092" y="186"/>
                      </a:lnTo>
                      <a:lnTo>
                        <a:pt x="1124" y="215"/>
                      </a:lnTo>
                      <a:lnTo>
                        <a:pt x="1154" y="243"/>
                      </a:lnTo>
                      <a:lnTo>
                        <a:pt x="1204" y="304"/>
                      </a:lnTo>
                      <a:lnTo>
                        <a:pt x="1147" y="327"/>
                      </a:lnTo>
                      <a:lnTo>
                        <a:pt x="1073" y="380"/>
                      </a:lnTo>
                      <a:lnTo>
                        <a:pt x="1059" y="380"/>
                      </a:lnTo>
                      <a:lnTo>
                        <a:pt x="1052" y="346"/>
                      </a:lnTo>
                      <a:lnTo>
                        <a:pt x="1046" y="281"/>
                      </a:lnTo>
                      <a:lnTo>
                        <a:pt x="917" y="173"/>
                      </a:lnTo>
                      <a:lnTo>
                        <a:pt x="651" y="179"/>
                      </a:lnTo>
                      <a:lnTo>
                        <a:pt x="413" y="264"/>
                      </a:lnTo>
                      <a:lnTo>
                        <a:pt x="0" y="211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239280" y="1087560"/>
                  <a:ext cx="136080" cy="79920"/>
                </a:xfrm>
                <a:custGeom>
                  <a:avLst/>
                  <a:gdLst/>
                  <a:ahLst/>
                  <a:rect l="l" t="t" r="r" b="b"/>
                  <a:pathLst>
                    <a:path w="517" h="304">
                      <a:moveTo>
                        <a:pt x="0" y="133"/>
                      </a:moveTo>
                      <a:lnTo>
                        <a:pt x="91" y="245"/>
                      </a:lnTo>
                      <a:lnTo>
                        <a:pt x="279" y="304"/>
                      </a:lnTo>
                      <a:lnTo>
                        <a:pt x="410" y="276"/>
                      </a:lnTo>
                      <a:lnTo>
                        <a:pt x="517" y="255"/>
                      </a:lnTo>
                      <a:lnTo>
                        <a:pt x="425" y="257"/>
                      </a:lnTo>
                      <a:lnTo>
                        <a:pt x="338" y="217"/>
                      </a:lnTo>
                      <a:lnTo>
                        <a:pt x="268" y="131"/>
                      </a:lnTo>
                      <a:lnTo>
                        <a:pt x="228" y="0"/>
                      </a:lnTo>
                      <a:lnTo>
                        <a:pt x="216" y="27"/>
                      </a:lnTo>
                      <a:lnTo>
                        <a:pt x="192" y="52"/>
                      </a:lnTo>
                      <a:lnTo>
                        <a:pt x="152" y="72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314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927520" y="780840"/>
                  <a:ext cx="118080" cy="70560"/>
                </a:xfrm>
                <a:custGeom>
                  <a:avLst/>
                  <a:gdLst/>
                  <a:ahLst/>
                  <a:rect l="l" t="t" r="r" b="b"/>
                  <a:pathLst>
                    <a:path w="447" h="266">
                      <a:moveTo>
                        <a:pt x="0" y="260"/>
                      </a:moveTo>
                      <a:lnTo>
                        <a:pt x="36" y="236"/>
                      </a:lnTo>
                      <a:lnTo>
                        <a:pt x="74" y="211"/>
                      </a:lnTo>
                      <a:lnTo>
                        <a:pt x="122" y="179"/>
                      </a:lnTo>
                      <a:lnTo>
                        <a:pt x="173" y="146"/>
                      </a:lnTo>
                      <a:lnTo>
                        <a:pt x="226" y="112"/>
                      </a:lnTo>
                      <a:lnTo>
                        <a:pt x="274" y="82"/>
                      </a:lnTo>
                      <a:lnTo>
                        <a:pt x="314" y="59"/>
                      </a:lnTo>
                      <a:lnTo>
                        <a:pt x="373" y="27"/>
                      </a:lnTo>
                      <a:lnTo>
                        <a:pt x="414" y="8"/>
                      </a:lnTo>
                      <a:lnTo>
                        <a:pt x="447" y="0"/>
                      </a:lnTo>
                      <a:lnTo>
                        <a:pt x="418" y="15"/>
                      </a:lnTo>
                      <a:lnTo>
                        <a:pt x="350" y="59"/>
                      </a:lnTo>
                      <a:lnTo>
                        <a:pt x="308" y="89"/>
                      </a:lnTo>
                      <a:lnTo>
                        <a:pt x="264" y="123"/>
                      </a:lnTo>
                      <a:lnTo>
                        <a:pt x="222" y="160"/>
                      </a:lnTo>
                      <a:lnTo>
                        <a:pt x="184" y="198"/>
                      </a:lnTo>
                      <a:lnTo>
                        <a:pt x="154" y="230"/>
                      </a:lnTo>
                      <a:lnTo>
                        <a:pt x="129" y="251"/>
                      </a:lnTo>
                      <a:lnTo>
                        <a:pt x="97" y="266"/>
                      </a:lnTo>
                      <a:lnTo>
                        <a:pt x="76" y="258"/>
                      </a:lnTo>
                      <a:lnTo>
                        <a:pt x="0" y="260"/>
                      </a:lnTo>
                      <a:lnTo>
                        <a:pt x="0" y="2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927160" y="756000"/>
                  <a:ext cx="165240" cy="214920"/>
                </a:xfrm>
                <a:custGeom>
                  <a:avLst/>
                  <a:gdLst/>
                  <a:ahLst/>
                  <a:rect l="l" t="t" r="r" b="b"/>
                  <a:pathLst>
                    <a:path w="629" h="815">
                      <a:moveTo>
                        <a:pt x="224" y="363"/>
                      </a:moveTo>
                      <a:lnTo>
                        <a:pt x="245" y="526"/>
                      </a:lnTo>
                      <a:lnTo>
                        <a:pt x="213" y="587"/>
                      </a:lnTo>
                      <a:lnTo>
                        <a:pt x="177" y="648"/>
                      </a:lnTo>
                      <a:lnTo>
                        <a:pt x="152" y="673"/>
                      </a:lnTo>
                      <a:lnTo>
                        <a:pt x="122" y="692"/>
                      </a:lnTo>
                      <a:lnTo>
                        <a:pt x="42" y="703"/>
                      </a:lnTo>
                      <a:lnTo>
                        <a:pt x="8" y="709"/>
                      </a:lnTo>
                      <a:lnTo>
                        <a:pt x="0" y="726"/>
                      </a:lnTo>
                      <a:lnTo>
                        <a:pt x="15" y="751"/>
                      </a:lnTo>
                      <a:lnTo>
                        <a:pt x="42" y="777"/>
                      </a:lnTo>
                      <a:lnTo>
                        <a:pt x="78" y="802"/>
                      </a:lnTo>
                      <a:lnTo>
                        <a:pt x="118" y="815"/>
                      </a:lnTo>
                      <a:lnTo>
                        <a:pt x="181" y="793"/>
                      </a:lnTo>
                      <a:lnTo>
                        <a:pt x="209" y="739"/>
                      </a:lnTo>
                      <a:lnTo>
                        <a:pt x="230" y="703"/>
                      </a:lnTo>
                      <a:lnTo>
                        <a:pt x="253" y="661"/>
                      </a:lnTo>
                      <a:lnTo>
                        <a:pt x="278" y="616"/>
                      </a:lnTo>
                      <a:lnTo>
                        <a:pt x="304" y="566"/>
                      </a:lnTo>
                      <a:lnTo>
                        <a:pt x="331" y="515"/>
                      </a:lnTo>
                      <a:lnTo>
                        <a:pt x="357" y="466"/>
                      </a:lnTo>
                      <a:lnTo>
                        <a:pt x="384" y="414"/>
                      </a:lnTo>
                      <a:lnTo>
                        <a:pt x="409" y="367"/>
                      </a:lnTo>
                      <a:lnTo>
                        <a:pt x="434" y="323"/>
                      </a:lnTo>
                      <a:lnTo>
                        <a:pt x="453" y="285"/>
                      </a:lnTo>
                      <a:lnTo>
                        <a:pt x="483" y="228"/>
                      </a:lnTo>
                      <a:lnTo>
                        <a:pt x="494" y="207"/>
                      </a:lnTo>
                      <a:lnTo>
                        <a:pt x="629" y="76"/>
                      </a:lnTo>
                      <a:lnTo>
                        <a:pt x="614" y="0"/>
                      </a:lnTo>
                      <a:lnTo>
                        <a:pt x="595" y="13"/>
                      </a:lnTo>
                      <a:lnTo>
                        <a:pt x="548" y="49"/>
                      </a:lnTo>
                      <a:lnTo>
                        <a:pt x="515" y="72"/>
                      </a:lnTo>
                      <a:lnTo>
                        <a:pt x="479" y="99"/>
                      </a:lnTo>
                      <a:lnTo>
                        <a:pt x="441" y="129"/>
                      </a:lnTo>
                      <a:lnTo>
                        <a:pt x="401" y="160"/>
                      </a:lnTo>
                      <a:lnTo>
                        <a:pt x="363" y="192"/>
                      </a:lnTo>
                      <a:lnTo>
                        <a:pt x="327" y="222"/>
                      </a:lnTo>
                      <a:lnTo>
                        <a:pt x="295" y="253"/>
                      </a:lnTo>
                      <a:lnTo>
                        <a:pt x="266" y="281"/>
                      </a:lnTo>
                      <a:lnTo>
                        <a:pt x="224" y="363"/>
                      </a:lnTo>
                      <a:lnTo>
                        <a:pt x="224" y="3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137760" y="580680"/>
                  <a:ext cx="303480" cy="81000"/>
                </a:xfrm>
                <a:custGeom>
                  <a:avLst/>
                  <a:gdLst/>
                  <a:ahLst/>
                  <a:rect l="l" t="t" r="r" b="b"/>
                  <a:pathLst>
                    <a:path w="1152" h="308">
                      <a:moveTo>
                        <a:pt x="32" y="237"/>
                      </a:moveTo>
                      <a:lnTo>
                        <a:pt x="536" y="308"/>
                      </a:lnTo>
                      <a:lnTo>
                        <a:pt x="473" y="271"/>
                      </a:lnTo>
                      <a:lnTo>
                        <a:pt x="450" y="232"/>
                      </a:lnTo>
                      <a:lnTo>
                        <a:pt x="460" y="211"/>
                      </a:lnTo>
                      <a:lnTo>
                        <a:pt x="486" y="190"/>
                      </a:lnTo>
                      <a:lnTo>
                        <a:pt x="526" y="167"/>
                      </a:lnTo>
                      <a:lnTo>
                        <a:pt x="566" y="150"/>
                      </a:lnTo>
                      <a:lnTo>
                        <a:pt x="654" y="119"/>
                      </a:lnTo>
                      <a:lnTo>
                        <a:pt x="747" y="97"/>
                      </a:lnTo>
                      <a:lnTo>
                        <a:pt x="849" y="76"/>
                      </a:lnTo>
                      <a:lnTo>
                        <a:pt x="1152" y="47"/>
                      </a:lnTo>
                      <a:lnTo>
                        <a:pt x="1011" y="15"/>
                      </a:lnTo>
                      <a:lnTo>
                        <a:pt x="785" y="3"/>
                      </a:lnTo>
                      <a:lnTo>
                        <a:pt x="650" y="0"/>
                      </a:lnTo>
                      <a:lnTo>
                        <a:pt x="448" y="36"/>
                      </a:lnTo>
                      <a:lnTo>
                        <a:pt x="237" y="102"/>
                      </a:lnTo>
                      <a:lnTo>
                        <a:pt x="38" y="190"/>
                      </a:lnTo>
                      <a:lnTo>
                        <a:pt x="0" y="264"/>
                      </a:lnTo>
                      <a:lnTo>
                        <a:pt x="32" y="237"/>
                      </a:lnTo>
                      <a:lnTo>
                        <a:pt x="32" y="237"/>
                      </a:lnTo>
                      <a:close/>
                    </a:path>
                  </a:pathLst>
                </a:custGeom>
                <a:solidFill>
                  <a:srgbClr val="fff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466800" y="764640"/>
                  <a:ext cx="225000" cy="225360"/>
                </a:xfrm>
                <a:custGeom>
                  <a:avLst/>
                  <a:gdLst/>
                  <a:ahLst/>
                  <a:rect l="l" t="t" r="r" b="b"/>
                  <a:pathLst>
                    <a:path w="853" h="856">
                      <a:moveTo>
                        <a:pt x="5" y="804"/>
                      </a:moveTo>
                      <a:lnTo>
                        <a:pt x="87" y="578"/>
                      </a:lnTo>
                      <a:lnTo>
                        <a:pt x="89" y="650"/>
                      </a:lnTo>
                      <a:lnTo>
                        <a:pt x="169" y="512"/>
                      </a:lnTo>
                      <a:lnTo>
                        <a:pt x="152" y="629"/>
                      </a:lnTo>
                      <a:lnTo>
                        <a:pt x="230" y="464"/>
                      </a:lnTo>
                      <a:lnTo>
                        <a:pt x="243" y="588"/>
                      </a:lnTo>
                      <a:lnTo>
                        <a:pt x="274" y="390"/>
                      </a:lnTo>
                      <a:lnTo>
                        <a:pt x="310" y="232"/>
                      </a:lnTo>
                      <a:lnTo>
                        <a:pt x="332" y="166"/>
                      </a:lnTo>
                      <a:lnTo>
                        <a:pt x="359" y="114"/>
                      </a:lnTo>
                      <a:lnTo>
                        <a:pt x="388" y="80"/>
                      </a:lnTo>
                      <a:lnTo>
                        <a:pt x="416" y="53"/>
                      </a:lnTo>
                      <a:lnTo>
                        <a:pt x="469" y="23"/>
                      </a:lnTo>
                      <a:lnTo>
                        <a:pt x="524" y="10"/>
                      </a:lnTo>
                      <a:lnTo>
                        <a:pt x="589" y="0"/>
                      </a:lnTo>
                      <a:lnTo>
                        <a:pt x="644" y="12"/>
                      </a:lnTo>
                      <a:lnTo>
                        <a:pt x="694" y="55"/>
                      </a:lnTo>
                      <a:lnTo>
                        <a:pt x="736" y="131"/>
                      </a:lnTo>
                      <a:lnTo>
                        <a:pt x="770" y="217"/>
                      </a:lnTo>
                      <a:lnTo>
                        <a:pt x="806" y="312"/>
                      </a:lnTo>
                      <a:lnTo>
                        <a:pt x="853" y="420"/>
                      </a:lnTo>
                      <a:lnTo>
                        <a:pt x="682" y="550"/>
                      </a:lnTo>
                      <a:lnTo>
                        <a:pt x="690" y="481"/>
                      </a:lnTo>
                      <a:lnTo>
                        <a:pt x="701" y="274"/>
                      </a:lnTo>
                      <a:lnTo>
                        <a:pt x="652" y="183"/>
                      </a:lnTo>
                      <a:lnTo>
                        <a:pt x="570" y="185"/>
                      </a:lnTo>
                      <a:lnTo>
                        <a:pt x="545" y="207"/>
                      </a:lnTo>
                      <a:lnTo>
                        <a:pt x="490" y="264"/>
                      </a:lnTo>
                      <a:lnTo>
                        <a:pt x="433" y="344"/>
                      </a:lnTo>
                      <a:lnTo>
                        <a:pt x="399" y="432"/>
                      </a:lnTo>
                      <a:lnTo>
                        <a:pt x="372" y="608"/>
                      </a:lnTo>
                      <a:lnTo>
                        <a:pt x="357" y="698"/>
                      </a:lnTo>
                      <a:lnTo>
                        <a:pt x="355" y="770"/>
                      </a:lnTo>
                      <a:lnTo>
                        <a:pt x="112" y="852"/>
                      </a:lnTo>
                      <a:lnTo>
                        <a:pt x="0" y="856"/>
                      </a:lnTo>
                      <a:lnTo>
                        <a:pt x="5" y="804"/>
                      </a:lnTo>
                      <a:lnTo>
                        <a:pt x="5" y="80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542400" y="754560"/>
                  <a:ext cx="105840" cy="99360"/>
                </a:xfrm>
                <a:custGeom>
                  <a:avLst/>
                  <a:gdLst/>
                  <a:ahLst/>
                  <a:rect l="l" t="t" r="r" b="b"/>
                  <a:pathLst>
                    <a:path w="403" h="378">
                      <a:moveTo>
                        <a:pt x="0" y="378"/>
                      </a:moveTo>
                      <a:lnTo>
                        <a:pt x="9" y="244"/>
                      </a:lnTo>
                      <a:lnTo>
                        <a:pt x="25" y="186"/>
                      </a:lnTo>
                      <a:lnTo>
                        <a:pt x="47" y="129"/>
                      </a:lnTo>
                      <a:lnTo>
                        <a:pt x="84" y="78"/>
                      </a:lnTo>
                      <a:lnTo>
                        <a:pt x="106" y="55"/>
                      </a:lnTo>
                      <a:lnTo>
                        <a:pt x="133" y="34"/>
                      </a:lnTo>
                      <a:lnTo>
                        <a:pt x="186" y="8"/>
                      </a:lnTo>
                      <a:lnTo>
                        <a:pt x="238" y="0"/>
                      </a:lnTo>
                      <a:lnTo>
                        <a:pt x="323" y="23"/>
                      </a:lnTo>
                      <a:lnTo>
                        <a:pt x="380" y="63"/>
                      </a:lnTo>
                      <a:lnTo>
                        <a:pt x="403" y="84"/>
                      </a:lnTo>
                      <a:lnTo>
                        <a:pt x="386" y="74"/>
                      </a:lnTo>
                      <a:lnTo>
                        <a:pt x="340" y="65"/>
                      </a:lnTo>
                      <a:lnTo>
                        <a:pt x="272" y="76"/>
                      </a:lnTo>
                      <a:lnTo>
                        <a:pt x="182" y="133"/>
                      </a:lnTo>
                      <a:lnTo>
                        <a:pt x="99" y="221"/>
                      </a:lnTo>
                      <a:lnTo>
                        <a:pt x="42" y="299"/>
                      </a:lnTo>
                      <a:lnTo>
                        <a:pt x="0" y="378"/>
                      </a:lnTo>
                      <a:lnTo>
                        <a:pt x="0" y="37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206880" y="826200"/>
                  <a:ext cx="259560" cy="230760"/>
                </a:xfrm>
                <a:custGeom>
                  <a:avLst/>
                  <a:gdLst/>
                  <a:ahLst/>
                  <a:rect l="l" t="t" r="r" b="b"/>
                  <a:pathLst>
                    <a:path w="985" h="876">
                      <a:moveTo>
                        <a:pt x="0" y="876"/>
                      </a:moveTo>
                      <a:lnTo>
                        <a:pt x="40" y="852"/>
                      </a:lnTo>
                      <a:lnTo>
                        <a:pt x="82" y="823"/>
                      </a:lnTo>
                      <a:lnTo>
                        <a:pt x="129" y="789"/>
                      </a:lnTo>
                      <a:lnTo>
                        <a:pt x="179" y="751"/>
                      </a:lnTo>
                      <a:lnTo>
                        <a:pt x="224" y="713"/>
                      </a:lnTo>
                      <a:lnTo>
                        <a:pt x="279" y="644"/>
                      </a:lnTo>
                      <a:lnTo>
                        <a:pt x="321" y="354"/>
                      </a:lnTo>
                      <a:lnTo>
                        <a:pt x="342" y="259"/>
                      </a:lnTo>
                      <a:lnTo>
                        <a:pt x="371" y="171"/>
                      </a:lnTo>
                      <a:lnTo>
                        <a:pt x="390" y="131"/>
                      </a:lnTo>
                      <a:lnTo>
                        <a:pt x="413" y="97"/>
                      </a:lnTo>
                      <a:lnTo>
                        <a:pt x="437" y="67"/>
                      </a:lnTo>
                      <a:lnTo>
                        <a:pt x="466" y="44"/>
                      </a:lnTo>
                      <a:lnTo>
                        <a:pt x="525" y="15"/>
                      </a:lnTo>
                      <a:lnTo>
                        <a:pt x="578" y="0"/>
                      </a:lnTo>
                      <a:lnTo>
                        <a:pt x="664" y="8"/>
                      </a:lnTo>
                      <a:lnTo>
                        <a:pt x="732" y="44"/>
                      </a:lnTo>
                      <a:lnTo>
                        <a:pt x="749" y="53"/>
                      </a:lnTo>
                      <a:lnTo>
                        <a:pt x="798" y="78"/>
                      </a:lnTo>
                      <a:lnTo>
                        <a:pt x="848" y="105"/>
                      </a:lnTo>
                      <a:lnTo>
                        <a:pt x="873" y="116"/>
                      </a:lnTo>
                      <a:lnTo>
                        <a:pt x="958" y="257"/>
                      </a:lnTo>
                      <a:lnTo>
                        <a:pt x="985" y="378"/>
                      </a:lnTo>
                      <a:lnTo>
                        <a:pt x="899" y="285"/>
                      </a:lnTo>
                      <a:lnTo>
                        <a:pt x="728" y="289"/>
                      </a:lnTo>
                      <a:lnTo>
                        <a:pt x="451" y="635"/>
                      </a:lnTo>
                      <a:lnTo>
                        <a:pt x="274" y="863"/>
                      </a:lnTo>
                      <a:lnTo>
                        <a:pt x="0" y="876"/>
                      </a:lnTo>
                      <a:lnTo>
                        <a:pt x="0" y="876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50160" y="655200"/>
                  <a:ext cx="238320" cy="175680"/>
                </a:xfrm>
                <a:custGeom>
                  <a:avLst/>
                  <a:gdLst/>
                  <a:ahLst/>
                  <a:rect l="l" t="t" r="r" b="b"/>
                  <a:pathLst>
                    <a:path w="905" h="667">
                      <a:moveTo>
                        <a:pt x="0" y="561"/>
                      </a:moveTo>
                      <a:lnTo>
                        <a:pt x="146" y="667"/>
                      </a:lnTo>
                      <a:lnTo>
                        <a:pt x="585" y="460"/>
                      </a:lnTo>
                      <a:lnTo>
                        <a:pt x="905" y="207"/>
                      </a:lnTo>
                      <a:lnTo>
                        <a:pt x="817" y="70"/>
                      </a:lnTo>
                      <a:lnTo>
                        <a:pt x="701" y="4"/>
                      </a:lnTo>
                      <a:lnTo>
                        <a:pt x="540" y="0"/>
                      </a:lnTo>
                      <a:lnTo>
                        <a:pt x="405" y="46"/>
                      </a:lnTo>
                      <a:lnTo>
                        <a:pt x="228" y="131"/>
                      </a:lnTo>
                      <a:lnTo>
                        <a:pt x="95" y="253"/>
                      </a:lnTo>
                      <a:lnTo>
                        <a:pt x="36" y="435"/>
                      </a:lnTo>
                      <a:lnTo>
                        <a:pt x="0" y="561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184560" y="898920"/>
                  <a:ext cx="107280" cy="117360"/>
                </a:xfrm>
                <a:custGeom>
                  <a:avLst/>
                  <a:gdLst/>
                  <a:ahLst/>
                  <a:rect l="l" t="t" r="r" b="b"/>
                  <a:pathLst>
                    <a:path w="407" h="446">
                      <a:moveTo>
                        <a:pt x="0" y="328"/>
                      </a:moveTo>
                      <a:lnTo>
                        <a:pt x="65" y="93"/>
                      </a:lnTo>
                      <a:lnTo>
                        <a:pt x="190" y="11"/>
                      </a:lnTo>
                      <a:lnTo>
                        <a:pt x="236" y="3"/>
                      </a:lnTo>
                      <a:lnTo>
                        <a:pt x="301" y="0"/>
                      </a:lnTo>
                      <a:lnTo>
                        <a:pt x="350" y="15"/>
                      </a:lnTo>
                      <a:lnTo>
                        <a:pt x="382" y="59"/>
                      </a:lnTo>
                      <a:lnTo>
                        <a:pt x="407" y="205"/>
                      </a:lnTo>
                      <a:lnTo>
                        <a:pt x="400" y="277"/>
                      </a:lnTo>
                      <a:lnTo>
                        <a:pt x="373" y="330"/>
                      </a:lnTo>
                      <a:lnTo>
                        <a:pt x="348" y="351"/>
                      </a:lnTo>
                      <a:lnTo>
                        <a:pt x="320" y="372"/>
                      </a:lnTo>
                      <a:lnTo>
                        <a:pt x="259" y="408"/>
                      </a:lnTo>
                      <a:lnTo>
                        <a:pt x="209" y="435"/>
                      </a:lnTo>
                      <a:lnTo>
                        <a:pt x="189" y="446"/>
                      </a:lnTo>
                      <a:lnTo>
                        <a:pt x="38" y="412"/>
                      </a:lnTo>
                      <a:lnTo>
                        <a:pt x="0" y="328"/>
                      </a:lnTo>
                      <a:lnTo>
                        <a:pt x="0" y="328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16000" y="846720"/>
                  <a:ext cx="79560" cy="96840"/>
                </a:xfrm>
                <a:custGeom>
                  <a:avLst/>
                  <a:gdLst/>
                  <a:ahLst/>
                  <a:rect l="l" t="t" r="r" b="b"/>
                  <a:pathLst>
                    <a:path w="303" h="369">
                      <a:moveTo>
                        <a:pt x="0" y="257"/>
                      </a:moveTo>
                      <a:lnTo>
                        <a:pt x="8" y="171"/>
                      </a:lnTo>
                      <a:lnTo>
                        <a:pt x="29" y="99"/>
                      </a:lnTo>
                      <a:lnTo>
                        <a:pt x="44" y="65"/>
                      </a:lnTo>
                      <a:lnTo>
                        <a:pt x="67" y="38"/>
                      </a:lnTo>
                      <a:lnTo>
                        <a:pt x="105" y="6"/>
                      </a:lnTo>
                      <a:lnTo>
                        <a:pt x="124" y="0"/>
                      </a:lnTo>
                      <a:lnTo>
                        <a:pt x="131" y="9"/>
                      </a:lnTo>
                      <a:lnTo>
                        <a:pt x="238" y="25"/>
                      </a:lnTo>
                      <a:lnTo>
                        <a:pt x="303" y="122"/>
                      </a:lnTo>
                      <a:lnTo>
                        <a:pt x="247" y="253"/>
                      </a:lnTo>
                      <a:lnTo>
                        <a:pt x="122" y="369"/>
                      </a:lnTo>
                      <a:lnTo>
                        <a:pt x="0" y="257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421800" y="664920"/>
                  <a:ext cx="166680" cy="146880"/>
                </a:xfrm>
                <a:custGeom>
                  <a:avLst/>
                  <a:gdLst/>
                  <a:ahLst/>
                  <a:rect l="l" t="t" r="r" b="b"/>
                  <a:pathLst>
                    <a:path w="633" h="559">
                      <a:moveTo>
                        <a:pt x="0" y="559"/>
                      </a:moveTo>
                      <a:lnTo>
                        <a:pt x="24" y="542"/>
                      </a:lnTo>
                      <a:lnTo>
                        <a:pt x="55" y="521"/>
                      </a:lnTo>
                      <a:lnTo>
                        <a:pt x="93" y="494"/>
                      </a:lnTo>
                      <a:lnTo>
                        <a:pt x="137" y="464"/>
                      </a:lnTo>
                      <a:lnTo>
                        <a:pt x="186" y="428"/>
                      </a:lnTo>
                      <a:lnTo>
                        <a:pt x="237" y="388"/>
                      </a:lnTo>
                      <a:lnTo>
                        <a:pt x="289" y="344"/>
                      </a:lnTo>
                      <a:lnTo>
                        <a:pt x="340" y="298"/>
                      </a:lnTo>
                      <a:lnTo>
                        <a:pt x="387" y="253"/>
                      </a:lnTo>
                      <a:lnTo>
                        <a:pt x="429" y="205"/>
                      </a:lnTo>
                      <a:lnTo>
                        <a:pt x="464" y="160"/>
                      </a:lnTo>
                      <a:lnTo>
                        <a:pt x="502" y="74"/>
                      </a:lnTo>
                      <a:lnTo>
                        <a:pt x="486" y="0"/>
                      </a:lnTo>
                      <a:lnTo>
                        <a:pt x="513" y="19"/>
                      </a:lnTo>
                      <a:lnTo>
                        <a:pt x="540" y="40"/>
                      </a:lnTo>
                      <a:lnTo>
                        <a:pt x="570" y="66"/>
                      </a:lnTo>
                      <a:lnTo>
                        <a:pt x="633" y="158"/>
                      </a:lnTo>
                      <a:lnTo>
                        <a:pt x="604" y="188"/>
                      </a:lnTo>
                      <a:lnTo>
                        <a:pt x="572" y="224"/>
                      </a:lnTo>
                      <a:lnTo>
                        <a:pt x="541" y="253"/>
                      </a:lnTo>
                      <a:lnTo>
                        <a:pt x="530" y="266"/>
                      </a:lnTo>
                      <a:lnTo>
                        <a:pt x="194" y="477"/>
                      </a:lnTo>
                      <a:lnTo>
                        <a:pt x="0" y="559"/>
                      </a:lnTo>
                      <a:lnTo>
                        <a:pt x="0" y="559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889360" y="973440"/>
                  <a:ext cx="411840" cy="150480"/>
                </a:xfrm>
                <a:custGeom>
                  <a:avLst/>
                  <a:gdLst/>
                  <a:ahLst/>
                  <a:rect l="l" t="t" r="r" b="b"/>
                  <a:pathLst>
                    <a:path w="1561" h="570">
                      <a:moveTo>
                        <a:pt x="6" y="127"/>
                      </a:moveTo>
                      <a:lnTo>
                        <a:pt x="0" y="61"/>
                      </a:lnTo>
                      <a:lnTo>
                        <a:pt x="10" y="15"/>
                      </a:lnTo>
                      <a:lnTo>
                        <a:pt x="42" y="0"/>
                      </a:lnTo>
                      <a:lnTo>
                        <a:pt x="96" y="32"/>
                      </a:lnTo>
                      <a:lnTo>
                        <a:pt x="151" y="87"/>
                      </a:lnTo>
                      <a:lnTo>
                        <a:pt x="192" y="144"/>
                      </a:lnTo>
                      <a:lnTo>
                        <a:pt x="208" y="167"/>
                      </a:lnTo>
                      <a:lnTo>
                        <a:pt x="225" y="180"/>
                      </a:lnTo>
                      <a:lnTo>
                        <a:pt x="270" y="213"/>
                      </a:lnTo>
                      <a:lnTo>
                        <a:pt x="303" y="234"/>
                      </a:lnTo>
                      <a:lnTo>
                        <a:pt x="341" y="256"/>
                      </a:lnTo>
                      <a:lnTo>
                        <a:pt x="383" y="281"/>
                      </a:lnTo>
                      <a:lnTo>
                        <a:pt x="430" y="306"/>
                      </a:lnTo>
                      <a:lnTo>
                        <a:pt x="480" y="331"/>
                      </a:lnTo>
                      <a:lnTo>
                        <a:pt x="533" y="353"/>
                      </a:lnTo>
                      <a:lnTo>
                        <a:pt x="588" y="374"/>
                      </a:lnTo>
                      <a:lnTo>
                        <a:pt x="643" y="391"/>
                      </a:lnTo>
                      <a:lnTo>
                        <a:pt x="759" y="412"/>
                      </a:lnTo>
                      <a:lnTo>
                        <a:pt x="871" y="409"/>
                      </a:lnTo>
                      <a:lnTo>
                        <a:pt x="1162" y="374"/>
                      </a:lnTo>
                      <a:lnTo>
                        <a:pt x="1232" y="376"/>
                      </a:lnTo>
                      <a:lnTo>
                        <a:pt x="1314" y="353"/>
                      </a:lnTo>
                      <a:lnTo>
                        <a:pt x="1404" y="327"/>
                      </a:lnTo>
                      <a:lnTo>
                        <a:pt x="1425" y="313"/>
                      </a:lnTo>
                      <a:lnTo>
                        <a:pt x="1461" y="294"/>
                      </a:lnTo>
                      <a:lnTo>
                        <a:pt x="1502" y="281"/>
                      </a:lnTo>
                      <a:lnTo>
                        <a:pt x="1537" y="281"/>
                      </a:lnTo>
                      <a:lnTo>
                        <a:pt x="1561" y="367"/>
                      </a:lnTo>
                      <a:lnTo>
                        <a:pt x="1552" y="454"/>
                      </a:lnTo>
                      <a:lnTo>
                        <a:pt x="1535" y="488"/>
                      </a:lnTo>
                      <a:lnTo>
                        <a:pt x="1525" y="507"/>
                      </a:lnTo>
                      <a:lnTo>
                        <a:pt x="1198" y="570"/>
                      </a:lnTo>
                      <a:lnTo>
                        <a:pt x="727" y="532"/>
                      </a:lnTo>
                      <a:lnTo>
                        <a:pt x="402" y="437"/>
                      </a:lnTo>
                      <a:lnTo>
                        <a:pt x="101" y="236"/>
                      </a:lnTo>
                      <a:lnTo>
                        <a:pt x="6" y="127"/>
                      </a:lnTo>
                      <a:lnTo>
                        <a:pt x="6" y="127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114360" y="872640"/>
                  <a:ext cx="355320" cy="246960"/>
                </a:xfrm>
                <a:custGeom>
                  <a:avLst/>
                  <a:gdLst/>
                  <a:ahLst/>
                  <a:rect l="l" t="t" r="r" b="b"/>
                  <a:pathLst>
                    <a:path w="1348" h="937">
                      <a:moveTo>
                        <a:pt x="415" y="800"/>
                      </a:moveTo>
                      <a:lnTo>
                        <a:pt x="458" y="773"/>
                      </a:lnTo>
                      <a:lnTo>
                        <a:pt x="506" y="737"/>
                      </a:lnTo>
                      <a:lnTo>
                        <a:pt x="534" y="713"/>
                      </a:lnTo>
                      <a:lnTo>
                        <a:pt x="565" y="686"/>
                      </a:lnTo>
                      <a:lnTo>
                        <a:pt x="629" y="618"/>
                      </a:lnTo>
                      <a:lnTo>
                        <a:pt x="662" y="578"/>
                      </a:lnTo>
                      <a:lnTo>
                        <a:pt x="696" y="532"/>
                      </a:lnTo>
                      <a:lnTo>
                        <a:pt x="728" y="483"/>
                      </a:lnTo>
                      <a:lnTo>
                        <a:pt x="759" y="427"/>
                      </a:lnTo>
                      <a:lnTo>
                        <a:pt x="814" y="304"/>
                      </a:lnTo>
                      <a:lnTo>
                        <a:pt x="848" y="249"/>
                      </a:lnTo>
                      <a:lnTo>
                        <a:pt x="879" y="199"/>
                      </a:lnTo>
                      <a:lnTo>
                        <a:pt x="907" y="158"/>
                      </a:lnTo>
                      <a:lnTo>
                        <a:pt x="934" y="123"/>
                      </a:lnTo>
                      <a:lnTo>
                        <a:pt x="981" y="70"/>
                      </a:lnTo>
                      <a:lnTo>
                        <a:pt x="1017" y="36"/>
                      </a:lnTo>
                      <a:lnTo>
                        <a:pt x="1074" y="7"/>
                      </a:lnTo>
                      <a:lnTo>
                        <a:pt x="1110" y="0"/>
                      </a:lnTo>
                      <a:lnTo>
                        <a:pt x="1192" y="9"/>
                      </a:lnTo>
                      <a:lnTo>
                        <a:pt x="1244" y="44"/>
                      </a:lnTo>
                      <a:lnTo>
                        <a:pt x="1297" y="106"/>
                      </a:lnTo>
                      <a:lnTo>
                        <a:pt x="1339" y="226"/>
                      </a:lnTo>
                      <a:lnTo>
                        <a:pt x="1333" y="264"/>
                      </a:lnTo>
                      <a:lnTo>
                        <a:pt x="1348" y="452"/>
                      </a:lnTo>
                      <a:lnTo>
                        <a:pt x="1293" y="502"/>
                      </a:lnTo>
                      <a:lnTo>
                        <a:pt x="1232" y="245"/>
                      </a:lnTo>
                      <a:lnTo>
                        <a:pt x="1040" y="209"/>
                      </a:lnTo>
                      <a:lnTo>
                        <a:pt x="939" y="304"/>
                      </a:lnTo>
                      <a:lnTo>
                        <a:pt x="793" y="523"/>
                      </a:lnTo>
                      <a:lnTo>
                        <a:pt x="717" y="851"/>
                      </a:lnTo>
                      <a:lnTo>
                        <a:pt x="744" y="906"/>
                      </a:lnTo>
                      <a:lnTo>
                        <a:pt x="430" y="937"/>
                      </a:lnTo>
                      <a:lnTo>
                        <a:pt x="0" y="912"/>
                      </a:lnTo>
                      <a:lnTo>
                        <a:pt x="415" y="800"/>
                      </a:lnTo>
                      <a:lnTo>
                        <a:pt x="415" y="80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088080" y="644400"/>
                  <a:ext cx="285840" cy="159480"/>
                </a:xfrm>
                <a:custGeom>
                  <a:avLst/>
                  <a:gdLst/>
                  <a:ahLst/>
                  <a:rect l="l" t="t" r="r" b="b"/>
                  <a:pathLst>
                    <a:path w="1086" h="606">
                      <a:moveTo>
                        <a:pt x="0" y="393"/>
                      </a:moveTo>
                      <a:lnTo>
                        <a:pt x="187" y="25"/>
                      </a:lnTo>
                      <a:lnTo>
                        <a:pt x="358" y="0"/>
                      </a:lnTo>
                      <a:lnTo>
                        <a:pt x="1046" y="150"/>
                      </a:lnTo>
                      <a:lnTo>
                        <a:pt x="1086" y="287"/>
                      </a:lnTo>
                      <a:lnTo>
                        <a:pt x="1016" y="565"/>
                      </a:lnTo>
                      <a:lnTo>
                        <a:pt x="940" y="606"/>
                      </a:lnTo>
                      <a:lnTo>
                        <a:pt x="223" y="570"/>
                      </a:lnTo>
                      <a:lnTo>
                        <a:pt x="19" y="475"/>
                      </a:lnTo>
                      <a:lnTo>
                        <a:pt x="0" y="393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a0e5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129840" y="664920"/>
                  <a:ext cx="221040" cy="131040"/>
                </a:xfrm>
                <a:custGeom>
                  <a:avLst/>
                  <a:gdLst/>
                  <a:ahLst/>
                  <a:rect l="l" t="t" r="r" b="b"/>
                  <a:pathLst>
                    <a:path w="839" h="498">
                      <a:moveTo>
                        <a:pt x="590" y="0"/>
                      </a:moveTo>
                      <a:lnTo>
                        <a:pt x="576" y="19"/>
                      </a:lnTo>
                      <a:lnTo>
                        <a:pt x="538" y="68"/>
                      </a:lnTo>
                      <a:lnTo>
                        <a:pt x="481" y="139"/>
                      </a:lnTo>
                      <a:lnTo>
                        <a:pt x="447" y="179"/>
                      </a:lnTo>
                      <a:lnTo>
                        <a:pt x="409" y="220"/>
                      </a:lnTo>
                      <a:lnTo>
                        <a:pt x="369" y="262"/>
                      </a:lnTo>
                      <a:lnTo>
                        <a:pt x="325" y="304"/>
                      </a:lnTo>
                      <a:lnTo>
                        <a:pt x="282" y="344"/>
                      </a:lnTo>
                      <a:lnTo>
                        <a:pt x="238" y="380"/>
                      </a:lnTo>
                      <a:lnTo>
                        <a:pt x="194" y="411"/>
                      </a:lnTo>
                      <a:lnTo>
                        <a:pt x="148" y="437"/>
                      </a:lnTo>
                      <a:lnTo>
                        <a:pt x="65" y="468"/>
                      </a:lnTo>
                      <a:lnTo>
                        <a:pt x="0" y="485"/>
                      </a:lnTo>
                      <a:lnTo>
                        <a:pt x="67" y="494"/>
                      </a:lnTo>
                      <a:lnTo>
                        <a:pt x="232" y="498"/>
                      </a:lnTo>
                      <a:lnTo>
                        <a:pt x="331" y="462"/>
                      </a:lnTo>
                      <a:lnTo>
                        <a:pt x="430" y="416"/>
                      </a:lnTo>
                      <a:lnTo>
                        <a:pt x="487" y="392"/>
                      </a:lnTo>
                      <a:lnTo>
                        <a:pt x="544" y="361"/>
                      </a:lnTo>
                      <a:lnTo>
                        <a:pt x="601" y="329"/>
                      </a:lnTo>
                      <a:lnTo>
                        <a:pt x="656" y="295"/>
                      </a:lnTo>
                      <a:lnTo>
                        <a:pt x="707" y="258"/>
                      </a:lnTo>
                      <a:lnTo>
                        <a:pt x="753" y="222"/>
                      </a:lnTo>
                      <a:lnTo>
                        <a:pt x="820" y="144"/>
                      </a:lnTo>
                      <a:lnTo>
                        <a:pt x="839" y="65"/>
                      </a:lnTo>
                      <a:lnTo>
                        <a:pt x="590" y="0"/>
                      </a:lnTo>
                      <a:lnTo>
                        <a:pt x="59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923560" y="872280"/>
                  <a:ext cx="65160" cy="72360"/>
                </a:xfrm>
                <a:custGeom>
                  <a:avLst/>
                  <a:gdLst/>
                  <a:ahLst/>
                  <a:rect l="l" t="t" r="r" b="b"/>
                  <a:pathLst>
                    <a:path w="249" h="276">
                      <a:moveTo>
                        <a:pt x="0" y="192"/>
                      </a:moveTo>
                      <a:lnTo>
                        <a:pt x="80" y="184"/>
                      </a:lnTo>
                      <a:lnTo>
                        <a:pt x="161" y="129"/>
                      </a:lnTo>
                      <a:lnTo>
                        <a:pt x="205" y="76"/>
                      </a:lnTo>
                      <a:lnTo>
                        <a:pt x="249" y="0"/>
                      </a:lnTo>
                      <a:lnTo>
                        <a:pt x="222" y="209"/>
                      </a:lnTo>
                      <a:lnTo>
                        <a:pt x="112" y="276"/>
                      </a:lnTo>
                      <a:lnTo>
                        <a:pt x="0" y="192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97960" y="916920"/>
                  <a:ext cx="156960" cy="244440"/>
                </a:xfrm>
                <a:custGeom>
                  <a:avLst/>
                  <a:gdLst/>
                  <a:ahLst/>
                  <a:rect l="l" t="t" r="r" b="b"/>
                  <a:pathLst>
                    <a:path w="595" h="928">
                      <a:moveTo>
                        <a:pt x="0" y="726"/>
                      </a:moveTo>
                      <a:lnTo>
                        <a:pt x="23" y="774"/>
                      </a:lnTo>
                      <a:lnTo>
                        <a:pt x="49" y="817"/>
                      </a:lnTo>
                      <a:lnTo>
                        <a:pt x="86" y="865"/>
                      </a:lnTo>
                      <a:lnTo>
                        <a:pt x="106" y="886"/>
                      </a:lnTo>
                      <a:lnTo>
                        <a:pt x="131" y="905"/>
                      </a:lnTo>
                      <a:lnTo>
                        <a:pt x="183" y="928"/>
                      </a:lnTo>
                      <a:lnTo>
                        <a:pt x="241" y="926"/>
                      </a:lnTo>
                      <a:lnTo>
                        <a:pt x="306" y="888"/>
                      </a:lnTo>
                      <a:lnTo>
                        <a:pt x="338" y="857"/>
                      </a:lnTo>
                      <a:lnTo>
                        <a:pt x="369" y="825"/>
                      </a:lnTo>
                      <a:lnTo>
                        <a:pt x="424" y="760"/>
                      </a:lnTo>
                      <a:lnTo>
                        <a:pt x="472" y="698"/>
                      </a:lnTo>
                      <a:lnTo>
                        <a:pt x="510" y="639"/>
                      </a:lnTo>
                      <a:lnTo>
                        <a:pt x="538" y="586"/>
                      </a:lnTo>
                      <a:lnTo>
                        <a:pt x="559" y="544"/>
                      </a:lnTo>
                      <a:lnTo>
                        <a:pt x="576" y="508"/>
                      </a:lnTo>
                      <a:lnTo>
                        <a:pt x="595" y="169"/>
                      </a:lnTo>
                      <a:lnTo>
                        <a:pt x="511" y="25"/>
                      </a:lnTo>
                      <a:lnTo>
                        <a:pt x="335" y="0"/>
                      </a:lnTo>
                      <a:lnTo>
                        <a:pt x="127" y="300"/>
                      </a:lnTo>
                      <a:lnTo>
                        <a:pt x="116" y="335"/>
                      </a:lnTo>
                      <a:lnTo>
                        <a:pt x="91" y="413"/>
                      </a:lnTo>
                      <a:lnTo>
                        <a:pt x="61" y="509"/>
                      </a:lnTo>
                      <a:lnTo>
                        <a:pt x="42" y="595"/>
                      </a:lnTo>
                      <a:lnTo>
                        <a:pt x="15" y="694"/>
                      </a:lnTo>
                      <a:lnTo>
                        <a:pt x="0" y="726"/>
                      </a:lnTo>
                      <a:lnTo>
                        <a:pt x="0" y="726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60240" y="978120"/>
                  <a:ext cx="62280" cy="123480"/>
                </a:xfrm>
                <a:custGeom>
                  <a:avLst/>
                  <a:gdLst/>
                  <a:ahLst/>
                  <a:rect l="l" t="t" r="r" b="b"/>
                  <a:pathLst>
                    <a:path w="236" h="469">
                      <a:moveTo>
                        <a:pt x="156" y="0"/>
                      </a:moveTo>
                      <a:lnTo>
                        <a:pt x="57" y="80"/>
                      </a:lnTo>
                      <a:lnTo>
                        <a:pt x="2" y="382"/>
                      </a:lnTo>
                      <a:lnTo>
                        <a:pt x="0" y="367"/>
                      </a:lnTo>
                      <a:lnTo>
                        <a:pt x="15" y="439"/>
                      </a:lnTo>
                      <a:lnTo>
                        <a:pt x="30" y="468"/>
                      </a:lnTo>
                      <a:lnTo>
                        <a:pt x="49" y="469"/>
                      </a:lnTo>
                      <a:lnTo>
                        <a:pt x="102" y="420"/>
                      </a:lnTo>
                      <a:lnTo>
                        <a:pt x="150" y="350"/>
                      </a:lnTo>
                      <a:lnTo>
                        <a:pt x="171" y="314"/>
                      </a:lnTo>
                      <a:lnTo>
                        <a:pt x="184" y="279"/>
                      </a:lnTo>
                      <a:lnTo>
                        <a:pt x="209" y="201"/>
                      </a:lnTo>
                      <a:lnTo>
                        <a:pt x="236" y="47"/>
                      </a:lnTo>
                      <a:lnTo>
                        <a:pt x="215" y="17"/>
                      </a:lnTo>
                      <a:lnTo>
                        <a:pt x="188" y="4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184560" y="935280"/>
                  <a:ext cx="103680" cy="86400"/>
                </a:xfrm>
                <a:custGeom>
                  <a:avLst/>
                  <a:gdLst/>
                  <a:ahLst/>
                  <a:rect l="l" t="t" r="r" b="b"/>
                  <a:pathLst>
                    <a:path w="394" h="327">
                      <a:moveTo>
                        <a:pt x="0" y="183"/>
                      </a:moveTo>
                      <a:lnTo>
                        <a:pt x="36" y="202"/>
                      </a:lnTo>
                      <a:lnTo>
                        <a:pt x="130" y="217"/>
                      </a:lnTo>
                      <a:lnTo>
                        <a:pt x="257" y="170"/>
                      </a:lnTo>
                      <a:lnTo>
                        <a:pt x="291" y="141"/>
                      </a:lnTo>
                      <a:lnTo>
                        <a:pt x="325" y="105"/>
                      </a:lnTo>
                      <a:lnTo>
                        <a:pt x="360" y="57"/>
                      </a:lnTo>
                      <a:lnTo>
                        <a:pt x="394" y="0"/>
                      </a:lnTo>
                      <a:lnTo>
                        <a:pt x="392" y="107"/>
                      </a:lnTo>
                      <a:lnTo>
                        <a:pt x="381" y="154"/>
                      </a:lnTo>
                      <a:lnTo>
                        <a:pt x="360" y="202"/>
                      </a:lnTo>
                      <a:lnTo>
                        <a:pt x="327" y="248"/>
                      </a:lnTo>
                      <a:lnTo>
                        <a:pt x="305" y="268"/>
                      </a:lnTo>
                      <a:lnTo>
                        <a:pt x="280" y="287"/>
                      </a:lnTo>
                      <a:lnTo>
                        <a:pt x="227" y="316"/>
                      </a:lnTo>
                      <a:lnTo>
                        <a:pt x="179" y="327"/>
                      </a:lnTo>
                      <a:lnTo>
                        <a:pt x="99" y="316"/>
                      </a:lnTo>
                      <a:lnTo>
                        <a:pt x="46" y="287"/>
                      </a:lnTo>
                      <a:lnTo>
                        <a:pt x="29" y="270"/>
                      </a:lnTo>
                      <a:lnTo>
                        <a:pt x="0" y="183"/>
                      </a:lnTo>
                      <a:lnTo>
                        <a:pt x="0" y="183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154320" y="679320"/>
                  <a:ext cx="259920" cy="132480"/>
                </a:xfrm>
                <a:custGeom>
                  <a:avLst/>
                  <a:gdLst/>
                  <a:ahLst/>
                  <a:rect l="l" t="t" r="r" b="b"/>
                  <a:pathLst>
                    <a:path w="985" h="506">
                      <a:moveTo>
                        <a:pt x="0" y="434"/>
                      </a:moveTo>
                      <a:lnTo>
                        <a:pt x="86" y="416"/>
                      </a:lnTo>
                      <a:lnTo>
                        <a:pt x="282" y="365"/>
                      </a:lnTo>
                      <a:lnTo>
                        <a:pt x="390" y="329"/>
                      </a:lnTo>
                      <a:lnTo>
                        <a:pt x="489" y="283"/>
                      </a:lnTo>
                      <a:lnTo>
                        <a:pt x="567" y="232"/>
                      </a:lnTo>
                      <a:lnTo>
                        <a:pt x="612" y="173"/>
                      </a:lnTo>
                      <a:lnTo>
                        <a:pt x="688" y="0"/>
                      </a:lnTo>
                      <a:lnTo>
                        <a:pt x="823" y="0"/>
                      </a:lnTo>
                      <a:lnTo>
                        <a:pt x="985" y="23"/>
                      </a:lnTo>
                      <a:lnTo>
                        <a:pt x="949" y="69"/>
                      </a:lnTo>
                      <a:lnTo>
                        <a:pt x="911" y="116"/>
                      </a:lnTo>
                      <a:lnTo>
                        <a:pt x="871" y="173"/>
                      </a:lnTo>
                      <a:lnTo>
                        <a:pt x="829" y="234"/>
                      </a:lnTo>
                      <a:lnTo>
                        <a:pt x="793" y="293"/>
                      </a:lnTo>
                      <a:lnTo>
                        <a:pt x="763" y="380"/>
                      </a:lnTo>
                      <a:lnTo>
                        <a:pt x="759" y="472"/>
                      </a:lnTo>
                      <a:lnTo>
                        <a:pt x="747" y="506"/>
                      </a:lnTo>
                      <a:lnTo>
                        <a:pt x="531" y="468"/>
                      </a:lnTo>
                      <a:lnTo>
                        <a:pt x="0" y="434"/>
                      </a:lnTo>
                      <a:lnTo>
                        <a:pt x="0" y="434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68800" y="743760"/>
                  <a:ext cx="96840" cy="77400"/>
                </a:xfrm>
                <a:custGeom>
                  <a:avLst/>
                  <a:gdLst/>
                  <a:ahLst/>
                  <a:rect l="l" t="t" r="r" b="b"/>
                  <a:pathLst>
                    <a:path w="369" h="293">
                      <a:moveTo>
                        <a:pt x="0" y="223"/>
                      </a:moveTo>
                      <a:lnTo>
                        <a:pt x="42" y="208"/>
                      </a:lnTo>
                      <a:lnTo>
                        <a:pt x="142" y="166"/>
                      </a:lnTo>
                      <a:lnTo>
                        <a:pt x="203" y="133"/>
                      </a:lnTo>
                      <a:lnTo>
                        <a:pt x="264" y="95"/>
                      </a:lnTo>
                      <a:lnTo>
                        <a:pt x="321" y="52"/>
                      </a:lnTo>
                      <a:lnTo>
                        <a:pt x="369" y="0"/>
                      </a:lnTo>
                      <a:lnTo>
                        <a:pt x="319" y="227"/>
                      </a:lnTo>
                      <a:lnTo>
                        <a:pt x="340" y="293"/>
                      </a:lnTo>
                      <a:lnTo>
                        <a:pt x="302" y="278"/>
                      </a:lnTo>
                      <a:lnTo>
                        <a:pt x="209" y="246"/>
                      </a:lnTo>
                      <a:lnTo>
                        <a:pt x="97" y="221"/>
                      </a:lnTo>
                      <a:lnTo>
                        <a:pt x="0" y="223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082320" y="578160"/>
                  <a:ext cx="333720" cy="202680"/>
                </a:xfrm>
                <a:custGeom>
                  <a:avLst/>
                  <a:gdLst/>
                  <a:ahLst/>
                  <a:rect l="l" t="t" r="r" b="b"/>
                  <a:pathLst>
                    <a:path w="1267" h="770">
                      <a:moveTo>
                        <a:pt x="232" y="320"/>
                      </a:moveTo>
                      <a:lnTo>
                        <a:pt x="337" y="302"/>
                      </a:lnTo>
                      <a:lnTo>
                        <a:pt x="559" y="314"/>
                      </a:lnTo>
                      <a:lnTo>
                        <a:pt x="843" y="371"/>
                      </a:lnTo>
                      <a:lnTo>
                        <a:pt x="991" y="424"/>
                      </a:lnTo>
                      <a:lnTo>
                        <a:pt x="1065" y="456"/>
                      </a:lnTo>
                      <a:lnTo>
                        <a:pt x="1136" y="494"/>
                      </a:lnTo>
                      <a:lnTo>
                        <a:pt x="1185" y="494"/>
                      </a:lnTo>
                      <a:lnTo>
                        <a:pt x="1242" y="462"/>
                      </a:lnTo>
                      <a:lnTo>
                        <a:pt x="1267" y="422"/>
                      </a:lnTo>
                      <a:lnTo>
                        <a:pt x="1259" y="405"/>
                      </a:lnTo>
                      <a:lnTo>
                        <a:pt x="1229" y="394"/>
                      </a:lnTo>
                      <a:lnTo>
                        <a:pt x="1122" y="373"/>
                      </a:lnTo>
                      <a:lnTo>
                        <a:pt x="953" y="335"/>
                      </a:lnTo>
                      <a:lnTo>
                        <a:pt x="835" y="310"/>
                      </a:lnTo>
                      <a:lnTo>
                        <a:pt x="691" y="283"/>
                      </a:lnTo>
                      <a:lnTo>
                        <a:pt x="516" y="255"/>
                      </a:lnTo>
                      <a:lnTo>
                        <a:pt x="307" y="225"/>
                      </a:lnTo>
                      <a:lnTo>
                        <a:pt x="293" y="211"/>
                      </a:lnTo>
                      <a:lnTo>
                        <a:pt x="322" y="190"/>
                      </a:lnTo>
                      <a:lnTo>
                        <a:pt x="383" y="162"/>
                      </a:lnTo>
                      <a:lnTo>
                        <a:pt x="462" y="129"/>
                      </a:lnTo>
                      <a:lnTo>
                        <a:pt x="554" y="97"/>
                      </a:lnTo>
                      <a:lnTo>
                        <a:pt x="641" y="69"/>
                      </a:lnTo>
                      <a:lnTo>
                        <a:pt x="769" y="38"/>
                      </a:lnTo>
                      <a:lnTo>
                        <a:pt x="839" y="15"/>
                      </a:lnTo>
                      <a:lnTo>
                        <a:pt x="837" y="0"/>
                      </a:lnTo>
                      <a:lnTo>
                        <a:pt x="628" y="38"/>
                      </a:lnTo>
                      <a:lnTo>
                        <a:pt x="531" y="67"/>
                      </a:lnTo>
                      <a:lnTo>
                        <a:pt x="424" y="103"/>
                      </a:lnTo>
                      <a:lnTo>
                        <a:pt x="314" y="152"/>
                      </a:lnTo>
                      <a:lnTo>
                        <a:pt x="261" y="181"/>
                      </a:lnTo>
                      <a:lnTo>
                        <a:pt x="208" y="213"/>
                      </a:lnTo>
                      <a:lnTo>
                        <a:pt x="181" y="247"/>
                      </a:lnTo>
                      <a:lnTo>
                        <a:pt x="153" y="289"/>
                      </a:lnTo>
                      <a:lnTo>
                        <a:pt x="120" y="342"/>
                      </a:lnTo>
                      <a:lnTo>
                        <a:pt x="84" y="407"/>
                      </a:lnTo>
                      <a:lnTo>
                        <a:pt x="52" y="481"/>
                      </a:lnTo>
                      <a:lnTo>
                        <a:pt x="0" y="648"/>
                      </a:lnTo>
                      <a:lnTo>
                        <a:pt x="0" y="770"/>
                      </a:lnTo>
                      <a:lnTo>
                        <a:pt x="48" y="696"/>
                      </a:lnTo>
                      <a:lnTo>
                        <a:pt x="54" y="643"/>
                      </a:lnTo>
                      <a:lnTo>
                        <a:pt x="71" y="601"/>
                      </a:lnTo>
                      <a:lnTo>
                        <a:pt x="116" y="506"/>
                      </a:lnTo>
                      <a:lnTo>
                        <a:pt x="145" y="451"/>
                      </a:lnTo>
                      <a:lnTo>
                        <a:pt x="173" y="397"/>
                      </a:lnTo>
                      <a:lnTo>
                        <a:pt x="204" y="352"/>
                      </a:lnTo>
                      <a:lnTo>
                        <a:pt x="232" y="320"/>
                      </a:lnTo>
                      <a:lnTo>
                        <a:pt x="232" y="3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146760" y="801000"/>
                  <a:ext cx="223560" cy="161640"/>
                </a:xfrm>
                <a:custGeom>
                  <a:avLst/>
                  <a:gdLst/>
                  <a:ahLst/>
                  <a:rect l="l" t="t" r="r" b="b"/>
                  <a:pathLst>
                    <a:path w="848" h="614">
                      <a:moveTo>
                        <a:pt x="741" y="0"/>
                      </a:moveTo>
                      <a:lnTo>
                        <a:pt x="848" y="32"/>
                      </a:lnTo>
                      <a:lnTo>
                        <a:pt x="760" y="65"/>
                      </a:lnTo>
                      <a:lnTo>
                        <a:pt x="663" y="105"/>
                      </a:lnTo>
                      <a:lnTo>
                        <a:pt x="606" y="131"/>
                      </a:lnTo>
                      <a:lnTo>
                        <a:pt x="544" y="163"/>
                      </a:lnTo>
                      <a:lnTo>
                        <a:pt x="477" y="200"/>
                      </a:lnTo>
                      <a:lnTo>
                        <a:pt x="407" y="243"/>
                      </a:lnTo>
                      <a:lnTo>
                        <a:pt x="336" y="291"/>
                      </a:lnTo>
                      <a:lnTo>
                        <a:pt x="300" y="316"/>
                      </a:lnTo>
                      <a:lnTo>
                        <a:pt x="266" y="344"/>
                      </a:lnTo>
                      <a:lnTo>
                        <a:pt x="230" y="373"/>
                      </a:lnTo>
                      <a:lnTo>
                        <a:pt x="196" y="403"/>
                      </a:lnTo>
                      <a:lnTo>
                        <a:pt x="161" y="433"/>
                      </a:lnTo>
                      <a:lnTo>
                        <a:pt x="127" y="468"/>
                      </a:lnTo>
                      <a:lnTo>
                        <a:pt x="61" y="538"/>
                      </a:lnTo>
                      <a:lnTo>
                        <a:pt x="0" y="614"/>
                      </a:lnTo>
                      <a:lnTo>
                        <a:pt x="0" y="584"/>
                      </a:lnTo>
                      <a:lnTo>
                        <a:pt x="34" y="519"/>
                      </a:lnTo>
                      <a:lnTo>
                        <a:pt x="61" y="477"/>
                      </a:lnTo>
                      <a:lnTo>
                        <a:pt x="95" y="431"/>
                      </a:lnTo>
                      <a:lnTo>
                        <a:pt x="137" y="382"/>
                      </a:lnTo>
                      <a:lnTo>
                        <a:pt x="186" y="331"/>
                      </a:lnTo>
                      <a:lnTo>
                        <a:pt x="215" y="304"/>
                      </a:lnTo>
                      <a:lnTo>
                        <a:pt x="243" y="277"/>
                      </a:lnTo>
                      <a:lnTo>
                        <a:pt x="275" y="249"/>
                      </a:lnTo>
                      <a:lnTo>
                        <a:pt x="310" y="222"/>
                      </a:lnTo>
                      <a:lnTo>
                        <a:pt x="346" y="196"/>
                      </a:lnTo>
                      <a:lnTo>
                        <a:pt x="386" y="169"/>
                      </a:lnTo>
                      <a:lnTo>
                        <a:pt x="426" y="143"/>
                      </a:lnTo>
                      <a:lnTo>
                        <a:pt x="469" y="118"/>
                      </a:lnTo>
                      <a:lnTo>
                        <a:pt x="515" y="93"/>
                      </a:lnTo>
                      <a:lnTo>
                        <a:pt x="564" y="68"/>
                      </a:lnTo>
                      <a:lnTo>
                        <a:pt x="614" y="44"/>
                      </a:lnTo>
                      <a:lnTo>
                        <a:pt x="667" y="23"/>
                      </a:lnTo>
                      <a:lnTo>
                        <a:pt x="741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22800" y="643320"/>
                  <a:ext cx="202320" cy="166320"/>
                </a:xfrm>
                <a:custGeom>
                  <a:avLst/>
                  <a:gdLst/>
                  <a:ahLst/>
                  <a:rect l="l" t="t" r="r" b="b"/>
                  <a:pathLst>
                    <a:path w="768" h="631">
                      <a:moveTo>
                        <a:pt x="74" y="599"/>
                      </a:moveTo>
                      <a:lnTo>
                        <a:pt x="88" y="536"/>
                      </a:lnTo>
                      <a:lnTo>
                        <a:pt x="110" y="466"/>
                      </a:lnTo>
                      <a:lnTo>
                        <a:pt x="147" y="382"/>
                      </a:lnTo>
                      <a:lnTo>
                        <a:pt x="171" y="339"/>
                      </a:lnTo>
                      <a:lnTo>
                        <a:pt x="200" y="293"/>
                      </a:lnTo>
                      <a:lnTo>
                        <a:pt x="236" y="247"/>
                      </a:lnTo>
                      <a:lnTo>
                        <a:pt x="278" y="206"/>
                      </a:lnTo>
                      <a:lnTo>
                        <a:pt x="325" y="164"/>
                      </a:lnTo>
                      <a:lnTo>
                        <a:pt x="379" y="126"/>
                      </a:lnTo>
                      <a:lnTo>
                        <a:pt x="441" y="93"/>
                      </a:lnTo>
                      <a:lnTo>
                        <a:pt x="510" y="65"/>
                      </a:lnTo>
                      <a:lnTo>
                        <a:pt x="610" y="31"/>
                      </a:lnTo>
                      <a:lnTo>
                        <a:pt x="685" y="6"/>
                      </a:lnTo>
                      <a:lnTo>
                        <a:pt x="768" y="0"/>
                      </a:lnTo>
                      <a:lnTo>
                        <a:pt x="740" y="59"/>
                      </a:lnTo>
                      <a:lnTo>
                        <a:pt x="645" y="67"/>
                      </a:lnTo>
                      <a:lnTo>
                        <a:pt x="561" y="103"/>
                      </a:lnTo>
                      <a:lnTo>
                        <a:pt x="458" y="148"/>
                      </a:lnTo>
                      <a:lnTo>
                        <a:pt x="392" y="188"/>
                      </a:lnTo>
                      <a:lnTo>
                        <a:pt x="323" y="232"/>
                      </a:lnTo>
                      <a:lnTo>
                        <a:pt x="253" y="308"/>
                      </a:lnTo>
                      <a:lnTo>
                        <a:pt x="209" y="371"/>
                      </a:lnTo>
                      <a:lnTo>
                        <a:pt x="171" y="451"/>
                      </a:lnTo>
                      <a:lnTo>
                        <a:pt x="154" y="536"/>
                      </a:lnTo>
                      <a:lnTo>
                        <a:pt x="166" y="595"/>
                      </a:lnTo>
                      <a:lnTo>
                        <a:pt x="181" y="631"/>
                      </a:lnTo>
                      <a:lnTo>
                        <a:pt x="0" y="622"/>
                      </a:lnTo>
                      <a:lnTo>
                        <a:pt x="74" y="599"/>
                      </a:lnTo>
                      <a:lnTo>
                        <a:pt x="74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276720" y="577800"/>
                  <a:ext cx="358920" cy="176400"/>
                </a:xfrm>
                <a:custGeom>
                  <a:avLst/>
                  <a:gdLst/>
                  <a:ahLst/>
                  <a:rect l="l" t="t" r="r" b="b"/>
                  <a:pathLst>
                    <a:path w="1361" h="671">
                      <a:moveTo>
                        <a:pt x="126" y="29"/>
                      </a:moveTo>
                      <a:lnTo>
                        <a:pt x="280" y="23"/>
                      </a:lnTo>
                      <a:lnTo>
                        <a:pt x="639" y="65"/>
                      </a:lnTo>
                      <a:lnTo>
                        <a:pt x="742" y="95"/>
                      </a:lnTo>
                      <a:lnTo>
                        <a:pt x="846" y="135"/>
                      </a:lnTo>
                      <a:lnTo>
                        <a:pt x="949" y="187"/>
                      </a:lnTo>
                      <a:lnTo>
                        <a:pt x="1000" y="217"/>
                      </a:lnTo>
                      <a:lnTo>
                        <a:pt x="1050" y="251"/>
                      </a:lnTo>
                      <a:lnTo>
                        <a:pt x="1097" y="287"/>
                      </a:lnTo>
                      <a:lnTo>
                        <a:pt x="1143" y="329"/>
                      </a:lnTo>
                      <a:lnTo>
                        <a:pt x="1187" y="375"/>
                      </a:lnTo>
                      <a:lnTo>
                        <a:pt x="1226" y="426"/>
                      </a:lnTo>
                      <a:lnTo>
                        <a:pt x="1264" y="479"/>
                      </a:lnTo>
                      <a:lnTo>
                        <a:pt x="1301" y="538"/>
                      </a:lnTo>
                      <a:lnTo>
                        <a:pt x="1333" y="603"/>
                      </a:lnTo>
                      <a:lnTo>
                        <a:pt x="1361" y="671"/>
                      </a:lnTo>
                      <a:lnTo>
                        <a:pt x="1356" y="591"/>
                      </a:lnTo>
                      <a:lnTo>
                        <a:pt x="1337" y="508"/>
                      </a:lnTo>
                      <a:lnTo>
                        <a:pt x="1320" y="460"/>
                      </a:lnTo>
                      <a:lnTo>
                        <a:pt x="1295" y="409"/>
                      </a:lnTo>
                      <a:lnTo>
                        <a:pt x="1261" y="356"/>
                      </a:lnTo>
                      <a:lnTo>
                        <a:pt x="1219" y="303"/>
                      </a:lnTo>
                      <a:lnTo>
                        <a:pt x="1194" y="276"/>
                      </a:lnTo>
                      <a:lnTo>
                        <a:pt x="1168" y="251"/>
                      </a:lnTo>
                      <a:lnTo>
                        <a:pt x="1137" y="225"/>
                      </a:lnTo>
                      <a:lnTo>
                        <a:pt x="1103" y="200"/>
                      </a:lnTo>
                      <a:lnTo>
                        <a:pt x="1069" y="177"/>
                      </a:lnTo>
                      <a:lnTo>
                        <a:pt x="1029" y="154"/>
                      </a:lnTo>
                      <a:lnTo>
                        <a:pt x="985" y="133"/>
                      </a:lnTo>
                      <a:lnTo>
                        <a:pt x="939" y="112"/>
                      </a:lnTo>
                      <a:lnTo>
                        <a:pt x="835" y="78"/>
                      </a:lnTo>
                      <a:lnTo>
                        <a:pt x="715" y="50"/>
                      </a:lnTo>
                      <a:lnTo>
                        <a:pt x="652" y="40"/>
                      </a:lnTo>
                      <a:lnTo>
                        <a:pt x="498" y="19"/>
                      </a:lnTo>
                      <a:lnTo>
                        <a:pt x="299" y="0"/>
                      </a:lnTo>
                      <a:lnTo>
                        <a:pt x="99" y="2"/>
                      </a:lnTo>
                      <a:lnTo>
                        <a:pt x="0" y="16"/>
                      </a:lnTo>
                      <a:lnTo>
                        <a:pt x="21" y="23"/>
                      </a:lnTo>
                      <a:lnTo>
                        <a:pt x="126" y="29"/>
                      </a:lnTo>
                      <a:lnTo>
                        <a:pt x="126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623040" y="723960"/>
                  <a:ext cx="81720" cy="156960"/>
                </a:xfrm>
                <a:custGeom>
                  <a:avLst/>
                  <a:gdLst/>
                  <a:ahLst/>
                  <a:rect l="l" t="t" r="r" b="b"/>
                  <a:pathLst>
                    <a:path w="310" h="595">
                      <a:moveTo>
                        <a:pt x="0" y="0"/>
                      </a:moveTo>
                      <a:lnTo>
                        <a:pt x="25" y="59"/>
                      </a:lnTo>
                      <a:lnTo>
                        <a:pt x="49" y="122"/>
                      </a:lnTo>
                      <a:lnTo>
                        <a:pt x="78" y="198"/>
                      </a:lnTo>
                      <a:lnTo>
                        <a:pt x="108" y="278"/>
                      </a:lnTo>
                      <a:lnTo>
                        <a:pt x="133" y="354"/>
                      </a:lnTo>
                      <a:lnTo>
                        <a:pt x="162" y="472"/>
                      </a:lnTo>
                      <a:lnTo>
                        <a:pt x="175" y="532"/>
                      </a:lnTo>
                      <a:lnTo>
                        <a:pt x="202" y="570"/>
                      </a:lnTo>
                      <a:lnTo>
                        <a:pt x="240" y="595"/>
                      </a:lnTo>
                      <a:lnTo>
                        <a:pt x="264" y="590"/>
                      </a:lnTo>
                      <a:lnTo>
                        <a:pt x="310" y="559"/>
                      </a:lnTo>
                      <a:lnTo>
                        <a:pt x="255" y="512"/>
                      </a:lnTo>
                      <a:lnTo>
                        <a:pt x="127" y="196"/>
                      </a:lnTo>
                      <a:lnTo>
                        <a:pt x="99" y="131"/>
                      </a:lnTo>
                      <a:lnTo>
                        <a:pt x="72" y="86"/>
                      </a:lnTo>
                      <a:lnTo>
                        <a:pt x="32" y="2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01200" y="698040"/>
                  <a:ext cx="296280" cy="137520"/>
                </a:xfrm>
                <a:custGeom>
                  <a:avLst/>
                  <a:gdLst/>
                  <a:ahLst/>
                  <a:rect l="l" t="t" r="r" b="b"/>
                  <a:pathLst>
                    <a:path w="1126" h="523">
                      <a:moveTo>
                        <a:pt x="263" y="424"/>
                      </a:moveTo>
                      <a:lnTo>
                        <a:pt x="287" y="436"/>
                      </a:lnTo>
                      <a:lnTo>
                        <a:pt x="384" y="430"/>
                      </a:lnTo>
                      <a:lnTo>
                        <a:pt x="584" y="354"/>
                      </a:lnTo>
                      <a:lnTo>
                        <a:pt x="653" y="316"/>
                      </a:lnTo>
                      <a:lnTo>
                        <a:pt x="730" y="270"/>
                      </a:lnTo>
                      <a:lnTo>
                        <a:pt x="774" y="242"/>
                      </a:lnTo>
                      <a:lnTo>
                        <a:pt x="820" y="213"/>
                      </a:lnTo>
                      <a:lnTo>
                        <a:pt x="865" y="181"/>
                      </a:lnTo>
                      <a:lnTo>
                        <a:pt x="917" y="147"/>
                      </a:lnTo>
                      <a:lnTo>
                        <a:pt x="961" y="113"/>
                      </a:lnTo>
                      <a:lnTo>
                        <a:pt x="999" y="82"/>
                      </a:lnTo>
                      <a:lnTo>
                        <a:pt x="1046" y="25"/>
                      </a:lnTo>
                      <a:lnTo>
                        <a:pt x="1063" y="6"/>
                      </a:lnTo>
                      <a:lnTo>
                        <a:pt x="1077" y="0"/>
                      </a:lnTo>
                      <a:lnTo>
                        <a:pt x="1103" y="10"/>
                      </a:lnTo>
                      <a:lnTo>
                        <a:pt x="1126" y="48"/>
                      </a:lnTo>
                      <a:lnTo>
                        <a:pt x="1078" y="97"/>
                      </a:lnTo>
                      <a:lnTo>
                        <a:pt x="1052" y="122"/>
                      </a:lnTo>
                      <a:lnTo>
                        <a:pt x="1019" y="151"/>
                      </a:lnTo>
                      <a:lnTo>
                        <a:pt x="983" y="181"/>
                      </a:lnTo>
                      <a:lnTo>
                        <a:pt x="940" y="215"/>
                      </a:lnTo>
                      <a:lnTo>
                        <a:pt x="892" y="251"/>
                      </a:lnTo>
                      <a:lnTo>
                        <a:pt x="839" y="287"/>
                      </a:lnTo>
                      <a:lnTo>
                        <a:pt x="780" y="324"/>
                      </a:lnTo>
                      <a:lnTo>
                        <a:pt x="715" y="362"/>
                      </a:lnTo>
                      <a:lnTo>
                        <a:pt x="647" y="398"/>
                      </a:lnTo>
                      <a:lnTo>
                        <a:pt x="573" y="432"/>
                      </a:lnTo>
                      <a:lnTo>
                        <a:pt x="495" y="464"/>
                      </a:lnTo>
                      <a:lnTo>
                        <a:pt x="411" y="495"/>
                      </a:lnTo>
                      <a:lnTo>
                        <a:pt x="339" y="497"/>
                      </a:lnTo>
                      <a:lnTo>
                        <a:pt x="162" y="493"/>
                      </a:lnTo>
                      <a:lnTo>
                        <a:pt x="14" y="521"/>
                      </a:lnTo>
                      <a:lnTo>
                        <a:pt x="0" y="523"/>
                      </a:lnTo>
                      <a:lnTo>
                        <a:pt x="8" y="516"/>
                      </a:lnTo>
                      <a:lnTo>
                        <a:pt x="69" y="483"/>
                      </a:lnTo>
                      <a:lnTo>
                        <a:pt x="145" y="447"/>
                      </a:lnTo>
                      <a:lnTo>
                        <a:pt x="181" y="430"/>
                      </a:lnTo>
                      <a:lnTo>
                        <a:pt x="263" y="424"/>
                      </a:lnTo>
                      <a:lnTo>
                        <a:pt x="263" y="4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455280" y="801720"/>
                  <a:ext cx="198000" cy="223200"/>
                </a:xfrm>
                <a:custGeom>
                  <a:avLst/>
                  <a:gdLst/>
                  <a:ahLst/>
                  <a:rect l="l" t="t" r="r" b="b"/>
                  <a:pathLst>
                    <a:path w="751" h="848">
                      <a:moveTo>
                        <a:pt x="631" y="0"/>
                      </a:moveTo>
                      <a:lnTo>
                        <a:pt x="587" y="23"/>
                      </a:lnTo>
                      <a:lnTo>
                        <a:pt x="506" y="108"/>
                      </a:lnTo>
                      <a:lnTo>
                        <a:pt x="456" y="188"/>
                      </a:lnTo>
                      <a:lnTo>
                        <a:pt x="411" y="295"/>
                      </a:lnTo>
                      <a:lnTo>
                        <a:pt x="338" y="614"/>
                      </a:lnTo>
                      <a:lnTo>
                        <a:pt x="48" y="768"/>
                      </a:lnTo>
                      <a:lnTo>
                        <a:pt x="0" y="848"/>
                      </a:lnTo>
                      <a:lnTo>
                        <a:pt x="17" y="836"/>
                      </a:lnTo>
                      <a:lnTo>
                        <a:pt x="63" y="808"/>
                      </a:lnTo>
                      <a:lnTo>
                        <a:pt x="127" y="766"/>
                      </a:lnTo>
                      <a:lnTo>
                        <a:pt x="164" y="745"/>
                      </a:lnTo>
                      <a:lnTo>
                        <a:pt x="202" y="722"/>
                      </a:lnTo>
                      <a:lnTo>
                        <a:pt x="278" y="682"/>
                      </a:lnTo>
                      <a:lnTo>
                        <a:pt x="346" y="654"/>
                      </a:lnTo>
                      <a:lnTo>
                        <a:pt x="395" y="642"/>
                      </a:lnTo>
                      <a:lnTo>
                        <a:pt x="418" y="656"/>
                      </a:lnTo>
                      <a:lnTo>
                        <a:pt x="460" y="428"/>
                      </a:lnTo>
                      <a:lnTo>
                        <a:pt x="483" y="321"/>
                      </a:lnTo>
                      <a:lnTo>
                        <a:pt x="517" y="217"/>
                      </a:lnTo>
                      <a:lnTo>
                        <a:pt x="538" y="169"/>
                      </a:lnTo>
                      <a:lnTo>
                        <a:pt x="561" y="127"/>
                      </a:lnTo>
                      <a:lnTo>
                        <a:pt x="589" y="91"/>
                      </a:lnTo>
                      <a:lnTo>
                        <a:pt x="620" y="63"/>
                      </a:lnTo>
                      <a:lnTo>
                        <a:pt x="677" y="59"/>
                      </a:lnTo>
                      <a:lnTo>
                        <a:pt x="719" y="97"/>
                      </a:lnTo>
                      <a:lnTo>
                        <a:pt x="749" y="199"/>
                      </a:lnTo>
                      <a:lnTo>
                        <a:pt x="751" y="177"/>
                      </a:lnTo>
                      <a:lnTo>
                        <a:pt x="749" y="112"/>
                      </a:lnTo>
                      <a:lnTo>
                        <a:pt x="738" y="42"/>
                      </a:lnTo>
                      <a:lnTo>
                        <a:pt x="726" y="17"/>
                      </a:lnTo>
                      <a:lnTo>
                        <a:pt x="709" y="4"/>
                      </a:lnTo>
                      <a:lnTo>
                        <a:pt x="631" y="0"/>
                      </a:lnTo>
                      <a:lnTo>
                        <a:pt x="6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501720" y="643320"/>
                  <a:ext cx="95760" cy="76680"/>
                </a:xfrm>
                <a:custGeom>
                  <a:avLst/>
                  <a:gdLst/>
                  <a:ahLst/>
                  <a:rect l="l" t="t" r="r" b="b"/>
                  <a:pathLst>
                    <a:path w="365" h="293">
                      <a:moveTo>
                        <a:pt x="34" y="63"/>
                      </a:moveTo>
                      <a:lnTo>
                        <a:pt x="118" y="72"/>
                      </a:lnTo>
                      <a:lnTo>
                        <a:pt x="209" y="116"/>
                      </a:lnTo>
                      <a:lnTo>
                        <a:pt x="276" y="190"/>
                      </a:lnTo>
                      <a:lnTo>
                        <a:pt x="291" y="293"/>
                      </a:lnTo>
                      <a:lnTo>
                        <a:pt x="365" y="255"/>
                      </a:lnTo>
                      <a:lnTo>
                        <a:pt x="344" y="217"/>
                      </a:lnTo>
                      <a:lnTo>
                        <a:pt x="317" y="177"/>
                      </a:lnTo>
                      <a:lnTo>
                        <a:pt x="283" y="131"/>
                      </a:lnTo>
                      <a:lnTo>
                        <a:pt x="243" y="86"/>
                      </a:lnTo>
                      <a:lnTo>
                        <a:pt x="220" y="65"/>
                      </a:lnTo>
                      <a:lnTo>
                        <a:pt x="196" y="44"/>
                      </a:lnTo>
                      <a:lnTo>
                        <a:pt x="144" y="15"/>
                      </a:lnTo>
                      <a:lnTo>
                        <a:pt x="89" y="0"/>
                      </a:lnTo>
                      <a:lnTo>
                        <a:pt x="68" y="12"/>
                      </a:lnTo>
                      <a:lnTo>
                        <a:pt x="25" y="36"/>
                      </a:lnTo>
                      <a:lnTo>
                        <a:pt x="0" y="57"/>
                      </a:lnTo>
                      <a:lnTo>
                        <a:pt x="34" y="63"/>
                      </a:lnTo>
                      <a:lnTo>
                        <a:pt x="34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930760" y="736560"/>
                  <a:ext cx="163800" cy="103680"/>
                </a:xfrm>
                <a:custGeom>
                  <a:avLst/>
                  <a:gdLst/>
                  <a:ahLst/>
                  <a:rect l="l" t="t" r="r" b="b"/>
                  <a:pathLst>
                    <a:path w="622" h="393">
                      <a:moveTo>
                        <a:pt x="595" y="0"/>
                      </a:moveTo>
                      <a:lnTo>
                        <a:pt x="552" y="21"/>
                      </a:lnTo>
                      <a:lnTo>
                        <a:pt x="502" y="43"/>
                      </a:lnTo>
                      <a:lnTo>
                        <a:pt x="445" y="72"/>
                      </a:lnTo>
                      <a:lnTo>
                        <a:pt x="382" y="104"/>
                      </a:lnTo>
                      <a:lnTo>
                        <a:pt x="322" y="137"/>
                      </a:lnTo>
                      <a:lnTo>
                        <a:pt x="265" y="167"/>
                      </a:lnTo>
                      <a:lnTo>
                        <a:pt x="221" y="196"/>
                      </a:lnTo>
                      <a:lnTo>
                        <a:pt x="183" y="222"/>
                      </a:lnTo>
                      <a:lnTo>
                        <a:pt x="145" y="254"/>
                      </a:lnTo>
                      <a:lnTo>
                        <a:pt x="109" y="287"/>
                      </a:lnTo>
                      <a:lnTo>
                        <a:pt x="74" y="319"/>
                      </a:lnTo>
                      <a:lnTo>
                        <a:pt x="44" y="348"/>
                      </a:lnTo>
                      <a:lnTo>
                        <a:pt x="21" y="370"/>
                      </a:lnTo>
                      <a:lnTo>
                        <a:pt x="0" y="393"/>
                      </a:lnTo>
                      <a:lnTo>
                        <a:pt x="152" y="287"/>
                      </a:lnTo>
                      <a:lnTo>
                        <a:pt x="202" y="262"/>
                      </a:lnTo>
                      <a:lnTo>
                        <a:pt x="251" y="237"/>
                      </a:lnTo>
                      <a:lnTo>
                        <a:pt x="310" y="207"/>
                      </a:lnTo>
                      <a:lnTo>
                        <a:pt x="392" y="169"/>
                      </a:lnTo>
                      <a:lnTo>
                        <a:pt x="496" y="129"/>
                      </a:lnTo>
                      <a:lnTo>
                        <a:pt x="584" y="99"/>
                      </a:lnTo>
                      <a:lnTo>
                        <a:pt x="622" y="85"/>
                      </a:lnTo>
                      <a:lnTo>
                        <a:pt x="595" y="0"/>
                      </a:lnTo>
                      <a:lnTo>
                        <a:pt x="5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31800" y="821520"/>
                  <a:ext cx="144000" cy="227160"/>
                </a:xfrm>
                <a:custGeom>
                  <a:avLst/>
                  <a:gdLst/>
                  <a:ahLst/>
                  <a:rect l="l" t="t" r="r" b="b"/>
                  <a:pathLst>
                    <a:path w="548" h="861">
                      <a:moveTo>
                        <a:pt x="322" y="108"/>
                      </a:moveTo>
                      <a:lnTo>
                        <a:pt x="383" y="160"/>
                      </a:lnTo>
                      <a:lnTo>
                        <a:pt x="428" y="215"/>
                      </a:lnTo>
                      <a:lnTo>
                        <a:pt x="480" y="336"/>
                      </a:lnTo>
                      <a:lnTo>
                        <a:pt x="495" y="468"/>
                      </a:lnTo>
                      <a:lnTo>
                        <a:pt x="497" y="612"/>
                      </a:lnTo>
                      <a:lnTo>
                        <a:pt x="472" y="726"/>
                      </a:lnTo>
                      <a:lnTo>
                        <a:pt x="451" y="810"/>
                      </a:lnTo>
                      <a:lnTo>
                        <a:pt x="434" y="861"/>
                      </a:lnTo>
                      <a:lnTo>
                        <a:pt x="443" y="853"/>
                      </a:lnTo>
                      <a:lnTo>
                        <a:pt x="483" y="804"/>
                      </a:lnTo>
                      <a:lnTo>
                        <a:pt x="527" y="751"/>
                      </a:lnTo>
                      <a:lnTo>
                        <a:pt x="548" y="724"/>
                      </a:lnTo>
                      <a:lnTo>
                        <a:pt x="527" y="591"/>
                      </a:lnTo>
                      <a:lnTo>
                        <a:pt x="537" y="393"/>
                      </a:lnTo>
                      <a:lnTo>
                        <a:pt x="529" y="306"/>
                      </a:lnTo>
                      <a:lnTo>
                        <a:pt x="510" y="239"/>
                      </a:lnTo>
                      <a:lnTo>
                        <a:pt x="476" y="173"/>
                      </a:lnTo>
                      <a:lnTo>
                        <a:pt x="451" y="133"/>
                      </a:lnTo>
                      <a:lnTo>
                        <a:pt x="421" y="95"/>
                      </a:lnTo>
                      <a:lnTo>
                        <a:pt x="384" y="59"/>
                      </a:lnTo>
                      <a:lnTo>
                        <a:pt x="341" y="28"/>
                      </a:lnTo>
                      <a:lnTo>
                        <a:pt x="289" y="9"/>
                      </a:lnTo>
                      <a:lnTo>
                        <a:pt x="230" y="2"/>
                      </a:lnTo>
                      <a:lnTo>
                        <a:pt x="0" y="0"/>
                      </a:lnTo>
                      <a:lnTo>
                        <a:pt x="27" y="8"/>
                      </a:lnTo>
                      <a:lnTo>
                        <a:pt x="177" y="34"/>
                      </a:lnTo>
                      <a:lnTo>
                        <a:pt x="280" y="80"/>
                      </a:lnTo>
                      <a:lnTo>
                        <a:pt x="322" y="108"/>
                      </a:lnTo>
                      <a:lnTo>
                        <a:pt x="322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896200" y="912240"/>
                  <a:ext cx="92160" cy="135720"/>
                </a:xfrm>
                <a:custGeom>
                  <a:avLst/>
                  <a:gdLst/>
                  <a:ahLst/>
                  <a:rect l="l" t="t" r="r" b="b"/>
                  <a:pathLst>
                    <a:path w="352" h="517">
                      <a:moveTo>
                        <a:pt x="6" y="0"/>
                      </a:moveTo>
                      <a:lnTo>
                        <a:pt x="0" y="160"/>
                      </a:lnTo>
                      <a:lnTo>
                        <a:pt x="8" y="241"/>
                      </a:lnTo>
                      <a:lnTo>
                        <a:pt x="31" y="297"/>
                      </a:lnTo>
                      <a:lnTo>
                        <a:pt x="46" y="314"/>
                      </a:lnTo>
                      <a:lnTo>
                        <a:pt x="78" y="338"/>
                      </a:lnTo>
                      <a:lnTo>
                        <a:pt x="126" y="373"/>
                      </a:lnTo>
                      <a:lnTo>
                        <a:pt x="179" y="407"/>
                      </a:lnTo>
                      <a:lnTo>
                        <a:pt x="236" y="443"/>
                      </a:lnTo>
                      <a:lnTo>
                        <a:pt x="287" y="475"/>
                      </a:lnTo>
                      <a:lnTo>
                        <a:pt x="352" y="517"/>
                      </a:lnTo>
                      <a:lnTo>
                        <a:pt x="348" y="513"/>
                      </a:lnTo>
                      <a:lnTo>
                        <a:pt x="302" y="477"/>
                      </a:lnTo>
                      <a:lnTo>
                        <a:pt x="270" y="451"/>
                      </a:lnTo>
                      <a:lnTo>
                        <a:pt x="238" y="422"/>
                      </a:lnTo>
                      <a:lnTo>
                        <a:pt x="206" y="392"/>
                      </a:lnTo>
                      <a:lnTo>
                        <a:pt x="179" y="365"/>
                      </a:lnTo>
                      <a:lnTo>
                        <a:pt x="97" y="306"/>
                      </a:lnTo>
                      <a:lnTo>
                        <a:pt x="44" y="241"/>
                      </a:lnTo>
                      <a:lnTo>
                        <a:pt x="25" y="8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83200" y="905760"/>
                  <a:ext cx="177480" cy="216000"/>
                </a:xfrm>
                <a:custGeom>
                  <a:avLst/>
                  <a:gdLst/>
                  <a:ahLst/>
                  <a:rect l="l" t="t" r="r" b="b"/>
                  <a:pathLst>
                    <a:path w="673" h="820">
                      <a:moveTo>
                        <a:pt x="101" y="517"/>
                      </a:moveTo>
                      <a:lnTo>
                        <a:pt x="127" y="436"/>
                      </a:lnTo>
                      <a:lnTo>
                        <a:pt x="160" y="354"/>
                      </a:lnTo>
                      <a:lnTo>
                        <a:pt x="201" y="261"/>
                      </a:lnTo>
                      <a:lnTo>
                        <a:pt x="228" y="211"/>
                      </a:lnTo>
                      <a:lnTo>
                        <a:pt x="255" y="166"/>
                      </a:lnTo>
                      <a:lnTo>
                        <a:pt x="285" y="122"/>
                      </a:lnTo>
                      <a:lnTo>
                        <a:pt x="315" y="82"/>
                      </a:lnTo>
                      <a:lnTo>
                        <a:pt x="350" y="50"/>
                      </a:lnTo>
                      <a:lnTo>
                        <a:pt x="386" y="23"/>
                      </a:lnTo>
                      <a:lnTo>
                        <a:pt x="422" y="6"/>
                      </a:lnTo>
                      <a:lnTo>
                        <a:pt x="462" y="0"/>
                      </a:lnTo>
                      <a:lnTo>
                        <a:pt x="576" y="23"/>
                      </a:lnTo>
                      <a:lnTo>
                        <a:pt x="654" y="126"/>
                      </a:lnTo>
                      <a:lnTo>
                        <a:pt x="671" y="221"/>
                      </a:lnTo>
                      <a:lnTo>
                        <a:pt x="673" y="274"/>
                      </a:lnTo>
                      <a:lnTo>
                        <a:pt x="671" y="325"/>
                      </a:lnTo>
                      <a:lnTo>
                        <a:pt x="658" y="447"/>
                      </a:lnTo>
                      <a:lnTo>
                        <a:pt x="622" y="474"/>
                      </a:lnTo>
                      <a:lnTo>
                        <a:pt x="633" y="259"/>
                      </a:lnTo>
                      <a:lnTo>
                        <a:pt x="620" y="181"/>
                      </a:lnTo>
                      <a:lnTo>
                        <a:pt x="587" y="116"/>
                      </a:lnTo>
                      <a:lnTo>
                        <a:pt x="563" y="90"/>
                      </a:lnTo>
                      <a:lnTo>
                        <a:pt x="532" y="72"/>
                      </a:lnTo>
                      <a:lnTo>
                        <a:pt x="450" y="61"/>
                      </a:lnTo>
                      <a:lnTo>
                        <a:pt x="350" y="131"/>
                      </a:lnTo>
                      <a:lnTo>
                        <a:pt x="302" y="185"/>
                      </a:lnTo>
                      <a:lnTo>
                        <a:pt x="253" y="259"/>
                      </a:lnTo>
                      <a:lnTo>
                        <a:pt x="226" y="302"/>
                      </a:lnTo>
                      <a:lnTo>
                        <a:pt x="199" y="354"/>
                      </a:lnTo>
                      <a:lnTo>
                        <a:pt x="150" y="477"/>
                      </a:lnTo>
                      <a:lnTo>
                        <a:pt x="144" y="766"/>
                      </a:lnTo>
                      <a:lnTo>
                        <a:pt x="133" y="789"/>
                      </a:lnTo>
                      <a:lnTo>
                        <a:pt x="84" y="806"/>
                      </a:lnTo>
                      <a:lnTo>
                        <a:pt x="0" y="820"/>
                      </a:lnTo>
                      <a:lnTo>
                        <a:pt x="101" y="517"/>
                      </a:lnTo>
                      <a:lnTo>
                        <a:pt x="101" y="5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174480" y="899640"/>
                  <a:ext cx="124920" cy="131400"/>
                </a:xfrm>
                <a:custGeom>
                  <a:avLst/>
                  <a:gdLst/>
                  <a:ahLst/>
                  <a:rect l="l" t="t" r="r" b="b"/>
                  <a:pathLst>
                    <a:path w="474" h="499">
                      <a:moveTo>
                        <a:pt x="74" y="85"/>
                      </a:moveTo>
                      <a:lnTo>
                        <a:pt x="46" y="123"/>
                      </a:lnTo>
                      <a:lnTo>
                        <a:pt x="2" y="222"/>
                      </a:lnTo>
                      <a:lnTo>
                        <a:pt x="0" y="345"/>
                      </a:lnTo>
                      <a:lnTo>
                        <a:pt x="14" y="378"/>
                      </a:lnTo>
                      <a:lnTo>
                        <a:pt x="35" y="408"/>
                      </a:lnTo>
                      <a:lnTo>
                        <a:pt x="63" y="439"/>
                      </a:lnTo>
                      <a:lnTo>
                        <a:pt x="101" y="465"/>
                      </a:lnTo>
                      <a:lnTo>
                        <a:pt x="143" y="488"/>
                      </a:lnTo>
                      <a:lnTo>
                        <a:pt x="181" y="499"/>
                      </a:lnTo>
                      <a:lnTo>
                        <a:pt x="253" y="498"/>
                      </a:lnTo>
                      <a:lnTo>
                        <a:pt x="316" y="471"/>
                      </a:lnTo>
                      <a:lnTo>
                        <a:pt x="367" y="429"/>
                      </a:lnTo>
                      <a:lnTo>
                        <a:pt x="407" y="380"/>
                      </a:lnTo>
                      <a:lnTo>
                        <a:pt x="438" y="334"/>
                      </a:lnTo>
                      <a:lnTo>
                        <a:pt x="462" y="285"/>
                      </a:lnTo>
                      <a:lnTo>
                        <a:pt x="474" y="150"/>
                      </a:lnTo>
                      <a:lnTo>
                        <a:pt x="464" y="98"/>
                      </a:lnTo>
                      <a:lnTo>
                        <a:pt x="443" y="53"/>
                      </a:lnTo>
                      <a:lnTo>
                        <a:pt x="426" y="34"/>
                      </a:lnTo>
                      <a:lnTo>
                        <a:pt x="407" y="17"/>
                      </a:lnTo>
                      <a:lnTo>
                        <a:pt x="350" y="0"/>
                      </a:lnTo>
                      <a:lnTo>
                        <a:pt x="373" y="28"/>
                      </a:lnTo>
                      <a:lnTo>
                        <a:pt x="409" y="106"/>
                      </a:lnTo>
                      <a:lnTo>
                        <a:pt x="409" y="220"/>
                      </a:lnTo>
                      <a:lnTo>
                        <a:pt x="377" y="288"/>
                      </a:lnTo>
                      <a:lnTo>
                        <a:pt x="352" y="323"/>
                      </a:lnTo>
                      <a:lnTo>
                        <a:pt x="318" y="359"/>
                      </a:lnTo>
                      <a:lnTo>
                        <a:pt x="295" y="376"/>
                      </a:lnTo>
                      <a:lnTo>
                        <a:pt x="236" y="403"/>
                      </a:lnTo>
                      <a:lnTo>
                        <a:pt x="160" y="403"/>
                      </a:lnTo>
                      <a:lnTo>
                        <a:pt x="80" y="338"/>
                      </a:lnTo>
                      <a:lnTo>
                        <a:pt x="86" y="199"/>
                      </a:lnTo>
                      <a:lnTo>
                        <a:pt x="107" y="142"/>
                      </a:lnTo>
                      <a:lnTo>
                        <a:pt x="145" y="89"/>
                      </a:lnTo>
                      <a:lnTo>
                        <a:pt x="171" y="62"/>
                      </a:lnTo>
                      <a:lnTo>
                        <a:pt x="204" y="41"/>
                      </a:lnTo>
                      <a:lnTo>
                        <a:pt x="242" y="20"/>
                      </a:lnTo>
                      <a:lnTo>
                        <a:pt x="285" y="3"/>
                      </a:lnTo>
                      <a:lnTo>
                        <a:pt x="249" y="0"/>
                      </a:lnTo>
                      <a:lnTo>
                        <a:pt x="107" y="57"/>
                      </a:lnTo>
                      <a:lnTo>
                        <a:pt x="74" y="85"/>
                      </a:lnTo>
                      <a:lnTo>
                        <a:pt x="74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455280" y="661320"/>
                  <a:ext cx="4932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479">
                      <a:moveTo>
                        <a:pt x="0" y="28"/>
                      </a:moveTo>
                      <a:lnTo>
                        <a:pt x="106" y="435"/>
                      </a:lnTo>
                      <a:lnTo>
                        <a:pt x="122" y="479"/>
                      </a:lnTo>
                      <a:lnTo>
                        <a:pt x="186" y="414"/>
                      </a:lnTo>
                      <a:lnTo>
                        <a:pt x="3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494880" y="772200"/>
                  <a:ext cx="47880" cy="210600"/>
                </a:xfrm>
                <a:custGeom>
                  <a:avLst/>
                  <a:gdLst/>
                  <a:ahLst/>
                  <a:rect l="l" t="t" r="r" b="b"/>
                  <a:pathLst>
                    <a:path w="183" h="800">
                      <a:moveTo>
                        <a:pt x="0" y="42"/>
                      </a:moveTo>
                      <a:lnTo>
                        <a:pt x="29" y="85"/>
                      </a:lnTo>
                      <a:lnTo>
                        <a:pt x="84" y="220"/>
                      </a:lnTo>
                      <a:lnTo>
                        <a:pt x="114" y="456"/>
                      </a:lnTo>
                      <a:lnTo>
                        <a:pt x="107" y="614"/>
                      </a:lnTo>
                      <a:lnTo>
                        <a:pt x="74" y="800"/>
                      </a:lnTo>
                      <a:lnTo>
                        <a:pt x="128" y="796"/>
                      </a:lnTo>
                      <a:lnTo>
                        <a:pt x="150" y="692"/>
                      </a:lnTo>
                      <a:lnTo>
                        <a:pt x="183" y="452"/>
                      </a:lnTo>
                      <a:lnTo>
                        <a:pt x="173" y="184"/>
                      </a:lnTo>
                      <a:lnTo>
                        <a:pt x="158" y="127"/>
                      </a:lnTo>
                      <a:lnTo>
                        <a:pt x="135" y="76"/>
                      </a:lnTo>
                      <a:lnTo>
                        <a:pt x="107" y="32"/>
                      </a:lnTo>
                      <a:lnTo>
                        <a:pt x="69" y="0"/>
                      </a:lnTo>
                      <a:lnTo>
                        <a:pt x="0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897640" y="840600"/>
                  <a:ext cx="106560" cy="110520"/>
                </a:xfrm>
                <a:custGeom>
                  <a:avLst/>
                  <a:gdLst/>
                  <a:ahLst/>
                  <a:rect l="l" t="t" r="r" b="b"/>
                  <a:pathLst>
                    <a:path w="403" h="420">
                      <a:moveTo>
                        <a:pt x="0" y="295"/>
                      </a:moveTo>
                      <a:lnTo>
                        <a:pt x="17" y="177"/>
                      </a:lnTo>
                      <a:lnTo>
                        <a:pt x="32" y="129"/>
                      </a:lnTo>
                      <a:lnTo>
                        <a:pt x="57" y="86"/>
                      </a:lnTo>
                      <a:lnTo>
                        <a:pt x="89" y="48"/>
                      </a:lnTo>
                      <a:lnTo>
                        <a:pt x="133" y="23"/>
                      </a:lnTo>
                      <a:lnTo>
                        <a:pt x="245" y="0"/>
                      </a:lnTo>
                      <a:lnTo>
                        <a:pt x="352" y="21"/>
                      </a:lnTo>
                      <a:lnTo>
                        <a:pt x="388" y="55"/>
                      </a:lnTo>
                      <a:lnTo>
                        <a:pt x="403" y="112"/>
                      </a:lnTo>
                      <a:lnTo>
                        <a:pt x="395" y="190"/>
                      </a:lnTo>
                      <a:lnTo>
                        <a:pt x="380" y="242"/>
                      </a:lnTo>
                      <a:lnTo>
                        <a:pt x="355" y="299"/>
                      </a:lnTo>
                      <a:lnTo>
                        <a:pt x="336" y="327"/>
                      </a:lnTo>
                      <a:lnTo>
                        <a:pt x="300" y="361"/>
                      </a:lnTo>
                      <a:lnTo>
                        <a:pt x="256" y="394"/>
                      </a:lnTo>
                      <a:lnTo>
                        <a:pt x="209" y="417"/>
                      </a:lnTo>
                      <a:lnTo>
                        <a:pt x="159" y="420"/>
                      </a:lnTo>
                      <a:lnTo>
                        <a:pt x="116" y="399"/>
                      </a:lnTo>
                      <a:lnTo>
                        <a:pt x="83" y="346"/>
                      </a:lnTo>
                      <a:lnTo>
                        <a:pt x="64" y="251"/>
                      </a:lnTo>
                      <a:lnTo>
                        <a:pt x="74" y="207"/>
                      </a:lnTo>
                      <a:lnTo>
                        <a:pt x="93" y="249"/>
                      </a:lnTo>
                      <a:lnTo>
                        <a:pt x="114" y="283"/>
                      </a:lnTo>
                      <a:lnTo>
                        <a:pt x="140" y="320"/>
                      </a:lnTo>
                      <a:lnTo>
                        <a:pt x="173" y="342"/>
                      </a:lnTo>
                      <a:lnTo>
                        <a:pt x="209" y="348"/>
                      </a:lnTo>
                      <a:lnTo>
                        <a:pt x="287" y="266"/>
                      </a:lnTo>
                      <a:lnTo>
                        <a:pt x="323" y="143"/>
                      </a:lnTo>
                      <a:lnTo>
                        <a:pt x="313" y="107"/>
                      </a:lnTo>
                      <a:lnTo>
                        <a:pt x="296" y="84"/>
                      </a:lnTo>
                      <a:lnTo>
                        <a:pt x="249" y="67"/>
                      </a:lnTo>
                      <a:lnTo>
                        <a:pt x="222" y="65"/>
                      </a:lnTo>
                      <a:lnTo>
                        <a:pt x="102" y="107"/>
                      </a:lnTo>
                      <a:lnTo>
                        <a:pt x="38" y="202"/>
                      </a:lnTo>
                      <a:lnTo>
                        <a:pt x="0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047400" y="1040760"/>
                  <a:ext cx="232560" cy="55080"/>
                </a:xfrm>
                <a:custGeom>
                  <a:avLst/>
                  <a:gdLst/>
                  <a:ahLst/>
                  <a:rect l="l" t="t" r="r" b="b"/>
                  <a:pathLst>
                    <a:path w="883" h="211">
                      <a:moveTo>
                        <a:pt x="0" y="127"/>
                      </a:moveTo>
                      <a:lnTo>
                        <a:pt x="76" y="112"/>
                      </a:lnTo>
                      <a:lnTo>
                        <a:pt x="303" y="89"/>
                      </a:lnTo>
                      <a:lnTo>
                        <a:pt x="797" y="11"/>
                      </a:lnTo>
                      <a:lnTo>
                        <a:pt x="883" y="0"/>
                      </a:lnTo>
                      <a:lnTo>
                        <a:pt x="879" y="20"/>
                      </a:lnTo>
                      <a:lnTo>
                        <a:pt x="856" y="51"/>
                      </a:lnTo>
                      <a:lnTo>
                        <a:pt x="818" y="85"/>
                      </a:lnTo>
                      <a:lnTo>
                        <a:pt x="772" y="121"/>
                      </a:lnTo>
                      <a:lnTo>
                        <a:pt x="727" y="150"/>
                      </a:lnTo>
                      <a:lnTo>
                        <a:pt x="687" y="169"/>
                      </a:lnTo>
                      <a:lnTo>
                        <a:pt x="590" y="195"/>
                      </a:lnTo>
                      <a:lnTo>
                        <a:pt x="441" y="211"/>
                      </a:lnTo>
                      <a:lnTo>
                        <a:pt x="244" y="193"/>
                      </a:lnTo>
                      <a:lnTo>
                        <a:pt x="0" y="12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894040" y="1000080"/>
                  <a:ext cx="415800" cy="131760"/>
                </a:xfrm>
                <a:custGeom>
                  <a:avLst/>
                  <a:gdLst/>
                  <a:ahLst/>
                  <a:rect l="l" t="t" r="r" b="b"/>
                  <a:pathLst>
                    <a:path w="1578" h="500">
                      <a:moveTo>
                        <a:pt x="5" y="0"/>
                      </a:moveTo>
                      <a:lnTo>
                        <a:pt x="0" y="83"/>
                      </a:lnTo>
                      <a:lnTo>
                        <a:pt x="38" y="123"/>
                      </a:lnTo>
                      <a:lnTo>
                        <a:pt x="74" y="154"/>
                      </a:lnTo>
                      <a:lnTo>
                        <a:pt x="121" y="190"/>
                      </a:lnTo>
                      <a:lnTo>
                        <a:pt x="180" y="232"/>
                      </a:lnTo>
                      <a:lnTo>
                        <a:pt x="213" y="252"/>
                      </a:lnTo>
                      <a:lnTo>
                        <a:pt x="249" y="273"/>
                      </a:lnTo>
                      <a:lnTo>
                        <a:pt x="287" y="296"/>
                      </a:lnTo>
                      <a:lnTo>
                        <a:pt x="327" y="317"/>
                      </a:lnTo>
                      <a:lnTo>
                        <a:pt x="370" y="340"/>
                      </a:lnTo>
                      <a:lnTo>
                        <a:pt x="416" y="361"/>
                      </a:lnTo>
                      <a:lnTo>
                        <a:pt x="517" y="401"/>
                      </a:lnTo>
                      <a:lnTo>
                        <a:pt x="625" y="435"/>
                      </a:lnTo>
                      <a:lnTo>
                        <a:pt x="745" y="465"/>
                      </a:lnTo>
                      <a:lnTo>
                        <a:pt x="872" y="486"/>
                      </a:lnTo>
                      <a:lnTo>
                        <a:pt x="1157" y="500"/>
                      </a:lnTo>
                      <a:lnTo>
                        <a:pt x="1477" y="462"/>
                      </a:lnTo>
                      <a:lnTo>
                        <a:pt x="1578" y="391"/>
                      </a:lnTo>
                      <a:lnTo>
                        <a:pt x="1469" y="404"/>
                      </a:lnTo>
                      <a:lnTo>
                        <a:pt x="1201" y="422"/>
                      </a:lnTo>
                      <a:lnTo>
                        <a:pt x="874" y="416"/>
                      </a:lnTo>
                      <a:lnTo>
                        <a:pt x="581" y="361"/>
                      </a:lnTo>
                      <a:lnTo>
                        <a:pt x="465" y="313"/>
                      </a:lnTo>
                      <a:lnTo>
                        <a:pt x="363" y="264"/>
                      </a:lnTo>
                      <a:lnTo>
                        <a:pt x="270" y="216"/>
                      </a:lnTo>
                      <a:lnTo>
                        <a:pt x="192" y="171"/>
                      </a:lnTo>
                      <a:lnTo>
                        <a:pt x="125" y="129"/>
                      </a:lnTo>
                      <a:lnTo>
                        <a:pt x="76" y="93"/>
                      </a:lnTo>
                      <a:lnTo>
                        <a:pt x="26" y="4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961360" y="1063080"/>
                  <a:ext cx="90000" cy="50400"/>
                </a:xfrm>
                <a:custGeom>
                  <a:avLst/>
                  <a:gdLst/>
                  <a:ahLst/>
                  <a:rect l="l" t="t" r="r" b="b"/>
                  <a:pathLst>
                    <a:path w="342" h="192">
                      <a:moveTo>
                        <a:pt x="2" y="0"/>
                      </a:moveTo>
                      <a:lnTo>
                        <a:pt x="0" y="14"/>
                      </a:lnTo>
                      <a:lnTo>
                        <a:pt x="2" y="48"/>
                      </a:lnTo>
                      <a:lnTo>
                        <a:pt x="21" y="90"/>
                      </a:lnTo>
                      <a:lnTo>
                        <a:pt x="40" y="110"/>
                      </a:lnTo>
                      <a:lnTo>
                        <a:pt x="71" y="129"/>
                      </a:lnTo>
                      <a:lnTo>
                        <a:pt x="147" y="160"/>
                      </a:lnTo>
                      <a:lnTo>
                        <a:pt x="226" y="179"/>
                      </a:lnTo>
                      <a:lnTo>
                        <a:pt x="316" y="192"/>
                      </a:lnTo>
                      <a:lnTo>
                        <a:pt x="342" y="171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34600" y="920160"/>
                  <a:ext cx="225720" cy="250200"/>
                </a:xfrm>
                <a:custGeom>
                  <a:avLst/>
                  <a:gdLst/>
                  <a:ahLst/>
                  <a:rect l="l" t="t" r="r" b="b"/>
                  <a:pathLst>
                    <a:path w="856" h="951">
                      <a:moveTo>
                        <a:pt x="0" y="765"/>
                      </a:moveTo>
                      <a:lnTo>
                        <a:pt x="14" y="791"/>
                      </a:lnTo>
                      <a:lnTo>
                        <a:pt x="52" y="850"/>
                      </a:lnTo>
                      <a:lnTo>
                        <a:pt x="76" y="881"/>
                      </a:lnTo>
                      <a:lnTo>
                        <a:pt x="105" y="909"/>
                      </a:lnTo>
                      <a:lnTo>
                        <a:pt x="137" y="930"/>
                      </a:lnTo>
                      <a:lnTo>
                        <a:pt x="170" y="941"/>
                      </a:lnTo>
                      <a:lnTo>
                        <a:pt x="375" y="951"/>
                      </a:lnTo>
                      <a:lnTo>
                        <a:pt x="481" y="939"/>
                      </a:lnTo>
                      <a:lnTo>
                        <a:pt x="552" y="909"/>
                      </a:lnTo>
                      <a:lnTo>
                        <a:pt x="586" y="871"/>
                      </a:lnTo>
                      <a:lnTo>
                        <a:pt x="645" y="806"/>
                      </a:lnTo>
                      <a:lnTo>
                        <a:pt x="679" y="763"/>
                      </a:lnTo>
                      <a:lnTo>
                        <a:pt x="715" y="715"/>
                      </a:lnTo>
                      <a:lnTo>
                        <a:pt x="748" y="662"/>
                      </a:lnTo>
                      <a:lnTo>
                        <a:pt x="780" y="603"/>
                      </a:lnTo>
                      <a:lnTo>
                        <a:pt x="831" y="476"/>
                      </a:lnTo>
                      <a:lnTo>
                        <a:pt x="856" y="335"/>
                      </a:lnTo>
                      <a:lnTo>
                        <a:pt x="839" y="185"/>
                      </a:lnTo>
                      <a:lnTo>
                        <a:pt x="812" y="109"/>
                      </a:lnTo>
                      <a:lnTo>
                        <a:pt x="791" y="69"/>
                      </a:lnTo>
                      <a:lnTo>
                        <a:pt x="769" y="31"/>
                      </a:lnTo>
                      <a:lnTo>
                        <a:pt x="740" y="14"/>
                      </a:lnTo>
                      <a:lnTo>
                        <a:pt x="687" y="0"/>
                      </a:lnTo>
                      <a:lnTo>
                        <a:pt x="580" y="10"/>
                      </a:lnTo>
                      <a:lnTo>
                        <a:pt x="533" y="63"/>
                      </a:lnTo>
                      <a:lnTo>
                        <a:pt x="502" y="103"/>
                      </a:lnTo>
                      <a:lnTo>
                        <a:pt x="472" y="149"/>
                      </a:lnTo>
                      <a:lnTo>
                        <a:pt x="443" y="192"/>
                      </a:lnTo>
                      <a:lnTo>
                        <a:pt x="421" y="229"/>
                      </a:lnTo>
                      <a:lnTo>
                        <a:pt x="400" y="265"/>
                      </a:lnTo>
                      <a:lnTo>
                        <a:pt x="436" y="208"/>
                      </a:lnTo>
                      <a:lnTo>
                        <a:pt x="474" y="154"/>
                      </a:lnTo>
                      <a:lnTo>
                        <a:pt x="523" y="96"/>
                      </a:lnTo>
                      <a:lnTo>
                        <a:pt x="552" y="71"/>
                      </a:lnTo>
                      <a:lnTo>
                        <a:pt x="578" y="46"/>
                      </a:lnTo>
                      <a:lnTo>
                        <a:pt x="635" y="16"/>
                      </a:lnTo>
                      <a:lnTo>
                        <a:pt x="692" y="14"/>
                      </a:lnTo>
                      <a:lnTo>
                        <a:pt x="742" y="50"/>
                      </a:lnTo>
                      <a:lnTo>
                        <a:pt x="812" y="185"/>
                      </a:lnTo>
                      <a:lnTo>
                        <a:pt x="824" y="354"/>
                      </a:lnTo>
                      <a:lnTo>
                        <a:pt x="801" y="453"/>
                      </a:lnTo>
                      <a:lnTo>
                        <a:pt x="782" y="508"/>
                      </a:lnTo>
                      <a:lnTo>
                        <a:pt x="757" y="563"/>
                      </a:lnTo>
                      <a:lnTo>
                        <a:pt x="727" y="624"/>
                      </a:lnTo>
                      <a:lnTo>
                        <a:pt x="691" y="687"/>
                      </a:lnTo>
                      <a:lnTo>
                        <a:pt x="647" y="751"/>
                      </a:lnTo>
                      <a:lnTo>
                        <a:pt x="597" y="822"/>
                      </a:lnTo>
                      <a:lnTo>
                        <a:pt x="569" y="850"/>
                      </a:lnTo>
                      <a:lnTo>
                        <a:pt x="538" y="869"/>
                      </a:lnTo>
                      <a:lnTo>
                        <a:pt x="499" y="886"/>
                      </a:lnTo>
                      <a:lnTo>
                        <a:pt x="371" y="907"/>
                      </a:lnTo>
                      <a:lnTo>
                        <a:pt x="170" y="898"/>
                      </a:lnTo>
                      <a:lnTo>
                        <a:pt x="37" y="776"/>
                      </a:lnTo>
                      <a:lnTo>
                        <a:pt x="0" y="765"/>
                      </a:lnTo>
                      <a:lnTo>
                        <a:pt x="0" y="7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011400" y="806400"/>
                  <a:ext cx="150120" cy="226080"/>
                </a:xfrm>
                <a:custGeom>
                  <a:avLst/>
                  <a:gdLst/>
                  <a:ahLst/>
                  <a:rect l="l" t="t" r="r" b="b"/>
                  <a:pathLst>
                    <a:path w="571" h="857">
                      <a:moveTo>
                        <a:pt x="0" y="831"/>
                      </a:moveTo>
                      <a:lnTo>
                        <a:pt x="21" y="753"/>
                      </a:lnTo>
                      <a:lnTo>
                        <a:pt x="52" y="665"/>
                      </a:lnTo>
                      <a:lnTo>
                        <a:pt x="71" y="614"/>
                      </a:lnTo>
                      <a:lnTo>
                        <a:pt x="95" y="557"/>
                      </a:lnTo>
                      <a:lnTo>
                        <a:pt x="122" y="498"/>
                      </a:lnTo>
                      <a:lnTo>
                        <a:pt x="154" y="435"/>
                      </a:lnTo>
                      <a:lnTo>
                        <a:pt x="190" y="373"/>
                      </a:lnTo>
                      <a:lnTo>
                        <a:pt x="232" y="308"/>
                      </a:lnTo>
                      <a:lnTo>
                        <a:pt x="278" y="245"/>
                      </a:lnTo>
                      <a:lnTo>
                        <a:pt x="329" y="184"/>
                      </a:lnTo>
                      <a:lnTo>
                        <a:pt x="384" y="125"/>
                      </a:lnTo>
                      <a:lnTo>
                        <a:pt x="415" y="97"/>
                      </a:lnTo>
                      <a:lnTo>
                        <a:pt x="445" y="70"/>
                      </a:lnTo>
                      <a:lnTo>
                        <a:pt x="571" y="0"/>
                      </a:lnTo>
                      <a:lnTo>
                        <a:pt x="519" y="42"/>
                      </a:lnTo>
                      <a:lnTo>
                        <a:pt x="495" y="67"/>
                      </a:lnTo>
                      <a:lnTo>
                        <a:pt x="464" y="97"/>
                      </a:lnTo>
                      <a:lnTo>
                        <a:pt x="396" y="173"/>
                      </a:lnTo>
                      <a:lnTo>
                        <a:pt x="360" y="219"/>
                      </a:lnTo>
                      <a:lnTo>
                        <a:pt x="320" y="272"/>
                      </a:lnTo>
                      <a:lnTo>
                        <a:pt x="280" y="331"/>
                      </a:lnTo>
                      <a:lnTo>
                        <a:pt x="240" y="395"/>
                      </a:lnTo>
                      <a:lnTo>
                        <a:pt x="202" y="464"/>
                      </a:lnTo>
                      <a:lnTo>
                        <a:pt x="164" y="540"/>
                      </a:lnTo>
                      <a:lnTo>
                        <a:pt x="126" y="623"/>
                      </a:lnTo>
                      <a:lnTo>
                        <a:pt x="92" y="711"/>
                      </a:lnTo>
                      <a:lnTo>
                        <a:pt x="71" y="857"/>
                      </a:lnTo>
                      <a:lnTo>
                        <a:pt x="0" y="831"/>
                      </a:lnTo>
                      <a:lnTo>
                        <a:pt x="0" y="8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20280" y="843840"/>
                  <a:ext cx="81720" cy="83520"/>
                </a:xfrm>
                <a:custGeom>
                  <a:avLst/>
                  <a:gdLst/>
                  <a:ahLst/>
                  <a:rect l="l" t="t" r="r" b="b"/>
                  <a:pathLst>
                    <a:path w="310" h="317">
                      <a:moveTo>
                        <a:pt x="9" y="307"/>
                      </a:moveTo>
                      <a:lnTo>
                        <a:pt x="2" y="317"/>
                      </a:lnTo>
                      <a:lnTo>
                        <a:pt x="0" y="298"/>
                      </a:lnTo>
                      <a:lnTo>
                        <a:pt x="22" y="211"/>
                      </a:lnTo>
                      <a:lnTo>
                        <a:pt x="45" y="155"/>
                      </a:lnTo>
                      <a:lnTo>
                        <a:pt x="74" y="100"/>
                      </a:lnTo>
                      <a:lnTo>
                        <a:pt x="108" y="53"/>
                      </a:lnTo>
                      <a:lnTo>
                        <a:pt x="148" y="22"/>
                      </a:lnTo>
                      <a:lnTo>
                        <a:pt x="220" y="0"/>
                      </a:lnTo>
                      <a:lnTo>
                        <a:pt x="270" y="7"/>
                      </a:lnTo>
                      <a:lnTo>
                        <a:pt x="310" y="38"/>
                      </a:lnTo>
                      <a:lnTo>
                        <a:pt x="207" y="85"/>
                      </a:lnTo>
                      <a:lnTo>
                        <a:pt x="161" y="119"/>
                      </a:lnTo>
                      <a:lnTo>
                        <a:pt x="112" y="167"/>
                      </a:lnTo>
                      <a:lnTo>
                        <a:pt x="60" y="228"/>
                      </a:lnTo>
                      <a:lnTo>
                        <a:pt x="9" y="307"/>
                      </a:lnTo>
                      <a:lnTo>
                        <a:pt x="9" y="307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46480" y="1124640"/>
                  <a:ext cx="100080" cy="11880"/>
                </a:xfrm>
                <a:custGeom>
                  <a:avLst/>
                  <a:gdLst/>
                  <a:ahLst/>
                  <a:rect l="l" t="t" r="r" b="b"/>
                  <a:pathLst>
                    <a:path w="380" h="48">
                      <a:moveTo>
                        <a:pt x="0" y="15"/>
                      </a:moveTo>
                      <a:lnTo>
                        <a:pt x="380" y="0"/>
                      </a:lnTo>
                      <a:lnTo>
                        <a:pt x="0" y="48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53680" y="1139760"/>
                  <a:ext cx="71280" cy="115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0" y="11"/>
                      </a:moveTo>
                      <a:lnTo>
                        <a:pt x="270" y="0"/>
                      </a:lnTo>
                      <a:lnTo>
                        <a:pt x="42" y="44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5560" y="958680"/>
                  <a:ext cx="6948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521">
                      <a:moveTo>
                        <a:pt x="32" y="521"/>
                      </a:moveTo>
                      <a:lnTo>
                        <a:pt x="47" y="363"/>
                      </a:lnTo>
                      <a:lnTo>
                        <a:pt x="60" y="298"/>
                      </a:lnTo>
                      <a:lnTo>
                        <a:pt x="81" y="236"/>
                      </a:lnTo>
                      <a:lnTo>
                        <a:pt x="110" y="180"/>
                      </a:lnTo>
                      <a:lnTo>
                        <a:pt x="150" y="139"/>
                      </a:lnTo>
                      <a:lnTo>
                        <a:pt x="169" y="125"/>
                      </a:lnTo>
                      <a:lnTo>
                        <a:pt x="195" y="112"/>
                      </a:lnTo>
                      <a:lnTo>
                        <a:pt x="216" y="123"/>
                      </a:lnTo>
                      <a:lnTo>
                        <a:pt x="222" y="182"/>
                      </a:lnTo>
                      <a:lnTo>
                        <a:pt x="197" y="329"/>
                      </a:lnTo>
                      <a:lnTo>
                        <a:pt x="180" y="388"/>
                      </a:lnTo>
                      <a:lnTo>
                        <a:pt x="218" y="329"/>
                      </a:lnTo>
                      <a:lnTo>
                        <a:pt x="264" y="118"/>
                      </a:lnTo>
                      <a:lnTo>
                        <a:pt x="262" y="66"/>
                      </a:lnTo>
                      <a:lnTo>
                        <a:pt x="251" y="26"/>
                      </a:lnTo>
                      <a:lnTo>
                        <a:pt x="226" y="0"/>
                      </a:lnTo>
                      <a:lnTo>
                        <a:pt x="167" y="6"/>
                      </a:lnTo>
                      <a:lnTo>
                        <a:pt x="91" y="80"/>
                      </a:lnTo>
                      <a:lnTo>
                        <a:pt x="22" y="226"/>
                      </a:lnTo>
                      <a:lnTo>
                        <a:pt x="0" y="348"/>
                      </a:lnTo>
                      <a:lnTo>
                        <a:pt x="9" y="462"/>
                      </a:lnTo>
                      <a:lnTo>
                        <a:pt x="32" y="521"/>
                      </a:lnTo>
                      <a:lnTo>
                        <a:pt x="32" y="5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64840" y="1151640"/>
                  <a:ext cx="48240" cy="8280"/>
                </a:xfrm>
                <a:custGeom>
                  <a:avLst/>
                  <a:gdLst/>
                  <a:ahLst/>
                  <a:rect l="l" t="t" r="r" b="b"/>
                  <a:pathLst>
                    <a:path w="184" h="32">
                      <a:moveTo>
                        <a:pt x="38" y="32"/>
                      </a:moveTo>
                      <a:lnTo>
                        <a:pt x="184" y="0"/>
                      </a:lnTo>
                      <a:lnTo>
                        <a:pt x="0" y="0"/>
                      </a:lnTo>
                      <a:lnTo>
                        <a:pt x="38" y="32"/>
                      </a:lnTo>
                      <a:lnTo>
                        <a:pt x="3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551760" y="862560"/>
                  <a:ext cx="101160" cy="133200"/>
                </a:xfrm>
                <a:custGeom>
                  <a:avLst/>
                  <a:gdLst/>
                  <a:ahLst/>
                  <a:rect l="l" t="t" r="r" b="b"/>
                  <a:pathLst>
                    <a:path w="384" h="505">
                      <a:moveTo>
                        <a:pt x="384" y="0"/>
                      </a:moveTo>
                      <a:lnTo>
                        <a:pt x="371" y="188"/>
                      </a:lnTo>
                      <a:lnTo>
                        <a:pt x="352" y="273"/>
                      </a:lnTo>
                      <a:lnTo>
                        <a:pt x="321" y="355"/>
                      </a:lnTo>
                      <a:lnTo>
                        <a:pt x="302" y="393"/>
                      </a:lnTo>
                      <a:lnTo>
                        <a:pt x="280" y="429"/>
                      </a:lnTo>
                      <a:lnTo>
                        <a:pt x="253" y="458"/>
                      </a:lnTo>
                      <a:lnTo>
                        <a:pt x="222" y="483"/>
                      </a:lnTo>
                      <a:lnTo>
                        <a:pt x="162" y="505"/>
                      </a:lnTo>
                      <a:lnTo>
                        <a:pt x="114" y="503"/>
                      </a:lnTo>
                      <a:lnTo>
                        <a:pt x="74" y="479"/>
                      </a:lnTo>
                      <a:lnTo>
                        <a:pt x="46" y="445"/>
                      </a:lnTo>
                      <a:lnTo>
                        <a:pt x="10" y="365"/>
                      </a:lnTo>
                      <a:lnTo>
                        <a:pt x="0" y="325"/>
                      </a:lnTo>
                      <a:lnTo>
                        <a:pt x="89" y="192"/>
                      </a:lnTo>
                      <a:lnTo>
                        <a:pt x="78" y="298"/>
                      </a:lnTo>
                      <a:lnTo>
                        <a:pt x="84" y="380"/>
                      </a:lnTo>
                      <a:lnTo>
                        <a:pt x="93" y="412"/>
                      </a:lnTo>
                      <a:lnTo>
                        <a:pt x="112" y="431"/>
                      </a:lnTo>
                      <a:lnTo>
                        <a:pt x="158" y="441"/>
                      </a:lnTo>
                      <a:lnTo>
                        <a:pt x="211" y="424"/>
                      </a:lnTo>
                      <a:lnTo>
                        <a:pt x="316" y="287"/>
                      </a:lnTo>
                      <a:lnTo>
                        <a:pt x="354" y="144"/>
                      </a:lnTo>
                      <a:lnTo>
                        <a:pt x="384" y="0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520800" y="975600"/>
                  <a:ext cx="47160" cy="24480"/>
                </a:xfrm>
                <a:custGeom>
                  <a:avLst/>
                  <a:gdLst/>
                  <a:ahLst/>
                  <a:rect l="l" t="t" r="r" b="b"/>
                  <a:pathLst>
                    <a:path w="181" h="94">
                      <a:moveTo>
                        <a:pt x="0" y="8"/>
                      </a:moveTo>
                      <a:lnTo>
                        <a:pt x="15" y="35"/>
                      </a:lnTo>
                      <a:lnTo>
                        <a:pt x="36" y="56"/>
                      </a:lnTo>
                      <a:lnTo>
                        <a:pt x="65" y="73"/>
                      </a:lnTo>
                      <a:lnTo>
                        <a:pt x="181" y="94"/>
                      </a:lnTo>
                      <a:lnTo>
                        <a:pt x="114" y="63"/>
                      </a:lnTo>
                      <a:lnTo>
                        <a:pt x="59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464640" y="926280"/>
                  <a:ext cx="56880" cy="86400"/>
                </a:xfrm>
                <a:custGeom>
                  <a:avLst/>
                  <a:gdLst/>
                  <a:ahLst/>
                  <a:rect l="l" t="t" r="r" b="b"/>
                  <a:pathLst>
                    <a:path w="217" h="327">
                      <a:moveTo>
                        <a:pt x="14" y="226"/>
                      </a:moveTo>
                      <a:lnTo>
                        <a:pt x="90" y="32"/>
                      </a:lnTo>
                      <a:lnTo>
                        <a:pt x="63" y="156"/>
                      </a:lnTo>
                      <a:lnTo>
                        <a:pt x="147" y="13"/>
                      </a:lnTo>
                      <a:lnTo>
                        <a:pt x="95" y="160"/>
                      </a:lnTo>
                      <a:lnTo>
                        <a:pt x="207" y="0"/>
                      </a:lnTo>
                      <a:lnTo>
                        <a:pt x="147" y="150"/>
                      </a:lnTo>
                      <a:lnTo>
                        <a:pt x="196" y="82"/>
                      </a:lnTo>
                      <a:lnTo>
                        <a:pt x="177" y="166"/>
                      </a:lnTo>
                      <a:lnTo>
                        <a:pt x="217" y="109"/>
                      </a:lnTo>
                      <a:lnTo>
                        <a:pt x="207" y="200"/>
                      </a:lnTo>
                      <a:lnTo>
                        <a:pt x="188" y="230"/>
                      </a:lnTo>
                      <a:lnTo>
                        <a:pt x="0" y="327"/>
                      </a:lnTo>
                      <a:lnTo>
                        <a:pt x="14" y="226"/>
                      </a:lnTo>
                      <a:lnTo>
                        <a:pt x="14" y="2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649680" y="888120"/>
                  <a:ext cx="38880" cy="31320"/>
                </a:xfrm>
                <a:custGeom>
                  <a:avLst/>
                  <a:gdLst/>
                  <a:ahLst/>
                  <a:rect l="l" t="t" r="r" b="b"/>
                  <a:pathLst>
                    <a:path w="146" h="120">
                      <a:moveTo>
                        <a:pt x="0" y="120"/>
                      </a:moveTo>
                      <a:lnTo>
                        <a:pt x="146" y="0"/>
                      </a:lnTo>
                      <a:lnTo>
                        <a:pt x="5" y="61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634560" y="859680"/>
                  <a:ext cx="138600" cy="86760"/>
                </a:xfrm>
                <a:custGeom>
                  <a:avLst/>
                  <a:gdLst/>
                  <a:ahLst/>
                  <a:rect l="l" t="t" r="r" b="b"/>
                  <a:pathLst>
                    <a:path w="526" h="331">
                      <a:moveTo>
                        <a:pt x="0" y="331"/>
                      </a:moveTo>
                      <a:lnTo>
                        <a:pt x="526" y="0"/>
                      </a:lnTo>
                      <a:lnTo>
                        <a:pt x="450" y="10"/>
                      </a:lnTo>
                      <a:lnTo>
                        <a:pt x="38" y="238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373920" y="1016640"/>
                  <a:ext cx="176040" cy="143280"/>
                </a:xfrm>
                <a:custGeom>
                  <a:avLst/>
                  <a:gdLst/>
                  <a:ahLst/>
                  <a:rect l="l" t="t" r="r" b="b"/>
                  <a:pathLst>
                    <a:path w="669" h="544">
                      <a:moveTo>
                        <a:pt x="0" y="544"/>
                      </a:moveTo>
                      <a:lnTo>
                        <a:pt x="108" y="512"/>
                      </a:lnTo>
                      <a:lnTo>
                        <a:pt x="669" y="0"/>
                      </a:lnTo>
                      <a:lnTo>
                        <a:pt x="576" y="38"/>
                      </a:lnTo>
                      <a:lnTo>
                        <a:pt x="185" y="337"/>
                      </a:lnTo>
                      <a:lnTo>
                        <a:pt x="0" y="544"/>
                      </a:lnTo>
                      <a:lnTo>
                        <a:pt x="0" y="5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607560" y="900720"/>
                  <a:ext cx="115200" cy="90360"/>
                </a:xfrm>
                <a:custGeom>
                  <a:avLst/>
                  <a:gdLst/>
                  <a:ahLst/>
                  <a:rect l="l" t="t" r="r" b="b"/>
                  <a:pathLst>
                    <a:path w="439" h="344">
                      <a:moveTo>
                        <a:pt x="0" y="344"/>
                      </a:moveTo>
                      <a:lnTo>
                        <a:pt x="439" y="55"/>
                      </a:lnTo>
                      <a:lnTo>
                        <a:pt x="114" y="230"/>
                      </a:lnTo>
                      <a:lnTo>
                        <a:pt x="439" y="0"/>
                      </a:lnTo>
                      <a:lnTo>
                        <a:pt x="114" y="175"/>
                      </a:lnTo>
                      <a:lnTo>
                        <a:pt x="103" y="230"/>
                      </a:lnTo>
                      <a:lnTo>
                        <a:pt x="0" y="344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96760" y="843120"/>
                  <a:ext cx="41400" cy="94680"/>
                </a:xfrm>
                <a:custGeom>
                  <a:avLst/>
                  <a:gdLst/>
                  <a:ahLst/>
                  <a:rect l="l" t="t" r="r" b="b"/>
                  <a:pathLst>
                    <a:path w="160" h="359">
                      <a:moveTo>
                        <a:pt x="25" y="359"/>
                      </a:moveTo>
                      <a:lnTo>
                        <a:pt x="0" y="266"/>
                      </a:lnTo>
                      <a:lnTo>
                        <a:pt x="14" y="161"/>
                      </a:lnTo>
                      <a:lnTo>
                        <a:pt x="38" y="98"/>
                      </a:lnTo>
                      <a:lnTo>
                        <a:pt x="57" y="64"/>
                      </a:lnTo>
                      <a:lnTo>
                        <a:pt x="80" y="28"/>
                      </a:lnTo>
                      <a:lnTo>
                        <a:pt x="92" y="19"/>
                      </a:lnTo>
                      <a:lnTo>
                        <a:pt x="114" y="3"/>
                      </a:lnTo>
                      <a:lnTo>
                        <a:pt x="141" y="0"/>
                      </a:lnTo>
                      <a:lnTo>
                        <a:pt x="154" y="24"/>
                      </a:lnTo>
                      <a:lnTo>
                        <a:pt x="160" y="131"/>
                      </a:lnTo>
                      <a:lnTo>
                        <a:pt x="152" y="188"/>
                      </a:lnTo>
                      <a:lnTo>
                        <a:pt x="133" y="237"/>
                      </a:lnTo>
                      <a:lnTo>
                        <a:pt x="107" y="260"/>
                      </a:lnTo>
                      <a:lnTo>
                        <a:pt x="105" y="239"/>
                      </a:lnTo>
                      <a:lnTo>
                        <a:pt x="107" y="79"/>
                      </a:lnTo>
                      <a:lnTo>
                        <a:pt x="61" y="150"/>
                      </a:lnTo>
                      <a:lnTo>
                        <a:pt x="48" y="207"/>
                      </a:lnTo>
                      <a:lnTo>
                        <a:pt x="33" y="323"/>
                      </a:lnTo>
                      <a:lnTo>
                        <a:pt x="25" y="359"/>
                      </a:lnTo>
                      <a:lnTo>
                        <a:pt x="25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555360" y="761400"/>
                  <a:ext cx="47880" cy="39240"/>
                </a:xfrm>
                <a:custGeom>
                  <a:avLst/>
                  <a:gdLst/>
                  <a:ahLst/>
                  <a:rect l="l" t="t" r="r" b="b"/>
                  <a:pathLst>
                    <a:path w="183" h="148">
                      <a:moveTo>
                        <a:pt x="0" y="148"/>
                      </a:moveTo>
                      <a:lnTo>
                        <a:pt x="29" y="93"/>
                      </a:lnTo>
                      <a:lnTo>
                        <a:pt x="63" y="47"/>
                      </a:lnTo>
                      <a:lnTo>
                        <a:pt x="84" y="28"/>
                      </a:lnTo>
                      <a:lnTo>
                        <a:pt x="109" y="13"/>
                      </a:lnTo>
                      <a:lnTo>
                        <a:pt x="158" y="0"/>
                      </a:lnTo>
                      <a:lnTo>
                        <a:pt x="183" y="7"/>
                      </a:lnTo>
                      <a:lnTo>
                        <a:pt x="164" y="28"/>
                      </a:lnTo>
                      <a:lnTo>
                        <a:pt x="124" y="57"/>
                      </a:lnTo>
                      <a:lnTo>
                        <a:pt x="88" y="89"/>
                      </a:lnTo>
                      <a:lnTo>
                        <a:pt x="57" y="120"/>
                      </a:lnTo>
                      <a:lnTo>
                        <a:pt x="29" y="137"/>
                      </a:lnTo>
                      <a:lnTo>
                        <a:pt x="0" y="148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112920" y="1060200"/>
                  <a:ext cx="128520" cy="23400"/>
                </a:xfrm>
                <a:custGeom>
                  <a:avLst/>
                  <a:gdLst/>
                  <a:ahLst/>
                  <a:rect l="l" t="t" r="r" b="b"/>
                  <a:pathLst>
                    <a:path w="487" h="89">
                      <a:moveTo>
                        <a:pt x="0" y="72"/>
                      </a:moveTo>
                      <a:lnTo>
                        <a:pt x="196" y="55"/>
                      </a:lnTo>
                      <a:lnTo>
                        <a:pt x="455" y="7"/>
                      </a:lnTo>
                      <a:lnTo>
                        <a:pt x="487" y="0"/>
                      </a:lnTo>
                      <a:lnTo>
                        <a:pt x="461" y="28"/>
                      </a:lnTo>
                      <a:lnTo>
                        <a:pt x="430" y="45"/>
                      </a:lnTo>
                      <a:lnTo>
                        <a:pt x="388" y="64"/>
                      </a:lnTo>
                      <a:lnTo>
                        <a:pt x="284" y="89"/>
                      </a:lnTo>
                      <a:lnTo>
                        <a:pt x="82" y="83"/>
                      </a:lnTo>
                      <a:lnTo>
                        <a:pt x="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07960" y="591840"/>
                  <a:ext cx="95400" cy="41040"/>
                </a:xfrm>
                <a:custGeom>
                  <a:avLst/>
                  <a:gdLst/>
                  <a:ahLst/>
                  <a:rect l="l" t="t" r="r" b="b"/>
                  <a:pathLst>
                    <a:path w="361" h="156">
                      <a:moveTo>
                        <a:pt x="0" y="133"/>
                      </a:moveTo>
                      <a:lnTo>
                        <a:pt x="34" y="114"/>
                      </a:lnTo>
                      <a:lnTo>
                        <a:pt x="74" y="94"/>
                      </a:lnTo>
                      <a:lnTo>
                        <a:pt x="121" y="71"/>
                      </a:lnTo>
                      <a:lnTo>
                        <a:pt x="178" y="48"/>
                      </a:lnTo>
                      <a:lnTo>
                        <a:pt x="239" y="25"/>
                      </a:lnTo>
                      <a:lnTo>
                        <a:pt x="361" y="0"/>
                      </a:lnTo>
                      <a:lnTo>
                        <a:pt x="329" y="14"/>
                      </a:lnTo>
                      <a:lnTo>
                        <a:pt x="256" y="46"/>
                      </a:lnTo>
                      <a:lnTo>
                        <a:pt x="182" y="90"/>
                      </a:lnTo>
                      <a:lnTo>
                        <a:pt x="146" y="133"/>
                      </a:lnTo>
                      <a:lnTo>
                        <a:pt x="139" y="149"/>
                      </a:lnTo>
                      <a:lnTo>
                        <a:pt x="120" y="156"/>
                      </a:lnTo>
                      <a:lnTo>
                        <a:pt x="70" y="154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929680" y="866880"/>
                  <a:ext cx="29520" cy="32760"/>
                </a:xfrm>
                <a:custGeom>
                  <a:avLst/>
                  <a:gdLst/>
                  <a:ahLst/>
                  <a:rect l="l" t="t" r="r" b="b"/>
                  <a:pathLst>
                    <a:path w="113" h="125">
                      <a:moveTo>
                        <a:pt x="14" y="61"/>
                      </a:moveTo>
                      <a:lnTo>
                        <a:pt x="52" y="15"/>
                      </a:lnTo>
                      <a:lnTo>
                        <a:pt x="84" y="0"/>
                      </a:lnTo>
                      <a:lnTo>
                        <a:pt x="113" y="4"/>
                      </a:lnTo>
                      <a:lnTo>
                        <a:pt x="57" y="87"/>
                      </a:lnTo>
                      <a:lnTo>
                        <a:pt x="44" y="125"/>
                      </a:lnTo>
                      <a:lnTo>
                        <a:pt x="25" y="122"/>
                      </a:lnTo>
                      <a:lnTo>
                        <a:pt x="0" y="89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05800" y="907920"/>
                  <a:ext cx="56880" cy="54360"/>
                </a:xfrm>
                <a:custGeom>
                  <a:avLst/>
                  <a:gdLst/>
                  <a:ahLst/>
                  <a:rect l="l" t="t" r="r" b="b"/>
                  <a:pathLst>
                    <a:path w="217" h="205">
                      <a:moveTo>
                        <a:pt x="0" y="205"/>
                      </a:moveTo>
                      <a:lnTo>
                        <a:pt x="12" y="137"/>
                      </a:lnTo>
                      <a:lnTo>
                        <a:pt x="42" y="78"/>
                      </a:lnTo>
                      <a:lnTo>
                        <a:pt x="69" y="49"/>
                      </a:lnTo>
                      <a:lnTo>
                        <a:pt x="109" y="23"/>
                      </a:lnTo>
                      <a:lnTo>
                        <a:pt x="173" y="0"/>
                      </a:lnTo>
                      <a:lnTo>
                        <a:pt x="207" y="7"/>
                      </a:lnTo>
                      <a:lnTo>
                        <a:pt x="217" y="38"/>
                      </a:lnTo>
                      <a:lnTo>
                        <a:pt x="188" y="108"/>
                      </a:lnTo>
                      <a:lnTo>
                        <a:pt x="137" y="161"/>
                      </a:lnTo>
                      <a:lnTo>
                        <a:pt x="99" y="184"/>
                      </a:lnTo>
                      <a:lnTo>
                        <a:pt x="50" y="199"/>
                      </a:lnTo>
                      <a:lnTo>
                        <a:pt x="0" y="205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327480" y="1009800"/>
                  <a:ext cx="72720" cy="128520"/>
                </a:xfrm>
                <a:custGeom>
                  <a:avLst/>
                  <a:gdLst/>
                  <a:ahLst/>
                  <a:rect l="l" t="t" r="r" b="b"/>
                  <a:pathLst>
                    <a:path w="276" h="488">
                      <a:moveTo>
                        <a:pt x="160" y="484"/>
                      </a:moveTo>
                      <a:lnTo>
                        <a:pt x="97" y="488"/>
                      </a:lnTo>
                      <a:lnTo>
                        <a:pt x="25" y="433"/>
                      </a:lnTo>
                      <a:lnTo>
                        <a:pt x="0" y="283"/>
                      </a:lnTo>
                      <a:lnTo>
                        <a:pt x="21" y="161"/>
                      </a:lnTo>
                      <a:lnTo>
                        <a:pt x="44" y="85"/>
                      </a:lnTo>
                      <a:lnTo>
                        <a:pt x="76" y="0"/>
                      </a:lnTo>
                      <a:lnTo>
                        <a:pt x="93" y="399"/>
                      </a:lnTo>
                      <a:lnTo>
                        <a:pt x="128" y="418"/>
                      </a:lnTo>
                      <a:lnTo>
                        <a:pt x="160" y="422"/>
                      </a:lnTo>
                      <a:lnTo>
                        <a:pt x="219" y="395"/>
                      </a:lnTo>
                      <a:lnTo>
                        <a:pt x="261" y="351"/>
                      </a:lnTo>
                      <a:lnTo>
                        <a:pt x="276" y="329"/>
                      </a:lnTo>
                      <a:lnTo>
                        <a:pt x="242" y="395"/>
                      </a:lnTo>
                      <a:lnTo>
                        <a:pt x="206" y="446"/>
                      </a:lnTo>
                      <a:lnTo>
                        <a:pt x="183" y="469"/>
                      </a:lnTo>
                      <a:lnTo>
                        <a:pt x="160" y="484"/>
                      </a:lnTo>
                      <a:lnTo>
                        <a:pt x="160" y="484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901960" y="997560"/>
                  <a:ext cx="151560" cy="87840"/>
                </a:xfrm>
                <a:custGeom>
                  <a:avLst/>
                  <a:gdLst/>
                  <a:ahLst/>
                  <a:rect l="l" t="t" r="r" b="b"/>
                  <a:pathLst>
                    <a:path w="576" h="335">
                      <a:moveTo>
                        <a:pt x="0" y="0"/>
                      </a:moveTo>
                      <a:lnTo>
                        <a:pt x="49" y="38"/>
                      </a:lnTo>
                      <a:lnTo>
                        <a:pt x="105" y="78"/>
                      </a:lnTo>
                      <a:lnTo>
                        <a:pt x="139" y="101"/>
                      </a:lnTo>
                      <a:lnTo>
                        <a:pt x="177" y="127"/>
                      </a:lnTo>
                      <a:lnTo>
                        <a:pt x="219" y="154"/>
                      </a:lnTo>
                      <a:lnTo>
                        <a:pt x="264" y="183"/>
                      </a:lnTo>
                      <a:lnTo>
                        <a:pt x="312" y="209"/>
                      </a:lnTo>
                      <a:lnTo>
                        <a:pt x="361" y="238"/>
                      </a:lnTo>
                      <a:lnTo>
                        <a:pt x="413" y="264"/>
                      </a:lnTo>
                      <a:lnTo>
                        <a:pt x="466" y="289"/>
                      </a:lnTo>
                      <a:lnTo>
                        <a:pt x="521" y="314"/>
                      </a:lnTo>
                      <a:lnTo>
                        <a:pt x="576" y="335"/>
                      </a:lnTo>
                      <a:lnTo>
                        <a:pt x="534" y="321"/>
                      </a:lnTo>
                      <a:lnTo>
                        <a:pt x="430" y="283"/>
                      </a:lnTo>
                      <a:lnTo>
                        <a:pt x="367" y="261"/>
                      </a:lnTo>
                      <a:lnTo>
                        <a:pt x="302" y="234"/>
                      </a:lnTo>
                      <a:lnTo>
                        <a:pt x="240" y="203"/>
                      </a:lnTo>
                      <a:lnTo>
                        <a:pt x="186" y="173"/>
                      </a:lnTo>
                      <a:lnTo>
                        <a:pt x="141" y="143"/>
                      </a:lnTo>
                      <a:lnTo>
                        <a:pt x="101" y="112"/>
                      </a:lnTo>
                      <a:lnTo>
                        <a:pt x="68" y="84"/>
                      </a:lnTo>
                      <a:lnTo>
                        <a:pt x="44" y="5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986200" y="747360"/>
                  <a:ext cx="327960" cy="196200"/>
                </a:xfrm>
                <a:custGeom>
                  <a:avLst/>
                  <a:gdLst/>
                  <a:ahLst/>
                  <a:rect l="l" t="t" r="r" b="b"/>
                  <a:pathLst>
                    <a:path w="1246" h="747">
                      <a:moveTo>
                        <a:pt x="419" y="0"/>
                      </a:moveTo>
                      <a:lnTo>
                        <a:pt x="426" y="26"/>
                      </a:lnTo>
                      <a:lnTo>
                        <a:pt x="455" y="55"/>
                      </a:lnTo>
                      <a:lnTo>
                        <a:pt x="510" y="89"/>
                      </a:lnTo>
                      <a:lnTo>
                        <a:pt x="607" y="125"/>
                      </a:lnTo>
                      <a:lnTo>
                        <a:pt x="753" y="159"/>
                      </a:lnTo>
                      <a:lnTo>
                        <a:pt x="962" y="190"/>
                      </a:lnTo>
                      <a:lnTo>
                        <a:pt x="1246" y="211"/>
                      </a:lnTo>
                      <a:lnTo>
                        <a:pt x="985" y="226"/>
                      </a:lnTo>
                      <a:lnTo>
                        <a:pt x="719" y="214"/>
                      </a:lnTo>
                      <a:lnTo>
                        <a:pt x="419" y="157"/>
                      </a:lnTo>
                      <a:lnTo>
                        <a:pt x="379" y="195"/>
                      </a:lnTo>
                      <a:lnTo>
                        <a:pt x="333" y="243"/>
                      </a:lnTo>
                      <a:lnTo>
                        <a:pt x="278" y="308"/>
                      </a:lnTo>
                      <a:lnTo>
                        <a:pt x="246" y="348"/>
                      </a:lnTo>
                      <a:lnTo>
                        <a:pt x="211" y="391"/>
                      </a:lnTo>
                      <a:lnTo>
                        <a:pt x="177" y="439"/>
                      </a:lnTo>
                      <a:lnTo>
                        <a:pt x="141" y="492"/>
                      </a:lnTo>
                      <a:lnTo>
                        <a:pt x="105" y="549"/>
                      </a:lnTo>
                      <a:lnTo>
                        <a:pt x="69" y="610"/>
                      </a:lnTo>
                      <a:lnTo>
                        <a:pt x="35" y="676"/>
                      </a:lnTo>
                      <a:lnTo>
                        <a:pt x="0" y="747"/>
                      </a:lnTo>
                      <a:lnTo>
                        <a:pt x="33" y="659"/>
                      </a:lnTo>
                      <a:lnTo>
                        <a:pt x="69" y="568"/>
                      </a:lnTo>
                      <a:lnTo>
                        <a:pt x="92" y="517"/>
                      </a:lnTo>
                      <a:lnTo>
                        <a:pt x="116" y="462"/>
                      </a:lnTo>
                      <a:lnTo>
                        <a:pt x="145" y="405"/>
                      </a:lnTo>
                      <a:lnTo>
                        <a:pt x="173" y="349"/>
                      </a:lnTo>
                      <a:lnTo>
                        <a:pt x="204" y="294"/>
                      </a:lnTo>
                      <a:lnTo>
                        <a:pt x="234" y="243"/>
                      </a:lnTo>
                      <a:lnTo>
                        <a:pt x="267" y="197"/>
                      </a:lnTo>
                      <a:lnTo>
                        <a:pt x="299" y="157"/>
                      </a:lnTo>
                      <a:lnTo>
                        <a:pt x="333" y="123"/>
                      </a:lnTo>
                      <a:lnTo>
                        <a:pt x="365" y="100"/>
                      </a:lnTo>
                      <a:lnTo>
                        <a:pt x="419" y="0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3719520" y="650880"/>
                <a:ext cx="200160" cy="5047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033720" y="1063440"/>
                <a:ext cx="755640" cy="214200"/>
              </a:xfrm>
              <a:custGeom>
                <a:avLst/>
                <a:gdLst/>
                <a:ahLst/>
                <a:rect l="l" t="t" r="r" b="b"/>
                <a:pathLst>
                  <a:path w="476" h="135">
                    <a:moveTo>
                      <a:pt x="0" y="18"/>
                    </a:moveTo>
                    <a:cubicBezTo>
                      <a:pt x="7" y="53"/>
                      <a:pt x="15" y="88"/>
                      <a:pt x="48" y="105"/>
                    </a:cubicBezTo>
                    <a:cubicBezTo>
                      <a:pt x="81" y="122"/>
                      <a:pt x="129" y="135"/>
                      <a:pt x="200" y="118"/>
                    </a:cubicBezTo>
                    <a:cubicBezTo>
                      <a:pt x="271" y="101"/>
                      <a:pt x="373" y="50"/>
                      <a:pt x="476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51560" y="70776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1" y="12"/>
                    </a:moveTo>
                    <a:lnTo>
                      <a:pt x="1" y="63"/>
                    </a:lnTo>
                    <a:lnTo>
                      <a:pt x="81" y="77"/>
                    </a:lnTo>
                    <a:lnTo>
                      <a:pt x="8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 flipH="1" flipV="1">
              <a:off x="1346040" y="1060560"/>
              <a:ext cx="6480" cy="1473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1339920" y="1053720"/>
              <a:ext cx="682560" cy="80028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521080" y="1111320"/>
              <a:ext cx="19080" cy="7365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797200" y="1104840"/>
              <a:ext cx="1000080" cy="7812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1409760" y="1835280"/>
              <a:ext cx="606240" cy="9777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730600" y="1882800"/>
              <a:ext cx="75960" cy="10447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50920" y="1851120"/>
              <a:ext cx="1974960" cy="32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3973680" y="1195560"/>
              <a:ext cx="1388880" cy="1194840"/>
              <a:chOff x="3973680" y="1195560"/>
              <a:chExt cx="1388880" cy="1194840"/>
            </a:xfrm>
          </p:grpSpPr>
          <p:sp>
            <p:nvSpPr>
              <p:cNvPr id="584" name=""/>
              <p:cNvSpPr/>
              <p:nvPr/>
            </p:nvSpPr>
            <p:spPr>
              <a:xfrm>
                <a:off x="4243320" y="1363680"/>
                <a:ext cx="878040" cy="115560"/>
              </a:xfrm>
              <a:custGeom>
                <a:avLst/>
                <a:gdLst/>
                <a:ahLst/>
                <a:rect l="l" t="t" r="r" b="b"/>
                <a:pathLst>
                  <a:path w="1106" h="147">
                    <a:moveTo>
                      <a:pt x="1085" y="22"/>
                    </a:moveTo>
                    <a:lnTo>
                      <a:pt x="1095" y="13"/>
                    </a:lnTo>
                    <a:lnTo>
                      <a:pt x="1102" y="6"/>
                    </a:lnTo>
                    <a:lnTo>
                      <a:pt x="1105" y="2"/>
                    </a:lnTo>
                    <a:lnTo>
                      <a:pt x="1106" y="0"/>
                    </a:lnTo>
                    <a:lnTo>
                      <a:pt x="1105" y="2"/>
                    </a:lnTo>
                    <a:lnTo>
                      <a:pt x="1103" y="6"/>
                    </a:lnTo>
                    <a:lnTo>
                      <a:pt x="1096" y="13"/>
                    </a:lnTo>
                    <a:lnTo>
                      <a:pt x="1085" y="22"/>
                    </a:lnTo>
                    <a:lnTo>
                      <a:pt x="1078" y="28"/>
                    </a:lnTo>
                    <a:lnTo>
                      <a:pt x="1068" y="34"/>
                    </a:lnTo>
                    <a:lnTo>
                      <a:pt x="1059" y="41"/>
                    </a:lnTo>
                    <a:lnTo>
                      <a:pt x="1048" y="48"/>
                    </a:lnTo>
                    <a:lnTo>
                      <a:pt x="1035" y="55"/>
                    </a:lnTo>
                    <a:lnTo>
                      <a:pt x="1021" y="62"/>
                    </a:lnTo>
                    <a:lnTo>
                      <a:pt x="1006" y="68"/>
                    </a:lnTo>
                    <a:lnTo>
                      <a:pt x="989" y="75"/>
                    </a:lnTo>
                    <a:lnTo>
                      <a:pt x="971" y="82"/>
                    </a:lnTo>
                    <a:lnTo>
                      <a:pt x="951" y="88"/>
                    </a:lnTo>
                    <a:lnTo>
                      <a:pt x="929" y="95"/>
                    </a:lnTo>
                    <a:lnTo>
                      <a:pt x="906" y="100"/>
                    </a:lnTo>
                    <a:lnTo>
                      <a:pt x="881" y="105"/>
                    </a:lnTo>
                    <a:lnTo>
                      <a:pt x="853" y="109"/>
                    </a:lnTo>
                    <a:lnTo>
                      <a:pt x="824" y="113"/>
                    </a:lnTo>
                    <a:lnTo>
                      <a:pt x="793" y="116"/>
                    </a:lnTo>
                    <a:lnTo>
                      <a:pt x="761" y="117"/>
                    </a:lnTo>
                    <a:lnTo>
                      <a:pt x="726" y="116"/>
                    </a:lnTo>
                    <a:lnTo>
                      <a:pt x="691" y="113"/>
                    </a:lnTo>
                    <a:lnTo>
                      <a:pt x="653" y="110"/>
                    </a:lnTo>
                    <a:lnTo>
                      <a:pt x="612" y="105"/>
                    </a:lnTo>
                    <a:lnTo>
                      <a:pt x="571" y="100"/>
                    </a:lnTo>
                    <a:lnTo>
                      <a:pt x="529" y="94"/>
                    </a:lnTo>
                    <a:lnTo>
                      <a:pt x="487" y="87"/>
                    </a:lnTo>
                    <a:lnTo>
                      <a:pt x="444" y="81"/>
                    </a:lnTo>
                    <a:lnTo>
                      <a:pt x="402" y="75"/>
                    </a:lnTo>
                    <a:lnTo>
                      <a:pt x="359" y="71"/>
                    </a:lnTo>
                    <a:lnTo>
                      <a:pt x="317" y="67"/>
                    </a:lnTo>
                    <a:lnTo>
                      <a:pt x="276" y="64"/>
                    </a:lnTo>
                    <a:lnTo>
                      <a:pt x="237" y="63"/>
                    </a:lnTo>
                    <a:lnTo>
                      <a:pt x="199" y="64"/>
                    </a:lnTo>
                    <a:lnTo>
                      <a:pt x="162" y="66"/>
                    </a:lnTo>
                    <a:lnTo>
                      <a:pt x="130" y="71"/>
                    </a:lnTo>
                    <a:lnTo>
                      <a:pt x="103" y="75"/>
                    </a:lnTo>
                    <a:lnTo>
                      <a:pt x="81" y="81"/>
                    </a:lnTo>
                    <a:lnTo>
                      <a:pt x="64" y="88"/>
                    </a:lnTo>
                    <a:lnTo>
                      <a:pt x="50" y="94"/>
                    </a:lnTo>
                    <a:lnTo>
                      <a:pt x="40" y="101"/>
                    </a:lnTo>
                    <a:lnTo>
                      <a:pt x="33" y="108"/>
                    </a:lnTo>
                    <a:lnTo>
                      <a:pt x="28" y="115"/>
                    </a:lnTo>
                    <a:lnTo>
                      <a:pt x="26" y="120"/>
                    </a:lnTo>
                    <a:lnTo>
                      <a:pt x="25" y="127"/>
                    </a:lnTo>
                    <a:lnTo>
                      <a:pt x="26" y="132"/>
                    </a:lnTo>
                    <a:lnTo>
                      <a:pt x="27" y="138"/>
                    </a:lnTo>
                    <a:lnTo>
                      <a:pt x="30" y="141"/>
                    </a:lnTo>
                    <a:lnTo>
                      <a:pt x="31" y="144"/>
                    </a:lnTo>
                    <a:lnTo>
                      <a:pt x="32" y="146"/>
                    </a:lnTo>
                    <a:lnTo>
                      <a:pt x="33" y="147"/>
                    </a:lnTo>
                    <a:lnTo>
                      <a:pt x="32" y="146"/>
                    </a:lnTo>
                    <a:lnTo>
                      <a:pt x="28" y="143"/>
                    </a:lnTo>
                    <a:lnTo>
                      <a:pt x="24" y="139"/>
                    </a:lnTo>
                    <a:lnTo>
                      <a:pt x="18" y="134"/>
                    </a:lnTo>
                    <a:lnTo>
                      <a:pt x="12" y="127"/>
                    </a:lnTo>
                    <a:lnTo>
                      <a:pt x="8" y="120"/>
                    </a:lnTo>
                    <a:lnTo>
                      <a:pt x="3" y="112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2" y="86"/>
                    </a:lnTo>
                    <a:lnTo>
                      <a:pt x="6" y="78"/>
                    </a:lnTo>
                    <a:lnTo>
                      <a:pt x="17" y="68"/>
                    </a:lnTo>
                    <a:lnTo>
                      <a:pt x="31" y="62"/>
                    </a:lnTo>
                    <a:lnTo>
                      <a:pt x="50" y="55"/>
                    </a:lnTo>
                    <a:lnTo>
                      <a:pt x="76" y="48"/>
                    </a:lnTo>
                    <a:lnTo>
                      <a:pt x="107" y="43"/>
                    </a:lnTo>
                    <a:lnTo>
                      <a:pt x="146" y="40"/>
                    </a:lnTo>
                    <a:lnTo>
                      <a:pt x="187" y="38"/>
                    </a:lnTo>
                    <a:lnTo>
                      <a:pt x="230" y="40"/>
                    </a:lnTo>
                    <a:lnTo>
                      <a:pt x="274" y="42"/>
                    </a:lnTo>
                    <a:lnTo>
                      <a:pt x="317" y="45"/>
                    </a:lnTo>
                    <a:lnTo>
                      <a:pt x="361" y="51"/>
                    </a:lnTo>
                    <a:lnTo>
                      <a:pt x="406" y="57"/>
                    </a:lnTo>
                    <a:lnTo>
                      <a:pt x="450" y="63"/>
                    </a:lnTo>
                    <a:lnTo>
                      <a:pt x="494" y="68"/>
                    </a:lnTo>
                    <a:lnTo>
                      <a:pt x="536" y="75"/>
                    </a:lnTo>
                    <a:lnTo>
                      <a:pt x="578" y="81"/>
                    </a:lnTo>
                    <a:lnTo>
                      <a:pt x="619" y="86"/>
                    </a:lnTo>
                    <a:lnTo>
                      <a:pt x="657" y="90"/>
                    </a:lnTo>
                    <a:lnTo>
                      <a:pt x="695" y="93"/>
                    </a:lnTo>
                    <a:lnTo>
                      <a:pt x="730" y="94"/>
                    </a:lnTo>
                    <a:lnTo>
                      <a:pt x="762" y="93"/>
                    </a:lnTo>
                    <a:lnTo>
                      <a:pt x="799" y="90"/>
                    </a:lnTo>
                    <a:lnTo>
                      <a:pt x="833" y="87"/>
                    </a:lnTo>
                    <a:lnTo>
                      <a:pt x="865" y="83"/>
                    </a:lnTo>
                    <a:lnTo>
                      <a:pt x="895" y="79"/>
                    </a:lnTo>
                    <a:lnTo>
                      <a:pt x="921" y="75"/>
                    </a:lnTo>
                    <a:lnTo>
                      <a:pt x="945" y="71"/>
                    </a:lnTo>
                    <a:lnTo>
                      <a:pt x="967" y="66"/>
                    </a:lnTo>
                    <a:lnTo>
                      <a:pt x="988" y="60"/>
                    </a:lnTo>
                    <a:lnTo>
                      <a:pt x="1005" y="56"/>
                    </a:lnTo>
                    <a:lnTo>
                      <a:pt x="1021" y="51"/>
                    </a:lnTo>
                    <a:lnTo>
                      <a:pt x="1036" y="47"/>
                    </a:lnTo>
                    <a:lnTo>
                      <a:pt x="1049" y="41"/>
                    </a:lnTo>
                    <a:lnTo>
                      <a:pt x="1059" y="36"/>
                    </a:lnTo>
                    <a:lnTo>
                      <a:pt x="1070" y="32"/>
                    </a:lnTo>
                    <a:lnTo>
                      <a:pt x="1078" y="27"/>
                    </a:lnTo>
                    <a:lnTo>
                      <a:pt x="1085" y="22"/>
                    </a:lnTo>
                    <a:close/>
                  </a:path>
                </a:pathLst>
              </a:custGeom>
              <a:solidFill>
                <a:srgbClr val="ccf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14880" y="1220760"/>
                <a:ext cx="677880" cy="209160"/>
              </a:xfrm>
              <a:custGeom>
                <a:avLst/>
                <a:gdLst/>
                <a:ahLst/>
                <a:rect l="l" t="t" r="r" b="b"/>
                <a:pathLst>
                  <a:path w="855" h="263">
                    <a:moveTo>
                      <a:pt x="3" y="182"/>
                    </a:moveTo>
                    <a:lnTo>
                      <a:pt x="8" y="169"/>
                    </a:lnTo>
                    <a:lnTo>
                      <a:pt x="15" y="157"/>
                    </a:lnTo>
                    <a:lnTo>
                      <a:pt x="24" y="146"/>
                    </a:lnTo>
                    <a:lnTo>
                      <a:pt x="33" y="138"/>
                    </a:lnTo>
                    <a:lnTo>
                      <a:pt x="45" y="131"/>
                    </a:lnTo>
                    <a:lnTo>
                      <a:pt x="57" y="125"/>
                    </a:lnTo>
                    <a:lnTo>
                      <a:pt x="71" y="122"/>
                    </a:lnTo>
                    <a:lnTo>
                      <a:pt x="86" y="120"/>
                    </a:lnTo>
                    <a:lnTo>
                      <a:pt x="86" y="112"/>
                    </a:lnTo>
                    <a:lnTo>
                      <a:pt x="87" y="104"/>
                    </a:lnTo>
                    <a:lnTo>
                      <a:pt x="90" y="97"/>
                    </a:lnTo>
                    <a:lnTo>
                      <a:pt x="91" y="89"/>
                    </a:lnTo>
                    <a:lnTo>
                      <a:pt x="95" y="75"/>
                    </a:lnTo>
                    <a:lnTo>
                      <a:pt x="102" y="61"/>
                    </a:lnTo>
                    <a:lnTo>
                      <a:pt x="110" y="49"/>
                    </a:lnTo>
                    <a:lnTo>
                      <a:pt x="121" y="39"/>
                    </a:lnTo>
                    <a:lnTo>
                      <a:pt x="131" y="30"/>
                    </a:lnTo>
                    <a:lnTo>
                      <a:pt x="143" y="23"/>
                    </a:lnTo>
                    <a:lnTo>
                      <a:pt x="156" y="16"/>
                    </a:lnTo>
                    <a:lnTo>
                      <a:pt x="170" y="11"/>
                    </a:lnTo>
                    <a:lnTo>
                      <a:pt x="185" y="8"/>
                    </a:lnTo>
                    <a:lnTo>
                      <a:pt x="200" y="7"/>
                    </a:lnTo>
                    <a:lnTo>
                      <a:pt x="216" y="7"/>
                    </a:lnTo>
                    <a:lnTo>
                      <a:pt x="233" y="8"/>
                    </a:lnTo>
                    <a:lnTo>
                      <a:pt x="250" y="11"/>
                    </a:lnTo>
                    <a:lnTo>
                      <a:pt x="267" y="16"/>
                    </a:lnTo>
                    <a:lnTo>
                      <a:pt x="286" y="22"/>
                    </a:lnTo>
                    <a:lnTo>
                      <a:pt x="303" y="30"/>
                    </a:lnTo>
                    <a:lnTo>
                      <a:pt x="318" y="39"/>
                    </a:lnTo>
                    <a:lnTo>
                      <a:pt x="333" y="48"/>
                    </a:lnTo>
                    <a:lnTo>
                      <a:pt x="347" y="59"/>
                    </a:lnTo>
                    <a:lnTo>
                      <a:pt x="360" y="70"/>
                    </a:lnTo>
                    <a:lnTo>
                      <a:pt x="372" y="82"/>
                    </a:lnTo>
                    <a:lnTo>
                      <a:pt x="383" y="94"/>
                    </a:lnTo>
                    <a:lnTo>
                      <a:pt x="394" y="108"/>
                    </a:lnTo>
                    <a:lnTo>
                      <a:pt x="403" y="122"/>
                    </a:lnTo>
                    <a:lnTo>
                      <a:pt x="413" y="117"/>
                    </a:lnTo>
                    <a:lnTo>
                      <a:pt x="424" y="114"/>
                    </a:lnTo>
                    <a:lnTo>
                      <a:pt x="436" y="112"/>
                    </a:lnTo>
                    <a:lnTo>
                      <a:pt x="448" y="110"/>
                    </a:lnTo>
                    <a:lnTo>
                      <a:pt x="461" y="110"/>
                    </a:lnTo>
                    <a:lnTo>
                      <a:pt x="473" y="112"/>
                    </a:lnTo>
                    <a:lnTo>
                      <a:pt x="486" y="114"/>
                    </a:lnTo>
                    <a:lnTo>
                      <a:pt x="500" y="119"/>
                    </a:lnTo>
                    <a:lnTo>
                      <a:pt x="501" y="109"/>
                    </a:lnTo>
                    <a:lnTo>
                      <a:pt x="502" y="101"/>
                    </a:lnTo>
                    <a:lnTo>
                      <a:pt x="503" y="92"/>
                    </a:lnTo>
                    <a:lnTo>
                      <a:pt x="504" y="84"/>
                    </a:lnTo>
                    <a:lnTo>
                      <a:pt x="509" y="69"/>
                    </a:lnTo>
                    <a:lnTo>
                      <a:pt x="516" y="56"/>
                    </a:lnTo>
                    <a:lnTo>
                      <a:pt x="525" y="44"/>
                    </a:lnTo>
                    <a:lnTo>
                      <a:pt x="534" y="33"/>
                    </a:lnTo>
                    <a:lnTo>
                      <a:pt x="546" y="24"/>
                    </a:lnTo>
                    <a:lnTo>
                      <a:pt x="557" y="16"/>
                    </a:lnTo>
                    <a:lnTo>
                      <a:pt x="571" y="10"/>
                    </a:lnTo>
                    <a:lnTo>
                      <a:pt x="585" y="6"/>
                    </a:lnTo>
                    <a:lnTo>
                      <a:pt x="600" y="2"/>
                    </a:lnTo>
                    <a:lnTo>
                      <a:pt x="616" y="0"/>
                    </a:lnTo>
                    <a:lnTo>
                      <a:pt x="632" y="0"/>
                    </a:lnTo>
                    <a:lnTo>
                      <a:pt x="649" y="1"/>
                    </a:lnTo>
                    <a:lnTo>
                      <a:pt x="667" y="4"/>
                    </a:lnTo>
                    <a:lnTo>
                      <a:pt x="685" y="9"/>
                    </a:lnTo>
                    <a:lnTo>
                      <a:pt x="702" y="16"/>
                    </a:lnTo>
                    <a:lnTo>
                      <a:pt x="721" y="24"/>
                    </a:lnTo>
                    <a:lnTo>
                      <a:pt x="746" y="39"/>
                    </a:lnTo>
                    <a:lnTo>
                      <a:pt x="769" y="56"/>
                    </a:lnTo>
                    <a:lnTo>
                      <a:pt x="791" y="76"/>
                    </a:lnTo>
                    <a:lnTo>
                      <a:pt x="810" y="97"/>
                    </a:lnTo>
                    <a:lnTo>
                      <a:pt x="826" y="120"/>
                    </a:lnTo>
                    <a:lnTo>
                      <a:pt x="838" y="143"/>
                    </a:lnTo>
                    <a:lnTo>
                      <a:pt x="848" y="167"/>
                    </a:lnTo>
                    <a:lnTo>
                      <a:pt x="855" y="191"/>
                    </a:lnTo>
                    <a:lnTo>
                      <a:pt x="845" y="172"/>
                    </a:lnTo>
                    <a:lnTo>
                      <a:pt x="835" y="152"/>
                    </a:lnTo>
                    <a:lnTo>
                      <a:pt x="821" y="134"/>
                    </a:lnTo>
                    <a:lnTo>
                      <a:pt x="806" y="115"/>
                    </a:lnTo>
                    <a:lnTo>
                      <a:pt x="790" y="99"/>
                    </a:lnTo>
                    <a:lnTo>
                      <a:pt x="772" y="84"/>
                    </a:lnTo>
                    <a:lnTo>
                      <a:pt x="752" y="70"/>
                    </a:lnTo>
                    <a:lnTo>
                      <a:pt x="730" y="57"/>
                    </a:lnTo>
                    <a:lnTo>
                      <a:pt x="712" y="49"/>
                    </a:lnTo>
                    <a:lnTo>
                      <a:pt x="694" y="42"/>
                    </a:lnTo>
                    <a:lnTo>
                      <a:pt x="677" y="38"/>
                    </a:lnTo>
                    <a:lnTo>
                      <a:pt x="660" y="36"/>
                    </a:lnTo>
                    <a:lnTo>
                      <a:pt x="643" y="33"/>
                    </a:lnTo>
                    <a:lnTo>
                      <a:pt x="626" y="34"/>
                    </a:lnTo>
                    <a:lnTo>
                      <a:pt x="610" y="36"/>
                    </a:lnTo>
                    <a:lnTo>
                      <a:pt x="595" y="39"/>
                    </a:lnTo>
                    <a:lnTo>
                      <a:pt x="580" y="44"/>
                    </a:lnTo>
                    <a:lnTo>
                      <a:pt x="568" y="51"/>
                    </a:lnTo>
                    <a:lnTo>
                      <a:pt x="555" y="57"/>
                    </a:lnTo>
                    <a:lnTo>
                      <a:pt x="545" y="67"/>
                    </a:lnTo>
                    <a:lnTo>
                      <a:pt x="534" y="78"/>
                    </a:lnTo>
                    <a:lnTo>
                      <a:pt x="526" y="90"/>
                    </a:lnTo>
                    <a:lnTo>
                      <a:pt x="519" y="102"/>
                    </a:lnTo>
                    <a:lnTo>
                      <a:pt x="514" y="117"/>
                    </a:lnTo>
                    <a:lnTo>
                      <a:pt x="511" y="125"/>
                    </a:lnTo>
                    <a:lnTo>
                      <a:pt x="510" y="135"/>
                    </a:lnTo>
                    <a:lnTo>
                      <a:pt x="509" y="143"/>
                    </a:lnTo>
                    <a:lnTo>
                      <a:pt x="509" y="152"/>
                    </a:lnTo>
                    <a:lnTo>
                      <a:pt x="495" y="147"/>
                    </a:lnTo>
                    <a:lnTo>
                      <a:pt x="482" y="145"/>
                    </a:lnTo>
                    <a:lnTo>
                      <a:pt x="470" y="144"/>
                    </a:lnTo>
                    <a:lnTo>
                      <a:pt x="457" y="144"/>
                    </a:lnTo>
                    <a:lnTo>
                      <a:pt x="446" y="145"/>
                    </a:lnTo>
                    <a:lnTo>
                      <a:pt x="433" y="147"/>
                    </a:lnTo>
                    <a:lnTo>
                      <a:pt x="423" y="151"/>
                    </a:lnTo>
                    <a:lnTo>
                      <a:pt x="412" y="155"/>
                    </a:lnTo>
                    <a:lnTo>
                      <a:pt x="403" y="142"/>
                    </a:lnTo>
                    <a:lnTo>
                      <a:pt x="393" y="129"/>
                    </a:lnTo>
                    <a:lnTo>
                      <a:pt x="381" y="116"/>
                    </a:lnTo>
                    <a:lnTo>
                      <a:pt x="370" y="104"/>
                    </a:lnTo>
                    <a:lnTo>
                      <a:pt x="357" y="92"/>
                    </a:lnTo>
                    <a:lnTo>
                      <a:pt x="342" y="82"/>
                    </a:lnTo>
                    <a:lnTo>
                      <a:pt x="328" y="72"/>
                    </a:lnTo>
                    <a:lnTo>
                      <a:pt x="312" y="64"/>
                    </a:lnTo>
                    <a:lnTo>
                      <a:pt x="295" y="56"/>
                    </a:lnTo>
                    <a:lnTo>
                      <a:pt x="277" y="51"/>
                    </a:lnTo>
                    <a:lnTo>
                      <a:pt x="260" y="45"/>
                    </a:lnTo>
                    <a:lnTo>
                      <a:pt x="243" y="42"/>
                    </a:lnTo>
                    <a:lnTo>
                      <a:pt x="227" y="41"/>
                    </a:lnTo>
                    <a:lnTo>
                      <a:pt x="211" y="41"/>
                    </a:lnTo>
                    <a:lnTo>
                      <a:pt x="195" y="42"/>
                    </a:lnTo>
                    <a:lnTo>
                      <a:pt x="181" y="46"/>
                    </a:lnTo>
                    <a:lnTo>
                      <a:pt x="167" y="51"/>
                    </a:lnTo>
                    <a:lnTo>
                      <a:pt x="153" y="56"/>
                    </a:lnTo>
                    <a:lnTo>
                      <a:pt x="142" y="64"/>
                    </a:lnTo>
                    <a:lnTo>
                      <a:pt x="131" y="72"/>
                    </a:lnTo>
                    <a:lnTo>
                      <a:pt x="121" y="83"/>
                    </a:lnTo>
                    <a:lnTo>
                      <a:pt x="113" y="94"/>
                    </a:lnTo>
                    <a:lnTo>
                      <a:pt x="106" y="108"/>
                    </a:lnTo>
                    <a:lnTo>
                      <a:pt x="101" y="122"/>
                    </a:lnTo>
                    <a:lnTo>
                      <a:pt x="99" y="130"/>
                    </a:lnTo>
                    <a:lnTo>
                      <a:pt x="98" y="137"/>
                    </a:lnTo>
                    <a:lnTo>
                      <a:pt x="97" y="145"/>
                    </a:lnTo>
                    <a:lnTo>
                      <a:pt x="95" y="153"/>
                    </a:lnTo>
                    <a:lnTo>
                      <a:pt x="82" y="155"/>
                    </a:lnTo>
                    <a:lnTo>
                      <a:pt x="68" y="159"/>
                    </a:lnTo>
                    <a:lnTo>
                      <a:pt x="55" y="165"/>
                    </a:lnTo>
                    <a:lnTo>
                      <a:pt x="44" y="172"/>
                    </a:lnTo>
                    <a:lnTo>
                      <a:pt x="33" y="181"/>
                    </a:lnTo>
                    <a:lnTo>
                      <a:pt x="25" y="191"/>
                    </a:lnTo>
                    <a:lnTo>
                      <a:pt x="18" y="203"/>
                    </a:lnTo>
                    <a:lnTo>
                      <a:pt x="13" y="216"/>
                    </a:lnTo>
                    <a:lnTo>
                      <a:pt x="10" y="228"/>
                    </a:lnTo>
                    <a:lnTo>
                      <a:pt x="9" y="240"/>
                    </a:lnTo>
                    <a:lnTo>
                      <a:pt x="9" y="251"/>
                    </a:lnTo>
                    <a:lnTo>
                      <a:pt x="10" y="263"/>
                    </a:lnTo>
                    <a:lnTo>
                      <a:pt x="3" y="242"/>
                    </a:lnTo>
                    <a:lnTo>
                      <a:pt x="0" y="222"/>
                    </a:lnTo>
                    <a:lnTo>
                      <a:pt x="0" y="201"/>
                    </a:lnTo>
                    <a:lnTo>
                      <a:pt x="3" y="182"/>
                    </a:lnTo>
                    <a:close/>
                  </a:path>
                </a:pathLst>
              </a:custGeom>
              <a:solidFill>
                <a:srgbClr val="ccf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41960" y="20494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18"/>
                    </a:moveTo>
                    <a:lnTo>
                      <a:pt x="14" y="18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ccf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449960" y="2365200"/>
                <a:ext cx="691920" cy="25200"/>
              </a:xfrm>
              <a:custGeom>
                <a:avLst/>
                <a:gdLst/>
                <a:ahLst/>
                <a:rect l="l" t="t" r="r" b="b"/>
                <a:pathLst>
                  <a:path w="872" h="33">
                    <a:moveTo>
                      <a:pt x="0" y="33"/>
                    </a:moveTo>
                    <a:lnTo>
                      <a:pt x="856" y="33"/>
                    </a:lnTo>
                    <a:lnTo>
                      <a:pt x="872" y="0"/>
                    </a:lnTo>
                    <a:lnTo>
                      <a:pt x="0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afd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02120" y="1500120"/>
                <a:ext cx="1322280" cy="834480"/>
              </a:xfrm>
              <a:custGeom>
                <a:avLst/>
                <a:gdLst/>
                <a:ahLst/>
                <a:rect l="l" t="t" r="r" b="b"/>
                <a:pathLst>
                  <a:path w="1667" h="1052">
                    <a:moveTo>
                      <a:pt x="1604" y="589"/>
                    </a:moveTo>
                    <a:lnTo>
                      <a:pt x="1641" y="589"/>
                    </a:lnTo>
                    <a:lnTo>
                      <a:pt x="1667" y="560"/>
                    </a:lnTo>
                    <a:lnTo>
                      <a:pt x="1406" y="560"/>
                    </a:lnTo>
                    <a:lnTo>
                      <a:pt x="1406" y="519"/>
                    </a:lnTo>
                    <a:lnTo>
                      <a:pt x="1316" y="519"/>
                    </a:lnTo>
                    <a:lnTo>
                      <a:pt x="1316" y="376"/>
                    </a:lnTo>
                    <a:lnTo>
                      <a:pt x="1368" y="371"/>
                    </a:lnTo>
                    <a:lnTo>
                      <a:pt x="1316" y="367"/>
                    </a:lnTo>
                    <a:lnTo>
                      <a:pt x="1316" y="329"/>
                    </a:lnTo>
                    <a:lnTo>
                      <a:pt x="1368" y="324"/>
                    </a:lnTo>
                    <a:lnTo>
                      <a:pt x="1316" y="321"/>
                    </a:lnTo>
                    <a:lnTo>
                      <a:pt x="1316" y="281"/>
                    </a:lnTo>
                    <a:lnTo>
                      <a:pt x="1368" y="277"/>
                    </a:lnTo>
                    <a:lnTo>
                      <a:pt x="1316" y="273"/>
                    </a:lnTo>
                    <a:lnTo>
                      <a:pt x="1316" y="215"/>
                    </a:lnTo>
                    <a:lnTo>
                      <a:pt x="1279" y="215"/>
                    </a:lnTo>
                    <a:lnTo>
                      <a:pt x="1279" y="270"/>
                    </a:lnTo>
                    <a:lnTo>
                      <a:pt x="1232" y="268"/>
                    </a:lnTo>
                    <a:lnTo>
                      <a:pt x="1232" y="291"/>
                    </a:lnTo>
                    <a:lnTo>
                      <a:pt x="1279" y="286"/>
                    </a:lnTo>
                    <a:lnTo>
                      <a:pt x="1279" y="317"/>
                    </a:lnTo>
                    <a:lnTo>
                      <a:pt x="1232" y="314"/>
                    </a:lnTo>
                    <a:lnTo>
                      <a:pt x="1232" y="338"/>
                    </a:lnTo>
                    <a:lnTo>
                      <a:pt x="1279" y="333"/>
                    </a:lnTo>
                    <a:lnTo>
                      <a:pt x="1279" y="364"/>
                    </a:lnTo>
                    <a:lnTo>
                      <a:pt x="1232" y="361"/>
                    </a:lnTo>
                    <a:lnTo>
                      <a:pt x="1232" y="385"/>
                    </a:lnTo>
                    <a:lnTo>
                      <a:pt x="1279" y="380"/>
                    </a:lnTo>
                    <a:lnTo>
                      <a:pt x="1279" y="519"/>
                    </a:lnTo>
                    <a:lnTo>
                      <a:pt x="1133" y="519"/>
                    </a:lnTo>
                    <a:lnTo>
                      <a:pt x="1133" y="376"/>
                    </a:lnTo>
                    <a:lnTo>
                      <a:pt x="1185" y="371"/>
                    </a:lnTo>
                    <a:lnTo>
                      <a:pt x="1133" y="367"/>
                    </a:lnTo>
                    <a:lnTo>
                      <a:pt x="1133" y="329"/>
                    </a:lnTo>
                    <a:lnTo>
                      <a:pt x="1185" y="324"/>
                    </a:lnTo>
                    <a:lnTo>
                      <a:pt x="1133" y="321"/>
                    </a:lnTo>
                    <a:lnTo>
                      <a:pt x="1133" y="281"/>
                    </a:lnTo>
                    <a:lnTo>
                      <a:pt x="1185" y="277"/>
                    </a:lnTo>
                    <a:lnTo>
                      <a:pt x="1133" y="273"/>
                    </a:lnTo>
                    <a:lnTo>
                      <a:pt x="1133" y="215"/>
                    </a:lnTo>
                    <a:lnTo>
                      <a:pt x="1095" y="215"/>
                    </a:lnTo>
                    <a:lnTo>
                      <a:pt x="1095" y="270"/>
                    </a:lnTo>
                    <a:lnTo>
                      <a:pt x="1049" y="268"/>
                    </a:lnTo>
                    <a:lnTo>
                      <a:pt x="1049" y="291"/>
                    </a:lnTo>
                    <a:lnTo>
                      <a:pt x="1095" y="286"/>
                    </a:lnTo>
                    <a:lnTo>
                      <a:pt x="1095" y="317"/>
                    </a:lnTo>
                    <a:lnTo>
                      <a:pt x="1049" y="314"/>
                    </a:lnTo>
                    <a:lnTo>
                      <a:pt x="1049" y="338"/>
                    </a:lnTo>
                    <a:lnTo>
                      <a:pt x="1095" y="333"/>
                    </a:lnTo>
                    <a:lnTo>
                      <a:pt x="1095" y="364"/>
                    </a:lnTo>
                    <a:lnTo>
                      <a:pt x="1049" y="361"/>
                    </a:lnTo>
                    <a:lnTo>
                      <a:pt x="1049" y="385"/>
                    </a:lnTo>
                    <a:lnTo>
                      <a:pt x="1095" y="380"/>
                    </a:lnTo>
                    <a:lnTo>
                      <a:pt x="1095" y="519"/>
                    </a:lnTo>
                    <a:lnTo>
                      <a:pt x="950" y="519"/>
                    </a:lnTo>
                    <a:lnTo>
                      <a:pt x="950" y="376"/>
                    </a:lnTo>
                    <a:lnTo>
                      <a:pt x="1001" y="371"/>
                    </a:lnTo>
                    <a:lnTo>
                      <a:pt x="950" y="367"/>
                    </a:lnTo>
                    <a:lnTo>
                      <a:pt x="950" y="329"/>
                    </a:lnTo>
                    <a:lnTo>
                      <a:pt x="1001" y="324"/>
                    </a:lnTo>
                    <a:lnTo>
                      <a:pt x="950" y="321"/>
                    </a:lnTo>
                    <a:lnTo>
                      <a:pt x="950" y="281"/>
                    </a:lnTo>
                    <a:lnTo>
                      <a:pt x="1001" y="277"/>
                    </a:lnTo>
                    <a:lnTo>
                      <a:pt x="950" y="273"/>
                    </a:lnTo>
                    <a:lnTo>
                      <a:pt x="950" y="215"/>
                    </a:lnTo>
                    <a:lnTo>
                      <a:pt x="912" y="215"/>
                    </a:lnTo>
                    <a:lnTo>
                      <a:pt x="912" y="270"/>
                    </a:lnTo>
                    <a:lnTo>
                      <a:pt x="864" y="268"/>
                    </a:lnTo>
                    <a:lnTo>
                      <a:pt x="864" y="291"/>
                    </a:lnTo>
                    <a:lnTo>
                      <a:pt x="912" y="286"/>
                    </a:lnTo>
                    <a:lnTo>
                      <a:pt x="912" y="317"/>
                    </a:lnTo>
                    <a:lnTo>
                      <a:pt x="864" y="314"/>
                    </a:lnTo>
                    <a:lnTo>
                      <a:pt x="864" y="338"/>
                    </a:lnTo>
                    <a:lnTo>
                      <a:pt x="912" y="333"/>
                    </a:lnTo>
                    <a:lnTo>
                      <a:pt x="912" y="364"/>
                    </a:lnTo>
                    <a:lnTo>
                      <a:pt x="864" y="361"/>
                    </a:lnTo>
                    <a:lnTo>
                      <a:pt x="864" y="385"/>
                    </a:lnTo>
                    <a:lnTo>
                      <a:pt x="912" y="380"/>
                    </a:lnTo>
                    <a:lnTo>
                      <a:pt x="912" y="519"/>
                    </a:lnTo>
                    <a:lnTo>
                      <a:pt x="851" y="519"/>
                    </a:lnTo>
                    <a:lnTo>
                      <a:pt x="851" y="560"/>
                    </a:lnTo>
                    <a:lnTo>
                      <a:pt x="611" y="560"/>
                    </a:lnTo>
                    <a:lnTo>
                      <a:pt x="586" y="155"/>
                    </a:lnTo>
                    <a:lnTo>
                      <a:pt x="581" y="68"/>
                    </a:lnTo>
                    <a:lnTo>
                      <a:pt x="593" y="66"/>
                    </a:lnTo>
                    <a:lnTo>
                      <a:pt x="580" y="66"/>
                    </a:lnTo>
                    <a:lnTo>
                      <a:pt x="579" y="38"/>
                    </a:lnTo>
                    <a:lnTo>
                      <a:pt x="583" y="38"/>
                    </a:lnTo>
                    <a:lnTo>
                      <a:pt x="588" y="0"/>
                    </a:lnTo>
                    <a:lnTo>
                      <a:pt x="470" y="0"/>
                    </a:lnTo>
                    <a:lnTo>
                      <a:pt x="468" y="58"/>
                    </a:lnTo>
                    <a:lnTo>
                      <a:pt x="457" y="57"/>
                    </a:lnTo>
                    <a:lnTo>
                      <a:pt x="457" y="81"/>
                    </a:lnTo>
                    <a:lnTo>
                      <a:pt x="467" y="80"/>
                    </a:lnTo>
                    <a:lnTo>
                      <a:pt x="444" y="682"/>
                    </a:lnTo>
                    <a:lnTo>
                      <a:pt x="428" y="682"/>
                    </a:lnTo>
                    <a:lnTo>
                      <a:pt x="404" y="213"/>
                    </a:lnTo>
                    <a:lnTo>
                      <a:pt x="400" y="122"/>
                    </a:lnTo>
                    <a:lnTo>
                      <a:pt x="399" y="141"/>
                    </a:lnTo>
                    <a:lnTo>
                      <a:pt x="396" y="67"/>
                    </a:lnTo>
                    <a:lnTo>
                      <a:pt x="405" y="66"/>
                    </a:lnTo>
                    <a:lnTo>
                      <a:pt x="396" y="66"/>
                    </a:lnTo>
                    <a:lnTo>
                      <a:pt x="394" y="38"/>
                    </a:lnTo>
                    <a:lnTo>
                      <a:pt x="400" y="38"/>
                    </a:lnTo>
                    <a:lnTo>
                      <a:pt x="405" y="0"/>
                    </a:lnTo>
                    <a:lnTo>
                      <a:pt x="287" y="0"/>
                    </a:lnTo>
                    <a:lnTo>
                      <a:pt x="285" y="58"/>
                    </a:lnTo>
                    <a:lnTo>
                      <a:pt x="268" y="57"/>
                    </a:lnTo>
                    <a:lnTo>
                      <a:pt x="268" y="81"/>
                    </a:lnTo>
                    <a:lnTo>
                      <a:pt x="284" y="79"/>
                    </a:lnTo>
                    <a:lnTo>
                      <a:pt x="270" y="435"/>
                    </a:lnTo>
                    <a:lnTo>
                      <a:pt x="254" y="682"/>
                    </a:lnTo>
                    <a:lnTo>
                      <a:pt x="164" y="682"/>
                    </a:lnTo>
                    <a:lnTo>
                      <a:pt x="164" y="602"/>
                    </a:lnTo>
                    <a:lnTo>
                      <a:pt x="223" y="602"/>
                    </a:lnTo>
                    <a:lnTo>
                      <a:pt x="223" y="352"/>
                    </a:lnTo>
                    <a:lnTo>
                      <a:pt x="0" y="352"/>
                    </a:lnTo>
                    <a:lnTo>
                      <a:pt x="76" y="715"/>
                    </a:lnTo>
                    <a:lnTo>
                      <a:pt x="76" y="602"/>
                    </a:lnTo>
                    <a:lnTo>
                      <a:pt x="138" y="602"/>
                    </a:lnTo>
                    <a:lnTo>
                      <a:pt x="138" y="682"/>
                    </a:lnTo>
                    <a:lnTo>
                      <a:pt x="119" y="682"/>
                    </a:lnTo>
                    <a:lnTo>
                      <a:pt x="119" y="693"/>
                    </a:lnTo>
                    <a:lnTo>
                      <a:pt x="253" y="693"/>
                    </a:lnTo>
                    <a:lnTo>
                      <a:pt x="252" y="711"/>
                    </a:lnTo>
                    <a:lnTo>
                      <a:pt x="123" y="711"/>
                    </a:lnTo>
                    <a:lnTo>
                      <a:pt x="123" y="743"/>
                    </a:lnTo>
                    <a:lnTo>
                      <a:pt x="150" y="743"/>
                    </a:lnTo>
                    <a:lnTo>
                      <a:pt x="150" y="913"/>
                    </a:lnTo>
                    <a:lnTo>
                      <a:pt x="119" y="913"/>
                    </a:lnTo>
                    <a:lnTo>
                      <a:pt x="126" y="945"/>
                    </a:lnTo>
                    <a:lnTo>
                      <a:pt x="150" y="945"/>
                    </a:lnTo>
                    <a:lnTo>
                      <a:pt x="150" y="1007"/>
                    </a:lnTo>
                    <a:lnTo>
                      <a:pt x="139" y="1007"/>
                    </a:lnTo>
                    <a:lnTo>
                      <a:pt x="148" y="1052"/>
                    </a:lnTo>
                    <a:lnTo>
                      <a:pt x="1307" y="1021"/>
                    </a:lnTo>
                    <a:lnTo>
                      <a:pt x="657" y="1013"/>
                    </a:lnTo>
                    <a:lnTo>
                      <a:pt x="657" y="972"/>
                    </a:lnTo>
                    <a:lnTo>
                      <a:pt x="663" y="972"/>
                    </a:lnTo>
                    <a:lnTo>
                      <a:pt x="663" y="981"/>
                    </a:lnTo>
                    <a:lnTo>
                      <a:pt x="675" y="981"/>
                    </a:lnTo>
                    <a:lnTo>
                      <a:pt x="675" y="984"/>
                    </a:lnTo>
                    <a:lnTo>
                      <a:pt x="725" y="984"/>
                    </a:lnTo>
                    <a:lnTo>
                      <a:pt x="725" y="976"/>
                    </a:lnTo>
                    <a:lnTo>
                      <a:pt x="936" y="976"/>
                    </a:lnTo>
                    <a:lnTo>
                      <a:pt x="936" y="978"/>
                    </a:lnTo>
                    <a:lnTo>
                      <a:pt x="1490" y="978"/>
                    </a:lnTo>
                    <a:lnTo>
                      <a:pt x="1604" y="741"/>
                    </a:lnTo>
                    <a:lnTo>
                      <a:pt x="1604" y="589"/>
                    </a:lnTo>
                    <a:close/>
                  </a:path>
                </a:pathLst>
              </a:custGeom>
              <a:solidFill>
                <a:srgbClr val="afd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341960" y="20494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4" y="18"/>
                    </a:moveTo>
                    <a:lnTo>
                      <a:pt x="1" y="18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afd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104080" y="1363680"/>
                <a:ext cx="17280" cy="16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0"/>
                    </a:moveTo>
                    <a:lnTo>
                      <a:pt x="20" y="2"/>
                    </a:lnTo>
                    <a:lnTo>
                      <a:pt x="17" y="6"/>
                    </a:lnTo>
                    <a:lnTo>
                      <a:pt x="10" y="13"/>
                    </a:lnTo>
                    <a:lnTo>
                      <a:pt x="0" y="22"/>
                    </a:lnTo>
                    <a:lnTo>
                      <a:pt x="11" y="13"/>
                    </a:lnTo>
                    <a:lnTo>
                      <a:pt x="18" y="6"/>
                    </a:lnTo>
                    <a:lnTo>
                      <a:pt x="20" y="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afd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243320" y="1380960"/>
                <a:ext cx="860760" cy="98280"/>
              </a:xfrm>
              <a:custGeom>
                <a:avLst/>
                <a:gdLst/>
                <a:ahLst/>
                <a:rect l="l" t="t" r="r" b="b"/>
                <a:pathLst>
                  <a:path w="1085" h="125">
                    <a:moveTo>
                      <a:pt x="107" y="21"/>
                    </a:moveTo>
                    <a:lnTo>
                      <a:pt x="76" y="26"/>
                    </a:lnTo>
                    <a:lnTo>
                      <a:pt x="50" y="33"/>
                    </a:lnTo>
                    <a:lnTo>
                      <a:pt x="31" y="40"/>
                    </a:lnTo>
                    <a:lnTo>
                      <a:pt x="17" y="46"/>
                    </a:lnTo>
                    <a:lnTo>
                      <a:pt x="6" y="56"/>
                    </a:lnTo>
                    <a:lnTo>
                      <a:pt x="2" y="64"/>
                    </a:lnTo>
                    <a:lnTo>
                      <a:pt x="0" y="73"/>
                    </a:lnTo>
                    <a:lnTo>
                      <a:pt x="0" y="81"/>
                    </a:lnTo>
                    <a:lnTo>
                      <a:pt x="3" y="90"/>
                    </a:lnTo>
                    <a:lnTo>
                      <a:pt x="8" y="98"/>
                    </a:lnTo>
                    <a:lnTo>
                      <a:pt x="12" y="105"/>
                    </a:lnTo>
                    <a:lnTo>
                      <a:pt x="18" y="112"/>
                    </a:lnTo>
                    <a:lnTo>
                      <a:pt x="24" y="117"/>
                    </a:lnTo>
                    <a:lnTo>
                      <a:pt x="28" y="121"/>
                    </a:lnTo>
                    <a:lnTo>
                      <a:pt x="32" y="124"/>
                    </a:lnTo>
                    <a:lnTo>
                      <a:pt x="33" y="125"/>
                    </a:lnTo>
                    <a:lnTo>
                      <a:pt x="32" y="124"/>
                    </a:lnTo>
                    <a:lnTo>
                      <a:pt x="31" y="122"/>
                    </a:lnTo>
                    <a:lnTo>
                      <a:pt x="30" y="119"/>
                    </a:lnTo>
                    <a:lnTo>
                      <a:pt x="27" y="116"/>
                    </a:lnTo>
                    <a:lnTo>
                      <a:pt x="26" y="110"/>
                    </a:lnTo>
                    <a:lnTo>
                      <a:pt x="25" y="105"/>
                    </a:lnTo>
                    <a:lnTo>
                      <a:pt x="26" y="98"/>
                    </a:lnTo>
                    <a:lnTo>
                      <a:pt x="28" y="93"/>
                    </a:lnTo>
                    <a:lnTo>
                      <a:pt x="33" y="86"/>
                    </a:lnTo>
                    <a:lnTo>
                      <a:pt x="40" y="79"/>
                    </a:lnTo>
                    <a:lnTo>
                      <a:pt x="50" y="72"/>
                    </a:lnTo>
                    <a:lnTo>
                      <a:pt x="64" y="66"/>
                    </a:lnTo>
                    <a:lnTo>
                      <a:pt x="81" y="59"/>
                    </a:lnTo>
                    <a:lnTo>
                      <a:pt x="103" y="53"/>
                    </a:lnTo>
                    <a:lnTo>
                      <a:pt x="130" y="49"/>
                    </a:lnTo>
                    <a:lnTo>
                      <a:pt x="162" y="44"/>
                    </a:lnTo>
                    <a:lnTo>
                      <a:pt x="199" y="42"/>
                    </a:lnTo>
                    <a:lnTo>
                      <a:pt x="237" y="41"/>
                    </a:lnTo>
                    <a:lnTo>
                      <a:pt x="276" y="42"/>
                    </a:lnTo>
                    <a:lnTo>
                      <a:pt x="317" y="45"/>
                    </a:lnTo>
                    <a:lnTo>
                      <a:pt x="359" y="49"/>
                    </a:lnTo>
                    <a:lnTo>
                      <a:pt x="402" y="53"/>
                    </a:lnTo>
                    <a:lnTo>
                      <a:pt x="444" y="59"/>
                    </a:lnTo>
                    <a:lnTo>
                      <a:pt x="487" y="65"/>
                    </a:lnTo>
                    <a:lnTo>
                      <a:pt x="529" y="72"/>
                    </a:lnTo>
                    <a:lnTo>
                      <a:pt x="571" y="78"/>
                    </a:lnTo>
                    <a:lnTo>
                      <a:pt x="612" y="83"/>
                    </a:lnTo>
                    <a:lnTo>
                      <a:pt x="653" y="88"/>
                    </a:lnTo>
                    <a:lnTo>
                      <a:pt x="691" y="91"/>
                    </a:lnTo>
                    <a:lnTo>
                      <a:pt x="726" y="94"/>
                    </a:lnTo>
                    <a:lnTo>
                      <a:pt x="761" y="95"/>
                    </a:lnTo>
                    <a:lnTo>
                      <a:pt x="793" y="94"/>
                    </a:lnTo>
                    <a:lnTo>
                      <a:pt x="824" y="91"/>
                    </a:lnTo>
                    <a:lnTo>
                      <a:pt x="853" y="87"/>
                    </a:lnTo>
                    <a:lnTo>
                      <a:pt x="881" y="83"/>
                    </a:lnTo>
                    <a:lnTo>
                      <a:pt x="906" y="78"/>
                    </a:lnTo>
                    <a:lnTo>
                      <a:pt x="929" y="73"/>
                    </a:lnTo>
                    <a:lnTo>
                      <a:pt x="951" y="66"/>
                    </a:lnTo>
                    <a:lnTo>
                      <a:pt x="971" y="60"/>
                    </a:lnTo>
                    <a:lnTo>
                      <a:pt x="989" y="53"/>
                    </a:lnTo>
                    <a:lnTo>
                      <a:pt x="1006" y="46"/>
                    </a:lnTo>
                    <a:lnTo>
                      <a:pt x="1021" y="40"/>
                    </a:lnTo>
                    <a:lnTo>
                      <a:pt x="1035" y="33"/>
                    </a:lnTo>
                    <a:lnTo>
                      <a:pt x="1048" y="26"/>
                    </a:lnTo>
                    <a:lnTo>
                      <a:pt x="1059" y="19"/>
                    </a:lnTo>
                    <a:lnTo>
                      <a:pt x="1068" y="12"/>
                    </a:lnTo>
                    <a:lnTo>
                      <a:pt x="1078" y="6"/>
                    </a:lnTo>
                    <a:lnTo>
                      <a:pt x="1085" y="0"/>
                    </a:lnTo>
                    <a:lnTo>
                      <a:pt x="1078" y="5"/>
                    </a:lnTo>
                    <a:lnTo>
                      <a:pt x="1070" y="10"/>
                    </a:lnTo>
                    <a:lnTo>
                      <a:pt x="1059" y="14"/>
                    </a:lnTo>
                    <a:lnTo>
                      <a:pt x="1049" y="19"/>
                    </a:lnTo>
                    <a:lnTo>
                      <a:pt x="1036" y="25"/>
                    </a:lnTo>
                    <a:lnTo>
                      <a:pt x="1021" y="29"/>
                    </a:lnTo>
                    <a:lnTo>
                      <a:pt x="1005" y="34"/>
                    </a:lnTo>
                    <a:lnTo>
                      <a:pt x="988" y="38"/>
                    </a:lnTo>
                    <a:lnTo>
                      <a:pt x="967" y="44"/>
                    </a:lnTo>
                    <a:lnTo>
                      <a:pt x="945" y="49"/>
                    </a:lnTo>
                    <a:lnTo>
                      <a:pt x="921" y="53"/>
                    </a:lnTo>
                    <a:lnTo>
                      <a:pt x="895" y="57"/>
                    </a:lnTo>
                    <a:lnTo>
                      <a:pt x="865" y="61"/>
                    </a:lnTo>
                    <a:lnTo>
                      <a:pt x="833" y="65"/>
                    </a:lnTo>
                    <a:lnTo>
                      <a:pt x="799" y="68"/>
                    </a:lnTo>
                    <a:lnTo>
                      <a:pt x="762" y="71"/>
                    </a:lnTo>
                    <a:lnTo>
                      <a:pt x="730" y="72"/>
                    </a:lnTo>
                    <a:lnTo>
                      <a:pt x="695" y="71"/>
                    </a:lnTo>
                    <a:lnTo>
                      <a:pt x="657" y="68"/>
                    </a:lnTo>
                    <a:lnTo>
                      <a:pt x="619" y="64"/>
                    </a:lnTo>
                    <a:lnTo>
                      <a:pt x="578" y="59"/>
                    </a:lnTo>
                    <a:lnTo>
                      <a:pt x="536" y="53"/>
                    </a:lnTo>
                    <a:lnTo>
                      <a:pt x="494" y="46"/>
                    </a:lnTo>
                    <a:lnTo>
                      <a:pt x="450" y="41"/>
                    </a:lnTo>
                    <a:lnTo>
                      <a:pt x="406" y="35"/>
                    </a:lnTo>
                    <a:lnTo>
                      <a:pt x="361" y="29"/>
                    </a:lnTo>
                    <a:lnTo>
                      <a:pt x="317" y="23"/>
                    </a:lnTo>
                    <a:lnTo>
                      <a:pt x="274" y="20"/>
                    </a:lnTo>
                    <a:lnTo>
                      <a:pt x="230" y="18"/>
                    </a:lnTo>
                    <a:lnTo>
                      <a:pt x="187" y="16"/>
                    </a:lnTo>
                    <a:lnTo>
                      <a:pt x="146" y="18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fd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214880" y="1220760"/>
                <a:ext cx="677880" cy="209160"/>
              </a:xfrm>
              <a:custGeom>
                <a:avLst/>
                <a:gdLst/>
                <a:ahLst/>
                <a:rect l="l" t="t" r="r" b="b"/>
                <a:pathLst>
                  <a:path w="855" h="263">
                    <a:moveTo>
                      <a:pt x="13" y="216"/>
                    </a:moveTo>
                    <a:lnTo>
                      <a:pt x="18" y="203"/>
                    </a:lnTo>
                    <a:lnTo>
                      <a:pt x="25" y="191"/>
                    </a:lnTo>
                    <a:lnTo>
                      <a:pt x="33" y="181"/>
                    </a:lnTo>
                    <a:lnTo>
                      <a:pt x="44" y="172"/>
                    </a:lnTo>
                    <a:lnTo>
                      <a:pt x="55" y="165"/>
                    </a:lnTo>
                    <a:lnTo>
                      <a:pt x="68" y="159"/>
                    </a:lnTo>
                    <a:lnTo>
                      <a:pt x="82" y="155"/>
                    </a:lnTo>
                    <a:lnTo>
                      <a:pt x="95" y="153"/>
                    </a:lnTo>
                    <a:lnTo>
                      <a:pt x="97" y="145"/>
                    </a:lnTo>
                    <a:lnTo>
                      <a:pt x="98" y="137"/>
                    </a:lnTo>
                    <a:lnTo>
                      <a:pt x="99" y="130"/>
                    </a:lnTo>
                    <a:lnTo>
                      <a:pt x="101" y="122"/>
                    </a:lnTo>
                    <a:lnTo>
                      <a:pt x="106" y="108"/>
                    </a:lnTo>
                    <a:lnTo>
                      <a:pt x="113" y="94"/>
                    </a:lnTo>
                    <a:lnTo>
                      <a:pt x="121" y="83"/>
                    </a:lnTo>
                    <a:lnTo>
                      <a:pt x="131" y="72"/>
                    </a:lnTo>
                    <a:lnTo>
                      <a:pt x="142" y="64"/>
                    </a:lnTo>
                    <a:lnTo>
                      <a:pt x="153" y="56"/>
                    </a:lnTo>
                    <a:lnTo>
                      <a:pt x="167" y="51"/>
                    </a:lnTo>
                    <a:lnTo>
                      <a:pt x="181" y="46"/>
                    </a:lnTo>
                    <a:lnTo>
                      <a:pt x="195" y="42"/>
                    </a:lnTo>
                    <a:lnTo>
                      <a:pt x="211" y="41"/>
                    </a:lnTo>
                    <a:lnTo>
                      <a:pt x="227" y="41"/>
                    </a:lnTo>
                    <a:lnTo>
                      <a:pt x="243" y="42"/>
                    </a:lnTo>
                    <a:lnTo>
                      <a:pt x="260" y="45"/>
                    </a:lnTo>
                    <a:lnTo>
                      <a:pt x="277" y="51"/>
                    </a:lnTo>
                    <a:lnTo>
                      <a:pt x="295" y="56"/>
                    </a:lnTo>
                    <a:lnTo>
                      <a:pt x="312" y="64"/>
                    </a:lnTo>
                    <a:lnTo>
                      <a:pt x="328" y="72"/>
                    </a:lnTo>
                    <a:lnTo>
                      <a:pt x="342" y="82"/>
                    </a:lnTo>
                    <a:lnTo>
                      <a:pt x="357" y="92"/>
                    </a:lnTo>
                    <a:lnTo>
                      <a:pt x="370" y="104"/>
                    </a:lnTo>
                    <a:lnTo>
                      <a:pt x="381" y="116"/>
                    </a:lnTo>
                    <a:lnTo>
                      <a:pt x="393" y="129"/>
                    </a:lnTo>
                    <a:lnTo>
                      <a:pt x="403" y="142"/>
                    </a:lnTo>
                    <a:lnTo>
                      <a:pt x="412" y="155"/>
                    </a:lnTo>
                    <a:lnTo>
                      <a:pt x="423" y="151"/>
                    </a:lnTo>
                    <a:lnTo>
                      <a:pt x="433" y="147"/>
                    </a:lnTo>
                    <a:lnTo>
                      <a:pt x="446" y="145"/>
                    </a:lnTo>
                    <a:lnTo>
                      <a:pt x="457" y="144"/>
                    </a:lnTo>
                    <a:lnTo>
                      <a:pt x="470" y="144"/>
                    </a:lnTo>
                    <a:lnTo>
                      <a:pt x="482" y="145"/>
                    </a:lnTo>
                    <a:lnTo>
                      <a:pt x="495" y="147"/>
                    </a:lnTo>
                    <a:lnTo>
                      <a:pt x="509" y="152"/>
                    </a:lnTo>
                    <a:lnTo>
                      <a:pt x="509" y="143"/>
                    </a:lnTo>
                    <a:lnTo>
                      <a:pt x="510" y="135"/>
                    </a:lnTo>
                    <a:lnTo>
                      <a:pt x="511" y="125"/>
                    </a:lnTo>
                    <a:lnTo>
                      <a:pt x="514" y="117"/>
                    </a:lnTo>
                    <a:lnTo>
                      <a:pt x="519" y="102"/>
                    </a:lnTo>
                    <a:lnTo>
                      <a:pt x="526" y="90"/>
                    </a:lnTo>
                    <a:lnTo>
                      <a:pt x="534" y="78"/>
                    </a:lnTo>
                    <a:lnTo>
                      <a:pt x="545" y="67"/>
                    </a:lnTo>
                    <a:lnTo>
                      <a:pt x="555" y="57"/>
                    </a:lnTo>
                    <a:lnTo>
                      <a:pt x="568" y="51"/>
                    </a:lnTo>
                    <a:lnTo>
                      <a:pt x="580" y="44"/>
                    </a:lnTo>
                    <a:lnTo>
                      <a:pt x="595" y="39"/>
                    </a:lnTo>
                    <a:lnTo>
                      <a:pt x="610" y="36"/>
                    </a:lnTo>
                    <a:lnTo>
                      <a:pt x="626" y="34"/>
                    </a:lnTo>
                    <a:lnTo>
                      <a:pt x="643" y="33"/>
                    </a:lnTo>
                    <a:lnTo>
                      <a:pt x="660" y="36"/>
                    </a:lnTo>
                    <a:lnTo>
                      <a:pt x="677" y="38"/>
                    </a:lnTo>
                    <a:lnTo>
                      <a:pt x="694" y="42"/>
                    </a:lnTo>
                    <a:lnTo>
                      <a:pt x="712" y="49"/>
                    </a:lnTo>
                    <a:lnTo>
                      <a:pt x="730" y="57"/>
                    </a:lnTo>
                    <a:lnTo>
                      <a:pt x="752" y="70"/>
                    </a:lnTo>
                    <a:lnTo>
                      <a:pt x="772" y="84"/>
                    </a:lnTo>
                    <a:lnTo>
                      <a:pt x="790" y="99"/>
                    </a:lnTo>
                    <a:lnTo>
                      <a:pt x="806" y="115"/>
                    </a:lnTo>
                    <a:lnTo>
                      <a:pt x="821" y="134"/>
                    </a:lnTo>
                    <a:lnTo>
                      <a:pt x="835" y="152"/>
                    </a:lnTo>
                    <a:lnTo>
                      <a:pt x="845" y="172"/>
                    </a:lnTo>
                    <a:lnTo>
                      <a:pt x="855" y="191"/>
                    </a:lnTo>
                    <a:lnTo>
                      <a:pt x="848" y="167"/>
                    </a:lnTo>
                    <a:lnTo>
                      <a:pt x="838" y="143"/>
                    </a:lnTo>
                    <a:lnTo>
                      <a:pt x="826" y="120"/>
                    </a:lnTo>
                    <a:lnTo>
                      <a:pt x="810" y="97"/>
                    </a:lnTo>
                    <a:lnTo>
                      <a:pt x="791" y="76"/>
                    </a:lnTo>
                    <a:lnTo>
                      <a:pt x="769" y="56"/>
                    </a:lnTo>
                    <a:lnTo>
                      <a:pt x="746" y="39"/>
                    </a:lnTo>
                    <a:lnTo>
                      <a:pt x="721" y="24"/>
                    </a:lnTo>
                    <a:lnTo>
                      <a:pt x="702" y="16"/>
                    </a:lnTo>
                    <a:lnTo>
                      <a:pt x="685" y="9"/>
                    </a:lnTo>
                    <a:lnTo>
                      <a:pt x="667" y="4"/>
                    </a:lnTo>
                    <a:lnTo>
                      <a:pt x="649" y="1"/>
                    </a:lnTo>
                    <a:lnTo>
                      <a:pt x="632" y="0"/>
                    </a:lnTo>
                    <a:lnTo>
                      <a:pt x="616" y="0"/>
                    </a:lnTo>
                    <a:lnTo>
                      <a:pt x="600" y="2"/>
                    </a:lnTo>
                    <a:lnTo>
                      <a:pt x="585" y="6"/>
                    </a:lnTo>
                    <a:lnTo>
                      <a:pt x="571" y="10"/>
                    </a:lnTo>
                    <a:lnTo>
                      <a:pt x="557" y="16"/>
                    </a:lnTo>
                    <a:lnTo>
                      <a:pt x="546" y="24"/>
                    </a:lnTo>
                    <a:lnTo>
                      <a:pt x="534" y="33"/>
                    </a:lnTo>
                    <a:lnTo>
                      <a:pt x="525" y="44"/>
                    </a:lnTo>
                    <a:lnTo>
                      <a:pt x="516" y="56"/>
                    </a:lnTo>
                    <a:lnTo>
                      <a:pt x="509" y="69"/>
                    </a:lnTo>
                    <a:lnTo>
                      <a:pt x="504" y="84"/>
                    </a:lnTo>
                    <a:lnTo>
                      <a:pt x="503" y="92"/>
                    </a:lnTo>
                    <a:lnTo>
                      <a:pt x="502" y="101"/>
                    </a:lnTo>
                    <a:lnTo>
                      <a:pt x="501" y="109"/>
                    </a:lnTo>
                    <a:lnTo>
                      <a:pt x="500" y="119"/>
                    </a:lnTo>
                    <a:lnTo>
                      <a:pt x="486" y="114"/>
                    </a:lnTo>
                    <a:lnTo>
                      <a:pt x="473" y="112"/>
                    </a:lnTo>
                    <a:lnTo>
                      <a:pt x="461" y="110"/>
                    </a:lnTo>
                    <a:lnTo>
                      <a:pt x="448" y="110"/>
                    </a:lnTo>
                    <a:lnTo>
                      <a:pt x="436" y="112"/>
                    </a:lnTo>
                    <a:lnTo>
                      <a:pt x="424" y="114"/>
                    </a:lnTo>
                    <a:lnTo>
                      <a:pt x="413" y="117"/>
                    </a:lnTo>
                    <a:lnTo>
                      <a:pt x="403" y="122"/>
                    </a:lnTo>
                    <a:lnTo>
                      <a:pt x="394" y="108"/>
                    </a:lnTo>
                    <a:lnTo>
                      <a:pt x="383" y="94"/>
                    </a:lnTo>
                    <a:lnTo>
                      <a:pt x="372" y="82"/>
                    </a:lnTo>
                    <a:lnTo>
                      <a:pt x="360" y="70"/>
                    </a:lnTo>
                    <a:lnTo>
                      <a:pt x="347" y="59"/>
                    </a:lnTo>
                    <a:lnTo>
                      <a:pt x="333" y="48"/>
                    </a:lnTo>
                    <a:lnTo>
                      <a:pt x="318" y="39"/>
                    </a:lnTo>
                    <a:lnTo>
                      <a:pt x="303" y="30"/>
                    </a:lnTo>
                    <a:lnTo>
                      <a:pt x="286" y="22"/>
                    </a:lnTo>
                    <a:lnTo>
                      <a:pt x="267" y="16"/>
                    </a:lnTo>
                    <a:lnTo>
                      <a:pt x="250" y="11"/>
                    </a:lnTo>
                    <a:lnTo>
                      <a:pt x="233" y="8"/>
                    </a:lnTo>
                    <a:lnTo>
                      <a:pt x="216" y="7"/>
                    </a:lnTo>
                    <a:lnTo>
                      <a:pt x="200" y="7"/>
                    </a:lnTo>
                    <a:lnTo>
                      <a:pt x="185" y="8"/>
                    </a:lnTo>
                    <a:lnTo>
                      <a:pt x="170" y="11"/>
                    </a:lnTo>
                    <a:lnTo>
                      <a:pt x="156" y="16"/>
                    </a:lnTo>
                    <a:lnTo>
                      <a:pt x="143" y="23"/>
                    </a:lnTo>
                    <a:lnTo>
                      <a:pt x="131" y="30"/>
                    </a:lnTo>
                    <a:lnTo>
                      <a:pt x="121" y="39"/>
                    </a:lnTo>
                    <a:lnTo>
                      <a:pt x="110" y="49"/>
                    </a:lnTo>
                    <a:lnTo>
                      <a:pt x="102" y="61"/>
                    </a:lnTo>
                    <a:lnTo>
                      <a:pt x="95" y="75"/>
                    </a:lnTo>
                    <a:lnTo>
                      <a:pt x="91" y="89"/>
                    </a:lnTo>
                    <a:lnTo>
                      <a:pt x="90" y="97"/>
                    </a:lnTo>
                    <a:lnTo>
                      <a:pt x="87" y="104"/>
                    </a:lnTo>
                    <a:lnTo>
                      <a:pt x="86" y="112"/>
                    </a:lnTo>
                    <a:lnTo>
                      <a:pt x="86" y="120"/>
                    </a:lnTo>
                    <a:lnTo>
                      <a:pt x="71" y="122"/>
                    </a:lnTo>
                    <a:lnTo>
                      <a:pt x="57" y="125"/>
                    </a:lnTo>
                    <a:lnTo>
                      <a:pt x="45" y="131"/>
                    </a:lnTo>
                    <a:lnTo>
                      <a:pt x="33" y="138"/>
                    </a:lnTo>
                    <a:lnTo>
                      <a:pt x="24" y="146"/>
                    </a:lnTo>
                    <a:lnTo>
                      <a:pt x="15" y="157"/>
                    </a:lnTo>
                    <a:lnTo>
                      <a:pt x="8" y="169"/>
                    </a:lnTo>
                    <a:lnTo>
                      <a:pt x="3" y="182"/>
                    </a:lnTo>
                    <a:lnTo>
                      <a:pt x="0" y="201"/>
                    </a:lnTo>
                    <a:lnTo>
                      <a:pt x="0" y="222"/>
                    </a:lnTo>
                    <a:lnTo>
                      <a:pt x="3" y="242"/>
                    </a:lnTo>
                    <a:lnTo>
                      <a:pt x="10" y="263"/>
                    </a:lnTo>
                    <a:lnTo>
                      <a:pt x="9" y="251"/>
                    </a:lnTo>
                    <a:lnTo>
                      <a:pt x="9" y="240"/>
                    </a:lnTo>
                    <a:lnTo>
                      <a:pt x="10" y="228"/>
                    </a:lnTo>
                    <a:lnTo>
                      <a:pt x="13" y="216"/>
                    </a:lnTo>
                    <a:close/>
                  </a:path>
                </a:pathLst>
              </a:custGeom>
              <a:solidFill>
                <a:srgbClr val="afd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08680" y="2343240"/>
                <a:ext cx="144360" cy="7560"/>
              </a:xfrm>
              <a:custGeom>
                <a:avLst/>
                <a:gdLst/>
                <a:ahLst/>
                <a:rect l="l" t="t" r="r" b="b"/>
                <a:pathLst>
                  <a:path w="182" h="11">
                    <a:moveTo>
                      <a:pt x="0" y="11"/>
                    </a:moveTo>
                    <a:lnTo>
                      <a:pt x="176" y="11"/>
                    </a:lnTo>
                    <a:lnTo>
                      <a:pt x="18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fd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6600" y="1479600"/>
                <a:ext cx="1209600" cy="802800"/>
              </a:xfrm>
              <a:custGeom>
                <a:avLst/>
                <a:gdLst/>
                <a:ahLst/>
                <a:rect l="l" t="t" r="r" b="b"/>
                <a:pathLst>
                  <a:path w="1523" h="1013">
                    <a:moveTo>
                      <a:pt x="137" y="6"/>
                    </a:moveTo>
                    <a:lnTo>
                      <a:pt x="231" y="6"/>
                    </a:lnTo>
                    <a:lnTo>
                      <a:pt x="247" y="707"/>
                    </a:lnTo>
                    <a:lnTo>
                      <a:pt x="284" y="707"/>
                    </a:lnTo>
                    <a:lnTo>
                      <a:pt x="327" y="0"/>
                    </a:lnTo>
                    <a:lnTo>
                      <a:pt x="411" y="6"/>
                    </a:lnTo>
                    <a:lnTo>
                      <a:pt x="443" y="580"/>
                    </a:lnTo>
                    <a:lnTo>
                      <a:pt x="1434" y="565"/>
                    </a:lnTo>
                    <a:lnTo>
                      <a:pt x="1434" y="765"/>
                    </a:lnTo>
                    <a:lnTo>
                      <a:pt x="1523" y="759"/>
                    </a:lnTo>
                    <a:lnTo>
                      <a:pt x="1523" y="965"/>
                    </a:lnTo>
                    <a:lnTo>
                      <a:pt x="596" y="965"/>
                    </a:lnTo>
                    <a:lnTo>
                      <a:pt x="596" y="1013"/>
                    </a:lnTo>
                    <a:lnTo>
                      <a:pt x="0" y="1013"/>
                    </a:lnTo>
                    <a:lnTo>
                      <a:pt x="0" y="723"/>
                    </a:lnTo>
                    <a:lnTo>
                      <a:pt x="89" y="723"/>
                    </a:lnTo>
                    <a:lnTo>
                      <a:pt x="13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205520" y="1484280"/>
                <a:ext cx="87120" cy="556920"/>
              </a:xfrm>
              <a:custGeom>
                <a:avLst/>
                <a:gdLst/>
                <a:ahLst/>
                <a:rect l="l" t="t" r="r" b="b"/>
                <a:pathLst>
                  <a:path w="111" h="701">
                    <a:moveTo>
                      <a:pt x="111" y="701"/>
                    </a:moveTo>
                    <a:lnTo>
                      <a:pt x="0" y="701"/>
                    </a:lnTo>
                    <a:lnTo>
                      <a:pt x="37" y="4"/>
                    </a:lnTo>
                    <a:lnTo>
                      <a:pt x="100" y="0"/>
                    </a:lnTo>
                    <a:lnTo>
                      <a:pt x="111" y="7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24520" y="2054160"/>
                <a:ext cx="353880" cy="28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519800" y="1939680"/>
                <a:ext cx="734760" cy="31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71920" y="1931760"/>
                <a:ext cx="782640" cy="3312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15120" y="2068560"/>
                <a:ext cx="45720" cy="18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267440" y="1492200"/>
                <a:ext cx="61920" cy="556920"/>
              </a:xfrm>
              <a:custGeom>
                <a:avLst/>
                <a:gdLst/>
                <a:ahLst/>
                <a:rect l="l" t="t" r="r" b="b"/>
                <a:pathLst>
                  <a:path w="78" h="703">
                    <a:moveTo>
                      <a:pt x="0" y="6"/>
                    </a:moveTo>
                    <a:lnTo>
                      <a:pt x="10" y="703"/>
                    </a:lnTo>
                    <a:lnTo>
                      <a:pt x="78" y="703"/>
                    </a:lnTo>
                    <a:lnTo>
                      <a:pt x="4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351320" y="1484280"/>
                <a:ext cx="88920" cy="556920"/>
              </a:xfrm>
              <a:custGeom>
                <a:avLst/>
                <a:gdLst/>
                <a:ahLst/>
                <a:rect l="l" t="t" r="r" b="b"/>
                <a:pathLst>
                  <a:path w="112" h="701">
                    <a:moveTo>
                      <a:pt x="112" y="701"/>
                    </a:moveTo>
                    <a:lnTo>
                      <a:pt x="0" y="701"/>
                    </a:lnTo>
                    <a:lnTo>
                      <a:pt x="37" y="4"/>
                    </a:lnTo>
                    <a:lnTo>
                      <a:pt x="101" y="0"/>
                    </a:lnTo>
                    <a:lnTo>
                      <a:pt x="112" y="7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413240" y="1492200"/>
                <a:ext cx="63720" cy="556920"/>
              </a:xfrm>
              <a:custGeom>
                <a:avLst/>
                <a:gdLst/>
                <a:ahLst/>
                <a:rect l="l" t="t" r="r" b="b"/>
                <a:pathLst>
                  <a:path w="79" h="703">
                    <a:moveTo>
                      <a:pt x="0" y="6"/>
                    </a:moveTo>
                    <a:lnTo>
                      <a:pt x="10" y="703"/>
                    </a:lnTo>
                    <a:lnTo>
                      <a:pt x="79" y="703"/>
                    </a:lnTo>
                    <a:lnTo>
                      <a:pt x="4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194360" y="1474560"/>
                <a:ext cx="115920" cy="587160"/>
              </a:xfrm>
              <a:custGeom>
                <a:avLst/>
                <a:gdLst/>
                <a:ahLst/>
                <a:rect l="l" t="t" r="r" b="b"/>
                <a:pathLst>
                  <a:path w="147" h="740">
                    <a:moveTo>
                      <a:pt x="0" y="740"/>
                    </a:moveTo>
                    <a:lnTo>
                      <a:pt x="29" y="0"/>
                    </a:lnTo>
                    <a:lnTo>
                      <a:pt x="147" y="0"/>
                    </a:lnTo>
                    <a:lnTo>
                      <a:pt x="142" y="38"/>
                    </a:lnTo>
                    <a:lnTo>
                      <a:pt x="63" y="43"/>
                    </a:lnTo>
                    <a:lnTo>
                      <a:pt x="25" y="740"/>
                    </a:lnTo>
                    <a:lnTo>
                      <a:pt x="0" y="7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340160" y="1474560"/>
                <a:ext cx="114480" cy="587160"/>
              </a:xfrm>
              <a:custGeom>
                <a:avLst/>
                <a:gdLst/>
                <a:ahLst/>
                <a:rect l="l" t="t" r="r" b="b"/>
                <a:pathLst>
                  <a:path w="145" h="740">
                    <a:moveTo>
                      <a:pt x="0" y="740"/>
                    </a:moveTo>
                    <a:lnTo>
                      <a:pt x="27" y="0"/>
                    </a:lnTo>
                    <a:lnTo>
                      <a:pt x="145" y="0"/>
                    </a:lnTo>
                    <a:lnTo>
                      <a:pt x="140" y="38"/>
                    </a:lnTo>
                    <a:lnTo>
                      <a:pt x="61" y="43"/>
                    </a:lnTo>
                    <a:lnTo>
                      <a:pt x="23" y="740"/>
                    </a:lnTo>
                    <a:lnTo>
                      <a:pt x="0" y="7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202280" y="1519200"/>
                <a:ext cx="108000" cy="18720"/>
              </a:xfrm>
              <a:custGeom>
                <a:avLst/>
                <a:gdLst/>
                <a:ahLst/>
                <a:rect l="l" t="t" r="r" b="b"/>
                <a:pathLst>
                  <a:path w="136" h="25">
                    <a:moveTo>
                      <a:pt x="0" y="0"/>
                    </a:moveTo>
                    <a:lnTo>
                      <a:pt x="0" y="25"/>
                    </a:lnTo>
                    <a:lnTo>
                      <a:pt x="136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75320" y="1687320"/>
                <a:ext cx="108000" cy="17280"/>
              </a:xfrm>
              <a:custGeom>
                <a:avLst/>
                <a:gdLst/>
                <a:ahLst/>
                <a:rect l="l" t="t" r="r" b="b"/>
                <a:pathLst>
                  <a:path w="137" h="23">
                    <a:moveTo>
                      <a:pt x="0" y="0"/>
                    </a:moveTo>
                    <a:lnTo>
                      <a:pt x="0" y="23"/>
                    </a:lnTo>
                    <a:lnTo>
                      <a:pt x="137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675320" y="1724040"/>
                <a:ext cx="108000" cy="18720"/>
              </a:xfrm>
              <a:custGeom>
                <a:avLst/>
                <a:gdLst/>
                <a:ahLst/>
                <a:rect l="l" t="t" r="r" b="b"/>
                <a:pathLst>
                  <a:path w="137" h="23">
                    <a:moveTo>
                      <a:pt x="0" y="0"/>
                    </a:moveTo>
                    <a:lnTo>
                      <a:pt x="0" y="23"/>
                    </a:lnTo>
                    <a:lnTo>
                      <a:pt x="13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75320" y="1762200"/>
                <a:ext cx="108000" cy="16920"/>
              </a:xfrm>
              <a:custGeom>
                <a:avLst/>
                <a:gdLst/>
                <a:ahLst/>
                <a:rect l="l" t="t" r="r" b="b"/>
                <a:pathLst>
                  <a:path w="137" h="23">
                    <a:moveTo>
                      <a:pt x="0" y="0"/>
                    </a:moveTo>
                    <a:lnTo>
                      <a:pt x="0" y="23"/>
                    </a:lnTo>
                    <a:lnTo>
                      <a:pt x="13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51320" y="1519200"/>
                <a:ext cx="108000" cy="18720"/>
              </a:xfrm>
              <a:custGeom>
                <a:avLst/>
                <a:gdLst/>
                <a:ahLst/>
                <a:rect l="l" t="t" r="r" b="b"/>
                <a:pathLst>
                  <a:path w="136" h="25">
                    <a:moveTo>
                      <a:pt x="0" y="0"/>
                    </a:moveTo>
                    <a:lnTo>
                      <a:pt x="0" y="25"/>
                    </a:lnTo>
                    <a:lnTo>
                      <a:pt x="136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99120" y="1573200"/>
                <a:ext cx="25200" cy="474120"/>
              </a:xfrm>
              <a:custGeom>
                <a:avLst/>
                <a:gdLst/>
                <a:ahLst/>
                <a:rect l="l" t="t" r="r" b="b"/>
                <a:pathLst>
                  <a:path w="32" h="598">
                    <a:moveTo>
                      <a:pt x="32" y="598"/>
                    </a:moveTo>
                    <a:lnTo>
                      <a:pt x="9" y="0"/>
                    </a:lnTo>
                    <a:lnTo>
                      <a:pt x="0" y="598"/>
                    </a:lnTo>
                    <a:lnTo>
                      <a:pt x="32" y="5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451400" y="1576440"/>
                <a:ext cx="30240" cy="470880"/>
              </a:xfrm>
              <a:custGeom>
                <a:avLst/>
                <a:gdLst/>
                <a:ahLst/>
                <a:rect l="l" t="t" r="r" b="b"/>
                <a:pathLst>
                  <a:path w="38" h="593">
                    <a:moveTo>
                      <a:pt x="38" y="593"/>
                    </a:moveTo>
                    <a:lnTo>
                      <a:pt x="0" y="0"/>
                    </a:lnTo>
                    <a:lnTo>
                      <a:pt x="5" y="593"/>
                    </a:lnTo>
                    <a:lnTo>
                      <a:pt x="38" y="5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467240" y="1920960"/>
                <a:ext cx="846360" cy="20160"/>
              </a:xfrm>
              <a:custGeom>
                <a:avLst/>
                <a:gdLst/>
                <a:ahLst/>
                <a:rect l="l" t="t" r="r" b="b"/>
                <a:pathLst>
                  <a:path w="1065" h="28">
                    <a:moveTo>
                      <a:pt x="1039" y="28"/>
                    </a:moveTo>
                    <a:lnTo>
                      <a:pt x="1065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103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594320" y="1990800"/>
                <a:ext cx="65160" cy="6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94400" y="1990800"/>
                <a:ext cx="66600" cy="6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94480" y="1990800"/>
                <a:ext cx="68040" cy="6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96000" y="1990800"/>
                <a:ext cx="66600" cy="6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996080" y="1990800"/>
                <a:ext cx="66600" cy="6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097600" y="1990800"/>
                <a:ext cx="66600" cy="6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94320" y="2082600"/>
                <a:ext cx="65160" cy="68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94400" y="2082600"/>
                <a:ext cx="66600" cy="68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94480" y="2082600"/>
                <a:ext cx="68040" cy="68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96000" y="2082600"/>
                <a:ext cx="66600" cy="68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96080" y="2082600"/>
                <a:ext cx="66600" cy="68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97600" y="2082600"/>
                <a:ext cx="66600" cy="68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253120" y="1935000"/>
                <a:ext cx="7920" cy="27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086360" y="2038320"/>
                <a:ext cx="455400" cy="2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108680" y="2054160"/>
                <a:ext cx="29880" cy="22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973680" y="2198520"/>
                <a:ext cx="895320" cy="29880"/>
              </a:xfrm>
              <a:custGeom>
                <a:avLst/>
                <a:gdLst/>
                <a:ahLst/>
                <a:rect l="l" t="t" r="r" b="b"/>
                <a:pathLst>
                  <a:path w="1127" h="38">
                    <a:moveTo>
                      <a:pt x="1127" y="0"/>
                    </a:moveTo>
                    <a:lnTo>
                      <a:pt x="0" y="0"/>
                    </a:lnTo>
                    <a:lnTo>
                      <a:pt x="6" y="38"/>
                    </a:lnTo>
                    <a:lnTo>
                      <a:pt x="11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48440" y="2079720"/>
                <a:ext cx="27000" cy="17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041720" y="2274840"/>
                <a:ext cx="984240" cy="36000"/>
              </a:xfrm>
              <a:custGeom>
                <a:avLst/>
                <a:gdLst/>
                <a:ahLst/>
                <a:rect l="l" t="t" r="r" b="b"/>
                <a:pathLst>
                  <a:path w="1242" h="47">
                    <a:moveTo>
                      <a:pt x="1242" y="14"/>
                    </a:moveTo>
                    <a:lnTo>
                      <a:pt x="0" y="0"/>
                    </a:lnTo>
                    <a:lnTo>
                      <a:pt x="6" y="47"/>
                    </a:lnTo>
                    <a:lnTo>
                      <a:pt x="124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437000" y="2338200"/>
                <a:ext cx="773280" cy="2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502160" y="2058840"/>
                <a:ext cx="17640" cy="13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313600" y="2079720"/>
                <a:ext cx="23760" cy="14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64160" y="1886040"/>
                <a:ext cx="439920" cy="3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83200" y="2109600"/>
                <a:ext cx="3024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230720" y="2109600"/>
                <a:ext cx="3024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80040" y="2109600"/>
                <a:ext cx="3024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327560" y="2109600"/>
                <a:ext cx="3024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376880" y="2109600"/>
                <a:ext cx="3024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26200" y="2109600"/>
                <a:ext cx="2844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97400" y="2230200"/>
                <a:ext cx="3816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61120" y="2230200"/>
                <a:ext cx="3960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524480" y="2230200"/>
                <a:ext cx="3960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711680" y="1644480"/>
                <a:ext cx="30240" cy="24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21480" y="1687320"/>
                <a:ext cx="107640" cy="1728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0"/>
                    </a:moveTo>
                    <a:lnTo>
                      <a:pt x="0" y="23"/>
                    </a:lnTo>
                    <a:lnTo>
                      <a:pt x="135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821480" y="1724040"/>
                <a:ext cx="107640" cy="1872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0"/>
                    </a:moveTo>
                    <a:lnTo>
                      <a:pt x="0" y="23"/>
                    </a:lnTo>
                    <a:lnTo>
                      <a:pt x="135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821480" y="1762200"/>
                <a:ext cx="107640" cy="1692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0"/>
                    </a:moveTo>
                    <a:lnTo>
                      <a:pt x="0" y="23"/>
                    </a:lnTo>
                    <a:lnTo>
                      <a:pt x="135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857840" y="1644480"/>
                <a:ext cx="30240" cy="24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965840" y="1687320"/>
                <a:ext cx="109440" cy="17280"/>
              </a:xfrm>
              <a:custGeom>
                <a:avLst/>
                <a:gdLst/>
                <a:ahLst/>
                <a:rect l="l" t="t" r="r" b="b"/>
                <a:pathLst>
                  <a:path w="137" h="23">
                    <a:moveTo>
                      <a:pt x="0" y="0"/>
                    </a:moveTo>
                    <a:lnTo>
                      <a:pt x="0" y="23"/>
                    </a:lnTo>
                    <a:lnTo>
                      <a:pt x="137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965840" y="1724040"/>
                <a:ext cx="109440" cy="18720"/>
              </a:xfrm>
              <a:custGeom>
                <a:avLst/>
                <a:gdLst/>
                <a:ahLst/>
                <a:rect l="l" t="t" r="r" b="b"/>
                <a:pathLst>
                  <a:path w="137" h="23">
                    <a:moveTo>
                      <a:pt x="0" y="0"/>
                    </a:moveTo>
                    <a:lnTo>
                      <a:pt x="0" y="23"/>
                    </a:lnTo>
                    <a:lnTo>
                      <a:pt x="13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965840" y="1762200"/>
                <a:ext cx="109440" cy="16920"/>
              </a:xfrm>
              <a:custGeom>
                <a:avLst/>
                <a:gdLst/>
                <a:ahLst/>
                <a:rect l="l" t="t" r="r" b="b"/>
                <a:pathLst>
                  <a:path w="137" h="23">
                    <a:moveTo>
                      <a:pt x="0" y="0"/>
                    </a:moveTo>
                    <a:lnTo>
                      <a:pt x="0" y="23"/>
                    </a:lnTo>
                    <a:lnTo>
                      <a:pt x="13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004000" y="1644480"/>
                <a:ext cx="30240" cy="249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30760" y="2225520"/>
                <a:ext cx="56988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192640" y="2074680"/>
                <a:ext cx="16992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30720" y="1338120"/>
                <a:ext cx="878040" cy="115560"/>
              </a:xfrm>
              <a:custGeom>
                <a:avLst/>
                <a:gdLst/>
                <a:ahLst/>
                <a:rect l="l" t="t" r="r" b="b"/>
                <a:pathLst>
                  <a:path w="1107" h="147">
                    <a:moveTo>
                      <a:pt x="35" y="147"/>
                    </a:moveTo>
                    <a:lnTo>
                      <a:pt x="34" y="145"/>
                    </a:lnTo>
                    <a:lnTo>
                      <a:pt x="33" y="144"/>
                    </a:lnTo>
                    <a:lnTo>
                      <a:pt x="30" y="141"/>
                    </a:lnTo>
                    <a:lnTo>
                      <a:pt x="29" y="137"/>
                    </a:lnTo>
                    <a:lnTo>
                      <a:pt x="27" y="133"/>
                    </a:lnTo>
                    <a:lnTo>
                      <a:pt x="27" y="127"/>
                    </a:lnTo>
                    <a:lnTo>
                      <a:pt x="27" y="121"/>
                    </a:lnTo>
                    <a:lnTo>
                      <a:pt x="29" y="114"/>
                    </a:lnTo>
                    <a:lnTo>
                      <a:pt x="34" y="107"/>
                    </a:lnTo>
                    <a:lnTo>
                      <a:pt x="41" y="100"/>
                    </a:lnTo>
                    <a:lnTo>
                      <a:pt x="51" y="95"/>
                    </a:lnTo>
                    <a:lnTo>
                      <a:pt x="65" y="88"/>
                    </a:lnTo>
                    <a:lnTo>
                      <a:pt x="83" y="82"/>
                    </a:lnTo>
                    <a:lnTo>
                      <a:pt x="105" y="75"/>
                    </a:lnTo>
                    <a:lnTo>
                      <a:pt x="132" y="70"/>
                    </a:lnTo>
                    <a:lnTo>
                      <a:pt x="164" y="66"/>
                    </a:lnTo>
                    <a:lnTo>
                      <a:pt x="200" y="64"/>
                    </a:lnTo>
                    <a:lnTo>
                      <a:pt x="239" y="62"/>
                    </a:lnTo>
                    <a:lnTo>
                      <a:pt x="278" y="64"/>
                    </a:lnTo>
                    <a:lnTo>
                      <a:pt x="318" y="67"/>
                    </a:lnTo>
                    <a:lnTo>
                      <a:pt x="361" y="70"/>
                    </a:lnTo>
                    <a:lnTo>
                      <a:pt x="404" y="76"/>
                    </a:lnTo>
                    <a:lnTo>
                      <a:pt x="446" y="82"/>
                    </a:lnTo>
                    <a:lnTo>
                      <a:pt x="489" y="88"/>
                    </a:lnTo>
                    <a:lnTo>
                      <a:pt x="531" y="94"/>
                    </a:lnTo>
                    <a:lnTo>
                      <a:pt x="573" y="99"/>
                    </a:lnTo>
                    <a:lnTo>
                      <a:pt x="613" y="105"/>
                    </a:lnTo>
                    <a:lnTo>
                      <a:pt x="654" y="110"/>
                    </a:lnTo>
                    <a:lnTo>
                      <a:pt x="692" y="114"/>
                    </a:lnTo>
                    <a:lnTo>
                      <a:pt x="728" y="117"/>
                    </a:lnTo>
                    <a:lnTo>
                      <a:pt x="762" y="117"/>
                    </a:lnTo>
                    <a:lnTo>
                      <a:pt x="794" y="115"/>
                    </a:lnTo>
                    <a:lnTo>
                      <a:pt x="838" y="111"/>
                    </a:lnTo>
                    <a:lnTo>
                      <a:pt x="878" y="105"/>
                    </a:lnTo>
                    <a:lnTo>
                      <a:pt x="915" y="98"/>
                    </a:lnTo>
                    <a:lnTo>
                      <a:pt x="947" y="90"/>
                    </a:lnTo>
                    <a:lnTo>
                      <a:pt x="976" y="81"/>
                    </a:lnTo>
                    <a:lnTo>
                      <a:pt x="1001" y="70"/>
                    </a:lnTo>
                    <a:lnTo>
                      <a:pt x="1024" y="61"/>
                    </a:lnTo>
                    <a:lnTo>
                      <a:pt x="1043" y="51"/>
                    </a:lnTo>
                    <a:lnTo>
                      <a:pt x="1059" y="42"/>
                    </a:lnTo>
                    <a:lnTo>
                      <a:pt x="1073" y="31"/>
                    </a:lnTo>
                    <a:lnTo>
                      <a:pt x="1084" y="23"/>
                    </a:lnTo>
                    <a:lnTo>
                      <a:pt x="1094" y="15"/>
                    </a:lnTo>
                    <a:lnTo>
                      <a:pt x="1099" y="9"/>
                    </a:lnTo>
                    <a:lnTo>
                      <a:pt x="1104" y="5"/>
                    </a:lnTo>
                    <a:lnTo>
                      <a:pt x="1106" y="1"/>
                    </a:lnTo>
                    <a:lnTo>
                      <a:pt x="1107" y="0"/>
                    </a:lnTo>
                    <a:lnTo>
                      <a:pt x="1107" y="1"/>
                    </a:lnTo>
                    <a:lnTo>
                      <a:pt x="1106" y="4"/>
                    </a:lnTo>
                    <a:lnTo>
                      <a:pt x="1103" y="7"/>
                    </a:lnTo>
                    <a:lnTo>
                      <a:pt x="1099" y="12"/>
                    </a:lnTo>
                    <a:lnTo>
                      <a:pt x="1092" y="17"/>
                    </a:lnTo>
                    <a:lnTo>
                      <a:pt x="1083" y="24"/>
                    </a:lnTo>
                    <a:lnTo>
                      <a:pt x="1072" y="31"/>
                    </a:lnTo>
                    <a:lnTo>
                      <a:pt x="1055" y="38"/>
                    </a:lnTo>
                    <a:lnTo>
                      <a:pt x="1036" y="46"/>
                    </a:lnTo>
                    <a:lnTo>
                      <a:pt x="1013" y="54"/>
                    </a:lnTo>
                    <a:lnTo>
                      <a:pt x="985" y="61"/>
                    </a:lnTo>
                    <a:lnTo>
                      <a:pt x="952" y="69"/>
                    </a:lnTo>
                    <a:lnTo>
                      <a:pt x="914" y="76"/>
                    </a:lnTo>
                    <a:lnTo>
                      <a:pt x="870" y="82"/>
                    </a:lnTo>
                    <a:lnTo>
                      <a:pt x="819" y="88"/>
                    </a:lnTo>
                    <a:lnTo>
                      <a:pt x="763" y="92"/>
                    </a:lnTo>
                    <a:lnTo>
                      <a:pt x="731" y="94"/>
                    </a:lnTo>
                    <a:lnTo>
                      <a:pt x="696" y="92"/>
                    </a:lnTo>
                    <a:lnTo>
                      <a:pt x="658" y="90"/>
                    </a:lnTo>
                    <a:lnTo>
                      <a:pt x="620" y="85"/>
                    </a:lnTo>
                    <a:lnTo>
                      <a:pt x="579" y="81"/>
                    </a:lnTo>
                    <a:lnTo>
                      <a:pt x="537" y="75"/>
                    </a:lnTo>
                    <a:lnTo>
                      <a:pt x="495" y="69"/>
                    </a:lnTo>
                    <a:lnTo>
                      <a:pt x="451" y="62"/>
                    </a:lnTo>
                    <a:lnTo>
                      <a:pt x="407" y="57"/>
                    </a:lnTo>
                    <a:lnTo>
                      <a:pt x="362" y="51"/>
                    </a:lnTo>
                    <a:lnTo>
                      <a:pt x="318" y="46"/>
                    </a:lnTo>
                    <a:lnTo>
                      <a:pt x="275" y="43"/>
                    </a:lnTo>
                    <a:lnTo>
                      <a:pt x="231" y="39"/>
                    </a:lnTo>
                    <a:lnTo>
                      <a:pt x="188" y="39"/>
                    </a:lnTo>
                    <a:lnTo>
                      <a:pt x="147" y="41"/>
                    </a:lnTo>
                    <a:lnTo>
                      <a:pt x="108" y="44"/>
                    </a:lnTo>
                    <a:lnTo>
                      <a:pt x="76" y="49"/>
                    </a:lnTo>
                    <a:lnTo>
                      <a:pt x="51" y="54"/>
                    </a:lnTo>
                    <a:lnTo>
                      <a:pt x="32" y="61"/>
                    </a:lnTo>
                    <a:lnTo>
                      <a:pt x="18" y="69"/>
                    </a:lnTo>
                    <a:lnTo>
                      <a:pt x="8" y="77"/>
                    </a:lnTo>
                    <a:lnTo>
                      <a:pt x="3" y="87"/>
                    </a:lnTo>
                    <a:lnTo>
                      <a:pt x="0" y="95"/>
                    </a:lnTo>
                    <a:lnTo>
                      <a:pt x="2" y="104"/>
                    </a:lnTo>
                    <a:lnTo>
                      <a:pt x="4" y="112"/>
                    </a:lnTo>
                    <a:lnTo>
                      <a:pt x="8" y="120"/>
                    </a:lnTo>
                    <a:lnTo>
                      <a:pt x="14" y="127"/>
                    </a:lnTo>
                    <a:lnTo>
                      <a:pt x="20" y="134"/>
                    </a:lnTo>
                    <a:lnTo>
                      <a:pt x="26" y="138"/>
                    </a:lnTo>
                    <a:lnTo>
                      <a:pt x="30" y="143"/>
                    </a:lnTo>
                    <a:lnTo>
                      <a:pt x="34" y="145"/>
                    </a:lnTo>
                    <a:lnTo>
                      <a:pt x="35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202280" y="1195560"/>
                <a:ext cx="677880" cy="209160"/>
              </a:xfrm>
              <a:custGeom>
                <a:avLst/>
                <a:gdLst/>
                <a:ahLst/>
                <a:rect l="l" t="t" r="r" b="b"/>
                <a:pathLst>
                  <a:path w="854" h="262">
                    <a:moveTo>
                      <a:pt x="731" y="58"/>
                    </a:moveTo>
                    <a:lnTo>
                      <a:pt x="713" y="50"/>
                    </a:lnTo>
                    <a:lnTo>
                      <a:pt x="695" y="43"/>
                    </a:lnTo>
                    <a:lnTo>
                      <a:pt x="677" y="39"/>
                    </a:lnTo>
                    <a:lnTo>
                      <a:pt x="660" y="35"/>
                    </a:lnTo>
                    <a:lnTo>
                      <a:pt x="642" y="34"/>
                    </a:lnTo>
                    <a:lnTo>
                      <a:pt x="626" y="34"/>
                    </a:lnTo>
                    <a:lnTo>
                      <a:pt x="610" y="35"/>
                    </a:lnTo>
                    <a:lnTo>
                      <a:pt x="595" y="39"/>
                    </a:lnTo>
                    <a:lnTo>
                      <a:pt x="581" y="43"/>
                    </a:lnTo>
                    <a:lnTo>
                      <a:pt x="568" y="50"/>
                    </a:lnTo>
                    <a:lnTo>
                      <a:pt x="556" y="57"/>
                    </a:lnTo>
                    <a:lnTo>
                      <a:pt x="545" y="66"/>
                    </a:lnTo>
                    <a:lnTo>
                      <a:pt x="535" y="78"/>
                    </a:lnTo>
                    <a:lnTo>
                      <a:pt x="526" y="89"/>
                    </a:lnTo>
                    <a:lnTo>
                      <a:pt x="519" y="102"/>
                    </a:lnTo>
                    <a:lnTo>
                      <a:pt x="515" y="117"/>
                    </a:lnTo>
                    <a:lnTo>
                      <a:pt x="513" y="125"/>
                    </a:lnTo>
                    <a:lnTo>
                      <a:pt x="511" y="134"/>
                    </a:lnTo>
                    <a:lnTo>
                      <a:pt x="510" y="142"/>
                    </a:lnTo>
                    <a:lnTo>
                      <a:pt x="510" y="152"/>
                    </a:lnTo>
                    <a:lnTo>
                      <a:pt x="496" y="148"/>
                    </a:lnTo>
                    <a:lnTo>
                      <a:pt x="483" y="146"/>
                    </a:lnTo>
                    <a:lnTo>
                      <a:pt x="471" y="144"/>
                    </a:lnTo>
                    <a:lnTo>
                      <a:pt x="458" y="144"/>
                    </a:lnTo>
                    <a:lnTo>
                      <a:pt x="445" y="145"/>
                    </a:lnTo>
                    <a:lnTo>
                      <a:pt x="434" y="147"/>
                    </a:lnTo>
                    <a:lnTo>
                      <a:pt x="424" y="151"/>
                    </a:lnTo>
                    <a:lnTo>
                      <a:pt x="413" y="155"/>
                    </a:lnTo>
                    <a:lnTo>
                      <a:pt x="404" y="141"/>
                    </a:lnTo>
                    <a:lnTo>
                      <a:pt x="394" y="129"/>
                    </a:lnTo>
                    <a:lnTo>
                      <a:pt x="382" y="116"/>
                    </a:lnTo>
                    <a:lnTo>
                      <a:pt x="369" y="103"/>
                    </a:lnTo>
                    <a:lnTo>
                      <a:pt x="357" y="92"/>
                    </a:lnTo>
                    <a:lnTo>
                      <a:pt x="342" y="81"/>
                    </a:lnTo>
                    <a:lnTo>
                      <a:pt x="328" y="72"/>
                    </a:lnTo>
                    <a:lnTo>
                      <a:pt x="312" y="64"/>
                    </a:lnTo>
                    <a:lnTo>
                      <a:pt x="295" y="56"/>
                    </a:lnTo>
                    <a:lnTo>
                      <a:pt x="277" y="50"/>
                    </a:lnTo>
                    <a:lnTo>
                      <a:pt x="260" y="46"/>
                    </a:lnTo>
                    <a:lnTo>
                      <a:pt x="243" y="42"/>
                    </a:lnTo>
                    <a:lnTo>
                      <a:pt x="227" y="41"/>
                    </a:lnTo>
                    <a:lnTo>
                      <a:pt x="211" y="41"/>
                    </a:lnTo>
                    <a:lnTo>
                      <a:pt x="194" y="42"/>
                    </a:lnTo>
                    <a:lnTo>
                      <a:pt x="181" y="46"/>
                    </a:lnTo>
                    <a:lnTo>
                      <a:pt x="167" y="50"/>
                    </a:lnTo>
                    <a:lnTo>
                      <a:pt x="153" y="56"/>
                    </a:lnTo>
                    <a:lnTo>
                      <a:pt x="141" y="64"/>
                    </a:lnTo>
                    <a:lnTo>
                      <a:pt x="131" y="73"/>
                    </a:lnTo>
                    <a:lnTo>
                      <a:pt x="121" y="84"/>
                    </a:lnTo>
                    <a:lnTo>
                      <a:pt x="113" y="95"/>
                    </a:lnTo>
                    <a:lnTo>
                      <a:pt x="106" y="108"/>
                    </a:lnTo>
                    <a:lnTo>
                      <a:pt x="101" y="122"/>
                    </a:lnTo>
                    <a:lnTo>
                      <a:pt x="99" y="130"/>
                    </a:lnTo>
                    <a:lnTo>
                      <a:pt x="98" y="138"/>
                    </a:lnTo>
                    <a:lnTo>
                      <a:pt x="96" y="146"/>
                    </a:lnTo>
                    <a:lnTo>
                      <a:pt x="96" y="154"/>
                    </a:lnTo>
                    <a:lnTo>
                      <a:pt x="82" y="156"/>
                    </a:lnTo>
                    <a:lnTo>
                      <a:pt x="68" y="160"/>
                    </a:lnTo>
                    <a:lnTo>
                      <a:pt x="55" y="164"/>
                    </a:lnTo>
                    <a:lnTo>
                      <a:pt x="43" y="171"/>
                    </a:lnTo>
                    <a:lnTo>
                      <a:pt x="33" y="180"/>
                    </a:lnTo>
                    <a:lnTo>
                      <a:pt x="25" y="191"/>
                    </a:lnTo>
                    <a:lnTo>
                      <a:pt x="18" y="202"/>
                    </a:lnTo>
                    <a:lnTo>
                      <a:pt x="12" y="216"/>
                    </a:lnTo>
                    <a:lnTo>
                      <a:pt x="10" y="228"/>
                    </a:lnTo>
                    <a:lnTo>
                      <a:pt x="9" y="239"/>
                    </a:lnTo>
                    <a:lnTo>
                      <a:pt x="9" y="251"/>
                    </a:lnTo>
                    <a:lnTo>
                      <a:pt x="10" y="262"/>
                    </a:lnTo>
                    <a:lnTo>
                      <a:pt x="3" y="242"/>
                    </a:lnTo>
                    <a:lnTo>
                      <a:pt x="0" y="222"/>
                    </a:lnTo>
                    <a:lnTo>
                      <a:pt x="0" y="201"/>
                    </a:lnTo>
                    <a:lnTo>
                      <a:pt x="3" y="183"/>
                    </a:lnTo>
                    <a:lnTo>
                      <a:pt x="9" y="169"/>
                    </a:lnTo>
                    <a:lnTo>
                      <a:pt x="16" y="157"/>
                    </a:lnTo>
                    <a:lnTo>
                      <a:pt x="24" y="147"/>
                    </a:lnTo>
                    <a:lnTo>
                      <a:pt x="34" y="138"/>
                    </a:lnTo>
                    <a:lnTo>
                      <a:pt x="45" y="131"/>
                    </a:lnTo>
                    <a:lnTo>
                      <a:pt x="57" y="125"/>
                    </a:lnTo>
                    <a:lnTo>
                      <a:pt x="71" y="122"/>
                    </a:lnTo>
                    <a:lnTo>
                      <a:pt x="86" y="119"/>
                    </a:lnTo>
                    <a:lnTo>
                      <a:pt x="87" y="111"/>
                    </a:lnTo>
                    <a:lnTo>
                      <a:pt x="88" y="103"/>
                    </a:lnTo>
                    <a:lnTo>
                      <a:pt x="90" y="96"/>
                    </a:lnTo>
                    <a:lnTo>
                      <a:pt x="91" y="88"/>
                    </a:lnTo>
                    <a:lnTo>
                      <a:pt x="95" y="74"/>
                    </a:lnTo>
                    <a:lnTo>
                      <a:pt x="102" y="61"/>
                    </a:lnTo>
                    <a:lnTo>
                      <a:pt x="110" y="49"/>
                    </a:lnTo>
                    <a:lnTo>
                      <a:pt x="121" y="39"/>
                    </a:lnTo>
                    <a:lnTo>
                      <a:pt x="131" y="31"/>
                    </a:lnTo>
                    <a:lnTo>
                      <a:pt x="144" y="23"/>
                    </a:lnTo>
                    <a:lnTo>
                      <a:pt x="156" y="17"/>
                    </a:lnTo>
                    <a:lnTo>
                      <a:pt x="170" y="12"/>
                    </a:lnTo>
                    <a:lnTo>
                      <a:pt x="185" y="9"/>
                    </a:lnTo>
                    <a:lnTo>
                      <a:pt x="200" y="8"/>
                    </a:lnTo>
                    <a:lnTo>
                      <a:pt x="216" y="8"/>
                    </a:lnTo>
                    <a:lnTo>
                      <a:pt x="234" y="9"/>
                    </a:lnTo>
                    <a:lnTo>
                      <a:pt x="251" y="11"/>
                    </a:lnTo>
                    <a:lnTo>
                      <a:pt x="268" y="17"/>
                    </a:lnTo>
                    <a:lnTo>
                      <a:pt x="285" y="23"/>
                    </a:lnTo>
                    <a:lnTo>
                      <a:pt x="303" y="31"/>
                    </a:lnTo>
                    <a:lnTo>
                      <a:pt x="319" y="39"/>
                    </a:lnTo>
                    <a:lnTo>
                      <a:pt x="333" y="48"/>
                    </a:lnTo>
                    <a:lnTo>
                      <a:pt x="348" y="58"/>
                    </a:lnTo>
                    <a:lnTo>
                      <a:pt x="360" y="70"/>
                    </a:lnTo>
                    <a:lnTo>
                      <a:pt x="372" y="83"/>
                    </a:lnTo>
                    <a:lnTo>
                      <a:pt x="383" y="95"/>
                    </a:lnTo>
                    <a:lnTo>
                      <a:pt x="394" y="108"/>
                    </a:lnTo>
                    <a:lnTo>
                      <a:pt x="403" y="122"/>
                    </a:lnTo>
                    <a:lnTo>
                      <a:pt x="413" y="117"/>
                    </a:lnTo>
                    <a:lnTo>
                      <a:pt x="424" y="114"/>
                    </a:lnTo>
                    <a:lnTo>
                      <a:pt x="436" y="111"/>
                    </a:lnTo>
                    <a:lnTo>
                      <a:pt x="448" y="110"/>
                    </a:lnTo>
                    <a:lnTo>
                      <a:pt x="460" y="110"/>
                    </a:lnTo>
                    <a:lnTo>
                      <a:pt x="473" y="111"/>
                    </a:lnTo>
                    <a:lnTo>
                      <a:pt x="487" y="114"/>
                    </a:lnTo>
                    <a:lnTo>
                      <a:pt x="501" y="118"/>
                    </a:lnTo>
                    <a:lnTo>
                      <a:pt x="501" y="109"/>
                    </a:lnTo>
                    <a:lnTo>
                      <a:pt x="502" y="101"/>
                    </a:lnTo>
                    <a:lnTo>
                      <a:pt x="503" y="92"/>
                    </a:lnTo>
                    <a:lnTo>
                      <a:pt x="505" y="84"/>
                    </a:lnTo>
                    <a:lnTo>
                      <a:pt x="510" y="69"/>
                    </a:lnTo>
                    <a:lnTo>
                      <a:pt x="517" y="56"/>
                    </a:lnTo>
                    <a:lnTo>
                      <a:pt x="525" y="43"/>
                    </a:lnTo>
                    <a:lnTo>
                      <a:pt x="535" y="33"/>
                    </a:lnTo>
                    <a:lnTo>
                      <a:pt x="546" y="24"/>
                    </a:lnTo>
                    <a:lnTo>
                      <a:pt x="558" y="16"/>
                    </a:lnTo>
                    <a:lnTo>
                      <a:pt x="571" y="10"/>
                    </a:lnTo>
                    <a:lnTo>
                      <a:pt x="586" y="5"/>
                    </a:lnTo>
                    <a:lnTo>
                      <a:pt x="601" y="2"/>
                    </a:lnTo>
                    <a:lnTo>
                      <a:pt x="616" y="0"/>
                    </a:lnTo>
                    <a:lnTo>
                      <a:pt x="633" y="0"/>
                    </a:lnTo>
                    <a:lnTo>
                      <a:pt x="649" y="1"/>
                    </a:lnTo>
                    <a:lnTo>
                      <a:pt x="668" y="4"/>
                    </a:lnTo>
                    <a:lnTo>
                      <a:pt x="685" y="9"/>
                    </a:lnTo>
                    <a:lnTo>
                      <a:pt x="702" y="16"/>
                    </a:lnTo>
                    <a:lnTo>
                      <a:pt x="721" y="24"/>
                    </a:lnTo>
                    <a:lnTo>
                      <a:pt x="746" y="39"/>
                    </a:lnTo>
                    <a:lnTo>
                      <a:pt x="770" y="56"/>
                    </a:lnTo>
                    <a:lnTo>
                      <a:pt x="791" y="76"/>
                    </a:lnTo>
                    <a:lnTo>
                      <a:pt x="811" y="96"/>
                    </a:lnTo>
                    <a:lnTo>
                      <a:pt x="826" y="119"/>
                    </a:lnTo>
                    <a:lnTo>
                      <a:pt x="838" y="142"/>
                    </a:lnTo>
                    <a:lnTo>
                      <a:pt x="849" y="168"/>
                    </a:lnTo>
                    <a:lnTo>
                      <a:pt x="854" y="192"/>
                    </a:lnTo>
                    <a:lnTo>
                      <a:pt x="845" y="172"/>
                    </a:lnTo>
                    <a:lnTo>
                      <a:pt x="835" y="153"/>
                    </a:lnTo>
                    <a:lnTo>
                      <a:pt x="821" y="133"/>
                    </a:lnTo>
                    <a:lnTo>
                      <a:pt x="807" y="116"/>
                    </a:lnTo>
                    <a:lnTo>
                      <a:pt x="790" y="99"/>
                    </a:lnTo>
                    <a:lnTo>
                      <a:pt x="771" y="84"/>
                    </a:lnTo>
                    <a:lnTo>
                      <a:pt x="752" y="70"/>
                    </a:lnTo>
                    <a:lnTo>
                      <a:pt x="731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098960" y="1846080"/>
                <a:ext cx="19080" cy="172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030920" y="1846080"/>
                <a:ext cx="18720" cy="34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978360" y="1754280"/>
                <a:ext cx="187200" cy="19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006800" y="1770120"/>
                <a:ext cx="122400" cy="158400"/>
              </a:xfrm>
              <a:custGeom>
                <a:avLst/>
                <a:gdLst/>
                <a:ahLst/>
                <a:rect l="l" t="t" r="r" b="b"/>
                <a:pathLst>
                  <a:path w="155" h="202">
                    <a:moveTo>
                      <a:pt x="150" y="0"/>
                    </a:moveTo>
                    <a:lnTo>
                      <a:pt x="98" y="71"/>
                    </a:lnTo>
                    <a:lnTo>
                      <a:pt x="155" y="71"/>
                    </a:lnTo>
                    <a:lnTo>
                      <a:pt x="92" y="134"/>
                    </a:lnTo>
                    <a:lnTo>
                      <a:pt x="144" y="134"/>
                    </a:lnTo>
                    <a:lnTo>
                      <a:pt x="0" y="202"/>
                    </a:lnTo>
                    <a:lnTo>
                      <a:pt x="92" y="103"/>
                    </a:lnTo>
                    <a:lnTo>
                      <a:pt x="26" y="10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83120" y="2016000"/>
                <a:ext cx="30168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996080" y="2317680"/>
                <a:ext cx="301680" cy="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89720" y="1901880"/>
                <a:ext cx="63360" cy="1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84760" y="1901880"/>
                <a:ext cx="61920" cy="1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878360" y="1901880"/>
                <a:ext cx="63720" cy="1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72320" y="1901880"/>
                <a:ext cx="63360" cy="1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05600" y="1952640"/>
                <a:ext cx="47520" cy="10584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3990960" y="3686040"/>
            <a:ext cx="5153040" cy="2871360"/>
            <a:chOff x="3990960" y="3686040"/>
            <a:chExt cx="5153040" cy="2871360"/>
          </a:xfrm>
        </p:grpSpPr>
        <p:grpSp>
          <p:nvGrpSpPr>
            <p:cNvPr id="669" name=""/>
            <p:cNvGrpSpPr/>
            <p:nvPr/>
          </p:nvGrpSpPr>
          <p:grpSpPr>
            <a:xfrm>
              <a:off x="3990960" y="5768640"/>
              <a:ext cx="1030320" cy="699840"/>
              <a:chOff x="3990960" y="5768640"/>
              <a:chExt cx="1030320" cy="699840"/>
            </a:xfrm>
          </p:grpSpPr>
          <p:grpSp>
            <p:nvGrpSpPr>
              <p:cNvPr id="670" name=""/>
              <p:cNvGrpSpPr/>
              <p:nvPr/>
            </p:nvGrpSpPr>
            <p:grpSpPr>
              <a:xfrm>
                <a:off x="3990960" y="5768640"/>
                <a:ext cx="941400" cy="606240"/>
                <a:chOff x="3990960" y="5768640"/>
                <a:chExt cx="941400" cy="60624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4100040" y="5897520"/>
                  <a:ext cx="832320" cy="477360"/>
                </a:xfrm>
                <a:custGeom>
                  <a:avLst/>
                  <a:gdLst/>
                  <a:ahLst/>
                  <a:rect l="l" t="t" r="r" b="b"/>
                  <a:pathLst>
                    <a:path w="3154" h="1811">
                      <a:moveTo>
                        <a:pt x="220" y="1716"/>
                      </a:moveTo>
                      <a:lnTo>
                        <a:pt x="384" y="1752"/>
                      </a:lnTo>
                      <a:lnTo>
                        <a:pt x="532" y="1779"/>
                      </a:lnTo>
                      <a:lnTo>
                        <a:pt x="791" y="1811"/>
                      </a:lnTo>
                      <a:lnTo>
                        <a:pt x="1152" y="1811"/>
                      </a:lnTo>
                      <a:lnTo>
                        <a:pt x="1342" y="1773"/>
                      </a:lnTo>
                      <a:lnTo>
                        <a:pt x="1397" y="1747"/>
                      </a:lnTo>
                      <a:lnTo>
                        <a:pt x="1456" y="1707"/>
                      </a:lnTo>
                      <a:lnTo>
                        <a:pt x="1487" y="1686"/>
                      </a:lnTo>
                      <a:lnTo>
                        <a:pt x="1525" y="1659"/>
                      </a:lnTo>
                      <a:lnTo>
                        <a:pt x="1567" y="1631"/>
                      </a:lnTo>
                      <a:lnTo>
                        <a:pt x="1612" y="1598"/>
                      </a:lnTo>
                      <a:lnTo>
                        <a:pt x="1664" y="1564"/>
                      </a:lnTo>
                      <a:lnTo>
                        <a:pt x="1719" y="1526"/>
                      </a:lnTo>
                      <a:lnTo>
                        <a:pt x="1776" y="1486"/>
                      </a:lnTo>
                      <a:lnTo>
                        <a:pt x="1837" y="1444"/>
                      </a:lnTo>
                      <a:lnTo>
                        <a:pt x="1899" y="1401"/>
                      </a:lnTo>
                      <a:lnTo>
                        <a:pt x="1964" y="1355"/>
                      </a:lnTo>
                      <a:lnTo>
                        <a:pt x="1996" y="1332"/>
                      </a:lnTo>
                      <a:lnTo>
                        <a:pt x="2030" y="1309"/>
                      </a:lnTo>
                      <a:lnTo>
                        <a:pt x="2063" y="1287"/>
                      </a:lnTo>
                      <a:lnTo>
                        <a:pt x="2097" y="1264"/>
                      </a:lnTo>
                      <a:lnTo>
                        <a:pt x="2129" y="1239"/>
                      </a:lnTo>
                      <a:lnTo>
                        <a:pt x="2164" y="1216"/>
                      </a:lnTo>
                      <a:lnTo>
                        <a:pt x="2198" y="1193"/>
                      </a:lnTo>
                      <a:lnTo>
                        <a:pt x="2230" y="1169"/>
                      </a:lnTo>
                      <a:lnTo>
                        <a:pt x="2264" y="1146"/>
                      </a:lnTo>
                      <a:lnTo>
                        <a:pt x="2297" y="1123"/>
                      </a:lnTo>
                      <a:lnTo>
                        <a:pt x="2329" y="1100"/>
                      </a:lnTo>
                      <a:lnTo>
                        <a:pt x="2361" y="1077"/>
                      </a:lnTo>
                      <a:lnTo>
                        <a:pt x="2426" y="1034"/>
                      </a:lnTo>
                      <a:lnTo>
                        <a:pt x="2487" y="990"/>
                      </a:lnTo>
                      <a:lnTo>
                        <a:pt x="2546" y="946"/>
                      </a:lnTo>
                      <a:lnTo>
                        <a:pt x="2601" y="908"/>
                      </a:lnTo>
                      <a:lnTo>
                        <a:pt x="2654" y="870"/>
                      </a:lnTo>
                      <a:lnTo>
                        <a:pt x="2702" y="836"/>
                      </a:lnTo>
                      <a:lnTo>
                        <a:pt x="2745" y="804"/>
                      </a:lnTo>
                      <a:lnTo>
                        <a:pt x="2783" y="775"/>
                      </a:lnTo>
                      <a:lnTo>
                        <a:pt x="2844" y="730"/>
                      </a:lnTo>
                      <a:lnTo>
                        <a:pt x="2880" y="699"/>
                      </a:lnTo>
                      <a:lnTo>
                        <a:pt x="2920" y="656"/>
                      </a:lnTo>
                      <a:lnTo>
                        <a:pt x="2962" y="600"/>
                      </a:lnTo>
                      <a:lnTo>
                        <a:pt x="3002" y="543"/>
                      </a:lnTo>
                      <a:lnTo>
                        <a:pt x="3038" y="481"/>
                      </a:lnTo>
                      <a:lnTo>
                        <a:pt x="3072" y="422"/>
                      </a:lnTo>
                      <a:lnTo>
                        <a:pt x="3101" y="365"/>
                      </a:lnTo>
                      <a:lnTo>
                        <a:pt x="3139" y="281"/>
                      </a:lnTo>
                      <a:lnTo>
                        <a:pt x="3154" y="102"/>
                      </a:lnTo>
                      <a:lnTo>
                        <a:pt x="3139" y="74"/>
                      </a:lnTo>
                      <a:lnTo>
                        <a:pt x="3114" y="49"/>
                      </a:lnTo>
                      <a:lnTo>
                        <a:pt x="3078" y="28"/>
                      </a:lnTo>
                      <a:lnTo>
                        <a:pt x="3032" y="11"/>
                      </a:lnTo>
                      <a:lnTo>
                        <a:pt x="2897" y="0"/>
                      </a:lnTo>
                      <a:lnTo>
                        <a:pt x="2700" y="21"/>
                      </a:lnTo>
                      <a:lnTo>
                        <a:pt x="2470" y="70"/>
                      </a:lnTo>
                      <a:lnTo>
                        <a:pt x="2361" y="99"/>
                      </a:lnTo>
                      <a:lnTo>
                        <a:pt x="2255" y="129"/>
                      </a:lnTo>
                      <a:lnTo>
                        <a:pt x="2154" y="159"/>
                      </a:lnTo>
                      <a:lnTo>
                        <a:pt x="2057" y="192"/>
                      </a:lnTo>
                      <a:lnTo>
                        <a:pt x="1968" y="222"/>
                      </a:lnTo>
                      <a:lnTo>
                        <a:pt x="1884" y="254"/>
                      </a:lnTo>
                      <a:lnTo>
                        <a:pt x="1808" y="283"/>
                      </a:lnTo>
                      <a:lnTo>
                        <a:pt x="1740" y="310"/>
                      </a:lnTo>
                      <a:lnTo>
                        <a:pt x="1681" y="336"/>
                      </a:lnTo>
                      <a:lnTo>
                        <a:pt x="1629" y="357"/>
                      </a:lnTo>
                      <a:lnTo>
                        <a:pt x="1559" y="389"/>
                      </a:lnTo>
                      <a:lnTo>
                        <a:pt x="1536" y="401"/>
                      </a:lnTo>
                      <a:lnTo>
                        <a:pt x="1510" y="412"/>
                      </a:lnTo>
                      <a:lnTo>
                        <a:pt x="1441" y="448"/>
                      </a:lnTo>
                      <a:lnTo>
                        <a:pt x="1392" y="473"/>
                      </a:lnTo>
                      <a:lnTo>
                        <a:pt x="1335" y="503"/>
                      </a:lnTo>
                      <a:lnTo>
                        <a:pt x="1270" y="538"/>
                      </a:lnTo>
                      <a:lnTo>
                        <a:pt x="1202" y="576"/>
                      </a:lnTo>
                      <a:lnTo>
                        <a:pt x="1125" y="617"/>
                      </a:lnTo>
                      <a:lnTo>
                        <a:pt x="1046" y="663"/>
                      </a:lnTo>
                      <a:lnTo>
                        <a:pt x="1004" y="686"/>
                      </a:lnTo>
                      <a:lnTo>
                        <a:pt x="962" y="711"/>
                      </a:lnTo>
                      <a:lnTo>
                        <a:pt x="920" y="735"/>
                      </a:lnTo>
                      <a:lnTo>
                        <a:pt x="878" y="762"/>
                      </a:lnTo>
                      <a:lnTo>
                        <a:pt x="835" y="787"/>
                      </a:lnTo>
                      <a:lnTo>
                        <a:pt x="791" y="813"/>
                      </a:lnTo>
                      <a:lnTo>
                        <a:pt x="747" y="840"/>
                      </a:lnTo>
                      <a:lnTo>
                        <a:pt x="703" y="866"/>
                      </a:lnTo>
                      <a:lnTo>
                        <a:pt x="662" y="895"/>
                      </a:lnTo>
                      <a:lnTo>
                        <a:pt x="618" y="924"/>
                      </a:lnTo>
                      <a:lnTo>
                        <a:pt x="576" y="950"/>
                      </a:lnTo>
                      <a:lnTo>
                        <a:pt x="534" y="979"/>
                      </a:lnTo>
                      <a:lnTo>
                        <a:pt x="492" y="1007"/>
                      </a:lnTo>
                      <a:lnTo>
                        <a:pt x="452" y="1036"/>
                      </a:lnTo>
                      <a:lnTo>
                        <a:pt x="413" y="1064"/>
                      </a:lnTo>
                      <a:lnTo>
                        <a:pt x="374" y="1093"/>
                      </a:lnTo>
                      <a:lnTo>
                        <a:pt x="336" y="1121"/>
                      </a:lnTo>
                      <a:lnTo>
                        <a:pt x="300" y="1150"/>
                      </a:lnTo>
                      <a:lnTo>
                        <a:pt x="266" y="1178"/>
                      </a:lnTo>
                      <a:lnTo>
                        <a:pt x="234" y="1207"/>
                      </a:lnTo>
                      <a:lnTo>
                        <a:pt x="201" y="1235"/>
                      </a:lnTo>
                      <a:lnTo>
                        <a:pt x="171" y="1264"/>
                      </a:lnTo>
                      <a:lnTo>
                        <a:pt x="118" y="1317"/>
                      </a:lnTo>
                      <a:lnTo>
                        <a:pt x="74" y="1370"/>
                      </a:lnTo>
                      <a:lnTo>
                        <a:pt x="38" y="1422"/>
                      </a:lnTo>
                      <a:lnTo>
                        <a:pt x="0" y="1517"/>
                      </a:lnTo>
                      <a:lnTo>
                        <a:pt x="13" y="1598"/>
                      </a:lnTo>
                      <a:lnTo>
                        <a:pt x="40" y="1634"/>
                      </a:lnTo>
                      <a:lnTo>
                        <a:pt x="84" y="1667"/>
                      </a:lnTo>
                      <a:lnTo>
                        <a:pt x="143" y="1695"/>
                      </a:lnTo>
                      <a:lnTo>
                        <a:pt x="220" y="1716"/>
                      </a:lnTo>
                      <a:lnTo>
                        <a:pt x="220" y="1716"/>
                      </a:lnTo>
                      <a:close/>
                    </a:path>
                  </a:pathLst>
                </a:custGeom>
                <a:solidFill>
                  <a:srgbClr val="a3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999240" y="5777280"/>
                  <a:ext cx="796320" cy="527400"/>
                </a:xfrm>
                <a:custGeom>
                  <a:avLst/>
                  <a:gdLst/>
                  <a:ahLst/>
                  <a:rect l="l" t="t" r="r" b="b"/>
                  <a:pathLst>
                    <a:path w="3019" h="2003">
                      <a:moveTo>
                        <a:pt x="40" y="1591"/>
                      </a:moveTo>
                      <a:lnTo>
                        <a:pt x="68" y="1621"/>
                      </a:lnTo>
                      <a:lnTo>
                        <a:pt x="102" y="1653"/>
                      </a:lnTo>
                      <a:lnTo>
                        <a:pt x="150" y="1693"/>
                      </a:lnTo>
                      <a:lnTo>
                        <a:pt x="180" y="1716"/>
                      </a:lnTo>
                      <a:lnTo>
                        <a:pt x="213" y="1741"/>
                      </a:lnTo>
                      <a:lnTo>
                        <a:pt x="249" y="1765"/>
                      </a:lnTo>
                      <a:lnTo>
                        <a:pt x="289" y="1788"/>
                      </a:lnTo>
                      <a:lnTo>
                        <a:pt x="332" y="1813"/>
                      </a:lnTo>
                      <a:lnTo>
                        <a:pt x="380" y="1838"/>
                      </a:lnTo>
                      <a:lnTo>
                        <a:pt x="431" y="1860"/>
                      </a:lnTo>
                      <a:lnTo>
                        <a:pt x="487" y="1883"/>
                      </a:lnTo>
                      <a:lnTo>
                        <a:pt x="585" y="1917"/>
                      </a:lnTo>
                      <a:lnTo>
                        <a:pt x="696" y="1946"/>
                      </a:lnTo>
                      <a:lnTo>
                        <a:pt x="815" y="1969"/>
                      </a:lnTo>
                      <a:lnTo>
                        <a:pt x="945" y="1986"/>
                      </a:lnTo>
                      <a:lnTo>
                        <a:pt x="1239" y="2003"/>
                      </a:lnTo>
                      <a:lnTo>
                        <a:pt x="1576" y="1995"/>
                      </a:lnTo>
                      <a:lnTo>
                        <a:pt x="1601" y="1874"/>
                      </a:lnTo>
                      <a:lnTo>
                        <a:pt x="1633" y="1750"/>
                      </a:lnTo>
                      <a:lnTo>
                        <a:pt x="1652" y="1682"/>
                      </a:lnTo>
                      <a:lnTo>
                        <a:pt x="1675" y="1611"/>
                      </a:lnTo>
                      <a:lnTo>
                        <a:pt x="1698" y="1541"/>
                      </a:lnTo>
                      <a:lnTo>
                        <a:pt x="1724" y="1476"/>
                      </a:lnTo>
                      <a:lnTo>
                        <a:pt x="1753" y="1418"/>
                      </a:lnTo>
                      <a:lnTo>
                        <a:pt x="1783" y="1366"/>
                      </a:lnTo>
                      <a:lnTo>
                        <a:pt x="1817" y="1326"/>
                      </a:lnTo>
                      <a:lnTo>
                        <a:pt x="1852" y="1300"/>
                      </a:lnTo>
                      <a:lnTo>
                        <a:pt x="1924" y="1298"/>
                      </a:lnTo>
                      <a:lnTo>
                        <a:pt x="1989" y="1332"/>
                      </a:lnTo>
                      <a:lnTo>
                        <a:pt x="2036" y="1361"/>
                      </a:lnTo>
                      <a:lnTo>
                        <a:pt x="2087" y="1402"/>
                      </a:lnTo>
                      <a:lnTo>
                        <a:pt x="2101" y="1435"/>
                      </a:lnTo>
                      <a:lnTo>
                        <a:pt x="2165" y="1651"/>
                      </a:lnTo>
                      <a:lnTo>
                        <a:pt x="2262" y="1480"/>
                      </a:lnTo>
                      <a:lnTo>
                        <a:pt x="2646" y="1035"/>
                      </a:lnTo>
                      <a:lnTo>
                        <a:pt x="2855" y="1243"/>
                      </a:lnTo>
                      <a:lnTo>
                        <a:pt x="3019" y="1094"/>
                      </a:lnTo>
                      <a:lnTo>
                        <a:pt x="3006" y="1056"/>
                      </a:lnTo>
                      <a:lnTo>
                        <a:pt x="2970" y="958"/>
                      </a:lnTo>
                      <a:lnTo>
                        <a:pt x="2945" y="891"/>
                      </a:lnTo>
                      <a:lnTo>
                        <a:pt x="2913" y="815"/>
                      </a:lnTo>
                      <a:lnTo>
                        <a:pt x="2878" y="733"/>
                      </a:lnTo>
                      <a:lnTo>
                        <a:pt x="2838" y="650"/>
                      </a:lnTo>
                      <a:lnTo>
                        <a:pt x="2795" y="566"/>
                      </a:lnTo>
                      <a:lnTo>
                        <a:pt x="2772" y="524"/>
                      </a:lnTo>
                      <a:lnTo>
                        <a:pt x="2747" y="484"/>
                      </a:lnTo>
                      <a:lnTo>
                        <a:pt x="2722" y="444"/>
                      </a:lnTo>
                      <a:lnTo>
                        <a:pt x="2698" y="406"/>
                      </a:lnTo>
                      <a:lnTo>
                        <a:pt x="2671" y="368"/>
                      </a:lnTo>
                      <a:lnTo>
                        <a:pt x="2644" y="334"/>
                      </a:lnTo>
                      <a:lnTo>
                        <a:pt x="2589" y="273"/>
                      </a:lnTo>
                      <a:lnTo>
                        <a:pt x="2559" y="247"/>
                      </a:lnTo>
                      <a:lnTo>
                        <a:pt x="2530" y="224"/>
                      </a:lnTo>
                      <a:lnTo>
                        <a:pt x="2470" y="190"/>
                      </a:lnTo>
                      <a:lnTo>
                        <a:pt x="2409" y="171"/>
                      </a:lnTo>
                      <a:lnTo>
                        <a:pt x="2331" y="85"/>
                      </a:lnTo>
                      <a:lnTo>
                        <a:pt x="1979" y="0"/>
                      </a:lnTo>
                      <a:lnTo>
                        <a:pt x="1661" y="30"/>
                      </a:lnTo>
                      <a:lnTo>
                        <a:pt x="1418" y="39"/>
                      </a:lnTo>
                      <a:lnTo>
                        <a:pt x="1110" y="152"/>
                      </a:lnTo>
                      <a:lnTo>
                        <a:pt x="975" y="228"/>
                      </a:lnTo>
                      <a:lnTo>
                        <a:pt x="802" y="509"/>
                      </a:lnTo>
                      <a:lnTo>
                        <a:pt x="711" y="631"/>
                      </a:lnTo>
                      <a:lnTo>
                        <a:pt x="399" y="758"/>
                      </a:lnTo>
                      <a:lnTo>
                        <a:pt x="365" y="783"/>
                      </a:lnTo>
                      <a:lnTo>
                        <a:pt x="329" y="809"/>
                      </a:lnTo>
                      <a:lnTo>
                        <a:pt x="283" y="842"/>
                      </a:lnTo>
                      <a:lnTo>
                        <a:pt x="237" y="876"/>
                      </a:lnTo>
                      <a:lnTo>
                        <a:pt x="190" y="910"/>
                      </a:lnTo>
                      <a:lnTo>
                        <a:pt x="150" y="942"/>
                      </a:lnTo>
                      <a:lnTo>
                        <a:pt x="118" y="967"/>
                      </a:lnTo>
                      <a:lnTo>
                        <a:pt x="64" y="1041"/>
                      </a:lnTo>
                      <a:lnTo>
                        <a:pt x="63" y="1072"/>
                      </a:lnTo>
                      <a:lnTo>
                        <a:pt x="0" y="1239"/>
                      </a:lnTo>
                      <a:lnTo>
                        <a:pt x="40" y="1591"/>
                      </a:lnTo>
                      <a:lnTo>
                        <a:pt x="40" y="1591"/>
                      </a:lnTo>
                      <a:close/>
                    </a:path>
                  </a:pathLst>
                </a:cu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631040" y="6003000"/>
                  <a:ext cx="128880" cy="187560"/>
                </a:xfrm>
                <a:custGeom>
                  <a:avLst/>
                  <a:gdLst/>
                  <a:ahLst/>
                  <a:rect l="l" t="t" r="r" b="b"/>
                  <a:pathLst>
                    <a:path w="489" h="711">
                      <a:moveTo>
                        <a:pt x="0" y="621"/>
                      </a:moveTo>
                      <a:lnTo>
                        <a:pt x="17" y="646"/>
                      </a:lnTo>
                      <a:lnTo>
                        <a:pt x="38" y="669"/>
                      </a:lnTo>
                      <a:lnTo>
                        <a:pt x="69" y="690"/>
                      </a:lnTo>
                      <a:lnTo>
                        <a:pt x="103" y="707"/>
                      </a:lnTo>
                      <a:lnTo>
                        <a:pt x="145" y="711"/>
                      </a:lnTo>
                      <a:lnTo>
                        <a:pt x="244" y="665"/>
                      </a:lnTo>
                      <a:lnTo>
                        <a:pt x="356" y="625"/>
                      </a:lnTo>
                      <a:lnTo>
                        <a:pt x="447" y="405"/>
                      </a:lnTo>
                      <a:lnTo>
                        <a:pt x="489" y="216"/>
                      </a:lnTo>
                      <a:lnTo>
                        <a:pt x="478" y="118"/>
                      </a:lnTo>
                      <a:lnTo>
                        <a:pt x="460" y="44"/>
                      </a:lnTo>
                      <a:lnTo>
                        <a:pt x="447" y="17"/>
                      </a:lnTo>
                      <a:lnTo>
                        <a:pt x="432" y="0"/>
                      </a:lnTo>
                      <a:lnTo>
                        <a:pt x="341" y="4"/>
                      </a:lnTo>
                      <a:lnTo>
                        <a:pt x="286" y="25"/>
                      </a:lnTo>
                      <a:lnTo>
                        <a:pt x="158" y="300"/>
                      </a:lnTo>
                      <a:lnTo>
                        <a:pt x="0" y="621"/>
                      </a:lnTo>
                      <a:lnTo>
                        <a:pt x="0" y="621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626000" y="6148800"/>
                  <a:ext cx="72720" cy="41400"/>
                </a:xfrm>
                <a:custGeom>
                  <a:avLst/>
                  <a:gdLst/>
                  <a:ahLst/>
                  <a:rect l="l" t="t" r="r" b="b"/>
                  <a:pathLst>
                    <a:path w="276" h="158">
                      <a:moveTo>
                        <a:pt x="0" y="30"/>
                      </a:moveTo>
                      <a:lnTo>
                        <a:pt x="124" y="0"/>
                      </a:lnTo>
                      <a:lnTo>
                        <a:pt x="143" y="25"/>
                      </a:lnTo>
                      <a:lnTo>
                        <a:pt x="164" y="49"/>
                      </a:lnTo>
                      <a:lnTo>
                        <a:pt x="192" y="72"/>
                      </a:lnTo>
                      <a:lnTo>
                        <a:pt x="276" y="123"/>
                      </a:lnTo>
                      <a:lnTo>
                        <a:pt x="242" y="150"/>
                      </a:lnTo>
                      <a:lnTo>
                        <a:pt x="198" y="158"/>
                      </a:lnTo>
                      <a:lnTo>
                        <a:pt x="145" y="158"/>
                      </a:lnTo>
                      <a:lnTo>
                        <a:pt x="29" y="106"/>
                      </a:lnTo>
                      <a:lnTo>
                        <a:pt x="0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2e4f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116240" y="5976000"/>
                  <a:ext cx="293760" cy="233640"/>
                </a:xfrm>
                <a:custGeom>
                  <a:avLst/>
                  <a:gdLst/>
                  <a:ahLst/>
                  <a:rect l="l" t="t" r="r" b="b"/>
                  <a:pathLst>
                    <a:path w="1114" h="888">
                      <a:moveTo>
                        <a:pt x="34" y="888"/>
                      </a:moveTo>
                      <a:lnTo>
                        <a:pt x="51" y="865"/>
                      </a:lnTo>
                      <a:lnTo>
                        <a:pt x="101" y="800"/>
                      </a:lnTo>
                      <a:lnTo>
                        <a:pt x="137" y="755"/>
                      </a:lnTo>
                      <a:lnTo>
                        <a:pt x="178" y="705"/>
                      </a:lnTo>
                      <a:lnTo>
                        <a:pt x="224" y="650"/>
                      </a:lnTo>
                      <a:lnTo>
                        <a:pt x="277" y="593"/>
                      </a:lnTo>
                      <a:lnTo>
                        <a:pt x="334" y="532"/>
                      </a:lnTo>
                      <a:lnTo>
                        <a:pt x="363" y="504"/>
                      </a:lnTo>
                      <a:lnTo>
                        <a:pt x="393" y="473"/>
                      </a:lnTo>
                      <a:lnTo>
                        <a:pt x="426" y="443"/>
                      </a:lnTo>
                      <a:lnTo>
                        <a:pt x="458" y="415"/>
                      </a:lnTo>
                      <a:lnTo>
                        <a:pt x="492" y="386"/>
                      </a:lnTo>
                      <a:lnTo>
                        <a:pt x="525" y="358"/>
                      </a:lnTo>
                      <a:lnTo>
                        <a:pt x="559" y="331"/>
                      </a:lnTo>
                      <a:lnTo>
                        <a:pt x="595" y="304"/>
                      </a:lnTo>
                      <a:lnTo>
                        <a:pt x="629" y="281"/>
                      </a:lnTo>
                      <a:lnTo>
                        <a:pt x="665" y="257"/>
                      </a:lnTo>
                      <a:lnTo>
                        <a:pt x="737" y="217"/>
                      </a:lnTo>
                      <a:lnTo>
                        <a:pt x="808" y="185"/>
                      </a:lnTo>
                      <a:lnTo>
                        <a:pt x="874" y="158"/>
                      </a:lnTo>
                      <a:lnTo>
                        <a:pt x="931" y="137"/>
                      </a:lnTo>
                      <a:lnTo>
                        <a:pt x="1017" y="105"/>
                      </a:lnTo>
                      <a:lnTo>
                        <a:pt x="1101" y="78"/>
                      </a:lnTo>
                      <a:lnTo>
                        <a:pt x="1114" y="80"/>
                      </a:lnTo>
                      <a:lnTo>
                        <a:pt x="1106" y="86"/>
                      </a:lnTo>
                      <a:lnTo>
                        <a:pt x="760" y="61"/>
                      </a:lnTo>
                      <a:lnTo>
                        <a:pt x="348" y="0"/>
                      </a:lnTo>
                      <a:lnTo>
                        <a:pt x="310" y="13"/>
                      </a:lnTo>
                      <a:lnTo>
                        <a:pt x="258" y="80"/>
                      </a:lnTo>
                      <a:lnTo>
                        <a:pt x="232" y="128"/>
                      </a:lnTo>
                      <a:lnTo>
                        <a:pt x="203" y="185"/>
                      </a:lnTo>
                      <a:lnTo>
                        <a:pt x="175" y="247"/>
                      </a:lnTo>
                      <a:lnTo>
                        <a:pt x="146" y="312"/>
                      </a:lnTo>
                      <a:lnTo>
                        <a:pt x="118" y="380"/>
                      </a:lnTo>
                      <a:lnTo>
                        <a:pt x="93" y="451"/>
                      </a:lnTo>
                      <a:lnTo>
                        <a:pt x="47" y="580"/>
                      </a:lnTo>
                      <a:lnTo>
                        <a:pt x="2" y="764"/>
                      </a:lnTo>
                      <a:lnTo>
                        <a:pt x="0" y="808"/>
                      </a:lnTo>
                      <a:lnTo>
                        <a:pt x="2" y="840"/>
                      </a:lnTo>
                      <a:lnTo>
                        <a:pt x="13" y="876"/>
                      </a:lnTo>
                      <a:lnTo>
                        <a:pt x="34" y="888"/>
                      </a:lnTo>
                      <a:lnTo>
                        <a:pt x="34" y="88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462560" y="6169320"/>
                  <a:ext cx="57960" cy="126720"/>
                </a:xfrm>
                <a:custGeom>
                  <a:avLst/>
                  <a:gdLst/>
                  <a:ahLst/>
                  <a:rect l="l" t="t" r="r" b="b"/>
                  <a:pathLst>
                    <a:path w="220" h="483">
                      <a:moveTo>
                        <a:pt x="0" y="391"/>
                      </a:moveTo>
                      <a:lnTo>
                        <a:pt x="11" y="458"/>
                      </a:lnTo>
                      <a:lnTo>
                        <a:pt x="30" y="483"/>
                      </a:lnTo>
                      <a:lnTo>
                        <a:pt x="59" y="477"/>
                      </a:lnTo>
                      <a:lnTo>
                        <a:pt x="110" y="422"/>
                      </a:lnTo>
                      <a:lnTo>
                        <a:pt x="133" y="378"/>
                      </a:lnTo>
                      <a:lnTo>
                        <a:pt x="161" y="319"/>
                      </a:lnTo>
                      <a:lnTo>
                        <a:pt x="188" y="258"/>
                      </a:lnTo>
                      <a:lnTo>
                        <a:pt x="205" y="209"/>
                      </a:lnTo>
                      <a:lnTo>
                        <a:pt x="220" y="26"/>
                      </a:lnTo>
                      <a:lnTo>
                        <a:pt x="211" y="13"/>
                      </a:lnTo>
                      <a:lnTo>
                        <a:pt x="194" y="0"/>
                      </a:lnTo>
                      <a:lnTo>
                        <a:pt x="106" y="9"/>
                      </a:lnTo>
                      <a:lnTo>
                        <a:pt x="28" y="209"/>
                      </a:lnTo>
                      <a:lnTo>
                        <a:pt x="0" y="391"/>
                      </a:lnTo>
                      <a:lnTo>
                        <a:pt x="0" y="391"/>
                      </a:lnTo>
                      <a:close/>
                    </a:path>
                  </a:pathLst>
                </a:custGeom>
                <a:solidFill>
                  <a:srgbClr val="607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235040" y="6104160"/>
                  <a:ext cx="127080" cy="127440"/>
                </a:xfrm>
                <a:custGeom>
                  <a:avLst/>
                  <a:gdLst/>
                  <a:ahLst/>
                  <a:rect l="l" t="t" r="r" b="b"/>
                  <a:pathLst>
                    <a:path w="481" h="483">
                      <a:moveTo>
                        <a:pt x="63" y="156"/>
                      </a:moveTo>
                      <a:lnTo>
                        <a:pt x="48" y="182"/>
                      </a:lnTo>
                      <a:lnTo>
                        <a:pt x="19" y="245"/>
                      </a:lnTo>
                      <a:lnTo>
                        <a:pt x="0" y="325"/>
                      </a:lnTo>
                      <a:lnTo>
                        <a:pt x="17" y="401"/>
                      </a:lnTo>
                      <a:lnTo>
                        <a:pt x="46" y="431"/>
                      </a:lnTo>
                      <a:lnTo>
                        <a:pt x="82" y="454"/>
                      </a:lnTo>
                      <a:lnTo>
                        <a:pt x="171" y="479"/>
                      </a:lnTo>
                      <a:lnTo>
                        <a:pt x="308" y="483"/>
                      </a:lnTo>
                      <a:lnTo>
                        <a:pt x="402" y="450"/>
                      </a:lnTo>
                      <a:lnTo>
                        <a:pt x="468" y="424"/>
                      </a:lnTo>
                      <a:lnTo>
                        <a:pt x="481" y="372"/>
                      </a:lnTo>
                      <a:lnTo>
                        <a:pt x="236" y="388"/>
                      </a:lnTo>
                      <a:lnTo>
                        <a:pt x="187" y="235"/>
                      </a:lnTo>
                      <a:lnTo>
                        <a:pt x="242" y="64"/>
                      </a:lnTo>
                      <a:lnTo>
                        <a:pt x="289" y="0"/>
                      </a:lnTo>
                      <a:lnTo>
                        <a:pt x="202" y="30"/>
                      </a:lnTo>
                      <a:lnTo>
                        <a:pt x="126" y="78"/>
                      </a:lnTo>
                      <a:lnTo>
                        <a:pt x="63" y="156"/>
                      </a:lnTo>
                      <a:lnTo>
                        <a:pt x="63" y="156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702320" y="6047640"/>
                  <a:ext cx="32400" cy="83160"/>
                </a:xfrm>
                <a:custGeom>
                  <a:avLst/>
                  <a:gdLst/>
                  <a:ahLst/>
                  <a:rect l="l" t="t" r="r" b="b"/>
                  <a:pathLst>
                    <a:path w="124" h="316">
                      <a:moveTo>
                        <a:pt x="48" y="32"/>
                      </a:moveTo>
                      <a:lnTo>
                        <a:pt x="21" y="93"/>
                      </a:lnTo>
                      <a:lnTo>
                        <a:pt x="0" y="196"/>
                      </a:lnTo>
                      <a:lnTo>
                        <a:pt x="12" y="302"/>
                      </a:lnTo>
                      <a:lnTo>
                        <a:pt x="33" y="316"/>
                      </a:lnTo>
                      <a:lnTo>
                        <a:pt x="63" y="287"/>
                      </a:lnTo>
                      <a:lnTo>
                        <a:pt x="107" y="182"/>
                      </a:lnTo>
                      <a:lnTo>
                        <a:pt x="124" y="19"/>
                      </a:lnTo>
                      <a:lnTo>
                        <a:pt x="103" y="0"/>
                      </a:lnTo>
                      <a:lnTo>
                        <a:pt x="48" y="32"/>
                      </a:lnTo>
                      <a:lnTo>
                        <a:pt x="48" y="32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403520" y="5805720"/>
                  <a:ext cx="316800" cy="100080"/>
                </a:xfrm>
                <a:custGeom>
                  <a:avLst/>
                  <a:gdLst/>
                  <a:ahLst/>
                  <a:rect l="l" t="t" r="r" b="b"/>
                  <a:pathLst>
                    <a:path w="1204" h="380">
                      <a:moveTo>
                        <a:pt x="0" y="211"/>
                      </a:moveTo>
                      <a:lnTo>
                        <a:pt x="65" y="194"/>
                      </a:lnTo>
                      <a:lnTo>
                        <a:pt x="215" y="152"/>
                      </a:lnTo>
                      <a:lnTo>
                        <a:pt x="303" y="125"/>
                      </a:lnTo>
                      <a:lnTo>
                        <a:pt x="388" y="99"/>
                      </a:lnTo>
                      <a:lnTo>
                        <a:pt x="466" y="72"/>
                      </a:lnTo>
                      <a:lnTo>
                        <a:pt x="525" y="47"/>
                      </a:lnTo>
                      <a:lnTo>
                        <a:pt x="576" y="28"/>
                      </a:lnTo>
                      <a:lnTo>
                        <a:pt x="630" y="13"/>
                      </a:lnTo>
                      <a:lnTo>
                        <a:pt x="736" y="0"/>
                      </a:lnTo>
                      <a:lnTo>
                        <a:pt x="900" y="26"/>
                      </a:lnTo>
                      <a:lnTo>
                        <a:pt x="930" y="47"/>
                      </a:lnTo>
                      <a:lnTo>
                        <a:pt x="968" y="78"/>
                      </a:lnTo>
                      <a:lnTo>
                        <a:pt x="1010" y="112"/>
                      </a:lnTo>
                      <a:lnTo>
                        <a:pt x="1052" y="150"/>
                      </a:lnTo>
                      <a:lnTo>
                        <a:pt x="1092" y="186"/>
                      </a:lnTo>
                      <a:lnTo>
                        <a:pt x="1124" y="215"/>
                      </a:lnTo>
                      <a:lnTo>
                        <a:pt x="1154" y="243"/>
                      </a:lnTo>
                      <a:lnTo>
                        <a:pt x="1204" y="304"/>
                      </a:lnTo>
                      <a:lnTo>
                        <a:pt x="1147" y="327"/>
                      </a:lnTo>
                      <a:lnTo>
                        <a:pt x="1073" y="380"/>
                      </a:lnTo>
                      <a:lnTo>
                        <a:pt x="1059" y="380"/>
                      </a:lnTo>
                      <a:lnTo>
                        <a:pt x="1052" y="346"/>
                      </a:lnTo>
                      <a:lnTo>
                        <a:pt x="1046" y="281"/>
                      </a:lnTo>
                      <a:lnTo>
                        <a:pt x="917" y="173"/>
                      </a:lnTo>
                      <a:lnTo>
                        <a:pt x="651" y="179"/>
                      </a:lnTo>
                      <a:lnTo>
                        <a:pt x="413" y="264"/>
                      </a:lnTo>
                      <a:lnTo>
                        <a:pt x="0" y="211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340880" y="6278400"/>
                  <a:ext cx="136080" cy="79920"/>
                </a:xfrm>
                <a:custGeom>
                  <a:avLst/>
                  <a:gdLst/>
                  <a:ahLst/>
                  <a:rect l="l" t="t" r="r" b="b"/>
                  <a:pathLst>
                    <a:path w="517" h="304">
                      <a:moveTo>
                        <a:pt x="0" y="133"/>
                      </a:moveTo>
                      <a:lnTo>
                        <a:pt x="91" y="245"/>
                      </a:lnTo>
                      <a:lnTo>
                        <a:pt x="279" y="304"/>
                      </a:lnTo>
                      <a:lnTo>
                        <a:pt x="410" y="276"/>
                      </a:lnTo>
                      <a:lnTo>
                        <a:pt x="517" y="255"/>
                      </a:lnTo>
                      <a:lnTo>
                        <a:pt x="425" y="257"/>
                      </a:lnTo>
                      <a:lnTo>
                        <a:pt x="338" y="217"/>
                      </a:lnTo>
                      <a:lnTo>
                        <a:pt x="268" y="131"/>
                      </a:lnTo>
                      <a:lnTo>
                        <a:pt x="228" y="0"/>
                      </a:lnTo>
                      <a:lnTo>
                        <a:pt x="216" y="27"/>
                      </a:lnTo>
                      <a:lnTo>
                        <a:pt x="192" y="52"/>
                      </a:lnTo>
                      <a:lnTo>
                        <a:pt x="152" y="72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3148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029120" y="5971680"/>
                  <a:ext cx="118080" cy="70560"/>
                </a:xfrm>
                <a:custGeom>
                  <a:avLst/>
                  <a:gdLst/>
                  <a:ahLst/>
                  <a:rect l="l" t="t" r="r" b="b"/>
                  <a:pathLst>
                    <a:path w="447" h="266">
                      <a:moveTo>
                        <a:pt x="0" y="260"/>
                      </a:moveTo>
                      <a:lnTo>
                        <a:pt x="36" y="236"/>
                      </a:lnTo>
                      <a:lnTo>
                        <a:pt x="74" y="211"/>
                      </a:lnTo>
                      <a:lnTo>
                        <a:pt x="122" y="179"/>
                      </a:lnTo>
                      <a:lnTo>
                        <a:pt x="173" y="146"/>
                      </a:lnTo>
                      <a:lnTo>
                        <a:pt x="226" y="112"/>
                      </a:lnTo>
                      <a:lnTo>
                        <a:pt x="274" y="82"/>
                      </a:lnTo>
                      <a:lnTo>
                        <a:pt x="314" y="59"/>
                      </a:lnTo>
                      <a:lnTo>
                        <a:pt x="373" y="27"/>
                      </a:lnTo>
                      <a:lnTo>
                        <a:pt x="414" y="8"/>
                      </a:lnTo>
                      <a:lnTo>
                        <a:pt x="447" y="0"/>
                      </a:lnTo>
                      <a:lnTo>
                        <a:pt x="418" y="15"/>
                      </a:lnTo>
                      <a:lnTo>
                        <a:pt x="350" y="59"/>
                      </a:lnTo>
                      <a:lnTo>
                        <a:pt x="308" y="89"/>
                      </a:lnTo>
                      <a:lnTo>
                        <a:pt x="264" y="123"/>
                      </a:lnTo>
                      <a:lnTo>
                        <a:pt x="222" y="160"/>
                      </a:lnTo>
                      <a:lnTo>
                        <a:pt x="184" y="198"/>
                      </a:lnTo>
                      <a:lnTo>
                        <a:pt x="154" y="230"/>
                      </a:lnTo>
                      <a:lnTo>
                        <a:pt x="129" y="251"/>
                      </a:lnTo>
                      <a:lnTo>
                        <a:pt x="97" y="266"/>
                      </a:lnTo>
                      <a:lnTo>
                        <a:pt x="76" y="258"/>
                      </a:lnTo>
                      <a:lnTo>
                        <a:pt x="0" y="260"/>
                      </a:lnTo>
                      <a:lnTo>
                        <a:pt x="0" y="2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028760" y="5946840"/>
                  <a:ext cx="165240" cy="214920"/>
                </a:xfrm>
                <a:custGeom>
                  <a:avLst/>
                  <a:gdLst/>
                  <a:ahLst/>
                  <a:rect l="l" t="t" r="r" b="b"/>
                  <a:pathLst>
                    <a:path w="629" h="815">
                      <a:moveTo>
                        <a:pt x="224" y="363"/>
                      </a:moveTo>
                      <a:lnTo>
                        <a:pt x="245" y="526"/>
                      </a:lnTo>
                      <a:lnTo>
                        <a:pt x="213" y="587"/>
                      </a:lnTo>
                      <a:lnTo>
                        <a:pt x="177" y="648"/>
                      </a:lnTo>
                      <a:lnTo>
                        <a:pt x="152" y="673"/>
                      </a:lnTo>
                      <a:lnTo>
                        <a:pt x="122" y="692"/>
                      </a:lnTo>
                      <a:lnTo>
                        <a:pt x="42" y="703"/>
                      </a:lnTo>
                      <a:lnTo>
                        <a:pt x="8" y="709"/>
                      </a:lnTo>
                      <a:lnTo>
                        <a:pt x="0" y="726"/>
                      </a:lnTo>
                      <a:lnTo>
                        <a:pt x="15" y="751"/>
                      </a:lnTo>
                      <a:lnTo>
                        <a:pt x="42" y="777"/>
                      </a:lnTo>
                      <a:lnTo>
                        <a:pt x="78" y="802"/>
                      </a:lnTo>
                      <a:lnTo>
                        <a:pt x="118" y="815"/>
                      </a:lnTo>
                      <a:lnTo>
                        <a:pt x="181" y="793"/>
                      </a:lnTo>
                      <a:lnTo>
                        <a:pt x="209" y="739"/>
                      </a:lnTo>
                      <a:lnTo>
                        <a:pt x="230" y="703"/>
                      </a:lnTo>
                      <a:lnTo>
                        <a:pt x="253" y="661"/>
                      </a:lnTo>
                      <a:lnTo>
                        <a:pt x="278" y="616"/>
                      </a:lnTo>
                      <a:lnTo>
                        <a:pt x="304" y="566"/>
                      </a:lnTo>
                      <a:lnTo>
                        <a:pt x="331" y="515"/>
                      </a:lnTo>
                      <a:lnTo>
                        <a:pt x="357" y="466"/>
                      </a:lnTo>
                      <a:lnTo>
                        <a:pt x="384" y="414"/>
                      </a:lnTo>
                      <a:lnTo>
                        <a:pt x="409" y="367"/>
                      </a:lnTo>
                      <a:lnTo>
                        <a:pt x="434" y="323"/>
                      </a:lnTo>
                      <a:lnTo>
                        <a:pt x="453" y="285"/>
                      </a:lnTo>
                      <a:lnTo>
                        <a:pt x="483" y="228"/>
                      </a:lnTo>
                      <a:lnTo>
                        <a:pt x="494" y="207"/>
                      </a:lnTo>
                      <a:lnTo>
                        <a:pt x="629" y="76"/>
                      </a:lnTo>
                      <a:lnTo>
                        <a:pt x="614" y="0"/>
                      </a:lnTo>
                      <a:lnTo>
                        <a:pt x="595" y="13"/>
                      </a:lnTo>
                      <a:lnTo>
                        <a:pt x="548" y="49"/>
                      </a:lnTo>
                      <a:lnTo>
                        <a:pt x="515" y="72"/>
                      </a:lnTo>
                      <a:lnTo>
                        <a:pt x="479" y="99"/>
                      </a:lnTo>
                      <a:lnTo>
                        <a:pt x="441" y="129"/>
                      </a:lnTo>
                      <a:lnTo>
                        <a:pt x="401" y="160"/>
                      </a:lnTo>
                      <a:lnTo>
                        <a:pt x="363" y="192"/>
                      </a:lnTo>
                      <a:lnTo>
                        <a:pt x="327" y="222"/>
                      </a:lnTo>
                      <a:lnTo>
                        <a:pt x="295" y="253"/>
                      </a:lnTo>
                      <a:lnTo>
                        <a:pt x="266" y="281"/>
                      </a:lnTo>
                      <a:lnTo>
                        <a:pt x="224" y="363"/>
                      </a:lnTo>
                      <a:lnTo>
                        <a:pt x="224" y="3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239360" y="5771520"/>
                  <a:ext cx="303480" cy="81000"/>
                </a:xfrm>
                <a:custGeom>
                  <a:avLst/>
                  <a:gdLst/>
                  <a:ahLst/>
                  <a:rect l="l" t="t" r="r" b="b"/>
                  <a:pathLst>
                    <a:path w="1152" h="308">
                      <a:moveTo>
                        <a:pt x="32" y="237"/>
                      </a:moveTo>
                      <a:lnTo>
                        <a:pt x="536" y="308"/>
                      </a:lnTo>
                      <a:lnTo>
                        <a:pt x="473" y="271"/>
                      </a:lnTo>
                      <a:lnTo>
                        <a:pt x="450" y="232"/>
                      </a:lnTo>
                      <a:lnTo>
                        <a:pt x="460" y="211"/>
                      </a:lnTo>
                      <a:lnTo>
                        <a:pt x="486" y="190"/>
                      </a:lnTo>
                      <a:lnTo>
                        <a:pt x="526" y="167"/>
                      </a:lnTo>
                      <a:lnTo>
                        <a:pt x="566" y="150"/>
                      </a:lnTo>
                      <a:lnTo>
                        <a:pt x="654" y="119"/>
                      </a:lnTo>
                      <a:lnTo>
                        <a:pt x="747" y="97"/>
                      </a:lnTo>
                      <a:lnTo>
                        <a:pt x="849" y="76"/>
                      </a:lnTo>
                      <a:lnTo>
                        <a:pt x="1152" y="47"/>
                      </a:lnTo>
                      <a:lnTo>
                        <a:pt x="1011" y="15"/>
                      </a:lnTo>
                      <a:lnTo>
                        <a:pt x="785" y="3"/>
                      </a:lnTo>
                      <a:lnTo>
                        <a:pt x="650" y="0"/>
                      </a:lnTo>
                      <a:lnTo>
                        <a:pt x="448" y="36"/>
                      </a:lnTo>
                      <a:lnTo>
                        <a:pt x="237" y="102"/>
                      </a:lnTo>
                      <a:lnTo>
                        <a:pt x="38" y="190"/>
                      </a:lnTo>
                      <a:lnTo>
                        <a:pt x="0" y="264"/>
                      </a:lnTo>
                      <a:lnTo>
                        <a:pt x="32" y="237"/>
                      </a:lnTo>
                      <a:lnTo>
                        <a:pt x="32" y="237"/>
                      </a:lnTo>
                      <a:close/>
                    </a:path>
                  </a:pathLst>
                </a:custGeom>
                <a:solidFill>
                  <a:srgbClr val="fff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568400" y="5955480"/>
                  <a:ext cx="225000" cy="225360"/>
                </a:xfrm>
                <a:custGeom>
                  <a:avLst/>
                  <a:gdLst/>
                  <a:ahLst/>
                  <a:rect l="l" t="t" r="r" b="b"/>
                  <a:pathLst>
                    <a:path w="853" h="856">
                      <a:moveTo>
                        <a:pt x="5" y="804"/>
                      </a:moveTo>
                      <a:lnTo>
                        <a:pt x="87" y="578"/>
                      </a:lnTo>
                      <a:lnTo>
                        <a:pt x="89" y="650"/>
                      </a:lnTo>
                      <a:lnTo>
                        <a:pt x="169" y="512"/>
                      </a:lnTo>
                      <a:lnTo>
                        <a:pt x="152" y="629"/>
                      </a:lnTo>
                      <a:lnTo>
                        <a:pt x="230" y="464"/>
                      </a:lnTo>
                      <a:lnTo>
                        <a:pt x="243" y="588"/>
                      </a:lnTo>
                      <a:lnTo>
                        <a:pt x="274" y="390"/>
                      </a:lnTo>
                      <a:lnTo>
                        <a:pt x="310" y="232"/>
                      </a:lnTo>
                      <a:lnTo>
                        <a:pt x="332" y="166"/>
                      </a:lnTo>
                      <a:lnTo>
                        <a:pt x="359" y="114"/>
                      </a:lnTo>
                      <a:lnTo>
                        <a:pt x="388" y="80"/>
                      </a:lnTo>
                      <a:lnTo>
                        <a:pt x="416" y="53"/>
                      </a:lnTo>
                      <a:lnTo>
                        <a:pt x="469" y="23"/>
                      </a:lnTo>
                      <a:lnTo>
                        <a:pt x="524" y="10"/>
                      </a:lnTo>
                      <a:lnTo>
                        <a:pt x="589" y="0"/>
                      </a:lnTo>
                      <a:lnTo>
                        <a:pt x="644" y="12"/>
                      </a:lnTo>
                      <a:lnTo>
                        <a:pt x="694" y="55"/>
                      </a:lnTo>
                      <a:lnTo>
                        <a:pt x="736" y="131"/>
                      </a:lnTo>
                      <a:lnTo>
                        <a:pt x="770" y="217"/>
                      </a:lnTo>
                      <a:lnTo>
                        <a:pt x="806" y="312"/>
                      </a:lnTo>
                      <a:lnTo>
                        <a:pt x="853" y="420"/>
                      </a:lnTo>
                      <a:lnTo>
                        <a:pt x="682" y="550"/>
                      </a:lnTo>
                      <a:lnTo>
                        <a:pt x="690" y="481"/>
                      </a:lnTo>
                      <a:lnTo>
                        <a:pt x="701" y="274"/>
                      </a:lnTo>
                      <a:lnTo>
                        <a:pt x="652" y="183"/>
                      </a:lnTo>
                      <a:lnTo>
                        <a:pt x="570" y="185"/>
                      </a:lnTo>
                      <a:lnTo>
                        <a:pt x="545" y="207"/>
                      </a:lnTo>
                      <a:lnTo>
                        <a:pt x="490" y="264"/>
                      </a:lnTo>
                      <a:lnTo>
                        <a:pt x="433" y="344"/>
                      </a:lnTo>
                      <a:lnTo>
                        <a:pt x="399" y="432"/>
                      </a:lnTo>
                      <a:lnTo>
                        <a:pt x="372" y="608"/>
                      </a:lnTo>
                      <a:lnTo>
                        <a:pt x="357" y="698"/>
                      </a:lnTo>
                      <a:lnTo>
                        <a:pt x="355" y="770"/>
                      </a:lnTo>
                      <a:lnTo>
                        <a:pt x="112" y="852"/>
                      </a:lnTo>
                      <a:lnTo>
                        <a:pt x="0" y="856"/>
                      </a:lnTo>
                      <a:lnTo>
                        <a:pt x="5" y="804"/>
                      </a:lnTo>
                      <a:lnTo>
                        <a:pt x="5" y="804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644000" y="5945400"/>
                  <a:ext cx="105840" cy="99360"/>
                </a:xfrm>
                <a:custGeom>
                  <a:avLst/>
                  <a:gdLst/>
                  <a:ahLst/>
                  <a:rect l="l" t="t" r="r" b="b"/>
                  <a:pathLst>
                    <a:path w="403" h="378">
                      <a:moveTo>
                        <a:pt x="0" y="378"/>
                      </a:moveTo>
                      <a:lnTo>
                        <a:pt x="9" y="244"/>
                      </a:lnTo>
                      <a:lnTo>
                        <a:pt x="25" y="186"/>
                      </a:lnTo>
                      <a:lnTo>
                        <a:pt x="47" y="129"/>
                      </a:lnTo>
                      <a:lnTo>
                        <a:pt x="84" y="78"/>
                      </a:lnTo>
                      <a:lnTo>
                        <a:pt x="106" y="55"/>
                      </a:lnTo>
                      <a:lnTo>
                        <a:pt x="133" y="34"/>
                      </a:lnTo>
                      <a:lnTo>
                        <a:pt x="186" y="8"/>
                      </a:lnTo>
                      <a:lnTo>
                        <a:pt x="238" y="0"/>
                      </a:lnTo>
                      <a:lnTo>
                        <a:pt x="323" y="23"/>
                      </a:lnTo>
                      <a:lnTo>
                        <a:pt x="380" y="63"/>
                      </a:lnTo>
                      <a:lnTo>
                        <a:pt x="403" y="84"/>
                      </a:lnTo>
                      <a:lnTo>
                        <a:pt x="386" y="74"/>
                      </a:lnTo>
                      <a:lnTo>
                        <a:pt x="340" y="65"/>
                      </a:lnTo>
                      <a:lnTo>
                        <a:pt x="272" y="76"/>
                      </a:lnTo>
                      <a:lnTo>
                        <a:pt x="182" y="133"/>
                      </a:lnTo>
                      <a:lnTo>
                        <a:pt x="99" y="221"/>
                      </a:lnTo>
                      <a:lnTo>
                        <a:pt x="42" y="299"/>
                      </a:lnTo>
                      <a:lnTo>
                        <a:pt x="0" y="378"/>
                      </a:lnTo>
                      <a:lnTo>
                        <a:pt x="0" y="378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308480" y="6017040"/>
                  <a:ext cx="259560" cy="230760"/>
                </a:xfrm>
                <a:custGeom>
                  <a:avLst/>
                  <a:gdLst/>
                  <a:ahLst/>
                  <a:rect l="l" t="t" r="r" b="b"/>
                  <a:pathLst>
                    <a:path w="985" h="876">
                      <a:moveTo>
                        <a:pt x="0" y="876"/>
                      </a:moveTo>
                      <a:lnTo>
                        <a:pt x="40" y="852"/>
                      </a:lnTo>
                      <a:lnTo>
                        <a:pt x="82" y="823"/>
                      </a:lnTo>
                      <a:lnTo>
                        <a:pt x="129" y="789"/>
                      </a:lnTo>
                      <a:lnTo>
                        <a:pt x="179" y="751"/>
                      </a:lnTo>
                      <a:lnTo>
                        <a:pt x="224" y="713"/>
                      </a:lnTo>
                      <a:lnTo>
                        <a:pt x="279" y="644"/>
                      </a:lnTo>
                      <a:lnTo>
                        <a:pt x="321" y="354"/>
                      </a:lnTo>
                      <a:lnTo>
                        <a:pt x="342" y="259"/>
                      </a:lnTo>
                      <a:lnTo>
                        <a:pt x="371" y="171"/>
                      </a:lnTo>
                      <a:lnTo>
                        <a:pt x="390" y="131"/>
                      </a:lnTo>
                      <a:lnTo>
                        <a:pt x="413" y="97"/>
                      </a:lnTo>
                      <a:lnTo>
                        <a:pt x="437" y="67"/>
                      </a:lnTo>
                      <a:lnTo>
                        <a:pt x="466" y="44"/>
                      </a:lnTo>
                      <a:lnTo>
                        <a:pt x="525" y="15"/>
                      </a:lnTo>
                      <a:lnTo>
                        <a:pt x="578" y="0"/>
                      </a:lnTo>
                      <a:lnTo>
                        <a:pt x="664" y="8"/>
                      </a:lnTo>
                      <a:lnTo>
                        <a:pt x="732" y="44"/>
                      </a:lnTo>
                      <a:lnTo>
                        <a:pt x="749" y="53"/>
                      </a:lnTo>
                      <a:lnTo>
                        <a:pt x="798" y="78"/>
                      </a:lnTo>
                      <a:lnTo>
                        <a:pt x="848" y="105"/>
                      </a:lnTo>
                      <a:lnTo>
                        <a:pt x="873" y="116"/>
                      </a:lnTo>
                      <a:lnTo>
                        <a:pt x="958" y="257"/>
                      </a:lnTo>
                      <a:lnTo>
                        <a:pt x="985" y="378"/>
                      </a:lnTo>
                      <a:lnTo>
                        <a:pt x="899" y="285"/>
                      </a:lnTo>
                      <a:lnTo>
                        <a:pt x="728" y="289"/>
                      </a:lnTo>
                      <a:lnTo>
                        <a:pt x="451" y="635"/>
                      </a:lnTo>
                      <a:lnTo>
                        <a:pt x="274" y="863"/>
                      </a:lnTo>
                      <a:lnTo>
                        <a:pt x="0" y="876"/>
                      </a:lnTo>
                      <a:lnTo>
                        <a:pt x="0" y="876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451760" y="5846040"/>
                  <a:ext cx="238320" cy="175680"/>
                </a:xfrm>
                <a:custGeom>
                  <a:avLst/>
                  <a:gdLst/>
                  <a:ahLst/>
                  <a:rect l="l" t="t" r="r" b="b"/>
                  <a:pathLst>
                    <a:path w="905" h="667">
                      <a:moveTo>
                        <a:pt x="0" y="561"/>
                      </a:moveTo>
                      <a:lnTo>
                        <a:pt x="146" y="667"/>
                      </a:lnTo>
                      <a:lnTo>
                        <a:pt x="585" y="460"/>
                      </a:lnTo>
                      <a:lnTo>
                        <a:pt x="905" y="207"/>
                      </a:lnTo>
                      <a:lnTo>
                        <a:pt x="817" y="70"/>
                      </a:lnTo>
                      <a:lnTo>
                        <a:pt x="701" y="4"/>
                      </a:lnTo>
                      <a:lnTo>
                        <a:pt x="540" y="0"/>
                      </a:lnTo>
                      <a:lnTo>
                        <a:pt x="405" y="46"/>
                      </a:lnTo>
                      <a:lnTo>
                        <a:pt x="228" y="131"/>
                      </a:lnTo>
                      <a:lnTo>
                        <a:pt x="95" y="253"/>
                      </a:lnTo>
                      <a:lnTo>
                        <a:pt x="36" y="435"/>
                      </a:lnTo>
                      <a:lnTo>
                        <a:pt x="0" y="561"/>
                      </a:lnTo>
                      <a:lnTo>
                        <a:pt x="0" y="561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286160" y="6089760"/>
                  <a:ext cx="107280" cy="117360"/>
                </a:xfrm>
                <a:custGeom>
                  <a:avLst/>
                  <a:gdLst/>
                  <a:ahLst/>
                  <a:rect l="l" t="t" r="r" b="b"/>
                  <a:pathLst>
                    <a:path w="407" h="446">
                      <a:moveTo>
                        <a:pt x="0" y="328"/>
                      </a:moveTo>
                      <a:lnTo>
                        <a:pt x="65" y="93"/>
                      </a:lnTo>
                      <a:lnTo>
                        <a:pt x="190" y="11"/>
                      </a:lnTo>
                      <a:lnTo>
                        <a:pt x="236" y="3"/>
                      </a:lnTo>
                      <a:lnTo>
                        <a:pt x="301" y="0"/>
                      </a:lnTo>
                      <a:lnTo>
                        <a:pt x="350" y="15"/>
                      </a:lnTo>
                      <a:lnTo>
                        <a:pt x="382" y="59"/>
                      </a:lnTo>
                      <a:lnTo>
                        <a:pt x="407" y="205"/>
                      </a:lnTo>
                      <a:lnTo>
                        <a:pt x="400" y="277"/>
                      </a:lnTo>
                      <a:lnTo>
                        <a:pt x="373" y="330"/>
                      </a:lnTo>
                      <a:lnTo>
                        <a:pt x="348" y="351"/>
                      </a:lnTo>
                      <a:lnTo>
                        <a:pt x="320" y="372"/>
                      </a:lnTo>
                      <a:lnTo>
                        <a:pt x="259" y="408"/>
                      </a:lnTo>
                      <a:lnTo>
                        <a:pt x="209" y="435"/>
                      </a:lnTo>
                      <a:lnTo>
                        <a:pt x="189" y="446"/>
                      </a:lnTo>
                      <a:lnTo>
                        <a:pt x="38" y="412"/>
                      </a:lnTo>
                      <a:lnTo>
                        <a:pt x="0" y="328"/>
                      </a:lnTo>
                      <a:lnTo>
                        <a:pt x="0" y="328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017600" y="6037560"/>
                  <a:ext cx="79560" cy="96840"/>
                </a:xfrm>
                <a:custGeom>
                  <a:avLst/>
                  <a:gdLst/>
                  <a:ahLst/>
                  <a:rect l="l" t="t" r="r" b="b"/>
                  <a:pathLst>
                    <a:path w="303" h="369">
                      <a:moveTo>
                        <a:pt x="0" y="257"/>
                      </a:moveTo>
                      <a:lnTo>
                        <a:pt x="8" y="171"/>
                      </a:lnTo>
                      <a:lnTo>
                        <a:pt x="29" y="99"/>
                      </a:lnTo>
                      <a:lnTo>
                        <a:pt x="44" y="65"/>
                      </a:lnTo>
                      <a:lnTo>
                        <a:pt x="67" y="38"/>
                      </a:lnTo>
                      <a:lnTo>
                        <a:pt x="105" y="6"/>
                      </a:lnTo>
                      <a:lnTo>
                        <a:pt x="124" y="0"/>
                      </a:lnTo>
                      <a:lnTo>
                        <a:pt x="131" y="9"/>
                      </a:lnTo>
                      <a:lnTo>
                        <a:pt x="238" y="25"/>
                      </a:lnTo>
                      <a:lnTo>
                        <a:pt x="303" y="122"/>
                      </a:lnTo>
                      <a:lnTo>
                        <a:pt x="247" y="253"/>
                      </a:lnTo>
                      <a:lnTo>
                        <a:pt x="122" y="369"/>
                      </a:lnTo>
                      <a:lnTo>
                        <a:pt x="0" y="257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523400" y="5855760"/>
                  <a:ext cx="166680" cy="146880"/>
                </a:xfrm>
                <a:custGeom>
                  <a:avLst/>
                  <a:gdLst/>
                  <a:ahLst/>
                  <a:rect l="l" t="t" r="r" b="b"/>
                  <a:pathLst>
                    <a:path w="633" h="559">
                      <a:moveTo>
                        <a:pt x="0" y="559"/>
                      </a:moveTo>
                      <a:lnTo>
                        <a:pt x="24" y="542"/>
                      </a:lnTo>
                      <a:lnTo>
                        <a:pt x="55" y="521"/>
                      </a:lnTo>
                      <a:lnTo>
                        <a:pt x="93" y="494"/>
                      </a:lnTo>
                      <a:lnTo>
                        <a:pt x="137" y="464"/>
                      </a:lnTo>
                      <a:lnTo>
                        <a:pt x="186" y="428"/>
                      </a:lnTo>
                      <a:lnTo>
                        <a:pt x="237" y="388"/>
                      </a:lnTo>
                      <a:lnTo>
                        <a:pt x="289" y="344"/>
                      </a:lnTo>
                      <a:lnTo>
                        <a:pt x="340" y="298"/>
                      </a:lnTo>
                      <a:lnTo>
                        <a:pt x="387" y="253"/>
                      </a:lnTo>
                      <a:lnTo>
                        <a:pt x="429" y="205"/>
                      </a:lnTo>
                      <a:lnTo>
                        <a:pt x="464" y="160"/>
                      </a:lnTo>
                      <a:lnTo>
                        <a:pt x="502" y="74"/>
                      </a:lnTo>
                      <a:lnTo>
                        <a:pt x="486" y="0"/>
                      </a:lnTo>
                      <a:lnTo>
                        <a:pt x="513" y="19"/>
                      </a:lnTo>
                      <a:lnTo>
                        <a:pt x="540" y="40"/>
                      </a:lnTo>
                      <a:lnTo>
                        <a:pt x="570" y="66"/>
                      </a:lnTo>
                      <a:lnTo>
                        <a:pt x="633" y="158"/>
                      </a:lnTo>
                      <a:lnTo>
                        <a:pt x="604" y="188"/>
                      </a:lnTo>
                      <a:lnTo>
                        <a:pt x="572" y="224"/>
                      </a:lnTo>
                      <a:lnTo>
                        <a:pt x="541" y="253"/>
                      </a:lnTo>
                      <a:lnTo>
                        <a:pt x="530" y="266"/>
                      </a:lnTo>
                      <a:lnTo>
                        <a:pt x="194" y="477"/>
                      </a:lnTo>
                      <a:lnTo>
                        <a:pt x="0" y="559"/>
                      </a:lnTo>
                      <a:lnTo>
                        <a:pt x="0" y="559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990960" y="6164280"/>
                  <a:ext cx="411840" cy="150480"/>
                </a:xfrm>
                <a:custGeom>
                  <a:avLst/>
                  <a:gdLst/>
                  <a:ahLst/>
                  <a:rect l="l" t="t" r="r" b="b"/>
                  <a:pathLst>
                    <a:path w="1561" h="570">
                      <a:moveTo>
                        <a:pt x="6" y="127"/>
                      </a:moveTo>
                      <a:lnTo>
                        <a:pt x="0" y="61"/>
                      </a:lnTo>
                      <a:lnTo>
                        <a:pt x="10" y="15"/>
                      </a:lnTo>
                      <a:lnTo>
                        <a:pt x="42" y="0"/>
                      </a:lnTo>
                      <a:lnTo>
                        <a:pt x="96" y="32"/>
                      </a:lnTo>
                      <a:lnTo>
                        <a:pt x="151" y="87"/>
                      </a:lnTo>
                      <a:lnTo>
                        <a:pt x="192" y="144"/>
                      </a:lnTo>
                      <a:lnTo>
                        <a:pt x="208" y="167"/>
                      </a:lnTo>
                      <a:lnTo>
                        <a:pt x="225" y="180"/>
                      </a:lnTo>
                      <a:lnTo>
                        <a:pt x="270" y="213"/>
                      </a:lnTo>
                      <a:lnTo>
                        <a:pt x="303" y="234"/>
                      </a:lnTo>
                      <a:lnTo>
                        <a:pt x="341" y="256"/>
                      </a:lnTo>
                      <a:lnTo>
                        <a:pt x="383" y="281"/>
                      </a:lnTo>
                      <a:lnTo>
                        <a:pt x="430" y="306"/>
                      </a:lnTo>
                      <a:lnTo>
                        <a:pt x="480" y="331"/>
                      </a:lnTo>
                      <a:lnTo>
                        <a:pt x="533" y="353"/>
                      </a:lnTo>
                      <a:lnTo>
                        <a:pt x="588" y="374"/>
                      </a:lnTo>
                      <a:lnTo>
                        <a:pt x="643" y="391"/>
                      </a:lnTo>
                      <a:lnTo>
                        <a:pt x="759" y="412"/>
                      </a:lnTo>
                      <a:lnTo>
                        <a:pt x="871" y="409"/>
                      </a:lnTo>
                      <a:lnTo>
                        <a:pt x="1162" y="374"/>
                      </a:lnTo>
                      <a:lnTo>
                        <a:pt x="1232" y="376"/>
                      </a:lnTo>
                      <a:lnTo>
                        <a:pt x="1314" y="353"/>
                      </a:lnTo>
                      <a:lnTo>
                        <a:pt x="1404" y="327"/>
                      </a:lnTo>
                      <a:lnTo>
                        <a:pt x="1425" y="313"/>
                      </a:lnTo>
                      <a:lnTo>
                        <a:pt x="1461" y="294"/>
                      </a:lnTo>
                      <a:lnTo>
                        <a:pt x="1502" y="281"/>
                      </a:lnTo>
                      <a:lnTo>
                        <a:pt x="1537" y="281"/>
                      </a:lnTo>
                      <a:lnTo>
                        <a:pt x="1561" y="367"/>
                      </a:lnTo>
                      <a:lnTo>
                        <a:pt x="1552" y="454"/>
                      </a:lnTo>
                      <a:lnTo>
                        <a:pt x="1535" y="488"/>
                      </a:lnTo>
                      <a:lnTo>
                        <a:pt x="1525" y="507"/>
                      </a:lnTo>
                      <a:lnTo>
                        <a:pt x="1198" y="570"/>
                      </a:lnTo>
                      <a:lnTo>
                        <a:pt x="727" y="532"/>
                      </a:lnTo>
                      <a:lnTo>
                        <a:pt x="402" y="437"/>
                      </a:lnTo>
                      <a:lnTo>
                        <a:pt x="101" y="236"/>
                      </a:lnTo>
                      <a:lnTo>
                        <a:pt x="6" y="127"/>
                      </a:lnTo>
                      <a:lnTo>
                        <a:pt x="6" y="127"/>
                      </a:lnTo>
                      <a:close/>
                    </a:path>
                  </a:pathLst>
                </a:cu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215960" y="6063480"/>
                  <a:ext cx="355320" cy="246960"/>
                </a:xfrm>
                <a:custGeom>
                  <a:avLst/>
                  <a:gdLst/>
                  <a:ahLst/>
                  <a:rect l="l" t="t" r="r" b="b"/>
                  <a:pathLst>
                    <a:path w="1348" h="937">
                      <a:moveTo>
                        <a:pt x="415" y="800"/>
                      </a:moveTo>
                      <a:lnTo>
                        <a:pt x="458" y="773"/>
                      </a:lnTo>
                      <a:lnTo>
                        <a:pt x="506" y="737"/>
                      </a:lnTo>
                      <a:lnTo>
                        <a:pt x="534" y="713"/>
                      </a:lnTo>
                      <a:lnTo>
                        <a:pt x="565" y="686"/>
                      </a:lnTo>
                      <a:lnTo>
                        <a:pt x="629" y="618"/>
                      </a:lnTo>
                      <a:lnTo>
                        <a:pt x="662" y="578"/>
                      </a:lnTo>
                      <a:lnTo>
                        <a:pt x="696" y="532"/>
                      </a:lnTo>
                      <a:lnTo>
                        <a:pt x="728" y="483"/>
                      </a:lnTo>
                      <a:lnTo>
                        <a:pt x="759" y="427"/>
                      </a:lnTo>
                      <a:lnTo>
                        <a:pt x="814" y="304"/>
                      </a:lnTo>
                      <a:lnTo>
                        <a:pt x="848" y="249"/>
                      </a:lnTo>
                      <a:lnTo>
                        <a:pt x="879" y="199"/>
                      </a:lnTo>
                      <a:lnTo>
                        <a:pt x="907" y="158"/>
                      </a:lnTo>
                      <a:lnTo>
                        <a:pt x="934" y="123"/>
                      </a:lnTo>
                      <a:lnTo>
                        <a:pt x="981" y="70"/>
                      </a:lnTo>
                      <a:lnTo>
                        <a:pt x="1017" y="36"/>
                      </a:lnTo>
                      <a:lnTo>
                        <a:pt x="1074" y="7"/>
                      </a:lnTo>
                      <a:lnTo>
                        <a:pt x="1110" y="0"/>
                      </a:lnTo>
                      <a:lnTo>
                        <a:pt x="1192" y="9"/>
                      </a:lnTo>
                      <a:lnTo>
                        <a:pt x="1244" y="44"/>
                      </a:lnTo>
                      <a:lnTo>
                        <a:pt x="1297" y="106"/>
                      </a:lnTo>
                      <a:lnTo>
                        <a:pt x="1339" y="226"/>
                      </a:lnTo>
                      <a:lnTo>
                        <a:pt x="1333" y="264"/>
                      </a:lnTo>
                      <a:lnTo>
                        <a:pt x="1348" y="452"/>
                      </a:lnTo>
                      <a:lnTo>
                        <a:pt x="1293" y="502"/>
                      </a:lnTo>
                      <a:lnTo>
                        <a:pt x="1232" y="245"/>
                      </a:lnTo>
                      <a:lnTo>
                        <a:pt x="1040" y="209"/>
                      </a:lnTo>
                      <a:lnTo>
                        <a:pt x="939" y="304"/>
                      </a:lnTo>
                      <a:lnTo>
                        <a:pt x="793" y="523"/>
                      </a:lnTo>
                      <a:lnTo>
                        <a:pt x="717" y="851"/>
                      </a:lnTo>
                      <a:lnTo>
                        <a:pt x="744" y="906"/>
                      </a:lnTo>
                      <a:lnTo>
                        <a:pt x="430" y="937"/>
                      </a:lnTo>
                      <a:lnTo>
                        <a:pt x="0" y="912"/>
                      </a:lnTo>
                      <a:lnTo>
                        <a:pt x="415" y="800"/>
                      </a:lnTo>
                      <a:lnTo>
                        <a:pt x="415" y="80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189680" y="5835240"/>
                  <a:ext cx="285840" cy="159480"/>
                </a:xfrm>
                <a:custGeom>
                  <a:avLst/>
                  <a:gdLst/>
                  <a:ahLst/>
                  <a:rect l="l" t="t" r="r" b="b"/>
                  <a:pathLst>
                    <a:path w="1086" h="606">
                      <a:moveTo>
                        <a:pt x="0" y="393"/>
                      </a:moveTo>
                      <a:lnTo>
                        <a:pt x="187" y="25"/>
                      </a:lnTo>
                      <a:lnTo>
                        <a:pt x="358" y="0"/>
                      </a:lnTo>
                      <a:lnTo>
                        <a:pt x="1046" y="150"/>
                      </a:lnTo>
                      <a:lnTo>
                        <a:pt x="1086" y="287"/>
                      </a:lnTo>
                      <a:lnTo>
                        <a:pt x="1016" y="565"/>
                      </a:lnTo>
                      <a:lnTo>
                        <a:pt x="940" y="606"/>
                      </a:lnTo>
                      <a:lnTo>
                        <a:pt x="223" y="570"/>
                      </a:lnTo>
                      <a:lnTo>
                        <a:pt x="19" y="475"/>
                      </a:lnTo>
                      <a:lnTo>
                        <a:pt x="0" y="393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a0e5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231440" y="5855760"/>
                  <a:ext cx="221040" cy="131040"/>
                </a:xfrm>
                <a:custGeom>
                  <a:avLst/>
                  <a:gdLst/>
                  <a:ahLst/>
                  <a:rect l="l" t="t" r="r" b="b"/>
                  <a:pathLst>
                    <a:path w="839" h="498">
                      <a:moveTo>
                        <a:pt x="590" y="0"/>
                      </a:moveTo>
                      <a:lnTo>
                        <a:pt x="576" y="19"/>
                      </a:lnTo>
                      <a:lnTo>
                        <a:pt x="538" y="68"/>
                      </a:lnTo>
                      <a:lnTo>
                        <a:pt x="481" y="139"/>
                      </a:lnTo>
                      <a:lnTo>
                        <a:pt x="447" y="179"/>
                      </a:lnTo>
                      <a:lnTo>
                        <a:pt x="409" y="220"/>
                      </a:lnTo>
                      <a:lnTo>
                        <a:pt x="369" y="262"/>
                      </a:lnTo>
                      <a:lnTo>
                        <a:pt x="325" y="304"/>
                      </a:lnTo>
                      <a:lnTo>
                        <a:pt x="282" y="344"/>
                      </a:lnTo>
                      <a:lnTo>
                        <a:pt x="238" y="380"/>
                      </a:lnTo>
                      <a:lnTo>
                        <a:pt x="194" y="411"/>
                      </a:lnTo>
                      <a:lnTo>
                        <a:pt x="148" y="437"/>
                      </a:lnTo>
                      <a:lnTo>
                        <a:pt x="65" y="468"/>
                      </a:lnTo>
                      <a:lnTo>
                        <a:pt x="0" y="485"/>
                      </a:lnTo>
                      <a:lnTo>
                        <a:pt x="67" y="494"/>
                      </a:lnTo>
                      <a:lnTo>
                        <a:pt x="232" y="498"/>
                      </a:lnTo>
                      <a:lnTo>
                        <a:pt x="331" y="462"/>
                      </a:lnTo>
                      <a:lnTo>
                        <a:pt x="430" y="416"/>
                      </a:lnTo>
                      <a:lnTo>
                        <a:pt x="487" y="392"/>
                      </a:lnTo>
                      <a:lnTo>
                        <a:pt x="544" y="361"/>
                      </a:lnTo>
                      <a:lnTo>
                        <a:pt x="601" y="329"/>
                      </a:lnTo>
                      <a:lnTo>
                        <a:pt x="656" y="295"/>
                      </a:lnTo>
                      <a:lnTo>
                        <a:pt x="707" y="258"/>
                      </a:lnTo>
                      <a:lnTo>
                        <a:pt x="753" y="222"/>
                      </a:lnTo>
                      <a:lnTo>
                        <a:pt x="820" y="144"/>
                      </a:lnTo>
                      <a:lnTo>
                        <a:pt x="839" y="65"/>
                      </a:lnTo>
                      <a:lnTo>
                        <a:pt x="590" y="0"/>
                      </a:lnTo>
                      <a:lnTo>
                        <a:pt x="59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025160" y="6063120"/>
                  <a:ext cx="65160" cy="72360"/>
                </a:xfrm>
                <a:custGeom>
                  <a:avLst/>
                  <a:gdLst/>
                  <a:ahLst/>
                  <a:rect l="l" t="t" r="r" b="b"/>
                  <a:pathLst>
                    <a:path w="249" h="276">
                      <a:moveTo>
                        <a:pt x="0" y="192"/>
                      </a:moveTo>
                      <a:lnTo>
                        <a:pt x="80" y="184"/>
                      </a:lnTo>
                      <a:lnTo>
                        <a:pt x="161" y="129"/>
                      </a:lnTo>
                      <a:lnTo>
                        <a:pt x="205" y="76"/>
                      </a:lnTo>
                      <a:lnTo>
                        <a:pt x="249" y="0"/>
                      </a:lnTo>
                      <a:lnTo>
                        <a:pt x="222" y="209"/>
                      </a:lnTo>
                      <a:lnTo>
                        <a:pt x="112" y="276"/>
                      </a:lnTo>
                      <a:lnTo>
                        <a:pt x="0" y="192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399560" y="6107760"/>
                  <a:ext cx="156960" cy="244440"/>
                </a:xfrm>
                <a:custGeom>
                  <a:avLst/>
                  <a:gdLst/>
                  <a:ahLst/>
                  <a:rect l="l" t="t" r="r" b="b"/>
                  <a:pathLst>
                    <a:path w="595" h="928">
                      <a:moveTo>
                        <a:pt x="0" y="726"/>
                      </a:moveTo>
                      <a:lnTo>
                        <a:pt x="23" y="774"/>
                      </a:lnTo>
                      <a:lnTo>
                        <a:pt x="49" y="817"/>
                      </a:lnTo>
                      <a:lnTo>
                        <a:pt x="86" y="865"/>
                      </a:lnTo>
                      <a:lnTo>
                        <a:pt x="106" y="886"/>
                      </a:lnTo>
                      <a:lnTo>
                        <a:pt x="131" y="905"/>
                      </a:lnTo>
                      <a:lnTo>
                        <a:pt x="183" y="928"/>
                      </a:lnTo>
                      <a:lnTo>
                        <a:pt x="241" y="926"/>
                      </a:lnTo>
                      <a:lnTo>
                        <a:pt x="306" y="888"/>
                      </a:lnTo>
                      <a:lnTo>
                        <a:pt x="338" y="857"/>
                      </a:lnTo>
                      <a:lnTo>
                        <a:pt x="369" y="825"/>
                      </a:lnTo>
                      <a:lnTo>
                        <a:pt x="424" y="760"/>
                      </a:lnTo>
                      <a:lnTo>
                        <a:pt x="472" y="698"/>
                      </a:lnTo>
                      <a:lnTo>
                        <a:pt x="510" y="639"/>
                      </a:lnTo>
                      <a:lnTo>
                        <a:pt x="538" y="586"/>
                      </a:lnTo>
                      <a:lnTo>
                        <a:pt x="559" y="544"/>
                      </a:lnTo>
                      <a:lnTo>
                        <a:pt x="576" y="508"/>
                      </a:lnTo>
                      <a:lnTo>
                        <a:pt x="595" y="169"/>
                      </a:lnTo>
                      <a:lnTo>
                        <a:pt x="511" y="25"/>
                      </a:lnTo>
                      <a:lnTo>
                        <a:pt x="335" y="0"/>
                      </a:lnTo>
                      <a:lnTo>
                        <a:pt x="127" y="300"/>
                      </a:lnTo>
                      <a:lnTo>
                        <a:pt x="116" y="335"/>
                      </a:lnTo>
                      <a:lnTo>
                        <a:pt x="91" y="413"/>
                      </a:lnTo>
                      <a:lnTo>
                        <a:pt x="61" y="509"/>
                      </a:lnTo>
                      <a:lnTo>
                        <a:pt x="42" y="595"/>
                      </a:lnTo>
                      <a:lnTo>
                        <a:pt x="15" y="694"/>
                      </a:lnTo>
                      <a:lnTo>
                        <a:pt x="0" y="726"/>
                      </a:lnTo>
                      <a:lnTo>
                        <a:pt x="0" y="726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461840" y="6168960"/>
                  <a:ext cx="62280" cy="123480"/>
                </a:xfrm>
                <a:custGeom>
                  <a:avLst/>
                  <a:gdLst/>
                  <a:ahLst/>
                  <a:rect l="l" t="t" r="r" b="b"/>
                  <a:pathLst>
                    <a:path w="236" h="469">
                      <a:moveTo>
                        <a:pt x="156" y="0"/>
                      </a:moveTo>
                      <a:lnTo>
                        <a:pt x="57" y="80"/>
                      </a:lnTo>
                      <a:lnTo>
                        <a:pt x="2" y="382"/>
                      </a:lnTo>
                      <a:lnTo>
                        <a:pt x="0" y="367"/>
                      </a:lnTo>
                      <a:lnTo>
                        <a:pt x="15" y="439"/>
                      </a:lnTo>
                      <a:lnTo>
                        <a:pt x="30" y="468"/>
                      </a:lnTo>
                      <a:lnTo>
                        <a:pt x="49" y="469"/>
                      </a:lnTo>
                      <a:lnTo>
                        <a:pt x="102" y="420"/>
                      </a:lnTo>
                      <a:lnTo>
                        <a:pt x="150" y="350"/>
                      </a:lnTo>
                      <a:lnTo>
                        <a:pt x="171" y="314"/>
                      </a:lnTo>
                      <a:lnTo>
                        <a:pt x="184" y="279"/>
                      </a:lnTo>
                      <a:lnTo>
                        <a:pt x="209" y="201"/>
                      </a:lnTo>
                      <a:lnTo>
                        <a:pt x="236" y="47"/>
                      </a:lnTo>
                      <a:lnTo>
                        <a:pt x="215" y="17"/>
                      </a:lnTo>
                      <a:lnTo>
                        <a:pt x="188" y="4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1c4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286160" y="6126120"/>
                  <a:ext cx="103680" cy="86400"/>
                </a:xfrm>
                <a:custGeom>
                  <a:avLst/>
                  <a:gdLst/>
                  <a:ahLst/>
                  <a:rect l="l" t="t" r="r" b="b"/>
                  <a:pathLst>
                    <a:path w="394" h="327">
                      <a:moveTo>
                        <a:pt x="0" y="183"/>
                      </a:moveTo>
                      <a:lnTo>
                        <a:pt x="36" y="202"/>
                      </a:lnTo>
                      <a:lnTo>
                        <a:pt x="130" y="217"/>
                      </a:lnTo>
                      <a:lnTo>
                        <a:pt x="257" y="170"/>
                      </a:lnTo>
                      <a:lnTo>
                        <a:pt x="291" y="141"/>
                      </a:lnTo>
                      <a:lnTo>
                        <a:pt x="325" y="105"/>
                      </a:lnTo>
                      <a:lnTo>
                        <a:pt x="360" y="57"/>
                      </a:lnTo>
                      <a:lnTo>
                        <a:pt x="394" y="0"/>
                      </a:lnTo>
                      <a:lnTo>
                        <a:pt x="392" y="107"/>
                      </a:lnTo>
                      <a:lnTo>
                        <a:pt x="381" y="154"/>
                      </a:lnTo>
                      <a:lnTo>
                        <a:pt x="360" y="202"/>
                      </a:lnTo>
                      <a:lnTo>
                        <a:pt x="327" y="248"/>
                      </a:lnTo>
                      <a:lnTo>
                        <a:pt x="305" y="268"/>
                      </a:lnTo>
                      <a:lnTo>
                        <a:pt x="280" y="287"/>
                      </a:lnTo>
                      <a:lnTo>
                        <a:pt x="227" y="316"/>
                      </a:lnTo>
                      <a:lnTo>
                        <a:pt x="179" y="327"/>
                      </a:lnTo>
                      <a:lnTo>
                        <a:pt x="99" y="316"/>
                      </a:lnTo>
                      <a:lnTo>
                        <a:pt x="46" y="287"/>
                      </a:lnTo>
                      <a:lnTo>
                        <a:pt x="29" y="270"/>
                      </a:lnTo>
                      <a:lnTo>
                        <a:pt x="0" y="183"/>
                      </a:lnTo>
                      <a:lnTo>
                        <a:pt x="0" y="183"/>
                      </a:lnTo>
                      <a:close/>
                    </a:path>
                  </a:pathLst>
                </a:custGeom>
                <a:solidFill>
                  <a:srgbClr val="96ab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255920" y="5870160"/>
                  <a:ext cx="259920" cy="132480"/>
                </a:xfrm>
                <a:custGeom>
                  <a:avLst/>
                  <a:gdLst/>
                  <a:ahLst/>
                  <a:rect l="l" t="t" r="r" b="b"/>
                  <a:pathLst>
                    <a:path w="985" h="506">
                      <a:moveTo>
                        <a:pt x="0" y="434"/>
                      </a:moveTo>
                      <a:lnTo>
                        <a:pt x="86" y="416"/>
                      </a:lnTo>
                      <a:lnTo>
                        <a:pt x="282" y="365"/>
                      </a:lnTo>
                      <a:lnTo>
                        <a:pt x="390" y="329"/>
                      </a:lnTo>
                      <a:lnTo>
                        <a:pt x="489" y="283"/>
                      </a:lnTo>
                      <a:lnTo>
                        <a:pt x="567" y="232"/>
                      </a:lnTo>
                      <a:lnTo>
                        <a:pt x="612" y="173"/>
                      </a:lnTo>
                      <a:lnTo>
                        <a:pt x="688" y="0"/>
                      </a:lnTo>
                      <a:lnTo>
                        <a:pt x="823" y="0"/>
                      </a:lnTo>
                      <a:lnTo>
                        <a:pt x="985" y="23"/>
                      </a:lnTo>
                      <a:lnTo>
                        <a:pt x="949" y="69"/>
                      </a:lnTo>
                      <a:lnTo>
                        <a:pt x="911" y="116"/>
                      </a:lnTo>
                      <a:lnTo>
                        <a:pt x="871" y="173"/>
                      </a:lnTo>
                      <a:lnTo>
                        <a:pt x="829" y="234"/>
                      </a:lnTo>
                      <a:lnTo>
                        <a:pt x="793" y="293"/>
                      </a:lnTo>
                      <a:lnTo>
                        <a:pt x="763" y="380"/>
                      </a:lnTo>
                      <a:lnTo>
                        <a:pt x="759" y="472"/>
                      </a:lnTo>
                      <a:lnTo>
                        <a:pt x="747" y="506"/>
                      </a:lnTo>
                      <a:lnTo>
                        <a:pt x="531" y="468"/>
                      </a:lnTo>
                      <a:lnTo>
                        <a:pt x="0" y="434"/>
                      </a:lnTo>
                      <a:lnTo>
                        <a:pt x="0" y="434"/>
                      </a:lnTo>
                      <a:close/>
                    </a:path>
                  </a:pathLst>
                </a:custGeom>
                <a:solidFill>
                  <a:srgbClr val="8a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370400" y="5934600"/>
                  <a:ext cx="96840" cy="77400"/>
                </a:xfrm>
                <a:custGeom>
                  <a:avLst/>
                  <a:gdLst/>
                  <a:ahLst/>
                  <a:rect l="l" t="t" r="r" b="b"/>
                  <a:pathLst>
                    <a:path w="369" h="293">
                      <a:moveTo>
                        <a:pt x="0" y="223"/>
                      </a:moveTo>
                      <a:lnTo>
                        <a:pt x="42" y="208"/>
                      </a:lnTo>
                      <a:lnTo>
                        <a:pt x="142" y="166"/>
                      </a:lnTo>
                      <a:lnTo>
                        <a:pt x="203" y="133"/>
                      </a:lnTo>
                      <a:lnTo>
                        <a:pt x="264" y="95"/>
                      </a:lnTo>
                      <a:lnTo>
                        <a:pt x="321" y="52"/>
                      </a:lnTo>
                      <a:lnTo>
                        <a:pt x="369" y="0"/>
                      </a:lnTo>
                      <a:lnTo>
                        <a:pt x="319" y="227"/>
                      </a:lnTo>
                      <a:lnTo>
                        <a:pt x="340" y="293"/>
                      </a:lnTo>
                      <a:lnTo>
                        <a:pt x="302" y="278"/>
                      </a:lnTo>
                      <a:lnTo>
                        <a:pt x="209" y="246"/>
                      </a:lnTo>
                      <a:lnTo>
                        <a:pt x="97" y="221"/>
                      </a:lnTo>
                      <a:lnTo>
                        <a:pt x="0" y="223"/>
                      </a:lnTo>
                      <a:lnTo>
                        <a:pt x="0" y="223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183920" y="5769000"/>
                  <a:ext cx="333720" cy="202680"/>
                </a:xfrm>
                <a:custGeom>
                  <a:avLst/>
                  <a:gdLst/>
                  <a:ahLst/>
                  <a:rect l="l" t="t" r="r" b="b"/>
                  <a:pathLst>
                    <a:path w="1267" h="770">
                      <a:moveTo>
                        <a:pt x="232" y="320"/>
                      </a:moveTo>
                      <a:lnTo>
                        <a:pt x="337" y="302"/>
                      </a:lnTo>
                      <a:lnTo>
                        <a:pt x="559" y="314"/>
                      </a:lnTo>
                      <a:lnTo>
                        <a:pt x="843" y="371"/>
                      </a:lnTo>
                      <a:lnTo>
                        <a:pt x="991" y="424"/>
                      </a:lnTo>
                      <a:lnTo>
                        <a:pt x="1065" y="456"/>
                      </a:lnTo>
                      <a:lnTo>
                        <a:pt x="1136" y="494"/>
                      </a:lnTo>
                      <a:lnTo>
                        <a:pt x="1185" y="494"/>
                      </a:lnTo>
                      <a:lnTo>
                        <a:pt x="1242" y="462"/>
                      </a:lnTo>
                      <a:lnTo>
                        <a:pt x="1267" y="422"/>
                      </a:lnTo>
                      <a:lnTo>
                        <a:pt x="1259" y="405"/>
                      </a:lnTo>
                      <a:lnTo>
                        <a:pt x="1229" y="394"/>
                      </a:lnTo>
                      <a:lnTo>
                        <a:pt x="1122" y="373"/>
                      </a:lnTo>
                      <a:lnTo>
                        <a:pt x="953" y="335"/>
                      </a:lnTo>
                      <a:lnTo>
                        <a:pt x="835" y="310"/>
                      </a:lnTo>
                      <a:lnTo>
                        <a:pt x="691" y="283"/>
                      </a:lnTo>
                      <a:lnTo>
                        <a:pt x="516" y="255"/>
                      </a:lnTo>
                      <a:lnTo>
                        <a:pt x="307" y="225"/>
                      </a:lnTo>
                      <a:lnTo>
                        <a:pt x="293" y="211"/>
                      </a:lnTo>
                      <a:lnTo>
                        <a:pt x="322" y="190"/>
                      </a:lnTo>
                      <a:lnTo>
                        <a:pt x="383" y="162"/>
                      </a:lnTo>
                      <a:lnTo>
                        <a:pt x="462" y="129"/>
                      </a:lnTo>
                      <a:lnTo>
                        <a:pt x="554" y="97"/>
                      </a:lnTo>
                      <a:lnTo>
                        <a:pt x="641" y="69"/>
                      </a:lnTo>
                      <a:lnTo>
                        <a:pt x="769" y="38"/>
                      </a:lnTo>
                      <a:lnTo>
                        <a:pt x="839" y="15"/>
                      </a:lnTo>
                      <a:lnTo>
                        <a:pt x="837" y="0"/>
                      </a:lnTo>
                      <a:lnTo>
                        <a:pt x="628" y="38"/>
                      </a:lnTo>
                      <a:lnTo>
                        <a:pt x="531" y="67"/>
                      </a:lnTo>
                      <a:lnTo>
                        <a:pt x="424" y="103"/>
                      </a:lnTo>
                      <a:lnTo>
                        <a:pt x="314" y="152"/>
                      </a:lnTo>
                      <a:lnTo>
                        <a:pt x="261" y="181"/>
                      </a:lnTo>
                      <a:lnTo>
                        <a:pt x="208" y="213"/>
                      </a:lnTo>
                      <a:lnTo>
                        <a:pt x="181" y="247"/>
                      </a:lnTo>
                      <a:lnTo>
                        <a:pt x="153" y="289"/>
                      </a:lnTo>
                      <a:lnTo>
                        <a:pt x="120" y="342"/>
                      </a:lnTo>
                      <a:lnTo>
                        <a:pt x="84" y="407"/>
                      </a:lnTo>
                      <a:lnTo>
                        <a:pt x="52" y="481"/>
                      </a:lnTo>
                      <a:lnTo>
                        <a:pt x="0" y="648"/>
                      </a:lnTo>
                      <a:lnTo>
                        <a:pt x="0" y="770"/>
                      </a:lnTo>
                      <a:lnTo>
                        <a:pt x="48" y="696"/>
                      </a:lnTo>
                      <a:lnTo>
                        <a:pt x="54" y="643"/>
                      </a:lnTo>
                      <a:lnTo>
                        <a:pt x="71" y="601"/>
                      </a:lnTo>
                      <a:lnTo>
                        <a:pt x="116" y="506"/>
                      </a:lnTo>
                      <a:lnTo>
                        <a:pt x="145" y="451"/>
                      </a:lnTo>
                      <a:lnTo>
                        <a:pt x="173" y="397"/>
                      </a:lnTo>
                      <a:lnTo>
                        <a:pt x="204" y="352"/>
                      </a:lnTo>
                      <a:lnTo>
                        <a:pt x="232" y="320"/>
                      </a:lnTo>
                      <a:lnTo>
                        <a:pt x="232" y="3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248360" y="5991840"/>
                  <a:ext cx="223560" cy="161640"/>
                </a:xfrm>
                <a:custGeom>
                  <a:avLst/>
                  <a:gdLst/>
                  <a:ahLst/>
                  <a:rect l="l" t="t" r="r" b="b"/>
                  <a:pathLst>
                    <a:path w="848" h="614">
                      <a:moveTo>
                        <a:pt x="741" y="0"/>
                      </a:moveTo>
                      <a:lnTo>
                        <a:pt x="848" y="32"/>
                      </a:lnTo>
                      <a:lnTo>
                        <a:pt x="760" y="65"/>
                      </a:lnTo>
                      <a:lnTo>
                        <a:pt x="663" y="105"/>
                      </a:lnTo>
                      <a:lnTo>
                        <a:pt x="606" y="131"/>
                      </a:lnTo>
                      <a:lnTo>
                        <a:pt x="544" y="163"/>
                      </a:lnTo>
                      <a:lnTo>
                        <a:pt x="477" y="200"/>
                      </a:lnTo>
                      <a:lnTo>
                        <a:pt x="407" y="243"/>
                      </a:lnTo>
                      <a:lnTo>
                        <a:pt x="336" y="291"/>
                      </a:lnTo>
                      <a:lnTo>
                        <a:pt x="300" y="316"/>
                      </a:lnTo>
                      <a:lnTo>
                        <a:pt x="266" y="344"/>
                      </a:lnTo>
                      <a:lnTo>
                        <a:pt x="230" y="373"/>
                      </a:lnTo>
                      <a:lnTo>
                        <a:pt x="196" y="403"/>
                      </a:lnTo>
                      <a:lnTo>
                        <a:pt x="161" y="433"/>
                      </a:lnTo>
                      <a:lnTo>
                        <a:pt x="127" y="468"/>
                      </a:lnTo>
                      <a:lnTo>
                        <a:pt x="61" y="538"/>
                      </a:lnTo>
                      <a:lnTo>
                        <a:pt x="0" y="614"/>
                      </a:lnTo>
                      <a:lnTo>
                        <a:pt x="0" y="584"/>
                      </a:lnTo>
                      <a:lnTo>
                        <a:pt x="34" y="519"/>
                      </a:lnTo>
                      <a:lnTo>
                        <a:pt x="61" y="477"/>
                      </a:lnTo>
                      <a:lnTo>
                        <a:pt x="95" y="431"/>
                      </a:lnTo>
                      <a:lnTo>
                        <a:pt x="137" y="382"/>
                      </a:lnTo>
                      <a:lnTo>
                        <a:pt x="186" y="331"/>
                      </a:lnTo>
                      <a:lnTo>
                        <a:pt x="215" y="304"/>
                      </a:lnTo>
                      <a:lnTo>
                        <a:pt x="243" y="277"/>
                      </a:lnTo>
                      <a:lnTo>
                        <a:pt x="275" y="249"/>
                      </a:lnTo>
                      <a:lnTo>
                        <a:pt x="310" y="222"/>
                      </a:lnTo>
                      <a:lnTo>
                        <a:pt x="346" y="196"/>
                      </a:lnTo>
                      <a:lnTo>
                        <a:pt x="386" y="169"/>
                      </a:lnTo>
                      <a:lnTo>
                        <a:pt x="426" y="143"/>
                      </a:lnTo>
                      <a:lnTo>
                        <a:pt x="469" y="118"/>
                      </a:lnTo>
                      <a:lnTo>
                        <a:pt x="515" y="93"/>
                      </a:lnTo>
                      <a:lnTo>
                        <a:pt x="564" y="68"/>
                      </a:lnTo>
                      <a:lnTo>
                        <a:pt x="614" y="44"/>
                      </a:lnTo>
                      <a:lnTo>
                        <a:pt x="667" y="23"/>
                      </a:lnTo>
                      <a:lnTo>
                        <a:pt x="741" y="0"/>
                      </a:lnTo>
                      <a:lnTo>
                        <a:pt x="7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424400" y="5834160"/>
                  <a:ext cx="202320" cy="166320"/>
                </a:xfrm>
                <a:custGeom>
                  <a:avLst/>
                  <a:gdLst/>
                  <a:ahLst/>
                  <a:rect l="l" t="t" r="r" b="b"/>
                  <a:pathLst>
                    <a:path w="768" h="631">
                      <a:moveTo>
                        <a:pt x="74" y="599"/>
                      </a:moveTo>
                      <a:lnTo>
                        <a:pt x="88" y="536"/>
                      </a:lnTo>
                      <a:lnTo>
                        <a:pt x="110" y="466"/>
                      </a:lnTo>
                      <a:lnTo>
                        <a:pt x="147" y="382"/>
                      </a:lnTo>
                      <a:lnTo>
                        <a:pt x="171" y="339"/>
                      </a:lnTo>
                      <a:lnTo>
                        <a:pt x="200" y="293"/>
                      </a:lnTo>
                      <a:lnTo>
                        <a:pt x="236" y="247"/>
                      </a:lnTo>
                      <a:lnTo>
                        <a:pt x="278" y="206"/>
                      </a:lnTo>
                      <a:lnTo>
                        <a:pt x="325" y="164"/>
                      </a:lnTo>
                      <a:lnTo>
                        <a:pt x="379" y="126"/>
                      </a:lnTo>
                      <a:lnTo>
                        <a:pt x="441" y="93"/>
                      </a:lnTo>
                      <a:lnTo>
                        <a:pt x="510" y="65"/>
                      </a:lnTo>
                      <a:lnTo>
                        <a:pt x="610" y="31"/>
                      </a:lnTo>
                      <a:lnTo>
                        <a:pt x="685" y="6"/>
                      </a:lnTo>
                      <a:lnTo>
                        <a:pt x="768" y="0"/>
                      </a:lnTo>
                      <a:lnTo>
                        <a:pt x="740" y="59"/>
                      </a:lnTo>
                      <a:lnTo>
                        <a:pt x="645" y="67"/>
                      </a:lnTo>
                      <a:lnTo>
                        <a:pt x="561" y="103"/>
                      </a:lnTo>
                      <a:lnTo>
                        <a:pt x="458" y="148"/>
                      </a:lnTo>
                      <a:lnTo>
                        <a:pt x="392" y="188"/>
                      </a:lnTo>
                      <a:lnTo>
                        <a:pt x="323" y="232"/>
                      </a:lnTo>
                      <a:lnTo>
                        <a:pt x="253" y="308"/>
                      </a:lnTo>
                      <a:lnTo>
                        <a:pt x="209" y="371"/>
                      </a:lnTo>
                      <a:lnTo>
                        <a:pt x="171" y="451"/>
                      </a:lnTo>
                      <a:lnTo>
                        <a:pt x="154" y="536"/>
                      </a:lnTo>
                      <a:lnTo>
                        <a:pt x="166" y="595"/>
                      </a:lnTo>
                      <a:lnTo>
                        <a:pt x="181" y="631"/>
                      </a:lnTo>
                      <a:lnTo>
                        <a:pt x="0" y="622"/>
                      </a:lnTo>
                      <a:lnTo>
                        <a:pt x="74" y="599"/>
                      </a:lnTo>
                      <a:lnTo>
                        <a:pt x="74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378320" y="5768640"/>
                  <a:ext cx="358920" cy="176400"/>
                </a:xfrm>
                <a:custGeom>
                  <a:avLst/>
                  <a:gdLst/>
                  <a:ahLst/>
                  <a:rect l="l" t="t" r="r" b="b"/>
                  <a:pathLst>
                    <a:path w="1361" h="671">
                      <a:moveTo>
                        <a:pt x="126" y="29"/>
                      </a:moveTo>
                      <a:lnTo>
                        <a:pt x="280" y="23"/>
                      </a:lnTo>
                      <a:lnTo>
                        <a:pt x="639" y="65"/>
                      </a:lnTo>
                      <a:lnTo>
                        <a:pt x="742" y="95"/>
                      </a:lnTo>
                      <a:lnTo>
                        <a:pt x="846" y="135"/>
                      </a:lnTo>
                      <a:lnTo>
                        <a:pt x="949" y="187"/>
                      </a:lnTo>
                      <a:lnTo>
                        <a:pt x="1000" y="217"/>
                      </a:lnTo>
                      <a:lnTo>
                        <a:pt x="1050" y="251"/>
                      </a:lnTo>
                      <a:lnTo>
                        <a:pt x="1097" y="287"/>
                      </a:lnTo>
                      <a:lnTo>
                        <a:pt x="1143" y="329"/>
                      </a:lnTo>
                      <a:lnTo>
                        <a:pt x="1187" y="375"/>
                      </a:lnTo>
                      <a:lnTo>
                        <a:pt x="1226" y="426"/>
                      </a:lnTo>
                      <a:lnTo>
                        <a:pt x="1264" y="479"/>
                      </a:lnTo>
                      <a:lnTo>
                        <a:pt x="1301" y="538"/>
                      </a:lnTo>
                      <a:lnTo>
                        <a:pt x="1333" y="603"/>
                      </a:lnTo>
                      <a:lnTo>
                        <a:pt x="1361" y="671"/>
                      </a:lnTo>
                      <a:lnTo>
                        <a:pt x="1356" y="591"/>
                      </a:lnTo>
                      <a:lnTo>
                        <a:pt x="1337" y="508"/>
                      </a:lnTo>
                      <a:lnTo>
                        <a:pt x="1320" y="460"/>
                      </a:lnTo>
                      <a:lnTo>
                        <a:pt x="1295" y="409"/>
                      </a:lnTo>
                      <a:lnTo>
                        <a:pt x="1261" y="356"/>
                      </a:lnTo>
                      <a:lnTo>
                        <a:pt x="1219" y="303"/>
                      </a:lnTo>
                      <a:lnTo>
                        <a:pt x="1194" y="276"/>
                      </a:lnTo>
                      <a:lnTo>
                        <a:pt x="1168" y="251"/>
                      </a:lnTo>
                      <a:lnTo>
                        <a:pt x="1137" y="225"/>
                      </a:lnTo>
                      <a:lnTo>
                        <a:pt x="1103" y="200"/>
                      </a:lnTo>
                      <a:lnTo>
                        <a:pt x="1069" y="177"/>
                      </a:lnTo>
                      <a:lnTo>
                        <a:pt x="1029" y="154"/>
                      </a:lnTo>
                      <a:lnTo>
                        <a:pt x="985" y="133"/>
                      </a:lnTo>
                      <a:lnTo>
                        <a:pt x="939" y="112"/>
                      </a:lnTo>
                      <a:lnTo>
                        <a:pt x="835" y="78"/>
                      </a:lnTo>
                      <a:lnTo>
                        <a:pt x="715" y="50"/>
                      </a:lnTo>
                      <a:lnTo>
                        <a:pt x="652" y="40"/>
                      </a:lnTo>
                      <a:lnTo>
                        <a:pt x="498" y="19"/>
                      </a:lnTo>
                      <a:lnTo>
                        <a:pt x="299" y="0"/>
                      </a:lnTo>
                      <a:lnTo>
                        <a:pt x="99" y="2"/>
                      </a:lnTo>
                      <a:lnTo>
                        <a:pt x="0" y="16"/>
                      </a:lnTo>
                      <a:lnTo>
                        <a:pt x="21" y="23"/>
                      </a:lnTo>
                      <a:lnTo>
                        <a:pt x="126" y="29"/>
                      </a:lnTo>
                      <a:lnTo>
                        <a:pt x="126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24640" y="5914800"/>
                  <a:ext cx="81720" cy="156960"/>
                </a:xfrm>
                <a:custGeom>
                  <a:avLst/>
                  <a:gdLst/>
                  <a:ahLst/>
                  <a:rect l="l" t="t" r="r" b="b"/>
                  <a:pathLst>
                    <a:path w="310" h="595">
                      <a:moveTo>
                        <a:pt x="0" y="0"/>
                      </a:moveTo>
                      <a:lnTo>
                        <a:pt x="25" y="59"/>
                      </a:lnTo>
                      <a:lnTo>
                        <a:pt x="49" y="122"/>
                      </a:lnTo>
                      <a:lnTo>
                        <a:pt x="78" y="198"/>
                      </a:lnTo>
                      <a:lnTo>
                        <a:pt x="108" y="278"/>
                      </a:lnTo>
                      <a:lnTo>
                        <a:pt x="133" y="354"/>
                      </a:lnTo>
                      <a:lnTo>
                        <a:pt x="162" y="472"/>
                      </a:lnTo>
                      <a:lnTo>
                        <a:pt x="175" y="532"/>
                      </a:lnTo>
                      <a:lnTo>
                        <a:pt x="202" y="570"/>
                      </a:lnTo>
                      <a:lnTo>
                        <a:pt x="240" y="595"/>
                      </a:lnTo>
                      <a:lnTo>
                        <a:pt x="264" y="590"/>
                      </a:lnTo>
                      <a:lnTo>
                        <a:pt x="310" y="559"/>
                      </a:lnTo>
                      <a:lnTo>
                        <a:pt x="255" y="512"/>
                      </a:lnTo>
                      <a:lnTo>
                        <a:pt x="127" y="196"/>
                      </a:lnTo>
                      <a:lnTo>
                        <a:pt x="99" y="131"/>
                      </a:lnTo>
                      <a:lnTo>
                        <a:pt x="72" y="86"/>
                      </a:lnTo>
                      <a:lnTo>
                        <a:pt x="32" y="2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402800" y="5888880"/>
                  <a:ext cx="296280" cy="137520"/>
                </a:xfrm>
                <a:custGeom>
                  <a:avLst/>
                  <a:gdLst/>
                  <a:ahLst/>
                  <a:rect l="l" t="t" r="r" b="b"/>
                  <a:pathLst>
                    <a:path w="1126" h="523">
                      <a:moveTo>
                        <a:pt x="263" y="424"/>
                      </a:moveTo>
                      <a:lnTo>
                        <a:pt x="287" y="436"/>
                      </a:lnTo>
                      <a:lnTo>
                        <a:pt x="384" y="430"/>
                      </a:lnTo>
                      <a:lnTo>
                        <a:pt x="584" y="354"/>
                      </a:lnTo>
                      <a:lnTo>
                        <a:pt x="653" y="316"/>
                      </a:lnTo>
                      <a:lnTo>
                        <a:pt x="730" y="270"/>
                      </a:lnTo>
                      <a:lnTo>
                        <a:pt x="774" y="242"/>
                      </a:lnTo>
                      <a:lnTo>
                        <a:pt x="820" y="213"/>
                      </a:lnTo>
                      <a:lnTo>
                        <a:pt x="865" y="181"/>
                      </a:lnTo>
                      <a:lnTo>
                        <a:pt x="917" y="147"/>
                      </a:lnTo>
                      <a:lnTo>
                        <a:pt x="961" y="113"/>
                      </a:lnTo>
                      <a:lnTo>
                        <a:pt x="999" y="82"/>
                      </a:lnTo>
                      <a:lnTo>
                        <a:pt x="1046" y="25"/>
                      </a:lnTo>
                      <a:lnTo>
                        <a:pt x="1063" y="6"/>
                      </a:lnTo>
                      <a:lnTo>
                        <a:pt x="1077" y="0"/>
                      </a:lnTo>
                      <a:lnTo>
                        <a:pt x="1103" y="10"/>
                      </a:lnTo>
                      <a:lnTo>
                        <a:pt x="1126" y="48"/>
                      </a:lnTo>
                      <a:lnTo>
                        <a:pt x="1078" y="97"/>
                      </a:lnTo>
                      <a:lnTo>
                        <a:pt x="1052" y="122"/>
                      </a:lnTo>
                      <a:lnTo>
                        <a:pt x="1019" y="151"/>
                      </a:lnTo>
                      <a:lnTo>
                        <a:pt x="983" y="181"/>
                      </a:lnTo>
                      <a:lnTo>
                        <a:pt x="940" y="215"/>
                      </a:lnTo>
                      <a:lnTo>
                        <a:pt x="892" y="251"/>
                      </a:lnTo>
                      <a:lnTo>
                        <a:pt x="839" y="287"/>
                      </a:lnTo>
                      <a:lnTo>
                        <a:pt x="780" y="324"/>
                      </a:lnTo>
                      <a:lnTo>
                        <a:pt x="715" y="362"/>
                      </a:lnTo>
                      <a:lnTo>
                        <a:pt x="647" y="398"/>
                      </a:lnTo>
                      <a:lnTo>
                        <a:pt x="573" y="432"/>
                      </a:lnTo>
                      <a:lnTo>
                        <a:pt x="495" y="464"/>
                      </a:lnTo>
                      <a:lnTo>
                        <a:pt x="411" y="495"/>
                      </a:lnTo>
                      <a:lnTo>
                        <a:pt x="339" y="497"/>
                      </a:lnTo>
                      <a:lnTo>
                        <a:pt x="162" y="493"/>
                      </a:lnTo>
                      <a:lnTo>
                        <a:pt x="14" y="521"/>
                      </a:lnTo>
                      <a:lnTo>
                        <a:pt x="0" y="523"/>
                      </a:lnTo>
                      <a:lnTo>
                        <a:pt x="8" y="516"/>
                      </a:lnTo>
                      <a:lnTo>
                        <a:pt x="69" y="483"/>
                      </a:lnTo>
                      <a:lnTo>
                        <a:pt x="145" y="447"/>
                      </a:lnTo>
                      <a:lnTo>
                        <a:pt x="181" y="430"/>
                      </a:lnTo>
                      <a:lnTo>
                        <a:pt x="263" y="424"/>
                      </a:lnTo>
                      <a:lnTo>
                        <a:pt x="263" y="4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556880" y="5992560"/>
                  <a:ext cx="198000" cy="223200"/>
                </a:xfrm>
                <a:custGeom>
                  <a:avLst/>
                  <a:gdLst/>
                  <a:ahLst/>
                  <a:rect l="l" t="t" r="r" b="b"/>
                  <a:pathLst>
                    <a:path w="751" h="848">
                      <a:moveTo>
                        <a:pt x="631" y="0"/>
                      </a:moveTo>
                      <a:lnTo>
                        <a:pt x="587" y="23"/>
                      </a:lnTo>
                      <a:lnTo>
                        <a:pt x="506" y="108"/>
                      </a:lnTo>
                      <a:lnTo>
                        <a:pt x="456" y="188"/>
                      </a:lnTo>
                      <a:lnTo>
                        <a:pt x="411" y="295"/>
                      </a:lnTo>
                      <a:lnTo>
                        <a:pt x="338" y="614"/>
                      </a:lnTo>
                      <a:lnTo>
                        <a:pt x="48" y="768"/>
                      </a:lnTo>
                      <a:lnTo>
                        <a:pt x="0" y="848"/>
                      </a:lnTo>
                      <a:lnTo>
                        <a:pt x="17" y="836"/>
                      </a:lnTo>
                      <a:lnTo>
                        <a:pt x="63" y="808"/>
                      </a:lnTo>
                      <a:lnTo>
                        <a:pt x="127" y="766"/>
                      </a:lnTo>
                      <a:lnTo>
                        <a:pt x="164" y="745"/>
                      </a:lnTo>
                      <a:lnTo>
                        <a:pt x="202" y="722"/>
                      </a:lnTo>
                      <a:lnTo>
                        <a:pt x="278" y="682"/>
                      </a:lnTo>
                      <a:lnTo>
                        <a:pt x="346" y="654"/>
                      </a:lnTo>
                      <a:lnTo>
                        <a:pt x="395" y="642"/>
                      </a:lnTo>
                      <a:lnTo>
                        <a:pt x="418" y="656"/>
                      </a:lnTo>
                      <a:lnTo>
                        <a:pt x="460" y="428"/>
                      </a:lnTo>
                      <a:lnTo>
                        <a:pt x="483" y="321"/>
                      </a:lnTo>
                      <a:lnTo>
                        <a:pt x="517" y="217"/>
                      </a:lnTo>
                      <a:lnTo>
                        <a:pt x="538" y="169"/>
                      </a:lnTo>
                      <a:lnTo>
                        <a:pt x="561" y="127"/>
                      </a:lnTo>
                      <a:lnTo>
                        <a:pt x="589" y="91"/>
                      </a:lnTo>
                      <a:lnTo>
                        <a:pt x="620" y="63"/>
                      </a:lnTo>
                      <a:lnTo>
                        <a:pt x="677" y="59"/>
                      </a:lnTo>
                      <a:lnTo>
                        <a:pt x="719" y="97"/>
                      </a:lnTo>
                      <a:lnTo>
                        <a:pt x="749" y="199"/>
                      </a:lnTo>
                      <a:lnTo>
                        <a:pt x="751" y="177"/>
                      </a:lnTo>
                      <a:lnTo>
                        <a:pt x="749" y="112"/>
                      </a:lnTo>
                      <a:lnTo>
                        <a:pt x="738" y="42"/>
                      </a:lnTo>
                      <a:lnTo>
                        <a:pt x="726" y="17"/>
                      </a:lnTo>
                      <a:lnTo>
                        <a:pt x="709" y="4"/>
                      </a:lnTo>
                      <a:lnTo>
                        <a:pt x="631" y="0"/>
                      </a:lnTo>
                      <a:lnTo>
                        <a:pt x="6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603320" y="5834160"/>
                  <a:ext cx="95760" cy="76680"/>
                </a:xfrm>
                <a:custGeom>
                  <a:avLst/>
                  <a:gdLst/>
                  <a:ahLst/>
                  <a:rect l="l" t="t" r="r" b="b"/>
                  <a:pathLst>
                    <a:path w="365" h="293">
                      <a:moveTo>
                        <a:pt x="34" y="63"/>
                      </a:moveTo>
                      <a:lnTo>
                        <a:pt x="118" y="72"/>
                      </a:lnTo>
                      <a:lnTo>
                        <a:pt x="209" y="116"/>
                      </a:lnTo>
                      <a:lnTo>
                        <a:pt x="276" y="190"/>
                      </a:lnTo>
                      <a:lnTo>
                        <a:pt x="291" y="293"/>
                      </a:lnTo>
                      <a:lnTo>
                        <a:pt x="365" y="255"/>
                      </a:lnTo>
                      <a:lnTo>
                        <a:pt x="344" y="217"/>
                      </a:lnTo>
                      <a:lnTo>
                        <a:pt x="317" y="177"/>
                      </a:lnTo>
                      <a:lnTo>
                        <a:pt x="283" y="131"/>
                      </a:lnTo>
                      <a:lnTo>
                        <a:pt x="243" y="86"/>
                      </a:lnTo>
                      <a:lnTo>
                        <a:pt x="220" y="65"/>
                      </a:lnTo>
                      <a:lnTo>
                        <a:pt x="196" y="44"/>
                      </a:lnTo>
                      <a:lnTo>
                        <a:pt x="144" y="15"/>
                      </a:lnTo>
                      <a:lnTo>
                        <a:pt x="89" y="0"/>
                      </a:lnTo>
                      <a:lnTo>
                        <a:pt x="68" y="12"/>
                      </a:lnTo>
                      <a:lnTo>
                        <a:pt x="25" y="36"/>
                      </a:lnTo>
                      <a:lnTo>
                        <a:pt x="0" y="57"/>
                      </a:lnTo>
                      <a:lnTo>
                        <a:pt x="34" y="63"/>
                      </a:lnTo>
                      <a:lnTo>
                        <a:pt x="34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032360" y="5927400"/>
                  <a:ext cx="163800" cy="103680"/>
                </a:xfrm>
                <a:custGeom>
                  <a:avLst/>
                  <a:gdLst/>
                  <a:ahLst/>
                  <a:rect l="l" t="t" r="r" b="b"/>
                  <a:pathLst>
                    <a:path w="622" h="393">
                      <a:moveTo>
                        <a:pt x="595" y="0"/>
                      </a:moveTo>
                      <a:lnTo>
                        <a:pt x="552" y="21"/>
                      </a:lnTo>
                      <a:lnTo>
                        <a:pt x="502" y="43"/>
                      </a:lnTo>
                      <a:lnTo>
                        <a:pt x="445" y="72"/>
                      </a:lnTo>
                      <a:lnTo>
                        <a:pt x="382" y="104"/>
                      </a:lnTo>
                      <a:lnTo>
                        <a:pt x="322" y="137"/>
                      </a:lnTo>
                      <a:lnTo>
                        <a:pt x="265" y="167"/>
                      </a:lnTo>
                      <a:lnTo>
                        <a:pt x="221" y="196"/>
                      </a:lnTo>
                      <a:lnTo>
                        <a:pt x="183" y="222"/>
                      </a:lnTo>
                      <a:lnTo>
                        <a:pt x="145" y="254"/>
                      </a:lnTo>
                      <a:lnTo>
                        <a:pt x="109" y="287"/>
                      </a:lnTo>
                      <a:lnTo>
                        <a:pt x="74" y="319"/>
                      </a:lnTo>
                      <a:lnTo>
                        <a:pt x="44" y="348"/>
                      </a:lnTo>
                      <a:lnTo>
                        <a:pt x="21" y="370"/>
                      </a:lnTo>
                      <a:lnTo>
                        <a:pt x="0" y="393"/>
                      </a:lnTo>
                      <a:lnTo>
                        <a:pt x="152" y="287"/>
                      </a:lnTo>
                      <a:lnTo>
                        <a:pt x="202" y="262"/>
                      </a:lnTo>
                      <a:lnTo>
                        <a:pt x="251" y="237"/>
                      </a:lnTo>
                      <a:lnTo>
                        <a:pt x="310" y="207"/>
                      </a:lnTo>
                      <a:lnTo>
                        <a:pt x="392" y="169"/>
                      </a:lnTo>
                      <a:lnTo>
                        <a:pt x="496" y="129"/>
                      </a:lnTo>
                      <a:lnTo>
                        <a:pt x="584" y="99"/>
                      </a:lnTo>
                      <a:lnTo>
                        <a:pt x="622" y="85"/>
                      </a:lnTo>
                      <a:lnTo>
                        <a:pt x="595" y="0"/>
                      </a:lnTo>
                      <a:lnTo>
                        <a:pt x="5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433400" y="6012360"/>
                  <a:ext cx="144000" cy="227160"/>
                </a:xfrm>
                <a:custGeom>
                  <a:avLst/>
                  <a:gdLst/>
                  <a:ahLst/>
                  <a:rect l="l" t="t" r="r" b="b"/>
                  <a:pathLst>
                    <a:path w="548" h="861">
                      <a:moveTo>
                        <a:pt x="322" y="108"/>
                      </a:moveTo>
                      <a:lnTo>
                        <a:pt x="383" y="160"/>
                      </a:lnTo>
                      <a:lnTo>
                        <a:pt x="428" y="215"/>
                      </a:lnTo>
                      <a:lnTo>
                        <a:pt x="480" y="336"/>
                      </a:lnTo>
                      <a:lnTo>
                        <a:pt x="495" y="468"/>
                      </a:lnTo>
                      <a:lnTo>
                        <a:pt x="497" y="612"/>
                      </a:lnTo>
                      <a:lnTo>
                        <a:pt x="472" y="726"/>
                      </a:lnTo>
                      <a:lnTo>
                        <a:pt x="451" y="810"/>
                      </a:lnTo>
                      <a:lnTo>
                        <a:pt x="434" y="861"/>
                      </a:lnTo>
                      <a:lnTo>
                        <a:pt x="443" y="853"/>
                      </a:lnTo>
                      <a:lnTo>
                        <a:pt x="483" y="804"/>
                      </a:lnTo>
                      <a:lnTo>
                        <a:pt x="527" y="751"/>
                      </a:lnTo>
                      <a:lnTo>
                        <a:pt x="548" y="724"/>
                      </a:lnTo>
                      <a:lnTo>
                        <a:pt x="527" y="591"/>
                      </a:lnTo>
                      <a:lnTo>
                        <a:pt x="537" y="393"/>
                      </a:lnTo>
                      <a:lnTo>
                        <a:pt x="529" y="306"/>
                      </a:lnTo>
                      <a:lnTo>
                        <a:pt x="510" y="239"/>
                      </a:lnTo>
                      <a:lnTo>
                        <a:pt x="476" y="173"/>
                      </a:lnTo>
                      <a:lnTo>
                        <a:pt x="451" y="133"/>
                      </a:lnTo>
                      <a:lnTo>
                        <a:pt x="421" y="95"/>
                      </a:lnTo>
                      <a:lnTo>
                        <a:pt x="384" y="59"/>
                      </a:lnTo>
                      <a:lnTo>
                        <a:pt x="341" y="28"/>
                      </a:lnTo>
                      <a:lnTo>
                        <a:pt x="289" y="9"/>
                      </a:lnTo>
                      <a:lnTo>
                        <a:pt x="230" y="2"/>
                      </a:lnTo>
                      <a:lnTo>
                        <a:pt x="0" y="0"/>
                      </a:lnTo>
                      <a:lnTo>
                        <a:pt x="27" y="8"/>
                      </a:lnTo>
                      <a:lnTo>
                        <a:pt x="177" y="34"/>
                      </a:lnTo>
                      <a:lnTo>
                        <a:pt x="280" y="80"/>
                      </a:lnTo>
                      <a:lnTo>
                        <a:pt x="322" y="108"/>
                      </a:lnTo>
                      <a:lnTo>
                        <a:pt x="322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997800" y="6103080"/>
                  <a:ext cx="92160" cy="135720"/>
                </a:xfrm>
                <a:custGeom>
                  <a:avLst/>
                  <a:gdLst/>
                  <a:ahLst/>
                  <a:rect l="l" t="t" r="r" b="b"/>
                  <a:pathLst>
                    <a:path w="352" h="517">
                      <a:moveTo>
                        <a:pt x="6" y="0"/>
                      </a:moveTo>
                      <a:lnTo>
                        <a:pt x="0" y="160"/>
                      </a:lnTo>
                      <a:lnTo>
                        <a:pt x="8" y="241"/>
                      </a:lnTo>
                      <a:lnTo>
                        <a:pt x="31" y="297"/>
                      </a:lnTo>
                      <a:lnTo>
                        <a:pt x="46" y="314"/>
                      </a:lnTo>
                      <a:lnTo>
                        <a:pt x="78" y="338"/>
                      </a:lnTo>
                      <a:lnTo>
                        <a:pt x="126" y="373"/>
                      </a:lnTo>
                      <a:lnTo>
                        <a:pt x="179" y="407"/>
                      </a:lnTo>
                      <a:lnTo>
                        <a:pt x="236" y="443"/>
                      </a:lnTo>
                      <a:lnTo>
                        <a:pt x="287" y="475"/>
                      </a:lnTo>
                      <a:lnTo>
                        <a:pt x="352" y="517"/>
                      </a:lnTo>
                      <a:lnTo>
                        <a:pt x="348" y="513"/>
                      </a:lnTo>
                      <a:lnTo>
                        <a:pt x="302" y="477"/>
                      </a:lnTo>
                      <a:lnTo>
                        <a:pt x="270" y="451"/>
                      </a:lnTo>
                      <a:lnTo>
                        <a:pt x="238" y="422"/>
                      </a:lnTo>
                      <a:lnTo>
                        <a:pt x="206" y="392"/>
                      </a:lnTo>
                      <a:lnTo>
                        <a:pt x="179" y="365"/>
                      </a:lnTo>
                      <a:lnTo>
                        <a:pt x="97" y="306"/>
                      </a:lnTo>
                      <a:lnTo>
                        <a:pt x="44" y="241"/>
                      </a:lnTo>
                      <a:lnTo>
                        <a:pt x="25" y="87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384800" y="6096600"/>
                  <a:ext cx="177480" cy="216000"/>
                </a:xfrm>
                <a:custGeom>
                  <a:avLst/>
                  <a:gdLst/>
                  <a:ahLst/>
                  <a:rect l="l" t="t" r="r" b="b"/>
                  <a:pathLst>
                    <a:path w="673" h="820">
                      <a:moveTo>
                        <a:pt x="101" y="517"/>
                      </a:moveTo>
                      <a:lnTo>
                        <a:pt x="127" y="436"/>
                      </a:lnTo>
                      <a:lnTo>
                        <a:pt x="160" y="354"/>
                      </a:lnTo>
                      <a:lnTo>
                        <a:pt x="201" y="261"/>
                      </a:lnTo>
                      <a:lnTo>
                        <a:pt x="228" y="211"/>
                      </a:lnTo>
                      <a:lnTo>
                        <a:pt x="255" y="166"/>
                      </a:lnTo>
                      <a:lnTo>
                        <a:pt x="285" y="122"/>
                      </a:lnTo>
                      <a:lnTo>
                        <a:pt x="315" y="82"/>
                      </a:lnTo>
                      <a:lnTo>
                        <a:pt x="350" y="50"/>
                      </a:lnTo>
                      <a:lnTo>
                        <a:pt x="386" y="23"/>
                      </a:lnTo>
                      <a:lnTo>
                        <a:pt x="422" y="6"/>
                      </a:lnTo>
                      <a:lnTo>
                        <a:pt x="462" y="0"/>
                      </a:lnTo>
                      <a:lnTo>
                        <a:pt x="576" y="23"/>
                      </a:lnTo>
                      <a:lnTo>
                        <a:pt x="654" y="126"/>
                      </a:lnTo>
                      <a:lnTo>
                        <a:pt x="671" y="221"/>
                      </a:lnTo>
                      <a:lnTo>
                        <a:pt x="673" y="274"/>
                      </a:lnTo>
                      <a:lnTo>
                        <a:pt x="671" y="325"/>
                      </a:lnTo>
                      <a:lnTo>
                        <a:pt x="658" y="447"/>
                      </a:lnTo>
                      <a:lnTo>
                        <a:pt x="622" y="474"/>
                      </a:lnTo>
                      <a:lnTo>
                        <a:pt x="633" y="259"/>
                      </a:lnTo>
                      <a:lnTo>
                        <a:pt x="620" y="181"/>
                      </a:lnTo>
                      <a:lnTo>
                        <a:pt x="587" y="116"/>
                      </a:lnTo>
                      <a:lnTo>
                        <a:pt x="563" y="90"/>
                      </a:lnTo>
                      <a:lnTo>
                        <a:pt x="532" y="72"/>
                      </a:lnTo>
                      <a:lnTo>
                        <a:pt x="450" y="61"/>
                      </a:lnTo>
                      <a:lnTo>
                        <a:pt x="350" y="131"/>
                      </a:lnTo>
                      <a:lnTo>
                        <a:pt x="302" y="185"/>
                      </a:lnTo>
                      <a:lnTo>
                        <a:pt x="253" y="259"/>
                      </a:lnTo>
                      <a:lnTo>
                        <a:pt x="226" y="302"/>
                      </a:lnTo>
                      <a:lnTo>
                        <a:pt x="199" y="354"/>
                      </a:lnTo>
                      <a:lnTo>
                        <a:pt x="150" y="477"/>
                      </a:lnTo>
                      <a:lnTo>
                        <a:pt x="144" y="766"/>
                      </a:lnTo>
                      <a:lnTo>
                        <a:pt x="133" y="789"/>
                      </a:lnTo>
                      <a:lnTo>
                        <a:pt x="84" y="806"/>
                      </a:lnTo>
                      <a:lnTo>
                        <a:pt x="0" y="820"/>
                      </a:lnTo>
                      <a:lnTo>
                        <a:pt x="101" y="517"/>
                      </a:lnTo>
                      <a:lnTo>
                        <a:pt x="101" y="5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276080" y="6090480"/>
                  <a:ext cx="124920" cy="131400"/>
                </a:xfrm>
                <a:custGeom>
                  <a:avLst/>
                  <a:gdLst/>
                  <a:ahLst/>
                  <a:rect l="l" t="t" r="r" b="b"/>
                  <a:pathLst>
                    <a:path w="474" h="499">
                      <a:moveTo>
                        <a:pt x="74" y="85"/>
                      </a:moveTo>
                      <a:lnTo>
                        <a:pt x="46" y="123"/>
                      </a:lnTo>
                      <a:lnTo>
                        <a:pt x="2" y="222"/>
                      </a:lnTo>
                      <a:lnTo>
                        <a:pt x="0" y="345"/>
                      </a:lnTo>
                      <a:lnTo>
                        <a:pt x="14" y="378"/>
                      </a:lnTo>
                      <a:lnTo>
                        <a:pt x="35" y="408"/>
                      </a:lnTo>
                      <a:lnTo>
                        <a:pt x="63" y="439"/>
                      </a:lnTo>
                      <a:lnTo>
                        <a:pt x="101" y="465"/>
                      </a:lnTo>
                      <a:lnTo>
                        <a:pt x="143" y="488"/>
                      </a:lnTo>
                      <a:lnTo>
                        <a:pt x="181" y="499"/>
                      </a:lnTo>
                      <a:lnTo>
                        <a:pt x="253" y="498"/>
                      </a:lnTo>
                      <a:lnTo>
                        <a:pt x="316" y="471"/>
                      </a:lnTo>
                      <a:lnTo>
                        <a:pt x="367" y="429"/>
                      </a:lnTo>
                      <a:lnTo>
                        <a:pt x="407" y="380"/>
                      </a:lnTo>
                      <a:lnTo>
                        <a:pt x="438" y="334"/>
                      </a:lnTo>
                      <a:lnTo>
                        <a:pt x="462" y="285"/>
                      </a:lnTo>
                      <a:lnTo>
                        <a:pt x="474" y="150"/>
                      </a:lnTo>
                      <a:lnTo>
                        <a:pt x="464" y="98"/>
                      </a:lnTo>
                      <a:lnTo>
                        <a:pt x="443" y="53"/>
                      </a:lnTo>
                      <a:lnTo>
                        <a:pt x="426" y="34"/>
                      </a:lnTo>
                      <a:lnTo>
                        <a:pt x="407" y="17"/>
                      </a:lnTo>
                      <a:lnTo>
                        <a:pt x="350" y="0"/>
                      </a:lnTo>
                      <a:lnTo>
                        <a:pt x="373" y="28"/>
                      </a:lnTo>
                      <a:lnTo>
                        <a:pt x="409" y="106"/>
                      </a:lnTo>
                      <a:lnTo>
                        <a:pt x="409" y="220"/>
                      </a:lnTo>
                      <a:lnTo>
                        <a:pt x="377" y="288"/>
                      </a:lnTo>
                      <a:lnTo>
                        <a:pt x="352" y="323"/>
                      </a:lnTo>
                      <a:lnTo>
                        <a:pt x="318" y="359"/>
                      </a:lnTo>
                      <a:lnTo>
                        <a:pt x="295" y="376"/>
                      </a:lnTo>
                      <a:lnTo>
                        <a:pt x="236" y="403"/>
                      </a:lnTo>
                      <a:lnTo>
                        <a:pt x="160" y="403"/>
                      </a:lnTo>
                      <a:lnTo>
                        <a:pt x="80" y="338"/>
                      </a:lnTo>
                      <a:lnTo>
                        <a:pt x="86" y="199"/>
                      </a:lnTo>
                      <a:lnTo>
                        <a:pt x="107" y="142"/>
                      </a:lnTo>
                      <a:lnTo>
                        <a:pt x="145" y="89"/>
                      </a:lnTo>
                      <a:lnTo>
                        <a:pt x="171" y="62"/>
                      </a:lnTo>
                      <a:lnTo>
                        <a:pt x="204" y="41"/>
                      </a:lnTo>
                      <a:lnTo>
                        <a:pt x="242" y="20"/>
                      </a:lnTo>
                      <a:lnTo>
                        <a:pt x="285" y="3"/>
                      </a:lnTo>
                      <a:lnTo>
                        <a:pt x="249" y="0"/>
                      </a:lnTo>
                      <a:lnTo>
                        <a:pt x="107" y="57"/>
                      </a:lnTo>
                      <a:lnTo>
                        <a:pt x="74" y="85"/>
                      </a:lnTo>
                      <a:lnTo>
                        <a:pt x="74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556880" y="5852160"/>
                  <a:ext cx="49320" cy="126360"/>
                </a:xfrm>
                <a:custGeom>
                  <a:avLst/>
                  <a:gdLst/>
                  <a:ahLst/>
                  <a:rect l="l" t="t" r="r" b="b"/>
                  <a:pathLst>
                    <a:path w="186" h="479">
                      <a:moveTo>
                        <a:pt x="0" y="28"/>
                      </a:moveTo>
                      <a:lnTo>
                        <a:pt x="106" y="435"/>
                      </a:lnTo>
                      <a:lnTo>
                        <a:pt x="122" y="479"/>
                      </a:lnTo>
                      <a:lnTo>
                        <a:pt x="186" y="414"/>
                      </a:lnTo>
                      <a:lnTo>
                        <a:pt x="3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596480" y="5963040"/>
                  <a:ext cx="47880" cy="210600"/>
                </a:xfrm>
                <a:custGeom>
                  <a:avLst/>
                  <a:gdLst/>
                  <a:ahLst/>
                  <a:rect l="l" t="t" r="r" b="b"/>
                  <a:pathLst>
                    <a:path w="183" h="800">
                      <a:moveTo>
                        <a:pt x="0" y="42"/>
                      </a:moveTo>
                      <a:lnTo>
                        <a:pt x="29" y="85"/>
                      </a:lnTo>
                      <a:lnTo>
                        <a:pt x="84" y="220"/>
                      </a:lnTo>
                      <a:lnTo>
                        <a:pt x="114" y="456"/>
                      </a:lnTo>
                      <a:lnTo>
                        <a:pt x="107" y="614"/>
                      </a:lnTo>
                      <a:lnTo>
                        <a:pt x="74" y="800"/>
                      </a:lnTo>
                      <a:lnTo>
                        <a:pt x="128" y="796"/>
                      </a:lnTo>
                      <a:lnTo>
                        <a:pt x="150" y="692"/>
                      </a:lnTo>
                      <a:lnTo>
                        <a:pt x="183" y="452"/>
                      </a:lnTo>
                      <a:lnTo>
                        <a:pt x="173" y="184"/>
                      </a:lnTo>
                      <a:lnTo>
                        <a:pt x="158" y="127"/>
                      </a:lnTo>
                      <a:lnTo>
                        <a:pt x="135" y="76"/>
                      </a:lnTo>
                      <a:lnTo>
                        <a:pt x="107" y="32"/>
                      </a:lnTo>
                      <a:lnTo>
                        <a:pt x="69" y="0"/>
                      </a:lnTo>
                      <a:lnTo>
                        <a:pt x="0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999240" y="6031440"/>
                  <a:ext cx="106560" cy="110520"/>
                </a:xfrm>
                <a:custGeom>
                  <a:avLst/>
                  <a:gdLst/>
                  <a:ahLst/>
                  <a:rect l="l" t="t" r="r" b="b"/>
                  <a:pathLst>
                    <a:path w="403" h="420">
                      <a:moveTo>
                        <a:pt x="0" y="295"/>
                      </a:moveTo>
                      <a:lnTo>
                        <a:pt x="17" y="177"/>
                      </a:lnTo>
                      <a:lnTo>
                        <a:pt x="32" y="129"/>
                      </a:lnTo>
                      <a:lnTo>
                        <a:pt x="57" y="86"/>
                      </a:lnTo>
                      <a:lnTo>
                        <a:pt x="89" y="48"/>
                      </a:lnTo>
                      <a:lnTo>
                        <a:pt x="133" y="23"/>
                      </a:lnTo>
                      <a:lnTo>
                        <a:pt x="245" y="0"/>
                      </a:lnTo>
                      <a:lnTo>
                        <a:pt x="352" y="21"/>
                      </a:lnTo>
                      <a:lnTo>
                        <a:pt x="388" y="55"/>
                      </a:lnTo>
                      <a:lnTo>
                        <a:pt x="403" y="112"/>
                      </a:lnTo>
                      <a:lnTo>
                        <a:pt x="395" y="190"/>
                      </a:lnTo>
                      <a:lnTo>
                        <a:pt x="380" y="242"/>
                      </a:lnTo>
                      <a:lnTo>
                        <a:pt x="355" y="299"/>
                      </a:lnTo>
                      <a:lnTo>
                        <a:pt x="336" y="327"/>
                      </a:lnTo>
                      <a:lnTo>
                        <a:pt x="300" y="361"/>
                      </a:lnTo>
                      <a:lnTo>
                        <a:pt x="256" y="394"/>
                      </a:lnTo>
                      <a:lnTo>
                        <a:pt x="209" y="417"/>
                      </a:lnTo>
                      <a:lnTo>
                        <a:pt x="159" y="420"/>
                      </a:lnTo>
                      <a:lnTo>
                        <a:pt x="116" y="399"/>
                      </a:lnTo>
                      <a:lnTo>
                        <a:pt x="83" y="346"/>
                      </a:lnTo>
                      <a:lnTo>
                        <a:pt x="64" y="251"/>
                      </a:lnTo>
                      <a:lnTo>
                        <a:pt x="74" y="207"/>
                      </a:lnTo>
                      <a:lnTo>
                        <a:pt x="93" y="249"/>
                      </a:lnTo>
                      <a:lnTo>
                        <a:pt x="114" y="283"/>
                      </a:lnTo>
                      <a:lnTo>
                        <a:pt x="140" y="320"/>
                      </a:lnTo>
                      <a:lnTo>
                        <a:pt x="173" y="342"/>
                      </a:lnTo>
                      <a:lnTo>
                        <a:pt x="209" y="348"/>
                      </a:lnTo>
                      <a:lnTo>
                        <a:pt x="287" y="266"/>
                      </a:lnTo>
                      <a:lnTo>
                        <a:pt x="323" y="143"/>
                      </a:lnTo>
                      <a:lnTo>
                        <a:pt x="313" y="107"/>
                      </a:lnTo>
                      <a:lnTo>
                        <a:pt x="296" y="84"/>
                      </a:lnTo>
                      <a:lnTo>
                        <a:pt x="249" y="67"/>
                      </a:lnTo>
                      <a:lnTo>
                        <a:pt x="222" y="65"/>
                      </a:lnTo>
                      <a:lnTo>
                        <a:pt x="102" y="107"/>
                      </a:lnTo>
                      <a:lnTo>
                        <a:pt x="38" y="202"/>
                      </a:lnTo>
                      <a:lnTo>
                        <a:pt x="0" y="295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149000" y="6231600"/>
                  <a:ext cx="232560" cy="55080"/>
                </a:xfrm>
                <a:custGeom>
                  <a:avLst/>
                  <a:gdLst/>
                  <a:ahLst/>
                  <a:rect l="l" t="t" r="r" b="b"/>
                  <a:pathLst>
                    <a:path w="883" h="211">
                      <a:moveTo>
                        <a:pt x="0" y="127"/>
                      </a:moveTo>
                      <a:lnTo>
                        <a:pt x="76" y="112"/>
                      </a:lnTo>
                      <a:lnTo>
                        <a:pt x="303" y="89"/>
                      </a:lnTo>
                      <a:lnTo>
                        <a:pt x="797" y="11"/>
                      </a:lnTo>
                      <a:lnTo>
                        <a:pt x="883" y="0"/>
                      </a:lnTo>
                      <a:lnTo>
                        <a:pt x="879" y="20"/>
                      </a:lnTo>
                      <a:lnTo>
                        <a:pt x="856" y="51"/>
                      </a:lnTo>
                      <a:lnTo>
                        <a:pt x="818" y="85"/>
                      </a:lnTo>
                      <a:lnTo>
                        <a:pt x="772" y="121"/>
                      </a:lnTo>
                      <a:lnTo>
                        <a:pt x="727" y="150"/>
                      </a:lnTo>
                      <a:lnTo>
                        <a:pt x="687" y="169"/>
                      </a:lnTo>
                      <a:lnTo>
                        <a:pt x="590" y="195"/>
                      </a:lnTo>
                      <a:lnTo>
                        <a:pt x="441" y="211"/>
                      </a:lnTo>
                      <a:lnTo>
                        <a:pt x="244" y="193"/>
                      </a:lnTo>
                      <a:lnTo>
                        <a:pt x="0" y="127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995640" y="6190920"/>
                  <a:ext cx="415800" cy="131760"/>
                </a:xfrm>
                <a:custGeom>
                  <a:avLst/>
                  <a:gdLst/>
                  <a:ahLst/>
                  <a:rect l="l" t="t" r="r" b="b"/>
                  <a:pathLst>
                    <a:path w="1578" h="500">
                      <a:moveTo>
                        <a:pt x="5" y="0"/>
                      </a:moveTo>
                      <a:lnTo>
                        <a:pt x="0" y="83"/>
                      </a:lnTo>
                      <a:lnTo>
                        <a:pt x="38" y="123"/>
                      </a:lnTo>
                      <a:lnTo>
                        <a:pt x="74" y="154"/>
                      </a:lnTo>
                      <a:lnTo>
                        <a:pt x="121" y="190"/>
                      </a:lnTo>
                      <a:lnTo>
                        <a:pt x="180" y="232"/>
                      </a:lnTo>
                      <a:lnTo>
                        <a:pt x="213" y="252"/>
                      </a:lnTo>
                      <a:lnTo>
                        <a:pt x="249" y="273"/>
                      </a:lnTo>
                      <a:lnTo>
                        <a:pt x="287" y="296"/>
                      </a:lnTo>
                      <a:lnTo>
                        <a:pt x="327" y="317"/>
                      </a:lnTo>
                      <a:lnTo>
                        <a:pt x="370" y="340"/>
                      </a:lnTo>
                      <a:lnTo>
                        <a:pt x="416" y="361"/>
                      </a:lnTo>
                      <a:lnTo>
                        <a:pt x="517" y="401"/>
                      </a:lnTo>
                      <a:lnTo>
                        <a:pt x="625" y="435"/>
                      </a:lnTo>
                      <a:lnTo>
                        <a:pt x="745" y="465"/>
                      </a:lnTo>
                      <a:lnTo>
                        <a:pt x="872" y="486"/>
                      </a:lnTo>
                      <a:lnTo>
                        <a:pt x="1157" y="500"/>
                      </a:lnTo>
                      <a:lnTo>
                        <a:pt x="1477" y="462"/>
                      </a:lnTo>
                      <a:lnTo>
                        <a:pt x="1578" y="391"/>
                      </a:lnTo>
                      <a:lnTo>
                        <a:pt x="1469" y="404"/>
                      </a:lnTo>
                      <a:lnTo>
                        <a:pt x="1201" y="422"/>
                      </a:lnTo>
                      <a:lnTo>
                        <a:pt x="874" y="416"/>
                      </a:lnTo>
                      <a:lnTo>
                        <a:pt x="581" y="361"/>
                      </a:lnTo>
                      <a:lnTo>
                        <a:pt x="465" y="313"/>
                      </a:lnTo>
                      <a:lnTo>
                        <a:pt x="363" y="264"/>
                      </a:lnTo>
                      <a:lnTo>
                        <a:pt x="270" y="216"/>
                      </a:lnTo>
                      <a:lnTo>
                        <a:pt x="192" y="171"/>
                      </a:lnTo>
                      <a:lnTo>
                        <a:pt x="125" y="129"/>
                      </a:lnTo>
                      <a:lnTo>
                        <a:pt x="76" y="93"/>
                      </a:lnTo>
                      <a:lnTo>
                        <a:pt x="26" y="4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062960" y="6253920"/>
                  <a:ext cx="90000" cy="50400"/>
                </a:xfrm>
                <a:custGeom>
                  <a:avLst/>
                  <a:gdLst/>
                  <a:ahLst/>
                  <a:rect l="l" t="t" r="r" b="b"/>
                  <a:pathLst>
                    <a:path w="342" h="192">
                      <a:moveTo>
                        <a:pt x="2" y="0"/>
                      </a:moveTo>
                      <a:lnTo>
                        <a:pt x="0" y="14"/>
                      </a:lnTo>
                      <a:lnTo>
                        <a:pt x="2" y="48"/>
                      </a:lnTo>
                      <a:lnTo>
                        <a:pt x="21" y="90"/>
                      </a:lnTo>
                      <a:lnTo>
                        <a:pt x="40" y="110"/>
                      </a:lnTo>
                      <a:lnTo>
                        <a:pt x="71" y="129"/>
                      </a:lnTo>
                      <a:lnTo>
                        <a:pt x="147" y="160"/>
                      </a:lnTo>
                      <a:lnTo>
                        <a:pt x="226" y="179"/>
                      </a:lnTo>
                      <a:lnTo>
                        <a:pt x="316" y="192"/>
                      </a:lnTo>
                      <a:lnTo>
                        <a:pt x="342" y="171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336200" y="6111000"/>
                  <a:ext cx="225720" cy="250200"/>
                </a:xfrm>
                <a:custGeom>
                  <a:avLst/>
                  <a:gdLst/>
                  <a:ahLst/>
                  <a:rect l="l" t="t" r="r" b="b"/>
                  <a:pathLst>
                    <a:path w="856" h="951">
                      <a:moveTo>
                        <a:pt x="0" y="765"/>
                      </a:moveTo>
                      <a:lnTo>
                        <a:pt x="14" y="791"/>
                      </a:lnTo>
                      <a:lnTo>
                        <a:pt x="52" y="850"/>
                      </a:lnTo>
                      <a:lnTo>
                        <a:pt x="76" y="881"/>
                      </a:lnTo>
                      <a:lnTo>
                        <a:pt x="105" y="909"/>
                      </a:lnTo>
                      <a:lnTo>
                        <a:pt x="137" y="930"/>
                      </a:lnTo>
                      <a:lnTo>
                        <a:pt x="170" y="941"/>
                      </a:lnTo>
                      <a:lnTo>
                        <a:pt x="375" y="951"/>
                      </a:lnTo>
                      <a:lnTo>
                        <a:pt x="481" y="939"/>
                      </a:lnTo>
                      <a:lnTo>
                        <a:pt x="552" y="909"/>
                      </a:lnTo>
                      <a:lnTo>
                        <a:pt x="586" y="871"/>
                      </a:lnTo>
                      <a:lnTo>
                        <a:pt x="645" y="806"/>
                      </a:lnTo>
                      <a:lnTo>
                        <a:pt x="679" y="763"/>
                      </a:lnTo>
                      <a:lnTo>
                        <a:pt x="715" y="715"/>
                      </a:lnTo>
                      <a:lnTo>
                        <a:pt x="748" y="662"/>
                      </a:lnTo>
                      <a:lnTo>
                        <a:pt x="780" y="603"/>
                      </a:lnTo>
                      <a:lnTo>
                        <a:pt x="831" y="476"/>
                      </a:lnTo>
                      <a:lnTo>
                        <a:pt x="856" y="335"/>
                      </a:lnTo>
                      <a:lnTo>
                        <a:pt x="839" y="185"/>
                      </a:lnTo>
                      <a:lnTo>
                        <a:pt x="812" y="109"/>
                      </a:lnTo>
                      <a:lnTo>
                        <a:pt x="791" y="69"/>
                      </a:lnTo>
                      <a:lnTo>
                        <a:pt x="769" y="31"/>
                      </a:lnTo>
                      <a:lnTo>
                        <a:pt x="740" y="14"/>
                      </a:lnTo>
                      <a:lnTo>
                        <a:pt x="687" y="0"/>
                      </a:lnTo>
                      <a:lnTo>
                        <a:pt x="580" y="10"/>
                      </a:lnTo>
                      <a:lnTo>
                        <a:pt x="533" y="63"/>
                      </a:lnTo>
                      <a:lnTo>
                        <a:pt x="502" y="103"/>
                      </a:lnTo>
                      <a:lnTo>
                        <a:pt x="472" y="149"/>
                      </a:lnTo>
                      <a:lnTo>
                        <a:pt x="443" y="192"/>
                      </a:lnTo>
                      <a:lnTo>
                        <a:pt x="421" y="229"/>
                      </a:lnTo>
                      <a:lnTo>
                        <a:pt x="400" y="265"/>
                      </a:lnTo>
                      <a:lnTo>
                        <a:pt x="436" y="208"/>
                      </a:lnTo>
                      <a:lnTo>
                        <a:pt x="474" y="154"/>
                      </a:lnTo>
                      <a:lnTo>
                        <a:pt x="523" y="96"/>
                      </a:lnTo>
                      <a:lnTo>
                        <a:pt x="552" y="71"/>
                      </a:lnTo>
                      <a:lnTo>
                        <a:pt x="578" y="46"/>
                      </a:lnTo>
                      <a:lnTo>
                        <a:pt x="635" y="16"/>
                      </a:lnTo>
                      <a:lnTo>
                        <a:pt x="692" y="14"/>
                      </a:lnTo>
                      <a:lnTo>
                        <a:pt x="742" y="50"/>
                      </a:lnTo>
                      <a:lnTo>
                        <a:pt x="812" y="185"/>
                      </a:lnTo>
                      <a:lnTo>
                        <a:pt x="824" y="354"/>
                      </a:lnTo>
                      <a:lnTo>
                        <a:pt x="801" y="453"/>
                      </a:lnTo>
                      <a:lnTo>
                        <a:pt x="782" y="508"/>
                      </a:lnTo>
                      <a:lnTo>
                        <a:pt x="757" y="563"/>
                      </a:lnTo>
                      <a:lnTo>
                        <a:pt x="727" y="624"/>
                      </a:lnTo>
                      <a:lnTo>
                        <a:pt x="691" y="687"/>
                      </a:lnTo>
                      <a:lnTo>
                        <a:pt x="647" y="751"/>
                      </a:lnTo>
                      <a:lnTo>
                        <a:pt x="597" y="822"/>
                      </a:lnTo>
                      <a:lnTo>
                        <a:pt x="569" y="850"/>
                      </a:lnTo>
                      <a:lnTo>
                        <a:pt x="538" y="869"/>
                      </a:lnTo>
                      <a:lnTo>
                        <a:pt x="499" y="886"/>
                      </a:lnTo>
                      <a:lnTo>
                        <a:pt x="371" y="907"/>
                      </a:lnTo>
                      <a:lnTo>
                        <a:pt x="170" y="898"/>
                      </a:lnTo>
                      <a:lnTo>
                        <a:pt x="37" y="776"/>
                      </a:lnTo>
                      <a:lnTo>
                        <a:pt x="0" y="765"/>
                      </a:lnTo>
                      <a:lnTo>
                        <a:pt x="0" y="7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113000" y="5997240"/>
                  <a:ext cx="150120" cy="226080"/>
                </a:xfrm>
                <a:custGeom>
                  <a:avLst/>
                  <a:gdLst/>
                  <a:ahLst/>
                  <a:rect l="l" t="t" r="r" b="b"/>
                  <a:pathLst>
                    <a:path w="571" h="857">
                      <a:moveTo>
                        <a:pt x="0" y="831"/>
                      </a:moveTo>
                      <a:lnTo>
                        <a:pt x="21" y="753"/>
                      </a:lnTo>
                      <a:lnTo>
                        <a:pt x="52" y="665"/>
                      </a:lnTo>
                      <a:lnTo>
                        <a:pt x="71" y="614"/>
                      </a:lnTo>
                      <a:lnTo>
                        <a:pt x="95" y="557"/>
                      </a:lnTo>
                      <a:lnTo>
                        <a:pt x="122" y="498"/>
                      </a:lnTo>
                      <a:lnTo>
                        <a:pt x="154" y="435"/>
                      </a:lnTo>
                      <a:lnTo>
                        <a:pt x="190" y="373"/>
                      </a:lnTo>
                      <a:lnTo>
                        <a:pt x="232" y="308"/>
                      </a:lnTo>
                      <a:lnTo>
                        <a:pt x="278" y="245"/>
                      </a:lnTo>
                      <a:lnTo>
                        <a:pt x="329" y="184"/>
                      </a:lnTo>
                      <a:lnTo>
                        <a:pt x="384" y="125"/>
                      </a:lnTo>
                      <a:lnTo>
                        <a:pt x="415" y="97"/>
                      </a:lnTo>
                      <a:lnTo>
                        <a:pt x="445" y="70"/>
                      </a:lnTo>
                      <a:lnTo>
                        <a:pt x="571" y="0"/>
                      </a:lnTo>
                      <a:lnTo>
                        <a:pt x="519" y="42"/>
                      </a:lnTo>
                      <a:lnTo>
                        <a:pt x="495" y="67"/>
                      </a:lnTo>
                      <a:lnTo>
                        <a:pt x="464" y="97"/>
                      </a:lnTo>
                      <a:lnTo>
                        <a:pt x="396" y="173"/>
                      </a:lnTo>
                      <a:lnTo>
                        <a:pt x="360" y="219"/>
                      </a:lnTo>
                      <a:lnTo>
                        <a:pt x="320" y="272"/>
                      </a:lnTo>
                      <a:lnTo>
                        <a:pt x="280" y="331"/>
                      </a:lnTo>
                      <a:lnTo>
                        <a:pt x="240" y="395"/>
                      </a:lnTo>
                      <a:lnTo>
                        <a:pt x="202" y="464"/>
                      </a:lnTo>
                      <a:lnTo>
                        <a:pt x="164" y="540"/>
                      </a:lnTo>
                      <a:lnTo>
                        <a:pt x="126" y="623"/>
                      </a:lnTo>
                      <a:lnTo>
                        <a:pt x="92" y="711"/>
                      </a:lnTo>
                      <a:lnTo>
                        <a:pt x="71" y="857"/>
                      </a:lnTo>
                      <a:lnTo>
                        <a:pt x="0" y="831"/>
                      </a:lnTo>
                      <a:lnTo>
                        <a:pt x="0" y="8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421880" y="6034680"/>
                  <a:ext cx="81720" cy="83520"/>
                </a:xfrm>
                <a:custGeom>
                  <a:avLst/>
                  <a:gdLst/>
                  <a:ahLst/>
                  <a:rect l="l" t="t" r="r" b="b"/>
                  <a:pathLst>
                    <a:path w="310" h="317">
                      <a:moveTo>
                        <a:pt x="9" y="307"/>
                      </a:moveTo>
                      <a:lnTo>
                        <a:pt x="2" y="317"/>
                      </a:lnTo>
                      <a:lnTo>
                        <a:pt x="0" y="298"/>
                      </a:lnTo>
                      <a:lnTo>
                        <a:pt x="22" y="211"/>
                      </a:lnTo>
                      <a:lnTo>
                        <a:pt x="45" y="155"/>
                      </a:lnTo>
                      <a:lnTo>
                        <a:pt x="74" y="100"/>
                      </a:lnTo>
                      <a:lnTo>
                        <a:pt x="108" y="53"/>
                      </a:lnTo>
                      <a:lnTo>
                        <a:pt x="148" y="22"/>
                      </a:lnTo>
                      <a:lnTo>
                        <a:pt x="220" y="0"/>
                      </a:lnTo>
                      <a:lnTo>
                        <a:pt x="270" y="7"/>
                      </a:lnTo>
                      <a:lnTo>
                        <a:pt x="310" y="38"/>
                      </a:lnTo>
                      <a:lnTo>
                        <a:pt x="207" y="85"/>
                      </a:lnTo>
                      <a:lnTo>
                        <a:pt x="161" y="119"/>
                      </a:lnTo>
                      <a:lnTo>
                        <a:pt x="112" y="167"/>
                      </a:lnTo>
                      <a:lnTo>
                        <a:pt x="60" y="228"/>
                      </a:lnTo>
                      <a:lnTo>
                        <a:pt x="9" y="307"/>
                      </a:lnTo>
                      <a:lnTo>
                        <a:pt x="9" y="307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348080" y="6315480"/>
                  <a:ext cx="100080" cy="11880"/>
                </a:xfrm>
                <a:custGeom>
                  <a:avLst/>
                  <a:gdLst/>
                  <a:ahLst/>
                  <a:rect l="l" t="t" r="r" b="b"/>
                  <a:pathLst>
                    <a:path w="380" h="48">
                      <a:moveTo>
                        <a:pt x="0" y="15"/>
                      </a:moveTo>
                      <a:lnTo>
                        <a:pt x="380" y="0"/>
                      </a:lnTo>
                      <a:lnTo>
                        <a:pt x="0" y="48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355280" y="6330600"/>
                  <a:ext cx="71280" cy="11520"/>
                </a:xfrm>
                <a:custGeom>
                  <a:avLst/>
                  <a:gdLst/>
                  <a:ahLst/>
                  <a:rect l="l" t="t" r="r" b="b"/>
                  <a:pathLst>
                    <a:path w="270" h="44">
                      <a:moveTo>
                        <a:pt x="0" y="11"/>
                      </a:moveTo>
                      <a:lnTo>
                        <a:pt x="270" y="0"/>
                      </a:lnTo>
                      <a:lnTo>
                        <a:pt x="42" y="44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457160" y="6149520"/>
                  <a:ext cx="6948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521">
                      <a:moveTo>
                        <a:pt x="32" y="521"/>
                      </a:moveTo>
                      <a:lnTo>
                        <a:pt x="47" y="363"/>
                      </a:lnTo>
                      <a:lnTo>
                        <a:pt x="60" y="298"/>
                      </a:lnTo>
                      <a:lnTo>
                        <a:pt x="81" y="236"/>
                      </a:lnTo>
                      <a:lnTo>
                        <a:pt x="110" y="180"/>
                      </a:lnTo>
                      <a:lnTo>
                        <a:pt x="150" y="139"/>
                      </a:lnTo>
                      <a:lnTo>
                        <a:pt x="169" y="125"/>
                      </a:lnTo>
                      <a:lnTo>
                        <a:pt x="195" y="112"/>
                      </a:lnTo>
                      <a:lnTo>
                        <a:pt x="216" y="123"/>
                      </a:lnTo>
                      <a:lnTo>
                        <a:pt x="222" y="182"/>
                      </a:lnTo>
                      <a:lnTo>
                        <a:pt x="197" y="329"/>
                      </a:lnTo>
                      <a:lnTo>
                        <a:pt x="180" y="388"/>
                      </a:lnTo>
                      <a:lnTo>
                        <a:pt x="218" y="329"/>
                      </a:lnTo>
                      <a:lnTo>
                        <a:pt x="264" y="118"/>
                      </a:lnTo>
                      <a:lnTo>
                        <a:pt x="262" y="66"/>
                      </a:lnTo>
                      <a:lnTo>
                        <a:pt x="251" y="26"/>
                      </a:lnTo>
                      <a:lnTo>
                        <a:pt x="226" y="0"/>
                      </a:lnTo>
                      <a:lnTo>
                        <a:pt x="167" y="6"/>
                      </a:lnTo>
                      <a:lnTo>
                        <a:pt x="91" y="80"/>
                      </a:lnTo>
                      <a:lnTo>
                        <a:pt x="22" y="226"/>
                      </a:lnTo>
                      <a:lnTo>
                        <a:pt x="0" y="348"/>
                      </a:lnTo>
                      <a:lnTo>
                        <a:pt x="9" y="462"/>
                      </a:lnTo>
                      <a:lnTo>
                        <a:pt x="32" y="521"/>
                      </a:lnTo>
                      <a:lnTo>
                        <a:pt x="32" y="5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366440" y="6342480"/>
                  <a:ext cx="48240" cy="8280"/>
                </a:xfrm>
                <a:custGeom>
                  <a:avLst/>
                  <a:gdLst/>
                  <a:ahLst/>
                  <a:rect l="l" t="t" r="r" b="b"/>
                  <a:pathLst>
                    <a:path w="184" h="32">
                      <a:moveTo>
                        <a:pt x="38" y="32"/>
                      </a:moveTo>
                      <a:lnTo>
                        <a:pt x="184" y="0"/>
                      </a:lnTo>
                      <a:lnTo>
                        <a:pt x="0" y="0"/>
                      </a:lnTo>
                      <a:lnTo>
                        <a:pt x="38" y="32"/>
                      </a:lnTo>
                      <a:lnTo>
                        <a:pt x="3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653360" y="6053400"/>
                  <a:ext cx="101160" cy="133200"/>
                </a:xfrm>
                <a:custGeom>
                  <a:avLst/>
                  <a:gdLst/>
                  <a:ahLst/>
                  <a:rect l="l" t="t" r="r" b="b"/>
                  <a:pathLst>
                    <a:path w="384" h="505">
                      <a:moveTo>
                        <a:pt x="384" y="0"/>
                      </a:moveTo>
                      <a:lnTo>
                        <a:pt x="371" y="188"/>
                      </a:lnTo>
                      <a:lnTo>
                        <a:pt x="352" y="273"/>
                      </a:lnTo>
                      <a:lnTo>
                        <a:pt x="321" y="355"/>
                      </a:lnTo>
                      <a:lnTo>
                        <a:pt x="302" y="393"/>
                      </a:lnTo>
                      <a:lnTo>
                        <a:pt x="280" y="429"/>
                      </a:lnTo>
                      <a:lnTo>
                        <a:pt x="253" y="458"/>
                      </a:lnTo>
                      <a:lnTo>
                        <a:pt x="222" y="483"/>
                      </a:lnTo>
                      <a:lnTo>
                        <a:pt x="162" y="505"/>
                      </a:lnTo>
                      <a:lnTo>
                        <a:pt x="114" y="503"/>
                      </a:lnTo>
                      <a:lnTo>
                        <a:pt x="74" y="479"/>
                      </a:lnTo>
                      <a:lnTo>
                        <a:pt x="46" y="445"/>
                      </a:lnTo>
                      <a:lnTo>
                        <a:pt x="10" y="365"/>
                      </a:lnTo>
                      <a:lnTo>
                        <a:pt x="0" y="325"/>
                      </a:lnTo>
                      <a:lnTo>
                        <a:pt x="89" y="192"/>
                      </a:lnTo>
                      <a:lnTo>
                        <a:pt x="78" y="298"/>
                      </a:lnTo>
                      <a:lnTo>
                        <a:pt x="84" y="380"/>
                      </a:lnTo>
                      <a:lnTo>
                        <a:pt x="93" y="412"/>
                      </a:lnTo>
                      <a:lnTo>
                        <a:pt x="112" y="431"/>
                      </a:lnTo>
                      <a:lnTo>
                        <a:pt x="158" y="441"/>
                      </a:lnTo>
                      <a:lnTo>
                        <a:pt x="211" y="424"/>
                      </a:lnTo>
                      <a:lnTo>
                        <a:pt x="316" y="287"/>
                      </a:lnTo>
                      <a:lnTo>
                        <a:pt x="354" y="144"/>
                      </a:lnTo>
                      <a:lnTo>
                        <a:pt x="384" y="0"/>
                      </a:lnTo>
                      <a:lnTo>
                        <a:pt x="3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622400" y="6166440"/>
                  <a:ext cx="47160" cy="24480"/>
                </a:xfrm>
                <a:custGeom>
                  <a:avLst/>
                  <a:gdLst/>
                  <a:ahLst/>
                  <a:rect l="l" t="t" r="r" b="b"/>
                  <a:pathLst>
                    <a:path w="181" h="94">
                      <a:moveTo>
                        <a:pt x="0" y="8"/>
                      </a:moveTo>
                      <a:lnTo>
                        <a:pt x="15" y="35"/>
                      </a:lnTo>
                      <a:lnTo>
                        <a:pt x="36" y="56"/>
                      </a:lnTo>
                      <a:lnTo>
                        <a:pt x="65" y="73"/>
                      </a:lnTo>
                      <a:lnTo>
                        <a:pt x="181" y="94"/>
                      </a:lnTo>
                      <a:lnTo>
                        <a:pt x="114" y="63"/>
                      </a:lnTo>
                      <a:lnTo>
                        <a:pt x="59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566240" y="6117120"/>
                  <a:ext cx="56880" cy="86400"/>
                </a:xfrm>
                <a:custGeom>
                  <a:avLst/>
                  <a:gdLst/>
                  <a:ahLst/>
                  <a:rect l="l" t="t" r="r" b="b"/>
                  <a:pathLst>
                    <a:path w="217" h="327">
                      <a:moveTo>
                        <a:pt x="14" y="226"/>
                      </a:moveTo>
                      <a:lnTo>
                        <a:pt x="90" y="32"/>
                      </a:lnTo>
                      <a:lnTo>
                        <a:pt x="63" y="156"/>
                      </a:lnTo>
                      <a:lnTo>
                        <a:pt x="147" y="13"/>
                      </a:lnTo>
                      <a:lnTo>
                        <a:pt x="95" y="160"/>
                      </a:lnTo>
                      <a:lnTo>
                        <a:pt x="207" y="0"/>
                      </a:lnTo>
                      <a:lnTo>
                        <a:pt x="147" y="150"/>
                      </a:lnTo>
                      <a:lnTo>
                        <a:pt x="196" y="82"/>
                      </a:lnTo>
                      <a:lnTo>
                        <a:pt x="177" y="166"/>
                      </a:lnTo>
                      <a:lnTo>
                        <a:pt x="217" y="109"/>
                      </a:lnTo>
                      <a:lnTo>
                        <a:pt x="207" y="200"/>
                      </a:lnTo>
                      <a:lnTo>
                        <a:pt x="188" y="230"/>
                      </a:lnTo>
                      <a:lnTo>
                        <a:pt x="0" y="327"/>
                      </a:lnTo>
                      <a:lnTo>
                        <a:pt x="14" y="226"/>
                      </a:lnTo>
                      <a:lnTo>
                        <a:pt x="14" y="2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751280" y="6078960"/>
                  <a:ext cx="38880" cy="31320"/>
                </a:xfrm>
                <a:custGeom>
                  <a:avLst/>
                  <a:gdLst/>
                  <a:ahLst/>
                  <a:rect l="l" t="t" r="r" b="b"/>
                  <a:pathLst>
                    <a:path w="146" h="120">
                      <a:moveTo>
                        <a:pt x="0" y="120"/>
                      </a:moveTo>
                      <a:lnTo>
                        <a:pt x="146" y="0"/>
                      </a:lnTo>
                      <a:lnTo>
                        <a:pt x="5" y="61"/>
                      </a:lnTo>
                      <a:lnTo>
                        <a:pt x="0" y="1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736160" y="6050520"/>
                  <a:ext cx="138600" cy="86760"/>
                </a:xfrm>
                <a:custGeom>
                  <a:avLst/>
                  <a:gdLst/>
                  <a:ahLst/>
                  <a:rect l="l" t="t" r="r" b="b"/>
                  <a:pathLst>
                    <a:path w="526" h="331">
                      <a:moveTo>
                        <a:pt x="0" y="331"/>
                      </a:moveTo>
                      <a:lnTo>
                        <a:pt x="526" y="0"/>
                      </a:lnTo>
                      <a:lnTo>
                        <a:pt x="450" y="10"/>
                      </a:lnTo>
                      <a:lnTo>
                        <a:pt x="38" y="238"/>
                      </a:lnTo>
                      <a:lnTo>
                        <a:pt x="0" y="331"/>
                      </a:lnTo>
                      <a:lnTo>
                        <a:pt x="0" y="3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475520" y="6207480"/>
                  <a:ext cx="176040" cy="143280"/>
                </a:xfrm>
                <a:custGeom>
                  <a:avLst/>
                  <a:gdLst/>
                  <a:ahLst/>
                  <a:rect l="l" t="t" r="r" b="b"/>
                  <a:pathLst>
                    <a:path w="669" h="544">
                      <a:moveTo>
                        <a:pt x="0" y="544"/>
                      </a:moveTo>
                      <a:lnTo>
                        <a:pt x="108" y="512"/>
                      </a:lnTo>
                      <a:lnTo>
                        <a:pt x="669" y="0"/>
                      </a:lnTo>
                      <a:lnTo>
                        <a:pt x="576" y="38"/>
                      </a:lnTo>
                      <a:lnTo>
                        <a:pt x="185" y="337"/>
                      </a:lnTo>
                      <a:lnTo>
                        <a:pt x="0" y="544"/>
                      </a:lnTo>
                      <a:lnTo>
                        <a:pt x="0" y="5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709160" y="6091560"/>
                  <a:ext cx="115200" cy="90360"/>
                </a:xfrm>
                <a:custGeom>
                  <a:avLst/>
                  <a:gdLst/>
                  <a:ahLst/>
                  <a:rect l="l" t="t" r="r" b="b"/>
                  <a:pathLst>
                    <a:path w="439" h="344">
                      <a:moveTo>
                        <a:pt x="0" y="344"/>
                      </a:moveTo>
                      <a:lnTo>
                        <a:pt x="439" y="55"/>
                      </a:lnTo>
                      <a:lnTo>
                        <a:pt x="114" y="230"/>
                      </a:lnTo>
                      <a:lnTo>
                        <a:pt x="439" y="0"/>
                      </a:lnTo>
                      <a:lnTo>
                        <a:pt x="114" y="175"/>
                      </a:lnTo>
                      <a:lnTo>
                        <a:pt x="103" y="230"/>
                      </a:lnTo>
                      <a:lnTo>
                        <a:pt x="0" y="344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698360" y="6033960"/>
                  <a:ext cx="41400" cy="94680"/>
                </a:xfrm>
                <a:custGeom>
                  <a:avLst/>
                  <a:gdLst/>
                  <a:ahLst/>
                  <a:rect l="l" t="t" r="r" b="b"/>
                  <a:pathLst>
                    <a:path w="160" h="359">
                      <a:moveTo>
                        <a:pt x="25" y="359"/>
                      </a:moveTo>
                      <a:lnTo>
                        <a:pt x="0" y="266"/>
                      </a:lnTo>
                      <a:lnTo>
                        <a:pt x="14" y="161"/>
                      </a:lnTo>
                      <a:lnTo>
                        <a:pt x="38" y="98"/>
                      </a:lnTo>
                      <a:lnTo>
                        <a:pt x="57" y="64"/>
                      </a:lnTo>
                      <a:lnTo>
                        <a:pt x="80" y="28"/>
                      </a:lnTo>
                      <a:lnTo>
                        <a:pt x="92" y="19"/>
                      </a:lnTo>
                      <a:lnTo>
                        <a:pt x="114" y="3"/>
                      </a:lnTo>
                      <a:lnTo>
                        <a:pt x="141" y="0"/>
                      </a:lnTo>
                      <a:lnTo>
                        <a:pt x="154" y="24"/>
                      </a:lnTo>
                      <a:lnTo>
                        <a:pt x="160" y="131"/>
                      </a:lnTo>
                      <a:lnTo>
                        <a:pt x="152" y="188"/>
                      </a:lnTo>
                      <a:lnTo>
                        <a:pt x="133" y="237"/>
                      </a:lnTo>
                      <a:lnTo>
                        <a:pt x="107" y="260"/>
                      </a:lnTo>
                      <a:lnTo>
                        <a:pt x="105" y="239"/>
                      </a:lnTo>
                      <a:lnTo>
                        <a:pt x="107" y="79"/>
                      </a:lnTo>
                      <a:lnTo>
                        <a:pt x="61" y="150"/>
                      </a:lnTo>
                      <a:lnTo>
                        <a:pt x="48" y="207"/>
                      </a:lnTo>
                      <a:lnTo>
                        <a:pt x="33" y="323"/>
                      </a:lnTo>
                      <a:lnTo>
                        <a:pt x="25" y="359"/>
                      </a:lnTo>
                      <a:lnTo>
                        <a:pt x="25" y="3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656960" y="5952240"/>
                  <a:ext cx="47880" cy="39240"/>
                </a:xfrm>
                <a:custGeom>
                  <a:avLst/>
                  <a:gdLst/>
                  <a:ahLst/>
                  <a:rect l="l" t="t" r="r" b="b"/>
                  <a:pathLst>
                    <a:path w="183" h="148">
                      <a:moveTo>
                        <a:pt x="0" y="148"/>
                      </a:moveTo>
                      <a:lnTo>
                        <a:pt x="29" y="93"/>
                      </a:lnTo>
                      <a:lnTo>
                        <a:pt x="63" y="47"/>
                      </a:lnTo>
                      <a:lnTo>
                        <a:pt x="84" y="28"/>
                      </a:lnTo>
                      <a:lnTo>
                        <a:pt x="109" y="13"/>
                      </a:lnTo>
                      <a:lnTo>
                        <a:pt x="158" y="0"/>
                      </a:lnTo>
                      <a:lnTo>
                        <a:pt x="183" y="7"/>
                      </a:lnTo>
                      <a:lnTo>
                        <a:pt x="164" y="28"/>
                      </a:lnTo>
                      <a:lnTo>
                        <a:pt x="124" y="57"/>
                      </a:lnTo>
                      <a:lnTo>
                        <a:pt x="88" y="89"/>
                      </a:lnTo>
                      <a:lnTo>
                        <a:pt x="57" y="120"/>
                      </a:lnTo>
                      <a:lnTo>
                        <a:pt x="29" y="137"/>
                      </a:lnTo>
                      <a:lnTo>
                        <a:pt x="0" y="148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214520" y="6251040"/>
                  <a:ext cx="128520" cy="23400"/>
                </a:xfrm>
                <a:custGeom>
                  <a:avLst/>
                  <a:gdLst/>
                  <a:ahLst/>
                  <a:rect l="l" t="t" r="r" b="b"/>
                  <a:pathLst>
                    <a:path w="487" h="89">
                      <a:moveTo>
                        <a:pt x="0" y="72"/>
                      </a:moveTo>
                      <a:lnTo>
                        <a:pt x="196" y="55"/>
                      </a:lnTo>
                      <a:lnTo>
                        <a:pt x="455" y="7"/>
                      </a:lnTo>
                      <a:lnTo>
                        <a:pt x="487" y="0"/>
                      </a:lnTo>
                      <a:lnTo>
                        <a:pt x="461" y="28"/>
                      </a:lnTo>
                      <a:lnTo>
                        <a:pt x="430" y="45"/>
                      </a:lnTo>
                      <a:lnTo>
                        <a:pt x="388" y="64"/>
                      </a:lnTo>
                      <a:lnTo>
                        <a:pt x="284" y="89"/>
                      </a:lnTo>
                      <a:lnTo>
                        <a:pt x="82" y="83"/>
                      </a:lnTo>
                      <a:lnTo>
                        <a:pt x="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ffff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309560" y="5782680"/>
                  <a:ext cx="95400" cy="41040"/>
                </a:xfrm>
                <a:custGeom>
                  <a:avLst/>
                  <a:gdLst/>
                  <a:ahLst/>
                  <a:rect l="l" t="t" r="r" b="b"/>
                  <a:pathLst>
                    <a:path w="361" h="156">
                      <a:moveTo>
                        <a:pt x="0" y="133"/>
                      </a:moveTo>
                      <a:lnTo>
                        <a:pt x="34" y="114"/>
                      </a:lnTo>
                      <a:lnTo>
                        <a:pt x="74" y="94"/>
                      </a:lnTo>
                      <a:lnTo>
                        <a:pt x="121" y="71"/>
                      </a:lnTo>
                      <a:lnTo>
                        <a:pt x="178" y="48"/>
                      </a:lnTo>
                      <a:lnTo>
                        <a:pt x="239" y="25"/>
                      </a:lnTo>
                      <a:lnTo>
                        <a:pt x="361" y="0"/>
                      </a:lnTo>
                      <a:lnTo>
                        <a:pt x="329" y="14"/>
                      </a:lnTo>
                      <a:lnTo>
                        <a:pt x="256" y="46"/>
                      </a:lnTo>
                      <a:lnTo>
                        <a:pt x="182" y="90"/>
                      </a:lnTo>
                      <a:lnTo>
                        <a:pt x="146" y="133"/>
                      </a:lnTo>
                      <a:lnTo>
                        <a:pt x="139" y="149"/>
                      </a:lnTo>
                      <a:lnTo>
                        <a:pt x="120" y="156"/>
                      </a:lnTo>
                      <a:lnTo>
                        <a:pt x="70" y="154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031280" y="6057720"/>
                  <a:ext cx="29520" cy="32760"/>
                </a:xfrm>
                <a:custGeom>
                  <a:avLst/>
                  <a:gdLst/>
                  <a:ahLst/>
                  <a:rect l="l" t="t" r="r" b="b"/>
                  <a:pathLst>
                    <a:path w="113" h="125">
                      <a:moveTo>
                        <a:pt x="14" y="61"/>
                      </a:moveTo>
                      <a:lnTo>
                        <a:pt x="52" y="15"/>
                      </a:lnTo>
                      <a:lnTo>
                        <a:pt x="84" y="0"/>
                      </a:lnTo>
                      <a:lnTo>
                        <a:pt x="113" y="4"/>
                      </a:lnTo>
                      <a:lnTo>
                        <a:pt x="57" y="87"/>
                      </a:lnTo>
                      <a:lnTo>
                        <a:pt x="44" y="125"/>
                      </a:lnTo>
                      <a:lnTo>
                        <a:pt x="25" y="122"/>
                      </a:lnTo>
                      <a:lnTo>
                        <a:pt x="0" y="89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307400" y="6098760"/>
                  <a:ext cx="56880" cy="54360"/>
                </a:xfrm>
                <a:custGeom>
                  <a:avLst/>
                  <a:gdLst/>
                  <a:ahLst/>
                  <a:rect l="l" t="t" r="r" b="b"/>
                  <a:pathLst>
                    <a:path w="217" h="205">
                      <a:moveTo>
                        <a:pt x="0" y="205"/>
                      </a:moveTo>
                      <a:lnTo>
                        <a:pt x="12" y="137"/>
                      </a:lnTo>
                      <a:lnTo>
                        <a:pt x="42" y="78"/>
                      </a:lnTo>
                      <a:lnTo>
                        <a:pt x="69" y="49"/>
                      </a:lnTo>
                      <a:lnTo>
                        <a:pt x="109" y="23"/>
                      </a:lnTo>
                      <a:lnTo>
                        <a:pt x="173" y="0"/>
                      </a:lnTo>
                      <a:lnTo>
                        <a:pt x="207" y="7"/>
                      </a:lnTo>
                      <a:lnTo>
                        <a:pt x="217" y="38"/>
                      </a:lnTo>
                      <a:lnTo>
                        <a:pt x="188" y="108"/>
                      </a:lnTo>
                      <a:lnTo>
                        <a:pt x="137" y="161"/>
                      </a:lnTo>
                      <a:lnTo>
                        <a:pt x="99" y="184"/>
                      </a:lnTo>
                      <a:lnTo>
                        <a:pt x="50" y="199"/>
                      </a:lnTo>
                      <a:lnTo>
                        <a:pt x="0" y="205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29080" y="6200640"/>
                  <a:ext cx="72720" cy="128520"/>
                </a:xfrm>
                <a:custGeom>
                  <a:avLst/>
                  <a:gdLst/>
                  <a:ahLst/>
                  <a:rect l="l" t="t" r="r" b="b"/>
                  <a:pathLst>
                    <a:path w="276" h="488">
                      <a:moveTo>
                        <a:pt x="160" y="484"/>
                      </a:moveTo>
                      <a:lnTo>
                        <a:pt x="97" y="488"/>
                      </a:lnTo>
                      <a:lnTo>
                        <a:pt x="25" y="433"/>
                      </a:lnTo>
                      <a:lnTo>
                        <a:pt x="0" y="283"/>
                      </a:lnTo>
                      <a:lnTo>
                        <a:pt x="21" y="161"/>
                      </a:lnTo>
                      <a:lnTo>
                        <a:pt x="44" y="85"/>
                      </a:lnTo>
                      <a:lnTo>
                        <a:pt x="76" y="0"/>
                      </a:lnTo>
                      <a:lnTo>
                        <a:pt x="93" y="399"/>
                      </a:lnTo>
                      <a:lnTo>
                        <a:pt x="128" y="418"/>
                      </a:lnTo>
                      <a:lnTo>
                        <a:pt x="160" y="422"/>
                      </a:lnTo>
                      <a:lnTo>
                        <a:pt x="219" y="395"/>
                      </a:lnTo>
                      <a:lnTo>
                        <a:pt x="261" y="351"/>
                      </a:lnTo>
                      <a:lnTo>
                        <a:pt x="276" y="329"/>
                      </a:lnTo>
                      <a:lnTo>
                        <a:pt x="242" y="395"/>
                      </a:lnTo>
                      <a:lnTo>
                        <a:pt x="206" y="446"/>
                      </a:lnTo>
                      <a:lnTo>
                        <a:pt x="183" y="469"/>
                      </a:lnTo>
                      <a:lnTo>
                        <a:pt x="160" y="484"/>
                      </a:lnTo>
                      <a:lnTo>
                        <a:pt x="160" y="484"/>
                      </a:lnTo>
                      <a:close/>
                    </a:path>
                  </a:pathLst>
                </a:custGeom>
                <a:solidFill>
                  <a:srgbClr val="b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003560" y="6188400"/>
                  <a:ext cx="151560" cy="87840"/>
                </a:xfrm>
                <a:custGeom>
                  <a:avLst/>
                  <a:gdLst/>
                  <a:ahLst/>
                  <a:rect l="l" t="t" r="r" b="b"/>
                  <a:pathLst>
                    <a:path w="576" h="335">
                      <a:moveTo>
                        <a:pt x="0" y="0"/>
                      </a:moveTo>
                      <a:lnTo>
                        <a:pt x="49" y="38"/>
                      </a:lnTo>
                      <a:lnTo>
                        <a:pt x="105" y="78"/>
                      </a:lnTo>
                      <a:lnTo>
                        <a:pt x="139" y="101"/>
                      </a:lnTo>
                      <a:lnTo>
                        <a:pt x="177" y="127"/>
                      </a:lnTo>
                      <a:lnTo>
                        <a:pt x="219" y="154"/>
                      </a:lnTo>
                      <a:lnTo>
                        <a:pt x="264" y="183"/>
                      </a:lnTo>
                      <a:lnTo>
                        <a:pt x="312" y="209"/>
                      </a:lnTo>
                      <a:lnTo>
                        <a:pt x="361" y="238"/>
                      </a:lnTo>
                      <a:lnTo>
                        <a:pt x="413" y="264"/>
                      </a:lnTo>
                      <a:lnTo>
                        <a:pt x="466" y="289"/>
                      </a:lnTo>
                      <a:lnTo>
                        <a:pt x="521" y="314"/>
                      </a:lnTo>
                      <a:lnTo>
                        <a:pt x="576" y="335"/>
                      </a:lnTo>
                      <a:lnTo>
                        <a:pt x="534" y="321"/>
                      </a:lnTo>
                      <a:lnTo>
                        <a:pt x="430" y="283"/>
                      </a:lnTo>
                      <a:lnTo>
                        <a:pt x="367" y="261"/>
                      </a:lnTo>
                      <a:lnTo>
                        <a:pt x="302" y="234"/>
                      </a:lnTo>
                      <a:lnTo>
                        <a:pt x="240" y="203"/>
                      </a:lnTo>
                      <a:lnTo>
                        <a:pt x="186" y="173"/>
                      </a:lnTo>
                      <a:lnTo>
                        <a:pt x="141" y="143"/>
                      </a:lnTo>
                      <a:lnTo>
                        <a:pt x="101" y="112"/>
                      </a:lnTo>
                      <a:lnTo>
                        <a:pt x="68" y="84"/>
                      </a:lnTo>
                      <a:lnTo>
                        <a:pt x="44" y="5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087800" y="5938200"/>
                  <a:ext cx="327960" cy="196200"/>
                </a:xfrm>
                <a:custGeom>
                  <a:avLst/>
                  <a:gdLst/>
                  <a:ahLst/>
                  <a:rect l="l" t="t" r="r" b="b"/>
                  <a:pathLst>
                    <a:path w="1246" h="747">
                      <a:moveTo>
                        <a:pt x="419" y="0"/>
                      </a:moveTo>
                      <a:lnTo>
                        <a:pt x="426" y="26"/>
                      </a:lnTo>
                      <a:lnTo>
                        <a:pt x="455" y="55"/>
                      </a:lnTo>
                      <a:lnTo>
                        <a:pt x="510" y="89"/>
                      </a:lnTo>
                      <a:lnTo>
                        <a:pt x="607" y="125"/>
                      </a:lnTo>
                      <a:lnTo>
                        <a:pt x="753" y="159"/>
                      </a:lnTo>
                      <a:lnTo>
                        <a:pt x="962" y="190"/>
                      </a:lnTo>
                      <a:lnTo>
                        <a:pt x="1246" y="211"/>
                      </a:lnTo>
                      <a:lnTo>
                        <a:pt x="985" y="226"/>
                      </a:lnTo>
                      <a:lnTo>
                        <a:pt x="719" y="214"/>
                      </a:lnTo>
                      <a:lnTo>
                        <a:pt x="419" y="157"/>
                      </a:lnTo>
                      <a:lnTo>
                        <a:pt x="379" y="195"/>
                      </a:lnTo>
                      <a:lnTo>
                        <a:pt x="333" y="243"/>
                      </a:lnTo>
                      <a:lnTo>
                        <a:pt x="278" y="308"/>
                      </a:lnTo>
                      <a:lnTo>
                        <a:pt x="246" y="348"/>
                      </a:lnTo>
                      <a:lnTo>
                        <a:pt x="211" y="391"/>
                      </a:lnTo>
                      <a:lnTo>
                        <a:pt x="177" y="439"/>
                      </a:lnTo>
                      <a:lnTo>
                        <a:pt x="141" y="492"/>
                      </a:lnTo>
                      <a:lnTo>
                        <a:pt x="105" y="549"/>
                      </a:lnTo>
                      <a:lnTo>
                        <a:pt x="69" y="610"/>
                      </a:lnTo>
                      <a:lnTo>
                        <a:pt x="35" y="676"/>
                      </a:lnTo>
                      <a:lnTo>
                        <a:pt x="0" y="747"/>
                      </a:lnTo>
                      <a:lnTo>
                        <a:pt x="33" y="659"/>
                      </a:lnTo>
                      <a:lnTo>
                        <a:pt x="69" y="568"/>
                      </a:lnTo>
                      <a:lnTo>
                        <a:pt x="92" y="517"/>
                      </a:lnTo>
                      <a:lnTo>
                        <a:pt x="116" y="462"/>
                      </a:lnTo>
                      <a:lnTo>
                        <a:pt x="145" y="405"/>
                      </a:lnTo>
                      <a:lnTo>
                        <a:pt x="173" y="349"/>
                      </a:lnTo>
                      <a:lnTo>
                        <a:pt x="204" y="294"/>
                      </a:lnTo>
                      <a:lnTo>
                        <a:pt x="234" y="243"/>
                      </a:lnTo>
                      <a:lnTo>
                        <a:pt x="267" y="197"/>
                      </a:lnTo>
                      <a:lnTo>
                        <a:pt x="299" y="157"/>
                      </a:lnTo>
                      <a:lnTo>
                        <a:pt x="333" y="123"/>
                      </a:lnTo>
                      <a:lnTo>
                        <a:pt x="365" y="100"/>
                      </a:lnTo>
                      <a:lnTo>
                        <a:pt x="419" y="0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" name=""/>
              <p:cNvSpPr/>
              <p:nvPr/>
            </p:nvSpPr>
            <p:spPr>
              <a:xfrm>
                <a:off x="4821120" y="5841720"/>
                <a:ext cx="200160" cy="5047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135320" y="6254280"/>
                <a:ext cx="755640" cy="214200"/>
              </a:xfrm>
              <a:custGeom>
                <a:avLst/>
                <a:gdLst/>
                <a:ahLst/>
                <a:rect l="l" t="t" r="r" b="b"/>
                <a:pathLst>
                  <a:path w="476" h="135">
                    <a:moveTo>
                      <a:pt x="0" y="18"/>
                    </a:moveTo>
                    <a:cubicBezTo>
                      <a:pt x="7" y="53"/>
                      <a:pt x="15" y="88"/>
                      <a:pt x="48" y="105"/>
                    </a:cubicBezTo>
                    <a:cubicBezTo>
                      <a:pt x="81" y="122"/>
                      <a:pt x="129" y="135"/>
                      <a:pt x="200" y="118"/>
                    </a:cubicBezTo>
                    <a:cubicBezTo>
                      <a:pt x="271" y="101"/>
                      <a:pt x="373" y="50"/>
                      <a:pt x="476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853160" y="589860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1" y="12"/>
                    </a:moveTo>
                    <a:lnTo>
                      <a:pt x="1" y="63"/>
                    </a:lnTo>
                    <a:lnTo>
                      <a:pt x="81" y="77"/>
                    </a:lnTo>
                    <a:lnTo>
                      <a:pt x="8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4168800" y="3686040"/>
              <a:ext cx="4975200" cy="2871360"/>
              <a:chOff x="4168800" y="3686040"/>
              <a:chExt cx="4975200" cy="287136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4168800" y="3686040"/>
                <a:ext cx="1030320" cy="699840"/>
                <a:chOff x="4168800" y="3686040"/>
                <a:chExt cx="1030320" cy="699840"/>
              </a:xfrm>
            </p:grpSpPr>
            <p:grpSp>
              <p:nvGrpSpPr>
                <p:cNvPr id="748" name=""/>
                <p:cNvGrpSpPr/>
                <p:nvPr/>
              </p:nvGrpSpPr>
              <p:grpSpPr>
                <a:xfrm>
                  <a:off x="4168800" y="3686040"/>
                  <a:ext cx="941400" cy="606240"/>
                  <a:chOff x="4168800" y="3686040"/>
                  <a:chExt cx="941400" cy="60624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4277880" y="3814920"/>
                    <a:ext cx="832320" cy="47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54" h="1811">
                        <a:moveTo>
                          <a:pt x="220" y="1716"/>
                        </a:moveTo>
                        <a:lnTo>
                          <a:pt x="384" y="1752"/>
                        </a:lnTo>
                        <a:lnTo>
                          <a:pt x="532" y="1779"/>
                        </a:lnTo>
                        <a:lnTo>
                          <a:pt x="791" y="1811"/>
                        </a:lnTo>
                        <a:lnTo>
                          <a:pt x="1152" y="1811"/>
                        </a:lnTo>
                        <a:lnTo>
                          <a:pt x="1342" y="1773"/>
                        </a:lnTo>
                        <a:lnTo>
                          <a:pt x="1397" y="1747"/>
                        </a:lnTo>
                        <a:lnTo>
                          <a:pt x="1456" y="1707"/>
                        </a:lnTo>
                        <a:lnTo>
                          <a:pt x="1487" y="1686"/>
                        </a:lnTo>
                        <a:lnTo>
                          <a:pt x="1525" y="1659"/>
                        </a:lnTo>
                        <a:lnTo>
                          <a:pt x="1567" y="1631"/>
                        </a:lnTo>
                        <a:lnTo>
                          <a:pt x="1612" y="1598"/>
                        </a:lnTo>
                        <a:lnTo>
                          <a:pt x="1664" y="1564"/>
                        </a:lnTo>
                        <a:lnTo>
                          <a:pt x="1719" y="1526"/>
                        </a:lnTo>
                        <a:lnTo>
                          <a:pt x="1776" y="1486"/>
                        </a:lnTo>
                        <a:lnTo>
                          <a:pt x="1837" y="1444"/>
                        </a:lnTo>
                        <a:lnTo>
                          <a:pt x="1899" y="1401"/>
                        </a:lnTo>
                        <a:lnTo>
                          <a:pt x="1964" y="1355"/>
                        </a:lnTo>
                        <a:lnTo>
                          <a:pt x="1996" y="1332"/>
                        </a:lnTo>
                        <a:lnTo>
                          <a:pt x="2030" y="1309"/>
                        </a:lnTo>
                        <a:lnTo>
                          <a:pt x="2063" y="1287"/>
                        </a:lnTo>
                        <a:lnTo>
                          <a:pt x="2097" y="1264"/>
                        </a:lnTo>
                        <a:lnTo>
                          <a:pt x="2129" y="1239"/>
                        </a:lnTo>
                        <a:lnTo>
                          <a:pt x="2164" y="1216"/>
                        </a:lnTo>
                        <a:lnTo>
                          <a:pt x="2198" y="1193"/>
                        </a:lnTo>
                        <a:lnTo>
                          <a:pt x="2230" y="1169"/>
                        </a:lnTo>
                        <a:lnTo>
                          <a:pt x="2264" y="1146"/>
                        </a:lnTo>
                        <a:lnTo>
                          <a:pt x="2297" y="1123"/>
                        </a:lnTo>
                        <a:lnTo>
                          <a:pt x="2329" y="1100"/>
                        </a:lnTo>
                        <a:lnTo>
                          <a:pt x="2361" y="1077"/>
                        </a:lnTo>
                        <a:lnTo>
                          <a:pt x="2426" y="1034"/>
                        </a:lnTo>
                        <a:lnTo>
                          <a:pt x="2487" y="990"/>
                        </a:lnTo>
                        <a:lnTo>
                          <a:pt x="2546" y="946"/>
                        </a:lnTo>
                        <a:lnTo>
                          <a:pt x="2601" y="908"/>
                        </a:lnTo>
                        <a:lnTo>
                          <a:pt x="2654" y="870"/>
                        </a:lnTo>
                        <a:lnTo>
                          <a:pt x="2702" y="836"/>
                        </a:lnTo>
                        <a:lnTo>
                          <a:pt x="2745" y="804"/>
                        </a:lnTo>
                        <a:lnTo>
                          <a:pt x="2783" y="775"/>
                        </a:lnTo>
                        <a:lnTo>
                          <a:pt x="2844" y="730"/>
                        </a:lnTo>
                        <a:lnTo>
                          <a:pt x="2880" y="699"/>
                        </a:lnTo>
                        <a:lnTo>
                          <a:pt x="2920" y="656"/>
                        </a:lnTo>
                        <a:lnTo>
                          <a:pt x="2962" y="600"/>
                        </a:lnTo>
                        <a:lnTo>
                          <a:pt x="3002" y="543"/>
                        </a:lnTo>
                        <a:lnTo>
                          <a:pt x="3038" y="481"/>
                        </a:lnTo>
                        <a:lnTo>
                          <a:pt x="3072" y="422"/>
                        </a:lnTo>
                        <a:lnTo>
                          <a:pt x="3101" y="365"/>
                        </a:lnTo>
                        <a:lnTo>
                          <a:pt x="3139" y="281"/>
                        </a:lnTo>
                        <a:lnTo>
                          <a:pt x="3154" y="102"/>
                        </a:lnTo>
                        <a:lnTo>
                          <a:pt x="3139" y="74"/>
                        </a:lnTo>
                        <a:lnTo>
                          <a:pt x="3114" y="49"/>
                        </a:lnTo>
                        <a:lnTo>
                          <a:pt x="3078" y="28"/>
                        </a:lnTo>
                        <a:lnTo>
                          <a:pt x="3032" y="11"/>
                        </a:lnTo>
                        <a:lnTo>
                          <a:pt x="2897" y="0"/>
                        </a:lnTo>
                        <a:lnTo>
                          <a:pt x="2700" y="21"/>
                        </a:lnTo>
                        <a:lnTo>
                          <a:pt x="2470" y="70"/>
                        </a:lnTo>
                        <a:lnTo>
                          <a:pt x="2361" y="99"/>
                        </a:lnTo>
                        <a:lnTo>
                          <a:pt x="2255" y="129"/>
                        </a:lnTo>
                        <a:lnTo>
                          <a:pt x="2154" y="159"/>
                        </a:lnTo>
                        <a:lnTo>
                          <a:pt x="2057" y="192"/>
                        </a:lnTo>
                        <a:lnTo>
                          <a:pt x="1968" y="222"/>
                        </a:lnTo>
                        <a:lnTo>
                          <a:pt x="1884" y="254"/>
                        </a:lnTo>
                        <a:lnTo>
                          <a:pt x="1808" y="283"/>
                        </a:lnTo>
                        <a:lnTo>
                          <a:pt x="1740" y="310"/>
                        </a:lnTo>
                        <a:lnTo>
                          <a:pt x="1681" y="336"/>
                        </a:lnTo>
                        <a:lnTo>
                          <a:pt x="1629" y="357"/>
                        </a:lnTo>
                        <a:lnTo>
                          <a:pt x="1559" y="389"/>
                        </a:lnTo>
                        <a:lnTo>
                          <a:pt x="1536" y="401"/>
                        </a:lnTo>
                        <a:lnTo>
                          <a:pt x="1510" y="412"/>
                        </a:lnTo>
                        <a:lnTo>
                          <a:pt x="1441" y="448"/>
                        </a:lnTo>
                        <a:lnTo>
                          <a:pt x="1392" y="473"/>
                        </a:lnTo>
                        <a:lnTo>
                          <a:pt x="1335" y="503"/>
                        </a:lnTo>
                        <a:lnTo>
                          <a:pt x="1270" y="538"/>
                        </a:lnTo>
                        <a:lnTo>
                          <a:pt x="1202" y="576"/>
                        </a:lnTo>
                        <a:lnTo>
                          <a:pt x="1125" y="617"/>
                        </a:lnTo>
                        <a:lnTo>
                          <a:pt x="1046" y="663"/>
                        </a:lnTo>
                        <a:lnTo>
                          <a:pt x="1004" y="686"/>
                        </a:lnTo>
                        <a:lnTo>
                          <a:pt x="962" y="711"/>
                        </a:lnTo>
                        <a:lnTo>
                          <a:pt x="920" y="735"/>
                        </a:lnTo>
                        <a:lnTo>
                          <a:pt x="878" y="762"/>
                        </a:lnTo>
                        <a:lnTo>
                          <a:pt x="835" y="787"/>
                        </a:lnTo>
                        <a:lnTo>
                          <a:pt x="791" y="813"/>
                        </a:lnTo>
                        <a:lnTo>
                          <a:pt x="747" y="840"/>
                        </a:lnTo>
                        <a:lnTo>
                          <a:pt x="703" y="866"/>
                        </a:lnTo>
                        <a:lnTo>
                          <a:pt x="662" y="895"/>
                        </a:lnTo>
                        <a:lnTo>
                          <a:pt x="618" y="924"/>
                        </a:lnTo>
                        <a:lnTo>
                          <a:pt x="576" y="950"/>
                        </a:lnTo>
                        <a:lnTo>
                          <a:pt x="534" y="979"/>
                        </a:lnTo>
                        <a:lnTo>
                          <a:pt x="492" y="1007"/>
                        </a:lnTo>
                        <a:lnTo>
                          <a:pt x="452" y="1036"/>
                        </a:lnTo>
                        <a:lnTo>
                          <a:pt x="413" y="1064"/>
                        </a:lnTo>
                        <a:lnTo>
                          <a:pt x="374" y="1093"/>
                        </a:lnTo>
                        <a:lnTo>
                          <a:pt x="336" y="1121"/>
                        </a:lnTo>
                        <a:lnTo>
                          <a:pt x="300" y="1150"/>
                        </a:lnTo>
                        <a:lnTo>
                          <a:pt x="266" y="1178"/>
                        </a:lnTo>
                        <a:lnTo>
                          <a:pt x="234" y="1207"/>
                        </a:lnTo>
                        <a:lnTo>
                          <a:pt x="201" y="1235"/>
                        </a:lnTo>
                        <a:lnTo>
                          <a:pt x="171" y="1264"/>
                        </a:lnTo>
                        <a:lnTo>
                          <a:pt x="118" y="1317"/>
                        </a:lnTo>
                        <a:lnTo>
                          <a:pt x="74" y="1370"/>
                        </a:lnTo>
                        <a:lnTo>
                          <a:pt x="38" y="1422"/>
                        </a:lnTo>
                        <a:lnTo>
                          <a:pt x="0" y="1517"/>
                        </a:lnTo>
                        <a:lnTo>
                          <a:pt x="13" y="1598"/>
                        </a:lnTo>
                        <a:lnTo>
                          <a:pt x="40" y="1634"/>
                        </a:lnTo>
                        <a:lnTo>
                          <a:pt x="84" y="1667"/>
                        </a:lnTo>
                        <a:lnTo>
                          <a:pt x="143" y="1695"/>
                        </a:lnTo>
                        <a:lnTo>
                          <a:pt x="220" y="1716"/>
                        </a:lnTo>
                        <a:lnTo>
                          <a:pt x="220" y="1716"/>
                        </a:lnTo>
                        <a:close/>
                      </a:path>
                    </a:pathLst>
                  </a:custGeom>
                  <a:solidFill>
                    <a:srgbClr val="a394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177080" y="3694680"/>
                    <a:ext cx="79632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9" h="2003">
                        <a:moveTo>
                          <a:pt x="40" y="1591"/>
                        </a:moveTo>
                        <a:lnTo>
                          <a:pt x="68" y="1621"/>
                        </a:lnTo>
                        <a:lnTo>
                          <a:pt x="102" y="1653"/>
                        </a:lnTo>
                        <a:lnTo>
                          <a:pt x="150" y="1693"/>
                        </a:lnTo>
                        <a:lnTo>
                          <a:pt x="180" y="1716"/>
                        </a:lnTo>
                        <a:lnTo>
                          <a:pt x="213" y="1741"/>
                        </a:lnTo>
                        <a:lnTo>
                          <a:pt x="249" y="1765"/>
                        </a:lnTo>
                        <a:lnTo>
                          <a:pt x="289" y="1788"/>
                        </a:lnTo>
                        <a:lnTo>
                          <a:pt x="332" y="1813"/>
                        </a:lnTo>
                        <a:lnTo>
                          <a:pt x="380" y="1838"/>
                        </a:lnTo>
                        <a:lnTo>
                          <a:pt x="431" y="1860"/>
                        </a:lnTo>
                        <a:lnTo>
                          <a:pt x="487" y="1883"/>
                        </a:lnTo>
                        <a:lnTo>
                          <a:pt x="585" y="1917"/>
                        </a:lnTo>
                        <a:lnTo>
                          <a:pt x="696" y="1946"/>
                        </a:lnTo>
                        <a:lnTo>
                          <a:pt x="815" y="1969"/>
                        </a:lnTo>
                        <a:lnTo>
                          <a:pt x="945" y="1986"/>
                        </a:lnTo>
                        <a:lnTo>
                          <a:pt x="1239" y="2003"/>
                        </a:lnTo>
                        <a:lnTo>
                          <a:pt x="1576" y="1995"/>
                        </a:lnTo>
                        <a:lnTo>
                          <a:pt x="1601" y="1874"/>
                        </a:lnTo>
                        <a:lnTo>
                          <a:pt x="1633" y="1750"/>
                        </a:lnTo>
                        <a:lnTo>
                          <a:pt x="1652" y="1682"/>
                        </a:lnTo>
                        <a:lnTo>
                          <a:pt x="1675" y="1611"/>
                        </a:lnTo>
                        <a:lnTo>
                          <a:pt x="1698" y="1541"/>
                        </a:lnTo>
                        <a:lnTo>
                          <a:pt x="1724" y="1476"/>
                        </a:lnTo>
                        <a:lnTo>
                          <a:pt x="1753" y="1418"/>
                        </a:lnTo>
                        <a:lnTo>
                          <a:pt x="1783" y="1366"/>
                        </a:lnTo>
                        <a:lnTo>
                          <a:pt x="1817" y="1326"/>
                        </a:lnTo>
                        <a:lnTo>
                          <a:pt x="1852" y="1300"/>
                        </a:lnTo>
                        <a:lnTo>
                          <a:pt x="1924" y="1298"/>
                        </a:lnTo>
                        <a:lnTo>
                          <a:pt x="1989" y="1332"/>
                        </a:lnTo>
                        <a:lnTo>
                          <a:pt x="2036" y="1361"/>
                        </a:lnTo>
                        <a:lnTo>
                          <a:pt x="2087" y="1402"/>
                        </a:lnTo>
                        <a:lnTo>
                          <a:pt x="2101" y="1435"/>
                        </a:lnTo>
                        <a:lnTo>
                          <a:pt x="2165" y="1651"/>
                        </a:lnTo>
                        <a:lnTo>
                          <a:pt x="2262" y="1480"/>
                        </a:lnTo>
                        <a:lnTo>
                          <a:pt x="2646" y="1035"/>
                        </a:lnTo>
                        <a:lnTo>
                          <a:pt x="2855" y="1243"/>
                        </a:lnTo>
                        <a:lnTo>
                          <a:pt x="3019" y="1094"/>
                        </a:lnTo>
                        <a:lnTo>
                          <a:pt x="3006" y="1056"/>
                        </a:lnTo>
                        <a:lnTo>
                          <a:pt x="2970" y="958"/>
                        </a:lnTo>
                        <a:lnTo>
                          <a:pt x="2945" y="891"/>
                        </a:lnTo>
                        <a:lnTo>
                          <a:pt x="2913" y="815"/>
                        </a:lnTo>
                        <a:lnTo>
                          <a:pt x="2878" y="733"/>
                        </a:lnTo>
                        <a:lnTo>
                          <a:pt x="2838" y="650"/>
                        </a:lnTo>
                        <a:lnTo>
                          <a:pt x="2795" y="566"/>
                        </a:lnTo>
                        <a:lnTo>
                          <a:pt x="2772" y="524"/>
                        </a:lnTo>
                        <a:lnTo>
                          <a:pt x="2747" y="484"/>
                        </a:lnTo>
                        <a:lnTo>
                          <a:pt x="2722" y="444"/>
                        </a:lnTo>
                        <a:lnTo>
                          <a:pt x="2698" y="406"/>
                        </a:lnTo>
                        <a:lnTo>
                          <a:pt x="2671" y="368"/>
                        </a:lnTo>
                        <a:lnTo>
                          <a:pt x="2644" y="334"/>
                        </a:lnTo>
                        <a:lnTo>
                          <a:pt x="2589" y="273"/>
                        </a:lnTo>
                        <a:lnTo>
                          <a:pt x="2559" y="247"/>
                        </a:lnTo>
                        <a:lnTo>
                          <a:pt x="2530" y="224"/>
                        </a:lnTo>
                        <a:lnTo>
                          <a:pt x="2470" y="190"/>
                        </a:lnTo>
                        <a:lnTo>
                          <a:pt x="2409" y="171"/>
                        </a:lnTo>
                        <a:lnTo>
                          <a:pt x="2331" y="85"/>
                        </a:lnTo>
                        <a:lnTo>
                          <a:pt x="1979" y="0"/>
                        </a:lnTo>
                        <a:lnTo>
                          <a:pt x="1661" y="30"/>
                        </a:lnTo>
                        <a:lnTo>
                          <a:pt x="1418" y="39"/>
                        </a:lnTo>
                        <a:lnTo>
                          <a:pt x="1110" y="152"/>
                        </a:lnTo>
                        <a:lnTo>
                          <a:pt x="975" y="228"/>
                        </a:lnTo>
                        <a:lnTo>
                          <a:pt x="802" y="509"/>
                        </a:lnTo>
                        <a:lnTo>
                          <a:pt x="711" y="631"/>
                        </a:lnTo>
                        <a:lnTo>
                          <a:pt x="399" y="758"/>
                        </a:lnTo>
                        <a:lnTo>
                          <a:pt x="365" y="783"/>
                        </a:lnTo>
                        <a:lnTo>
                          <a:pt x="329" y="809"/>
                        </a:lnTo>
                        <a:lnTo>
                          <a:pt x="283" y="842"/>
                        </a:lnTo>
                        <a:lnTo>
                          <a:pt x="237" y="876"/>
                        </a:lnTo>
                        <a:lnTo>
                          <a:pt x="190" y="910"/>
                        </a:lnTo>
                        <a:lnTo>
                          <a:pt x="150" y="942"/>
                        </a:lnTo>
                        <a:lnTo>
                          <a:pt x="118" y="967"/>
                        </a:lnTo>
                        <a:lnTo>
                          <a:pt x="64" y="1041"/>
                        </a:lnTo>
                        <a:lnTo>
                          <a:pt x="63" y="1072"/>
                        </a:lnTo>
                        <a:lnTo>
                          <a:pt x="0" y="1239"/>
                        </a:lnTo>
                        <a:lnTo>
                          <a:pt x="40" y="1591"/>
                        </a:lnTo>
                        <a:lnTo>
                          <a:pt x="40" y="1591"/>
                        </a:lnTo>
                        <a:close/>
                      </a:path>
                    </a:pathLst>
                  </a:custGeom>
                  <a:solidFill>
                    <a:srgbClr val="ffe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4808880" y="3920400"/>
                    <a:ext cx="1288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711">
                        <a:moveTo>
                          <a:pt x="0" y="621"/>
                        </a:moveTo>
                        <a:lnTo>
                          <a:pt x="17" y="646"/>
                        </a:lnTo>
                        <a:lnTo>
                          <a:pt x="38" y="669"/>
                        </a:lnTo>
                        <a:lnTo>
                          <a:pt x="69" y="690"/>
                        </a:lnTo>
                        <a:lnTo>
                          <a:pt x="103" y="707"/>
                        </a:lnTo>
                        <a:lnTo>
                          <a:pt x="145" y="711"/>
                        </a:lnTo>
                        <a:lnTo>
                          <a:pt x="244" y="665"/>
                        </a:lnTo>
                        <a:lnTo>
                          <a:pt x="356" y="625"/>
                        </a:lnTo>
                        <a:lnTo>
                          <a:pt x="447" y="405"/>
                        </a:lnTo>
                        <a:lnTo>
                          <a:pt x="489" y="216"/>
                        </a:lnTo>
                        <a:lnTo>
                          <a:pt x="478" y="118"/>
                        </a:lnTo>
                        <a:lnTo>
                          <a:pt x="460" y="44"/>
                        </a:lnTo>
                        <a:lnTo>
                          <a:pt x="447" y="17"/>
                        </a:lnTo>
                        <a:lnTo>
                          <a:pt x="432" y="0"/>
                        </a:lnTo>
                        <a:lnTo>
                          <a:pt x="341" y="4"/>
                        </a:lnTo>
                        <a:lnTo>
                          <a:pt x="286" y="25"/>
                        </a:lnTo>
                        <a:lnTo>
                          <a:pt x="158" y="300"/>
                        </a:lnTo>
                        <a:lnTo>
                          <a:pt x="0" y="621"/>
                        </a:lnTo>
                        <a:lnTo>
                          <a:pt x="0" y="621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803840" y="4066200"/>
                    <a:ext cx="72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58">
                        <a:moveTo>
                          <a:pt x="0" y="30"/>
                        </a:moveTo>
                        <a:lnTo>
                          <a:pt x="124" y="0"/>
                        </a:lnTo>
                        <a:lnTo>
                          <a:pt x="143" y="25"/>
                        </a:lnTo>
                        <a:lnTo>
                          <a:pt x="164" y="49"/>
                        </a:lnTo>
                        <a:lnTo>
                          <a:pt x="192" y="72"/>
                        </a:lnTo>
                        <a:lnTo>
                          <a:pt x="276" y="123"/>
                        </a:lnTo>
                        <a:lnTo>
                          <a:pt x="242" y="150"/>
                        </a:lnTo>
                        <a:lnTo>
                          <a:pt x="198" y="158"/>
                        </a:lnTo>
                        <a:lnTo>
                          <a:pt x="145" y="158"/>
                        </a:lnTo>
                        <a:lnTo>
                          <a:pt x="29" y="106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2e4f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294080" y="3893400"/>
                    <a:ext cx="29376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4" h="888">
                        <a:moveTo>
                          <a:pt x="34" y="888"/>
                        </a:moveTo>
                        <a:lnTo>
                          <a:pt x="51" y="865"/>
                        </a:lnTo>
                        <a:lnTo>
                          <a:pt x="101" y="800"/>
                        </a:lnTo>
                        <a:lnTo>
                          <a:pt x="137" y="755"/>
                        </a:lnTo>
                        <a:lnTo>
                          <a:pt x="178" y="705"/>
                        </a:lnTo>
                        <a:lnTo>
                          <a:pt x="224" y="650"/>
                        </a:lnTo>
                        <a:lnTo>
                          <a:pt x="277" y="593"/>
                        </a:lnTo>
                        <a:lnTo>
                          <a:pt x="334" y="532"/>
                        </a:lnTo>
                        <a:lnTo>
                          <a:pt x="363" y="504"/>
                        </a:lnTo>
                        <a:lnTo>
                          <a:pt x="393" y="473"/>
                        </a:lnTo>
                        <a:lnTo>
                          <a:pt x="426" y="443"/>
                        </a:lnTo>
                        <a:lnTo>
                          <a:pt x="458" y="415"/>
                        </a:lnTo>
                        <a:lnTo>
                          <a:pt x="492" y="386"/>
                        </a:lnTo>
                        <a:lnTo>
                          <a:pt x="525" y="358"/>
                        </a:lnTo>
                        <a:lnTo>
                          <a:pt x="559" y="331"/>
                        </a:lnTo>
                        <a:lnTo>
                          <a:pt x="595" y="304"/>
                        </a:lnTo>
                        <a:lnTo>
                          <a:pt x="629" y="281"/>
                        </a:lnTo>
                        <a:lnTo>
                          <a:pt x="665" y="257"/>
                        </a:lnTo>
                        <a:lnTo>
                          <a:pt x="737" y="217"/>
                        </a:lnTo>
                        <a:lnTo>
                          <a:pt x="808" y="185"/>
                        </a:lnTo>
                        <a:lnTo>
                          <a:pt x="874" y="158"/>
                        </a:lnTo>
                        <a:lnTo>
                          <a:pt x="931" y="137"/>
                        </a:lnTo>
                        <a:lnTo>
                          <a:pt x="1017" y="105"/>
                        </a:lnTo>
                        <a:lnTo>
                          <a:pt x="1101" y="78"/>
                        </a:lnTo>
                        <a:lnTo>
                          <a:pt x="1114" y="80"/>
                        </a:lnTo>
                        <a:lnTo>
                          <a:pt x="1106" y="86"/>
                        </a:lnTo>
                        <a:lnTo>
                          <a:pt x="760" y="61"/>
                        </a:lnTo>
                        <a:lnTo>
                          <a:pt x="348" y="0"/>
                        </a:lnTo>
                        <a:lnTo>
                          <a:pt x="310" y="13"/>
                        </a:lnTo>
                        <a:lnTo>
                          <a:pt x="258" y="80"/>
                        </a:lnTo>
                        <a:lnTo>
                          <a:pt x="232" y="128"/>
                        </a:lnTo>
                        <a:lnTo>
                          <a:pt x="203" y="185"/>
                        </a:lnTo>
                        <a:lnTo>
                          <a:pt x="175" y="247"/>
                        </a:lnTo>
                        <a:lnTo>
                          <a:pt x="146" y="312"/>
                        </a:lnTo>
                        <a:lnTo>
                          <a:pt x="118" y="380"/>
                        </a:lnTo>
                        <a:lnTo>
                          <a:pt x="93" y="451"/>
                        </a:lnTo>
                        <a:lnTo>
                          <a:pt x="47" y="580"/>
                        </a:lnTo>
                        <a:lnTo>
                          <a:pt x="2" y="764"/>
                        </a:lnTo>
                        <a:lnTo>
                          <a:pt x="0" y="808"/>
                        </a:lnTo>
                        <a:lnTo>
                          <a:pt x="2" y="840"/>
                        </a:lnTo>
                        <a:lnTo>
                          <a:pt x="13" y="876"/>
                        </a:lnTo>
                        <a:lnTo>
                          <a:pt x="34" y="888"/>
                        </a:lnTo>
                        <a:lnTo>
                          <a:pt x="34" y="888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640400" y="4086720"/>
                    <a:ext cx="579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83">
                        <a:moveTo>
                          <a:pt x="0" y="391"/>
                        </a:moveTo>
                        <a:lnTo>
                          <a:pt x="11" y="458"/>
                        </a:lnTo>
                        <a:lnTo>
                          <a:pt x="30" y="483"/>
                        </a:lnTo>
                        <a:lnTo>
                          <a:pt x="59" y="477"/>
                        </a:lnTo>
                        <a:lnTo>
                          <a:pt x="110" y="422"/>
                        </a:lnTo>
                        <a:lnTo>
                          <a:pt x="133" y="378"/>
                        </a:lnTo>
                        <a:lnTo>
                          <a:pt x="161" y="319"/>
                        </a:lnTo>
                        <a:lnTo>
                          <a:pt x="188" y="258"/>
                        </a:lnTo>
                        <a:lnTo>
                          <a:pt x="205" y="209"/>
                        </a:lnTo>
                        <a:lnTo>
                          <a:pt x="220" y="26"/>
                        </a:lnTo>
                        <a:lnTo>
                          <a:pt x="211" y="13"/>
                        </a:lnTo>
                        <a:lnTo>
                          <a:pt x="194" y="0"/>
                        </a:lnTo>
                        <a:lnTo>
                          <a:pt x="106" y="9"/>
                        </a:lnTo>
                        <a:lnTo>
                          <a:pt x="28" y="209"/>
                        </a:lnTo>
                        <a:lnTo>
                          <a:pt x="0" y="391"/>
                        </a:lnTo>
                        <a:lnTo>
                          <a:pt x="0" y="391"/>
                        </a:lnTo>
                        <a:close/>
                      </a:path>
                    </a:pathLst>
                  </a:custGeom>
                  <a:solidFill>
                    <a:srgbClr val="6079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412880" y="4021560"/>
                    <a:ext cx="12708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483">
                        <a:moveTo>
                          <a:pt x="63" y="156"/>
                        </a:moveTo>
                        <a:lnTo>
                          <a:pt x="48" y="182"/>
                        </a:lnTo>
                        <a:lnTo>
                          <a:pt x="19" y="245"/>
                        </a:lnTo>
                        <a:lnTo>
                          <a:pt x="0" y="325"/>
                        </a:lnTo>
                        <a:lnTo>
                          <a:pt x="17" y="401"/>
                        </a:lnTo>
                        <a:lnTo>
                          <a:pt x="46" y="431"/>
                        </a:lnTo>
                        <a:lnTo>
                          <a:pt x="82" y="454"/>
                        </a:lnTo>
                        <a:lnTo>
                          <a:pt x="171" y="479"/>
                        </a:lnTo>
                        <a:lnTo>
                          <a:pt x="308" y="483"/>
                        </a:lnTo>
                        <a:lnTo>
                          <a:pt x="402" y="450"/>
                        </a:lnTo>
                        <a:lnTo>
                          <a:pt x="468" y="424"/>
                        </a:lnTo>
                        <a:lnTo>
                          <a:pt x="481" y="372"/>
                        </a:lnTo>
                        <a:lnTo>
                          <a:pt x="236" y="388"/>
                        </a:lnTo>
                        <a:lnTo>
                          <a:pt x="187" y="235"/>
                        </a:lnTo>
                        <a:lnTo>
                          <a:pt x="242" y="64"/>
                        </a:lnTo>
                        <a:lnTo>
                          <a:pt x="289" y="0"/>
                        </a:lnTo>
                        <a:lnTo>
                          <a:pt x="202" y="30"/>
                        </a:lnTo>
                        <a:lnTo>
                          <a:pt x="126" y="78"/>
                        </a:lnTo>
                        <a:lnTo>
                          <a:pt x="63" y="156"/>
                        </a:lnTo>
                        <a:lnTo>
                          <a:pt x="63" y="156"/>
                        </a:lnTo>
                        <a:close/>
                      </a:path>
                    </a:pathLst>
                  </a:custGeom>
                  <a:solidFill>
                    <a:srgbClr val="ffff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880160" y="3965040"/>
                    <a:ext cx="324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16">
                        <a:moveTo>
                          <a:pt x="48" y="32"/>
                        </a:moveTo>
                        <a:lnTo>
                          <a:pt x="21" y="93"/>
                        </a:lnTo>
                        <a:lnTo>
                          <a:pt x="0" y="196"/>
                        </a:lnTo>
                        <a:lnTo>
                          <a:pt x="12" y="302"/>
                        </a:lnTo>
                        <a:lnTo>
                          <a:pt x="33" y="316"/>
                        </a:lnTo>
                        <a:lnTo>
                          <a:pt x="63" y="287"/>
                        </a:lnTo>
                        <a:lnTo>
                          <a:pt x="107" y="182"/>
                        </a:lnTo>
                        <a:lnTo>
                          <a:pt x="124" y="19"/>
                        </a:lnTo>
                        <a:lnTo>
                          <a:pt x="103" y="0"/>
                        </a:lnTo>
                        <a:lnTo>
                          <a:pt x="48" y="32"/>
                        </a:lnTo>
                        <a:lnTo>
                          <a:pt x="48" y="32"/>
                        </a:lnTo>
                        <a:close/>
                      </a:path>
                    </a:pathLst>
                  </a:custGeom>
                  <a:solidFill>
                    <a:srgbClr val="1c40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581360" y="3723120"/>
                    <a:ext cx="316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4" h="380">
                        <a:moveTo>
                          <a:pt x="0" y="211"/>
                        </a:moveTo>
                        <a:lnTo>
                          <a:pt x="65" y="194"/>
                        </a:lnTo>
                        <a:lnTo>
                          <a:pt x="215" y="152"/>
                        </a:lnTo>
                        <a:lnTo>
                          <a:pt x="303" y="125"/>
                        </a:lnTo>
                        <a:lnTo>
                          <a:pt x="388" y="99"/>
                        </a:lnTo>
                        <a:lnTo>
                          <a:pt x="466" y="72"/>
                        </a:lnTo>
                        <a:lnTo>
                          <a:pt x="525" y="47"/>
                        </a:lnTo>
                        <a:lnTo>
                          <a:pt x="576" y="28"/>
                        </a:lnTo>
                        <a:lnTo>
                          <a:pt x="630" y="13"/>
                        </a:lnTo>
                        <a:lnTo>
                          <a:pt x="736" y="0"/>
                        </a:lnTo>
                        <a:lnTo>
                          <a:pt x="900" y="26"/>
                        </a:lnTo>
                        <a:lnTo>
                          <a:pt x="930" y="47"/>
                        </a:lnTo>
                        <a:lnTo>
                          <a:pt x="968" y="78"/>
                        </a:lnTo>
                        <a:lnTo>
                          <a:pt x="1010" y="112"/>
                        </a:lnTo>
                        <a:lnTo>
                          <a:pt x="1052" y="150"/>
                        </a:lnTo>
                        <a:lnTo>
                          <a:pt x="1092" y="186"/>
                        </a:lnTo>
                        <a:lnTo>
                          <a:pt x="1124" y="215"/>
                        </a:lnTo>
                        <a:lnTo>
                          <a:pt x="1154" y="243"/>
                        </a:lnTo>
                        <a:lnTo>
                          <a:pt x="1204" y="304"/>
                        </a:lnTo>
                        <a:lnTo>
                          <a:pt x="1147" y="327"/>
                        </a:lnTo>
                        <a:lnTo>
                          <a:pt x="1073" y="380"/>
                        </a:lnTo>
                        <a:lnTo>
                          <a:pt x="1059" y="380"/>
                        </a:lnTo>
                        <a:lnTo>
                          <a:pt x="1052" y="346"/>
                        </a:lnTo>
                        <a:lnTo>
                          <a:pt x="1046" y="281"/>
                        </a:lnTo>
                        <a:lnTo>
                          <a:pt x="917" y="173"/>
                        </a:lnTo>
                        <a:lnTo>
                          <a:pt x="651" y="179"/>
                        </a:lnTo>
                        <a:lnTo>
                          <a:pt x="413" y="264"/>
                        </a:lnTo>
                        <a:lnTo>
                          <a:pt x="0" y="211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518720" y="4195800"/>
                    <a:ext cx="1360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7" h="304">
                        <a:moveTo>
                          <a:pt x="0" y="133"/>
                        </a:moveTo>
                        <a:lnTo>
                          <a:pt x="91" y="245"/>
                        </a:lnTo>
                        <a:lnTo>
                          <a:pt x="279" y="304"/>
                        </a:lnTo>
                        <a:lnTo>
                          <a:pt x="410" y="276"/>
                        </a:lnTo>
                        <a:lnTo>
                          <a:pt x="517" y="255"/>
                        </a:lnTo>
                        <a:lnTo>
                          <a:pt x="425" y="257"/>
                        </a:lnTo>
                        <a:lnTo>
                          <a:pt x="338" y="217"/>
                        </a:lnTo>
                        <a:lnTo>
                          <a:pt x="268" y="131"/>
                        </a:lnTo>
                        <a:lnTo>
                          <a:pt x="228" y="0"/>
                        </a:lnTo>
                        <a:lnTo>
                          <a:pt x="216" y="27"/>
                        </a:lnTo>
                        <a:lnTo>
                          <a:pt x="192" y="52"/>
                        </a:lnTo>
                        <a:lnTo>
                          <a:pt x="152" y="72"/>
                        </a:lnTo>
                        <a:lnTo>
                          <a:pt x="0" y="133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3148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4206960" y="3889080"/>
                    <a:ext cx="1180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266">
                        <a:moveTo>
                          <a:pt x="0" y="260"/>
                        </a:moveTo>
                        <a:lnTo>
                          <a:pt x="36" y="236"/>
                        </a:lnTo>
                        <a:lnTo>
                          <a:pt x="74" y="211"/>
                        </a:lnTo>
                        <a:lnTo>
                          <a:pt x="122" y="179"/>
                        </a:lnTo>
                        <a:lnTo>
                          <a:pt x="173" y="146"/>
                        </a:lnTo>
                        <a:lnTo>
                          <a:pt x="226" y="112"/>
                        </a:lnTo>
                        <a:lnTo>
                          <a:pt x="274" y="82"/>
                        </a:lnTo>
                        <a:lnTo>
                          <a:pt x="314" y="59"/>
                        </a:lnTo>
                        <a:lnTo>
                          <a:pt x="373" y="27"/>
                        </a:lnTo>
                        <a:lnTo>
                          <a:pt x="414" y="8"/>
                        </a:lnTo>
                        <a:lnTo>
                          <a:pt x="447" y="0"/>
                        </a:lnTo>
                        <a:lnTo>
                          <a:pt x="418" y="15"/>
                        </a:lnTo>
                        <a:lnTo>
                          <a:pt x="350" y="59"/>
                        </a:lnTo>
                        <a:lnTo>
                          <a:pt x="308" y="89"/>
                        </a:lnTo>
                        <a:lnTo>
                          <a:pt x="264" y="123"/>
                        </a:lnTo>
                        <a:lnTo>
                          <a:pt x="222" y="160"/>
                        </a:lnTo>
                        <a:lnTo>
                          <a:pt x="184" y="198"/>
                        </a:lnTo>
                        <a:lnTo>
                          <a:pt x="154" y="230"/>
                        </a:lnTo>
                        <a:lnTo>
                          <a:pt x="129" y="251"/>
                        </a:lnTo>
                        <a:lnTo>
                          <a:pt x="97" y="266"/>
                        </a:lnTo>
                        <a:lnTo>
                          <a:pt x="76" y="258"/>
                        </a:lnTo>
                        <a:lnTo>
                          <a:pt x="0" y="260"/>
                        </a:lnTo>
                        <a:lnTo>
                          <a:pt x="0" y="26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206600" y="3864240"/>
                    <a:ext cx="16524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815">
                        <a:moveTo>
                          <a:pt x="224" y="363"/>
                        </a:moveTo>
                        <a:lnTo>
                          <a:pt x="245" y="526"/>
                        </a:lnTo>
                        <a:lnTo>
                          <a:pt x="213" y="587"/>
                        </a:lnTo>
                        <a:lnTo>
                          <a:pt x="177" y="648"/>
                        </a:lnTo>
                        <a:lnTo>
                          <a:pt x="152" y="673"/>
                        </a:lnTo>
                        <a:lnTo>
                          <a:pt x="122" y="692"/>
                        </a:lnTo>
                        <a:lnTo>
                          <a:pt x="42" y="703"/>
                        </a:lnTo>
                        <a:lnTo>
                          <a:pt x="8" y="709"/>
                        </a:lnTo>
                        <a:lnTo>
                          <a:pt x="0" y="726"/>
                        </a:lnTo>
                        <a:lnTo>
                          <a:pt x="15" y="751"/>
                        </a:lnTo>
                        <a:lnTo>
                          <a:pt x="42" y="777"/>
                        </a:lnTo>
                        <a:lnTo>
                          <a:pt x="78" y="802"/>
                        </a:lnTo>
                        <a:lnTo>
                          <a:pt x="118" y="815"/>
                        </a:lnTo>
                        <a:lnTo>
                          <a:pt x="181" y="793"/>
                        </a:lnTo>
                        <a:lnTo>
                          <a:pt x="209" y="739"/>
                        </a:lnTo>
                        <a:lnTo>
                          <a:pt x="230" y="703"/>
                        </a:lnTo>
                        <a:lnTo>
                          <a:pt x="253" y="661"/>
                        </a:lnTo>
                        <a:lnTo>
                          <a:pt x="278" y="616"/>
                        </a:lnTo>
                        <a:lnTo>
                          <a:pt x="304" y="566"/>
                        </a:lnTo>
                        <a:lnTo>
                          <a:pt x="331" y="515"/>
                        </a:lnTo>
                        <a:lnTo>
                          <a:pt x="357" y="466"/>
                        </a:lnTo>
                        <a:lnTo>
                          <a:pt x="384" y="414"/>
                        </a:lnTo>
                        <a:lnTo>
                          <a:pt x="409" y="367"/>
                        </a:lnTo>
                        <a:lnTo>
                          <a:pt x="434" y="323"/>
                        </a:lnTo>
                        <a:lnTo>
                          <a:pt x="453" y="285"/>
                        </a:lnTo>
                        <a:lnTo>
                          <a:pt x="483" y="228"/>
                        </a:lnTo>
                        <a:lnTo>
                          <a:pt x="494" y="207"/>
                        </a:lnTo>
                        <a:lnTo>
                          <a:pt x="629" y="76"/>
                        </a:lnTo>
                        <a:lnTo>
                          <a:pt x="614" y="0"/>
                        </a:lnTo>
                        <a:lnTo>
                          <a:pt x="595" y="13"/>
                        </a:lnTo>
                        <a:lnTo>
                          <a:pt x="548" y="49"/>
                        </a:lnTo>
                        <a:lnTo>
                          <a:pt x="515" y="72"/>
                        </a:lnTo>
                        <a:lnTo>
                          <a:pt x="479" y="99"/>
                        </a:lnTo>
                        <a:lnTo>
                          <a:pt x="441" y="129"/>
                        </a:lnTo>
                        <a:lnTo>
                          <a:pt x="401" y="160"/>
                        </a:lnTo>
                        <a:lnTo>
                          <a:pt x="363" y="192"/>
                        </a:lnTo>
                        <a:lnTo>
                          <a:pt x="327" y="222"/>
                        </a:lnTo>
                        <a:lnTo>
                          <a:pt x="295" y="253"/>
                        </a:lnTo>
                        <a:lnTo>
                          <a:pt x="266" y="281"/>
                        </a:lnTo>
                        <a:lnTo>
                          <a:pt x="224" y="363"/>
                        </a:lnTo>
                        <a:lnTo>
                          <a:pt x="224" y="36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417200" y="3688920"/>
                    <a:ext cx="303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52" h="308">
                        <a:moveTo>
                          <a:pt x="32" y="237"/>
                        </a:moveTo>
                        <a:lnTo>
                          <a:pt x="536" y="308"/>
                        </a:lnTo>
                        <a:lnTo>
                          <a:pt x="473" y="271"/>
                        </a:lnTo>
                        <a:lnTo>
                          <a:pt x="450" y="232"/>
                        </a:lnTo>
                        <a:lnTo>
                          <a:pt x="460" y="211"/>
                        </a:lnTo>
                        <a:lnTo>
                          <a:pt x="486" y="190"/>
                        </a:lnTo>
                        <a:lnTo>
                          <a:pt x="526" y="167"/>
                        </a:lnTo>
                        <a:lnTo>
                          <a:pt x="566" y="150"/>
                        </a:lnTo>
                        <a:lnTo>
                          <a:pt x="654" y="119"/>
                        </a:lnTo>
                        <a:lnTo>
                          <a:pt x="747" y="97"/>
                        </a:lnTo>
                        <a:lnTo>
                          <a:pt x="849" y="76"/>
                        </a:lnTo>
                        <a:lnTo>
                          <a:pt x="1152" y="47"/>
                        </a:lnTo>
                        <a:lnTo>
                          <a:pt x="1011" y="15"/>
                        </a:lnTo>
                        <a:lnTo>
                          <a:pt x="785" y="3"/>
                        </a:lnTo>
                        <a:lnTo>
                          <a:pt x="650" y="0"/>
                        </a:lnTo>
                        <a:lnTo>
                          <a:pt x="448" y="36"/>
                        </a:lnTo>
                        <a:lnTo>
                          <a:pt x="237" y="102"/>
                        </a:lnTo>
                        <a:lnTo>
                          <a:pt x="38" y="190"/>
                        </a:lnTo>
                        <a:lnTo>
                          <a:pt x="0" y="264"/>
                        </a:lnTo>
                        <a:lnTo>
                          <a:pt x="32" y="237"/>
                        </a:lnTo>
                        <a:lnTo>
                          <a:pt x="32" y="237"/>
                        </a:lnTo>
                        <a:close/>
                      </a:path>
                    </a:pathLst>
                  </a:custGeom>
                  <a:solidFill>
                    <a:srgbClr val="fff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746240" y="3872880"/>
                    <a:ext cx="22500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3" h="856">
                        <a:moveTo>
                          <a:pt x="5" y="804"/>
                        </a:moveTo>
                        <a:lnTo>
                          <a:pt x="87" y="578"/>
                        </a:lnTo>
                        <a:lnTo>
                          <a:pt x="89" y="650"/>
                        </a:lnTo>
                        <a:lnTo>
                          <a:pt x="169" y="512"/>
                        </a:lnTo>
                        <a:lnTo>
                          <a:pt x="152" y="629"/>
                        </a:lnTo>
                        <a:lnTo>
                          <a:pt x="230" y="464"/>
                        </a:lnTo>
                        <a:lnTo>
                          <a:pt x="243" y="588"/>
                        </a:lnTo>
                        <a:lnTo>
                          <a:pt x="274" y="390"/>
                        </a:lnTo>
                        <a:lnTo>
                          <a:pt x="310" y="232"/>
                        </a:lnTo>
                        <a:lnTo>
                          <a:pt x="332" y="166"/>
                        </a:lnTo>
                        <a:lnTo>
                          <a:pt x="359" y="114"/>
                        </a:lnTo>
                        <a:lnTo>
                          <a:pt x="388" y="80"/>
                        </a:lnTo>
                        <a:lnTo>
                          <a:pt x="416" y="53"/>
                        </a:lnTo>
                        <a:lnTo>
                          <a:pt x="469" y="23"/>
                        </a:lnTo>
                        <a:lnTo>
                          <a:pt x="524" y="10"/>
                        </a:lnTo>
                        <a:lnTo>
                          <a:pt x="589" y="0"/>
                        </a:lnTo>
                        <a:lnTo>
                          <a:pt x="644" y="12"/>
                        </a:lnTo>
                        <a:lnTo>
                          <a:pt x="694" y="55"/>
                        </a:lnTo>
                        <a:lnTo>
                          <a:pt x="736" y="131"/>
                        </a:lnTo>
                        <a:lnTo>
                          <a:pt x="770" y="217"/>
                        </a:lnTo>
                        <a:lnTo>
                          <a:pt x="806" y="312"/>
                        </a:lnTo>
                        <a:lnTo>
                          <a:pt x="853" y="420"/>
                        </a:lnTo>
                        <a:lnTo>
                          <a:pt x="682" y="550"/>
                        </a:lnTo>
                        <a:lnTo>
                          <a:pt x="690" y="481"/>
                        </a:lnTo>
                        <a:lnTo>
                          <a:pt x="701" y="274"/>
                        </a:lnTo>
                        <a:lnTo>
                          <a:pt x="652" y="183"/>
                        </a:lnTo>
                        <a:lnTo>
                          <a:pt x="570" y="185"/>
                        </a:lnTo>
                        <a:lnTo>
                          <a:pt x="545" y="207"/>
                        </a:lnTo>
                        <a:lnTo>
                          <a:pt x="490" y="264"/>
                        </a:lnTo>
                        <a:lnTo>
                          <a:pt x="433" y="344"/>
                        </a:lnTo>
                        <a:lnTo>
                          <a:pt x="399" y="432"/>
                        </a:lnTo>
                        <a:lnTo>
                          <a:pt x="372" y="608"/>
                        </a:lnTo>
                        <a:lnTo>
                          <a:pt x="357" y="698"/>
                        </a:lnTo>
                        <a:lnTo>
                          <a:pt x="355" y="770"/>
                        </a:lnTo>
                        <a:lnTo>
                          <a:pt x="112" y="852"/>
                        </a:lnTo>
                        <a:lnTo>
                          <a:pt x="0" y="856"/>
                        </a:lnTo>
                        <a:lnTo>
                          <a:pt x="5" y="804"/>
                        </a:lnTo>
                        <a:lnTo>
                          <a:pt x="5" y="804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821840" y="3862800"/>
                    <a:ext cx="10584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378">
                        <a:moveTo>
                          <a:pt x="0" y="378"/>
                        </a:moveTo>
                        <a:lnTo>
                          <a:pt x="9" y="244"/>
                        </a:lnTo>
                        <a:lnTo>
                          <a:pt x="25" y="186"/>
                        </a:lnTo>
                        <a:lnTo>
                          <a:pt x="47" y="129"/>
                        </a:lnTo>
                        <a:lnTo>
                          <a:pt x="84" y="78"/>
                        </a:lnTo>
                        <a:lnTo>
                          <a:pt x="106" y="55"/>
                        </a:lnTo>
                        <a:lnTo>
                          <a:pt x="133" y="34"/>
                        </a:lnTo>
                        <a:lnTo>
                          <a:pt x="186" y="8"/>
                        </a:lnTo>
                        <a:lnTo>
                          <a:pt x="238" y="0"/>
                        </a:lnTo>
                        <a:lnTo>
                          <a:pt x="323" y="23"/>
                        </a:lnTo>
                        <a:lnTo>
                          <a:pt x="380" y="63"/>
                        </a:lnTo>
                        <a:lnTo>
                          <a:pt x="403" y="84"/>
                        </a:lnTo>
                        <a:lnTo>
                          <a:pt x="386" y="74"/>
                        </a:lnTo>
                        <a:lnTo>
                          <a:pt x="340" y="65"/>
                        </a:lnTo>
                        <a:lnTo>
                          <a:pt x="272" y="76"/>
                        </a:lnTo>
                        <a:lnTo>
                          <a:pt x="182" y="133"/>
                        </a:lnTo>
                        <a:lnTo>
                          <a:pt x="99" y="221"/>
                        </a:lnTo>
                        <a:lnTo>
                          <a:pt x="42" y="299"/>
                        </a:lnTo>
                        <a:lnTo>
                          <a:pt x="0" y="378"/>
                        </a:lnTo>
                        <a:lnTo>
                          <a:pt x="0" y="378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486320" y="3934440"/>
                    <a:ext cx="25956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985" h="876">
                        <a:moveTo>
                          <a:pt x="0" y="876"/>
                        </a:moveTo>
                        <a:lnTo>
                          <a:pt x="40" y="852"/>
                        </a:lnTo>
                        <a:lnTo>
                          <a:pt x="82" y="823"/>
                        </a:lnTo>
                        <a:lnTo>
                          <a:pt x="129" y="789"/>
                        </a:lnTo>
                        <a:lnTo>
                          <a:pt x="179" y="751"/>
                        </a:lnTo>
                        <a:lnTo>
                          <a:pt x="224" y="713"/>
                        </a:lnTo>
                        <a:lnTo>
                          <a:pt x="279" y="644"/>
                        </a:lnTo>
                        <a:lnTo>
                          <a:pt x="321" y="354"/>
                        </a:lnTo>
                        <a:lnTo>
                          <a:pt x="342" y="259"/>
                        </a:lnTo>
                        <a:lnTo>
                          <a:pt x="371" y="171"/>
                        </a:lnTo>
                        <a:lnTo>
                          <a:pt x="390" y="131"/>
                        </a:lnTo>
                        <a:lnTo>
                          <a:pt x="413" y="97"/>
                        </a:lnTo>
                        <a:lnTo>
                          <a:pt x="437" y="67"/>
                        </a:lnTo>
                        <a:lnTo>
                          <a:pt x="466" y="44"/>
                        </a:lnTo>
                        <a:lnTo>
                          <a:pt x="525" y="15"/>
                        </a:lnTo>
                        <a:lnTo>
                          <a:pt x="578" y="0"/>
                        </a:lnTo>
                        <a:lnTo>
                          <a:pt x="664" y="8"/>
                        </a:lnTo>
                        <a:lnTo>
                          <a:pt x="732" y="44"/>
                        </a:lnTo>
                        <a:lnTo>
                          <a:pt x="749" y="53"/>
                        </a:lnTo>
                        <a:lnTo>
                          <a:pt x="798" y="78"/>
                        </a:lnTo>
                        <a:lnTo>
                          <a:pt x="848" y="105"/>
                        </a:lnTo>
                        <a:lnTo>
                          <a:pt x="873" y="116"/>
                        </a:lnTo>
                        <a:lnTo>
                          <a:pt x="958" y="257"/>
                        </a:lnTo>
                        <a:lnTo>
                          <a:pt x="985" y="378"/>
                        </a:lnTo>
                        <a:lnTo>
                          <a:pt x="899" y="285"/>
                        </a:lnTo>
                        <a:lnTo>
                          <a:pt x="728" y="289"/>
                        </a:lnTo>
                        <a:lnTo>
                          <a:pt x="451" y="635"/>
                        </a:lnTo>
                        <a:lnTo>
                          <a:pt x="274" y="863"/>
                        </a:lnTo>
                        <a:lnTo>
                          <a:pt x="0" y="876"/>
                        </a:lnTo>
                        <a:lnTo>
                          <a:pt x="0" y="876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629600" y="3763440"/>
                    <a:ext cx="23832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667">
                        <a:moveTo>
                          <a:pt x="0" y="561"/>
                        </a:moveTo>
                        <a:lnTo>
                          <a:pt x="146" y="667"/>
                        </a:lnTo>
                        <a:lnTo>
                          <a:pt x="585" y="460"/>
                        </a:lnTo>
                        <a:lnTo>
                          <a:pt x="905" y="207"/>
                        </a:lnTo>
                        <a:lnTo>
                          <a:pt x="817" y="70"/>
                        </a:lnTo>
                        <a:lnTo>
                          <a:pt x="701" y="4"/>
                        </a:lnTo>
                        <a:lnTo>
                          <a:pt x="540" y="0"/>
                        </a:lnTo>
                        <a:lnTo>
                          <a:pt x="405" y="46"/>
                        </a:lnTo>
                        <a:lnTo>
                          <a:pt x="228" y="131"/>
                        </a:lnTo>
                        <a:lnTo>
                          <a:pt x="95" y="253"/>
                        </a:lnTo>
                        <a:lnTo>
                          <a:pt x="36" y="435"/>
                        </a:lnTo>
                        <a:lnTo>
                          <a:pt x="0" y="561"/>
                        </a:lnTo>
                        <a:lnTo>
                          <a:pt x="0" y="561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4464000" y="4007160"/>
                    <a:ext cx="1072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446">
                        <a:moveTo>
                          <a:pt x="0" y="328"/>
                        </a:moveTo>
                        <a:lnTo>
                          <a:pt x="65" y="93"/>
                        </a:lnTo>
                        <a:lnTo>
                          <a:pt x="190" y="11"/>
                        </a:lnTo>
                        <a:lnTo>
                          <a:pt x="236" y="3"/>
                        </a:lnTo>
                        <a:lnTo>
                          <a:pt x="301" y="0"/>
                        </a:lnTo>
                        <a:lnTo>
                          <a:pt x="350" y="15"/>
                        </a:lnTo>
                        <a:lnTo>
                          <a:pt x="382" y="59"/>
                        </a:lnTo>
                        <a:lnTo>
                          <a:pt x="407" y="205"/>
                        </a:lnTo>
                        <a:lnTo>
                          <a:pt x="400" y="277"/>
                        </a:lnTo>
                        <a:lnTo>
                          <a:pt x="373" y="330"/>
                        </a:lnTo>
                        <a:lnTo>
                          <a:pt x="348" y="351"/>
                        </a:lnTo>
                        <a:lnTo>
                          <a:pt x="320" y="372"/>
                        </a:lnTo>
                        <a:lnTo>
                          <a:pt x="259" y="408"/>
                        </a:lnTo>
                        <a:lnTo>
                          <a:pt x="209" y="435"/>
                        </a:lnTo>
                        <a:lnTo>
                          <a:pt x="189" y="446"/>
                        </a:lnTo>
                        <a:lnTo>
                          <a:pt x="38" y="412"/>
                        </a:lnTo>
                        <a:lnTo>
                          <a:pt x="0" y="328"/>
                        </a:lnTo>
                        <a:lnTo>
                          <a:pt x="0" y="328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4195440" y="3954960"/>
                    <a:ext cx="79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369">
                        <a:moveTo>
                          <a:pt x="0" y="257"/>
                        </a:moveTo>
                        <a:lnTo>
                          <a:pt x="8" y="171"/>
                        </a:lnTo>
                        <a:lnTo>
                          <a:pt x="29" y="99"/>
                        </a:lnTo>
                        <a:lnTo>
                          <a:pt x="44" y="65"/>
                        </a:lnTo>
                        <a:lnTo>
                          <a:pt x="67" y="38"/>
                        </a:lnTo>
                        <a:lnTo>
                          <a:pt x="105" y="6"/>
                        </a:lnTo>
                        <a:lnTo>
                          <a:pt x="124" y="0"/>
                        </a:lnTo>
                        <a:lnTo>
                          <a:pt x="131" y="9"/>
                        </a:lnTo>
                        <a:lnTo>
                          <a:pt x="238" y="25"/>
                        </a:lnTo>
                        <a:lnTo>
                          <a:pt x="303" y="122"/>
                        </a:lnTo>
                        <a:lnTo>
                          <a:pt x="247" y="253"/>
                        </a:lnTo>
                        <a:lnTo>
                          <a:pt x="122" y="369"/>
                        </a:lnTo>
                        <a:lnTo>
                          <a:pt x="0" y="257"/>
                        </a:lnTo>
                        <a:lnTo>
                          <a:pt x="0" y="257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4701240" y="3773160"/>
                    <a:ext cx="16668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559">
                        <a:moveTo>
                          <a:pt x="0" y="559"/>
                        </a:moveTo>
                        <a:lnTo>
                          <a:pt x="24" y="542"/>
                        </a:lnTo>
                        <a:lnTo>
                          <a:pt x="55" y="521"/>
                        </a:lnTo>
                        <a:lnTo>
                          <a:pt x="93" y="494"/>
                        </a:lnTo>
                        <a:lnTo>
                          <a:pt x="137" y="464"/>
                        </a:lnTo>
                        <a:lnTo>
                          <a:pt x="186" y="428"/>
                        </a:lnTo>
                        <a:lnTo>
                          <a:pt x="237" y="388"/>
                        </a:lnTo>
                        <a:lnTo>
                          <a:pt x="289" y="344"/>
                        </a:lnTo>
                        <a:lnTo>
                          <a:pt x="340" y="298"/>
                        </a:lnTo>
                        <a:lnTo>
                          <a:pt x="387" y="253"/>
                        </a:lnTo>
                        <a:lnTo>
                          <a:pt x="429" y="205"/>
                        </a:lnTo>
                        <a:lnTo>
                          <a:pt x="464" y="160"/>
                        </a:lnTo>
                        <a:lnTo>
                          <a:pt x="502" y="74"/>
                        </a:lnTo>
                        <a:lnTo>
                          <a:pt x="486" y="0"/>
                        </a:lnTo>
                        <a:lnTo>
                          <a:pt x="513" y="19"/>
                        </a:lnTo>
                        <a:lnTo>
                          <a:pt x="540" y="40"/>
                        </a:lnTo>
                        <a:lnTo>
                          <a:pt x="570" y="66"/>
                        </a:lnTo>
                        <a:lnTo>
                          <a:pt x="633" y="158"/>
                        </a:lnTo>
                        <a:lnTo>
                          <a:pt x="604" y="188"/>
                        </a:lnTo>
                        <a:lnTo>
                          <a:pt x="572" y="224"/>
                        </a:lnTo>
                        <a:lnTo>
                          <a:pt x="541" y="253"/>
                        </a:lnTo>
                        <a:lnTo>
                          <a:pt x="530" y="266"/>
                        </a:lnTo>
                        <a:lnTo>
                          <a:pt x="194" y="477"/>
                        </a:lnTo>
                        <a:lnTo>
                          <a:pt x="0" y="559"/>
                        </a:lnTo>
                        <a:lnTo>
                          <a:pt x="0" y="559"/>
                        </a:lnTo>
                        <a:close/>
                      </a:path>
                    </a:pathLst>
                  </a:custGeom>
                  <a:solidFill>
                    <a:srgbClr val="8aa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4168800" y="4081680"/>
                    <a:ext cx="41184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1" h="570">
                        <a:moveTo>
                          <a:pt x="6" y="127"/>
                        </a:moveTo>
                        <a:lnTo>
                          <a:pt x="0" y="61"/>
                        </a:lnTo>
                        <a:lnTo>
                          <a:pt x="10" y="15"/>
                        </a:lnTo>
                        <a:lnTo>
                          <a:pt x="42" y="0"/>
                        </a:lnTo>
                        <a:lnTo>
                          <a:pt x="96" y="32"/>
                        </a:lnTo>
                        <a:lnTo>
                          <a:pt x="151" y="87"/>
                        </a:lnTo>
                        <a:lnTo>
                          <a:pt x="192" y="144"/>
                        </a:lnTo>
                        <a:lnTo>
                          <a:pt x="208" y="167"/>
                        </a:lnTo>
                        <a:lnTo>
                          <a:pt x="225" y="180"/>
                        </a:lnTo>
                        <a:lnTo>
                          <a:pt x="270" y="213"/>
                        </a:lnTo>
                        <a:lnTo>
                          <a:pt x="303" y="234"/>
                        </a:lnTo>
                        <a:lnTo>
                          <a:pt x="341" y="256"/>
                        </a:lnTo>
                        <a:lnTo>
                          <a:pt x="383" y="281"/>
                        </a:lnTo>
                        <a:lnTo>
                          <a:pt x="430" y="306"/>
                        </a:lnTo>
                        <a:lnTo>
                          <a:pt x="480" y="331"/>
                        </a:lnTo>
                        <a:lnTo>
                          <a:pt x="533" y="353"/>
                        </a:lnTo>
                        <a:lnTo>
                          <a:pt x="588" y="374"/>
                        </a:lnTo>
                        <a:lnTo>
                          <a:pt x="643" y="391"/>
                        </a:lnTo>
                        <a:lnTo>
                          <a:pt x="759" y="412"/>
                        </a:lnTo>
                        <a:lnTo>
                          <a:pt x="871" y="409"/>
                        </a:lnTo>
                        <a:lnTo>
                          <a:pt x="1162" y="374"/>
                        </a:lnTo>
                        <a:lnTo>
                          <a:pt x="1232" y="376"/>
                        </a:lnTo>
                        <a:lnTo>
                          <a:pt x="1314" y="353"/>
                        </a:lnTo>
                        <a:lnTo>
                          <a:pt x="1404" y="327"/>
                        </a:lnTo>
                        <a:lnTo>
                          <a:pt x="1425" y="313"/>
                        </a:lnTo>
                        <a:lnTo>
                          <a:pt x="1461" y="294"/>
                        </a:lnTo>
                        <a:lnTo>
                          <a:pt x="1502" y="281"/>
                        </a:lnTo>
                        <a:lnTo>
                          <a:pt x="1537" y="281"/>
                        </a:lnTo>
                        <a:lnTo>
                          <a:pt x="1561" y="367"/>
                        </a:lnTo>
                        <a:lnTo>
                          <a:pt x="1552" y="454"/>
                        </a:lnTo>
                        <a:lnTo>
                          <a:pt x="1535" y="488"/>
                        </a:lnTo>
                        <a:lnTo>
                          <a:pt x="1525" y="507"/>
                        </a:lnTo>
                        <a:lnTo>
                          <a:pt x="1198" y="570"/>
                        </a:lnTo>
                        <a:lnTo>
                          <a:pt x="727" y="532"/>
                        </a:lnTo>
                        <a:lnTo>
                          <a:pt x="402" y="437"/>
                        </a:lnTo>
                        <a:lnTo>
                          <a:pt x="101" y="236"/>
                        </a:lnTo>
                        <a:lnTo>
                          <a:pt x="6" y="127"/>
                        </a:lnTo>
                        <a:lnTo>
                          <a:pt x="6" y="127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393800" y="3980880"/>
                    <a:ext cx="35532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8" h="937">
                        <a:moveTo>
                          <a:pt x="415" y="800"/>
                        </a:moveTo>
                        <a:lnTo>
                          <a:pt x="458" y="773"/>
                        </a:lnTo>
                        <a:lnTo>
                          <a:pt x="506" y="737"/>
                        </a:lnTo>
                        <a:lnTo>
                          <a:pt x="534" y="713"/>
                        </a:lnTo>
                        <a:lnTo>
                          <a:pt x="565" y="686"/>
                        </a:lnTo>
                        <a:lnTo>
                          <a:pt x="629" y="618"/>
                        </a:lnTo>
                        <a:lnTo>
                          <a:pt x="662" y="578"/>
                        </a:lnTo>
                        <a:lnTo>
                          <a:pt x="696" y="532"/>
                        </a:lnTo>
                        <a:lnTo>
                          <a:pt x="728" y="483"/>
                        </a:lnTo>
                        <a:lnTo>
                          <a:pt x="759" y="427"/>
                        </a:lnTo>
                        <a:lnTo>
                          <a:pt x="814" y="304"/>
                        </a:lnTo>
                        <a:lnTo>
                          <a:pt x="848" y="249"/>
                        </a:lnTo>
                        <a:lnTo>
                          <a:pt x="879" y="199"/>
                        </a:lnTo>
                        <a:lnTo>
                          <a:pt x="907" y="158"/>
                        </a:lnTo>
                        <a:lnTo>
                          <a:pt x="934" y="123"/>
                        </a:lnTo>
                        <a:lnTo>
                          <a:pt x="981" y="70"/>
                        </a:lnTo>
                        <a:lnTo>
                          <a:pt x="1017" y="36"/>
                        </a:lnTo>
                        <a:lnTo>
                          <a:pt x="1074" y="7"/>
                        </a:lnTo>
                        <a:lnTo>
                          <a:pt x="1110" y="0"/>
                        </a:lnTo>
                        <a:lnTo>
                          <a:pt x="1192" y="9"/>
                        </a:lnTo>
                        <a:lnTo>
                          <a:pt x="1244" y="44"/>
                        </a:lnTo>
                        <a:lnTo>
                          <a:pt x="1297" y="106"/>
                        </a:lnTo>
                        <a:lnTo>
                          <a:pt x="1339" y="226"/>
                        </a:lnTo>
                        <a:lnTo>
                          <a:pt x="1333" y="264"/>
                        </a:lnTo>
                        <a:lnTo>
                          <a:pt x="1348" y="452"/>
                        </a:lnTo>
                        <a:lnTo>
                          <a:pt x="1293" y="502"/>
                        </a:lnTo>
                        <a:lnTo>
                          <a:pt x="1232" y="245"/>
                        </a:lnTo>
                        <a:lnTo>
                          <a:pt x="1040" y="209"/>
                        </a:lnTo>
                        <a:lnTo>
                          <a:pt x="939" y="304"/>
                        </a:lnTo>
                        <a:lnTo>
                          <a:pt x="793" y="523"/>
                        </a:lnTo>
                        <a:lnTo>
                          <a:pt x="717" y="851"/>
                        </a:lnTo>
                        <a:lnTo>
                          <a:pt x="744" y="906"/>
                        </a:lnTo>
                        <a:lnTo>
                          <a:pt x="430" y="937"/>
                        </a:lnTo>
                        <a:lnTo>
                          <a:pt x="0" y="912"/>
                        </a:lnTo>
                        <a:lnTo>
                          <a:pt x="415" y="800"/>
                        </a:lnTo>
                        <a:lnTo>
                          <a:pt x="415" y="80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4367520" y="3752640"/>
                    <a:ext cx="2858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6" h="606">
                        <a:moveTo>
                          <a:pt x="0" y="393"/>
                        </a:moveTo>
                        <a:lnTo>
                          <a:pt x="187" y="25"/>
                        </a:lnTo>
                        <a:lnTo>
                          <a:pt x="358" y="0"/>
                        </a:lnTo>
                        <a:lnTo>
                          <a:pt x="1046" y="150"/>
                        </a:lnTo>
                        <a:lnTo>
                          <a:pt x="1086" y="287"/>
                        </a:lnTo>
                        <a:lnTo>
                          <a:pt x="1016" y="565"/>
                        </a:lnTo>
                        <a:lnTo>
                          <a:pt x="940" y="606"/>
                        </a:lnTo>
                        <a:lnTo>
                          <a:pt x="223" y="570"/>
                        </a:lnTo>
                        <a:lnTo>
                          <a:pt x="19" y="475"/>
                        </a:lnTo>
                        <a:lnTo>
                          <a:pt x="0" y="393"/>
                        </a:lnTo>
                        <a:lnTo>
                          <a:pt x="0" y="393"/>
                        </a:lnTo>
                        <a:close/>
                      </a:path>
                    </a:pathLst>
                  </a:custGeom>
                  <a:solidFill>
                    <a:srgbClr val="a0e5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4409280" y="3773160"/>
                    <a:ext cx="2210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498">
                        <a:moveTo>
                          <a:pt x="590" y="0"/>
                        </a:moveTo>
                        <a:lnTo>
                          <a:pt x="576" y="19"/>
                        </a:lnTo>
                        <a:lnTo>
                          <a:pt x="538" y="68"/>
                        </a:lnTo>
                        <a:lnTo>
                          <a:pt x="481" y="139"/>
                        </a:lnTo>
                        <a:lnTo>
                          <a:pt x="447" y="179"/>
                        </a:lnTo>
                        <a:lnTo>
                          <a:pt x="409" y="220"/>
                        </a:lnTo>
                        <a:lnTo>
                          <a:pt x="369" y="262"/>
                        </a:lnTo>
                        <a:lnTo>
                          <a:pt x="325" y="304"/>
                        </a:lnTo>
                        <a:lnTo>
                          <a:pt x="282" y="344"/>
                        </a:lnTo>
                        <a:lnTo>
                          <a:pt x="238" y="380"/>
                        </a:lnTo>
                        <a:lnTo>
                          <a:pt x="194" y="411"/>
                        </a:lnTo>
                        <a:lnTo>
                          <a:pt x="148" y="437"/>
                        </a:lnTo>
                        <a:lnTo>
                          <a:pt x="65" y="468"/>
                        </a:lnTo>
                        <a:lnTo>
                          <a:pt x="0" y="485"/>
                        </a:lnTo>
                        <a:lnTo>
                          <a:pt x="67" y="494"/>
                        </a:lnTo>
                        <a:lnTo>
                          <a:pt x="232" y="498"/>
                        </a:lnTo>
                        <a:lnTo>
                          <a:pt x="331" y="462"/>
                        </a:lnTo>
                        <a:lnTo>
                          <a:pt x="430" y="416"/>
                        </a:lnTo>
                        <a:lnTo>
                          <a:pt x="487" y="392"/>
                        </a:lnTo>
                        <a:lnTo>
                          <a:pt x="544" y="361"/>
                        </a:lnTo>
                        <a:lnTo>
                          <a:pt x="601" y="329"/>
                        </a:lnTo>
                        <a:lnTo>
                          <a:pt x="656" y="295"/>
                        </a:lnTo>
                        <a:lnTo>
                          <a:pt x="707" y="258"/>
                        </a:lnTo>
                        <a:lnTo>
                          <a:pt x="753" y="222"/>
                        </a:lnTo>
                        <a:lnTo>
                          <a:pt x="820" y="144"/>
                        </a:lnTo>
                        <a:lnTo>
                          <a:pt x="839" y="65"/>
                        </a:lnTo>
                        <a:lnTo>
                          <a:pt x="590" y="0"/>
                        </a:lnTo>
                        <a:lnTo>
                          <a:pt x="59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203000" y="3980520"/>
                    <a:ext cx="651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276">
                        <a:moveTo>
                          <a:pt x="0" y="192"/>
                        </a:moveTo>
                        <a:lnTo>
                          <a:pt x="80" y="184"/>
                        </a:lnTo>
                        <a:lnTo>
                          <a:pt x="161" y="129"/>
                        </a:lnTo>
                        <a:lnTo>
                          <a:pt x="205" y="76"/>
                        </a:lnTo>
                        <a:lnTo>
                          <a:pt x="249" y="0"/>
                        </a:lnTo>
                        <a:lnTo>
                          <a:pt x="222" y="209"/>
                        </a:lnTo>
                        <a:lnTo>
                          <a:pt x="112" y="276"/>
                        </a:lnTo>
                        <a:lnTo>
                          <a:pt x="0" y="192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4577400" y="4025160"/>
                    <a:ext cx="156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5" h="928">
                        <a:moveTo>
                          <a:pt x="0" y="726"/>
                        </a:moveTo>
                        <a:lnTo>
                          <a:pt x="23" y="774"/>
                        </a:lnTo>
                        <a:lnTo>
                          <a:pt x="49" y="817"/>
                        </a:lnTo>
                        <a:lnTo>
                          <a:pt x="86" y="865"/>
                        </a:lnTo>
                        <a:lnTo>
                          <a:pt x="106" y="886"/>
                        </a:lnTo>
                        <a:lnTo>
                          <a:pt x="131" y="905"/>
                        </a:lnTo>
                        <a:lnTo>
                          <a:pt x="183" y="928"/>
                        </a:lnTo>
                        <a:lnTo>
                          <a:pt x="241" y="926"/>
                        </a:lnTo>
                        <a:lnTo>
                          <a:pt x="306" y="888"/>
                        </a:lnTo>
                        <a:lnTo>
                          <a:pt x="338" y="857"/>
                        </a:lnTo>
                        <a:lnTo>
                          <a:pt x="369" y="825"/>
                        </a:lnTo>
                        <a:lnTo>
                          <a:pt x="424" y="760"/>
                        </a:lnTo>
                        <a:lnTo>
                          <a:pt x="472" y="698"/>
                        </a:lnTo>
                        <a:lnTo>
                          <a:pt x="510" y="639"/>
                        </a:lnTo>
                        <a:lnTo>
                          <a:pt x="538" y="586"/>
                        </a:lnTo>
                        <a:lnTo>
                          <a:pt x="559" y="544"/>
                        </a:lnTo>
                        <a:lnTo>
                          <a:pt x="576" y="508"/>
                        </a:lnTo>
                        <a:lnTo>
                          <a:pt x="595" y="169"/>
                        </a:lnTo>
                        <a:lnTo>
                          <a:pt x="511" y="25"/>
                        </a:lnTo>
                        <a:lnTo>
                          <a:pt x="335" y="0"/>
                        </a:lnTo>
                        <a:lnTo>
                          <a:pt x="127" y="300"/>
                        </a:lnTo>
                        <a:lnTo>
                          <a:pt x="116" y="335"/>
                        </a:lnTo>
                        <a:lnTo>
                          <a:pt x="91" y="413"/>
                        </a:lnTo>
                        <a:lnTo>
                          <a:pt x="61" y="509"/>
                        </a:lnTo>
                        <a:lnTo>
                          <a:pt x="42" y="595"/>
                        </a:lnTo>
                        <a:lnTo>
                          <a:pt x="15" y="694"/>
                        </a:lnTo>
                        <a:lnTo>
                          <a:pt x="0" y="726"/>
                        </a:lnTo>
                        <a:lnTo>
                          <a:pt x="0" y="726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4639680" y="4086360"/>
                    <a:ext cx="622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469">
                        <a:moveTo>
                          <a:pt x="156" y="0"/>
                        </a:moveTo>
                        <a:lnTo>
                          <a:pt x="57" y="80"/>
                        </a:lnTo>
                        <a:lnTo>
                          <a:pt x="2" y="382"/>
                        </a:lnTo>
                        <a:lnTo>
                          <a:pt x="0" y="367"/>
                        </a:lnTo>
                        <a:lnTo>
                          <a:pt x="15" y="439"/>
                        </a:lnTo>
                        <a:lnTo>
                          <a:pt x="30" y="468"/>
                        </a:lnTo>
                        <a:lnTo>
                          <a:pt x="49" y="469"/>
                        </a:lnTo>
                        <a:lnTo>
                          <a:pt x="102" y="420"/>
                        </a:lnTo>
                        <a:lnTo>
                          <a:pt x="150" y="350"/>
                        </a:lnTo>
                        <a:lnTo>
                          <a:pt x="171" y="314"/>
                        </a:lnTo>
                        <a:lnTo>
                          <a:pt x="184" y="279"/>
                        </a:lnTo>
                        <a:lnTo>
                          <a:pt x="209" y="201"/>
                        </a:lnTo>
                        <a:lnTo>
                          <a:pt x="236" y="47"/>
                        </a:lnTo>
                        <a:lnTo>
                          <a:pt x="215" y="17"/>
                        </a:lnTo>
                        <a:lnTo>
                          <a:pt x="188" y="4"/>
                        </a:lnTo>
                        <a:lnTo>
                          <a:pt x="156" y="0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1c40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464000" y="4043520"/>
                    <a:ext cx="1036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4" h="327">
                        <a:moveTo>
                          <a:pt x="0" y="183"/>
                        </a:moveTo>
                        <a:lnTo>
                          <a:pt x="36" y="202"/>
                        </a:lnTo>
                        <a:lnTo>
                          <a:pt x="130" y="217"/>
                        </a:lnTo>
                        <a:lnTo>
                          <a:pt x="257" y="170"/>
                        </a:lnTo>
                        <a:lnTo>
                          <a:pt x="291" y="141"/>
                        </a:lnTo>
                        <a:lnTo>
                          <a:pt x="325" y="105"/>
                        </a:lnTo>
                        <a:lnTo>
                          <a:pt x="360" y="57"/>
                        </a:lnTo>
                        <a:lnTo>
                          <a:pt x="394" y="0"/>
                        </a:lnTo>
                        <a:lnTo>
                          <a:pt x="392" y="107"/>
                        </a:lnTo>
                        <a:lnTo>
                          <a:pt x="381" y="154"/>
                        </a:lnTo>
                        <a:lnTo>
                          <a:pt x="360" y="202"/>
                        </a:lnTo>
                        <a:lnTo>
                          <a:pt x="327" y="248"/>
                        </a:lnTo>
                        <a:lnTo>
                          <a:pt x="305" y="268"/>
                        </a:lnTo>
                        <a:lnTo>
                          <a:pt x="280" y="287"/>
                        </a:lnTo>
                        <a:lnTo>
                          <a:pt x="227" y="316"/>
                        </a:lnTo>
                        <a:lnTo>
                          <a:pt x="179" y="327"/>
                        </a:lnTo>
                        <a:lnTo>
                          <a:pt x="99" y="316"/>
                        </a:lnTo>
                        <a:lnTo>
                          <a:pt x="46" y="287"/>
                        </a:lnTo>
                        <a:lnTo>
                          <a:pt x="29" y="270"/>
                        </a:lnTo>
                        <a:lnTo>
                          <a:pt x="0" y="183"/>
                        </a:lnTo>
                        <a:lnTo>
                          <a:pt x="0" y="183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4433760" y="3787560"/>
                    <a:ext cx="2599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85" h="506">
                        <a:moveTo>
                          <a:pt x="0" y="434"/>
                        </a:moveTo>
                        <a:lnTo>
                          <a:pt x="86" y="416"/>
                        </a:lnTo>
                        <a:lnTo>
                          <a:pt x="282" y="365"/>
                        </a:lnTo>
                        <a:lnTo>
                          <a:pt x="390" y="329"/>
                        </a:lnTo>
                        <a:lnTo>
                          <a:pt x="489" y="283"/>
                        </a:lnTo>
                        <a:lnTo>
                          <a:pt x="567" y="232"/>
                        </a:lnTo>
                        <a:lnTo>
                          <a:pt x="612" y="173"/>
                        </a:lnTo>
                        <a:lnTo>
                          <a:pt x="688" y="0"/>
                        </a:lnTo>
                        <a:lnTo>
                          <a:pt x="823" y="0"/>
                        </a:lnTo>
                        <a:lnTo>
                          <a:pt x="985" y="23"/>
                        </a:lnTo>
                        <a:lnTo>
                          <a:pt x="949" y="69"/>
                        </a:lnTo>
                        <a:lnTo>
                          <a:pt x="911" y="116"/>
                        </a:lnTo>
                        <a:lnTo>
                          <a:pt x="871" y="173"/>
                        </a:lnTo>
                        <a:lnTo>
                          <a:pt x="829" y="234"/>
                        </a:lnTo>
                        <a:lnTo>
                          <a:pt x="793" y="293"/>
                        </a:lnTo>
                        <a:lnTo>
                          <a:pt x="763" y="380"/>
                        </a:lnTo>
                        <a:lnTo>
                          <a:pt x="759" y="472"/>
                        </a:lnTo>
                        <a:lnTo>
                          <a:pt x="747" y="506"/>
                        </a:lnTo>
                        <a:lnTo>
                          <a:pt x="531" y="468"/>
                        </a:lnTo>
                        <a:lnTo>
                          <a:pt x="0" y="434"/>
                        </a:lnTo>
                        <a:lnTo>
                          <a:pt x="0" y="434"/>
                        </a:lnTo>
                        <a:close/>
                      </a:path>
                    </a:pathLst>
                  </a:custGeom>
                  <a:solidFill>
                    <a:srgbClr val="8aa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548240" y="3852000"/>
                    <a:ext cx="968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293">
                        <a:moveTo>
                          <a:pt x="0" y="223"/>
                        </a:moveTo>
                        <a:lnTo>
                          <a:pt x="42" y="208"/>
                        </a:lnTo>
                        <a:lnTo>
                          <a:pt x="142" y="166"/>
                        </a:lnTo>
                        <a:lnTo>
                          <a:pt x="203" y="133"/>
                        </a:lnTo>
                        <a:lnTo>
                          <a:pt x="264" y="95"/>
                        </a:lnTo>
                        <a:lnTo>
                          <a:pt x="321" y="52"/>
                        </a:lnTo>
                        <a:lnTo>
                          <a:pt x="369" y="0"/>
                        </a:lnTo>
                        <a:lnTo>
                          <a:pt x="319" y="227"/>
                        </a:lnTo>
                        <a:lnTo>
                          <a:pt x="340" y="293"/>
                        </a:lnTo>
                        <a:lnTo>
                          <a:pt x="302" y="278"/>
                        </a:lnTo>
                        <a:lnTo>
                          <a:pt x="209" y="246"/>
                        </a:lnTo>
                        <a:lnTo>
                          <a:pt x="97" y="221"/>
                        </a:lnTo>
                        <a:lnTo>
                          <a:pt x="0" y="223"/>
                        </a:lnTo>
                        <a:lnTo>
                          <a:pt x="0" y="223"/>
                        </a:lnTo>
                        <a:close/>
                      </a:path>
                    </a:pathLst>
                  </a:custGeom>
                  <a:solidFill>
                    <a:srgbClr val="b8b8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361760" y="3686400"/>
                    <a:ext cx="33372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7" h="770">
                        <a:moveTo>
                          <a:pt x="232" y="320"/>
                        </a:moveTo>
                        <a:lnTo>
                          <a:pt x="337" y="302"/>
                        </a:lnTo>
                        <a:lnTo>
                          <a:pt x="559" y="314"/>
                        </a:lnTo>
                        <a:lnTo>
                          <a:pt x="843" y="371"/>
                        </a:lnTo>
                        <a:lnTo>
                          <a:pt x="991" y="424"/>
                        </a:lnTo>
                        <a:lnTo>
                          <a:pt x="1065" y="456"/>
                        </a:lnTo>
                        <a:lnTo>
                          <a:pt x="1136" y="494"/>
                        </a:lnTo>
                        <a:lnTo>
                          <a:pt x="1185" y="494"/>
                        </a:lnTo>
                        <a:lnTo>
                          <a:pt x="1242" y="462"/>
                        </a:lnTo>
                        <a:lnTo>
                          <a:pt x="1267" y="422"/>
                        </a:lnTo>
                        <a:lnTo>
                          <a:pt x="1259" y="405"/>
                        </a:lnTo>
                        <a:lnTo>
                          <a:pt x="1229" y="394"/>
                        </a:lnTo>
                        <a:lnTo>
                          <a:pt x="1122" y="373"/>
                        </a:lnTo>
                        <a:lnTo>
                          <a:pt x="953" y="335"/>
                        </a:lnTo>
                        <a:lnTo>
                          <a:pt x="835" y="310"/>
                        </a:lnTo>
                        <a:lnTo>
                          <a:pt x="691" y="283"/>
                        </a:lnTo>
                        <a:lnTo>
                          <a:pt x="516" y="255"/>
                        </a:lnTo>
                        <a:lnTo>
                          <a:pt x="307" y="225"/>
                        </a:lnTo>
                        <a:lnTo>
                          <a:pt x="293" y="211"/>
                        </a:lnTo>
                        <a:lnTo>
                          <a:pt x="322" y="190"/>
                        </a:lnTo>
                        <a:lnTo>
                          <a:pt x="383" y="162"/>
                        </a:lnTo>
                        <a:lnTo>
                          <a:pt x="462" y="129"/>
                        </a:lnTo>
                        <a:lnTo>
                          <a:pt x="554" y="97"/>
                        </a:lnTo>
                        <a:lnTo>
                          <a:pt x="641" y="69"/>
                        </a:lnTo>
                        <a:lnTo>
                          <a:pt x="769" y="38"/>
                        </a:lnTo>
                        <a:lnTo>
                          <a:pt x="839" y="15"/>
                        </a:lnTo>
                        <a:lnTo>
                          <a:pt x="837" y="0"/>
                        </a:lnTo>
                        <a:lnTo>
                          <a:pt x="628" y="38"/>
                        </a:lnTo>
                        <a:lnTo>
                          <a:pt x="531" y="67"/>
                        </a:lnTo>
                        <a:lnTo>
                          <a:pt x="424" y="103"/>
                        </a:lnTo>
                        <a:lnTo>
                          <a:pt x="314" y="152"/>
                        </a:lnTo>
                        <a:lnTo>
                          <a:pt x="261" y="181"/>
                        </a:lnTo>
                        <a:lnTo>
                          <a:pt x="208" y="213"/>
                        </a:lnTo>
                        <a:lnTo>
                          <a:pt x="181" y="247"/>
                        </a:lnTo>
                        <a:lnTo>
                          <a:pt x="153" y="289"/>
                        </a:lnTo>
                        <a:lnTo>
                          <a:pt x="120" y="342"/>
                        </a:lnTo>
                        <a:lnTo>
                          <a:pt x="84" y="407"/>
                        </a:lnTo>
                        <a:lnTo>
                          <a:pt x="52" y="481"/>
                        </a:lnTo>
                        <a:lnTo>
                          <a:pt x="0" y="648"/>
                        </a:lnTo>
                        <a:lnTo>
                          <a:pt x="0" y="770"/>
                        </a:lnTo>
                        <a:lnTo>
                          <a:pt x="48" y="696"/>
                        </a:lnTo>
                        <a:lnTo>
                          <a:pt x="54" y="643"/>
                        </a:lnTo>
                        <a:lnTo>
                          <a:pt x="71" y="601"/>
                        </a:lnTo>
                        <a:lnTo>
                          <a:pt x="116" y="506"/>
                        </a:lnTo>
                        <a:lnTo>
                          <a:pt x="145" y="451"/>
                        </a:lnTo>
                        <a:lnTo>
                          <a:pt x="173" y="397"/>
                        </a:lnTo>
                        <a:lnTo>
                          <a:pt x="204" y="352"/>
                        </a:lnTo>
                        <a:lnTo>
                          <a:pt x="232" y="320"/>
                        </a:lnTo>
                        <a:lnTo>
                          <a:pt x="232" y="3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426200" y="3909240"/>
                    <a:ext cx="22356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614">
                        <a:moveTo>
                          <a:pt x="741" y="0"/>
                        </a:moveTo>
                        <a:lnTo>
                          <a:pt x="848" y="32"/>
                        </a:lnTo>
                        <a:lnTo>
                          <a:pt x="760" y="65"/>
                        </a:lnTo>
                        <a:lnTo>
                          <a:pt x="663" y="105"/>
                        </a:lnTo>
                        <a:lnTo>
                          <a:pt x="606" y="131"/>
                        </a:lnTo>
                        <a:lnTo>
                          <a:pt x="544" y="163"/>
                        </a:lnTo>
                        <a:lnTo>
                          <a:pt x="477" y="200"/>
                        </a:lnTo>
                        <a:lnTo>
                          <a:pt x="407" y="243"/>
                        </a:lnTo>
                        <a:lnTo>
                          <a:pt x="336" y="291"/>
                        </a:lnTo>
                        <a:lnTo>
                          <a:pt x="300" y="316"/>
                        </a:lnTo>
                        <a:lnTo>
                          <a:pt x="266" y="344"/>
                        </a:lnTo>
                        <a:lnTo>
                          <a:pt x="230" y="373"/>
                        </a:lnTo>
                        <a:lnTo>
                          <a:pt x="196" y="403"/>
                        </a:lnTo>
                        <a:lnTo>
                          <a:pt x="161" y="433"/>
                        </a:lnTo>
                        <a:lnTo>
                          <a:pt x="127" y="468"/>
                        </a:lnTo>
                        <a:lnTo>
                          <a:pt x="61" y="538"/>
                        </a:lnTo>
                        <a:lnTo>
                          <a:pt x="0" y="614"/>
                        </a:lnTo>
                        <a:lnTo>
                          <a:pt x="0" y="584"/>
                        </a:lnTo>
                        <a:lnTo>
                          <a:pt x="34" y="519"/>
                        </a:lnTo>
                        <a:lnTo>
                          <a:pt x="61" y="477"/>
                        </a:lnTo>
                        <a:lnTo>
                          <a:pt x="95" y="431"/>
                        </a:lnTo>
                        <a:lnTo>
                          <a:pt x="137" y="382"/>
                        </a:lnTo>
                        <a:lnTo>
                          <a:pt x="186" y="331"/>
                        </a:lnTo>
                        <a:lnTo>
                          <a:pt x="215" y="304"/>
                        </a:lnTo>
                        <a:lnTo>
                          <a:pt x="243" y="277"/>
                        </a:lnTo>
                        <a:lnTo>
                          <a:pt x="275" y="249"/>
                        </a:lnTo>
                        <a:lnTo>
                          <a:pt x="310" y="222"/>
                        </a:lnTo>
                        <a:lnTo>
                          <a:pt x="346" y="196"/>
                        </a:lnTo>
                        <a:lnTo>
                          <a:pt x="386" y="169"/>
                        </a:lnTo>
                        <a:lnTo>
                          <a:pt x="426" y="143"/>
                        </a:lnTo>
                        <a:lnTo>
                          <a:pt x="469" y="118"/>
                        </a:lnTo>
                        <a:lnTo>
                          <a:pt x="515" y="93"/>
                        </a:lnTo>
                        <a:lnTo>
                          <a:pt x="564" y="68"/>
                        </a:lnTo>
                        <a:lnTo>
                          <a:pt x="614" y="44"/>
                        </a:lnTo>
                        <a:lnTo>
                          <a:pt x="667" y="23"/>
                        </a:lnTo>
                        <a:lnTo>
                          <a:pt x="741" y="0"/>
                        </a:lnTo>
                        <a:lnTo>
                          <a:pt x="74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4602240" y="3751560"/>
                    <a:ext cx="20232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1">
                        <a:moveTo>
                          <a:pt x="74" y="599"/>
                        </a:moveTo>
                        <a:lnTo>
                          <a:pt x="88" y="536"/>
                        </a:lnTo>
                        <a:lnTo>
                          <a:pt x="110" y="466"/>
                        </a:lnTo>
                        <a:lnTo>
                          <a:pt x="147" y="382"/>
                        </a:lnTo>
                        <a:lnTo>
                          <a:pt x="171" y="339"/>
                        </a:lnTo>
                        <a:lnTo>
                          <a:pt x="200" y="293"/>
                        </a:lnTo>
                        <a:lnTo>
                          <a:pt x="236" y="247"/>
                        </a:lnTo>
                        <a:lnTo>
                          <a:pt x="278" y="206"/>
                        </a:lnTo>
                        <a:lnTo>
                          <a:pt x="325" y="164"/>
                        </a:lnTo>
                        <a:lnTo>
                          <a:pt x="379" y="126"/>
                        </a:lnTo>
                        <a:lnTo>
                          <a:pt x="441" y="93"/>
                        </a:lnTo>
                        <a:lnTo>
                          <a:pt x="510" y="65"/>
                        </a:lnTo>
                        <a:lnTo>
                          <a:pt x="610" y="31"/>
                        </a:lnTo>
                        <a:lnTo>
                          <a:pt x="685" y="6"/>
                        </a:lnTo>
                        <a:lnTo>
                          <a:pt x="768" y="0"/>
                        </a:lnTo>
                        <a:lnTo>
                          <a:pt x="740" y="59"/>
                        </a:lnTo>
                        <a:lnTo>
                          <a:pt x="645" y="67"/>
                        </a:lnTo>
                        <a:lnTo>
                          <a:pt x="561" y="103"/>
                        </a:lnTo>
                        <a:lnTo>
                          <a:pt x="458" y="148"/>
                        </a:lnTo>
                        <a:lnTo>
                          <a:pt x="392" y="188"/>
                        </a:lnTo>
                        <a:lnTo>
                          <a:pt x="323" y="232"/>
                        </a:lnTo>
                        <a:lnTo>
                          <a:pt x="253" y="308"/>
                        </a:lnTo>
                        <a:lnTo>
                          <a:pt x="209" y="371"/>
                        </a:lnTo>
                        <a:lnTo>
                          <a:pt x="171" y="451"/>
                        </a:lnTo>
                        <a:lnTo>
                          <a:pt x="154" y="536"/>
                        </a:lnTo>
                        <a:lnTo>
                          <a:pt x="166" y="595"/>
                        </a:lnTo>
                        <a:lnTo>
                          <a:pt x="181" y="631"/>
                        </a:lnTo>
                        <a:lnTo>
                          <a:pt x="0" y="622"/>
                        </a:lnTo>
                        <a:lnTo>
                          <a:pt x="74" y="599"/>
                        </a:lnTo>
                        <a:lnTo>
                          <a:pt x="74" y="5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4556160" y="3686040"/>
                    <a:ext cx="3589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1" h="671">
                        <a:moveTo>
                          <a:pt x="126" y="29"/>
                        </a:moveTo>
                        <a:lnTo>
                          <a:pt x="280" y="23"/>
                        </a:lnTo>
                        <a:lnTo>
                          <a:pt x="639" y="65"/>
                        </a:lnTo>
                        <a:lnTo>
                          <a:pt x="742" y="95"/>
                        </a:lnTo>
                        <a:lnTo>
                          <a:pt x="846" y="135"/>
                        </a:lnTo>
                        <a:lnTo>
                          <a:pt x="949" y="187"/>
                        </a:lnTo>
                        <a:lnTo>
                          <a:pt x="1000" y="217"/>
                        </a:lnTo>
                        <a:lnTo>
                          <a:pt x="1050" y="251"/>
                        </a:lnTo>
                        <a:lnTo>
                          <a:pt x="1097" y="287"/>
                        </a:lnTo>
                        <a:lnTo>
                          <a:pt x="1143" y="329"/>
                        </a:lnTo>
                        <a:lnTo>
                          <a:pt x="1187" y="375"/>
                        </a:lnTo>
                        <a:lnTo>
                          <a:pt x="1226" y="426"/>
                        </a:lnTo>
                        <a:lnTo>
                          <a:pt x="1264" y="479"/>
                        </a:lnTo>
                        <a:lnTo>
                          <a:pt x="1301" y="538"/>
                        </a:lnTo>
                        <a:lnTo>
                          <a:pt x="1333" y="603"/>
                        </a:lnTo>
                        <a:lnTo>
                          <a:pt x="1361" y="671"/>
                        </a:lnTo>
                        <a:lnTo>
                          <a:pt x="1356" y="591"/>
                        </a:lnTo>
                        <a:lnTo>
                          <a:pt x="1337" y="508"/>
                        </a:lnTo>
                        <a:lnTo>
                          <a:pt x="1320" y="460"/>
                        </a:lnTo>
                        <a:lnTo>
                          <a:pt x="1295" y="409"/>
                        </a:lnTo>
                        <a:lnTo>
                          <a:pt x="1261" y="356"/>
                        </a:lnTo>
                        <a:lnTo>
                          <a:pt x="1219" y="303"/>
                        </a:lnTo>
                        <a:lnTo>
                          <a:pt x="1194" y="276"/>
                        </a:lnTo>
                        <a:lnTo>
                          <a:pt x="1168" y="251"/>
                        </a:lnTo>
                        <a:lnTo>
                          <a:pt x="1137" y="225"/>
                        </a:lnTo>
                        <a:lnTo>
                          <a:pt x="1103" y="200"/>
                        </a:lnTo>
                        <a:lnTo>
                          <a:pt x="1069" y="177"/>
                        </a:lnTo>
                        <a:lnTo>
                          <a:pt x="1029" y="154"/>
                        </a:lnTo>
                        <a:lnTo>
                          <a:pt x="985" y="133"/>
                        </a:lnTo>
                        <a:lnTo>
                          <a:pt x="939" y="112"/>
                        </a:lnTo>
                        <a:lnTo>
                          <a:pt x="835" y="78"/>
                        </a:lnTo>
                        <a:lnTo>
                          <a:pt x="715" y="50"/>
                        </a:lnTo>
                        <a:lnTo>
                          <a:pt x="652" y="40"/>
                        </a:lnTo>
                        <a:lnTo>
                          <a:pt x="498" y="19"/>
                        </a:lnTo>
                        <a:lnTo>
                          <a:pt x="299" y="0"/>
                        </a:lnTo>
                        <a:lnTo>
                          <a:pt x="99" y="2"/>
                        </a:lnTo>
                        <a:lnTo>
                          <a:pt x="0" y="16"/>
                        </a:lnTo>
                        <a:lnTo>
                          <a:pt x="21" y="23"/>
                        </a:lnTo>
                        <a:lnTo>
                          <a:pt x="126" y="29"/>
                        </a:lnTo>
                        <a:lnTo>
                          <a:pt x="126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4902480" y="3832200"/>
                    <a:ext cx="8172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595">
                        <a:moveTo>
                          <a:pt x="0" y="0"/>
                        </a:moveTo>
                        <a:lnTo>
                          <a:pt x="25" y="59"/>
                        </a:lnTo>
                        <a:lnTo>
                          <a:pt x="49" y="122"/>
                        </a:lnTo>
                        <a:lnTo>
                          <a:pt x="78" y="198"/>
                        </a:lnTo>
                        <a:lnTo>
                          <a:pt x="108" y="278"/>
                        </a:lnTo>
                        <a:lnTo>
                          <a:pt x="133" y="354"/>
                        </a:lnTo>
                        <a:lnTo>
                          <a:pt x="162" y="472"/>
                        </a:lnTo>
                        <a:lnTo>
                          <a:pt x="175" y="532"/>
                        </a:lnTo>
                        <a:lnTo>
                          <a:pt x="202" y="570"/>
                        </a:lnTo>
                        <a:lnTo>
                          <a:pt x="240" y="595"/>
                        </a:lnTo>
                        <a:lnTo>
                          <a:pt x="264" y="590"/>
                        </a:lnTo>
                        <a:lnTo>
                          <a:pt x="310" y="559"/>
                        </a:lnTo>
                        <a:lnTo>
                          <a:pt x="255" y="512"/>
                        </a:lnTo>
                        <a:lnTo>
                          <a:pt x="127" y="196"/>
                        </a:lnTo>
                        <a:lnTo>
                          <a:pt x="99" y="131"/>
                        </a:lnTo>
                        <a:lnTo>
                          <a:pt x="72" y="86"/>
                        </a:lnTo>
                        <a:lnTo>
                          <a:pt x="32" y="2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580640" y="3806280"/>
                    <a:ext cx="29628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6" h="523">
                        <a:moveTo>
                          <a:pt x="263" y="424"/>
                        </a:moveTo>
                        <a:lnTo>
                          <a:pt x="287" y="436"/>
                        </a:lnTo>
                        <a:lnTo>
                          <a:pt x="384" y="430"/>
                        </a:lnTo>
                        <a:lnTo>
                          <a:pt x="584" y="354"/>
                        </a:lnTo>
                        <a:lnTo>
                          <a:pt x="653" y="316"/>
                        </a:lnTo>
                        <a:lnTo>
                          <a:pt x="730" y="270"/>
                        </a:lnTo>
                        <a:lnTo>
                          <a:pt x="774" y="242"/>
                        </a:lnTo>
                        <a:lnTo>
                          <a:pt x="820" y="213"/>
                        </a:lnTo>
                        <a:lnTo>
                          <a:pt x="865" y="181"/>
                        </a:lnTo>
                        <a:lnTo>
                          <a:pt x="917" y="147"/>
                        </a:lnTo>
                        <a:lnTo>
                          <a:pt x="961" y="113"/>
                        </a:lnTo>
                        <a:lnTo>
                          <a:pt x="999" y="82"/>
                        </a:lnTo>
                        <a:lnTo>
                          <a:pt x="1046" y="25"/>
                        </a:lnTo>
                        <a:lnTo>
                          <a:pt x="1063" y="6"/>
                        </a:lnTo>
                        <a:lnTo>
                          <a:pt x="1077" y="0"/>
                        </a:lnTo>
                        <a:lnTo>
                          <a:pt x="1103" y="10"/>
                        </a:lnTo>
                        <a:lnTo>
                          <a:pt x="1126" y="48"/>
                        </a:lnTo>
                        <a:lnTo>
                          <a:pt x="1078" y="97"/>
                        </a:lnTo>
                        <a:lnTo>
                          <a:pt x="1052" y="122"/>
                        </a:lnTo>
                        <a:lnTo>
                          <a:pt x="1019" y="151"/>
                        </a:lnTo>
                        <a:lnTo>
                          <a:pt x="983" y="181"/>
                        </a:lnTo>
                        <a:lnTo>
                          <a:pt x="940" y="215"/>
                        </a:lnTo>
                        <a:lnTo>
                          <a:pt x="892" y="251"/>
                        </a:lnTo>
                        <a:lnTo>
                          <a:pt x="839" y="287"/>
                        </a:lnTo>
                        <a:lnTo>
                          <a:pt x="780" y="324"/>
                        </a:lnTo>
                        <a:lnTo>
                          <a:pt x="715" y="362"/>
                        </a:lnTo>
                        <a:lnTo>
                          <a:pt x="647" y="398"/>
                        </a:lnTo>
                        <a:lnTo>
                          <a:pt x="573" y="432"/>
                        </a:lnTo>
                        <a:lnTo>
                          <a:pt x="495" y="464"/>
                        </a:lnTo>
                        <a:lnTo>
                          <a:pt x="411" y="495"/>
                        </a:lnTo>
                        <a:lnTo>
                          <a:pt x="339" y="497"/>
                        </a:lnTo>
                        <a:lnTo>
                          <a:pt x="162" y="493"/>
                        </a:lnTo>
                        <a:lnTo>
                          <a:pt x="14" y="521"/>
                        </a:lnTo>
                        <a:lnTo>
                          <a:pt x="0" y="523"/>
                        </a:lnTo>
                        <a:lnTo>
                          <a:pt x="8" y="516"/>
                        </a:lnTo>
                        <a:lnTo>
                          <a:pt x="69" y="483"/>
                        </a:lnTo>
                        <a:lnTo>
                          <a:pt x="145" y="447"/>
                        </a:lnTo>
                        <a:lnTo>
                          <a:pt x="181" y="430"/>
                        </a:lnTo>
                        <a:lnTo>
                          <a:pt x="263" y="424"/>
                        </a:lnTo>
                        <a:lnTo>
                          <a:pt x="263" y="4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734720" y="3909960"/>
                    <a:ext cx="19800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1" h="848">
                        <a:moveTo>
                          <a:pt x="631" y="0"/>
                        </a:moveTo>
                        <a:lnTo>
                          <a:pt x="587" y="23"/>
                        </a:lnTo>
                        <a:lnTo>
                          <a:pt x="506" y="108"/>
                        </a:lnTo>
                        <a:lnTo>
                          <a:pt x="456" y="188"/>
                        </a:lnTo>
                        <a:lnTo>
                          <a:pt x="411" y="295"/>
                        </a:lnTo>
                        <a:lnTo>
                          <a:pt x="338" y="614"/>
                        </a:lnTo>
                        <a:lnTo>
                          <a:pt x="48" y="768"/>
                        </a:lnTo>
                        <a:lnTo>
                          <a:pt x="0" y="848"/>
                        </a:lnTo>
                        <a:lnTo>
                          <a:pt x="17" y="836"/>
                        </a:lnTo>
                        <a:lnTo>
                          <a:pt x="63" y="808"/>
                        </a:lnTo>
                        <a:lnTo>
                          <a:pt x="127" y="766"/>
                        </a:lnTo>
                        <a:lnTo>
                          <a:pt x="164" y="745"/>
                        </a:lnTo>
                        <a:lnTo>
                          <a:pt x="202" y="722"/>
                        </a:lnTo>
                        <a:lnTo>
                          <a:pt x="278" y="682"/>
                        </a:lnTo>
                        <a:lnTo>
                          <a:pt x="346" y="654"/>
                        </a:lnTo>
                        <a:lnTo>
                          <a:pt x="395" y="642"/>
                        </a:lnTo>
                        <a:lnTo>
                          <a:pt x="418" y="656"/>
                        </a:lnTo>
                        <a:lnTo>
                          <a:pt x="460" y="428"/>
                        </a:lnTo>
                        <a:lnTo>
                          <a:pt x="483" y="321"/>
                        </a:lnTo>
                        <a:lnTo>
                          <a:pt x="517" y="217"/>
                        </a:lnTo>
                        <a:lnTo>
                          <a:pt x="538" y="169"/>
                        </a:lnTo>
                        <a:lnTo>
                          <a:pt x="561" y="127"/>
                        </a:lnTo>
                        <a:lnTo>
                          <a:pt x="589" y="91"/>
                        </a:lnTo>
                        <a:lnTo>
                          <a:pt x="620" y="63"/>
                        </a:lnTo>
                        <a:lnTo>
                          <a:pt x="677" y="59"/>
                        </a:lnTo>
                        <a:lnTo>
                          <a:pt x="719" y="97"/>
                        </a:lnTo>
                        <a:lnTo>
                          <a:pt x="749" y="199"/>
                        </a:lnTo>
                        <a:lnTo>
                          <a:pt x="751" y="177"/>
                        </a:lnTo>
                        <a:lnTo>
                          <a:pt x="749" y="112"/>
                        </a:lnTo>
                        <a:lnTo>
                          <a:pt x="738" y="42"/>
                        </a:lnTo>
                        <a:lnTo>
                          <a:pt x="726" y="17"/>
                        </a:lnTo>
                        <a:lnTo>
                          <a:pt x="709" y="4"/>
                        </a:lnTo>
                        <a:lnTo>
                          <a:pt x="631" y="0"/>
                        </a:lnTo>
                        <a:lnTo>
                          <a:pt x="6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4781160" y="3751560"/>
                    <a:ext cx="9576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293">
                        <a:moveTo>
                          <a:pt x="34" y="63"/>
                        </a:moveTo>
                        <a:lnTo>
                          <a:pt x="118" y="72"/>
                        </a:lnTo>
                        <a:lnTo>
                          <a:pt x="209" y="116"/>
                        </a:lnTo>
                        <a:lnTo>
                          <a:pt x="276" y="190"/>
                        </a:lnTo>
                        <a:lnTo>
                          <a:pt x="291" y="293"/>
                        </a:lnTo>
                        <a:lnTo>
                          <a:pt x="365" y="255"/>
                        </a:lnTo>
                        <a:lnTo>
                          <a:pt x="344" y="217"/>
                        </a:lnTo>
                        <a:lnTo>
                          <a:pt x="317" y="177"/>
                        </a:lnTo>
                        <a:lnTo>
                          <a:pt x="283" y="131"/>
                        </a:lnTo>
                        <a:lnTo>
                          <a:pt x="243" y="86"/>
                        </a:lnTo>
                        <a:lnTo>
                          <a:pt x="220" y="65"/>
                        </a:lnTo>
                        <a:lnTo>
                          <a:pt x="196" y="44"/>
                        </a:lnTo>
                        <a:lnTo>
                          <a:pt x="144" y="15"/>
                        </a:lnTo>
                        <a:lnTo>
                          <a:pt x="89" y="0"/>
                        </a:lnTo>
                        <a:lnTo>
                          <a:pt x="68" y="12"/>
                        </a:lnTo>
                        <a:lnTo>
                          <a:pt x="25" y="36"/>
                        </a:lnTo>
                        <a:lnTo>
                          <a:pt x="0" y="57"/>
                        </a:lnTo>
                        <a:lnTo>
                          <a:pt x="34" y="63"/>
                        </a:lnTo>
                        <a:lnTo>
                          <a:pt x="34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4210200" y="3844800"/>
                    <a:ext cx="16380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393">
                        <a:moveTo>
                          <a:pt x="595" y="0"/>
                        </a:moveTo>
                        <a:lnTo>
                          <a:pt x="552" y="21"/>
                        </a:lnTo>
                        <a:lnTo>
                          <a:pt x="502" y="43"/>
                        </a:lnTo>
                        <a:lnTo>
                          <a:pt x="445" y="72"/>
                        </a:lnTo>
                        <a:lnTo>
                          <a:pt x="382" y="104"/>
                        </a:lnTo>
                        <a:lnTo>
                          <a:pt x="322" y="137"/>
                        </a:lnTo>
                        <a:lnTo>
                          <a:pt x="265" y="167"/>
                        </a:lnTo>
                        <a:lnTo>
                          <a:pt x="221" y="196"/>
                        </a:lnTo>
                        <a:lnTo>
                          <a:pt x="183" y="222"/>
                        </a:lnTo>
                        <a:lnTo>
                          <a:pt x="145" y="254"/>
                        </a:lnTo>
                        <a:lnTo>
                          <a:pt x="109" y="287"/>
                        </a:lnTo>
                        <a:lnTo>
                          <a:pt x="74" y="319"/>
                        </a:lnTo>
                        <a:lnTo>
                          <a:pt x="44" y="348"/>
                        </a:lnTo>
                        <a:lnTo>
                          <a:pt x="21" y="370"/>
                        </a:lnTo>
                        <a:lnTo>
                          <a:pt x="0" y="393"/>
                        </a:lnTo>
                        <a:lnTo>
                          <a:pt x="152" y="287"/>
                        </a:lnTo>
                        <a:lnTo>
                          <a:pt x="202" y="262"/>
                        </a:lnTo>
                        <a:lnTo>
                          <a:pt x="251" y="237"/>
                        </a:lnTo>
                        <a:lnTo>
                          <a:pt x="310" y="207"/>
                        </a:lnTo>
                        <a:lnTo>
                          <a:pt x="392" y="169"/>
                        </a:lnTo>
                        <a:lnTo>
                          <a:pt x="496" y="129"/>
                        </a:lnTo>
                        <a:lnTo>
                          <a:pt x="584" y="99"/>
                        </a:lnTo>
                        <a:lnTo>
                          <a:pt x="622" y="85"/>
                        </a:lnTo>
                        <a:lnTo>
                          <a:pt x="595" y="0"/>
                        </a:lnTo>
                        <a:lnTo>
                          <a:pt x="5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4611240" y="3929760"/>
                    <a:ext cx="14400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861">
                        <a:moveTo>
                          <a:pt x="322" y="108"/>
                        </a:moveTo>
                        <a:lnTo>
                          <a:pt x="383" y="160"/>
                        </a:lnTo>
                        <a:lnTo>
                          <a:pt x="428" y="215"/>
                        </a:lnTo>
                        <a:lnTo>
                          <a:pt x="480" y="336"/>
                        </a:lnTo>
                        <a:lnTo>
                          <a:pt x="495" y="468"/>
                        </a:lnTo>
                        <a:lnTo>
                          <a:pt x="497" y="612"/>
                        </a:lnTo>
                        <a:lnTo>
                          <a:pt x="472" y="726"/>
                        </a:lnTo>
                        <a:lnTo>
                          <a:pt x="451" y="810"/>
                        </a:lnTo>
                        <a:lnTo>
                          <a:pt x="434" y="861"/>
                        </a:lnTo>
                        <a:lnTo>
                          <a:pt x="443" y="853"/>
                        </a:lnTo>
                        <a:lnTo>
                          <a:pt x="483" y="804"/>
                        </a:lnTo>
                        <a:lnTo>
                          <a:pt x="527" y="751"/>
                        </a:lnTo>
                        <a:lnTo>
                          <a:pt x="548" y="724"/>
                        </a:lnTo>
                        <a:lnTo>
                          <a:pt x="527" y="591"/>
                        </a:lnTo>
                        <a:lnTo>
                          <a:pt x="537" y="393"/>
                        </a:lnTo>
                        <a:lnTo>
                          <a:pt x="529" y="306"/>
                        </a:lnTo>
                        <a:lnTo>
                          <a:pt x="510" y="239"/>
                        </a:lnTo>
                        <a:lnTo>
                          <a:pt x="476" y="173"/>
                        </a:lnTo>
                        <a:lnTo>
                          <a:pt x="451" y="133"/>
                        </a:lnTo>
                        <a:lnTo>
                          <a:pt x="421" y="95"/>
                        </a:lnTo>
                        <a:lnTo>
                          <a:pt x="384" y="59"/>
                        </a:lnTo>
                        <a:lnTo>
                          <a:pt x="341" y="28"/>
                        </a:lnTo>
                        <a:lnTo>
                          <a:pt x="289" y="9"/>
                        </a:lnTo>
                        <a:lnTo>
                          <a:pt x="230" y="2"/>
                        </a:lnTo>
                        <a:lnTo>
                          <a:pt x="0" y="0"/>
                        </a:lnTo>
                        <a:lnTo>
                          <a:pt x="27" y="8"/>
                        </a:lnTo>
                        <a:lnTo>
                          <a:pt x="177" y="34"/>
                        </a:lnTo>
                        <a:lnTo>
                          <a:pt x="280" y="80"/>
                        </a:lnTo>
                        <a:lnTo>
                          <a:pt x="322" y="108"/>
                        </a:lnTo>
                        <a:lnTo>
                          <a:pt x="322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4175640" y="4020480"/>
                    <a:ext cx="9216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517">
                        <a:moveTo>
                          <a:pt x="6" y="0"/>
                        </a:moveTo>
                        <a:lnTo>
                          <a:pt x="0" y="160"/>
                        </a:lnTo>
                        <a:lnTo>
                          <a:pt x="8" y="241"/>
                        </a:lnTo>
                        <a:lnTo>
                          <a:pt x="31" y="297"/>
                        </a:lnTo>
                        <a:lnTo>
                          <a:pt x="46" y="314"/>
                        </a:lnTo>
                        <a:lnTo>
                          <a:pt x="78" y="338"/>
                        </a:lnTo>
                        <a:lnTo>
                          <a:pt x="126" y="373"/>
                        </a:lnTo>
                        <a:lnTo>
                          <a:pt x="179" y="407"/>
                        </a:lnTo>
                        <a:lnTo>
                          <a:pt x="236" y="443"/>
                        </a:lnTo>
                        <a:lnTo>
                          <a:pt x="287" y="475"/>
                        </a:lnTo>
                        <a:lnTo>
                          <a:pt x="352" y="517"/>
                        </a:lnTo>
                        <a:lnTo>
                          <a:pt x="348" y="513"/>
                        </a:lnTo>
                        <a:lnTo>
                          <a:pt x="302" y="477"/>
                        </a:lnTo>
                        <a:lnTo>
                          <a:pt x="270" y="451"/>
                        </a:lnTo>
                        <a:lnTo>
                          <a:pt x="238" y="422"/>
                        </a:lnTo>
                        <a:lnTo>
                          <a:pt x="206" y="392"/>
                        </a:lnTo>
                        <a:lnTo>
                          <a:pt x="179" y="365"/>
                        </a:lnTo>
                        <a:lnTo>
                          <a:pt x="97" y="306"/>
                        </a:lnTo>
                        <a:lnTo>
                          <a:pt x="44" y="241"/>
                        </a:lnTo>
                        <a:lnTo>
                          <a:pt x="25" y="87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4562640" y="4014000"/>
                    <a:ext cx="17748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73" h="820">
                        <a:moveTo>
                          <a:pt x="101" y="517"/>
                        </a:moveTo>
                        <a:lnTo>
                          <a:pt x="127" y="436"/>
                        </a:lnTo>
                        <a:lnTo>
                          <a:pt x="160" y="354"/>
                        </a:lnTo>
                        <a:lnTo>
                          <a:pt x="201" y="261"/>
                        </a:lnTo>
                        <a:lnTo>
                          <a:pt x="228" y="211"/>
                        </a:lnTo>
                        <a:lnTo>
                          <a:pt x="255" y="166"/>
                        </a:lnTo>
                        <a:lnTo>
                          <a:pt x="285" y="122"/>
                        </a:lnTo>
                        <a:lnTo>
                          <a:pt x="315" y="82"/>
                        </a:lnTo>
                        <a:lnTo>
                          <a:pt x="350" y="50"/>
                        </a:lnTo>
                        <a:lnTo>
                          <a:pt x="386" y="23"/>
                        </a:lnTo>
                        <a:lnTo>
                          <a:pt x="422" y="6"/>
                        </a:lnTo>
                        <a:lnTo>
                          <a:pt x="462" y="0"/>
                        </a:lnTo>
                        <a:lnTo>
                          <a:pt x="576" y="23"/>
                        </a:lnTo>
                        <a:lnTo>
                          <a:pt x="654" y="126"/>
                        </a:lnTo>
                        <a:lnTo>
                          <a:pt x="671" y="221"/>
                        </a:lnTo>
                        <a:lnTo>
                          <a:pt x="673" y="274"/>
                        </a:lnTo>
                        <a:lnTo>
                          <a:pt x="671" y="325"/>
                        </a:lnTo>
                        <a:lnTo>
                          <a:pt x="658" y="447"/>
                        </a:lnTo>
                        <a:lnTo>
                          <a:pt x="622" y="474"/>
                        </a:lnTo>
                        <a:lnTo>
                          <a:pt x="633" y="259"/>
                        </a:lnTo>
                        <a:lnTo>
                          <a:pt x="620" y="181"/>
                        </a:lnTo>
                        <a:lnTo>
                          <a:pt x="587" y="116"/>
                        </a:lnTo>
                        <a:lnTo>
                          <a:pt x="563" y="90"/>
                        </a:lnTo>
                        <a:lnTo>
                          <a:pt x="532" y="72"/>
                        </a:lnTo>
                        <a:lnTo>
                          <a:pt x="450" y="61"/>
                        </a:lnTo>
                        <a:lnTo>
                          <a:pt x="350" y="131"/>
                        </a:lnTo>
                        <a:lnTo>
                          <a:pt x="302" y="185"/>
                        </a:lnTo>
                        <a:lnTo>
                          <a:pt x="253" y="259"/>
                        </a:lnTo>
                        <a:lnTo>
                          <a:pt x="226" y="302"/>
                        </a:lnTo>
                        <a:lnTo>
                          <a:pt x="199" y="354"/>
                        </a:lnTo>
                        <a:lnTo>
                          <a:pt x="150" y="477"/>
                        </a:lnTo>
                        <a:lnTo>
                          <a:pt x="144" y="766"/>
                        </a:lnTo>
                        <a:lnTo>
                          <a:pt x="133" y="789"/>
                        </a:lnTo>
                        <a:lnTo>
                          <a:pt x="84" y="806"/>
                        </a:lnTo>
                        <a:lnTo>
                          <a:pt x="0" y="820"/>
                        </a:lnTo>
                        <a:lnTo>
                          <a:pt x="101" y="517"/>
                        </a:lnTo>
                        <a:lnTo>
                          <a:pt x="101" y="5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4453920" y="4007880"/>
                    <a:ext cx="1249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4" h="499">
                        <a:moveTo>
                          <a:pt x="74" y="85"/>
                        </a:moveTo>
                        <a:lnTo>
                          <a:pt x="46" y="123"/>
                        </a:lnTo>
                        <a:lnTo>
                          <a:pt x="2" y="222"/>
                        </a:lnTo>
                        <a:lnTo>
                          <a:pt x="0" y="345"/>
                        </a:lnTo>
                        <a:lnTo>
                          <a:pt x="14" y="378"/>
                        </a:lnTo>
                        <a:lnTo>
                          <a:pt x="35" y="408"/>
                        </a:lnTo>
                        <a:lnTo>
                          <a:pt x="63" y="439"/>
                        </a:lnTo>
                        <a:lnTo>
                          <a:pt x="101" y="465"/>
                        </a:lnTo>
                        <a:lnTo>
                          <a:pt x="143" y="488"/>
                        </a:lnTo>
                        <a:lnTo>
                          <a:pt x="181" y="499"/>
                        </a:lnTo>
                        <a:lnTo>
                          <a:pt x="253" y="498"/>
                        </a:lnTo>
                        <a:lnTo>
                          <a:pt x="316" y="471"/>
                        </a:lnTo>
                        <a:lnTo>
                          <a:pt x="367" y="429"/>
                        </a:lnTo>
                        <a:lnTo>
                          <a:pt x="407" y="380"/>
                        </a:lnTo>
                        <a:lnTo>
                          <a:pt x="438" y="334"/>
                        </a:lnTo>
                        <a:lnTo>
                          <a:pt x="462" y="285"/>
                        </a:lnTo>
                        <a:lnTo>
                          <a:pt x="474" y="150"/>
                        </a:lnTo>
                        <a:lnTo>
                          <a:pt x="464" y="98"/>
                        </a:lnTo>
                        <a:lnTo>
                          <a:pt x="443" y="53"/>
                        </a:lnTo>
                        <a:lnTo>
                          <a:pt x="426" y="34"/>
                        </a:lnTo>
                        <a:lnTo>
                          <a:pt x="407" y="17"/>
                        </a:lnTo>
                        <a:lnTo>
                          <a:pt x="350" y="0"/>
                        </a:lnTo>
                        <a:lnTo>
                          <a:pt x="373" y="28"/>
                        </a:lnTo>
                        <a:lnTo>
                          <a:pt x="409" y="106"/>
                        </a:lnTo>
                        <a:lnTo>
                          <a:pt x="409" y="220"/>
                        </a:lnTo>
                        <a:lnTo>
                          <a:pt x="377" y="288"/>
                        </a:lnTo>
                        <a:lnTo>
                          <a:pt x="352" y="323"/>
                        </a:lnTo>
                        <a:lnTo>
                          <a:pt x="318" y="359"/>
                        </a:lnTo>
                        <a:lnTo>
                          <a:pt x="295" y="376"/>
                        </a:lnTo>
                        <a:lnTo>
                          <a:pt x="236" y="403"/>
                        </a:lnTo>
                        <a:lnTo>
                          <a:pt x="160" y="403"/>
                        </a:lnTo>
                        <a:lnTo>
                          <a:pt x="80" y="338"/>
                        </a:lnTo>
                        <a:lnTo>
                          <a:pt x="86" y="199"/>
                        </a:lnTo>
                        <a:lnTo>
                          <a:pt x="107" y="142"/>
                        </a:lnTo>
                        <a:lnTo>
                          <a:pt x="145" y="89"/>
                        </a:lnTo>
                        <a:lnTo>
                          <a:pt x="171" y="62"/>
                        </a:lnTo>
                        <a:lnTo>
                          <a:pt x="204" y="41"/>
                        </a:lnTo>
                        <a:lnTo>
                          <a:pt x="242" y="20"/>
                        </a:lnTo>
                        <a:lnTo>
                          <a:pt x="285" y="3"/>
                        </a:lnTo>
                        <a:lnTo>
                          <a:pt x="249" y="0"/>
                        </a:lnTo>
                        <a:lnTo>
                          <a:pt x="107" y="57"/>
                        </a:lnTo>
                        <a:lnTo>
                          <a:pt x="74" y="85"/>
                        </a:lnTo>
                        <a:lnTo>
                          <a:pt x="74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4734720" y="3769560"/>
                    <a:ext cx="493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479">
                        <a:moveTo>
                          <a:pt x="0" y="28"/>
                        </a:moveTo>
                        <a:lnTo>
                          <a:pt x="106" y="435"/>
                        </a:lnTo>
                        <a:lnTo>
                          <a:pt x="122" y="479"/>
                        </a:lnTo>
                        <a:lnTo>
                          <a:pt x="186" y="414"/>
                        </a:lnTo>
                        <a:lnTo>
                          <a:pt x="38" y="0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4774320" y="3880440"/>
                    <a:ext cx="4788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800">
                        <a:moveTo>
                          <a:pt x="0" y="42"/>
                        </a:moveTo>
                        <a:lnTo>
                          <a:pt x="29" y="85"/>
                        </a:lnTo>
                        <a:lnTo>
                          <a:pt x="84" y="220"/>
                        </a:lnTo>
                        <a:lnTo>
                          <a:pt x="114" y="456"/>
                        </a:lnTo>
                        <a:lnTo>
                          <a:pt x="107" y="614"/>
                        </a:lnTo>
                        <a:lnTo>
                          <a:pt x="74" y="800"/>
                        </a:lnTo>
                        <a:lnTo>
                          <a:pt x="128" y="796"/>
                        </a:lnTo>
                        <a:lnTo>
                          <a:pt x="150" y="692"/>
                        </a:lnTo>
                        <a:lnTo>
                          <a:pt x="183" y="452"/>
                        </a:lnTo>
                        <a:lnTo>
                          <a:pt x="173" y="184"/>
                        </a:lnTo>
                        <a:lnTo>
                          <a:pt x="158" y="127"/>
                        </a:lnTo>
                        <a:lnTo>
                          <a:pt x="135" y="76"/>
                        </a:lnTo>
                        <a:lnTo>
                          <a:pt x="107" y="32"/>
                        </a:lnTo>
                        <a:lnTo>
                          <a:pt x="69" y="0"/>
                        </a:lnTo>
                        <a:lnTo>
                          <a:pt x="0" y="42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177080" y="3948840"/>
                    <a:ext cx="106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0">
                        <a:moveTo>
                          <a:pt x="0" y="295"/>
                        </a:moveTo>
                        <a:lnTo>
                          <a:pt x="17" y="177"/>
                        </a:lnTo>
                        <a:lnTo>
                          <a:pt x="32" y="129"/>
                        </a:lnTo>
                        <a:lnTo>
                          <a:pt x="57" y="86"/>
                        </a:lnTo>
                        <a:lnTo>
                          <a:pt x="89" y="48"/>
                        </a:lnTo>
                        <a:lnTo>
                          <a:pt x="133" y="23"/>
                        </a:lnTo>
                        <a:lnTo>
                          <a:pt x="245" y="0"/>
                        </a:lnTo>
                        <a:lnTo>
                          <a:pt x="352" y="21"/>
                        </a:lnTo>
                        <a:lnTo>
                          <a:pt x="388" y="55"/>
                        </a:lnTo>
                        <a:lnTo>
                          <a:pt x="403" y="112"/>
                        </a:lnTo>
                        <a:lnTo>
                          <a:pt x="395" y="190"/>
                        </a:lnTo>
                        <a:lnTo>
                          <a:pt x="380" y="242"/>
                        </a:lnTo>
                        <a:lnTo>
                          <a:pt x="355" y="299"/>
                        </a:lnTo>
                        <a:lnTo>
                          <a:pt x="336" y="327"/>
                        </a:lnTo>
                        <a:lnTo>
                          <a:pt x="300" y="361"/>
                        </a:lnTo>
                        <a:lnTo>
                          <a:pt x="256" y="394"/>
                        </a:lnTo>
                        <a:lnTo>
                          <a:pt x="209" y="417"/>
                        </a:lnTo>
                        <a:lnTo>
                          <a:pt x="159" y="420"/>
                        </a:lnTo>
                        <a:lnTo>
                          <a:pt x="116" y="399"/>
                        </a:lnTo>
                        <a:lnTo>
                          <a:pt x="83" y="346"/>
                        </a:lnTo>
                        <a:lnTo>
                          <a:pt x="64" y="251"/>
                        </a:lnTo>
                        <a:lnTo>
                          <a:pt x="74" y="207"/>
                        </a:lnTo>
                        <a:lnTo>
                          <a:pt x="93" y="249"/>
                        </a:lnTo>
                        <a:lnTo>
                          <a:pt x="114" y="283"/>
                        </a:lnTo>
                        <a:lnTo>
                          <a:pt x="140" y="320"/>
                        </a:lnTo>
                        <a:lnTo>
                          <a:pt x="173" y="342"/>
                        </a:lnTo>
                        <a:lnTo>
                          <a:pt x="209" y="348"/>
                        </a:lnTo>
                        <a:lnTo>
                          <a:pt x="287" y="266"/>
                        </a:lnTo>
                        <a:lnTo>
                          <a:pt x="323" y="143"/>
                        </a:lnTo>
                        <a:lnTo>
                          <a:pt x="313" y="107"/>
                        </a:lnTo>
                        <a:lnTo>
                          <a:pt x="296" y="84"/>
                        </a:lnTo>
                        <a:lnTo>
                          <a:pt x="249" y="67"/>
                        </a:lnTo>
                        <a:lnTo>
                          <a:pt x="222" y="65"/>
                        </a:lnTo>
                        <a:lnTo>
                          <a:pt x="102" y="107"/>
                        </a:lnTo>
                        <a:lnTo>
                          <a:pt x="38" y="202"/>
                        </a:lnTo>
                        <a:lnTo>
                          <a:pt x="0" y="295"/>
                        </a:lnTo>
                        <a:lnTo>
                          <a:pt x="0" y="2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4326840" y="4149000"/>
                    <a:ext cx="2325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3" h="211">
                        <a:moveTo>
                          <a:pt x="0" y="127"/>
                        </a:moveTo>
                        <a:lnTo>
                          <a:pt x="76" y="112"/>
                        </a:lnTo>
                        <a:lnTo>
                          <a:pt x="303" y="89"/>
                        </a:lnTo>
                        <a:lnTo>
                          <a:pt x="797" y="11"/>
                        </a:lnTo>
                        <a:lnTo>
                          <a:pt x="883" y="0"/>
                        </a:lnTo>
                        <a:lnTo>
                          <a:pt x="879" y="20"/>
                        </a:lnTo>
                        <a:lnTo>
                          <a:pt x="856" y="51"/>
                        </a:lnTo>
                        <a:lnTo>
                          <a:pt x="818" y="85"/>
                        </a:lnTo>
                        <a:lnTo>
                          <a:pt x="772" y="121"/>
                        </a:lnTo>
                        <a:lnTo>
                          <a:pt x="727" y="150"/>
                        </a:lnTo>
                        <a:lnTo>
                          <a:pt x="687" y="169"/>
                        </a:lnTo>
                        <a:lnTo>
                          <a:pt x="590" y="195"/>
                        </a:lnTo>
                        <a:lnTo>
                          <a:pt x="441" y="211"/>
                        </a:lnTo>
                        <a:lnTo>
                          <a:pt x="244" y="193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4173480" y="4108320"/>
                    <a:ext cx="415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8" h="500">
                        <a:moveTo>
                          <a:pt x="5" y="0"/>
                        </a:moveTo>
                        <a:lnTo>
                          <a:pt x="0" y="83"/>
                        </a:lnTo>
                        <a:lnTo>
                          <a:pt x="38" y="123"/>
                        </a:lnTo>
                        <a:lnTo>
                          <a:pt x="74" y="154"/>
                        </a:lnTo>
                        <a:lnTo>
                          <a:pt x="121" y="190"/>
                        </a:lnTo>
                        <a:lnTo>
                          <a:pt x="180" y="232"/>
                        </a:lnTo>
                        <a:lnTo>
                          <a:pt x="213" y="252"/>
                        </a:lnTo>
                        <a:lnTo>
                          <a:pt x="249" y="273"/>
                        </a:lnTo>
                        <a:lnTo>
                          <a:pt x="287" y="296"/>
                        </a:lnTo>
                        <a:lnTo>
                          <a:pt x="327" y="317"/>
                        </a:lnTo>
                        <a:lnTo>
                          <a:pt x="370" y="340"/>
                        </a:lnTo>
                        <a:lnTo>
                          <a:pt x="416" y="361"/>
                        </a:lnTo>
                        <a:lnTo>
                          <a:pt x="517" y="401"/>
                        </a:lnTo>
                        <a:lnTo>
                          <a:pt x="625" y="435"/>
                        </a:lnTo>
                        <a:lnTo>
                          <a:pt x="745" y="465"/>
                        </a:lnTo>
                        <a:lnTo>
                          <a:pt x="872" y="486"/>
                        </a:lnTo>
                        <a:lnTo>
                          <a:pt x="1157" y="500"/>
                        </a:lnTo>
                        <a:lnTo>
                          <a:pt x="1477" y="462"/>
                        </a:lnTo>
                        <a:lnTo>
                          <a:pt x="1578" y="391"/>
                        </a:lnTo>
                        <a:lnTo>
                          <a:pt x="1469" y="404"/>
                        </a:lnTo>
                        <a:lnTo>
                          <a:pt x="1201" y="422"/>
                        </a:lnTo>
                        <a:lnTo>
                          <a:pt x="874" y="416"/>
                        </a:lnTo>
                        <a:lnTo>
                          <a:pt x="581" y="361"/>
                        </a:lnTo>
                        <a:lnTo>
                          <a:pt x="465" y="313"/>
                        </a:lnTo>
                        <a:lnTo>
                          <a:pt x="363" y="264"/>
                        </a:lnTo>
                        <a:lnTo>
                          <a:pt x="270" y="216"/>
                        </a:lnTo>
                        <a:lnTo>
                          <a:pt x="192" y="171"/>
                        </a:lnTo>
                        <a:lnTo>
                          <a:pt x="125" y="129"/>
                        </a:lnTo>
                        <a:lnTo>
                          <a:pt x="76" y="93"/>
                        </a:lnTo>
                        <a:lnTo>
                          <a:pt x="26" y="4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240800" y="4171320"/>
                    <a:ext cx="900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92">
                        <a:moveTo>
                          <a:pt x="2" y="0"/>
                        </a:moveTo>
                        <a:lnTo>
                          <a:pt x="0" y="14"/>
                        </a:lnTo>
                        <a:lnTo>
                          <a:pt x="2" y="48"/>
                        </a:lnTo>
                        <a:lnTo>
                          <a:pt x="21" y="90"/>
                        </a:lnTo>
                        <a:lnTo>
                          <a:pt x="40" y="110"/>
                        </a:lnTo>
                        <a:lnTo>
                          <a:pt x="71" y="129"/>
                        </a:lnTo>
                        <a:lnTo>
                          <a:pt x="147" y="160"/>
                        </a:lnTo>
                        <a:lnTo>
                          <a:pt x="226" y="179"/>
                        </a:lnTo>
                        <a:lnTo>
                          <a:pt x="316" y="192"/>
                        </a:lnTo>
                        <a:lnTo>
                          <a:pt x="342" y="17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514040" y="4028400"/>
                    <a:ext cx="22572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951">
                        <a:moveTo>
                          <a:pt x="0" y="765"/>
                        </a:moveTo>
                        <a:lnTo>
                          <a:pt x="14" y="791"/>
                        </a:lnTo>
                        <a:lnTo>
                          <a:pt x="52" y="850"/>
                        </a:lnTo>
                        <a:lnTo>
                          <a:pt x="76" y="881"/>
                        </a:lnTo>
                        <a:lnTo>
                          <a:pt x="105" y="909"/>
                        </a:lnTo>
                        <a:lnTo>
                          <a:pt x="137" y="930"/>
                        </a:lnTo>
                        <a:lnTo>
                          <a:pt x="170" y="941"/>
                        </a:lnTo>
                        <a:lnTo>
                          <a:pt x="375" y="951"/>
                        </a:lnTo>
                        <a:lnTo>
                          <a:pt x="481" y="939"/>
                        </a:lnTo>
                        <a:lnTo>
                          <a:pt x="552" y="909"/>
                        </a:lnTo>
                        <a:lnTo>
                          <a:pt x="586" y="871"/>
                        </a:lnTo>
                        <a:lnTo>
                          <a:pt x="645" y="806"/>
                        </a:lnTo>
                        <a:lnTo>
                          <a:pt x="679" y="763"/>
                        </a:lnTo>
                        <a:lnTo>
                          <a:pt x="715" y="715"/>
                        </a:lnTo>
                        <a:lnTo>
                          <a:pt x="748" y="662"/>
                        </a:lnTo>
                        <a:lnTo>
                          <a:pt x="780" y="603"/>
                        </a:lnTo>
                        <a:lnTo>
                          <a:pt x="831" y="476"/>
                        </a:lnTo>
                        <a:lnTo>
                          <a:pt x="856" y="335"/>
                        </a:lnTo>
                        <a:lnTo>
                          <a:pt x="839" y="185"/>
                        </a:lnTo>
                        <a:lnTo>
                          <a:pt x="812" y="109"/>
                        </a:lnTo>
                        <a:lnTo>
                          <a:pt x="791" y="69"/>
                        </a:lnTo>
                        <a:lnTo>
                          <a:pt x="769" y="31"/>
                        </a:lnTo>
                        <a:lnTo>
                          <a:pt x="740" y="14"/>
                        </a:lnTo>
                        <a:lnTo>
                          <a:pt x="687" y="0"/>
                        </a:lnTo>
                        <a:lnTo>
                          <a:pt x="580" y="10"/>
                        </a:lnTo>
                        <a:lnTo>
                          <a:pt x="533" y="63"/>
                        </a:lnTo>
                        <a:lnTo>
                          <a:pt x="502" y="103"/>
                        </a:lnTo>
                        <a:lnTo>
                          <a:pt x="472" y="149"/>
                        </a:lnTo>
                        <a:lnTo>
                          <a:pt x="443" y="192"/>
                        </a:lnTo>
                        <a:lnTo>
                          <a:pt x="421" y="229"/>
                        </a:lnTo>
                        <a:lnTo>
                          <a:pt x="400" y="265"/>
                        </a:lnTo>
                        <a:lnTo>
                          <a:pt x="436" y="208"/>
                        </a:lnTo>
                        <a:lnTo>
                          <a:pt x="474" y="154"/>
                        </a:lnTo>
                        <a:lnTo>
                          <a:pt x="523" y="96"/>
                        </a:lnTo>
                        <a:lnTo>
                          <a:pt x="552" y="71"/>
                        </a:lnTo>
                        <a:lnTo>
                          <a:pt x="578" y="46"/>
                        </a:lnTo>
                        <a:lnTo>
                          <a:pt x="635" y="16"/>
                        </a:lnTo>
                        <a:lnTo>
                          <a:pt x="692" y="14"/>
                        </a:lnTo>
                        <a:lnTo>
                          <a:pt x="742" y="50"/>
                        </a:lnTo>
                        <a:lnTo>
                          <a:pt x="812" y="185"/>
                        </a:lnTo>
                        <a:lnTo>
                          <a:pt x="824" y="354"/>
                        </a:lnTo>
                        <a:lnTo>
                          <a:pt x="801" y="453"/>
                        </a:lnTo>
                        <a:lnTo>
                          <a:pt x="782" y="508"/>
                        </a:lnTo>
                        <a:lnTo>
                          <a:pt x="757" y="563"/>
                        </a:lnTo>
                        <a:lnTo>
                          <a:pt x="727" y="624"/>
                        </a:lnTo>
                        <a:lnTo>
                          <a:pt x="691" y="687"/>
                        </a:lnTo>
                        <a:lnTo>
                          <a:pt x="647" y="751"/>
                        </a:lnTo>
                        <a:lnTo>
                          <a:pt x="597" y="822"/>
                        </a:lnTo>
                        <a:lnTo>
                          <a:pt x="569" y="850"/>
                        </a:lnTo>
                        <a:lnTo>
                          <a:pt x="538" y="869"/>
                        </a:lnTo>
                        <a:lnTo>
                          <a:pt x="499" y="886"/>
                        </a:lnTo>
                        <a:lnTo>
                          <a:pt x="371" y="907"/>
                        </a:lnTo>
                        <a:lnTo>
                          <a:pt x="170" y="898"/>
                        </a:lnTo>
                        <a:lnTo>
                          <a:pt x="37" y="776"/>
                        </a:lnTo>
                        <a:lnTo>
                          <a:pt x="0" y="765"/>
                        </a:lnTo>
                        <a:lnTo>
                          <a:pt x="0" y="7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4290840" y="3914640"/>
                    <a:ext cx="15012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1" h="857">
                        <a:moveTo>
                          <a:pt x="0" y="831"/>
                        </a:moveTo>
                        <a:lnTo>
                          <a:pt x="21" y="753"/>
                        </a:lnTo>
                        <a:lnTo>
                          <a:pt x="52" y="665"/>
                        </a:lnTo>
                        <a:lnTo>
                          <a:pt x="71" y="614"/>
                        </a:lnTo>
                        <a:lnTo>
                          <a:pt x="95" y="557"/>
                        </a:lnTo>
                        <a:lnTo>
                          <a:pt x="122" y="498"/>
                        </a:lnTo>
                        <a:lnTo>
                          <a:pt x="154" y="435"/>
                        </a:lnTo>
                        <a:lnTo>
                          <a:pt x="190" y="373"/>
                        </a:lnTo>
                        <a:lnTo>
                          <a:pt x="232" y="308"/>
                        </a:lnTo>
                        <a:lnTo>
                          <a:pt x="278" y="245"/>
                        </a:lnTo>
                        <a:lnTo>
                          <a:pt x="329" y="184"/>
                        </a:lnTo>
                        <a:lnTo>
                          <a:pt x="384" y="125"/>
                        </a:lnTo>
                        <a:lnTo>
                          <a:pt x="415" y="97"/>
                        </a:lnTo>
                        <a:lnTo>
                          <a:pt x="445" y="70"/>
                        </a:lnTo>
                        <a:lnTo>
                          <a:pt x="571" y="0"/>
                        </a:lnTo>
                        <a:lnTo>
                          <a:pt x="519" y="42"/>
                        </a:lnTo>
                        <a:lnTo>
                          <a:pt x="495" y="67"/>
                        </a:lnTo>
                        <a:lnTo>
                          <a:pt x="464" y="97"/>
                        </a:lnTo>
                        <a:lnTo>
                          <a:pt x="396" y="173"/>
                        </a:lnTo>
                        <a:lnTo>
                          <a:pt x="360" y="219"/>
                        </a:lnTo>
                        <a:lnTo>
                          <a:pt x="320" y="272"/>
                        </a:lnTo>
                        <a:lnTo>
                          <a:pt x="280" y="331"/>
                        </a:lnTo>
                        <a:lnTo>
                          <a:pt x="240" y="395"/>
                        </a:lnTo>
                        <a:lnTo>
                          <a:pt x="202" y="464"/>
                        </a:lnTo>
                        <a:lnTo>
                          <a:pt x="164" y="540"/>
                        </a:lnTo>
                        <a:lnTo>
                          <a:pt x="126" y="623"/>
                        </a:lnTo>
                        <a:lnTo>
                          <a:pt x="92" y="711"/>
                        </a:lnTo>
                        <a:lnTo>
                          <a:pt x="71" y="857"/>
                        </a:lnTo>
                        <a:lnTo>
                          <a:pt x="0" y="831"/>
                        </a:lnTo>
                        <a:lnTo>
                          <a:pt x="0" y="8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4599720" y="3952080"/>
                    <a:ext cx="8172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317">
                        <a:moveTo>
                          <a:pt x="9" y="307"/>
                        </a:moveTo>
                        <a:lnTo>
                          <a:pt x="2" y="317"/>
                        </a:lnTo>
                        <a:lnTo>
                          <a:pt x="0" y="298"/>
                        </a:lnTo>
                        <a:lnTo>
                          <a:pt x="22" y="211"/>
                        </a:lnTo>
                        <a:lnTo>
                          <a:pt x="45" y="155"/>
                        </a:lnTo>
                        <a:lnTo>
                          <a:pt x="74" y="100"/>
                        </a:lnTo>
                        <a:lnTo>
                          <a:pt x="108" y="53"/>
                        </a:lnTo>
                        <a:lnTo>
                          <a:pt x="148" y="22"/>
                        </a:lnTo>
                        <a:lnTo>
                          <a:pt x="220" y="0"/>
                        </a:lnTo>
                        <a:lnTo>
                          <a:pt x="270" y="7"/>
                        </a:lnTo>
                        <a:lnTo>
                          <a:pt x="310" y="38"/>
                        </a:lnTo>
                        <a:lnTo>
                          <a:pt x="207" y="85"/>
                        </a:lnTo>
                        <a:lnTo>
                          <a:pt x="161" y="119"/>
                        </a:lnTo>
                        <a:lnTo>
                          <a:pt x="112" y="167"/>
                        </a:lnTo>
                        <a:lnTo>
                          <a:pt x="60" y="228"/>
                        </a:lnTo>
                        <a:lnTo>
                          <a:pt x="9" y="307"/>
                        </a:lnTo>
                        <a:lnTo>
                          <a:pt x="9" y="307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525920" y="4232880"/>
                    <a:ext cx="100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8">
                        <a:moveTo>
                          <a:pt x="0" y="15"/>
                        </a:moveTo>
                        <a:lnTo>
                          <a:pt x="380" y="0"/>
                        </a:lnTo>
                        <a:lnTo>
                          <a:pt x="0" y="48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533120" y="4248000"/>
                    <a:ext cx="71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44">
                        <a:moveTo>
                          <a:pt x="0" y="11"/>
                        </a:moveTo>
                        <a:lnTo>
                          <a:pt x="270" y="0"/>
                        </a:lnTo>
                        <a:lnTo>
                          <a:pt x="42" y="44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635000" y="4066920"/>
                    <a:ext cx="69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521">
                        <a:moveTo>
                          <a:pt x="32" y="521"/>
                        </a:moveTo>
                        <a:lnTo>
                          <a:pt x="47" y="363"/>
                        </a:lnTo>
                        <a:lnTo>
                          <a:pt x="60" y="298"/>
                        </a:lnTo>
                        <a:lnTo>
                          <a:pt x="81" y="236"/>
                        </a:lnTo>
                        <a:lnTo>
                          <a:pt x="110" y="180"/>
                        </a:lnTo>
                        <a:lnTo>
                          <a:pt x="150" y="139"/>
                        </a:lnTo>
                        <a:lnTo>
                          <a:pt x="169" y="125"/>
                        </a:lnTo>
                        <a:lnTo>
                          <a:pt x="195" y="112"/>
                        </a:lnTo>
                        <a:lnTo>
                          <a:pt x="216" y="123"/>
                        </a:lnTo>
                        <a:lnTo>
                          <a:pt x="222" y="182"/>
                        </a:lnTo>
                        <a:lnTo>
                          <a:pt x="197" y="329"/>
                        </a:lnTo>
                        <a:lnTo>
                          <a:pt x="180" y="388"/>
                        </a:lnTo>
                        <a:lnTo>
                          <a:pt x="218" y="329"/>
                        </a:lnTo>
                        <a:lnTo>
                          <a:pt x="264" y="118"/>
                        </a:lnTo>
                        <a:lnTo>
                          <a:pt x="262" y="66"/>
                        </a:lnTo>
                        <a:lnTo>
                          <a:pt x="251" y="26"/>
                        </a:lnTo>
                        <a:lnTo>
                          <a:pt x="226" y="0"/>
                        </a:lnTo>
                        <a:lnTo>
                          <a:pt x="167" y="6"/>
                        </a:lnTo>
                        <a:lnTo>
                          <a:pt x="91" y="80"/>
                        </a:lnTo>
                        <a:lnTo>
                          <a:pt x="22" y="226"/>
                        </a:lnTo>
                        <a:lnTo>
                          <a:pt x="0" y="348"/>
                        </a:lnTo>
                        <a:lnTo>
                          <a:pt x="9" y="462"/>
                        </a:lnTo>
                        <a:lnTo>
                          <a:pt x="32" y="521"/>
                        </a:lnTo>
                        <a:lnTo>
                          <a:pt x="32" y="5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544280" y="4259880"/>
                    <a:ext cx="482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2">
                        <a:moveTo>
                          <a:pt x="38" y="32"/>
                        </a:moveTo>
                        <a:lnTo>
                          <a:pt x="184" y="0"/>
                        </a:lnTo>
                        <a:lnTo>
                          <a:pt x="0" y="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4831200" y="3970800"/>
                    <a:ext cx="10116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505">
                        <a:moveTo>
                          <a:pt x="384" y="0"/>
                        </a:moveTo>
                        <a:lnTo>
                          <a:pt x="371" y="188"/>
                        </a:lnTo>
                        <a:lnTo>
                          <a:pt x="352" y="273"/>
                        </a:lnTo>
                        <a:lnTo>
                          <a:pt x="321" y="355"/>
                        </a:lnTo>
                        <a:lnTo>
                          <a:pt x="302" y="393"/>
                        </a:lnTo>
                        <a:lnTo>
                          <a:pt x="280" y="429"/>
                        </a:lnTo>
                        <a:lnTo>
                          <a:pt x="253" y="458"/>
                        </a:lnTo>
                        <a:lnTo>
                          <a:pt x="222" y="483"/>
                        </a:lnTo>
                        <a:lnTo>
                          <a:pt x="162" y="505"/>
                        </a:lnTo>
                        <a:lnTo>
                          <a:pt x="114" y="503"/>
                        </a:lnTo>
                        <a:lnTo>
                          <a:pt x="74" y="479"/>
                        </a:lnTo>
                        <a:lnTo>
                          <a:pt x="46" y="445"/>
                        </a:lnTo>
                        <a:lnTo>
                          <a:pt x="10" y="365"/>
                        </a:lnTo>
                        <a:lnTo>
                          <a:pt x="0" y="325"/>
                        </a:lnTo>
                        <a:lnTo>
                          <a:pt x="89" y="192"/>
                        </a:lnTo>
                        <a:lnTo>
                          <a:pt x="78" y="298"/>
                        </a:lnTo>
                        <a:lnTo>
                          <a:pt x="84" y="380"/>
                        </a:lnTo>
                        <a:lnTo>
                          <a:pt x="93" y="412"/>
                        </a:lnTo>
                        <a:lnTo>
                          <a:pt x="112" y="431"/>
                        </a:lnTo>
                        <a:lnTo>
                          <a:pt x="158" y="441"/>
                        </a:lnTo>
                        <a:lnTo>
                          <a:pt x="211" y="424"/>
                        </a:lnTo>
                        <a:lnTo>
                          <a:pt x="316" y="287"/>
                        </a:lnTo>
                        <a:lnTo>
                          <a:pt x="354" y="144"/>
                        </a:lnTo>
                        <a:lnTo>
                          <a:pt x="384" y="0"/>
                        </a:lnTo>
                        <a:lnTo>
                          <a:pt x="38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4800240" y="4083840"/>
                    <a:ext cx="471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94">
                        <a:moveTo>
                          <a:pt x="0" y="8"/>
                        </a:moveTo>
                        <a:lnTo>
                          <a:pt x="15" y="35"/>
                        </a:lnTo>
                        <a:lnTo>
                          <a:pt x="36" y="56"/>
                        </a:lnTo>
                        <a:lnTo>
                          <a:pt x="65" y="73"/>
                        </a:lnTo>
                        <a:lnTo>
                          <a:pt x="181" y="94"/>
                        </a:lnTo>
                        <a:lnTo>
                          <a:pt x="114" y="63"/>
                        </a:lnTo>
                        <a:lnTo>
                          <a:pt x="59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4744080" y="4034520"/>
                    <a:ext cx="568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327">
                        <a:moveTo>
                          <a:pt x="14" y="226"/>
                        </a:moveTo>
                        <a:lnTo>
                          <a:pt x="90" y="32"/>
                        </a:lnTo>
                        <a:lnTo>
                          <a:pt x="63" y="156"/>
                        </a:lnTo>
                        <a:lnTo>
                          <a:pt x="147" y="13"/>
                        </a:lnTo>
                        <a:lnTo>
                          <a:pt x="95" y="160"/>
                        </a:lnTo>
                        <a:lnTo>
                          <a:pt x="207" y="0"/>
                        </a:lnTo>
                        <a:lnTo>
                          <a:pt x="147" y="150"/>
                        </a:lnTo>
                        <a:lnTo>
                          <a:pt x="196" y="82"/>
                        </a:lnTo>
                        <a:lnTo>
                          <a:pt x="177" y="166"/>
                        </a:lnTo>
                        <a:lnTo>
                          <a:pt x="217" y="109"/>
                        </a:lnTo>
                        <a:lnTo>
                          <a:pt x="207" y="200"/>
                        </a:lnTo>
                        <a:lnTo>
                          <a:pt x="188" y="230"/>
                        </a:lnTo>
                        <a:lnTo>
                          <a:pt x="0" y="327"/>
                        </a:lnTo>
                        <a:lnTo>
                          <a:pt x="14" y="226"/>
                        </a:lnTo>
                        <a:lnTo>
                          <a:pt x="14" y="2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4929120" y="3996360"/>
                    <a:ext cx="388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20">
                        <a:moveTo>
                          <a:pt x="0" y="120"/>
                        </a:moveTo>
                        <a:lnTo>
                          <a:pt x="146" y="0"/>
                        </a:lnTo>
                        <a:lnTo>
                          <a:pt x="5" y="61"/>
                        </a:lnTo>
                        <a:lnTo>
                          <a:pt x="0" y="120"/>
                        </a:lnTo>
                        <a:lnTo>
                          <a:pt x="0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4914000" y="3967920"/>
                    <a:ext cx="1386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31">
                        <a:moveTo>
                          <a:pt x="0" y="331"/>
                        </a:moveTo>
                        <a:lnTo>
                          <a:pt x="526" y="0"/>
                        </a:lnTo>
                        <a:lnTo>
                          <a:pt x="450" y="10"/>
                        </a:lnTo>
                        <a:lnTo>
                          <a:pt x="38" y="238"/>
                        </a:lnTo>
                        <a:lnTo>
                          <a:pt x="0" y="331"/>
                        </a:lnTo>
                        <a:lnTo>
                          <a:pt x="0" y="3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4653360" y="4124880"/>
                    <a:ext cx="17604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9" h="544">
                        <a:moveTo>
                          <a:pt x="0" y="544"/>
                        </a:moveTo>
                        <a:lnTo>
                          <a:pt x="108" y="512"/>
                        </a:lnTo>
                        <a:lnTo>
                          <a:pt x="669" y="0"/>
                        </a:lnTo>
                        <a:lnTo>
                          <a:pt x="576" y="38"/>
                        </a:lnTo>
                        <a:lnTo>
                          <a:pt x="185" y="337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4887000" y="4008960"/>
                    <a:ext cx="1152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9" h="344">
                        <a:moveTo>
                          <a:pt x="0" y="344"/>
                        </a:moveTo>
                        <a:lnTo>
                          <a:pt x="439" y="55"/>
                        </a:lnTo>
                        <a:lnTo>
                          <a:pt x="114" y="230"/>
                        </a:lnTo>
                        <a:lnTo>
                          <a:pt x="439" y="0"/>
                        </a:lnTo>
                        <a:lnTo>
                          <a:pt x="114" y="175"/>
                        </a:lnTo>
                        <a:lnTo>
                          <a:pt x="103" y="230"/>
                        </a:lnTo>
                        <a:lnTo>
                          <a:pt x="0" y="344"/>
                        </a:lnTo>
                        <a:lnTo>
                          <a:pt x="0" y="3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4876200" y="3951360"/>
                    <a:ext cx="41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59">
                        <a:moveTo>
                          <a:pt x="25" y="359"/>
                        </a:moveTo>
                        <a:lnTo>
                          <a:pt x="0" y="266"/>
                        </a:lnTo>
                        <a:lnTo>
                          <a:pt x="14" y="161"/>
                        </a:lnTo>
                        <a:lnTo>
                          <a:pt x="38" y="98"/>
                        </a:lnTo>
                        <a:lnTo>
                          <a:pt x="57" y="64"/>
                        </a:lnTo>
                        <a:lnTo>
                          <a:pt x="80" y="28"/>
                        </a:lnTo>
                        <a:lnTo>
                          <a:pt x="92" y="19"/>
                        </a:lnTo>
                        <a:lnTo>
                          <a:pt x="114" y="3"/>
                        </a:lnTo>
                        <a:lnTo>
                          <a:pt x="141" y="0"/>
                        </a:lnTo>
                        <a:lnTo>
                          <a:pt x="154" y="24"/>
                        </a:lnTo>
                        <a:lnTo>
                          <a:pt x="160" y="131"/>
                        </a:lnTo>
                        <a:lnTo>
                          <a:pt x="152" y="188"/>
                        </a:lnTo>
                        <a:lnTo>
                          <a:pt x="133" y="237"/>
                        </a:lnTo>
                        <a:lnTo>
                          <a:pt x="107" y="260"/>
                        </a:lnTo>
                        <a:lnTo>
                          <a:pt x="105" y="239"/>
                        </a:lnTo>
                        <a:lnTo>
                          <a:pt x="107" y="79"/>
                        </a:lnTo>
                        <a:lnTo>
                          <a:pt x="61" y="150"/>
                        </a:lnTo>
                        <a:lnTo>
                          <a:pt x="48" y="207"/>
                        </a:lnTo>
                        <a:lnTo>
                          <a:pt x="33" y="323"/>
                        </a:lnTo>
                        <a:lnTo>
                          <a:pt x="25" y="359"/>
                        </a:lnTo>
                        <a:lnTo>
                          <a:pt x="25" y="3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4834800" y="3869640"/>
                    <a:ext cx="478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48">
                        <a:moveTo>
                          <a:pt x="0" y="148"/>
                        </a:moveTo>
                        <a:lnTo>
                          <a:pt x="29" y="93"/>
                        </a:lnTo>
                        <a:lnTo>
                          <a:pt x="63" y="47"/>
                        </a:lnTo>
                        <a:lnTo>
                          <a:pt x="84" y="28"/>
                        </a:lnTo>
                        <a:lnTo>
                          <a:pt x="109" y="13"/>
                        </a:lnTo>
                        <a:lnTo>
                          <a:pt x="158" y="0"/>
                        </a:lnTo>
                        <a:lnTo>
                          <a:pt x="183" y="7"/>
                        </a:lnTo>
                        <a:lnTo>
                          <a:pt x="164" y="28"/>
                        </a:lnTo>
                        <a:lnTo>
                          <a:pt x="124" y="57"/>
                        </a:lnTo>
                        <a:lnTo>
                          <a:pt x="88" y="89"/>
                        </a:lnTo>
                        <a:lnTo>
                          <a:pt x="57" y="120"/>
                        </a:lnTo>
                        <a:lnTo>
                          <a:pt x="29" y="137"/>
                        </a:lnTo>
                        <a:lnTo>
                          <a:pt x="0" y="148"/>
                        </a:lnTo>
                        <a:lnTo>
                          <a:pt x="0" y="148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4392360" y="4168440"/>
                    <a:ext cx="128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89">
                        <a:moveTo>
                          <a:pt x="0" y="72"/>
                        </a:moveTo>
                        <a:lnTo>
                          <a:pt x="196" y="55"/>
                        </a:lnTo>
                        <a:lnTo>
                          <a:pt x="455" y="7"/>
                        </a:lnTo>
                        <a:lnTo>
                          <a:pt x="487" y="0"/>
                        </a:lnTo>
                        <a:lnTo>
                          <a:pt x="461" y="28"/>
                        </a:lnTo>
                        <a:lnTo>
                          <a:pt x="430" y="45"/>
                        </a:lnTo>
                        <a:lnTo>
                          <a:pt x="388" y="64"/>
                        </a:lnTo>
                        <a:lnTo>
                          <a:pt x="284" y="89"/>
                        </a:lnTo>
                        <a:lnTo>
                          <a:pt x="82" y="83"/>
                        </a:lnTo>
                        <a:lnTo>
                          <a:pt x="0" y="72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4487400" y="3700080"/>
                    <a:ext cx="954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156">
                        <a:moveTo>
                          <a:pt x="0" y="133"/>
                        </a:moveTo>
                        <a:lnTo>
                          <a:pt x="34" y="114"/>
                        </a:lnTo>
                        <a:lnTo>
                          <a:pt x="74" y="94"/>
                        </a:lnTo>
                        <a:lnTo>
                          <a:pt x="121" y="71"/>
                        </a:lnTo>
                        <a:lnTo>
                          <a:pt x="178" y="48"/>
                        </a:lnTo>
                        <a:lnTo>
                          <a:pt x="239" y="25"/>
                        </a:lnTo>
                        <a:lnTo>
                          <a:pt x="361" y="0"/>
                        </a:lnTo>
                        <a:lnTo>
                          <a:pt x="329" y="14"/>
                        </a:lnTo>
                        <a:lnTo>
                          <a:pt x="256" y="46"/>
                        </a:lnTo>
                        <a:lnTo>
                          <a:pt x="182" y="90"/>
                        </a:lnTo>
                        <a:lnTo>
                          <a:pt x="146" y="133"/>
                        </a:lnTo>
                        <a:lnTo>
                          <a:pt x="139" y="149"/>
                        </a:lnTo>
                        <a:lnTo>
                          <a:pt x="120" y="156"/>
                        </a:lnTo>
                        <a:lnTo>
                          <a:pt x="70" y="154"/>
                        </a:lnTo>
                        <a:lnTo>
                          <a:pt x="0" y="133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4209120" y="3975120"/>
                    <a:ext cx="2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25">
                        <a:moveTo>
                          <a:pt x="14" y="61"/>
                        </a:moveTo>
                        <a:lnTo>
                          <a:pt x="52" y="15"/>
                        </a:lnTo>
                        <a:lnTo>
                          <a:pt x="84" y="0"/>
                        </a:lnTo>
                        <a:lnTo>
                          <a:pt x="113" y="4"/>
                        </a:lnTo>
                        <a:lnTo>
                          <a:pt x="57" y="87"/>
                        </a:lnTo>
                        <a:lnTo>
                          <a:pt x="44" y="125"/>
                        </a:lnTo>
                        <a:lnTo>
                          <a:pt x="25" y="122"/>
                        </a:lnTo>
                        <a:lnTo>
                          <a:pt x="0" y="89"/>
                        </a:lnTo>
                        <a:lnTo>
                          <a:pt x="14" y="61"/>
                        </a:lnTo>
                        <a:lnTo>
                          <a:pt x="14" y="6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4485240" y="4016160"/>
                    <a:ext cx="56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05">
                        <a:moveTo>
                          <a:pt x="0" y="205"/>
                        </a:moveTo>
                        <a:lnTo>
                          <a:pt x="12" y="137"/>
                        </a:lnTo>
                        <a:lnTo>
                          <a:pt x="42" y="78"/>
                        </a:lnTo>
                        <a:lnTo>
                          <a:pt x="69" y="49"/>
                        </a:lnTo>
                        <a:lnTo>
                          <a:pt x="109" y="23"/>
                        </a:lnTo>
                        <a:lnTo>
                          <a:pt x="173" y="0"/>
                        </a:lnTo>
                        <a:lnTo>
                          <a:pt x="207" y="7"/>
                        </a:lnTo>
                        <a:lnTo>
                          <a:pt x="217" y="38"/>
                        </a:lnTo>
                        <a:lnTo>
                          <a:pt x="188" y="108"/>
                        </a:lnTo>
                        <a:lnTo>
                          <a:pt x="137" y="161"/>
                        </a:lnTo>
                        <a:lnTo>
                          <a:pt x="99" y="184"/>
                        </a:lnTo>
                        <a:lnTo>
                          <a:pt x="50" y="199"/>
                        </a:lnTo>
                        <a:lnTo>
                          <a:pt x="0" y="205"/>
                        </a:lnTo>
                        <a:lnTo>
                          <a:pt x="0" y="2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4606920" y="4118040"/>
                    <a:ext cx="72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488">
                        <a:moveTo>
                          <a:pt x="160" y="484"/>
                        </a:moveTo>
                        <a:lnTo>
                          <a:pt x="97" y="488"/>
                        </a:lnTo>
                        <a:lnTo>
                          <a:pt x="25" y="433"/>
                        </a:lnTo>
                        <a:lnTo>
                          <a:pt x="0" y="283"/>
                        </a:lnTo>
                        <a:lnTo>
                          <a:pt x="21" y="161"/>
                        </a:lnTo>
                        <a:lnTo>
                          <a:pt x="44" y="85"/>
                        </a:lnTo>
                        <a:lnTo>
                          <a:pt x="76" y="0"/>
                        </a:lnTo>
                        <a:lnTo>
                          <a:pt x="93" y="399"/>
                        </a:lnTo>
                        <a:lnTo>
                          <a:pt x="128" y="418"/>
                        </a:lnTo>
                        <a:lnTo>
                          <a:pt x="160" y="422"/>
                        </a:lnTo>
                        <a:lnTo>
                          <a:pt x="219" y="395"/>
                        </a:lnTo>
                        <a:lnTo>
                          <a:pt x="261" y="351"/>
                        </a:lnTo>
                        <a:lnTo>
                          <a:pt x="276" y="329"/>
                        </a:lnTo>
                        <a:lnTo>
                          <a:pt x="242" y="395"/>
                        </a:lnTo>
                        <a:lnTo>
                          <a:pt x="206" y="446"/>
                        </a:lnTo>
                        <a:lnTo>
                          <a:pt x="183" y="469"/>
                        </a:lnTo>
                        <a:lnTo>
                          <a:pt x="160" y="484"/>
                        </a:lnTo>
                        <a:lnTo>
                          <a:pt x="160" y="484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4181400" y="4105800"/>
                    <a:ext cx="1515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35">
                        <a:moveTo>
                          <a:pt x="0" y="0"/>
                        </a:moveTo>
                        <a:lnTo>
                          <a:pt x="49" y="38"/>
                        </a:lnTo>
                        <a:lnTo>
                          <a:pt x="105" y="78"/>
                        </a:lnTo>
                        <a:lnTo>
                          <a:pt x="139" y="101"/>
                        </a:lnTo>
                        <a:lnTo>
                          <a:pt x="177" y="127"/>
                        </a:lnTo>
                        <a:lnTo>
                          <a:pt x="219" y="154"/>
                        </a:lnTo>
                        <a:lnTo>
                          <a:pt x="264" y="183"/>
                        </a:lnTo>
                        <a:lnTo>
                          <a:pt x="312" y="209"/>
                        </a:lnTo>
                        <a:lnTo>
                          <a:pt x="361" y="238"/>
                        </a:lnTo>
                        <a:lnTo>
                          <a:pt x="413" y="264"/>
                        </a:lnTo>
                        <a:lnTo>
                          <a:pt x="466" y="289"/>
                        </a:lnTo>
                        <a:lnTo>
                          <a:pt x="521" y="314"/>
                        </a:lnTo>
                        <a:lnTo>
                          <a:pt x="576" y="335"/>
                        </a:lnTo>
                        <a:lnTo>
                          <a:pt x="534" y="321"/>
                        </a:lnTo>
                        <a:lnTo>
                          <a:pt x="430" y="283"/>
                        </a:lnTo>
                        <a:lnTo>
                          <a:pt x="367" y="261"/>
                        </a:lnTo>
                        <a:lnTo>
                          <a:pt x="302" y="234"/>
                        </a:lnTo>
                        <a:lnTo>
                          <a:pt x="240" y="203"/>
                        </a:lnTo>
                        <a:lnTo>
                          <a:pt x="186" y="173"/>
                        </a:lnTo>
                        <a:lnTo>
                          <a:pt x="141" y="143"/>
                        </a:lnTo>
                        <a:lnTo>
                          <a:pt x="101" y="112"/>
                        </a:lnTo>
                        <a:lnTo>
                          <a:pt x="68" y="84"/>
                        </a:lnTo>
                        <a:lnTo>
                          <a:pt x="44" y="5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4265640" y="3855600"/>
                    <a:ext cx="327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6" h="747">
                        <a:moveTo>
                          <a:pt x="419" y="0"/>
                        </a:moveTo>
                        <a:lnTo>
                          <a:pt x="426" y="26"/>
                        </a:lnTo>
                        <a:lnTo>
                          <a:pt x="455" y="55"/>
                        </a:lnTo>
                        <a:lnTo>
                          <a:pt x="510" y="89"/>
                        </a:lnTo>
                        <a:lnTo>
                          <a:pt x="607" y="125"/>
                        </a:lnTo>
                        <a:lnTo>
                          <a:pt x="753" y="159"/>
                        </a:lnTo>
                        <a:lnTo>
                          <a:pt x="962" y="190"/>
                        </a:lnTo>
                        <a:lnTo>
                          <a:pt x="1246" y="211"/>
                        </a:lnTo>
                        <a:lnTo>
                          <a:pt x="985" y="226"/>
                        </a:lnTo>
                        <a:lnTo>
                          <a:pt x="719" y="214"/>
                        </a:lnTo>
                        <a:lnTo>
                          <a:pt x="419" y="157"/>
                        </a:lnTo>
                        <a:lnTo>
                          <a:pt x="379" y="195"/>
                        </a:lnTo>
                        <a:lnTo>
                          <a:pt x="333" y="243"/>
                        </a:lnTo>
                        <a:lnTo>
                          <a:pt x="278" y="308"/>
                        </a:lnTo>
                        <a:lnTo>
                          <a:pt x="246" y="348"/>
                        </a:lnTo>
                        <a:lnTo>
                          <a:pt x="211" y="391"/>
                        </a:lnTo>
                        <a:lnTo>
                          <a:pt x="177" y="439"/>
                        </a:lnTo>
                        <a:lnTo>
                          <a:pt x="141" y="492"/>
                        </a:lnTo>
                        <a:lnTo>
                          <a:pt x="105" y="549"/>
                        </a:lnTo>
                        <a:lnTo>
                          <a:pt x="69" y="610"/>
                        </a:lnTo>
                        <a:lnTo>
                          <a:pt x="35" y="676"/>
                        </a:lnTo>
                        <a:lnTo>
                          <a:pt x="0" y="747"/>
                        </a:lnTo>
                        <a:lnTo>
                          <a:pt x="33" y="659"/>
                        </a:lnTo>
                        <a:lnTo>
                          <a:pt x="69" y="568"/>
                        </a:lnTo>
                        <a:lnTo>
                          <a:pt x="92" y="517"/>
                        </a:lnTo>
                        <a:lnTo>
                          <a:pt x="116" y="462"/>
                        </a:lnTo>
                        <a:lnTo>
                          <a:pt x="145" y="405"/>
                        </a:lnTo>
                        <a:lnTo>
                          <a:pt x="173" y="349"/>
                        </a:lnTo>
                        <a:lnTo>
                          <a:pt x="204" y="294"/>
                        </a:lnTo>
                        <a:lnTo>
                          <a:pt x="234" y="243"/>
                        </a:lnTo>
                        <a:lnTo>
                          <a:pt x="267" y="197"/>
                        </a:lnTo>
                        <a:lnTo>
                          <a:pt x="299" y="157"/>
                        </a:lnTo>
                        <a:lnTo>
                          <a:pt x="333" y="123"/>
                        </a:lnTo>
                        <a:lnTo>
                          <a:pt x="365" y="100"/>
                        </a:lnTo>
                        <a:lnTo>
                          <a:pt x="419" y="0"/>
                        </a:lnTo>
                        <a:lnTo>
                          <a:pt x="4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" name=""/>
                <p:cNvSpPr/>
                <p:nvPr/>
              </p:nvSpPr>
              <p:spPr>
                <a:xfrm>
                  <a:off x="4998960" y="3759120"/>
                  <a:ext cx="200160" cy="5047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313160" y="4171680"/>
                  <a:ext cx="755640" cy="214200"/>
                </a:xfrm>
                <a:custGeom>
                  <a:avLst/>
                  <a:gdLst/>
                  <a:ahLst/>
                  <a:rect l="l" t="t" r="r" b="b"/>
                  <a:pathLst>
                    <a:path w="476" h="135">
                      <a:moveTo>
                        <a:pt x="0" y="18"/>
                      </a:moveTo>
                      <a:cubicBezTo>
                        <a:pt x="7" y="53"/>
                        <a:pt x="15" y="88"/>
                        <a:pt x="48" y="105"/>
                      </a:cubicBezTo>
                      <a:cubicBezTo>
                        <a:pt x="81" y="122"/>
                        <a:pt x="129" y="135"/>
                        <a:pt x="200" y="118"/>
                      </a:cubicBezTo>
                      <a:cubicBezTo>
                        <a:pt x="271" y="101"/>
                        <a:pt x="373" y="50"/>
                        <a:pt x="476" y="0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031000" y="3816000"/>
                  <a:ext cx="128520" cy="122400"/>
                </a:xfrm>
                <a:custGeom>
                  <a:avLst/>
                  <a:gdLst/>
                  <a:ahLst/>
                  <a:rect l="l" t="t" r="r" b="b"/>
                  <a:pathLst>
                    <a:path w="81" h="77">
                      <a:moveTo>
                        <a:pt x="1" y="12"/>
                      </a:moveTo>
                      <a:lnTo>
                        <a:pt x="1" y="63"/>
                      </a:lnTo>
                      <a:lnTo>
                        <a:pt x="81" y="77"/>
                      </a:lnTo>
                      <a:lnTo>
                        <a:pt x="81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5311800" y="5857560"/>
                <a:ext cx="1030320" cy="699840"/>
                <a:chOff x="5311800" y="5857560"/>
                <a:chExt cx="1030320" cy="69984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5311800" y="5857560"/>
                  <a:ext cx="941400" cy="606240"/>
                  <a:chOff x="5311800" y="5857560"/>
                  <a:chExt cx="941400" cy="60624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5420880" y="5986440"/>
                    <a:ext cx="832320" cy="47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54" h="1811">
                        <a:moveTo>
                          <a:pt x="220" y="1716"/>
                        </a:moveTo>
                        <a:lnTo>
                          <a:pt x="384" y="1752"/>
                        </a:lnTo>
                        <a:lnTo>
                          <a:pt x="532" y="1779"/>
                        </a:lnTo>
                        <a:lnTo>
                          <a:pt x="791" y="1811"/>
                        </a:lnTo>
                        <a:lnTo>
                          <a:pt x="1152" y="1811"/>
                        </a:lnTo>
                        <a:lnTo>
                          <a:pt x="1342" y="1773"/>
                        </a:lnTo>
                        <a:lnTo>
                          <a:pt x="1397" y="1747"/>
                        </a:lnTo>
                        <a:lnTo>
                          <a:pt x="1456" y="1707"/>
                        </a:lnTo>
                        <a:lnTo>
                          <a:pt x="1487" y="1686"/>
                        </a:lnTo>
                        <a:lnTo>
                          <a:pt x="1525" y="1659"/>
                        </a:lnTo>
                        <a:lnTo>
                          <a:pt x="1567" y="1631"/>
                        </a:lnTo>
                        <a:lnTo>
                          <a:pt x="1612" y="1598"/>
                        </a:lnTo>
                        <a:lnTo>
                          <a:pt x="1664" y="1564"/>
                        </a:lnTo>
                        <a:lnTo>
                          <a:pt x="1719" y="1526"/>
                        </a:lnTo>
                        <a:lnTo>
                          <a:pt x="1776" y="1486"/>
                        </a:lnTo>
                        <a:lnTo>
                          <a:pt x="1837" y="1444"/>
                        </a:lnTo>
                        <a:lnTo>
                          <a:pt x="1899" y="1401"/>
                        </a:lnTo>
                        <a:lnTo>
                          <a:pt x="1964" y="1355"/>
                        </a:lnTo>
                        <a:lnTo>
                          <a:pt x="1996" y="1332"/>
                        </a:lnTo>
                        <a:lnTo>
                          <a:pt x="2030" y="1309"/>
                        </a:lnTo>
                        <a:lnTo>
                          <a:pt x="2063" y="1287"/>
                        </a:lnTo>
                        <a:lnTo>
                          <a:pt x="2097" y="1264"/>
                        </a:lnTo>
                        <a:lnTo>
                          <a:pt x="2129" y="1239"/>
                        </a:lnTo>
                        <a:lnTo>
                          <a:pt x="2164" y="1216"/>
                        </a:lnTo>
                        <a:lnTo>
                          <a:pt x="2198" y="1193"/>
                        </a:lnTo>
                        <a:lnTo>
                          <a:pt x="2230" y="1169"/>
                        </a:lnTo>
                        <a:lnTo>
                          <a:pt x="2264" y="1146"/>
                        </a:lnTo>
                        <a:lnTo>
                          <a:pt x="2297" y="1123"/>
                        </a:lnTo>
                        <a:lnTo>
                          <a:pt x="2329" y="1100"/>
                        </a:lnTo>
                        <a:lnTo>
                          <a:pt x="2361" y="1077"/>
                        </a:lnTo>
                        <a:lnTo>
                          <a:pt x="2426" y="1034"/>
                        </a:lnTo>
                        <a:lnTo>
                          <a:pt x="2487" y="990"/>
                        </a:lnTo>
                        <a:lnTo>
                          <a:pt x="2546" y="946"/>
                        </a:lnTo>
                        <a:lnTo>
                          <a:pt x="2601" y="908"/>
                        </a:lnTo>
                        <a:lnTo>
                          <a:pt x="2654" y="870"/>
                        </a:lnTo>
                        <a:lnTo>
                          <a:pt x="2702" y="836"/>
                        </a:lnTo>
                        <a:lnTo>
                          <a:pt x="2745" y="804"/>
                        </a:lnTo>
                        <a:lnTo>
                          <a:pt x="2783" y="775"/>
                        </a:lnTo>
                        <a:lnTo>
                          <a:pt x="2844" y="730"/>
                        </a:lnTo>
                        <a:lnTo>
                          <a:pt x="2880" y="699"/>
                        </a:lnTo>
                        <a:lnTo>
                          <a:pt x="2920" y="656"/>
                        </a:lnTo>
                        <a:lnTo>
                          <a:pt x="2962" y="600"/>
                        </a:lnTo>
                        <a:lnTo>
                          <a:pt x="3002" y="543"/>
                        </a:lnTo>
                        <a:lnTo>
                          <a:pt x="3038" y="481"/>
                        </a:lnTo>
                        <a:lnTo>
                          <a:pt x="3072" y="422"/>
                        </a:lnTo>
                        <a:lnTo>
                          <a:pt x="3101" y="365"/>
                        </a:lnTo>
                        <a:lnTo>
                          <a:pt x="3139" y="281"/>
                        </a:lnTo>
                        <a:lnTo>
                          <a:pt x="3154" y="102"/>
                        </a:lnTo>
                        <a:lnTo>
                          <a:pt x="3139" y="74"/>
                        </a:lnTo>
                        <a:lnTo>
                          <a:pt x="3114" y="49"/>
                        </a:lnTo>
                        <a:lnTo>
                          <a:pt x="3078" y="28"/>
                        </a:lnTo>
                        <a:lnTo>
                          <a:pt x="3032" y="11"/>
                        </a:lnTo>
                        <a:lnTo>
                          <a:pt x="2897" y="0"/>
                        </a:lnTo>
                        <a:lnTo>
                          <a:pt x="2700" y="21"/>
                        </a:lnTo>
                        <a:lnTo>
                          <a:pt x="2470" y="70"/>
                        </a:lnTo>
                        <a:lnTo>
                          <a:pt x="2361" y="99"/>
                        </a:lnTo>
                        <a:lnTo>
                          <a:pt x="2255" y="129"/>
                        </a:lnTo>
                        <a:lnTo>
                          <a:pt x="2154" y="159"/>
                        </a:lnTo>
                        <a:lnTo>
                          <a:pt x="2057" y="192"/>
                        </a:lnTo>
                        <a:lnTo>
                          <a:pt x="1968" y="222"/>
                        </a:lnTo>
                        <a:lnTo>
                          <a:pt x="1884" y="254"/>
                        </a:lnTo>
                        <a:lnTo>
                          <a:pt x="1808" y="283"/>
                        </a:lnTo>
                        <a:lnTo>
                          <a:pt x="1740" y="310"/>
                        </a:lnTo>
                        <a:lnTo>
                          <a:pt x="1681" y="336"/>
                        </a:lnTo>
                        <a:lnTo>
                          <a:pt x="1629" y="357"/>
                        </a:lnTo>
                        <a:lnTo>
                          <a:pt x="1559" y="389"/>
                        </a:lnTo>
                        <a:lnTo>
                          <a:pt x="1536" y="401"/>
                        </a:lnTo>
                        <a:lnTo>
                          <a:pt x="1510" y="412"/>
                        </a:lnTo>
                        <a:lnTo>
                          <a:pt x="1441" y="448"/>
                        </a:lnTo>
                        <a:lnTo>
                          <a:pt x="1392" y="473"/>
                        </a:lnTo>
                        <a:lnTo>
                          <a:pt x="1335" y="503"/>
                        </a:lnTo>
                        <a:lnTo>
                          <a:pt x="1270" y="538"/>
                        </a:lnTo>
                        <a:lnTo>
                          <a:pt x="1202" y="576"/>
                        </a:lnTo>
                        <a:lnTo>
                          <a:pt x="1125" y="617"/>
                        </a:lnTo>
                        <a:lnTo>
                          <a:pt x="1046" y="663"/>
                        </a:lnTo>
                        <a:lnTo>
                          <a:pt x="1004" y="686"/>
                        </a:lnTo>
                        <a:lnTo>
                          <a:pt x="962" y="711"/>
                        </a:lnTo>
                        <a:lnTo>
                          <a:pt x="920" y="735"/>
                        </a:lnTo>
                        <a:lnTo>
                          <a:pt x="878" y="762"/>
                        </a:lnTo>
                        <a:lnTo>
                          <a:pt x="835" y="787"/>
                        </a:lnTo>
                        <a:lnTo>
                          <a:pt x="791" y="813"/>
                        </a:lnTo>
                        <a:lnTo>
                          <a:pt x="747" y="840"/>
                        </a:lnTo>
                        <a:lnTo>
                          <a:pt x="703" y="866"/>
                        </a:lnTo>
                        <a:lnTo>
                          <a:pt x="662" y="895"/>
                        </a:lnTo>
                        <a:lnTo>
                          <a:pt x="618" y="924"/>
                        </a:lnTo>
                        <a:lnTo>
                          <a:pt x="576" y="950"/>
                        </a:lnTo>
                        <a:lnTo>
                          <a:pt x="534" y="979"/>
                        </a:lnTo>
                        <a:lnTo>
                          <a:pt x="492" y="1007"/>
                        </a:lnTo>
                        <a:lnTo>
                          <a:pt x="452" y="1036"/>
                        </a:lnTo>
                        <a:lnTo>
                          <a:pt x="413" y="1064"/>
                        </a:lnTo>
                        <a:lnTo>
                          <a:pt x="374" y="1093"/>
                        </a:lnTo>
                        <a:lnTo>
                          <a:pt x="336" y="1121"/>
                        </a:lnTo>
                        <a:lnTo>
                          <a:pt x="300" y="1150"/>
                        </a:lnTo>
                        <a:lnTo>
                          <a:pt x="266" y="1178"/>
                        </a:lnTo>
                        <a:lnTo>
                          <a:pt x="234" y="1207"/>
                        </a:lnTo>
                        <a:lnTo>
                          <a:pt x="201" y="1235"/>
                        </a:lnTo>
                        <a:lnTo>
                          <a:pt x="171" y="1264"/>
                        </a:lnTo>
                        <a:lnTo>
                          <a:pt x="118" y="1317"/>
                        </a:lnTo>
                        <a:lnTo>
                          <a:pt x="74" y="1370"/>
                        </a:lnTo>
                        <a:lnTo>
                          <a:pt x="38" y="1422"/>
                        </a:lnTo>
                        <a:lnTo>
                          <a:pt x="0" y="1517"/>
                        </a:lnTo>
                        <a:lnTo>
                          <a:pt x="13" y="1598"/>
                        </a:lnTo>
                        <a:lnTo>
                          <a:pt x="40" y="1634"/>
                        </a:lnTo>
                        <a:lnTo>
                          <a:pt x="84" y="1667"/>
                        </a:lnTo>
                        <a:lnTo>
                          <a:pt x="143" y="1695"/>
                        </a:lnTo>
                        <a:lnTo>
                          <a:pt x="220" y="1716"/>
                        </a:lnTo>
                        <a:lnTo>
                          <a:pt x="220" y="1716"/>
                        </a:lnTo>
                        <a:close/>
                      </a:path>
                    </a:pathLst>
                  </a:custGeom>
                  <a:solidFill>
                    <a:srgbClr val="a394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5320080" y="5866200"/>
                    <a:ext cx="79632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9" h="2003">
                        <a:moveTo>
                          <a:pt x="40" y="1591"/>
                        </a:moveTo>
                        <a:lnTo>
                          <a:pt x="68" y="1621"/>
                        </a:lnTo>
                        <a:lnTo>
                          <a:pt x="102" y="1653"/>
                        </a:lnTo>
                        <a:lnTo>
                          <a:pt x="150" y="1693"/>
                        </a:lnTo>
                        <a:lnTo>
                          <a:pt x="180" y="1716"/>
                        </a:lnTo>
                        <a:lnTo>
                          <a:pt x="213" y="1741"/>
                        </a:lnTo>
                        <a:lnTo>
                          <a:pt x="249" y="1765"/>
                        </a:lnTo>
                        <a:lnTo>
                          <a:pt x="289" y="1788"/>
                        </a:lnTo>
                        <a:lnTo>
                          <a:pt x="332" y="1813"/>
                        </a:lnTo>
                        <a:lnTo>
                          <a:pt x="380" y="1838"/>
                        </a:lnTo>
                        <a:lnTo>
                          <a:pt x="431" y="1860"/>
                        </a:lnTo>
                        <a:lnTo>
                          <a:pt x="487" y="1883"/>
                        </a:lnTo>
                        <a:lnTo>
                          <a:pt x="585" y="1917"/>
                        </a:lnTo>
                        <a:lnTo>
                          <a:pt x="696" y="1946"/>
                        </a:lnTo>
                        <a:lnTo>
                          <a:pt x="815" y="1969"/>
                        </a:lnTo>
                        <a:lnTo>
                          <a:pt x="945" y="1986"/>
                        </a:lnTo>
                        <a:lnTo>
                          <a:pt x="1239" y="2003"/>
                        </a:lnTo>
                        <a:lnTo>
                          <a:pt x="1576" y="1995"/>
                        </a:lnTo>
                        <a:lnTo>
                          <a:pt x="1601" y="1874"/>
                        </a:lnTo>
                        <a:lnTo>
                          <a:pt x="1633" y="1750"/>
                        </a:lnTo>
                        <a:lnTo>
                          <a:pt x="1652" y="1682"/>
                        </a:lnTo>
                        <a:lnTo>
                          <a:pt x="1675" y="1611"/>
                        </a:lnTo>
                        <a:lnTo>
                          <a:pt x="1698" y="1541"/>
                        </a:lnTo>
                        <a:lnTo>
                          <a:pt x="1724" y="1476"/>
                        </a:lnTo>
                        <a:lnTo>
                          <a:pt x="1753" y="1418"/>
                        </a:lnTo>
                        <a:lnTo>
                          <a:pt x="1783" y="1366"/>
                        </a:lnTo>
                        <a:lnTo>
                          <a:pt x="1817" y="1326"/>
                        </a:lnTo>
                        <a:lnTo>
                          <a:pt x="1852" y="1300"/>
                        </a:lnTo>
                        <a:lnTo>
                          <a:pt x="1924" y="1298"/>
                        </a:lnTo>
                        <a:lnTo>
                          <a:pt x="1989" y="1332"/>
                        </a:lnTo>
                        <a:lnTo>
                          <a:pt x="2036" y="1361"/>
                        </a:lnTo>
                        <a:lnTo>
                          <a:pt x="2087" y="1402"/>
                        </a:lnTo>
                        <a:lnTo>
                          <a:pt x="2101" y="1435"/>
                        </a:lnTo>
                        <a:lnTo>
                          <a:pt x="2165" y="1651"/>
                        </a:lnTo>
                        <a:lnTo>
                          <a:pt x="2262" y="1480"/>
                        </a:lnTo>
                        <a:lnTo>
                          <a:pt x="2646" y="1035"/>
                        </a:lnTo>
                        <a:lnTo>
                          <a:pt x="2855" y="1243"/>
                        </a:lnTo>
                        <a:lnTo>
                          <a:pt x="3019" y="1094"/>
                        </a:lnTo>
                        <a:lnTo>
                          <a:pt x="3006" y="1056"/>
                        </a:lnTo>
                        <a:lnTo>
                          <a:pt x="2970" y="958"/>
                        </a:lnTo>
                        <a:lnTo>
                          <a:pt x="2945" y="891"/>
                        </a:lnTo>
                        <a:lnTo>
                          <a:pt x="2913" y="815"/>
                        </a:lnTo>
                        <a:lnTo>
                          <a:pt x="2878" y="733"/>
                        </a:lnTo>
                        <a:lnTo>
                          <a:pt x="2838" y="650"/>
                        </a:lnTo>
                        <a:lnTo>
                          <a:pt x="2795" y="566"/>
                        </a:lnTo>
                        <a:lnTo>
                          <a:pt x="2772" y="524"/>
                        </a:lnTo>
                        <a:lnTo>
                          <a:pt x="2747" y="484"/>
                        </a:lnTo>
                        <a:lnTo>
                          <a:pt x="2722" y="444"/>
                        </a:lnTo>
                        <a:lnTo>
                          <a:pt x="2698" y="406"/>
                        </a:lnTo>
                        <a:lnTo>
                          <a:pt x="2671" y="368"/>
                        </a:lnTo>
                        <a:lnTo>
                          <a:pt x="2644" y="334"/>
                        </a:lnTo>
                        <a:lnTo>
                          <a:pt x="2589" y="273"/>
                        </a:lnTo>
                        <a:lnTo>
                          <a:pt x="2559" y="247"/>
                        </a:lnTo>
                        <a:lnTo>
                          <a:pt x="2530" y="224"/>
                        </a:lnTo>
                        <a:lnTo>
                          <a:pt x="2470" y="190"/>
                        </a:lnTo>
                        <a:lnTo>
                          <a:pt x="2409" y="171"/>
                        </a:lnTo>
                        <a:lnTo>
                          <a:pt x="2331" y="85"/>
                        </a:lnTo>
                        <a:lnTo>
                          <a:pt x="1979" y="0"/>
                        </a:lnTo>
                        <a:lnTo>
                          <a:pt x="1661" y="30"/>
                        </a:lnTo>
                        <a:lnTo>
                          <a:pt x="1418" y="39"/>
                        </a:lnTo>
                        <a:lnTo>
                          <a:pt x="1110" y="152"/>
                        </a:lnTo>
                        <a:lnTo>
                          <a:pt x="975" y="228"/>
                        </a:lnTo>
                        <a:lnTo>
                          <a:pt x="802" y="509"/>
                        </a:lnTo>
                        <a:lnTo>
                          <a:pt x="711" y="631"/>
                        </a:lnTo>
                        <a:lnTo>
                          <a:pt x="399" y="758"/>
                        </a:lnTo>
                        <a:lnTo>
                          <a:pt x="365" y="783"/>
                        </a:lnTo>
                        <a:lnTo>
                          <a:pt x="329" y="809"/>
                        </a:lnTo>
                        <a:lnTo>
                          <a:pt x="283" y="842"/>
                        </a:lnTo>
                        <a:lnTo>
                          <a:pt x="237" y="876"/>
                        </a:lnTo>
                        <a:lnTo>
                          <a:pt x="190" y="910"/>
                        </a:lnTo>
                        <a:lnTo>
                          <a:pt x="150" y="942"/>
                        </a:lnTo>
                        <a:lnTo>
                          <a:pt x="118" y="967"/>
                        </a:lnTo>
                        <a:lnTo>
                          <a:pt x="64" y="1041"/>
                        </a:lnTo>
                        <a:lnTo>
                          <a:pt x="63" y="1072"/>
                        </a:lnTo>
                        <a:lnTo>
                          <a:pt x="0" y="1239"/>
                        </a:lnTo>
                        <a:lnTo>
                          <a:pt x="40" y="1591"/>
                        </a:lnTo>
                        <a:lnTo>
                          <a:pt x="40" y="1591"/>
                        </a:lnTo>
                        <a:close/>
                      </a:path>
                    </a:pathLst>
                  </a:custGeom>
                  <a:solidFill>
                    <a:srgbClr val="ffe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5951880" y="6091920"/>
                    <a:ext cx="1288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711">
                        <a:moveTo>
                          <a:pt x="0" y="621"/>
                        </a:moveTo>
                        <a:lnTo>
                          <a:pt x="17" y="646"/>
                        </a:lnTo>
                        <a:lnTo>
                          <a:pt x="38" y="669"/>
                        </a:lnTo>
                        <a:lnTo>
                          <a:pt x="69" y="690"/>
                        </a:lnTo>
                        <a:lnTo>
                          <a:pt x="103" y="707"/>
                        </a:lnTo>
                        <a:lnTo>
                          <a:pt x="145" y="711"/>
                        </a:lnTo>
                        <a:lnTo>
                          <a:pt x="244" y="665"/>
                        </a:lnTo>
                        <a:lnTo>
                          <a:pt x="356" y="625"/>
                        </a:lnTo>
                        <a:lnTo>
                          <a:pt x="447" y="405"/>
                        </a:lnTo>
                        <a:lnTo>
                          <a:pt x="489" y="216"/>
                        </a:lnTo>
                        <a:lnTo>
                          <a:pt x="478" y="118"/>
                        </a:lnTo>
                        <a:lnTo>
                          <a:pt x="460" y="44"/>
                        </a:lnTo>
                        <a:lnTo>
                          <a:pt x="447" y="17"/>
                        </a:lnTo>
                        <a:lnTo>
                          <a:pt x="432" y="0"/>
                        </a:lnTo>
                        <a:lnTo>
                          <a:pt x="341" y="4"/>
                        </a:lnTo>
                        <a:lnTo>
                          <a:pt x="286" y="25"/>
                        </a:lnTo>
                        <a:lnTo>
                          <a:pt x="158" y="300"/>
                        </a:lnTo>
                        <a:lnTo>
                          <a:pt x="0" y="621"/>
                        </a:lnTo>
                        <a:lnTo>
                          <a:pt x="0" y="621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5946840" y="6237720"/>
                    <a:ext cx="72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58">
                        <a:moveTo>
                          <a:pt x="0" y="30"/>
                        </a:moveTo>
                        <a:lnTo>
                          <a:pt x="124" y="0"/>
                        </a:lnTo>
                        <a:lnTo>
                          <a:pt x="143" y="25"/>
                        </a:lnTo>
                        <a:lnTo>
                          <a:pt x="164" y="49"/>
                        </a:lnTo>
                        <a:lnTo>
                          <a:pt x="192" y="72"/>
                        </a:lnTo>
                        <a:lnTo>
                          <a:pt x="276" y="123"/>
                        </a:lnTo>
                        <a:lnTo>
                          <a:pt x="242" y="150"/>
                        </a:lnTo>
                        <a:lnTo>
                          <a:pt x="198" y="158"/>
                        </a:lnTo>
                        <a:lnTo>
                          <a:pt x="145" y="158"/>
                        </a:lnTo>
                        <a:lnTo>
                          <a:pt x="29" y="106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2e4f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437080" y="6064920"/>
                    <a:ext cx="29376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4" h="888">
                        <a:moveTo>
                          <a:pt x="34" y="888"/>
                        </a:moveTo>
                        <a:lnTo>
                          <a:pt x="51" y="865"/>
                        </a:lnTo>
                        <a:lnTo>
                          <a:pt x="101" y="800"/>
                        </a:lnTo>
                        <a:lnTo>
                          <a:pt x="137" y="755"/>
                        </a:lnTo>
                        <a:lnTo>
                          <a:pt x="178" y="705"/>
                        </a:lnTo>
                        <a:lnTo>
                          <a:pt x="224" y="650"/>
                        </a:lnTo>
                        <a:lnTo>
                          <a:pt x="277" y="593"/>
                        </a:lnTo>
                        <a:lnTo>
                          <a:pt x="334" y="532"/>
                        </a:lnTo>
                        <a:lnTo>
                          <a:pt x="363" y="504"/>
                        </a:lnTo>
                        <a:lnTo>
                          <a:pt x="393" y="473"/>
                        </a:lnTo>
                        <a:lnTo>
                          <a:pt x="426" y="443"/>
                        </a:lnTo>
                        <a:lnTo>
                          <a:pt x="458" y="415"/>
                        </a:lnTo>
                        <a:lnTo>
                          <a:pt x="492" y="386"/>
                        </a:lnTo>
                        <a:lnTo>
                          <a:pt x="525" y="358"/>
                        </a:lnTo>
                        <a:lnTo>
                          <a:pt x="559" y="331"/>
                        </a:lnTo>
                        <a:lnTo>
                          <a:pt x="595" y="304"/>
                        </a:lnTo>
                        <a:lnTo>
                          <a:pt x="629" y="281"/>
                        </a:lnTo>
                        <a:lnTo>
                          <a:pt x="665" y="257"/>
                        </a:lnTo>
                        <a:lnTo>
                          <a:pt x="737" y="217"/>
                        </a:lnTo>
                        <a:lnTo>
                          <a:pt x="808" y="185"/>
                        </a:lnTo>
                        <a:lnTo>
                          <a:pt x="874" y="158"/>
                        </a:lnTo>
                        <a:lnTo>
                          <a:pt x="931" y="137"/>
                        </a:lnTo>
                        <a:lnTo>
                          <a:pt x="1017" y="105"/>
                        </a:lnTo>
                        <a:lnTo>
                          <a:pt x="1101" y="78"/>
                        </a:lnTo>
                        <a:lnTo>
                          <a:pt x="1114" y="80"/>
                        </a:lnTo>
                        <a:lnTo>
                          <a:pt x="1106" y="86"/>
                        </a:lnTo>
                        <a:lnTo>
                          <a:pt x="760" y="61"/>
                        </a:lnTo>
                        <a:lnTo>
                          <a:pt x="348" y="0"/>
                        </a:lnTo>
                        <a:lnTo>
                          <a:pt x="310" y="13"/>
                        </a:lnTo>
                        <a:lnTo>
                          <a:pt x="258" y="80"/>
                        </a:lnTo>
                        <a:lnTo>
                          <a:pt x="232" y="128"/>
                        </a:lnTo>
                        <a:lnTo>
                          <a:pt x="203" y="185"/>
                        </a:lnTo>
                        <a:lnTo>
                          <a:pt x="175" y="247"/>
                        </a:lnTo>
                        <a:lnTo>
                          <a:pt x="146" y="312"/>
                        </a:lnTo>
                        <a:lnTo>
                          <a:pt x="118" y="380"/>
                        </a:lnTo>
                        <a:lnTo>
                          <a:pt x="93" y="451"/>
                        </a:lnTo>
                        <a:lnTo>
                          <a:pt x="47" y="580"/>
                        </a:lnTo>
                        <a:lnTo>
                          <a:pt x="2" y="764"/>
                        </a:lnTo>
                        <a:lnTo>
                          <a:pt x="0" y="808"/>
                        </a:lnTo>
                        <a:lnTo>
                          <a:pt x="2" y="840"/>
                        </a:lnTo>
                        <a:lnTo>
                          <a:pt x="13" y="876"/>
                        </a:lnTo>
                        <a:lnTo>
                          <a:pt x="34" y="888"/>
                        </a:lnTo>
                        <a:lnTo>
                          <a:pt x="34" y="888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5783400" y="6258240"/>
                    <a:ext cx="579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83">
                        <a:moveTo>
                          <a:pt x="0" y="391"/>
                        </a:moveTo>
                        <a:lnTo>
                          <a:pt x="11" y="458"/>
                        </a:lnTo>
                        <a:lnTo>
                          <a:pt x="30" y="483"/>
                        </a:lnTo>
                        <a:lnTo>
                          <a:pt x="59" y="477"/>
                        </a:lnTo>
                        <a:lnTo>
                          <a:pt x="110" y="422"/>
                        </a:lnTo>
                        <a:lnTo>
                          <a:pt x="133" y="378"/>
                        </a:lnTo>
                        <a:lnTo>
                          <a:pt x="161" y="319"/>
                        </a:lnTo>
                        <a:lnTo>
                          <a:pt x="188" y="258"/>
                        </a:lnTo>
                        <a:lnTo>
                          <a:pt x="205" y="209"/>
                        </a:lnTo>
                        <a:lnTo>
                          <a:pt x="220" y="26"/>
                        </a:lnTo>
                        <a:lnTo>
                          <a:pt x="211" y="13"/>
                        </a:lnTo>
                        <a:lnTo>
                          <a:pt x="194" y="0"/>
                        </a:lnTo>
                        <a:lnTo>
                          <a:pt x="106" y="9"/>
                        </a:lnTo>
                        <a:lnTo>
                          <a:pt x="28" y="209"/>
                        </a:lnTo>
                        <a:lnTo>
                          <a:pt x="0" y="391"/>
                        </a:lnTo>
                        <a:lnTo>
                          <a:pt x="0" y="391"/>
                        </a:lnTo>
                        <a:close/>
                      </a:path>
                    </a:pathLst>
                  </a:custGeom>
                  <a:solidFill>
                    <a:srgbClr val="6079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5555880" y="6193080"/>
                    <a:ext cx="12708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483">
                        <a:moveTo>
                          <a:pt x="63" y="156"/>
                        </a:moveTo>
                        <a:lnTo>
                          <a:pt x="48" y="182"/>
                        </a:lnTo>
                        <a:lnTo>
                          <a:pt x="19" y="245"/>
                        </a:lnTo>
                        <a:lnTo>
                          <a:pt x="0" y="325"/>
                        </a:lnTo>
                        <a:lnTo>
                          <a:pt x="17" y="401"/>
                        </a:lnTo>
                        <a:lnTo>
                          <a:pt x="46" y="431"/>
                        </a:lnTo>
                        <a:lnTo>
                          <a:pt x="82" y="454"/>
                        </a:lnTo>
                        <a:lnTo>
                          <a:pt x="171" y="479"/>
                        </a:lnTo>
                        <a:lnTo>
                          <a:pt x="308" y="483"/>
                        </a:lnTo>
                        <a:lnTo>
                          <a:pt x="402" y="450"/>
                        </a:lnTo>
                        <a:lnTo>
                          <a:pt x="468" y="424"/>
                        </a:lnTo>
                        <a:lnTo>
                          <a:pt x="481" y="372"/>
                        </a:lnTo>
                        <a:lnTo>
                          <a:pt x="236" y="388"/>
                        </a:lnTo>
                        <a:lnTo>
                          <a:pt x="187" y="235"/>
                        </a:lnTo>
                        <a:lnTo>
                          <a:pt x="242" y="64"/>
                        </a:lnTo>
                        <a:lnTo>
                          <a:pt x="289" y="0"/>
                        </a:lnTo>
                        <a:lnTo>
                          <a:pt x="202" y="30"/>
                        </a:lnTo>
                        <a:lnTo>
                          <a:pt x="126" y="78"/>
                        </a:lnTo>
                        <a:lnTo>
                          <a:pt x="63" y="156"/>
                        </a:lnTo>
                        <a:lnTo>
                          <a:pt x="63" y="156"/>
                        </a:lnTo>
                        <a:close/>
                      </a:path>
                    </a:pathLst>
                  </a:custGeom>
                  <a:solidFill>
                    <a:srgbClr val="ffff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6023160" y="6136560"/>
                    <a:ext cx="324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16">
                        <a:moveTo>
                          <a:pt x="48" y="32"/>
                        </a:moveTo>
                        <a:lnTo>
                          <a:pt x="21" y="93"/>
                        </a:lnTo>
                        <a:lnTo>
                          <a:pt x="0" y="196"/>
                        </a:lnTo>
                        <a:lnTo>
                          <a:pt x="12" y="302"/>
                        </a:lnTo>
                        <a:lnTo>
                          <a:pt x="33" y="316"/>
                        </a:lnTo>
                        <a:lnTo>
                          <a:pt x="63" y="287"/>
                        </a:lnTo>
                        <a:lnTo>
                          <a:pt x="107" y="182"/>
                        </a:lnTo>
                        <a:lnTo>
                          <a:pt x="124" y="19"/>
                        </a:lnTo>
                        <a:lnTo>
                          <a:pt x="103" y="0"/>
                        </a:lnTo>
                        <a:lnTo>
                          <a:pt x="48" y="32"/>
                        </a:lnTo>
                        <a:lnTo>
                          <a:pt x="48" y="32"/>
                        </a:lnTo>
                        <a:close/>
                      </a:path>
                    </a:pathLst>
                  </a:custGeom>
                  <a:solidFill>
                    <a:srgbClr val="1c40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5724360" y="5894640"/>
                    <a:ext cx="316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4" h="380">
                        <a:moveTo>
                          <a:pt x="0" y="211"/>
                        </a:moveTo>
                        <a:lnTo>
                          <a:pt x="65" y="194"/>
                        </a:lnTo>
                        <a:lnTo>
                          <a:pt x="215" y="152"/>
                        </a:lnTo>
                        <a:lnTo>
                          <a:pt x="303" y="125"/>
                        </a:lnTo>
                        <a:lnTo>
                          <a:pt x="388" y="99"/>
                        </a:lnTo>
                        <a:lnTo>
                          <a:pt x="466" y="72"/>
                        </a:lnTo>
                        <a:lnTo>
                          <a:pt x="525" y="47"/>
                        </a:lnTo>
                        <a:lnTo>
                          <a:pt x="576" y="28"/>
                        </a:lnTo>
                        <a:lnTo>
                          <a:pt x="630" y="13"/>
                        </a:lnTo>
                        <a:lnTo>
                          <a:pt x="736" y="0"/>
                        </a:lnTo>
                        <a:lnTo>
                          <a:pt x="900" y="26"/>
                        </a:lnTo>
                        <a:lnTo>
                          <a:pt x="930" y="47"/>
                        </a:lnTo>
                        <a:lnTo>
                          <a:pt x="968" y="78"/>
                        </a:lnTo>
                        <a:lnTo>
                          <a:pt x="1010" y="112"/>
                        </a:lnTo>
                        <a:lnTo>
                          <a:pt x="1052" y="150"/>
                        </a:lnTo>
                        <a:lnTo>
                          <a:pt x="1092" y="186"/>
                        </a:lnTo>
                        <a:lnTo>
                          <a:pt x="1124" y="215"/>
                        </a:lnTo>
                        <a:lnTo>
                          <a:pt x="1154" y="243"/>
                        </a:lnTo>
                        <a:lnTo>
                          <a:pt x="1204" y="304"/>
                        </a:lnTo>
                        <a:lnTo>
                          <a:pt x="1147" y="327"/>
                        </a:lnTo>
                        <a:lnTo>
                          <a:pt x="1073" y="380"/>
                        </a:lnTo>
                        <a:lnTo>
                          <a:pt x="1059" y="380"/>
                        </a:lnTo>
                        <a:lnTo>
                          <a:pt x="1052" y="346"/>
                        </a:lnTo>
                        <a:lnTo>
                          <a:pt x="1046" y="281"/>
                        </a:lnTo>
                        <a:lnTo>
                          <a:pt x="917" y="173"/>
                        </a:lnTo>
                        <a:lnTo>
                          <a:pt x="651" y="179"/>
                        </a:lnTo>
                        <a:lnTo>
                          <a:pt x="413" y="264"/>
                        </a:lnTo>
                        <a:lnTo>
                          <a:pt x="0" y="211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661720" y="6367320"/>
                    <a:ext cx="1360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7" h="304">
                        <a:moveTo>
                          <a:pt x="0" y="133"/>
                        </a:moveTo>
                        <a:lnTo>
                          <a:pt x="91" y="245"/>
                        </a:lnTo>
                        <a:lnTo>
                          <a:pt x="279" y="304"/>
                        </a:lnTo>
                        <a:lnTo>
                          <a:pt x="410" y="276"/>
                        </a:lnTo>
                        <a:lnTo>
                          <a:pt x="517" y="255"/>
                        </a:lnTo>
                        <a:lnTo>
                          <a:pt x="425" y="257"/>
                        </a:lnTo>
                        <a:lnTo>
                          <a:pt x="338" y="217"/>
                        </a:lnTo>
                        <a:lnTo>
                          <a:pt x="268" y="131"/>
                        </a:lnTo>
                        <a:lnTo>
                          <a:pt x="228" y="0"/>
                        </a:lnTo>
                        <a:lnTo>
                          <a:pt x="216" y="27"/>
                        </a:lnTo>
                        <a:lnTo>
                          <a:pt x="192" y="52"/>
                        </a:lnTo>
                        <a:lnTo>
                          <a:pt x="152" y="72"/>
                        </a:lnTo>
                        <a:lnTo>
                          <a:pt x="0" y="133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3148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349960" y="6060600"/>
                    <a:ext cx="1180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266">
                        <a:moveTo>
                          <a:pt x="0" y="260"/>
                        </a:moveTo>
                        <a:lnTo>
                          <a:pt x="36" y="236"/>
                        </a:lnTo>
                        <a:lnTo>
                          <a:pt x="74" y="211"/>
                        </a:lnTo>
                        <a:lnTo>
                          <a:pt x="122" y="179"/>
                        </a:lnTo>
                        <a:lnTo>
                          <a:pt x="173" y="146"/>
                        </a:lnTo>
                        <a:lnTo>
                          <a:pt x="226" y="112"/>
                        </a:lnTo>
                        <a:lnTo>
                          <a:pt x="274" y="82"/>
                        </a:lnTo>
                        <a:lnTo>
                          <a:pt x="314" y="59"/>
                        </a:lnTo>
                        <a:lnTo>
                          <a:pt x="373" y="27"/>
                        </a:lnTo>
                        <a:lnTo>
                          <a:pt x="414" y="8"/>
                        </a:lnTo>
                        <a:lnTo>
                          <a:pt x="447" y="0"/>
                        </a:lnTo>
                        <a:lnTo>
                          <a:pt x="418" y="15"/>
                        </a:lnTo>
                        <a:lnTo>
                          <a:pt x="350" y="59"/>
                        </a:lnTo>
                        <a:lnTo>
                          <a:pt x="308" y="89"/>
                        </a:lnTo>
                        <a:lnTo>
                          <a:pt x="264" y="123"/>
                        </a:lnTo>
                        <a:lnTo>
                          <a:pt x="222" y="160"/>
                        </a:lnTo>
                        <a:lnTo>
                          <a:pt x="184" y="198"/>
                        </a:lnTo>
                        <a:lnTo>
                          <a:pt x="154" y="230"/>
                        </a:lnTo>
                        <a:lnTo>
                          <a:pt x="129" y="251"/>
                        </a:lnTo>
                        <a:lnTo>
                          <a:pt x="97" y="266"/>
                        </a:lnTo>
                        <a:lnTo>
                          <a:pt x="76" y="258"/>
                        </a:lnTo>
                        <a:lnTo>
                          <a:pt x="0" y="260"/>
                        </a:lnTo>
                        <a:lnTo>
                          <a:pt x="0" y="26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5349600" y="6035760"/>
                    <a:ext cx="16524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815">
                        <a:moveTo>
                          <a:pt x="224" y="363"/>
                        </a:moveTo>
                        <a:lnTo>
                          <a:pt x="245" y="526"/>
                        </a:lnTo>
                        <a:lnTo>
                          <a:pt x="213" y="587"/>
                        </a:lnTo>
                        <a:lnTo>
                          <a:pt x="177" y="648"/>
                        </a:lnTo>
                        <a:lnTo>
                          <a:pt x="152" y="673"/>
                        </a:lnTo>
                        <a:lnTo>
                          <a:pt x="122" y="692"/>
                        </a:lnTo>
                        <a:lnTo>
                          <a:pt x="42" y="703"/>
                        </a:lnTo>
                        <a:lnTo>
                          <a:pt x="8" y="709"/>
                        </a:lnTo>
                        <a:lnTo>
                          <a:pt x="0" y="726"/>
                        </a:lnTo>
                        <a:lnTo>
                          <a:pt x="15" y="751"/>
                        </a:lnTo>
                        <a:lnTo>
                          <a:pt x="42" y="777"/>
                        </a:lnTo>
                        <a:lnTo>
                          <a:pt x="78" y="802"/>
                        </a:lnTo>
                        <a:lnTo>
                          <a:pt x="118" y="815"/>
                        </a:lnTo>
                        <a:lnTo>
                          <a:pt x="181" y="793"/>
                        </a:lnTo>
                        <a:lnTo>
                          <a:pt x="209" y="739"/>
                        </a:lnTo>
                        <a:lnTo>
                          <a:pt x="230" y="703"/>
                        </a:lnTo>
                        <a:lnTo>
                          <a:pt x="253" y="661"/>
                        </a:lnTo>
                        <a:lnTo>
                          <a:pt x="278" y="616"/>
                        </a:lnTo>
                        <a:lnTo>
                          <a:pt x="304" y="566"/>
                        </a:lnTo>
                        <a:lnTo>
                          <a:pt x="331" y="515"/>
                        </a:lnTo>
                        <a:lnTo>
                          <a:pt x="357" y="466"/>
                        </a:lnTo>
                        <a:lnTo>
                          <a:pt x="384" y="414"/>
                        </a:lnTo>
                        <a:lnTo>
                          <a:pt x="409" y="367"/>
                        </a:lnTo>
                        <a:lnTo>
                          <a:pt x="434" y="323"/>
                        </a:lnTo>
                        <a:lnTo>
                          <a:pt x="453" y="285"/>
                        </a:lnTo>
                        <a:lnTo>
                          <a:pt x="483" y="228"/>
                        </a:lnTo>
                        <a:lnTo>
                          <a:pt x="494" y="207"/>
                        </a:lnTo>
                        <a:lnTo>
                          <a:pt x="629" y="76"/>
                        </a:lnTo>
                        <a:lnTo>
                          <a:pt x="614" y="0"/>
                        </a:lnTo>
                        <a:lnTo>
                          <a:pt x="595" y="13"/>
                        </a:lnTo>
                        <a:lnTo>
                          <a:pt x="548" y="49"/>
                        </a:lnTo>
                        <a:lnTo>
                          <a:pt x="515" y="72"/>
                        </a:lnTo>
                        <a:lnTo>
                          <a:pt x="479" y="99"/>
                        </a:lnTo>
                        <a:lnTo>
                          <a:pt x="441" y="129"/>
                        </a:lnTo>
                        <a:lnTo>
                          <a:pt x="401" y="160"/>
                        </a:lnTo>
                        <a:lnTo>
                          <a:pt x="363" y="192"/>
                        </a:lnTo>
                        <a:lnTo>
                          <a:pt x="327" y="222"/>
                        </a:lnTo>
                        <a:lnTo>
                          <a:pt x="295" y="253"/>
                        </a:lnTo>
                        <a:lnTo>
                          <a:pt x="266" y="281"/>
                        </a:lnTo>
                        <a:lnTo>
                          <a:pt x="224" y="363"/>
                        </a:lnTo>
                        <a:lnTo>
                          <a:pt x="224" y="36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560200" y="5860440"/>
                    <a:ext cx="303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52" h="308">
                        <a:moveTo>
                          <a:pt x="32" y="237"/>
                        </a:moveTo>
                        <a:lnTo>
                          <a:pt x="536" y="308"/>
                        </a:lnTo>
                        <a:lnTo>
                          <a:pt x="473" y="271"/>
                        </a:lnTo>
                        <a:lnTo>
                          <a:pt x="450" y="232"/>
                        </a:lnTo>
                        <a:lnTo>
                          <a:pt x="460" y="211"/>
                        </a:lnTo>
                        <a:lnTo>
                          <a:pt x="486" y="190"/>
                        </a:lnTo>
                        <a:lnTo>
                          <a:pt x="526" y="167"/>
                        </a:lnTo>
                        <a:lnTo>
                          <a:pt x="566" y="150"/>
                        </a:lnTo>
                        <a:lnTo>
                          <a:pt x="654" y="119"/>
                        </a:lnTo>
                        <a:lnTo>
                          <a:pt x="747" y="97"/>
                        </a:lnTo>
                        <a:lnTo>
                          <a:pt x="849" y="76"/>
                        </a:lnTo>
                        <a:lnTo>
                          <a:pt x="1152" y="47"/>
                        </a:lnTo>
                        <a:lnTo>
                          <a:pt x="1011" y="15"/>
                        </a:lnTo>
                        <a:lnTo>
                          <a:pt x="785" y="3"/>
                        </a:lnTo>
                        <a:lnTo>
                          <a:pt x="650" y="0"/>
                        </a:lnTo>
                        <a:lnTo>
                          <a:pt x="448" y="36"/>
                        </a:lnTo>
                        <a:lnTo>
                          <a:pt x="237" y="102"/>
                        </a:lnTo>
                        <a:lnTo>
                          <a:pt x="38" y="190"/>
                        </a:lnTo>
                        <a:lnTo>
                          <a:pt x="0" y="264"/>
                        </a:lnTo>
                        <a:lnTo>
                          <a:pt x="32" y="237"/>
                        </a:lnTo>
                        <a:lnTo>
                          <a:pt x="32" y="237"/>
                        </a:lnTo>
                        <a:close/>
                      </a:path>
                    </a:pathLst>
                  </a:custGeom>
                  <a:solidFill>
                    <a:srgbClr val="fff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5889240" y="6044400"/>
                    <a:ext cx="22500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3" h="856">
                        <a:moveTo>
                          <a:pt x="5" y="804"/>
                        </a:moveTo>
                        <a:lnTo>
                          <a:pt x="87" y="578"/>
                        </a:lnTo>
                        <a:lnTo>
                          <a:pt x="89" y="650"/>
                        </a:lnTo>
                        <a:lnTo>
                          <a:pt x="169" y="512"/>
                        </a:lnTo>
                        <a:lnTo>
                          <a:pt x="152" y="629"/>
                        </a:lnTo>
                        <a:lnTo>
                          <a:pt x="230" y="464"/>
                        </a:lnTo>
                        <a:lnTo>
                          <a:pt x="243" y="588"/>
                        </a:lnTo>
                        <a:lnTo>
                          <a:pt x="274" y="390"/>
                        </a:lnTo>
                        <a:lnTo>
                          <a:pt x="310" y="232"/>
                        </a:lnTo>
                        <a:lnTo>
                          <a:pt x="332" y="166"/>
                        </a:lnTo>
                        <a:lnTo>
                          <a:pt x="359" y="114"/>
                        </a:lnTo>
                        <a:lnTo>
                          <a:pt x="388" y="80"/>
                        </a:lnTo>
                        <a:lnTo>
                          <a:pt x="416" y="53"/>
                        </a:lnTo>
                        <a:lnTo>
                          <a:pt x="469" y="23"/>
                        </a:lnTo>
                        <a:lnTo>
                          <a:pt x="524" y="10"/>
                        </a:lnTo>
                        <a:lnTo>
                          <a:pt x="589" y="0"/>
                        </a:lnTo>
                        <a:lnTo>
                          <a:pt x="644" y="12"/>
                        </a:lnTo>
                        <a:lnTo>
                          <a:pt x="694" y="55"/>
                        </a:lnTo>
                        <a:lnTo>
                          <a:pt x="736" y="131"/>
                        </a:lnTo>
                        <a:lnTo>
                          <a:pt x="770" y="217"/>
                        </a:lnTo>
                        <a:lnTo>
                          <a:pt x="806" y="312"/>
                        </a:lnTo>
                        <a:lnTo>
                          <a:pt x="853" y="420"/>
                        </a:lnTo>
                        <a:lnTo>
                          <a:pt x="682" y="550"/>
                        </a:lnTo>
                        <a:lnTo>
                          <a:pt x="690" y="481"/>
                        </a:lnTo>
                        <a:lnTo>
                          <a:pt x="701" y="274"/>
                        </a:lnTo>
                        <a:lnTo>
                          <a:pt x="652" y="183"/>
                        </a:lnTo>
                        <a:lnTo>
                          <a:pt x="570" y="185"/>
                        </a:lnTo>
                        <a:lnTo>
                          <a:pt x="545" y="207"/>
                        </a:lnTo>
                        <a:lnTo>
                          <a:pt x="490" y="264"/>
                        </a:lnTo>
                        <a:lnTo>
                          <a:pt x="433" y="344"/>
                        </a:lnTo>
                        <a:lnTo>
                          <a:pt x="399" y="432"/>
                        </a:lnTo>
                        <a:lnTo>
                          <a:pt x="372" y="608"/>
                        </a:lnTo>
                        <a:lnTo>
                          <a:pt x="357" y="698"/>
                        </a:lnTo>
                        <a:lnTo>
                          <a:pt x="355" y="770"/>
                        </a:lnTo>
                        <a:lnTo>
                          <a:pt x="112" y="852"/>
                        </a:lnTo>
                        <a:lnTo>
                          <a:pt x="0" y="856"/>
                        </a:lnTo>
                        <a:lnTo>
                          <a:pt x="5" y="804"/>
                        </a:lnTo>
                        <a:lnTo>
                          <a:pt x="5" y="804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5964840" y="6034320"/>
                    <a:ext cx="10584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378">
                        <a:moveTo>
                          <a:pt x="0" y="378"/>
                        </a:moveTo>
                        <a:lnTo>
                          <a:pt x="9" y="244"/>
                        </a:lnTo>
                        <a:lnTo>
                          <a:pt x="25" y="186"/>
                        </a:lnTo>
                        <a:lnTo>
                          <a:pt x="47" y="129"/>
                        </a:lnTo>
                        <a:lnTo>
                          <a:pt x="84" y="78"/>
                        </a:lnTo>
                        <a:lnTo>
                          <a:pt x="106" y="55"/>
                        </a:lnTo>
                        <a:lnTo>
                          <a:pt x="133" y="34"/>
                        </a:lnTo>
                        <a:lnTo>
                          <a:pt x="186" y="8"/>
                        </a:lnTo>
                        <a:lnTo>
                          <a:pt x="238" y="0"/>
                        </a:lnTo>
                        <a:lnTo>
                          <a:pt x="323" y="23"/>
                        </a:lnTo>
                        <a:lnTo>
                          <a:pt x="380" y="63"/>
                        </a:lnTo>
                        <a:lnTo>
                          <a:pt x="403" y="84"/>
                        </a:lnTo>
                        <a:lnTo>
                          <a:pt x="386" y="74"/>
                        </a:lnTo>
                        <a:lnTo>
                          <a:pt x="340" y="65"/>
                        </a:lnTo>
                        <a:lnTo>
                          <a:pt x="272" y="76"/>
                        </a:lnTo>
                        <a:lnTo>
                          <a:pt x="182" y="133"/>
                        </a:lnTo>
                        <a:lnTo>
                          <a:pt x="99" y="221"/>
                        </a:lnTo>
                        <a:lnTo>
                          <a:pt x="42" y="299"/>
                        </a:lnTo>
                        <a:lnTo>
                          <a:pt x="0" y="378"/>
                        </a:lnTo>
                        <a:lnTo>
                          <a:pt x="0" y="378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5629320" y="6105960"/>
                    <a:ext cx="25956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985" h="876">
                        <a:moveTo>
                          <a:pt x="0" y="876"/>
                        </a:moveTo>
                        <a:lnTo>
                          <a:pt x="40" y="852"/>
                        </a:lnTo>
                        <a:lnTo>
                          <a:pt x="82" y="823"/>
                        </a:lnTo>
                        <a:lnTo>
                          <a:pt x="129" y="789"/>
                        </a:lnTo>
                        <a:lnTo>
                          <a:pt x="179" y="751"/>
                        </a:lnTo>
                        <a:lnTo>
                          <a:pt x="224" y="713"/>
                        </a:lnTo>
                        <a:lnTo>
                          <a:pt x="279" y="644"/>
                        </a:lnTo>
                        <a:lnTo>
                          <a:pt x="321" y="354"/>
                        </a:lnTo>
                        <a:lnTo>
                          <a:pt x="342" y="259"/>
                        </a:lnTo>
                        <a:lnTo>
                          <a:pt x="371" y="171"/>
                        </a:lnTo>
                        <a:lnTo>
                          <a:pt x="390" y="131"/>
                        </a:lnTo>
                        <a:lnTo>
                          <a:pt x="413" y="97"/>
                        </a:lnTo>
                        <a:lnTo>
                          <a:pt x="437" y="67"/>
                        </a:lnTo>
                        <a:lnTo>
                          <a:pt x="466" y="44"/>
                        </a:lnTo>
                        <a:lnTo>
                          <a:pt x="525" y="15"/>
                        </a:lnTo>
                        <a:lnTo>
                          <a:pt x="578" y="0"/>
                        </a:lnTo>
                        <a:lnTo>
                          <a:pt x="664" y="8"/>
                        </a:lnTo>
                        <a:lnTo>
                          <a:pt x="732" y="44"/>
                        </a:lnTo>
                        <a:lnTo>
                          <a:pt x="749" y="53"/>
                        </a:lnTo>
                        <a:lnTo>
                          <a:pt x="798" y="78"/>
                        </a:lnTo>
                        <a:lnTo>
                          <a:pt x="848" y="105"/>
                        </a:lnTo>
                        <a:lnTo>
                          <a:pt x="873" y="116"/>
                        </a:lnTo>
                        <a:lnTo>
                          <a:pt x="958" y="257"/>
                        </a:lnTo>
                        <a:lnTo>
                          <a:pt x="985" y="378"/>
                        </a:lnTo>
                        <a:lnTo>
                          <a:pt x="899" y="285"/>
                        </a:lnTo>
                        <a:lnTo>
                          <a:pt x="728" y="289"/>
                        </a:lnTo>
                        <a:lnTo>
                          <a:pt x="451" y="635"/>
                        </a:lnTo>
                        <a:lnTo>
                          <a:pt x="274" y="863"/>
                        </a:lnTo>
                        <a:lnTo>
                          <a:pt x="0" y="876"/>
                        </a:lnTo>
                        <a:lnTo>
                          <a:pt x="0" y="876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5772600" y="5934960"/>
                    <a:ext cx="23832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667">
                        <a:moveTo>
                          <a:pt x="0" y="561"/>
                        </a:moveTo>
                        <a:lnTo>
                          <a:pt x="146" y="667"/>
                        </a:lnTo>
                        <a:lnTo>
                          <a:pt x="585" y="460"/>
                        </a:lnTo>
                        <a:lnTo>
                          <a:pt x="905" y="207"/>
                        </a:lnTo>
                        <a:lnTo>
                          <a:pt x="817" y="70"/>
                        </a:lnTo>
                        <a:lnTo>
                          <a:pt x="701" y="4"/>
                        </a:lnTo>
                        <a:lnTo>
                          <a:pt x="540" y="0"/>
                        </a:lnTo>
                        <a:lnTo>
                          <a:pt x="405" y="46"/>
                        </a:lnTo>
                        <a:lnTo>
                          <a:pt x="228" y="131"/>
                        </a:lnTo>
                        <a:lnTo>
                          <a:pt x="95" y="253"/>
                        </a:lnTo>
                        <a:lnTo>
                          <a:pt x="36" y="435"/>
                        </a:lnTo>
                        <a:lnTo>
                          <a:pt x="0" y="561"/>
                        </a:lnTo>
                        <a:lnTo>
                          <a:pt x="0" y="561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5607000" y="6178680"/>
                    <a:ext cx="1072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446">
                        <a:moveTo>
                          <a:pt x="0" y="328"/>
                        </a:moveTo>
                        <a:lnTo>
                          <a:pt x="65" y="93"/>
                        </a:lnTo>
                        <a:lnTo>
                          <a:pt x="190" y="11"/>
                        </a:lnTo>
                        <a:lnTo>
                          <a:pt x="236" y="3"/>
                        </a:lnTo>
                        <a:lnTo>
                          <a:pt x="301" y="0"/>
                        </a:lnTo>
                        <a:lnTo>
                          <a:pt x="350" y="15"/>
                        </a:lnTo>
                        <a:lnTo>
                          <a:pt x="382" y="59"/>
                        </a:lnTo>
                        <a:lnTo>
                          <a:pt x="407" y="205"/>
                        </a:lnTo>
                        <a:lnTo>
                          <a:pt x="400" y="277"/>
                        </a:lnTo>
                        <a:lnTo>
                          <a:pt x="373" y="330"/>
                        </a:lnTo>
                        <a:lnTo>
                          <a:pt x="348" y="351"/>
                        </a:lnTo>
                        <a:lnTo>
                          <a:pt x="320" y="372"/>
                        </a:lnTo>
                        <a:lnTo>
                          <a:pt x="259" y="408"/>
                        </a:lnTo>
                        <a:lnTo>
                          <a:pt x="209" y="435"/>
                        </a:lnTo>
                        <a:lnTo>
                          <a:pt x="189" y="446"/>
                        </a:lnTo>
                        <a:lnTo>
                          <a:pt x="38" y="412"/>
                        </a:lnTo>
                        <a:lnTo>
                          <a:pt x="0" y="328"/>
                        </a:lnTo>
                        <a:lnTo>
                          <a:pt x="0" y="328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5338440" y="6126480"/>
                    <a:ext cx="79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369">
                        <a:moveTo>
                          <a:pt x="0" y="257"/>
                        </a:moveTo>
                        <a:lnTo>
                          <a:pt x="8" y="171"/>
                        </a:lnTo>
                        <a:lnTo>
                          <a:pt x="29" y="99"/>
                        </a:lnTo>
                        <a:lnTo>
                          <a:pt x="44" y="65"/>
                        </a:lnTo>
                        <a:lnTo>
                          <a:pt x="67" y="38"/>
                        </a:lnTo>
                        <a:lnTo>
                          <a:pt x="105" y="6"/>
                        </a:lnTo>
                        <a:lnTo>
                          <a:pt x="124" y="0"/>
                        </a:lnTo>
                        <a:lnTo>
                          <a:pt x="131" y="9"/>
                        </a:lnTo>
                        <a:lnTo>
                          <a:pt x="238" y="25"/>
                        </a:lnTo>
                        <a:lnTo>
                          <a:pt x="303" y="122"/>
                        </a:lnTo>
                        <a:lnTo>
                          <a:pt x="247" y="253"/>
                        </a:lnTo>
                        <a:lnTo>
                          <a:pt x="122" y="369"/>
                        </a:lnTo>
                        <a:lnTo>
                          <a:pt x="0" y="257"/>
                        </a:lnTo>
                        <a:lnTo>
                          <a:pt x="0" y="257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844240" y="5944680"/>
                    <a:ext cx="16668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559">
                        <a:moveTo>
                          <a:pt x="0" y="559"/>
                        </a:moveTo>
                        <a:lnTo>
                          <a:pt x="24" y="542"/>
                        </a:lnTo>
                        <a:lnTo>
                          <a:pt x="55" y="521"/>
                        </a:lnTo>
                        <a:lnTo>
                          <a:pt x="93" y="494"/>
                        </a:lnTo>
                        <a:lnTo>
                          <a:pt x="137" y="464"/>
                        </a:lnTo>
                        <a:lnTo>
                          <a:pt x="186" y="428"/>
                        </a:lnTo>
                        <a:lnTo>
                          <a:pt x="237" y="388"/>
                        </a:lnTo>
                        <a:lnTo>
                          <a:pt x="289" y="344"/>
                        </a:lnTo>
                        <a:lnTo>
                          <a:pt x="340" y="298"/>
                        </a:lnTo>
                        <a:lnTo>
                          <a:pt x="387" y="253"/>
                        </a:lnTo>
                        <a:lnTo>
                          <a:pt x="429" y="205"/>
                        </a:lnTo>
                        <a:lnTo>
                          <a:pt x="464" y="160"/>
                        </a:lnTo>
                        <a:lnTo>
                          <a:pt x="502" y="74"/>
                        </a:lnTo>
                        <a:lnTo>
                          <a:pt x="486" y="0"/>
                        </a:lnTo>
                        <a:lnTo>
                          <a:pt x="513" y="19"/>
                        </a:lnTo>
                        <a:lnTo>
                          <a:pt x="540" y="40"/>
                        </a:lnTo>
                        <a:lnTo>
                          <a:pt x="570" y="66"/>
                        </a:lnTo>
                        <a:lnTo>
                          <a:pt x="633" y="158"/>
                        </a:lnTo>
                        <a:lnTo>
                          <a:pt x="604" y="188"/>
                        </a:lnTo>
                        <a:lnTo>
                          <a:pt x="572" y="224"/>
                        </a:lnTo>
                        <a:lnTo>
                          <a:pt x="541" y="253"/>
                        </a:lnTo>
                        <a:lnTo>
                          <a:pt x="530" y="266"/>
                        </a:lnTo>
                        <a:lnTo>
                          <a:pt x="194" y="477"/>
                        </a:lnTo>
                        <a:lnTo>
                          <a:pt x="0" y="559"/>
                        </a:lnTo>
                        <a:lnTo>
                          <a:pt x="0" y="559"/>
                        </a:lnTo>
                        <a:close/>
                      </a:path>
                    </a:pathLst>
                  </a:custGeom>
                  <a:solidFill>
                    <a:srgbClr val="8aa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5311800" y="6253200"/>
                    <a:ext cx="41184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1" h="570">
                        <a:moveTo>
                          <a:pt x="6" y="127"/>
                        </a:moveTo>
                        <a:lnTo>
                          <a:pt x="0" y="61"/>
                        </a:lnTo>
                        <a:lnTo>
                          <a:pt x="10" y="15"/>
                        </a:lnTo>
                        <a:lnTo>
                          <a:pt x="42" y="0"/>
                        </a:lnTo>
                        <a:lnTo>
                          <a:pt x="96" y="32"/>
                        </a:lnTo>
                        <a:lnTo>
                          <a:pt x="151" y="87"/>
                        </a:lnTo>
                        <a:lnTo>
                          <a:pt x="192" y="144"/>
                        </a:lnTo>
                        <a:lnTo>
                          <a:pt x="208" y="167"/>
                        </a:lnTo>
                        <a:lnTo>
                          <a:pt x="225" y="180"/>
                        </a:lnTo>
                        <a:lnTo>
                          <a:pt x="270" y="213"/>
                        </a:lnTo>
                        <a:lnTo>
                          <a:pt x="303" y="234"/>
                        </a:lnTo>
                        <a:lnTo>
                          <a:pt x="341" y="256"/>
                        </a:lnTo>
                        <a:lnTo>
                          <a:pt x="383" y="281"/>
                        </a:lnTo>
                        <a:lnTo>
                          <a:pt x="430" y="306"/>
                        </a:lnTo>
                        <a:lnTo>
                          <a:pt x="480" y="331"/>
                        </a:lnTo>
                        <a:lnTo>
                          <a:pt x="533" y="353"/>
                        </a:lnTo>
                        <a:lnTo>
                          <a:pt x="588" y="374"/>
                        </a:lnTo>
                        <a:lnTo>
                          <a:pt x="643" y="391"/>
                        </a:lnTo>
                        <a:lnTo>
                          <a:pt x="759" y="412"/>
                        </a:lnTo>
                        <a:lnTo>
                          <a:pt x="871" y="409"/>
                        </a:lnTo>
                        <a:lnTo>
                          <a:pt x="1162" y="374"/>
                        </a:lnTo>
                        <a:lnTo>
                          <a:pt x="1232" y="376"/>
                        </a:lnTo>
                        <a:lnTo>
                          <a:pt x="1314" y="353"/>
                        </a:lnTo>
                        <a:lnTo>
                          <a:pt x="1404" y="327"/>
                        </a:lnTo>
                        <a:lnTo>
                          <a:pt x="1425" y="313"/>
                        </a:lnTo>
                        <a:lnTo>
                          <a:pt x="1461" y="294"/>
                        </a:lnTo>
                        <a:lnTo>
                          <a:pt x="1502" y="281"/>
                        </a:lnTo>
                        <a:lnTo>
                          <a:pt x="1537" y="281"/>
                        </a:lnTo>
                        <a:lnTo>
                          <a:pt x="1561" y="367"/>
                        </a:lnTo>
                        <a:lnTo>
                          <a:pt x="1552" y="454"/>
                        </a:lnTo>
                        <a:lnTo>
                          <a:pt x="1535" y="488"/>
                        </a:lnTo>
                        <a:lnTo>
                          <a:pt x="1525" y="507"/>
                        </a:lnTo>
                        <a:lnTo>
                          <a:pt x="1198" y="570"/>
                        </a:lnTo>
                        <a:lnTo>
                          <a:pt x="727" y="532"/>
                        </a:lnTo>
                        <a:lnTo>
                          <a:pt x="402" y="437"/>
                        </a:lnTo>
                        <a:lnTo>
                          <a:pt x="101" y="236"/>
                        </a:lnTo>
                        <a:lnTo>
                          <a:pt x="6" y="127"/>
                        </a:lnTo>
                        <a:lnTo>
                          <a:pt x="6" y="127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5536800" y="6152400"/>
                    <a:ext cx="35532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8" h="937">
                        <a:moveTo>
                          <a:pt x="415" y="800"/>
                        </a:moveTo>
                        <a:lnTo>
                          <a:pt x="458" y="773"/>
                        </a:lnTo>
                        <a:lnTo>
                          <a:pt x="506" y="737"/>
                        </a:lnTo>
                        <a:lnTo>
                          <a:pt x="534" y="713"/>
                        </a:lnTo>
                        <a:lnTo>
                          <a:pt x="565" y="686"/>
                        </a:lnTo>
                        <a:lnTo>
                          <a:pt x="629" y="618"/>
                        </a:lnTo>
                        <a:lnTo>
                          <a:pt x="662" y="578"/>
                        </a:lnTo>
                        <a:lnTo>
                          <a:pt x="696" y="532"/>
                        </a:lnTo>
                        <a:lnTo>
                          <a:pt x="728" y="483"/>
                        </a:lnTo>
                        <a:lnTo>
                          <a:pt x="759" y="427"/>
                        </a:lnTo>
                        <a:lnTo>
                          <a:pt x="814" y="304"/>
                        </a:lnTo>
                        <a:lnTo>
                          <a:pt x="848" y="249"/>
                        </a:lnTo>
                        <a:lnTo>
                          <a:pt x="879" y="199"/>
                        </a:lnTo>
                        <a:lnTo>
                          <a:pt x="907" y="158"/>
                        </a:lnTo>
                        <a:lnTo>
                          <a:pt x="934" y="123"/>
                        </a:lnTo>
                        <a:lnTo>
                          <a:pt x="981" y="70"/>
                        </a:lnTo>
                        <a:lnTo>
                          <a:pt x="1017" y="36"/>
                        </a:lnTo>
                        <a:lnTo>
                          <a:pt x="1074" y="7"/>
                        </a:lnTo>
                        <a:lnTo>
                          <a:pt x="1110" y="0"/>
                        </a:lnTo>
                        <a:lnTo>
                          <a:pt x="1192" y="9"/>
                        </a:lnTo>
                        <a:lnTo>
                          <a:pt x="1244" y="44"/>
                        </a:lnTo>
                        <a:lnTo>
                          <a:pt x="1297" y="106"/>
                        </a:lnTo>
                        <a:lnTo>
                          <a:pt x="1339" y="226"/>
                        </a:lnTo>
                        <a:lnTo>
                          <a:pt x="1333" y="264"/>
                        </a:lnTo>
                        <a:lnTo>
                          <a:pt x="1348" y="452"/>
                        </a:lnTo>
                        <a:lnTo>
                          <a:pt x="1293" y="502"/>
                        </a:lnTo>
                        <a:lnTo>
                          <a:pt x="1232" y="245"/>
                        </a:lnTo>
                        <a:lnTo>
                          <a:pt x="1040" y="209"/>
                        </a:lnTo>
                        <a:lnTo>
                          <a:pt x="939" y="304"/>
                        </a:lnTo>
                        <a:lnTo>
                          <a:pt x="793" y="523"/>
                        </a:lnTo>
                        <a:lnTo>
                          <a:pt x="717" y="851"/>
                        </a:lnTo>
                        <a:lnTo>
                          <a:pt x="744" y="906"/>
                        </a:lnTo>
                        <a:lnTo>
                          <a:pt x="430" y="937"/>
                        </a:lnTo>
                        <a:lnTo>
                          <a:pt x="0" y="912"/>
                        </a:lnTo>
                        <a:lnTo>
                          <a:pt x="415" y="800"/>
                        </a:lnTo>
                        <a:lnTo>
                          <a:pt x="415" y="80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510520" y="5924160"/>
                    <a:ext cx="2858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6" h="606">
                        <a:moveTo>
                          <a:pt x="0" y="393"/>
                        </a:moveTo>
                        <a:lnTo>
                          <a:pt x="187" y="25"/>
                        </a:lnTo>
                        <a:lnTo>
                          <a:pt x="358" y="0"/>
                        </a:lnTo>
                        <a:lnTo>
                          <a:pt x="1046" y="150"/>
                        </a:lnTo>
                        <a:lnTo>
                          <a:pt x="1086" y="287"/>
                        </a:lnTo>
                        <a:lnTo>
                          <a:pt x="1016" y="565"/>
                        </a:lnTo>
                        <a:lnTo>
                          <a:pt x="940" y="606"/>
                        </a:lnTo>
                        <a:lnTo>
                          <a:pt x="223" y="570"/>
                        </a:lnTo>
                        <a:lnTo>
                          <a:pt x="19" y="475"/>
                        </a:lnTo>
                        <a:lnTo>
                          <a:pt x="0" y="393"/>
                        </a:lnTo>
                        <a:lnTo>
                          <a:pt x="0" y="393"/>
                        </a:lnTo>
                        <a:close/>
                      </a:path>
                    </a:pathLst>
                  </a:custGeom>
                  <a:solidFill>
                    <a:srgbClr val="a0e5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5552280" y="5944680"/>
                    <a:ext cx="2210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498">
                        <a:moveTo>
                          <a:pt x="590" y="0"/>
                        </a:moveTo>
                        <a:lnTo>
                          <a:pt x="576" y="19"/>
                        </a:lnTo>
                        <a:lnTo>
                          <a:pt x="538" y="68"/>
                        </a:lnTo>
                        <a:lnTo>
                          <a:pt x="481" y="139"/>
                        </a:lnTo>
                        <a:lnTo>
                          <a:pt x="447" y="179"/>
                        </a:lnTo>
                        <a:lnTo>
                          <a:pt x="409" y="220"/>
                        </a:lnTo>
                        <a:lnTo>
                          <a:pt x="369" y="262"/>
                        </a:lnTo>
                        <a:lnTo>
                          <a:pt x="325" y="304"/>
                        </a:lnTo>
                        <a:lnTo>
                          <a:pt x="282" y="344"/>
                        </a:lnTo>
                        <a:lnTo>
                          <a:pt x="238" y="380"/>
                        </a:lnTo>
                        <a:lnTo>
                          <a:pt x="194" y="411"/>
                        </a:lnTo>
                        <a:lnTo>
                          <a:pt x="148" y="437"/>
                        </a:lnTo>
                        <a:lnTo>
                          <a:pt x="65" y="468"/>
                        </a:lnTo>
                        <a:lnTo>
                          <a:pt x="0" y="485"/>
                        </a:lnTo>
                        <a:lnTo>
                          <a:pt x="67" y="494"/>
                        </a:lnTo>
                        <a:lnTo>
                          <a:pt x="232" y="498"/>
                        </a:lnTo>
                        <a:lnTo>
                          <a:pt x="331" y="462"/>
                        </a:lnTo>
                        <a:lnTo>
                          <a:pt x="430" y="416"/>
                        </a:lnTo>
                        <a:lnTo>
                          <a:pt x="487" y="392"/>
                        </a:lnTo>
                        <a:lnTo>
                          <a:pt x="544" y="361"/>
                        </a:lnTo>
                        <a:lnTo>
                          <a:pt x="601" y="329"/>
                        </a:lnTo>
                        <a:lnTo>
                          <a:pt x="656" y="295"/>
                        </a:lnTo>
                        <a:lnTo>
                          <a:pt x="707" y="258"/>
                        </a:lnTo>
                        <a:lnTo>
                          <a:pt x="753" y="222"/>
                        </a:lnTo>
                        <a:lnTo>
                          <a:pt x="820" y="144"/>
                        </a:lnTo>
                        <a:lnTo>
                          <a:pt x="839" y="65"/>
                        </a:lnTo>
                        <a:lnTo>
                          <a:pt x="590" y="0"/>
                        </a:lnTo>
                        <a:lnTo>
                          <a:pt x="59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346000" y="6152040"/>
                    <a:ext cx="651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276">
                        <a:moveTo>
                          <a:pt x="0" y="192"/>
                        </a:moveTo>
                        <a:lnTo>
                          <a:pt x="80" y="184"/>
                        </a:lnTo>
                        <a:lnTo>
                          <a:pt x="161" y="129"/>
                        </a:lnTo>
                        <a:lnTo>
                          <a:pt x="205" y="76"/>
                        </a:lnTo>
                        <a:lnTo>
                          <a:pt x="249" y="0"/>
                        </a:lnTo>
                        <a:lnTo>
                          <a:pt x="222" y="209"/>
                        </a:lnTo>
                        <a:lnTo>
                          <a:pt x="112" y="276"/>
                        </a:lnTo>
                        <a:lnTo>
                          <a:pt x="0" y="192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720400" y="6196680"/>
                    <a:ext cx="156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5" h="928">
                        <a:moveTo>
                          <a:pt x="0" y="726"/>
                        </a:moveTo>
                        <a:lnTo>
                          <a:pt x="23" y="774"/>
                        </a:lnTo>
                        <a:lnTo>
                          <a:pt x="49" y="817"/>
                        </a:lnTo>
                        <a:lnTo>
                          <a:pt x="86" y="865"/>
                        </a:lnTo>
                        <a:lnTo>
                          <a:pt x="106" y="886"/>
                        </a:lnTo>
                        <a:lnTo>
                          <a:pt x="131" y="905"/>
                        </a:lnTo>
                        <a:lnTo>
                          <a:pt x="183" y="928"/>
                        </a:lnTo>
                        <a:lnTo>
                          <a:pt x="241" y="926"/>
                        </a:lnTo>
                        <a:lnTo>
                          <a:pt x="306" y="888"/>
                        </a:lnTo>
                        <a:lnTo>
                          <a:pt x="338" y="857"/>
                        </a:lnTo>
                        <a:lnTo>
                          <a:pt x="369" y="825"/>
                        </a:lnTo>
                        <a:lnTo>
                          <a:pt x="424" y="760"/>
                        </a:lnTo>
                        <a:lnTo>
                          <a:pt x="472" y="698"/>
                        </a:lnTo>
                        <a:lnTo>
                          <a:pt x="510" y="639"/>
                        </a:lnTo>
                        <a:lnTo>
                          <a:pt x="538" y="586"/>
                        </a:lnTo>
                        <a:lnTo>
                          <a:pt x="559" y="544"/>
                        </a:lnTo>
                        <a:lnTo>
                          <a:pt x="576" y="508"/>
                        </a:lnTo>
                        <a:lnTo>
                          <a:pt x="595" y="169"/>
                        </a:lnTo>
                        <a:lnTo>
                          <a:pt x="511" y="25"/>
                        </a:lnTo>
                        <a:lnTo>
                          <a:pt x="335" y="0"/>
                        </a:lnTo>
                        <a:lnTo>
                          <a:pt x="127" y="300"/>
                        </a:lnTo>
                        <a:lnTo>
                          <a:pt x="116" y="335"/>
                        </a:lnTo>
                        <a:lnTo>
                          <a:pt x="91" y="413"/>
                        </a:lnTo>
                        <a:lnTo>
                          <a:pt x="61" y="509"/>
                        </a:lnTo>
                        <a:lnTo>
                          <a:pt x="42" y="595"/>
                        </a:lnTo>
                        <a:lnTo>
                          <a:pt x="15" y="694"/>
                        </a:lnTo>
                        <a:lnTo>
                          <a:pt x="0" y="726"/>
                        </a:lnTo>
                        <a:lnTo>
                          <a:pt x="0" y="726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5782680" y="6257880"/>
                    <a:ext cx="622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469">
                        <a:moveTo>
                          <a:pt x="156" y="0"/>
                        </a:moveTo>
                        <a:lnTo>
                          <a:pt x="57" y="80"/>
                        </a:lnTo>
                        <a:lnTo>
                          <a:pt x="2" y="382"/>
                        </a:lnTo>
                        <a:lnTo>
                          <a:pt x="0" y="367"/>
                        </a:lnTo>
                        <a:lnTo>
                          <a:pt x="15" y="439"/>
                        </a:lnTo>
                        <a:lnTo>
                          <a:pt x="30" y="468"/>
                        </a:lnTo>
                        <a:lnTo>
                          <a:pt x="49" y="469"/>
                        </a:lnTo>
                        <a:lnTo>
                          <a:pt x="102" y="420"/>
                        </a:lnTo>
                        <a:lnTo>
                          <a:pt x="150" y="350"/>
                        </a:lnTo>
                        <a:lnTo>
                          <a:pt x="171" y="314"/>
                        </a:lnTo>
                        <a:lnTo>
                          <a:pt x="184" y="279"/>
                        </a:lnTo>
                        <a:lnTo>
                          <a:pt x="209" y="201"/>
                        </a:lnTo>
                        <a:lnTo>
                          <a:pt x="236" y="47"/>
                        </a:lnTo>
                        <a:lnTo>
                          <a:pt x="215" y="17"/>
                        </a:lnTo>
                        <a:lnTo>
                          <a:pt x="188" y="4"/>
                        </a:lnTo>
                        <a:lnTo>
                          <a:pt x="156" y="0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1c40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5607000" y="6215040"/>
                    <a:ext cx="1036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4" h="327">
                        <a:moveTo>
                          <a:pt x="0" y="183"/>
                        </a:moveTo>
                        <a:lnTo>
                          <a:pt x="36" y="202"/>
                        </a:lnTo>
                        <a:lnTo>
                          <a:pt x="130" y="217"/>
                        </a:lnTo>
                        <a:lnTo>
                          <a:pt x="257" y="170"/>
                        </a:lnTo>
                        <a:lnTo>
                          <a:pt x="291" y="141"/>
                        </a:lnTo>
                        <a:lnTo>
                          <a:pt x="325" y="105"/>
                        </a:lnTo>
                        <a:lnTo>
                          <a:pt x="360" y="57"/>
                        </a:lnTo>
                        <a:lnTo>
                          <a:pt x="394" y="0"/>
                        </a:lnTo>
                        <a:lnTo>
                          <a:pt x="392" y="107"/>
                        </a:lnTo>
                        <a:lnTo>
                          <a:pt x="381" y="154"/>
                        </a:lnTo>
                        <a:lnTo>
                          <a:pt x="360" y="202"/>
                        </a:lnTo>
                        <a:lnTo>
                          <a:pt x="327" y="248"/>
                        </a:lnTo>
                        <a:lnTo>
                          <a:pt x="305" y="268"/>
                        </a:lnTo>
                        <a:lnTo>
                          <a:pt x="280" y="287"/>
                        </a:lnTo>
                        <a:lnTo>
                          <a:pt x="227" y="316"/>
                        </a:lnTo>
                        <a:lnTo>
                          <a:pt x="179" y="327"/>
                        </a:lnTo>
                        <a:lnTo>
                          <a:pt x="99" y="316"/>
                        </a:lnTo>
                        <a:lnTo>
                          <a:pt x="46" y="287"/>
                        </a:lnTo>
                        <a:lnTo>
                          <a:pt x="29" y="270"/>
                        </a:lnTo>
                        <a:lnTo>
                          <a:pt x="0" y="183"/>
                        </a:lnTo>
                        <a:lnTo>
                          <a:pt x="0" y="183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576760" y="5959080"/>
                    <a:ext cx="2599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85" h="506">
                        <a:moveTo>
                          <a:pt x="0" y="434"/>
                        </a:moveTo>
                        <a:lnTo>
                          <a:pt x="86" y="416"/>
                        </a:lnTo>
                        <a:lnTo>
                          <a:pt x="282" y="365"/>
                        </a:lnTo>
                        <a:lnTo>
                          <a:pt x="390" y="329"/>
                        </a:lnTo>
                        <a:lnTo>
                          <a:pt x="489" y="283"/>
                        </a:lnTo>
                        <a:lnTo>
                          <a:pt x="567" y="232"/>
                        </a:lnTo>
                        <a:lnTo>
                          <a:pt x="612" y="173"/>
                        </a:lnTo>
                        <a:lnTo>
                          <a:pt x="688" y="0"/>
                        </a:lnTo>
                        <a:lnTo>
                          <a:pt x="823" y="0"/>
                        </a:lnTo>
                        <a:lnTo>
                          <a:pt x="985" y="23"/>
                        </a:lnTo>
                        <a:lnTo>
                          <a:pt x="949" y="69"/>
                        </a:lnTo>
                        <a:lnTo>
                          <a:pt x="911" y="116"/>
                        </a:lnTo>
                        <a:lnTo>
                          <a:pt x="871" y="173"/>
                        </a:lnTo>
                        <a:lnTo>
                          <a:pt x="829" y="234"/>
                        </a:lnTo>
                        <a:lnTo>
                          <a:pt x="793" y="293"/>
                        </a:lnTo>
                        <a:lnTo>
                          <a:pt x="763" y="380"/>
                        </a:lnTo>
                        <a:lnTo>
                          <a:pt x="759" y="472"/>
                        </a:lnTo>
                        <a:lnTo>
                          <a:pt x="747" y="506"/>
                        </a:lnTo>
                        <a:lnTo>
                          <a:pt x="531" y="468"/>
                        </a:lnTo>
                        <a:lnTo>
                          <a:pt x="0" y="434"/>
                        </a:lnTo>
                        <a:lnTo>
                          <a:pt x="0" y="434"/>
                        </a:lnTo>
                        <a:close/>
                      </a:path>
                    </a:pathLst>
                  </a:custGeom>
                  <a:solidFill>
                    <a:srgbClr val="8aa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5691240" y="6023520"/>
                    <a:ext cx="968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293">
                        <a:moveTo>
                          <a:pt x="0" y="223"/>
                        </a:moveTo>
                        <a:lnTo>
                          <a:pt x="42" y="208"/>
                        </a:lnTo>
                        <a:lnTo>
                          <a:pt x="142" y="166"/>
                        </a:lnTo>
                        <a:lnTo>
                          <a:pt x="203" y="133"/>
                        </a:lnTo>
                        <a:lnTo>
                          <a:pt x="264" y="95"/>
                        </a:lnTo>
                        <a:lnTo>
                          <a:pt x="321" y="52"/>
                        </a:lnTo>
                        <a:lnTo>
                          <a:pt x="369" y="0"/>
                        </a:lnTo>
                        <a:lnTo>
                          <a:pt x="319" y="227"/>
                        </a:lnTo>
                        <a:lnTo>
                          <a:pt x="340" y="293"/>
                        </a:lnTo>
                        <a:lnTo>
                          <a:pt x="302" y="278"/>
                        </a:lnTo>
                        <a:lnTo>
                          <a:pt x="209" y="246"/>
                        </a:lnTo>
                        <a:lnTo>
                          <a:pt x="97" y="221"/>
                        </a:lnTo>
                        <a:lnTo>
                          <a:pt x="0" y="223"/>
                        </a:lnTo>
                        <a:lnTo>
                          <a:pt x="0" y="223"/>
                        </a:lnTo>
                        <a:close/>
                      </a:path>
                    </a:pathLst>
                  </a:custGeom>
                  <a:solidFill>
                    <a:srgbClr val="b8b8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504760" y="5857920"/>
                    <a:ext cx="33372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7" h="770">
                        <a:moveTo>
                          <a:pt x="232" y="320"/>
                        </a:moveTo>
                        <a:lnTo>
                          <a:pt x="337" y="302"/>
                        </a:lnTo>
                        <a:lnTo>
                          <a:pt x="559" y="314"/>
                        </a:lnTo>
                        <a:lnTo>
                          <a:pt x="843" y="371"/>
                        </a:lnTo>
                        <a:lnTo>
                          <a:pt x="991" y="424"/>
                        </a:lnTo>
                        <a:lnTo>
                          <a:pt x="1065" y="456"/>
                        </a:lnTo>
                        <a:lnTo>
                          <a:pt x="1136" y="494"/>
                        </a:lnTo>
                        <a:lnTo>
                          <a:pt x="1185" y="494"/>
                        </a:lnTo>
                        <a:lnTo>
                          <a:pt x="1242" y="462"/>
                        </a:lnTo>
                        <a:lnTo>
                          <a:pt x="1267" y="422"/>
                        </a:lnTo>
                        <a:lnTo>
                          <a:pt x="1259" y="405"/>
                        </a:lnTo>
                        <a:lnTo>
                          <a:pt x="1229" y="394"/>
                        </a:lnTo>
                        <a:lnTo>
                          <a:pt x="1122" y="373"/>
                        </a:lnTo>
                        <a:lnTo>
                          <a:pt x="953" y="335"/>
                        </a:lnTo>
                        <a:lnTo>
                          <a:pt x="835" y="310"/>
                        </a:lnTo>
                        <a:lnTo>
                          <a:pt x="691" y="283"/>
                        </a:lnTo>
                        <a:lnTo>
                          <a:pt x="516" y="255"/>
                        </a:lnTo>
                        <a:lnTo>
                          <a:pt x="307" y="225"/>
                        </a:lnTo>
                        <a:lnTo>
                          <a:pt x="293" y="211"/>
                        </a:lnTo>
                        <a:lnTo>
                          <a:pt x="322" y="190"/>
                        </a:lnTo>
                        <a:lnTo>
                          <a:pt x="383" y="162"/>
                        </a:lnTo>
                        <a:lnTo>
                          <a:pt x="462" y="129"/>
                        </a:lnTo>
                        <a:lnTo>
                          <a:pt x="554" y="97"/>
                        </a:lnTo>
                        <a:lnTo>
                          <a:pt x="641" y="69"/>
                        </a:lnTo>
                        <a:lnTo>
                          <a:pt x="769" y="38"/>
                        </a:lnTo>
                        <a:lnTo>
                          <a:pt x="839" y="15"/>
                        </a:lnTo>
                        <a:lnTo>
                          <a:pt x="837" y="0"/>
                        </a:lnTo>
                        <a:lnTo>
                          <a:pt x="628" y="38"/>
                        </a:lnTo>
                        <a:lnTo>
                          <a:pt x="531" y="67"/>
                        </a:lnTo>
                        <a:lnTo>
                          <a:pt x="424" y="103"/>
                        </a:lnTo>
                        <a:lnTo>
                          <a:pt x="314" y="152"/>
                        </a:lnTo>
                        <a:lnTo>
                          <a:pt x="261" y="181"/>
                        </a:lnTo>
                        <a:lnTo>
                          <a:pt x="208" y="213"/>
                        </a:lnTo>
                        <a:lnTo>
                          <a:pt x="181" y="247"/>
                        </a:lnTo>
                        <a:lnTo>
                          <a:pt x="153" y="289"/>
                        </a:lnTo>
                        <a:lnTo>
                          <a:pt x="120" y="342"/>
                        </a:lnTo>
                        <a:lnTo>
                          <a:pt x="84" y="407"/>
                        </a:lnTo>
                        <a:lnTo>
                          <a:pt x="52" y="481"/>
                        </a:lnTo>
                        <a:lnTo>
                          <a:pt x="0" y="648"/>
                        </a:lnTo>
                        <a:lnTo>
                          <a:pt x="0" y="770"/>
                        </a:lnTo>
                        <a:lnTo>
                          <a:pt x="48" y="696"/>
                        </a:lnTo>
                        <a:lnTo>
                          <a:pt x="54" y="643"/>
                        </a:lnTo>
                        <a:lnTo>
                          <a:pt x="71" y="601"/>
                        </a:lnTo>
                        <a:lnTo>
                          <a:pt x="116" y="506"/>
                        </a:lnTo>
                        <a:lnTo>
                          <a:pt x="145" y="451"/>
                        </a:lnTo>
                        <a:lnTo>
                          <a:pt x="173" y="397"/>
                        </a:lnTo>
                        <a:lnTo>
                          <a:pt x="204" y="352"/>
                        </a:lnTo>
                        <a:lnTo>
                          <a:pt x="232" y="320"/>
                        </a:lnTo>
                        <a:lnTo>
                          <a:pt x="232" y="3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569200" y="6080760"/>
                    <a:ext cx="22356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614">
                        <a:moveTo>
                          <a:pt x="741" y="0"/>
                        </a:moveTo>
                        <a:lnTo>
                          <a:pt x="848" y="32"/>
                        </a:lnTo>
                        <a:lnTo>
                          <a:pt x="760" y="65"/>
                        </a:lnTo>
                        <a:lnTo>
                          <a:pt x="663" y="105"/>
                        </a:lnTo>
                        <a:lnTo>
                          <a:pt x="606" y="131"/>
                        </a:lnTo>
                        <a:lnTo>
                          <a:pt x="544" y="163"/>
                        </a:lnTo>
                        <a:lnTo>
                          <a:pt x="477" y="200"/>
                        </a:lnTo>
                        <a:lnTo>
                          <a:pt x="407" y="243"/>
                        </a:lnTo>
                        <a:lnTo>
                          <a:pt x="336" y="291"/>
                        </a:lnTo>
                        <a:lnTo>
                          <a:pt x="300" y="316"/>
                        </a:lnTo>
                        <a:lnTo>
                          <a:pt x="266" y="344"/>
                        </a:lnTo>
                        <a:lnTo>
                          <a:pt x="230" y="373"/>
                        </a:lnTo>
                        <a:lnTo>
                          <a:pt x="196" y="403"/>
                        </a:lnTo>
                        <a:lnTo>
                          <a:pt x="161" y="433"/>
                        </a:lnTo>
                        <a:lnTo>
                          <a:pt x="127" y="468"/>
                        </a:lnTo>
                        <a:lnTo>
                          <a:pt x="61" y="538"/>
                        </a:lnTo>
                        <a:lnTo>
                          <a:pt x="0" y="614"/>
                        </a:lnTo>
                        <a:lnTo>
                          <a:pt x="0" y="584"/>
                        </a:lnTo>
                        <a:lnTo>
                          <a:pt x="34" y="519"/>
                        </a:lnTo>
                        <a:lnTo>
                          <a:pt x="61" y="477"/>
                        </a:lnTo>
                        <a:lnTo>
                          <a:pt x="95" y="431"/>
                        </a:lnTo>
                        <a:lnTo>
                          <a:pt x="137" y="382"/>
                        </a:lnTo>
                        <a:lnTo>
                          <a:pt x="186" y="331"/>
                        </a:lnTo>
                        <a:lnTo>
                          <a:pt x="215" y="304"/>
                        </a:lnTo>
                        <a:lnTo>
                          <a:pt x="243" y="277"/>
                        </a:lnTo>
                        <a:lnTo>
                          <a:pt x="275" y="249"/>
                        </a:lnTo>
                        <a:lnTo>
                          <a:pt x="310" y="222"/>
                        </a:lnTo>
                        <a:lnTo>
                          <a:pt x="346" y="196"/>
                        </a:lnTo>
                        <a:lnTo>
                          <a:pt x="386" y="169"/>
                        </a:lnTo>
                        <a:lnTo>
                          <a:pt x="426" y="143"/>
                        </a:lnTo>
                        <a:lnTo>
                          <a:pt x="469" y="118"/>
                        </a:lnTo>
                        <a:lnTo>
                          <a:pt x="515" y="93"/>
                        </a:lnTo>
                        <a:lnTo>
                          <a:pt x="564" y="68"/>
                        </a:lnTo>
                        <a:lnTo>
                          <a:pt x="614" y="44"/>
                        </a:lnTo>
                        <a:lnTo>
                          <a:pt x="667" y="23"/>
                        </a:lnTo>
                        <a:lnTo>
                          <a:pt x="741" y="0"/>
                        </a:lnTo>
                        <a:lnTo>
                          <a:pt x="74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5745240" y="5923080"/>
                    <a:ext cx="20232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1">
                        <a:moveTo>
                          <a:pt x="74" y="599"/>
                        </a:moveTo>
                        <a:lnTo>
                          <a:pt x="88" y="536"/>
                        </a:lnTo>
                        <a:lnTo>
                          <a:pt x="110" y="466"/>
                        </a:lnTo>
                        <a:lnTo>
                          <a:pt x="147" y="382"/>
                        </a:lnTo>
                        <a:lnTo>
                          <a:pt x="171" y="339"/>
                        </a:lnTo>
                        <a:lnTo>
                          <a:pt x="200" y="293"/>
                        </a:lnTo>
                        <a:lnTo>
                          <a:pt x="236" y="247"/>
                        </a:lnTo>
                        <a:lnTo>
                          <a:pt x="278" y="206"/>
                        </a:lnTo>
                        <a:lnTo>
                          <a:pt x="325" y="164"/>
                        </a:lnTo>
                        <a:lnTo>
                          <a:pt x="379" y="126"/>
                        </a:lnTo>
                        <a:lnTo>
                          <a:pt x="441" y="93"/>
                        </a:lnTo>
                        <a:lnTo>
                          <a:pt x="510" y="65"/>
                        </a:lnTo>
                        <a:lnTo>
                          <a:pt x="610" y="31"/>
                        </a:lnTo>
                        <a:lnTo>
                          <a:pt x="685" y="6"/>
                        </a:lnTo>
                        <a:lnTo>
                          <a:pt x="768" y="0"/>
                        </a:lnTo>
                        <a:lnTo>
                          <a:pt x="740" y="59"/>
                        </a:lnTo>
                        <a:lnTo>
                          <a:pt x="645" y="67"/>
                        </a:lnTo>
                        <a:lnTo>
                          <a:pt x="561" y="103"/>
                        </a:lnTo>
                        <a:lnTo>
                          <a:pt x="458" y="148"/>
                        </a:lnTo>
                        <a:lnTo>
                          <a:pt x="392" y="188"/>
                        </a:lnTo>
                        <a:lnTo>
                          <a:pt x="323" y="232"/>
                        </a:lnTo>
                        <a:lnTo>
                          <a:pt x="253" y="308"/>
                        </a:lnTo>
                        <a:lnTo>
                          <a:pt x="209" y="371"/>
                        </a:lnTo>
                        <a:lnTo>
                          <a:pt x="171" y="451"/>
                        </a:lnTo>
                        <a:lnTo>
                          <a:pt x="154" y="536"/>
                        </a:lnTo>
                        <a:lnTo>
                          <a:pt x="166" y="595"/>
                        </a:lnTo>
                        <a:lnTo>
                          <a:pt x="181" y="631"/>
                        </a:lnTo>
                        <a:lnTo>
                          <a:pt x="0" y="622"/>
                        </a:lnTo>
                        <a:lnTo>
                          <a:pt x="74" y="599"/>
                        </a:lnTo>
                        <a:lnTo>
                          <a:pt x="74" y="5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699160" y="5857560"/>
                    <a:ext cx="3589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1" h="671">
                        <a:moveTo>
                          <a:pt x="126" y="29"/>
                        </a:moveTo>
                        <a:lnTo>
                          <a:pt x="280" y="23"/>
                        </a:lnTo>
                        <a:lnTo>
                          <a:pt x="639" y="65"/>
                        </a:lnTo>
                        <a:lnTo>
                          <a:pt x="742" y="95"/>
                        </a:lnTo>
                        <a:lnTo>
                          <a:pt x="846" y="135"/>
                        </a:lnTo>
                        <a:lnTo>
                          <a:pt x="949" y="187"/>
                        </a:lnTo>
                        <a:lnTo>
                          <a:pt x="1000" y="217"/>
                        </a:lnTo>
                        <a:lnTo>
                          <a:pt x="1050" y="251"/>
                        </a:lnTo>
                        <a:lnTo>
                          <a:pt x="1097" y="287"/>
                        </a:lnTo>
                        <a:lnTo>
                          <a:pt x="1143" y="329"/>
                        </a:lnTo>
                        <a:lnTo>
                          <a:pt x="1187" y="375"/>
                        </a:lnTo>
                        <a:lnTo>
                          <a:pt x="1226" y="426"/>
                        </a:lnTo>
                        <a:lnTo>
                          <a:pt x="1264" y="479"/>
                        </a:lnTo>
                        <a:lnTo>
                          <a:pt x="1301" y="538"/>
                        </a:lnTo>
                        <a:lnTo>
                          <a:pt x="1333" y="603"/>
                        </a:lnTo>
                        <a:lnTo>
                          <a:pt x="1361" y="671"/>
                        </a:lnTo>
                        <a:lnTo>
                          <a:pt x="1356" y="591"/>
                        </a:lnTo>
                        <a:lnTo>
                          <a:pt x="1337" y="508"/>
                        </a:lnTo>
                        <a:lnTo>
                          <a:pt x="1320" y="460"/>
                        </a:lnTo>
                        <a:lnTo>
                          <a:pt x="1295" y="409"/>
                        </a:lnTo>
                        <a:lnTo>
                          <a:pt x="1261" y="356"/>
                        </a:lnTo>
                        <a:lnTo>
                          <a:pt x="1219" y="303"/>
                        </a:lnTo>
                        <a:lnTo>
                          <a:pt x="1194" y="276"/>
                        </a:lnTo>
                        <a:lnTo>
                          <a:pt x="1168" y="251"/>
                        </a:lnTo>
                        <a:lnTo>
                          <a:pt x="1137" y="225"/>
                        </a:lnTo>
                        <a:lnTo>
                          <a:pt x="1103" y="200"/>
                        </a:lnTo>
                        <a:lnTo>
                          <a:pt x="1069" y="177"/>
                        </a:lnTo>
                        <a:lnTo>
                          <a:pt x="1029" y="154"/>
                        </a:lnTo>
                        <a:lnTo>
                          <a:pt x="985" y="133"/>
                        </a:lnTo>
                        <a:lnTo>
                          <a:pt x="939" y="112"/>
                        </a:lnTo>
                        <a:lnTo>
                          <a:pt x="835" y="78"/>
                        </a:lnTo>
                        <a:lnTo>
                          <a:pt x="715" y="50"/>
                        </a:lnTo>
                        <a:lnTo>
                          <a:pt x="652" y="40"/>
                        </a:lnTo>
                        <a:lnTo>
                          <a:pt x="498" y="19"/>
                        </a:lnTo>
                        <a:lnTo>
                          <a:pt x="299" y="0"/>
                        </a:lnTo>
                        <a:lnTo>
                          <a:pt x="99" y="2"/>
                        </a:lnTo>
                        <a:lnTo>
                          <a:pt x="0" y="16"/>
                        </a:lnTo>
                        <a:lnTo>
                          <a:pt x="21" y="23"/>
                        </a:lnTo>
                        <a:lnTo>
                          <a:pt x="126" y="29"/>
                        </a:lnTo>
                        <a:lnTo>
                          <a:pt x="126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045480" y="6003720"/>
                    <a:ext cx="8172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595">
                        <a:moveTo>
                          <a:pt x="0" y="0"/>
                        </a:moveTo>
                        <a:lnTo>
                          <a:pt x="25" y="59"/>
                        </a:lnTo>
                        <a:lnTo>
                          <a:pt x="49" y="122"/>
                        </a:lnTo>
                        <a:lnTo>
                          <a:pt x="78" y="198"/>
                        </a:lnTo>
                        <a:lnTo>
                          <a:pt x="108" y="278"/>
                        </a:lnTo>
                        <a:lnTo>
                          <a:pt x="133" y="354"/>
                        </a:lnTo>
                        <a:lnTo>
                          <a:pt x="162" y="472"/>
                        </a:lnTo>
                        <a:lnTo>
                          <a:pt x="175" y="532"/>
                        </a:lnTo>
                        <a:lnTo>
                          <a:pt x="202" y="570"/>
                        </a:lnTo>
                        <a:lnTo>
                          <a:pt x="240" y="595"/>
                        </a:lnTo>
                        <a:lnTo>
                          <a:pt x="264" y="590"/>
                        </a:lnTo>
                        <a:lnTo>
                          <a:pt x="310" y="559"/>
                        </a:lnTo>
                        <a:lnTo>
                          <a:pt x="255" y="512"/>
                        </a:lnTo>
                        <a:lnTo>
                          <a:pt x="127" y="196"/>
                        </a:lnTo>
                        <a:lnTo>
                          <a:pt x="99" y="131"/>
                        </a:lnTo>
                        <a:lnTo>
                          <a:pt x="72" y="86"/>
                        </a:lnTo>
                        <a:lnTo>
                          <a:pt x="32" y="2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5723640" y="5977800"/>
                    <a:ext cx="29628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6" h="523">
                        <a:moveTo>
                          <a:pt x="263" y="424"/>
                        </a:moveTo>
                        <a:lnTo>
                          <a:pt x="287" y="436"/>
                        </a:lnTo>
                        <a:lnTo>
                          <a:pt x="384" y="430"/>
                        </a:lnTo>
                        <a:lnTo>
                          <a:pt x="584" y="354"/>
                        </a:lnTo>
                        <a:lnTo>
                          <a:pt x="653" y="316"/>
                        </a:lnTo>
                        <a:lnTo>
                          <a:pt x="730" y="270"/>
                        </a:lnTo>
                        <a:lnTo>
                          <a:pt x="774" y="242"/>
                        </a:lnTo>
                        <a:lnTo>
                          <a:pt x="820" y="213"/>
                        </a:lnTo>
                        <a:lnTo>
                          <a:pt x="865" y="181"/>
                        </a:lnTo>
                        <a:lnTo>
                          <a:pt x="917" y="147"/>
                        </a:lnTo>
                        <a:lnTo>
                          <a:pt x="961" y="113"/>
                        </a:lnTo>
                        <a:lnTo>
                          <a:pt x="999" y="82"/>
                        </a:lnTo>
                        <a:lnTo>
                          <a:pt x="1046" y="25"/>
                        </a:lnTo>
                        <a:lnTo>
                          <a:pt x="1063" y="6"/>
                        </a:lnTo>
                        <a:lnTo>
                          <a:pt x="1077" y="0"/>
                        </a:lnTo>
                        <a:lnTo>
                          <a:pt x="1103" y="10"/>
                        </a:lnTo>
                        <a:lnTo>
                          <a:pt x="1126" y="48"/>
                        </a:lnTo>
                        <a:lnTo>
                          <a:pt x="1078" y="97"/>
                        </a:lnTo>
                        <a:lnTo>
                          <a:pt x="1052" y="122"/>
                        </a:lnTo>
                        <a:lnTo>
                          <a:pt x="1019" y="151"/>
                        </a:lnTo>
                        <a:lnTo>
                          <a:pt x="983" y="181"/>
                        </a:lnTo>
                        <a:lnTo>
                          <a:pt x="940" y="215"/>
                        </a:lnTo>
                        <a:lnTo>
                          <a:pt x="892" y="251"/>
                        </a:lnTo>
                        <a:lnTo>
                          <a:pt x="839" y="287"/>
                        </a:lnTo>
                        <a:lnTo>
                          <a:pt x="780" y="324"/>
                        </a:lnTo>
                        <a:lnTo>
                          <a:pt x="715" y="362"/>
                        </a:lnTo>
                        <a:lnTo>
                          <a:pt x="647" y="398"/>
                        </a:lnTo>
                        <a:lnTo>
                          <a:pt x="573" y="432"/>
                        </a:lnTo>
                        <a:lnTo>
                          <a:pt x="495" y="464"/>
                        </a:lnTo>
                        <a:lnTo>
                          <a:pt x="411" y="495"/>
                        </a:lnTo>
                        <a:lnTo>
                          <a:pt x="339" y="497"/>
                        </a:lnTo>
                        <a:lnTo>
                          <a:pt x="162" y="493"/>
                        </a:lnTo>
                        <a:lnTo>
                          <a:pt x="14" y="521"/>
                        </a:lnTo>
                        <a:lnTo>
                          <a:pt x="0" y="523"/>
                        </a:lnTo>
                        <a:lnTo>
                          <a:pt x="8" y="516"/>
                        </a:lnTo>
                        <a:lnTo>
                          <a:pt x="69" y="483"/>
                        </a:lnTo>
                        <a:lnTo>
                          <a:pt x="145" y="447"/>
                        </a:lnTo>
                        <a:lnTo>
                          <a:pt x="181" y="430"/>
                        </a:lnTo>
                        <a:lnTo>
                          <a:pt x="263" y="424"/>
                        </a:lnTo>
                        <a:lnTo>
                          <a:pt x="263" y="4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5877720" y="6081480"/>
                    <a:ext cx="19800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1" h="848">
                        <a:moveTo>
                          <a:pt x="631" y="0"/>
                        </a:moveTo>
                        <a:lnTo>
                          <a:pt x="587" y="23"/>
                        </a:lnTo>
                        <a:lnTo>
                          <a:pt x="506" y="108"/>
                        </a:lnTo>
                        <a:lnTo>
                          <a:pt x="456" y="188"/>
                        </a:lnTo>
                        <a:lnTo>
                          <a:pt x="411" y="295"/>
                        </a:lnTo>
                        <a:lnTo>
                          <a:pt x="338" y="614"/>
                        </a:lnTo>
                        <a:lnTo>
                          <a:pt x="48" y="768"/>
                        </a:lnTo>
                        <a:lnTo>
                          <a:pt x="0" y="848"/>
                        </a:lnTo>
                        <a:lnTo>
                          <a:pt x="17" y="836"/>
                        </a:lnTo>
                        <a:lnTo>
                          <a:pt x="63" y="808"/>
                        </a:lnTo>
                        <a:lnTo>
                          <a:pt x="127" y="766"/>
                        </a:lnTo>
                        <a:lnTo>
                          <a:pt x="164" y="745"/>
                        </a:lnTo>
                        <a:lnTo>
                          <a:pt x="202" y="722"/>
                        </a:lnTo>
                        <a:lnTo>
                          <a:pt x="278" y="682"/>
                        </a:lnTo>
                        <a:lnTo>
                          <a:pt x="346" y="654"/>
                        </a:lnTo>
                        <a:lnTo>
                          <a:pt x="395" y="642"/>
                        </a:lnTo>
                        <a:lnTo>
                          <a:pt x="418" y="656"/>
                        </a:lnTo>
                        <a:lnTo>
                          <a:pt x="460" y="428"/>
                        </a:lnTo>
                        <a:lnTo>
                          <a:pt x="483" y="321"/>
                        </a:lnTo>
                        <a:lnTo>
                          <a:pt x="517" y="217"/>
                        </a:lnTo>
                        <a:lnTo>
                          <a:pt x="538" y="169"/>
                        </a:lnTo>
                        <a:lnTo>
                          <a:pt x="561" y="127"/>
                        </a:lnTo>
                        <a:lnTo>
                          <a:pt x="589" y="91"/>
                        </a:lnTo>
                        <a:lnTo>
                          <a:pt x="620" y="63"/>
                        </a:lnTo>
                        <a:lnTo>
                          <a:pt x="677" y="59"/>
                        </a:lnTo>
                        <a:lnTo>
                          <a:pt x="719" y="97"/>
                        </a:lnTo>
                        <a:lnTo>
                          <a:pt x="749" y="199"/>
                        </a:lnTo>
                        <a:lnTo>
                          <a:pt x="751" y="177"/>
                        </a:lnTo>
                        <a:lnTo>
                          <a:pt x="749" y="112"/>
                        </a:lnTo>
                        <a:lnTo>
                          <a:pt x="738" y="42"/>
                        </a:lnTo>
                        <a:lnTo>
                          <a:pt x="726" y="17"/>
                        </a:lnTo>
                        <a:lnTo>
                          <a:pt x="709" y="4"/>
                        </a:lnTo>
                        <a:lnTo>
                          <a:pt x="631" y="0"/>
                        </a:lnTo>
                        <a:lnTo>
                          <a:pt x="6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5924160" y="5923080"/>
                    <a:ext cx="9576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293">
                        <a:moveTo>
                          <a:pt x="34" y="63"/>
                        </a:moveTo>
                        <a:lnTo>
                          <a:pt x="118" y="72"/>
                        </a:lnTo>
                        <a:lnTo>
                          <a:pt x="209" y="116"/>
                        </a:lnTo>
                        <a:lnTo>
                          <a:pt x="276" y="190"/>
                        </a:lnTo>
                        <a:lnTo>
                          <a:pt x="291" y="293"/>
                        </a:lnTo>
                        <a:lnTo>
                          <a:pt x="365" y="255"/>
                        </a:lnTo>
                        <a:lnTo>
                          <a:pt x="344" y="217"/>
                        </a:lnTo>
                        <a:lnTo>
                          <a:pt x="317" y="177"/>
                        </a:lnTo>
                        <a:lnTo>
                          <a:pt x="283" y="131"/>
                        </a:lnTo>
                        <a:lnTo>
                          <a:pt x="243" y="86"/>
                        </a:lnTo>
                        <a:lnTo>
                          <a:pt x="220" y="65"/>
                        </a:lnTo>
                        <a:lnTo>
                          <a:pt x="196" y="44"/>
                        </a:lnTo>
                        <a:lnTo>
                          <a:pt x="144" y="15"/>
                        </a:lnTo>
                        <a:lnTo>
                          <a:pt x="89" y="0"/>
                        </a:lnTo>
                        <a:lnTo>
                          <a:pt x="68" y="12"/>
                        </a:lnTo>
                        <a:lnTo>
                          <a:pt x="25" y="36"/>
                        </a:lnTo>
                        <a:lnTo>
                          <a:pt x="0" y="57"/>
                        </a:lnTo>
                        <a:lnTo>
                          <a:pt x="34" y="63"/>
                        </a:lnTo>
                        <a:lnTo>
                          <a:pt x="34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5353200" y="6016320"/>
                    <a:ext cx="16380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393">
                        <a:moveTo>
                          <a:pt x="595" y="0"/>
                        </a:moveTo>
                        <a:lnTo>
                          <a:pt x="552" y="21"/>
                        </a:lnTo>
                        <a:lnTo>
                          <a:pt x="502" y="43"/>
                        </a:lnTo>
                        <a:lnTo>
                          <a:pt x="445" y="72"/>
                        </a:lnTo>
                        <a:lnTo>
                          <a:pt x="382" y="104"/>
                        </a:lnTo>
                        <a:lnTo>
                          <a:pt x="322" y="137"/>
                        </a:lnTo>
                        <a:lnTo>
                          <a:pt x="265" y="167"/>
                        </a:lnTo>
                        <a:lnTo>
                          <a:pt x="221" y="196"/>
                        </a:lnTo>
                        <a:lnTo>
                          <a:pt x="183" y="222"/>
                        </a:lnTo>
                        <a:lnTo>
                          <a:pt x="145" y="254"/>
                        </a:lnTo>
                        <a:lnTo>
                          <a:pt x="109" y="287"/>
                        </a:lnTo>
                        <a:lnTo>
                          <a:pt x="74" y="319"/>
                        </a:lnTo>
                        <a:lnTo>
                          <a:pt x="44" y="348"/>
                        </a:lnTo>
                        <a:lnTo>
                          <a:pt x="21" y="370"/>
                        </a:lnTo>
                        <a:lnTo>
                          <a:pt x="0" y="393"/>
                        </a:lnTo>
                        <a:lnTo>
                          <a:pt x="152" y="287"/>
                        </a:lnTo>
                        <a:lnTo>
                          <a:pt x="202" y="262"/>
                        </a:lnTo>
                        <a:lnTo>
                          <a:pt x="251" y="237"/>
                        </a:lnTo>
                        <a:lnTo>
                          <a:pt x="310" y="207"/>
                        </a:lnTo>
                        <a:lnTo>
                          <a:pt x="392" y="169"/>
                        </a:lnTo>
                        <a:lnTo>
                          <a:pt x="496" y="129"/>
                        </a:lnTo>
                        <a:lnTo>
                          <a:pt x="584" y="99"/>
                        </a:lnTo>
                        <a:lnTo>
                          <a:pt x="622" y="85"/>
                        </a:lnTo>
                        <a:lnTo>
                          <a:pt x="595" y="0"/>
                        </a:lnTo>
                        <a:lnTo>
                          <a:pt x="5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5754240" y="6101280"/>
                    <a:ext cx="14400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861">
                        <a:moveTo>
                          <a:pt x="322" y="108"/>
                        </a:moveTo>
                        <a:lnTo>
                          <a:pt x="383" y="160"/>
                        </a:lnTo>
                        <a:lnTo>
                          <a:pt x="428" y="215"/>
                        </a:lnTo>
                        <a:lnTo>
                          <a:pt x="480" y="336"/>
                        </a:lnTo>
                        <a:lnTo>
                          <a:pt x="495" y="468"/>
                        </a:lnTo>
                        <a:lnTo>
                          <a:pt x="497" y="612"/>
                        </a:lnTo>
                        <a:lnTo>
                          <a:pt x="472" y="726"/>
                        </a:lnTo>
                        <a:lnTo>
                          <a:pt x="451" y="810"/>
                        </a:lnTo>
                        <a:lnTo>
                          <a:pt x="434" y="861"/>
                        </a:lnTo>
                        <a:lnTo>
                          <a:pt x="443" y="853"/>
                        </a:lnTo>
                        <a:lnTo>
                          <a:pt x="483" y="804"/>
                        </a:lnTo>
                        <a:lnTo>
                          <a:pt x="527" y="751"/>
                        </a:lnTo>
                        <a:lnTo>
                          <a:pt x="548" y="724"/>
                        </a:lnTo>
                        <a:lnTo>
                          <a:pt x="527" y="591"/>
                        </a:lnTo>
                        <a:lnTo>
                          <a:pt x="537" y="393"/>
                        </a:lnTo>
                        <a:lnTo>
                          <a:pt x="529" y="306"/>
                        </a:lnTo>
                        <a:lnTo>
                          <a:pt x="510" y="239"/>
                        </a:lnTo>
                        <a:lnTo>
                          <a:pt x="476" y="173"/>
                        </a:lnTo>
                        <a:lnTo>
                          <a:pt x="451" y="133"/>
                        </a:lnTo>
                        <a:lnTo>
                          <a:pt x="421" y="95"/>
                        </a:lnTo>
                        <a:lnTo>
                          <a:pt x="384" y="59"/>
                        </a:lnTo>
                        <a:lnTo>
                          <a:pt x="341" y="28"/>
                        </a:lnTo>
                        <a:lnTo>
                          <a:pt x="289" y="9"/>
                        </a:lnTo>
                        <a:lnTo>
                          <a:pt x="230" y="2"/>
                        </a:lnTo>
                        <a:lnTo>
                          <a:pt x="0" y="0"/>
                        </a:lnTo>
                        <a:lnTo>
                          <a:pt x="27" y="8"/>
                        </a:lnTo>
                        <a:lnTo>
                          <a:pt x="177" y="34"/>
                        </a:lnTo>
                        <a:lnTo>
                          <a:pt x="280" y="80"/>
                        </a:lnTo>
                        <a:lnTo>
                          <a:pt x="322" y="108"/>
                        </a:lnTo>
                        <a:lnTo>
                          <a:pt x="322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5318640" y="6192000"/>
                    <a:ext cx="9216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517">
                        <a:moveTo>
                          <a:pt x="6" y="0"/>
                        </a:moveTo>
                        <a:lnTo>
                          <a:pt x="0" y="160"/>
                        </a:lnTo>
                        <a:lnTo>
                          <a:pt x="8" y="241"/>
                        </a:lnTo>
                        <a:lnTo>
                          <a:pt x="31" y="297"/>
                        </a:lnTo>
                        <a:lnTo>
                          <a:pt x="46" y="314"/>
                        </a:lnTo>
                        <a:lnTo>
                          <a:pt x="78" y="338"/>
                        </a:lnTo>
                        <a:lnTo>
                          <a:pt x="126" y="373"/>
                        </a:lnTo>
                        <a:lnTo>
                          <a:pt x="179" y="407"/>
                        </a:lnTo>
                        <a:lnTo>
                          <a:pt x="236" y="443"/>
                        </a:lnTo>
                        <a:lnTo>
                          <a:pt x="287" y="475"/>
                        </a:lnTo>
                        <a:lnTo>
                          <a:pt x="352" y="517"/>
                        </a:lnTo>
                        <a:lnTo>
                          <a:pt x="348" y="513"/>
                        </a:lnTo>
                        <a:lnTo>
                          <a:pt x="302" y="477"/>
                        </a:lnTo>
                        <a:lnTo>
                          <a:pt x="270" y="451"/>
                        </a:lnTo>
                        <a:lnTo>
                          <a:pt x="238" y="422"/>
                        </a:lnTo>
                        <a:lnTo>
                          <a:pt x="206" y="392"/>
                        </a:lnTo>
                        <a:lnTo>
                          <a:pt x="179" y="365"/>
                        </a:lnTo>
                        <a:lnTo>
                          <a:pt x="97" y="306"/>
                        </a:lnTo>
                        <a:lnTo>
                          <a:pt x="44" y="241"/>
                        </a:lnTo>
                        <a:lnTo>
                          <a:pt x="25" y="87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5705640" y="6185520"/>
                    <a:ext cx="17748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73" h="820">
                        <a:moveTo>
                          <a:pt x="101" y="517"/>
                        </a:moveTo>
                        <a:lnTo>
                          <a:pt x="127" y="436"/>
                        </a:lnTo>
                        <a:lnTo>
                          <a:pt x="160" y="354"/>
                        </a:lnTo>
                        <a:lnTo>
                          <a:pt x="201" y="261"/>
                        </a:lnTo>
                        <a:lnTo>
                          <a:pt x="228" y="211"/>
                        </a:lnTo>
                        <a:lnTo>
                          <a:pt x="255" y="166"/>
                        </a:lnTo>
                        <a:lnTo>
                          <a:pt x="285" y="122"/>
                        </a:lnTo>
                        <a:lnTo>
                          <a:pt x="315" y="82"/>
                        </a:lnTo>
                        <a:lnTo>
                          <a:pt x="350" y="50"/>
                        </a:lnTo>
                        <a:lnTo>
                          <a:pt x="386" y="23"/>
                        </a:lnTo>
                        <a:lnTo>
                          <a:pt x="422" y="6"/>
                        </a:lnTo>
                        <a:lnTo>
                          <a:pt x="462" y="0"/>
                        </a:lnTo>
                        <a:lnTo>
                          <a:pt x="576" y="23"/>
                        </a:lnTo>
                        <a:lnTo>
                          <a:pt x="654" y="126"/>
                        </a:lnTo>
                        <a:lnTo>
                          <a:pt x="671" y="221"/>
                        </a:lnTo>
                        <a:lnTo>
                          <a:pt x="673" y="274"/>
                        </a:lnTo>
                        <a:lnTo>
                          <a:pt x="671" y="325"/>
                        </a:lnTo>
                        <a:lnTo>
                          <a:pt x="658" y="447"/>
                        </a:lnTo>
                        <a:lnTo>
                          <a:pt x="622" y="474"/>
                        </a:lnTo>
                        <a:lnTo>
                          <a:pt x="633" y="259"/>
                        </a:lnTo>
                        <a:lnTo>
                          <a:pt x="620" y="181"/>
                        </a:lnTo>
                        <a:lnTo>
                          <a:pt x="587" y="116"/>
                        </a:lnTo>
                        <a:lnTo>
                          <a:pt x="563" y="90"/>
                        </a:lnTo>
                        <a:lnTo>
                          <a:pt x="532" y="72"/>
                        </a:lnTo>
                        <a:lnTo>
                          <a:pt x="450" y="61"/>
                        </a:lnTo>
                        <a:lnTo>
                          <a:pt x="350" y="131"/>
                        </a:lnTo>
                        <a:lnTo>
                          <a:pt x="302" y="185"/>
                        </a:lnTo>
                        <a:lnTo>
                          <a:pt x="253" y="259"/>
                        </a:lnTo>
                        <a:lnTo>
                          <a:pt x="226" y="302"/>
                        </a:lnTo>
                        <a:lnTo>
                          <a:pt x="199" y="354"/>
                        </a:lnTo>
                        <a:lnTo>
                          <a:pt x="150" y="477"/>
                        </a:lnTo>
                        <a:lnTo>
                          <a:pt x="144" y="766"/>
                        </a:lnTo>
                        <a:lnTo>
                          <a:pt x="133" y="789"/>
                        </a:lnTo>
                        <a:lnTo>
                          <a:pt x="84" y="806"/>
                        </a:lnTo>
                        <a:lnTo>
                          <a:pt x="0" y="820"/>
                        </a:lnTo>
                        <a:lnTo>
                          <a:pt x="101" y="517"/>
                        </a:lnTo>
                        <a:lnTo>
                          <a:pt x="101" y="5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5596920" y="6179400"/>
                    <a:ext cx="1249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4" h="499">
                        <a:moveTo>
                          <a:pt x="74" y="85"/>
                        </a:moveTo>
                        <a:lnTo>
                          <a:pt x="46" y="123"/>
                        </a:lnTo>
                        <a:lnTo>
                          <a:pt x="2" y="222"/>
                        </a:lnTo>
                        <a:lnTo>
                          <a:pt x="0" y="345"/>
                        </a:lnTo>
                        <a:lnTo>
                          <a:pt x="14" y="378"/>
                        </a:lnTo>
                        <a:lnTo>
                          <a:pt x="35" y="408"/>
                        </a:lnTo>
                        <a:lnTo>
                          <a:pt x="63" y="439"/>
                        </a:lnTo>
                        <a:lnTo>
                          <a:pt x="101" y="465"/>
                        </a:lnTo>
                        <a:lnTo>
                          <a:pt x="143" y="488"/>
                        </a:lnTo>
                        <a:lnTo>
                          <a:pt x="181" y="499"/>
                        </a:lnTo>
                        <a:lnTo>
                          <a:pt x="253" y="498"/>
                        </a:lnTo>
                        <a:lnTo>
                          <a:pt x="316" y="471"/>
                        </a:lnTo>
                        <a:lnTo>
                          <a:pt x="367" y="429"/>
                        </a:lnTo>
                        <a:lnTo>
                          <a:pt x="407" y="380"/>
                        </a:lnTo>
                        <a:lnTo>
                          <a:pt x="438" y="334"/>
                        </a:lnTo>
                        <a:lnTo>
                          <a:pt x="462" y="285"/>
                        </a:lnTo>
                        <a:lnTo>
                          <a:pt x="474" y="150"/>
                        </a:lnTo>
                        <a:lnTo>
                          <a:pt x="464" y="98"/>
                        </a:lnTo>
                        <a:lnTo>
                          <a:pt x="443" y="53"/>
                        </a:lnTo>
                        <a:lnTo>
                          <a:pt x="426" y="34"/>
                        </a:lnTo>
                        <a:lnTo>
                          <a:pt x="407" y="17"/>
                        </a:lnTo>
                        <a:lnTo>
                          <a:pt x="350" y="0"/>
                        </a:lnTo>
                        <a:lnTo>
                          <a:pt x="373" y="28"/>
                        </a:lnTo>
                        <a:lnTo>
                          <a:pt x="409" y="106"/>
                        </a:lnTo>
                        <a:lnTo>
                          <a:pt x="409" y="220"/>
                        </a:lnTo>
                        <a:lnTo>
                          <a:pt x="377" y="288"/>
                        </a:lnTo>
                        <a:lnTo>
                          <a:pt x="352" y="323"/>
                        </a:lnTo>
                        <a:lnTo>
                          <a:pt x="318" y="359"/>
                        </a:lnTo>
                        <a:lnTo>
                          <a:pt x="295" y="376"/>
                        </a:lnTo>
                        <a:lnTo>
                          <a:pt x="236" y="403"/>
                        </a:lnTo>
                        <a:lnTo>
                          <a:pt x="160" y="403"/>
                        </a:lnTo>
                        <a:lnTo>
                          <a:pt x="80" y="338"/>
                        </a:lnTo>
                        <a:lnTo>
                          <a:pt x="86" y="199"/>
                        </a:lnTo>
                        <a:lnTo>
                          <a:pt x="107" y="142"/>
                        </a:lnTo>
                        <a:lnTo>
                          <a:pt x="145" y="89"/>
                        </a:lnTo>
                        <a:lnTo>
                          <a:pt x="171" y="62"/>
                        </a:lnTo>
                        <a:lnTo>
                          <a:pt x="204" y="41"/>
                        </a:lnTo>
                        <a:lnTo>
                          <a:pt x="242" y="20"/>
                        </a:lnTo>
                        <a:lnTo>
                          <a:pt x="285" y="3"/>
                        </a:lnTo>
                        <a:lnTo>
                          <a:pt x="249" y="0"/>
                        </a:lnTo>
                        <a:lnTo>
                          <a:pt x="107" y="57"/>
                        </a:lnTo>
                        <a:lnTo>
                          <a:pt x="74" y="85"/>
                        </a:lnTo>
                        <a:lnTo>
                          <a:pt x="74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5877720" y="5941080"/>
                    <a:ext cx="493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479">
                        <a:moveTo>
                          <a:pt x="0" y="28"/>
                        </a:moveTo>
                        <a:lnTo>
                          <a:pt x="106" y="435"/>
                        </a:lnTo>
                        <a:lnTo>
                          <a:pt x="122" y="479"/>
                        </a:lnTo>
                        <a:lnTo>
                          <a:pt x="186" y="414"/>
                        </a:lnTo>
                        <a:lnTo>
                          <a:pt x="38" y="0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5917320" y="6051960"/>
                    <a:ext cx="4788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800">
                        <a:moveTo>
                          <a:pt x="0" y="42"/>
                        </a:moveTo>
                        <a:lnTo>
                          <a:pt x="29" y="85"/>
                        </a:lnTo>
                        <a:lnTo>
                          <a:pt x="84" y="220"/>
                        </a:lnTo>
                        <a:lnTo>
                          <a:pt x="114" y="456"/>
                        </a:lnTo>
                        <a:lnTo>
                          <a:pt x="107" y="614"/>
                        </a:lnTo>
                        <a:lnTo>
                          <a:pt x="74" y="800"/>
                        </a:lnTo>
                        <a:lnTo>
                          <a:pt x="128" y="796"/>
                        </a:lnTo>
                        <a:lnTo>
                          <a:pt x="150" y="692"/>
                        </a:lnTo>
                        <a:lnTo>
                          <a:pt x="183" y="452"/>
                        </a:lnTo>
                        <a:lnTo>
                          <a:pt x="173" y="184"/>
                        </a:lnTo>
                        <a:lnTo>
                          <a:pt x="158" y="127"/>
                        </a:lnTo>
                        <a:lnTo>
                          <a:pt x="135" y="76"/>
                        </a:lnTo>
                        <a:lnTo>
                          <a:pt x="107" y="32"/>
                        </a:lnTo>
                        <a:lnTo>
                          <a:pt x="69" y="0"/>
                        </a:lnTo>
                        <a:lnTo>
                          <a:pt x="0" y="42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5320080" y="6120360"/>
                    <a:ext cx="106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0">
                        <a:moveTo>
                          <a:pt x="0" y="295"/>
                        </a:moveTo>
                        <a:lnTo>
                          <a:pt x="17" y="177"/>
                        </a:lnTo>
                        <a:lnTo>
                          <a:pt x="32" y="129"/>
                        </a:lnTo>
                        <a:lnTo>
                          <a:pt x="57" y="86"/>
                        </a:lnTo>
                        <a:lnTo>
                          <a:pt x="89" y="48"/>
                        </a:lnTo>
                        <a:lnTo>
                          <a:pt x="133" y="23"/>
                        </a:lnTo>
                        <a:lnTo>
                          <a:pt x="245" y="0"/>
                        </a:lnTo>
                        <a:lnTo>
                          <a:pt x="352" y="21"/>
                        </a:lnTo>
                        <a:lnTo>
                          <a:pt x="388" y="55"/>
                        </a:lnTo>
                        <a:lnTo>
                          <a:pt x="403" y="112"/>
                        </a:lnTo>
                        <a:lnTo>
                          <a:pt x="395" y="190"/>
                        </a:lnTo>
                        <a:lnTo>
                          <a:pt x="380" y="242"/>
                        </a:lnTo>
                        <a:lnTo>
                          <a:pt x="355" y="299"/>
                        </a:lnTo>
                        <a:lnTo>
                          <a:pt x="336" y="327"/>
                        </a:lnTo>
                        <a:lnTo>
                          <a:pt x="300" y="361"/>
                        </a:lnTo>
                        <a:lnTo>
                          <a:pt x="256" y="394"/>
                        </a:lnTo>
                        <a:lnTo>
                          <a:pt x="209" y="417"/>
                        </a:lnTo>
                        <a:lnTo>
                          <a:pt x="159" y="420"/>
                        </a:lnTo>
                        <a:lnTo>
                          <a:pt x="116" y="399"/>
                        </a:lnTo>
                        <a:lnTo>
                          <a:pt x="83" y="346"/>
                        </a:lnTo>
                        <a:lnTo>
                          <a:pt x="64" y="251"/>
                        </a:lnTo>
                        <a:lnTo>
                          <a:pt x="74" y="207"/>
                        </a:lnTo>
                        <a:lnTo>
                          <a:pt x="93" y="249"/>
                        </a:lnTo>
                        <a:lnTo>
                          <a:pt x="114" y="283"/>
                        </a:lnTo>
                        <a:lnTo>
                          <a:pt x="140" y="320"/>
                        </a:lnTo>
                        <a:lnTo>
                          <a:pt x="173" y="342"/>
                        </a:lnTo>
                        <a:lnTo>
                          <a:pt x="209" y="348"/>
                        </a:lnTo>
                        <a:lnTo>
                          <a:pt x="287" y="266"/>
                        </a:lnTo>
                        <a:lnTo>
                          <a:pt x="323" y="143"/>
                        </a:lnTo>
                        <a:lnTo>
                          <a:pt x="313" y="107"/>
                        </a:lnTo>
                        <a:lnTo>
                          <a:pt x="296" y="84"/>
                        </a:lnTo>
                        <a:lnTo>
                          <a:pt x="249" y="67"/>
                        </a:lnTo>
                        <a:lnTo>
                          <a:pt x="222" y="65"/>
                        </a:lnTo>
                        <a:lnTo>
                          <a:pt x="102" y="107"/>
                        </a:lnTo>
                        <a:lnTo>
                          <a:pt x="38" y="202"/>
                        </a:lnTo>
                        <a:lnTo>
                          <a:pt x="0" y="295"/>
                        </a:lnTo>
                        <a:lnTo>
                          <a:pt x="0" y="2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5469840" y="6320520"/>
                    <a:ext cx="2325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3" h="211">
                        <a:moveTo>
                          <a:pt x="0" y="127"/>
                        </a:moveTo>
                        <a:lnTo>
                          <a:pt x="76" y="112"/>
                        </a:lnTo>
                        <a:lnTo>
                          <a:pt x="303" y="89"/>
                        </a:lnTo>
                        <a:lnTo>
                          <a:pt x="797" y="11"/>
                        </a:lnTo>
                        <a:lnTo>
                          <a:pt x="883" y="0"/>
                        </a:lnTo>
                        <a:lnTo>
                          <a:pt x="879" y="20"/>
                        </a:lnTo>
                        <a:lnTo>
                          <a:pt x="856" y="51"/>
                        </a:lnTo>
                        <a:lnTo>
                          <a:pt x="818" y="85"/>
                        </a:lnTo>
                        <a:lnTo>
                          <a:pt x="772" y="121"/>
                        </a:lnTo>
                        <a:lnTo>
                          <a:pt x="727" y="150"/>
                        </a:lnTo>
                        <a:lnTo>
                          <a:pt x="687" y="169"/>
                        </a:lnTo>
                        <a:lnTo>
                          <a:pt x="590" y="195"/>
                        </a:lnTo>
                        <a:lnTo>
                          <a:pt x="441" y="211"/>
                        </a:lnTo>
                        <a:lnTo>
                          <a:pt x="244" y="193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5316480" y="6279840"/>
                    <a:ext cx="415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8" h="500">
                        <a:moveTo>
                          <a:pt x="5" y="0"/>
                        </a:moveTo>
                        <a:lnTo>
                          <a:pt x="0" y="83"/>
                        </a:lnTo>
                        <a:lnTo>
                          <a:pt x="38" y="123"/>
                        </a:lnTo>
                        <a:lnTo>
                          <a:pt x="74" y="154"/>
                        </a:lnTo>
                        <a:lnTo>
                          <a:pt x="121" y="190"/>
                        </a:lnTo>
                        <a:lnTo>
                          <a:pt x="180" y="232"/>
                        </a:lnTo>
                        <a:lnTo>
                          <a:pt x="213" y="252"/>
                        </a:lnTo>
                        <a:lnTo>
                          <a:pt x="249" y="273"/>
                        </a:lnTo>
                        <a:lnTo>
                          <a:pt x="287" y="296"/>
                        </a:lnTo>
                        <a:lnTo>
                          <a:pt x="327" y="317"/>
                        </a:lnTo>
                        <a:lnTo>
                          <a:pt x="370" y="340"/>
                        </a:lnTo>
                        <a:lnTo>
                          <a:pt x="416" y="361"/>
                        </a:lnTo>
                        <a:lnTo>
                          <a:pt x="517" y="401"/>
                        </a:lnTo>
                        <a:lnTo>
                          <a:pt x="625" y="435"/>
                        </a:lnTo>
                        <a:lnTo>
                          <a:pt x="745" y="465"/>
                        </a:lnTo>
                        <a:lnTo>
                          <a:pt x="872" y="486"/>
                        </a:lnTo>
                        <a:lnTo>
                          <a:pt x="1157" y="500"/>
                        </a:lnTo>
                        <a:lnTo>
                          <a:pt x="1477" y="462"/>
                        </a:lnTo>
                        <a:lnTo>
                          <a:pt x="1578" y="391"/>
                        </a:lnTo>
                        <a:lnTo>
                          <a:pt x="1469" y="404"/>
                        </a:lnTo>
                        <a:lnTo>
                          <a:pt x="1201" y="422"/>
                        </a:lnTo>
                        <a:lnTo>
                          <a:pt x="874" y="416"/>
                        </a:lnTo>
                        <a:lnTo>
                          <a:pt x="581" y="361"/>
                        </a:lnTo>
                        <a:lnTo>
                          <a:pt x="465" y="313"/>
                        </a:lnTo>
                        <a:lnTo>
                          <a:pt x="363" y="264"/>
                        </a:lnTo>
                        <a:lnTo>
                          <a:pt x="270" y="216"/>
                        </a:lnTo>
                        <a:lnTo>
                          <a:pt x="192" y="171"/>
                        </a:lnTo>
                        <a:lnTo>
                          <a:pt x="125" y="129"/>
                        </a:lnTo>
                        <a:lnTo>
                          <a:pt x="76" y="93"/>
                        </a:lnTo>
                        <a:lnTo>
                          <a:pt x="26" y="4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5383800" y="6342840"/>
                    <a:ext cx="900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92">
                        <a:moveTo>
                          <a:pt x="2" y="0"/>
                        </a:moveTo>
                        <a:lnTo>
                          <a:pt x="0" y="14"/>
                        </a:lnTo>
                        <a:lnTo>
                          <a:pt x="2" y="48"/>
                        </a:lnTo>
                        <a:lnTo>
                          <a:pt x="21" y="90"/>
                        </a:lnTo>
                        <a:lnTo>
                          <a:pt x="40" y="110"/>
                        </a:lnTo>
                        <a:lnTo>
                          <a:pt x="71" y="129"/>
                        </a:lnTo>
                        <a:lnTo>
                          <a:pt x="147" y="160"/>
                        </a:lnTo>
                        <a:lnTo>
                          <a:pt x="226" y="179"/>
                        </a:lnTo>
                        <a:lnTo>
                          <a:pt x="316" y="192"/>
                        </a:lnTo>
                        <a:lnTo>
                          <a:pt x="342" y="17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5657040" y="6199920"/>
                    <a:ext cx="22572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951">
                        <a:moveTo>
                          <a:pt x="0" y="765"/>
                        </a:moveTo>
                        <a:lnTo>
                          <a:pt x="14" y="791"/>
                        </a:lnTo>
                        <a:lnTo>
                          <a:pt x="52" y="850"/>
                        </a:lnTo>
                        <a:lnTo>
                          <a:pt x="76" y="881"/>
                        </a:lnTo>
                        <a:lnTo>
                          <a:pt x="105" y="909"/>
                        </a:lnTo>
                        <a:lnTo>
                          <a:pt x="137" y="930"/>
                        </a:lnTo>
                        <a:lnTo>
                          <a:pt x="170" y="941"/>
                        </a:lnTo>
                        <a:lnTo>
                          <a:pt x="375" y="951"/>
                        </a:lnTo>
                        <a:lnTo>
                          <a:pt x="481" y="939"/>
                        </a:lnTo>
                        <a:lnTo>
                          <a:pt x="552" y="909"/>
                        </a:lnTo>
                        <a:lnTo>
                          <a:pt x="586" y="871"/>
                        </a:lnTo>
                        <a:lnTo>
                          <a:pt x="645" y="806"/>
                        </a:lnTo>
                        <a:lnTo>
                          <a:pt x="679" y="763"/>
                        </a:lnTo>
                        <a:lnTo>
                          <a:pt x="715" y="715"/>
                        </a:lnTo>
                        <a:lnTo>
                          <a:pt x="748" y="662"/>
                        </a:lnTo>
                        <a:lnTo>
                          <a:pt x="780" y="603"/>
                        </a:lnTo>
                        <a:lnTo>
                          <a:pt x="831" y="476"/>
                        </a:lnTo>
                        <a:lnTo>
                          <a:pt x="856" y="335"/>
                        </a:lnTo>
                        <a:lnTo>
                          <a:pt x="839" y="185"/>
                        </a:lnTo>
                        <a:lnTo>
                          <a:pt x="812" y="109"/>
                        </a:lnTo>
                        <a:lnTo>
                          <a:pt x="791" y="69"/>
                        </a:lnTo>
                        <a:lnTo>
                          <a:pt x="769" y="31"/>
                        </a:lnTo>
                        <a:lnTo>
                          <a:pt x="740" y="14"/>
                        </a:lnTo>
                        <a:lnTo>
                          <a:pt x="687" y="0"/>
                        </a:lnTo>
                        <a:lnTo>
                          <a:pt x="580" y="10"/>
                        </a:lnTo>
                        <a:lnTo>
                          <a:pt x="533" y="63"/>
                        </a:lnTo>
                        <a:lnTo>
                          <a:pt x="502" y="103"/>
                        </a:lnTo>
                        <a:lnTo>
                          <a:pt x="472" y="149"/>
                        </a:lnTo>
                        <a:lnTo>
                          <a:pt x="443" y="192"/>
                        </a:lnTo>
                        <a:lnTo>
                          <a:pt x="421" y="229"/>
                        </a:lnTo>
                        <a:lnTo>
                          <a:pt x="400" y="265"/>
                        </a:lnTo>
                        <a:lnTo>
                          <a:pt x="436" y="208"/>
                        </a:lnTo>
                        <a:lnTo>
                          <a:pt x="474" y="154"/>
                        </a:lnTo>
                        <a:lnTo>
                          <a:pt x="523" y="96"/>
                        </a:lnTo>
                        <a:lnTo>
                          <a:pt x="552" y="71"/>
                        </a:lnTo>
                        <a:lnTo>
                          <a:pt x="578" y="46"/>
                        </a:lnTo>
                        <a:lnTo>
                          <a:pt x="635" y="16"/>
                        </a:lnTo>
                        <a:lnTo>
                          <a:pt x="692" y="14"/>
                        </a:lnTo>
                        <a:lnTo>
                          <a:pt x="742" y="50"/>
                        </a:lnTo>
                        <a:lnTo>
                          <a:pt x="812" y="185"/>
                        </a:lnTo>
                        <a:lnTo>
                          <a:pt x="824" y="354"/>
                        </a:lnTo>
                        <a:lnTo>
                          <a:pt x="801" y="453"/>
                        </a:lnTo>
                        <a:lnTo>
                          <a:pt x="782" y="508"/>
                        </a:lnTo>
                        <a:lnTo>
                          <a:pt x="757" y="563"/>
                        </a:lnTo>
                        <a:lnTo>
                          <a:pt x="727" y="624"/>
                        </a:lnTo>
                        <a:lnTo>
                          <a:pt x="691" y="687"/>
                        </a:lnTo>
                        <a:lnTo>
                          <a:pt x="647" y="751"/>
                        </a:lnTo>
                        <a:lnTo>
                          <a:pt x="597" y="822"/>
                        </a:lnTo>
                        <a:lnTo>
                          <a:pt x="569" y="850"/>
                        </a:lnTo>
                        <a:lnTo>
                          <a:pt x="538" y="869"/>
                        </a:lnTo>
                        <a:lnTo>
                          <a:pt x="499" y="886"/>
                        </a:lnTo>
                        <a:lnTo>
                          <a:pt x="371" y="907"/>
                        </a:lnTo>
                        <a:lnTo>
                          <a:pt x="170" y="898"/>
                        </a:lnTo>
                        <a:lnTo>
                          <a:pt x="37" y="776"/>
                        </a:lnTo>
                        <a:lnTo>
                          <a:pt x="0" y="765"/>
                        </a:lnTo>
                        <a:lnTo>
                          <a:pt x="0" y="7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5433840" y="6086160"/>
                    <a:ext cx="15012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1" h="857">
                        <a:moveTo>
                          <a:pt x="0" y="831"/>
                        </a:moveTo>
                        <a:lnTo>
                          <a:pt x="21" y="753"/>
                        </a:lnTo>
                        <a:lnTo>
                          <a:pt x="52" y="665"/>
                        </a:lnTo>
                        <a:lnTo>
                          <a:pt x="71" y="614"/>
                        </a:lnTo>
                        <a:lnTo>
                          <a:pt x="95" y="557"/>
                        </a:lnTo>
                        <a:lnTo>
                          <a:pt x="122" y="498"/>
                        </a:lnTo>
                        <a:lnTo>
                          <a:pt x="154" y="435"/>
                        </a:lnTo>
                        <a:lnTo>
                          <a:pt x="190" y="373"/>
                        </a:lnTo>
                        <a:lnTo>
                          <a:pt x="232" y="308"/>
                        </a:lnTo>
                        <a:lnTo>
                          <a:pt x="278" y="245"/>
                        </a:lnTo>
                        <a:lnTo>
                          <a:pt x="329" y="184"/>
                        </a:lnTo>
                        <a:lnTo>
                          <a:pt x="384" y="125"/>
                        </a:lnTo>
                        <a:lnTo>
                          <a:pt x="415" y="97"/>
                        </a:lnTo>
                        <a:lnTo>
                          <a:pt x="445" y="70"/>
                        </a:lnTo>
                        <a:lnTo>
                          <a:pt x="571" y="0"/>
                        </a:lnTo>
                        <a:lnTo>
                          <a:pt x="519" y="42"/>
                        </a:lnTo>
                        <a:lnTo>
                          <a:pt x="495" y="67"/>
                        </a:lnTo>
                        <a:lnTo>
                          <a:pt x="464" y="97"/>
                        </a:lnTo>
                        <a:lnTo>
                          <a:pt x="396" y="173"/>
                        </a:lnTo>
                        <a:lnTo>
                          <a:pt x="360" y="219"/>
                        </a:lnTo>
                        <a:lnTo>
                          <a:pt x="320" y="272"/>
                        </a:lnTo>
                        <a:lnTo>
                          <a:pt x="280" y="331"/>
                        </a:lnTo>
                        <a:lnTo>
                          <a:pt x="240" y="395"/>
                        </a:lnTo>
                        <a:lnTo>
                          <a:pt x="202" y="464"/>
                        </a:lnTo>
                        <a:lnTo>
                          <a:pt x="164" y="540"/>
                        </a:lnTo>
                        <a:lnTo>
                          <a:pt x="126" y="623"/>
                        </a:lnTo>
                        <a:lnTo>
                          <a:pt x="92" y="711"/>
                        </a:lnTo>
                        <a:lnTo>
                          <a:pt x="71" y="857"/>
                        </a:lnTo>
                        <a:lnTo>
                          <a:pt x="0" y="831"/>
                        </a:lnTo>
                        <a:lnTo>
                          <a:pt x="0" y="8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5742720" y="6123600"/>
                    <a:ext cx="8172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317">
                        <a:moveTo>
                          <a:pt x="9" y="307"/>
                        </a:moveTo>
                        <a:lnTo>
                          <a:pt x="2" y="317"/>
                        </a:lnTo>
                        <a:lnTo>
                          <a:pt x="0" y="298"/>
                        </a:lnTo>
                        <a:lnTo>
                          <a:pt x="22" y="211"/>
                        </a:lnTo>
                        <a:lnTo>
                          <a:pt x="45" y="155"/>
                        </a:lnTo>
                        <a:lnTo>
                          <a:pt x="74" y="100"/>
                        </a:lnTo>
                        <a:lnTo>
                          <a:pt x="108" y="53"/>
                        </a:lnTo>
                        <a:lnTo>
                          <a:pt x="148" y="22"/>
                        </a:lnTo>
                        <a:lnTo>
                          <a:pt x="220" y="0"/>
                        </a:lnTo>
                        <a:lnTo>
                          <a:pt x="270" y="7"/>
                        </a:lnTo>
                        <a:lnTo>
                          <a:pt x="310" y="38"/>
                        </a:lnTo>
                        <a:lnTo>
                          <a:pt x="207" y="85"/>
                        </a:lnTo>
                        <a:lnTo>
                          <a:pt x="161" y="119"/>
                        </a:lnTo>
                        <a:lnTo>
                          <a:pt x="112" y="167"/>
                        </a:lnTo>
                        <a:lnTo>
                          <a:pt x="60" y="228"/>
                        </a:lnTo>
                        <a:lnTo>
                          <a:pt x="9" y="307"/>
                        </a:lnTo>
                        <a:lnTo>
                          <a:pt x="9" y="307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668920" y="6404400"/>
                    <a:ext cx="100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8">
                        <a:moveTo>
                          <a:pt x="0" y="15"/>
                        </a:moveTo>
                        <a:lnTo>
                          <a:pt x="380" y="0"/>
                        </a:lnTo>
                        <a:lnTo>
                          <a:pt x="0" y="48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5676120" y="6419520"/>
                    <a:ext cx="71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44">
                        <a:moveTo>
                          <a:pt x="0" y="11"/>
                        </a:moveTo>
                        <a:lnTo>
                          <a:pt x="270" y="0"/>
                        </a:lnTo>
                        <a:lnTo>
                          <a:pt x="42" y="44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5778000" y="6238440"/>
                    <a:ext cx="69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521">
                        <a:moveTo>
                          <a:pt x="32" y="521"/>
                        </a:moveTo>
                        <a:lnTo>
                          <a:pt x="47" y="363"/>
                        </a:lnTo>
                        <a:lnTo>
                          <a:pt x="60" y="298"/>
                        </a:lnTo>
                        <a:lnTo>
                          <a:pt x="81" y="236"/>
                        </a:lnTo>
                        <a:lnTo>
                          <a:pt x="110" y="180"/>
                        </a:lnTo>
                        <a:lnTo>
                          <a:pt x="150" y="139"/>
                        </a:lnTo>
                        <a:lnTo>
                          <a:pt x="169" y="125"/>
                        </a:lnTo>
                        <a:lnTo>
                          <a:pt x="195" y="112"/>
                        </a:lnTo>
                        <a:lnTo>
                          <a:pt x="216" y="123"/>
                        </a:lnTo>
                        <a:lnTo>
                          <a:pt x="222" y="182"/>
                        </a:lnTo>
                        <a:lnTo>
                          <a:pt x="197" y="329"/>
                        </a:lnTo>
                        <a:lnTo>
                          <a:pt x="180" y="388"/>
                        </a:lnTo>
                        <a:lnTo>
                          <a:pt x="218" y="329"/>
                        </a:lnTo>
                        <a:lnTo>
                          <a:pt x="264" y="118"/>
                        </a:lnTo>
                        <a:lnTo>
                          <a:pt x="262" y="66"/>
                        </a:lnTo>
                        <a:lnTo>
                          <a:pt x="251" y="26"/>
                        </a:lnTo>
                        <a:lnTo>
                          <a:pt x="226" y="0"/>
                        </a:lnTo>
                        <a:lnTo>
                          <a:pt x="167" y="6"/>
                        </a:lnTo>
                        <a:lnTo>
                          <a:pt x="91" y="80"/>
                        </a:lnTo>
                        <a:lnTo>
                          <a:pt x="22" y="226"/>
                        </a:lnTo>
                        <a:lnTo>
                          <a:pt x="0" y="348"/>
                        </a:lnTo>
                        <a:lnTo>
                          <a:pt x="9" y="462"/>
                        </a:lnTo>
                        <a:lnTo>
                          <a:pt x="32" y="521"/>
                        </a:lnTo>
                        <a:lnTo>
                          <a:pt x="32" y="5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687280" y="6431400"/>
                    <a:ext cx="482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2">
                        <a:moveTo>
                          <a:pt x="38" y="32"/>
                        </a:moveTo>
                        <a:lnTo>
                          <a:pt x="184" y="0"/>
                        </a:lnTo>
                        <a:lnTo>
                          <a:pt x="0" y="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5974200" y="6142320"/>
                    <a:ext cx="10116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505">
                        <a:moveTo>
                          <a:pt x="384" y="0"/>
                        </a:moveTo>
                        <a:lnTo>
                          <a:pt x="371" y="188"/>
                        </a:lnTo>
                        <a:lnTo>
                          <a:pt x="352" y="273"/>
                        </a:lnTo>
                        <a:lnTo>
                          <a:pt x="321" y="355"/>
                        </a:lnTo>
                        <a:lnTo>
                          <a:pt x="302" y="393"/>
                        </a:lnTo>
                        <a:lnTo>
                          <a:pt x="280" y="429"/>
                        </a:lnTo>
                        <a:lnTo>
                          <a:pt x="253" y="458"/>
                        </a:lnTo>
                        <a:lnTo>
                          <a:pt x="222" y="483"/>
                        </a:lnTo>
                        <a:lnTo>
                          <a:pt x="162" y="505"/>
                        </a:lnTo>
                        <a:lnTo>
                          <a:pt x="114" y="503"/>
                        </a:lnTo>
                        <a:lnTo>
                          <a:pt x="74" y="479"/>
                        </a:lnTo>
                        <a:lnTo>
                          <a:pt x="46" y="445"/>
                        </a:lnTo>
                        <a:lnTo>
                          <a:pt x="10" y="365"/>
                        </a:lnTo>
                        <a:lnTo>
                          <a:pt x="0" y="325"/>
                        </a:lnTo>
                        <a:lnTo>
                          <a:pt x="89" y="192"/>
                        </a:lnTo>
                        <a:lnTo>
                          <a:pt x="78" y="298"/>
                        </a:lnTo>
                        <a:lnTo>
                          <a:pt x="84" y="380"/>
                        </a:lnTo>
                        <a:lnTo>
                          <a:pt x="93" y="412"/>
                        </a:lnTo>
                        <a:lnTo>
                          <a:pt x="112" y="431"/>
                        </a:lnTo>
                        <a:lnTo>
                          <a:pt x="158" y="441"/>
                        </a:lnTo>
                        <a:lnTo>
                          <a:pt x="211" y="424"/>
                        </a:lnTo>
                        <a:lnTo>
                          <a:pt x="316" y="287"/>
                        </a:lnTo>
                        <a:lnTo>
                          <a:pt x="354" y="144"/>
                        </a:lnTo>
                        <a:lnTo>
                          <a:pt x="384" y="0"/>
                        </a:lnTo>
                        <a:lnTo>
                          <a:pt x="38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5943240" y="6255360"/>
                    <a:ext cx="471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94">
                        <a:moveTo>
                          <a:pt x="0" y="8"/>
                        </a:moveTo>
                        <a:lnTo>
                          <a:pt x="15" y="35"/>
                        </a:lnTo>
                        <a:lnTo>
                          <a:pt x="36" y="56"/>
                        </a:lnTo>
                        <a:lnTo>
                          <a:pt x="65" y="73"/>
                        </a:lnTo>
                        <a:lnTo>
                          <a:pt x="181" y="94"/>
                        </a:lnTo>
                        <a:lnTo>
                          <a:pt x="114" y="63"/>
                        </a:lnTo>
                        <a:lnTo>
                          <a:pt x="59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5887080" y="6206040"/>
                    <a:ext cx="568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327">
                        <a:moveTo>
                          <a:pt x="14" y="226"/>
                        </a:moveTo>
                        <a:lnTo>
                          <a:pt x="90" y="32"/>
                        </a:lnTo>
                        <a:lnTo>
                          <a:pt x="63" y="156"/>
                        </a:lnTo>
                        <a:lnTo>
                          <a:pt x="147" y="13"/>
                        </a:lnTo>
                        <a:lnTo>
                          <a:pt x="95" y="160"/>
                        </a:lnTo>
                        <a:lnTo>
                          <a:pt x="207" y="0"/>
                        </a:lnTo>
                        <a:lnTo>
                          <a:pt x="147" y="150"/>
                        </a:lnTo>
                        <a:lnTo>
                          <a:pt x="196" y="82"/>
                        </a:lnTo>
                        <a:lnTo>
                          <a:pt x="177" y="166"/>
                        </a:lnTo>
                        <a:lnTo>
                          <a:pt x="217" y="109"/>
                        </a:lnTo>
                        <a:lnTo>
                          <a:pt x="207" y="200"/>
                        </a:lnTo>
                        <a:lnTo>
                          <a:pt x="188" y="230"/>
                        </a:lnTo>
                        <a:lnTo>
                          <a:pt x="0" y="327"/>
                        </a:lnTo>
                        <a:lnTo>
                          <a:pt x="14" y="226"/>
                        </a:lnTo>
                        <a:lnTo>
                          <a:pt x="14" y="2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6072120" y="6167880"/>
                    <a:ext cx="388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20">
                        <a:moveTo>
                          <a:pt x="0" y="120"/>
                        </a:moveTo>
                        <a:lnTo>
                          <a:pt x="146" y="0"/>
                        </a:lnTo>
                        <a:lnTo>
                          <a:pt x="5" y="61"/>
                        </a:lnTo>
                        <a:lnTo>
                          <a:pt x="0" y="120"/>
                        </a:lnTo>
                        <a:lnTo>
                          <a:pt x="0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6057000" y="6139440"/>
                    <a:ext cx="1386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31">
                        <a:moveTo>
                          <a:pt x="0" y="331"/>
                        </a:moveTo>
                        <a:lnTo>
                          <a:pt x="526" y="0"/>
                        </a:lnTo>
                        <a:lnTo>
                          <a:pt x="450" y="10"/>
                        </a:lnTo>
                        <a:lnTo>
                          <a:pt x="38" y="238"/>
                        </a:lnTo>
                        <a:lnTo>
                          <a:pt x="0" y="331"/>
                        </a:lnTo>
                        <a:lnTo>
                          <a:pt x="0" y="3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5796360" y="6296400"/>
                    <a:ext cx="17604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9" h="544">
                        <a:moveTo>
                          <a:pt x="0" y="544"/>
                        </a:moveTo>
                        <a:lnTo>
                          <a:pt x="108" y="512"/>
                        </a:lnTo>
                        <a:lnTo>
                          <a:pt x="669" y="0"/>
                        </a:lnTo>
                        <a:lnTo>
                          <a:pt x="576" y="38"/>
                        </a:lnTo>
                        <a:lnTo>
                          <a:pt x="185" y="337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6030000" y="6180480"/>
                    <a:ext cx="1152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9" h="344">
                        <a:moveTo>
                          <a:pt x="0" y="344"/>
                        </a:moveTo>
                        <a:lnTo>
                          <a:pt x="439" y="55"/>
                        </a:lnTo>
                        <a:lnTo>
                          <a:pt x="114" y="230"/>
                        </a:lnTo>
                        <a:lnTo>
                          <a:pt x="439" y="0"/>
                        </a:lnTo>
                        <a:lnTo>
                          <a:pt x="114" y="175"/>
                        </a:lnTo>
                        <a:lnTo>
                          <a:pt x="103" y="230"/>
                        </a:lnTo>
                        <a:lnTo>
                          <a:pt x="0" y="344"/>
                        </a:lnTo>
                        <a:lnTo>
                          <a:pt x="0" y="3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6019200" y="6122880"/>
                    <a:ext cx="41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59">
                        <a:moveTo>
                          <a:pt x="25" y="359"/>
                        </a:moveTo>
                        <a:lnTo>
                          <a:pt x="0" y="266"/>
                        </a:lnTo>
                        <a:lnTo>
                          <a:pt x="14" y="161"/>
                        </a:lnTo>
                        <a:lnTo>
                          <a:pt x="38" y="98"/>
                        </a:lnTo>
                        <a:lnTo>
                          <a:pt x="57" y="64"/>
                        </a:lnTo>
                        <a:lnTo>
                          <a:pt x="80" y="28"/>
                        </a:lnTo>
                        <a:lnTo>
                          <a:pt x="92" y="19"/>
                        </a:lnTo>
                        <a:lnTo>
                          <a:pt x="114" y="3"/>
                        </a:lnTo>
                        <a:lnTo>
                          <a:pt x="141" y="0"/>
                        </a:lnTo>
                        <a:lnTo>
                          <a:pt x="154" y="24"/>
                        </a:lnTo>
                        <a:lnTo>
                          <a:pt x="160" y="131"/>
                        </a:lnTo>
                        <a:lnTo>
                          <a:pt x="152" y="188"/>
                        </a:lnTo>
                        <a:lnTo>
                          <a:pt x="133" y="237"/>
                        </a:lnTo>
                        <a:lnTo>
                          <a:pt x="107" y="260"/>
                        </a:lnTo>
                        <a:lnTo>
                          <a:pt x="105" y="239"/>
                        </a:lnTo>
                        <a:lnTo>
                          <a:pt x="107" y="79"/>
                        </a:lnTo>
                        <a:lnTo>
                          <a:pt x="61" y="150"/>
                        </a:lnTo>
                        <a:lnTo>
                          <a:pt x="48" y="207"/>
                        </a:lnTo>
                        <a:lnTo>
                          <a:pt x="33" y="323"/>
                        </a:lnTo>
                        <a:lnTo>
                          <a:pt x="25" y="359"/>
                        </a:lnTo>
                        <a:lnTo>
                          <a:pt x="25" y="3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977800" y="6041160"/>
                    <a:ext cx="478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48">
                        <a:moveTo>
                          <a:pt x="0" y="148"/>
                        </a:moveTo>
                        <a:lnTo>
                          <a:pt x="29" y="93"/>
                        </a:lnTo>
                        <a:lnTo>
                          <a:pt x="63" y="47"/>
                        </a:lnTo>
                        <a:lnTo>
                          <a:pt x="84" y="28"/>
                        </a:lnTo>
                        <a:lnTo>
                          <a:pt x="109" y="13"/>
                        </a:lnTo>
                        <a:lnTo>
                          <a:pt x="158" y="0"/>
                        </a:lnTo>
                        <a:lnTo>
                          <a:pt x="183" y="7"/>
                        </a:lnTo>
                        <a:lnTo>
                          <a:pt x="164" y="28"/>
                        </a:lnTo>
                        <a:lnTo>
                          <a:pt x="124" y="57"/>
                        </a:lnTo>
                        <a:lnTo>
                          <a:pt x="88" y="89"/>
                        </a:lnTo>
                        <a:lnTo>
                          <a:pt x="57" y="120"/>
                        </a:lnTo>
                        <a:lnTo>
                          <a:pt x="29" y="137"/>
                        </a:lnTo>
                        <a:lnTo>
                          <a:pt x="0" y="148"/>
                        </a:lnTo>
                        <a:lnTo>
                          <a:pt x="0" y="148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5535360" y="6339960"/>
                    <a:ext cx="128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89">
                        <a:moveTo>
                          <a:pt x="0" y="72"/>
                        </a:moveTo>
                        <a:lnTo>
                          <a:pt x="196" y="55"/>
                        </a:lnTo>
                        <a:lnTo>
                          <a:pt x="455" y="7"/>
                        </a:lnTo>
                        <a:lnTo>
                          <a:pt x="487" y="0"/>
                        </a:lnTo>
                        <a:lnTo>
                          <a:pt x="461" y="28"/>
                        </a:lnTo>
                        <a:lnTo>
                          <a:pt x="430" y="45"/>
                        </a:lnTo>
                        <a:lnTo>
                          <a:pt x="388" y="64"/>
                        </a:lnTo>
                        <a:lnTo>
                          <a:pt x="284" y="89"/>
                        </a:lnTo>
                        <a:lnTo>
                          <a:pt x="82" y="83"/>
                        </a:lnTo>
                        <a:lnTo>
                          <a:pt x="0" y="72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5630400" y="5871600"/>
                    <a:ext cx="954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156">
                        <a:moveTo>
                          <a:pt x="0" y="133"/>
                        </a:moveTo>
                        <a:lnTo>
                          <a:pt x="34" y="114"/>
                        </a:lnTo>
                        <a:lnTo>
                          <a:pt x="74" y="94"/>
                        </a:lnTo>
                        <a:lnTo>
                          <a:pt x="121" y="71"/>
                        </a:lnTo>
                        <a:lnTo>
                          <a:pt x="178" y="48"/>
                        </a:lnTo>
                        <a:lnTo>
                          <a:pt x="239" y="25"/>
                        </a:lnTo>
                        <a:lnTo>
                          <a:pt x="361" y="0"/>
                        </a:lnTo>
                        <a:lnTo>
                          <a:pt x="329" y="14"/>
                        </a:lnTo>
                        <a:lnTo>
                          <a:pt x="256" y="46"/>
                        </a:lnTo>
                        <a:lnTo>
                          <a:pt x="182" y="90"/>
                        </a:lnTo>
                        <a:lnTo>
                          <a:pt x="146" y="133"/>
                        </a:lnTo>
                        <a:lnTo>
                          <a:pt x="139" y="149"/>
                        </a:lnTo>
                        <a:lnTo>
                          <a:pt x="120" y="156"/>
                        </a:lnTo>
                        <a:lnTo>
                          <a:pt x="70" y="154"/>
                        </a:lnTo>
                        <a:lnTo>
                          <a:pt x="0" y="133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5352120" y="6146640"/>
                    <a:ext cx="2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25">
                        <a:moveTo>
                          <a:pt x="14" y="61"/>
                        </a:moveTo>
                        <a:lnTo>
                          <a:pt x="52" y="15"/>
                        </a:lnTo>
                        <a:lnTo>
                          <a:pt x="84" y="0"/>
                        </a:lnTo>
                        <a:lnTo>
                          <a:pt x="113" y="4"/>
                        </a:lnTo>
                        <a:lnTo>
                          <a:pt x="57" y="87"/>
                        </a:lnTo>
                        <a:lnTo>
                          <a:pt x="44" y="125"/>
                        </a:lnTo>
                        <a:lnTo>
                          <a:pt x="25" y="122"/>
                        </a:lnTo>
                        <a:lnTo>
                          <a:pt x="0" y="89"/>
                        </a:lnTo>
                        <a:lnTo>
                          <a:pt x="14" y="61"/>
                        </a:lnTo>
                        <a:lnTo>
                          <a:pt x="14" y="6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5628240" y="6187680"/>
                    <a:ext cx="56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05">
                        <a:moveTo>
                          <a:pt x="0" y="205"/>
                        </a:moveTo>
                        <a:lnTo>
                          <a:pt x="12" y="137"/>
                        </a:lnTo>
                        <a:lnTo>
                          <a:pt x="42" y="78"/>
                        </a:lnTo>
                        <a:lnTo>
                          <a:pt x="69" y="49"/>
                        </a:lnTo>
                        <a:lnTo>
                          <a:pt x="109" y="23"/>
                        </a:lnTo>
                        <a:lnTo>
                          <a:pt x="173" y="0"/>
                        </a:lnTo>
                        <a:lnTo>
                          <a:pt x="207" y="7"/>
                        </a:lnTo>
                        <a:lnTo>
                          <a:pt x="217" y="38"/>
                        </a:lnTo>
                        <a:lnTo>
                          <a:pt x="188" y="108"/>
                        </a:lnTo>
                        <a:lnTo>
                          <a:pt x="137" y="161"/>
                        </a:lnTo>
                        <a:lnTo>
                          <a:pt x="99" y="184"/>
                        </a:lnTo>
                        <a:lnTo>
                          <a:pt x="50" y="199"/>
                        </a:lnTo>
                        <a:lnTo>
                          <a:pt x="0" y="205"/>
                        </a:lnTo>
                        <a:lnTo>
                          <a:pt x="0" y="2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5749920" y="6289560"/>
                    <a:ext cx="72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488">
                        <a:moveTo>
                          <a:pt x="160" y="484"/>
                        </a:moveTo>
                        <a:lnTo>
                          <a:pt x="97" y="488"/>
                        </a:lnTo>
                        <a:lnTo>
                          <a:pt x="25" y="433"/>
                        </a:lnTo>
                        <a:lnTo>
                          <a:pt x="0" y="283"/>
                        </a:lnTo>
                        <a:lnTo>
                          <a:pt x="21" y="161"/>
                        </a:lnTo>
                        <a:lnTo>
                          <a:pt x="44" y="85"/>
                        </a:lnTo>
                        <a:lnTo>
                          <a:pt x="76" y="0"/>
                        </a:lnTo>
                        <a:lnTo>
                          <a:pt x="93" y="399"/>
                        </a:lnTo>
                        <a:lnTo>
                          <a:pt x="128" y="418"/>
                        </a:lnTo>
                        <a:lnTo>
                          <a:pt x="160" y="422"/>
                        </a:lnTo>
                        <a:lnTo>
                          <a:pt x="219" y="395"/>
                        </a:lnTo>
                        <a:lnTo>
                          <a:pt x="261" y="351"/>
                        </a:lnTo>
                        <a:lnTo>
                          <a:pt x="276" y="329"/>
                        </a:lnTo>
                        <a:lnTo>
                          <a:pt x="242" y="395"/>
                        </a:lnTo>
                        <a:lnTo>
                          <a:pt x="206" y="446"/>
                        </a:lnTo>
                        <a:lnTo>
                          <a:pt x="183" y="469"/>
                        </a:lnTo>
                        <a:lnTo>
                          <a:pt x="160" y="484"/>
                        </a:lnTo>
                        <a:lnTo>
                          <a:pt x="160" y="484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5324400" y="6277320"/>
                    <a:ext cx="1515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35">
                        <a:moveTo>
                          <a:pt x="0" y="0"/>
                        </a:moveTo>
                        <a:lnTo>
                          <a:pt x="49" y="38"/>
                        </a:lnTo>
                        <a:lnTo>
                          <a:pt x="105" y="78"/>
                        </a:lnTo>
                        <a:lnTo>
                          <a:pt x="139" y="101"/>
                        </a:lnTo>
                        <a:lnTo>
                          <a:pt x="177" y="127"/>
                        </a:lnTo>
                        <a:lnTo>
                          <a:pt x="219" y="154"/>
                        </a:lnTo>
                        <a:lnTo>
                          <a:pt x="264" y="183"/>
                        </a:lnTo>
                        <a:lnTo>
                          <a:pt x="312" y="209"/>
                        </a:lnTo>
                        <a:lnTo>
                          <a:pt x="361" y="238"/>
                        </a:lnTo>
                        <a:lnTo>
                          <a:pt x="413" y="264"/>
                        </a:lnTo>
                        <a:lnTo>
                          <a:pt x="466" y="289"/>
                        </a:lnTo>
                        <a:lnTo>
                          <a:pt x="521" y="314"/>
                        </a:lnTo>
                        <a:lnTo>
                          <a:pt x="576" y="335"/>
                        </a:lnTo>
                        <a:lnTo>
                          <a:pt x="534" y="321"/>
                        </a:lnTo>
                        <a:lnTo>
                          <a:pt x="430" y="283"/>
                        </a:lnTo>
                        <a:lnTo>
                          <a:pt x="367" y="261"/>
                        </a:lnTo>
                        <a:lnTo>
                          <a:pt x="302" y="234"/>
                        </a:lnTo>
                        <a:lnTo>
                          <a:pt x="240" y="203"/>
                        </a:lnTo>
                        <a:lnTo>
                          <a:pt x="186" y="173"/>
                        </a:lnTo>
                        <a:lnTo>
                          <a:pt x="141" y="143"/>
                        </a:lnTo>
                        <a:lnTo>
                          <a:pt x="101" y="112"/>
                        </a:lnTo>
                        <a:lnTo>
                          <a:pt x="68" y="84"/>
                        </a:lnTo>
                        <a:lnTo>
                          <a:pt x="44" y="5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5408640" y="6027120"/>
                    <a:ext cx="327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6" h="747">
                        <a:moveTo>
                          <a:pt x="419" y="0"/>
                        </a:moveTo>
                        <a:lnTo>
                          <a:pt x="426" y="26"/>
                        </a:lnTo>
                        <a:lnTo>
                          <a:pt x="455" y="55"/>
                        </a:lnTo>
                        <a:lnTo>
                          <a:pt x="510" y="89"/>
                        </a:lnTo>
                        <a:lnTo>
                          <a:pt x="607" y="125"/>
                        </a:lnTo>
                        <a:lnTo>
                          <a:pt x="753" y="159"/>
                        </a:lnTo>
                        <a:lnTo>
                          <a:pt x="962" y="190"/>
                        </a:lnTo>
                        <a:lnTo>
                          <a:pt x="1246" y="211"/>
                        </a:lnTo>
                        <a:lnTo>
                          <a:pt x="985" y="226"/>
                        </a:lnTo>
                        <a:lnTo>
                          <a:pt x="719" y="214"/>
                        </a:lnTo>
                        <a:lnTo>
                          <a:pt x="419" y="157"/>
                        </a:lnTo>
                        <a:lnTo>
                          <a:pt x="379" y="195"/>
                        </a:lnTo>
                        <a:lnTo>
                          <a:pt x="333" y="243"/>
                        </a:lnTo>
                        <a:lnTo>
                          <a:pt x="278" y="308"/>
                        </a:lnTo>
                        <a:lnTo>
                          <a:pt x="246" y="348"/>
                        </a:lnTo>
                        <a:lnTo>
                          <a:pt x="211" y="391"/>
                        </a:lnTo>
                        <a:lnTo>
                          <a:pt x="177" y="439"/>
                        </a:lnTo>
                        <a:lnTo>
                          <a:pt x="141" y="492"/>
                        </a:lnTo>
                        <a:lnTo>
                          <a:pt x="105" y="549"/>
                        </a:lnTo>
                        <a:lnTo>
                          <a:pt x="69" y="610"/>
                        </a:lnTo>
                        <a:lnTo>
                          <a:pt x="35" y="676"/>
                        </a:lnTo>
                        <a:lnTo>
                          <a:pt x="0" y="747"/>
                        </a:lnTo>
                        <a:lnTo>
                          <a:pt x="33" y="659"/>
                        </a:lnTo>
                        <a:lnTo>
                          <a:pt x="69" y="568"/>
                        </a:lnTo>
                        <a:lnTo>
                          <a:pt x="92" y="517"/>
                        </a:lnTo>
                        <a:lnTo>
                          <a:pt x="116" y="462"/>
                        </a:lnTo>
                        <a:lnTo>
                          <a:pt x="145" y="405"/>
                        </a:lnTo>
                        <a:lnTo>
                          <a:pt x="173" y="349"/>
                        </a:lnTo>
                        <a:lnTo>
                          <a:pt x="204" y="294"/>
                        </a:lnTo>
                        <a:lnTo>
                          <a:pt x="234" y="243"/>
                        </a:lnTo>
                        <a:lnTo>
                          <a:pt x="267" y="197"/>
                        </a:lnTo>
                        <a:lnTo>
                          <a:pt x="299" y="157"/>
                        </a:lnTo>
                        <a:lnTo>
                          <a:pt x="333" y="123"/>
                        </a:lnTo>
                        <a:lnTo>
                          <a:pt x="365" y="100"/>
                        </a:lnTo>
                        <a:lnTo>
                          <a:pt x="419" y="0"/>
                        </a:lnTo>
                        <a:lnTo>
                          <a:pt x="4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8" name=""/>
                <p:cNvSpPr/>
                <p:nvPr/>
              </p:nvSpPr>
              <p:spPr>
                <a:xfrm>
                  <a:off x="6141960" y="5930640"/>
                  <a:ext cx="200160" cy="5047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456160" y="6343200"/>
                  <a:ext cx="755640" cy="214200"/>
                </a:xfrm>
                <a:custGeom>
                  <a:avLst/>
                  <a:gdLst/>
                  <a:ahLst/>
                  <a:rect l="l" t="t" r="r" b="b"/>
                  <a:pathLst>
                    <a:path w="476" h="135">
                      <a:moveTo>
                        <a:pt x="0" y="18"/>
                      </a:moveTo>
                      <a:cubicBezTo>
                        <a:pt x="7" y="53"/>
                        <a:pt x="15" y="88"/>
                        <a:pt x="48" y="105"/>
                      </a:cubicBezTo>
                      <a:cubicBezTo>
                        <a:pt x="81" y="122"/>
                        <a:pt x="129" y="135"/>
                        <a:pt x="200" y="118"/>
                      </a:cubicBezTo>
                      <a:cubicBezTo>
                        <a:pt x="271" y="101"/>
                        <a:pt x="373" y="50"/>
                        <a:pt x="476" y="0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174000" y="5987520"/>
                  <a:ext cx="128520" cy="122400"/>
                </a:xfrm>
                <a:custGeom>
                  <a:avLst/>
                  <a:gdLst/>
                  <a:ahLst/>
                  <a:rect l="l" t="t" r="r" b="b"/>
                  <a:pathLst>
                    <a:path w="81" h="77">
                      <a:moveTo>
                        <a:pt x="1" y="12"/>
                      </a:moveTo>
                      <a:lnTo>
                        <a:pt x="1" y="63"/>
                      </a:lnTo>
                      <a:lnTo>
                        <a:pt x="81" y="77"/>
                      </a:lnTo>
                      <a:lnTo>
                        <a:pt x="81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5381640" y="3768480"/>
                <a:ext cx="1030320" cy="699840"/>
                <a:chOff x="5381640" y="3768480"/>
                <a:chExt cx="1030320" cy="69984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5381640" y="3768480"/>
                  <a:ext cx="941400" cy="606240"/>
                  <a:chOff x="5381640" y="3768480"/>
                  <a:chExt cx="941400" cy="60624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>
                    <a:off x="5490720" y="3897360"/>
                    <a:ext cx="832320" cy="47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54" h="1811">
                        <a:moveTo>
                          <a:pt x="220" y="1716"/>
                        </a:moveTo>
                        <a:lnTo>
                          <a:pt x="384" y="1752"/>
                        </a:lnTo>
                        <a:lnTo>
                          <a:pt x="532" y="1779"/>
                        </a:lnTo>
                        <a:lnTo>
                          <a:pt x="791" y="1811"/>
                        </a:lnTo>
                        <a:lnTo>
                          <a:pt x="1152" y="1811"/>
                        </a:lnTo>
                        <a:lnTo>
                          <a:pt x="1342" y="1773"/>
                        </a:lnTo>
                        <a:lnTo>
                          <a:pt x="1397" y="1747"/>
                        </a:lnTo>
                        <a:lnTo>
                          <a:pt x="1456" y="1707"/>
                        </a:lnTo>
                        <a:lnTo>
                          <a:pt x="1487" y="1686"/>
                        </a:lnTo>
                        <a:lnTo>
                          <a:pt x="1525" y="1659"/>
                        </a:lnTo>
                        <a:lnTo>
                          <a:pt x="1567" y="1631"/>
                        </a:lnTo>
                        <a:lnTo>
                          <a:pt x="1612" y="1598"/>
                        </a:lnTo>
                        <a:lnTo>
                          <a:pt x="1664" y="1564"/>
                        </a:lnTo>
                        <a:lnTo>
                          <a:pt x="1719" y="1526"/>
                        </a:lnTo>
                        <a:lnTo>
                          <a:pt x="1776" y="1486"/>
                        </a:lnTo>
                        <a:lnTo>
                          <a:pt x="1837" y="1444"/>
                        </a:lnTo>
                        <a:lnTo>
                          <a:pt x="1899" y="1401"/>
                        </a:lnTo>
                        <a:lnTo>
                          <a:pt x="1964" y="1355"/>
                        </a:lnTo>
                        <a:lnTo>
                          <a:pt x="1996" y="1332"/>
                        </a:lnTo>
                        <a:lnTo>
                          <a:pt x="2030" y="1309"/>
                        </a:lnTo>
                        <a:lnTo>
                          <a:pt x="2063" y="1287"/>
                        </a:lnTo>
                        <a:lnTo>
                          <a:pt x="2097" y="1264"/>
                        </a:lnTo>
                        <a:lnTo>
                          <a:pt x="2129" y="1239"/>
                        </a:lnTo>
                        <a:lnTo>
                          <a:pt x="2164" y="1216"/>
                        </a:lnTo>
                        <a:lnTo>
                          <a:pt x="2198" y="1193"/>
                        </a:lnTo>
                        <a:lnTo>
                          <a:pt x="2230" y="1169"/>
                        </a:lnTo>
                        <a:lnTo>
                          <a:pt x="2264" y="1146"/>
                        </a:lnTo>
                        <a:lnTo>
                          <a:pt x="2297" y="1123"/>
                        </a:lnTo>
                        <a:lnTo>
                          <a:pt x="2329" y="1100"/>
                        </a:lnTo>
                        <a:lnTo>
                          <a:pt x="2361" y="1077"/>
                        </a:lnTo>
                        <a:lnTo>
                          <a:pt x="2426" y="1034"/>
                        </a:lnTo>
                        <a:lnTo>
                          <a:pt x="2487" y="990"/>
                        </a:lnTo>
                        <a:lnTo>
                          <a:pt x="2546" y="946"/>
                        </a:lnTo>
                        <a:lnTo>
                          <a:pt x="2601" y="908"/>
                        </a:lnTo>
                        <a:lnTo>
                          <a:pt x="2654" y="870"/>
                        </a:lnTo>
                        <a:lnTo>
                          <a:pt x="2702" y="836"/>
                        </a:lnTo>
                        <a:lnTo>
                          <a:pt x="2745" y="804"/>
                        </a:lnTo>
                        <a:lnTo>
                          <a:pt x="2783" y="775"/>
                        </a:lnTo>
                        <a:lnTo>
                          <a:pt x="2844" y="730"/>
                        </a:lnTo>
                        <a:lnTo>
                          <a:pt x="2880" y="699"/>
                        </a:lnTo>
                        <a:lnTo>
                          <a:pt x="2920" y="656"/>
                        </a:lnTo>
                        <a:lnTo>
                          <a:pt x="2962" y="600"/>
                        </a:lnTo>
                        <a:lnTo>
                          <a:pt x="3002" y="543"/>
                        </a:lnTo>
                        <a:lnTo>
                          <a:pt x="3038" y="481"/>
                        </a:lnTo>
                        <a:lnTo>
                          <a:pt x="3072" y="422"/>
                        </a:lnTo>
                        <a:lnTo>
                          <a:pt x="3101" y="365"/>
                        </a:lnTo>
                        <a:lnTo>
                          <a:pt x="3139" y="281"/>
                        </a:lnTo>
                        <a:lnTo>
                          <a:pt x="3154" y="102"/>
                        </a:lnTo>
                        <a:lnTo>
                          <a:pt x="3139" y="74"/>
                        </a:lnTo>
                        <a:lnTo>
                          <a:pt x="3114" y="49"/>
                        </a:lnTo>
                        <a:lnTo>
                          <a:pt x="3078" y="28"/>
                        </a:lnTo>
                        <a:lnTo>
                          <a:pt x="3032" y="11"/>
                        </a:lnTo>
                        <a:lnTo>
                          <a:pt x="2897" y="0"/>
                        </a:lnTo>
                        <a:lnTo>
                          <a:pt x="2700" y="21"/>
                        </a:lnTo>
                        <a:lnTo>
                          <a:pt x="2470" y="70"/>
                        </a:lnTo>
                        <a:lnTo>
                          <a:pt x="2361" y="99"/>
                        </a:lnTo>
                        <a:lnTo>
                          <a:pt x="2255" y="129"/>
                        </a:lnTo>
                        <a:lnTo>
                          <a:pt x="2154" y="159"/>
                        </a:lnTo>
                        <a:lnTo>
                          <a:pt x="2057" y="192"/>
                        </a:lnTo>
                        <a:lnTo>
                          <a:pt x="1968" y="222"/>
                        </a:lnTo>
                        <a:lnTo>
                          <a:pt x="1884" y="254"/>
                        </a:lnTo>
                        <a:lnTo>
                          <a:pt x="1808" y="283"/>
                        </a:lnTo>
                        <a:lnTo>
                          <a:pt x="1740" y="310"/>
                        </a:lnTo>
                        <a:lnTo>
                          <a:pt x="1681" y="336"/>
                        </a:lnTo>
                        <a:lnTo>
                          <a:pt x="1629" y="357"/>
                        </a:lnTo>
                        <a:lnTo>
                          <a:pt x="1559" y="389"/>
                        </a:lnTo>
                        <a:lnTo>
                          <a:pt x="1536" y="401"/>
                        </a:lnTo>
                        <a:lnTo>
                          <a:pt x="1510" y="412"/>
                        </a:lnTo>
                        <a:lnTo>
                          <a:pt x="1441" y="448"/>
                        </a:lnTo>
                        <a:lnTo>
                          <a:pt x="1392" y="473"/>
                        </a:lnTo>
                        <a:lnTo>
                          <a:pt x="1335" y="503"/>
                        </a:lnTo>
                        <a:lnTo>
                          <a:pt x="1270" y="538"/>
                        </a:lnTo>
                        <a:lnTo>
                          <a:pt x="1202" y="576"/>
                        </a:lnTo>
                        <a:lnTo>
                          <a:pt x="1125" y="617"/>
                        </a:lnTo>
                        <a:lnTo>
                          <a:pt x="1046" y="663"/>
                        </a:lnTo>
                        <a:lnTo>
                          <a:pt x="1004" y="686"/>
                        </a:lnTo>
                        <a:lnTo>
                          <a:pt x="962" y="711"/>
                        </a:lnTo>
                        <a:lnTo>
                          <a:pt x="920" y="735"/>
                        </a:lnTo>
                        <a:lnTo>
                          <a:pt x="878" y="762"/>
                        </a:lnTo>
                        <a:lnTo>
                          <a:pt x="835" y="787"/>
                        </a:lnTo>
                        <a:lnTo>
                          <a:pt x="791" y="813"/>
                        </a:lnTo>
                        <a:lnTo>
                          <a:pt x="747" y="840"/>
                        </a:lnTo>
                        <a:lnTo>
                          <a:pt x="703" y="866"/>
                        </a:lnTo>
                        <a:lnTo>
                          <a:pt x="662" y="895"/>
                        </a:lnTo>
                        <a:lnTo>
                          <a:pt x="618" y="924"/>
                        </a:lnTo>
                        <a:lnTo>
                          <a:pt x="576" y="950"/>
                        </a:lnTo>
                        <a:lnTo>
                          <a:pt x="534" y="979"/>
                        </a:lnTo>
                        <a:lnTo>
                          <a:pt x="492" y="1007"/>
                        </a:lnTo>
                        <a:lnTo>
                          <a:pt x="452" y="1036"/>
                        </a:lnTo>
                        <a:lnTo>
                          <a:pt x="413" y="1064"/>
                        </a:lnTo>
                        <a:lnTo>
                          <a:pt x="374" y="1093"/>
                        </a:lnTo>
                        <a:lnTo>
                          <a:pt x="336" y="1121"/>
                        </a:lnTo>
                        <a:lnTo>
                          <a:pt x="300" y="1150"/>
                        </a:lnTo>
                        <a:lnTo>
                          <a:pt x="266" y="1178"/>
                        </a:lnTo>
                        <a:lnTo>
                          <a:pt x="234" y="1207"/>
                        </a:lnTo>
                        <a:lnTo>
                          <a:pt x="201" y="1235"/>
                        </a:lnTo>
                        <a:lnTo>
                          <a:pt x="171" y="1264"/>
                        </a:lnTo>
                        <a:lnTo>
                          <a:pt x="118" y="1317"/>
                        </a:lnTo>
                        <a:lnTo>
                          <a:pt x="74" y="1370"/>
                        </a:lnTo>
                        <a:lnTo>
                          <a:pt x="38" y="1422"/>
                        </a:lnTo>
                        <a:lnTo>
                          <a:pt x="0" y="1517"/>
                        </a:lnTo>
                        <a:lnTo>
                          <a:pt x="13" y="1598"/>
                        </a:lnTo>
                        <a:lnTo>
                          <a:pt x="40" y="1634"/>
                        </a:lnTo>
                        <a:lnTo>
                          <a:pt x="84" y="1667"/>
                        </a:lnTo>
                        <a:lnTo>
                          <a:pt x="143" y="1695"/>
                        </a:lnTo>
                        <a:lnTo>
                          <a:pt x="220" y="1716"/>
                        </a:lnTo>
                        <a:lnTo>
                          <a:pt x="220" y="1716"/>
                        </a:lnTo>
                        <a:close/>
                      </a:path>
                    </a:pathLst>
                  </a:custGeom>
                  <a:solidFill>
                    <a:srgbClr val="a394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5389920" y="3777120"/>
                    <a:ext cx="79632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9" h="2003">
                        <a:moveTo>
                          <a:pt x="40" y="1591"/>
                        </a:moveTo>
                        <a:lnTo>
                          <a:pt x="68" y="1621"/>
                        </a:lnTo>
                        <a:lnTo>
                          <a:pt x="102" y="1653"/>
                        </a:lnTo>
                        <a:lnTo>
                          <a:pt x="150" y="1693"/>
                        </a:lnTo>
                        <a:lnTo>
                          <a:pt x="180" y="1716"/>
                        </a:lnTo>
                        <a:lnTo>
                          <a:pt x="213" y="1741"/>
                        </a:lnTo>
                        <a:lnTo>
                          <a:pt x="249" y="1765"/>
                        </a:lnTo>
                        <a:lnTo>
                          <a:pt x="289" y="1788"/>
                        </a:lnTo>
                        <a:lnTo>
                          <a:pt x="332" y="1813"/>
                        </a:lnTo>
                        <a:lnTo>
                          <a:pt x="380" y="1838"/>
                        </a:lnTo>
                        <a:lnTo>
                          <a:pt x="431" y="1860"/>
                        </a:lnTo>
                        <a:lnTo>
                          <a:pt x="487" y="1883"/>
                        </a:lnTo>
                        <a:lnTo>
                          <a:pt x="585" y="1917"/>
                        </a:lnTo>
                        <a:lnTo>
                          <a:pt x="696" y="1946"/>
                        </a:lnTo>
                        <a:lnTo>
                          <a:pt x="815" y="1969"/>
                        </a:lnTo>
                        <a:lnTo>
                          <a:pt x="945" y="1986"/>
                        </a:lnTo>
                        <a:lnTo>
                          <a:pt x="1239" y="2003"/>
                        </a:lnTo>
                        <a:lnTo>
                          <a:pt x="1576" y="1995"/>
                        </a:lnTo>
                        <a:lnTo>
                          <a:pt x="1601" y="1874"/>
                        </a:lnTo>
                        <a:lnTo>
                          <a:pt x="1633" y="1750"/>
                        </a:lnTo>
                        <a:lnTo>
                          <a:pt x="1652" y="1682"/>
                        </a:lnTo>
                        <a:lnTo>
                          <a:pt x="1675" y="1611"/>
                        </a:lnTo>
                        <a:lnTo>
                          <a:pt x="1698" y="1541"/>
                        </a:lnTo>
                        <a:lnTo>
                          <a:pt x="1724" y="1476"/>
                        </a:lnTo>
                        <a:lnTo>
                          <a:pt x="1753" y="1418"/>
                        </a:lnTo>
                        <a:lnTo>
                          <a:pt x="1783" y="1366"/>
                        </a:lnTo>
                        <a:lnTo>
                          <a:pt x="1817" y="1326"/>
                        </a:lnTo>
                        <a:lnTo>
                          <a:pt x="1852" y="1300"/>
                        </a:lnTo>
                        <a:lnTo>
                          <a:pt x="1924" y="1298"/>
                        </a:lnTo>
                        <a:lnTo>
                          <a:pt x="1989" y="1332"/>
                        </a:lnTo>
                        <a:lnTo>
                          <a:pt x="2036" y="1361"/>
                        </a:lnTo>
                        <a:lnTo>
                          <a:pt x="2087" y="1402"/>
                        </a:lnTo>
                        <a:lnTo>
                          <a:pt x="2101" y="1435"/>
                        </a:lnTo>
                        <a:lnTo>
                          <a:pt x="2165" y="1651"/>
                        </a:lnTo>
                        <a:lnTo>
                          <a:pt x="2262" y="1480"/>
                        </a:lnTo>
                        <a:lnTo>
                          <a:pt x="2646" y="1035"/>
                        </a:lnTo>
                        <a:lnTo>
                          <a:pt x="2855" y="1243"/>
                        </a:lnTo>
                        <a:lnTo>
                          <a:pt x="3019" y="1094"/>
                        </a:lnTo>
                        <a:lnTo>
                          <a:pt x="3006" y="1056"/>
                        </a:lnTo>
                        <a:lnTo>
                          <a:pt x="2970" y="958"/>
                        </a:lnTo>
                        <a:lnTo>
                          <a:pt x="2945" y="891"/>
                        </a:lnTo>
                        <a:lnTo>
                          <a:pt x="2913" y="815"/>
                        </a:lnTo>
                        <a:lnTo>
                          <a:pt x="2878" y="733"/>
                        </a:lnTo>
                        <a:lnTo>
                          <a:pt x="2838" y="650"/>
                        </a:lnTo>
                        <a:lnTo>
                          <a:pt x="2795" y="566"/>
                        </a:lnTo>
                        <a:lnTo>
                          <a:pt x="2772" y="524"/>
                        </a:lnTo>
                        <a:lnTo>
                          <a:pt x="2747" y="484"/>
                        </a:lnTo>
                        <a:lnTo>
                          <a:pt x="2722" y="444"/>
                        </a:lnTo>
                        <a:lnTo>
                          <a:pt x="2698" y="406"/>
                        </a:lnTo>
                        <a:lnTo>
                          <a:pt x="2671" y="368"/>
                        </a:lnTo>
                        <a:lnTo>
                          <a:pt x="2644" y="334"/>
                        </a:lnTo>
                        <a:lnTo>
                          <a:pt x="2589" y="273"/>
                        </a:lnTo>
                        <a:lnTo>
                          <a:pt x="2559" y="247"/>
                        </a:lnTo>
                        <a:lnTo>
                          <a:pt x="2530" y="224"/>
                        </a:lnTo>
                        <a:lnTo>
                          <a:pt x="2470" y="190"/>
                        </a:lnTo>
                        <a:lnTo>
                          <a:pt x="2409" y="171"/>
                        </a:lnTo>
                        <a:lnTo>
                          <a:pt x="2331" y="85"/>
                        </a:lnTo>
                        <a:lnTo>
                          <a:pt x="1979" y="0"/>
                        </a:lnTo>
                        <a:lnTo>
                          <a:pt x="1661" y="30"/>
                        </a:lnTo>
                        <a:lnTo>
                          <a:pt x="1418" y="39"/>
                        </a:lnTo>
                        <a:lnTo>
                          <a:pt x="1110" y="152"/>
                        </a:lnTo>
                        <a:lnTo>
                          <a:pt x="975" y="228"/>
                        </a:lnTo>
                        <a:lnTo>
                          <a:pt x="802" y="509"/>
                        </a:lnTo>
                        <a:lnTo>
                          <a:pt x="711" y="631"/>
                        </a:lnTo>
                        <a:lnTo>
                          <a:pt x="399" y="758"/>
                        </a:lnTo>
                        <a:lnTo>
                          <a:pt x="365" y="783"/>
                        </a:lnTo>
                        <a:lnTo>
                          <a:pt x="329" y="809"/>
                        </a:lnTo>
                        <a:lnTo>
                          <a:pt x="283" y="842"/>
                        </a:lnTo>
                        <a:lnTo>
                          <a:pt x="237" y="876"/>
                        </a:lnTo>
                        <a:lnTo>
                          <a:pt x="190" y="910"/>
                        </a:lnTo>
                        <a:lnTo>
                          <a:pt x="150" y="942"/>
                        </a:lnTo>
                        <a:lnTo>
                          <a:pt x="118" y="967"/>
                        </a:lnTo>
                        <a:lnTo>
                          <a:pt x="64" y="1041"/>
                        </a:lnTo>
                        <a:lnTo>
                          <a:pt x="63" y="1072"/>
                        </a:lnTo>
                        <a:lnTo>
                          <a:pt x="0" y="1239"/>
                        </a:lnTo>
                        <a:lnTo>
                          <a:pt x="40" y="1591"/>
                        </a:lnTo>
                        <a:lnTo>
                          <a:pt x="40" y="1591"/>
                        </a:lnTo>
                        <a:close/>
                      </a:path>
                    </a:pathLst>
                  </a:custGeom>
                  <a:solidFill>
                    <a:srgbClr val="ffe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6021720" y="4002840"/>
                    <a:ext cx="1288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711">
                        <a:moveTo>
                          <a:pt x="0" y="621"/>
                        </a:moveTo>
                        <a:lnTo>
                          <a:pt x="17" y="646"/>
                        </a:lnTo>
                        <a:lnTo>
                          <a:pt x="38" y="669"/>
                        </a:lnTo>
                        <a:lnTo>
                          <a:pt x="69" y="690"/>
                        </a:lnTo>
                        <a:lnTo>
                          <a:pt x="103" y="707"/>
                        </a:lnTo>
                        <a:lnTo>
                          <a:pt x="145" y="711"/>
                        </a:lnTo>
                        <a:lnTo>
                          <a:pt x="244" y="665"/>
                        </a:lnTo>
                        <a:lnTo>
                          <a:pt x="356" y="625"/>
                        </a:lnTo>
                        <a:lnTo>
                          <a:pt x="447" y="405"/>
                        </a:lnTo>
                        <a:lnTo>
                          <a:pt x="489" y="216"/>
                        </a:lnTo>
                        <a:lnTo>
                          <a:pt x="478" y="118"/>
                        </a:lnTo>
                        <a:lnTo>
                          <a:pt x="460" y="44"/>
                        </a:lnTo>
                        <a:lnTo>
                          <a:pt x="447" y="17"/>
                        </a:lnTo>
                        <a:lnTo>
                          <a:pt x="432" y="0"/>
                        </a:lnTo>
                        <a:lnTo>
                          <a:pt x="341" y="4"/>
                        </a:lnTo>
                        <a:lnTo>
                          <a:pt x="286" y="25"/>
                        </a:lnTo>
                        <a:lnTo>
                          <a:pt x="158" y="300"/>
                        </a:lnTo>
                        <a:lnTo>
                          <a:pt x="0" y="621"/>
                        </a:lnTo>
                        <a:lnTo>
                          <a:pt x="0" y="621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6016680" y="4148640"/>
                    <a:ext cx="72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58">
                        <a:moveTo>
                          <a:pt x="0" y="30"/>
                        </a:moveTo>
                        <a:lnTo>
                          <a:pt x="124" y="0"/>
                        </a:lnTo>
                        <a:lnTo>
                          <a:pt x="143" y="25"/>
                        </a:lnTo>
                        <a:lnTo>
                          <a:pt x="164" y="49"/>
                        </a:lnTo>
                        <a:lnTo>
                          <a:pt x="192" y="72"/>
                        </a:lnTo>
                        <a:lnTo>
                          <a:pt x="276" y="123"/>
                        </a:lnTo>
                        <a:lnTo>
                          <a:pt x="242" y="150"/>
                        </a:lnTo>
                        <a:lnTo>
                          <a:pt x="198" y="158"/>
                        </a:lnTo>
                        <a:lnTo>
                          <a:pt x="145" y="158"/>
                        </a:lnTo>
                        <a:lnTo>
                          <a:pt x="29" y="106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2e4f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5506920" y="3975840"/>
                    <a:ext cx="29376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4" h="888">
                        <a:moveTo>
                          <a:pt x="34" y="888"/>
                        </a:moveTo>
                        <a:lnTo>
                          <a:pt x="51" y="865"/>
                        </a:lnTo>
                        <a:lnTo>
                          <a:pt x="101" y="800"/>
                        </a:lnTo>
                        <a:lnTo>
                          <a:pt x="137" y="755"/>
                        </a:lnTo>
                        <a:lnTo>
                          <a:pt x="178" y="705"/>
                        </a:lnTo>
                        <a:lnTo>
                          <a:pt x="224" y="650"/>
                        </a:lnTo>
                        <a:lnTo>
                          <a:pt x="277" y="593"/>
                        </a:lnTo>
                        <a:lnTo>
                          <a:pt x="334" y="532"/>
                        </a:lnTo>
                        <a:lnTo>
                          <a:pt x="363" y="504"/>
                        </a:lnTo>
                        <a:lnTo>
                          <a:pt x="393" y="473"/>
                        </a:lnTo>
                        <a:lnTo>
                          <a:pt x="426" y="443"/>
                        </a:lnTo>
                        <a:lnTo>
                          <a:pt x="458" y="415"/>
                        </a:lnTo>
                        <a:lnTo>
                          <a:pt x="492" y="386"/>
                        </a:lnTo>
                        <a:lnTo>
                          <a:pt x="525" y="358"/>
                        </a:lnTo>
                        <a:lnTo>
                          <a:pt x="559" y="331"/>
                        </a:lnTo>
                        <a:lnTo>
                          <a:pt x="595" y="304"/>
                        </a:lnTo>
                        <a:lnTo>
                          <a:pt x="629" y="281"/>
                        </a:lnTo>
                        <a:lnTo>
                          <a:pt x="665" y="257"/>
                        </a:lnTo>
                        <a:lnTo>
                          <a:pt x="737" y="217"/>
                        </a:lnTo>
                        <a:lnTo>
                          <a:pt x="808" y="185"/>
                        </a:lnTo>
                        <a:lnTo>
                          <a:pt x="874" y="158"/>
                        </a:lnTo>
                        <a:lnTo>
                          <a:pt x="931" y="137"/>
                        </a:lnTo>
                        <a:lnTo>
                          <a:pt x="1017" y="105"/>
                        </a:lnTo>
                        <a:lnTo>
                          <a:pt x="1101" y="78"/>
                        </a:lnTo>
                        <a:lnTo>
                          <a:pt x="1114" y="80"/>
                        </a:lnTo>
                        <a:lnTo>
                          <a:pt x="1106" y="86"/>
                        </a:lnTo>
                        <a:lnTo>
                          <a:pt x="760" y="61"/>
                        </a:lnTo>
                        <a:lnTo>
                          <a:pt x="348" y="0"/>
                        </a:lnTo>
                        <a:lnTo>
                          <a:pt x="310" y="13"/>
                        </a:lnTo>
                        <a:lnTo>
                          <a:pt x="258" y="80"/>
                        </a:lnTo>
                        <a:lnTo>
                          <a:pt x="232" y="128"/>
                        </a:lnTo>
                        <a:lnTo>
                          <a:pt x="203" y="185"/>
                        </a:lnTo>
                        <a:lnTo>
                          <a:pt x="175" y="247"/>
                        </a:lnTo>
                        <a:lnTo>
                          <a:pt x="146" y="312"/>
                        </a:lnTo>
                        <a:lnTo>
                          <a:pt x="118" y="380"/>
                        </a:lnTo>
                        <a:lnTo>
                          <a:pt x="93" y="451"/>
                        </a:lnTo>
                        <a:lnTo>
                          <a:pt x="47" y="580"/>
                        </a:lnTo>
                        <a:lnTo>
                          <a:pt x="2" y="764"/>
                        </a:lnTo>
                        <a:lnTo>
                          <a:pt x="0" y="808"/>
                        </a:lnTo>
                        <a:lnTo>
                          <a:pt x="2" y="840"/>
                        </a:lnTo>
                        <a:lnTo>
                          <a:pt x="13" y="876"/>
                        </a:lnTo>
                        <a:lnTo>
                          <a:pt x="34" y="888"/>
                        </a:lnTo>
                        <a:lnTo>
                          <a:pt x="34" y="888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853240" y="4169160"/>
                    <a:ext cx="579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83">
                        <a:moveTo>
                          <a:pt x="0" y="391"/>
                        </a:moveTo>
                        <a:lnTo>
                          <a:pt x="11" y="458"/>
                        </a:lnTo>
                        <a:lnTo>
                          <a:pt x="30" y="483"/>
                        </a:lnTo>
                        <a:lnTo>
                          <a:pt x="59" y="477"/>
                        </a:lnTo>
                        <a:lnTo>
                          <a:pt x="110" y="422"/>
                        </a:lnTo>
                        <a:lnTo>
                          <a:pt x="133" y="378"/>
                        </a:lnTo>
                        <a:lnTo>
                          <a:pt x="161" y="319"/>
                        </a:lnTo>
                        <a:lnTo>
                          <a:pt x="188" y="258"/>
                        </a:lnTo>
                        <a:lnTo>
                          <a:pt x="205" y="209"/>
                        </a:lnTo>
                        <a:lnTo>
                          <a:pt x="220" y="26"/>
                        </a:lnTo>
                        <a:lnTo>
                          <a:pt x="211" y="13"/>
                        </a:lnTo>
                        <a:lnTo>
                          <a:pt x="194" y="0"/>
                        </a:lnTo>
                        <a:lnTo>
                          <a:pt x="106" y="9"/>
                        </a:lnTo>
                        <a:lnTo>
                          <a:pt x="28" y="209"/>
                        </a:lnTo>
                        <a:lnTo>
                          <a:pt x="0" y="391"/>
                        </a:lnTo>
                        <a:lnTo>
                          <a:pt x="0" y="391"/>
                        </a:lnTo>
                        <a:close/>
                      </a:path>
                    </a:pathLst>
                  </a:custGeom>
                  <a:solidFill>
                    <a:srgbClr val="6079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625720" y="4104000"/>
                    <a:ext cx="12708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483">
                        <a:moveTo>
                          <a:pt x="63" y="156"/>
                        </a:moveTo>
                        <a:lnTo>
                          <a:pt x="48" y="182"/>
                        </a:lnTo>
                        <a:lnTo>
                          <a:pt x="19" y="245"/>
                        </a:lnTo>
                        <a:lnTo>
                          <a:pt x="0" y="325"/>
                        </a:lnTo>
                        <a:lnTo>
                          <a:pt x="17" y="401"/>
                        </a:lnTo>
                        <a:lnTo>
                          <a:pt x="46" y="431"/>
                        </a:lnTo>
                        <a:lnTo>
                          <a:pt x="82" y="454"/>
                        </a:lnTo>
                        <a:lnTo>
                          <a:pt x="171" y="479"/>
                        </a:lnTo>
                        <a:lnTo>
                          <a:pt x="308" y="483"/>
                        </a:lnTo>
                        <a:lnTo>
                          <a:pt x="402" y="450"/>
                        </a:lnTo>
                        <a:lnTo>
                          <a:pt x="468" y="424"/>
                        </a:lnTo>
                        <a:lnTo>
                          <a:pt x="481" y="372"/>
                        </a:lnTo>
                        <a:lnTo>
                          <a:pt x="236" y="388"/>
                        </a:lnTo>
                        <a:lnTo>
                          <a:pt x="187" y="235"/>
                        </a:lnTo>
                        <a:lnTo>
                          <a:pt x="242" y="64"/>
                        </a:lnTo>
                        <a:lnTo>
                          <a:pt x="289" y="0"/>
                        </a:lnTo>
                        <a:lnTo>
                          <a:pt x="202" y="30"/>
                        </a:lnTo>
                        <a:lnTo>
                          <a:pt x="126" y="78"/>
                        </a:lnTo>
                        <a:lnTo>
                          <a:pt x="63" y="156"/>
                        </a:lnTo>
                        <a:lnTo>
                          <a:pt x="63" y="156"/>
                        </a:lnTo>
                        <a:close/>
                      </a:path>
                    </a:pathLst>
                  </a:custGeom>
                  <a:solidFill>
                    <a:srgbClr val="ffff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093000" y="4047480"/>
                    <a:ext cx="324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16">
                        <a:moveTo>
                          <a:pt x="48" y="32"/>
                        </a:moveTo>
                        <a:lnTo>
                          <a:pt x="21" y="93"/>
                        </a:lnTo>
                        <a:lnTo>
                          <a:pt x="0" y="196"/>
                        </a:lnTo>
                        <a:lnTo>
                          <a:pt x="12" y="302"/>
                        </a:lnTo>
                        <a:lnTo>
                          <a:pt x="33" y="316"/>
                        </a:lnTo>
                        <a:lnTo>
                          <a:pt x="63" y="287"/>
                        </a:lnTo>
                        <a:lnTo>
                          <a:pt x="107" y="182"/>
                        </a:lnTo>
                        <a:lnTo>
                          <a:pt x="124" y="19"/>
                        </a:lnTo>
                        <a:lnTo>
                          <a:pt x="103" y="0"/>
                        </a:lnTo>
                        <a:lnTo>
                          <a:pt x="48" y="32"/>
                        </a:lnTo>
                        <a:lnTo>
                          <a:pt x="48" y="32"/>
                        </a:lnTo>
                        <a:close/>
                      </a:path>
                    </a:pathLst>
                  </a:custGeom>
                  <a:solidFill>
                    <a:srgbClr val="1c40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5794200" y="3805560"/>
                    <a:ext cx="316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4" h="380">
                        <a:moveTo>
                          <a:pt x="0" y="211"/>
                        </a:moveTo>
                        <a:lnTo>
                          <a:pt x="65" y="194"/>
                        </a:lnTo>
                        <a:lnTo>
                          <a:pt x="215" y="152"/>
                        </a:lnTo>
                        <a:lnTo>
                          <a:pt x="303" y="125"/>
                        </a:lnTo>
                        <a:lnTo>
                          <a:pt x="388" y="99"/>
                        </a:lnTo>
                        <a:lnTo>
                          <a:pt x="466" y="72"/>
                        </a:lnTo>
                        <a:lnTo>
                          <a:pt x="525" y="47"/>
                        </a:lnTo>
                        <a:lnTo>
                          <a:pt x="576" y="28"/>
                        </a:lnTo>
                        <a:lnTo>
                          <a:pt x="630" y="13"/>
                        </a:lnTo>
                        <a:lnTo>
                          <a:pt x="736" y="0"/>
                        </a:lnTo>
                        <a:lnTo>
                          <a:pt x="900" y="26"/>
                        </a:lnTo>
                        <a:lnTo>
                          <a:pt x="930" y="47"/>
                        </a:lnTo>
                        <a:lnTo>
                          <a:pt x="968" y="78"/>
                        </a:lnTo>
                        <a:lnTo>
                          <a:pt x="1010" y="112"/>
                        </a:lnTo>
                        <a:lnTo>
                          <a:pt x="1052" y="150"/>
                        </a:lnTo>
                        <a:lnTo>
                          <a:pt x="1092" y="186"/>
                        </a:lnTo>
                        <a:lnTo>
                          <a:pt x="1124" y="215"/>
                        </a:lnTo>
                        <a:lnTo>
                          <a:pt x="1154" y="243"/>
                        </a:lnTo>
                        <a:lnTo>
                          <a:pt x="1204" y="304"/>
                        </a:lnTo>
                        <a:lnTo>
                          <a:pt x="1147" y="327"/>
                        </a:lnTo>
                        <a:lnTo>
                          <a:pt x="1073" y="380"/>
                        </a:lnTo>
                        <a:lnTo>
                          <a:pt x="1059" y="380"/>
                        </a:lnTo>
                        <a:lnTo>
                          <a:pt x="1052" y="346"/>
                        </a:lnTo>
                        <a:lnTo>
                          <a:pt x="1046" y="281"/>
                        </a:lnTo>
                        <a:lnTo>
                          <a:pt x="917" y="173"/>
                        </a:lnTo>
                        <a:lnTo>
                          <a:pt x="651" y="179"/>
                        </a:lnTo>
                        <a:lnTo>
                          <a:pt x="413" y="264"/>
                        </a:lnTo>
                        <a:lnTo>
                          <a:pt x="0" y="211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5731560" y="4278240"/>
                    <a:ext cx="1360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7" h="304">
                        <a:moveTo>
                          <a:pt x="0" y="133"/>
                        </a:moveTo>
                        <a:lnTo>
                          <a:pt x="91" y="245"/>
                        </a:lnTo>
                        <a:lnTo>
                          <a:pt x="279" y="304"/>
                        </a:lnTo>
                        <a:lnTo>
                          <a:pt x="410" y="276"/>
                        </a:lnTo>
                        <a:lnTo>
                          <a:pt x="517" y="255"/>
                        </a:lnTo>
                        <a:lnTo>
                          <a:pt x="425" y="257"/>
                        </a:lnTo>
                        <a:lnTo>
                          <a:pt x="338" y="217"/>
                        </a:lnTo>
                        <a:lnTo>
                          <a:pt x="268" y="131"/>
                        </a:lnTo>
                        <a:lnTo>
                          <a:pt x="228" y="0"/>
                        </a:lnTo>
                        <a:lnTo>
                          <a:pt x="216" y="27"/>
                        </a:lnTo>
                        <a:lnTo>
                          <a:pt x="192" y="52"/>
                        </a:lnTo>
                        <a:lnTo>
                          <a:pt x="152" y="72"/>
                        </a:lnTo>
                        <a:lnTo>
                          <a:pt x="0" y="133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3148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5419800" y="3971520"/>
                    <a:ext cx="1180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266">
                        <a:moveTo>
                          <a:pt x="0" y="260"/>
                        </a:moveTo>
                        <a:lnTo>
                          <a:pt x="36" y="236"/>
                        </a:lnTo>
                        <a:lnTo>
                          <a:pt x="74" y="211"/>
                        </a:lnTo>
                        <a:lnTo>
                          <a:pt x="122" y="179"/>
                        </a:lnTo>
                        <a:lnTo>
                          <a:pt x="173" y="146"/>
                        </a:lnTo>
                        <a:lnTo>
                          <a:pt x="226" y="112"/>
                        </a:lnTo>
                        <a:lnTo>
                          <a:pt x="274" y="82"/>
                        </a:lnTo>
                        <a:lnTo>
                          <a:pt x="314" y="59"/>
                        </a:lnTo>
                        <a:lnTo>
                          <a:pt x="373" y="27"/>
                        </a:lnTo>
                        <a:lnTo>
                          <a:pt x="414" y="8"/>
                        </a:lnTo>
                        <a:lnTo>
                          <a:pt x="447" y="0"/>
                        </a:lnTo>
                        <a:lnTo>
                          <a:pt x="418" y="15"/>
                        </a:lnTo>
                        <a:lnTo>
                          <a:pt x="350" y="59"/>
                        </a:lnTo>
                        <a:lnTo>
                          <a:pt x="308" y="89"/>
                        </a:lnTo>
                        <a:lnTo>
                          <a:pt x="264" y="123"/>
                        </a:lnTo>
                        <a:lnTo>
                          <a:pt x="222" y="160"/>
                        </a:lnTo>
                        <a:lnTo>
                          <a:pt x="184" y="198"/>
                        </a:lnTo>
                        <a:lnTo>
                          <a:pt x="154" y="230"/>
                        </a:lnTo>
                        <a:lnTo>
                          <a:pt x="129" y="251"/>
                        </a:lnTo>
                        <a:lnTo>
                          <a:pt x="97" y="266"/>
                        </a:lnTo>
                        <a:lnTo>
                          <a:pt x="76" y="258"/>
                        </a:lnTo>
                        <a:lnTo>
                          <a:pt x="0" y="260"/>
                        </a:lnTo>
                        <a:lnTo>
                          <a:pt x="0" y="26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5419440" y="3946680"/>
                    <a:ext cx="16524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815">
                        <a:moveTo>
                          <a:pt x="224" y="363"/>
                        </a:moveTo>
                        <a:lnTo>
                          <a:pt x="245" y="526"/>
                        </a:lnTo>
                        <a:lnTo>
                          <a:pt x="213" y="587"/>
                        </a:lnTo>
                        <a:lnTo>
                          <a:pt x="177" y="648"/>
                        </a:lnTo>
                        <a:lnTo>
                          <a:pt x="152" y="673"/>
                        </a:lnTo>
                        <a:lnTo>
                          <a:pt x="122" y="692"/>
                        </a:lnTo>
                        <a:lnTo>
                          <a:pt x="42" y="703"/>
                        </a:lnTo>
                        <a:lnTo>
                          <a:pt x="8" y="709"/>
                        </a:lnTo>
                        <a:lnTo>
                          <a:pt x="0" y="726"/>
                        </a:lnTo>
                        <a:lnTo>
                          <a:pt x="15" y="751"/>
                        </a:lnTo>
                        <a:lnTo>
                          <a:pt x="42" y="777"/>
                        </a:lnTo>
                        <a:lnTo>
                          <a:pt x="78" y="802"/>
                        </a:lnTo>
                        <a:lnTo>
                          <a:pt x="118" y="815"/>
                        </a:lnTo>
                        <a:lnTo>
                          <a:pt x="181" y="793"/>
                        </a:lnTo>
                        <a:lnTo>
                          <a:pt x="209" y="739"/>
                        </a:lnTo>
                        <a:lnTo>
                          <a:pt x="230" y="703"/>
                        </a:lnTo>
                        <a:lnTo>
                          <a:pt x="253" y="661"/>
                        </a:lnTo>
                        <a:lnTo>
                          <a:pt x="278" y="616"/>
                        </a:lnTo>
                        <a:lnTo>
                          <a:pt x="304" y="566"/>
                        </a:lnTo>
                        <a:lnTo>
                          <a:pt x="331" y="515"/>
                        </a:lnTo>
                        <a:lnTo>
                          <a:pt x="357" y="466"/>
                        </a:lnTo>
                        <a:lnTo>
                          <a:pt x="384" y="414"/>
                        </a:lnTo>
                        <a:lnTo>
                          <a:pt x="409" y="367"/>
                        </a:lnTo>
                        <a:lnTo>
                          <a:pt x="434" y="323"/>
                        </a:lnTo>
                        <a:lnTo>
                          <a:pt x="453" y="285"/>
                        </a:lnTo>
                        <a:lnTo>
                          <a:pt x="483" y="228"/>
                        </a:lnTo>
                        <a:lnTo>
                          <a:pt x="494" y="207"/>
                        </a:lnTo>
                        <a:lnTo>
                          <a:pt x="629" y="76"/>
                        </a:lnTo>
                        <a:lnTo>
                          <a:pt x="614" y="0"/>
                        </a:lnTo>
                        <a:lnTo>
                          <a:pt x="595" y="13"/>
                        </a:lnTo>
                        <a:lnTo>
                          <a:pt x="548" y="49"/>
                        </a:lnTo>
                        <a:lnTo>
                          <a:pt x="515" y="72"/>
                        </a:lnTo>
                        <a:lnTo>
                          <a:pt x="479" y="99"/>
                        </a:lnTo>
                        <a:lnTo>
                          <a:pt x="441" y="129"/>
                        </a:lnTo>
                        <a:lnTo>
                          <a:pt x="401" y="160"/>
                        </a:lnTo>
                        <a:lnTo>
                          <a:pt x="363" y="192"/>
                        </a:lnTo>
                        <a:lnTo>
                          <a:pt x="327" y="222"/>
                        </a:lnTo>
                        <a:lnTo>
                          <a:pt x="295" y="253"/>
                        </a:lnTo>
                        <a:lnTo>
                          <a:pt x="266" y="281"/>
                        </a:lnTo>
                        <a:lnTo>
                          <a:pt x="224" y="363"/>
                        </a:lnTo>
                        <a:lnTo>
                          <a:pt x="224" y="36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5630040" y="3771360"/>
                    <a:ext cx="303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52" h="308">
                        <a:moveTo>
                          <a:pt x="32" y="237"/>
                        </a:moveTo>
                        <a:lnTo>
                          <a:pt x="536" y="308"/>
                        </a:lnTo>
                        <a:lnTo>
                          <a:pt x="473" y="271"/>
                        </a:lnTo>
                        <a:lnTo>
                          <a:pt x="450" y="232"/>
                        </a:lnTo>
                        <a:lnTo>
                          <a:pt x="460" y="211"/>
                        </a:lnTo>
                        <a:lnTo>
                          <a:pt x="486" y="190"/>
                        </a:lnTo>
                        <a:lnTo>
                          <a:pt x="526" y="167"/>
                        </a:lnTo>
                        <a:lnTo>
                          <a:pt x="566" y="150"/>
                        </a:lnTo>
                        <a:lnTo>
                          <a:pt x="654" y="119"/>
                        </a:lnTo>
                        <a:lnTo>
                          <a:pt x="747" y="97"/>
                        </a:lnTo>
                        <a:lnTo>
                          <a:pt x="849" y="76"/>
                        </a:lnTo>
                        <a:lnTo>
                          <a:pt x="1152" y="47"/>
                        </a:lnTo>
                        <a:lnTo>
                          <a:pt x="1011" y="15"/>
                        </a:lnTo>
                        <a:lnTo>
                          <a:pt x="785" y="3"/>
                        </a:lnTo>
                        <a:lnTo>
                          <a:pt x="650" y="0"/>
                        </a:lnTo>
                        <a:lnTo>
                          <a:pt x="448" y="36"/>
                        </a:lnTo>
                        <a:lnTo>
                          <a:pt x="237" y="102"/>
                        </a:lnTo>
                        <a:lnTo>
                          <a:pt x="38" y="190"/>
                        </a:lnTo>
                        <a:lnTo>
                          <a:pt x="0" y="264"/>
                        </a:lnTo>
                        <a:lnTo>
                          <a:pt x="32" y="237"/>
                        </a:lnTo>
                        <a:lnTo>
                          <a:pt x="32" y="237"/>
                        </a:lnTo>
                        <a:close/>
                      </a:path>
                    </a:pathLst>
                  </a:custGeom>
                  <a:solidFill>
                    <a:srgbClr val="fff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959080" y="3955320"/>
                    <a:ext cx="22500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3" h="856">
                        <a:moveTo>
                          <a:pt x="5" y="804"/>
                        </a:moveTo>
                        <a:lnTo>
                          <a:pt x="87" y="578"/>
                        </a:lnTo>
                        <a:lnTo>
                          <a:pt x="89" y="650"/>
                        </a:lnTo>
                        <a:lnTo>
                          <a:pt x="169" y="512"/>
                        </a:lnTo>
                        <a:lnTo>
                          <a:pt x="152" y="629"/>
                        </a:lnTo>
                        <a:lnTo>
                          <a:pt x="230" y="464"/>
                        </a:lnTo>
                        <a:lnTo>
                          <a:pt x="243" y="588"/>
                        </a:lnTo>
                        <a:lnTo>
                          <a:pt x="274" y="390"/>
                        </a:lnTo>
                        <a:lnTo>
                          <a:pt x="310" y="232"/>
                        </a:lnTo>
                        <a:lnTo>
                          <a:pt x="332" y="166"/>
                        </a:lnTo>
                        <a:lnTo>
                          <a:pt x="359" y="114"/>
                        </a:lnTo>
                        <a:lnTo>
                          <a:pt x="388" y="80"/>
                        </a:lnTo>
                        <a:lnTo>
                          <a:pt x="416" y="53"/>
                        </a:lnTo>
                        <a:lnTo>
                          <a:pt x="469" y="23"/>
                        </a:lnTo>
                        <a:lnTo>
                          <a:pt x="524" y="10"/>
                        </a:lnTo>
                        <a:lnTo>
                          <a:pt x="589" y="0"/>
                        </a:lnTo>
                        <a:lnTo>
                          <a:pt x="644" y="12"/>
                        </a:lnTo>
                        <a:lnTo>
                          <a:pt x="694" y="55"/>
                        </a:lnTo>
                        <a:lnTo>
                          <a:pt x="736" y="131"/>
                        </a:lnTo>
                        <a:lnTo>
                          <a:pt x="770" y="217"/>
                        </a:lnTo>
                        <a:lnTo>
                          <a:pt x="806" y="312"/>
                        </a:lnTo>
                        <a:lnTo>
                          <a:pt x="853" y="420"/>
                        </a:lnTo>
                        <a:lnTo>
                          <a:pt x="682" y="550"/>
                        </a:lnTo>
                        <a:lnTo>
                          <a:pt x="690" y="481"/>
                        </a:lnTo>
                        <a:lnTo>
                          <a:pt x="701" y="274"/>
                        </a:lnTo>
                        <a:lnTo>
                          <a:pt x="652" y="183"/>
                        </a:lnTo>
                        <a:lnTo>
                          <a:pt x="570" y="185"/>
                        </a:lnTo>
                        <a:lnTo>
                          <a:pt x="545" y="207"/>
                        </a:lnTo>
                        <a:lnTo>
                          <a:pt x="490" y="264"/>
                        </a:lnTo>
                        <a:lnTo>
                          <a:pt x="433" y="344"/>
                        </a:lnTo>
                        <a:lnTo>
                          <a:pt x="399" y="432"/>
                        </a:lnTo>
                        <a:lnTo>
                          <a:pt x="372" y="608"/>
                        </a:lnTo>
                        <a:lnTo>
                          <a:pt x="357" y="698"/>
                        </a:lnTo>
                        <a:lnTo>
                          <a:pt x="355" y="770"/>
                        </a:lnTo>
                        <a:lnTo>
                          <a:pt x="112" y="852"/>
                        </a:lnTo>
                        <a:lnTo>
                          <a:pt x="0" y="856"/>
                        </a:lnTo>
                        <a:lnTo>
                          <a:pt x="5" y="804"/>
                        </a:lnTo>
                        <a:lnTo>
                          <a:pt x="5" y="804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6034680" y="3945240"/>
                    <a:ext cx="10584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378">
                        <a:moveTo>
                          <a:pt x="0" y="378"/>
                        </a:moveTo>
                        <a:lnTo>
                          <a:pt x="9" y="244"/>
                        </a:lnTo>
                        <a:lnTo>
                          <a:pt x="25" y="186"/>
                        </a:lnTo>
                        <a:lnTo>
                          <a:pt x="47" y="129"/>
                        </a:lnTo>
                        <a:lnTo>
                          <a:pt x="84" y="78"/>
                        </a:lnTo>
                        <a:lnTo>
                          <a:pt x="106" y="55"/>
                        </a:lnTo>
                        <a:lnTo>
                          <a:pt x="133" y="34"/>
                        </a:lnTo>
                        <a:lnTo>
                          <a:pt x="186" y="8"/>
                        </a:lnTo>
                        <a:lnTo>
                          <a:pt x="238" y="0"/>
                        </a:lnTo>
                        <a:lnTo>
                          <a:pt x="323" y="23"/>
                        </a:lnTo>
                        <a:lnTo>
                          <a:pt x="380" y="63"/>
                        </a:lnTo>
                        <a:lnTo>
                          <a:pt x="403" y="84"/>
                        </a:lnTo>
                        <a:lnTo>
                          <a:pt x="386" y="74"/>
                        </a:lnTo>
                        <a:lnTo>
                          <a:pt x="340" y="65"/>
                        </a:lnTo>
                        <a:lnTo>
                          <a:pt x="272" y="76"/>
                        </a:lnTo>
                        <a:lnTo>
                          <a:pt x="182" y="133"/>
                        </a:lnTo>
                        <a:lnTo>
                          <a:pt x="99" y="221"/>
                        </a:lnTo>
                        <a:lnTo>
                          <a:pt x="42" y="299"/>
                        </a:lnTo>
                        <a:lnTo>
                          <a:pt x="0" y="378"/>
                        </a:lnTo>
                        <a:lnTo>
                          <a:pt x="0" y="378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5699160" y="4016880"/>
                    <a:ext cx="25956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985" h="876">
                        <a:moveTo>
                          <a:pt x="0" y="876"/>
                        </a:moveTo>
                        <a:lnTo>
                          <a:pt x="40" y="852"/>
                        </a:lnTo>
                        <a:lnTo>
                          <a:pt x="82" y="823"/>
                        </a:lnTo>
                        <a:lnTo>
                          <a:pt x="129" y="789"/>
                        </a:lnTo>
                        <a:lnTo>
                          <a:pt x="179" y="751"/>
                        </a:lnTo>
                        <a:lnTo>
                          <a:pt x="224" y="713"/>
                        </a:lnTo>
                        <a:lnTo>
                          <a:pt x="279" y="644"/>
                        </a:lnTo>
                        <a:lnTo>
                          <a:pt x="321" y="354"/>
                        </a:lnTo>
                        <a:lnTo>
                          <a:pt x="342" y="259"/>
                        </a:lnTo>
                        <a:lnTo>
                          <a:pt x="371" y="171"/>
                        </a:lnTo>
                        <a:lnTo>
                          <a:pt x="390" y="131"/>
                        </a:lnTo>
                        <a:lnTo>
                          <a:pt x="413" y="97"/>
                        </a:lnTo>
                        <a:lnTo>
                          <a:pt x="437" y="67"/>
                        </a:lnTo>
                        <a:lnTo>
                          <a:pt x="466" y="44"/>
                        </a:lnTo>
                        <a:lnTo>
                          <a:pt x="525" y="15"/>
                        </a:lnTo>
                        <a:lnTo>
                          <a:pt x="578" y="0"/>
                        </a:lnTo>
                        <a:lnTo>
                          <a:pt x="664" y="8"/>
                        </a:lnTo>
                        <a:lnTo>
                          <a:pt x="732" y="44"/>
                        </a:lnTo>
                        <a:lnTo>
                          <a:pt x="749" y="53"/>
                        </a:lnTo>
                        <a:lnTo>
                          <a:pt x="798" y="78"/>
                        </a:lnTo>
                        <a:lnTo>
                          <a:pt x="848" y="105"/>
                        </a:lnTo>
                        <a:lnTo>
                          <a:pt x="873" y="116"/>
                        </a:lnTo>
                        <a:lnTo>
                          <a:pt x="958" y="257"/>
                        </a:lnTo>
                        <a:lnTo>
                          <a:pt x="985" y="378"/>
                        </a:lnTo>
                        <a:lnTo>
                          <a:pt x="899" y="285"/>
                        </a:lnTo>
                        <a:lnTo>
                          <a:pt x="728" y="289"/>
                        </a:lnTo>
                        <a:lnTo>
                          <a:pt x="451" y="635"/>
                        </a:lnTo>
                        <a:lnTo>
                          <a:pt x="274" y="863"/>
                        </a:lnTo>
                        <a:lnTo>
                          <a:pt x="0" y="876"/>
                        </a:lnTo>
                        <a:lnTo>
                          <a:pt x="0" y="876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842440" y="3845880"/>
                    <a:ext cx="23832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667">
                        <a:moveTo>
                          <a:pt x="0" y="561"/>
                        </a:moveTo>
                        <a:lnTo>
                          <a:pt x="146" y="667"/>
                        </a:lnTo>
                        <a:lnTo>
                          <a:pt x="585" y="460"/>
                        </a:lnTo>
                        <a:lnTo>
                          <a:pt x="905" y="207"/>
                        </a:lnTo>
                        <a:lnTo>
                          <a:pt x="817" y="70"/>
                        </a:lnTo>
                        <a:lnTo>
                          <a:pt x="701" y="4"/>
                        </a:lnTo>
                        <a:lnTo>
                          <a:pt x="540" y="0"/>
                        </a:lnTo>
                        <a:lnTo>
                          <a:pt x="405" y="46"/>
                        </a:lnTo>
                        <a:lnTo>
                          <a:pt x="228" y="131"/>
                        </a:lnTo>
                        <a:lnTo>
                          <a:pt x="95" y="253"/>
                        </a:lnTo>
                        <a:lnTo>
                          <a:pt x="36" y="435"/>
                        </a:lnTo>
                        <a:lnTo>
                          <a:pt x="0" y="561"/>
                        </a:lnTo>
                        <a:lnTo>
                          <a:pt x="0" y="561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676840" y="4089600"/>
                    <a:ext cx="1072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446">
                        <a:moveTo>
                          <a:pt x="0" y="328"/>
                        </a:moveTo>
                        <a:lnTo>
                          <a:pt x="65" y="93"/>
                        </a:lnTo>
                        <a:lnTo>
                          <a:pt x="190" y="11"/>
                        </a:lnTo>
                        <a:lnTo>
                          <a:pt x="236" y="3"/>
                        </a:lnTo>
                        <a:lnTo>
                          <a:pt x="301" y="0"/>
                        </a:lnTo>
                        <a:lnTo>
                          <a:pt x="350" y="15"/>
                        </a:lnTo>
                        <a:lnTo>
                          <a:pt x="382" y="59"/>
                        </a:lnTo>
                        <a:lnTo>
                          <a:pt x="407" y="205"/>
                        </a:lnTo>
                        <a:lnTo>
                          <a:pt x="400" y="277"/>
                        </a:lnTo>
                        <a:lnTo>
                          <a:pt x="373" y="330"/>
                        </a:lnTo>
                        <a:lnTo>
                          <a:pt x="348" y="351"/>
                        </a:lnTo>
                        <a:lnTo>
                          <a:pt x="320" y="372"/>
                        </a:lnTo>
                        <a:lnTo>
                          <a:pt x="259" y="408"/>
                        </a:lnTo>
                        <a:lnTo>
                          <a:pt x="209" y="435"/>
                        </a:lnTo>
                        <a:lnTo>
                          <a:pt x="189" y="446"/>
                        </a:lnTo>
                        <a:lnTo>
                          <a:pt x="38" y="412"/>
                        </a:lnTo>
                        <a:lnTo>
                          <a:pt x="0" y="328"/>
                        </a:lnTo>
                        <a:lnTo>
                          <a:pt x="0" y="328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5408280" y="4037400"/>
                    <a:ext cx="79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369">
                        <a:moveTo>
                          <a:pt x="0" y="257"/>
                        </a:moveTo>
                        <a:lnTo>
                          <a:pt x="8" y="171"/>
                        </a:lnTo>
                        <a:lnTo>
                          <a:pt x="29" y="99"/>
                        </a:lnTo>
                        <a:lnTo>
                          <a:pt x="44" y="65"/>
                        </a:lnTo>
                        <a:lnTo>
                          <a:pt x="67" y="38"/>
                        </a:lnTo>
                        <a:lnTo>
                          <a:pt x="105" y="6"/>
                        </a:lnTo>
                        <a:lnTo>
                          <a:pt x="124" y="0"/>
                        </a:lnTo>
                        <a:lnTo>
                          <a:pt x="131" y="9"/>
                        </a:lnTo>
                        <a:lnTo>
                          <a:pt x="238" y="25"/>
                        </a:lnTo>
                        <a:lnTo>
                          <a:pt x="303" y="122"/>
                        </a:lnTo>
                        <a:lnTo>
                          <a:pt x="247" y="253"/>
                        </a:lnTo>
                        <a:lnTo>
                          <a:pt x="122" y="369"/>
                        </a:lnTo>
                        <a:lnTo>
                          <a:pt x="0" y="257"/>
                        </a:lnTo>
                        <a:lnTo>
                          <a:pt x="0" y="257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5914080" y="3855600"/>
                    <a:ext cx="16668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559">
                        <a:moveTo>
                          <a:pt x="0" y="559"/>
                        </a:moveTo>
                        <a:lnTo>
                          <a:pt x="24" y="542"/>
                        </a:lnTo>
                        <a:lnTo>
                          <a:pt x="55" y="521"/>
                        </a:lnTo>
                        <a:lnTo>
                          <a:pt x="93" y="494"/>
                        </a:lnTo>
                        <a:lnTo>
                          <a:pt x="137" y="464"/>
                        </a:lnTo>
                        <a:lnTo>
                          <a:pt x="186" y="428"/>
                        </a:lnTo>
                        <a:lnTo>
                          <a:pt x="237" y="388"/>
                        </a:lnTo>
                        <a:lnTo>
                          <a:pt x="289" y="344"/>
                        </a:lnTo>
                        <a:lnTo>
                          <a:pt x="340" y="298"/>
                        </a:lnTo>
                        <a:lnTo>
                          <a:pt x="387" y="253"/>
                        </a:lnTo>
                        <a:lnTo>
                          <a:pt x="429" y="205"/>
                        </a:lnTo>
                        <a:lnTo>
                          <a:pt x="464" y="160"/>
                        </a:lnTo>
                        <a:lnTo>
                          <a:pt x="502" y="74"/>
                        </a:lnTo>
                        <a:lnTo>
                          <a:pt x="486" y="0"/>
                        </a:lnTo>
                        <a:lnTo>
                          <a:pt x="513" y="19"/>
                        </a:lnTo>
                        <a:lnTo>
                          <a:pt x="540" y="40"/>
                        </a:lnTo>
                        <a:lnTo>
                          <a:pt x="570" y="66"/>
                        </a:lnTo>
                        <a:lnTo>
                          <a:pt x="633" y="158"/>
                        </a:lnTo>
                        <a:lnTo>
                          <a:pt x="604" y="188"/>
                        </a:lnTo>
                        <a:lnTo>
                          <a:pt x="572" y="224"/>
                        </a:lnTo>
                        <a:lnTo>
                          <a:pt x="541" y="253"/>
                        </a:lnTo>
                        <a:lnTo>
                          <a:pt x="530" y="266"/>
                        </a:lnTo>
                        <a:lnTo>
                          <a:pt x="194" y="477"/>
                        </a:lnTo>
                        <a:lnTo>
                          <a:pt x="0" y="559"/>
                        </a:lnTo>
                        <a:lnTo>
                          <a:pt x="0" y="559"/>
                        </a:lnTo>
                        <a:close/>
                      </a:path>
                    </a:pathLst>
                  </a:custGeom>
                  <a:solidFill>
                    <a:srgbClr val="8aa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5381640" y="4164120"/>
                    <a:ext cx="41184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1" h="570">
                        <a:moveTo>
                          <a:pt x="6" y="127"/>
                        </a:moveTo>
                        <a:lnTo>
                          <a:pt x="0" y="61"/>
                        </a:lnTo>
                        <a:lnTo>
                          <a:pt x="10" y="15"/>
                        </a:lnTo>
                        <a:lnTo>
                          <a:pt x="42" y="0"/>
                        </a:lnTo>
                        <a:lnTo>
                          <a:pt x="96" y="32"/>
                        </a:lnTo>
                        <a:lnTo>
                          <a:pt x="151" y="87"/>
                        </a:lnTo>
                        <a:lnTo>
                          <a:pt x="192" y="144"/>
                        </a:lnTo>
                        <a:lnTo>
                          <a:pt x="208" y="167"/>
                        </a:lnTo>
                        <a:lnTo>
                          <a:pt x="225" y="180"/>
                        </a:lnTo>
                        <a:lnTo>
                          <a:pt x="270" y="213"/>
                        </a:lnTo>
                        <a:lnTo>
                          <a:pt x="303" y="234"/>
                        </a:lnTo>
                        <a:lnTo>
                          <a:pt x="341" y="256"/>
                        </a:lnTo>
                        <a:lnTo>
                          <a:pt x="383" y="281"/>
                        </a:lnTo>
                        <a:lnTo>
                          <a:pt x="430" y="306"/>
                        </a:lnTo>
                        <a:lnTo>
                          <a:pt x="480" y="331"/>
                        </a:lnTo>
                        <a:lnTo>
                          <a:pt x="533" y="353"/>
                        </a:lnTo>
                        <a:lnTo>
                          <a:pt x="588" y="374"/>
                        </a:lnTo>
                        <a:lnTo>
                          <a:pt x="643" y="391"/>
                        </a:lnTo>
                        <a:lnTo>
                          <a:pt x="759" y="412"/>
                        </a:lnTo>
                        <a:lnTo>
                          <a:pt x="871" y="409"/>
                        </a:lnTo>
                        <a:lnTo>
                          <a:pt x="1162" y="374"/>
                        </a:lnTo>
                        <a:lnTo>
                          <a:pt x="1232" y="376"/>
                        </a:lnTo>
                        <a:lnTo>
                          <a:pt x="1314" y="353"/>
                        </a:lnTo>
                        <a:lnTo>
                          <a:pt x="1404" y="327"/>
                        </a:lnTo>
                        <a:lnTo>
                          <a:pt x="1425" y="313"/>
                        </a:lnTo>
                        <a:lnTo>
                          <a:pt x="1461" y="294"/>
                        </a:lnTo>
                        <a:lnTo>
                          <a:pt x="1502" y="281"/>
                        </a:lnTo>
                        <a:lnTo>
                          <a:pt x="1537" y="281"/>
                        </a:lnTo>
                        <a:lnTo>
                          <a:pt x="1561" y="367"/>
                        </a:lnTo>
                        <a:lnTo>
                          <a:pt x="1552" y="454"/>
                        </a:lnTo>
                        <a:lnTo>
                          <a:pt x="1535" y="488"/>
                        </a:lnTo>
                        <a:lnTo>
                          <a:pt x="1525" y="507"/>
                        </a:lnTo>
                        <a:lnTo>
                          <a:pt x="1198" y="570"/>
                        </a:lnTo>
                        <a:lnTo>
                          <a:pt x="727" y="532"/>
                        </a:lnTo>
                        <a:lnTo>
                          <a:pt x="402" y="437"/>
                        </a:lnTo>
                        <a:lnTo>
                          <a:pt x="101" y="236"/>
                        </a:lnTo>
                        <a:lnTo>
                          <a:pt x="6" y="127"/>
                        </a:lnTo>
                        <a:lnTo>
                          <a:pt x="6" y="127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606640" y="4063320"/>
                    <a:ext cx="35532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8" h="937">
                        <a:moveTo>
                          <a:pt x="415" y="800"/>
                        </a:moveTo>
                        <a:lnTo>
                          <a:pt x="458" y="773"/>
                        </a:lnTo>
                        <a:lnTo>
                          <a:pt x="506" y="737"/>
                        </a:lnTo>
                        <a:lnTo>
                          <a:pt x="534" y="713"/>
                        </a:lnTo>
                        <a:lnTo>
                          <a:pt x="565" y="686"/>
                        </a:lnTo>
                        <a:lnTo>
                          <a:pt x="629" y="618"/>
                        </a:lnTo>
                        <a:lnTo>
                          <a:pt x="662" y="578"/>
                        </a:lnTo>
                        <a:lnTo>
                          <a:pt x="696" y="532"/>
                        </a:lnTo>
                        <a:lnTo>
                          <a:pt x="728" y="483"/>
                        </a:lnTo>
                        <a:lnTo>
                          <a:pt x="759" y="427"/>
                        </a:lnTo>
                        <a:lnTo>
                          <a:pt x="814" y="304"/>
                        </a:lnTo>
                        <a:lnTo>
                          <a:pt x="848" y="249"/>
                        </a:lnTo>
                        <a:lnTo>
                          <a:pt x="879" y="199"/>
                        </a:lnTo>
                        <a:lnTo>
                          <a:pt x="907" y="158"/>
                        </a:lnTo>
                        <a:lnTo>
                          <a:pt x="934" y="123"/>
                        </a:lnTo>
                        <a:lnTo>
                          <a:pt x="981" y="70"/>
                        </a:lnTo>
                        <a:lnTo>
                          <a:pt x="1017" y="36"/>
                        </a:lnTo>
                        <a:lnTo>
                          <a:pt x="1074" y="7"/>
                        </a:lnTo>
                        <a:lnTo>
                          <a:pt x="1110" y="0"/>
                        </a:lnTo>
                        <a:lnTo>
                          <a:pt x="1192" y="9"/>
                        </a:lnTo>
                        <a:lnTo>
                          <a:pt x="1244" y="44"/>
                        </a:lnTo>
                        <a:lnTo>
                          <a:pt x="1297" y="106"/>
                        </a:lnTo>
                        <a:lnTo>
                          <a:pt x="1339" y="226"/>
                        </a:lnTo>
                        <a:lnTo>
                          <a:pt x="1333" y="264"/>
                        </a:lnTo>
                        <a:lnTo>
                          <a:pt x="1348" y="452"/>
                        </a:lnTo>
                        <a:lnTo>
                          <a:pt x="1293" y="502"/>
                        </a:lnTo>
                        <a:lnTo>
                          <a:pt x="1232" y="245"/>
                        </a:lnTo>
                        <a:lnTo>
                          <a:pt x="1040" y="209"/>
                        </a:lnTo>
                        <a:lnTo>
                          <a:pt x="939" y="304"/>
                        </a:lnTo>
                        <a:lnTo>
                          <a:pt x="793" y="523"/>
                        </a:lnTo>
                        <a:lnTo>
                          <a:pt x="717" y="851"/>
                        </a:lnTo>
                        <a:lnTo>
                          <a:pt x="744" y="906"/>
                        </a:lnTo>
                        <a:lnTo>
                          <a:pt x="430" y="937"/>
                        </a:lnTo>
                        <a:lnTo>
                          <a:pt x="0" y="912"/>
                        </a:lnTo>
                        <a:lnTo>
                          <a:pt x="415" y="800"/>
                        </a:lnTo>
                        <a:lnTo>
                          <a:pt x="415" y="80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5580360" y="3835080"/>
                    <a:ext cx="2858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6" h="606">
                        <a:moveTo>
                          <a:pt x="0" y="393"/>
                        </a:moveTo>
                        <a:lnTo>
                          <a:pt x="187" y="25"/>
                        </a:lnTo>
                        <a:lnTo>
                          <a:pt x="358" y="0"/>
                        </a:lnTo>
                        <a:lnTo>
                          <a:pt x="1046" y="150"/>
                        </a:lnTo>
                        <a:lnTo>
                          <a:pt x="1086" y="287"/>
                        </a:lnTo>
                        <a:lnTo>
                          <a:pt x="1016" y="565"/>
                        </a:lnTo>
                        <a:lnTo>
                          <a:pt x="940" y="606"/>
                        </a:lnTo>
                        <a:lnTo>
                          <a:pt x="223" y="570"/>
                        </a:lnTo>
                        <a:lnTo>
                          <a:pt x="19" y="475"/>
                        </a:lnTo>
                        <a:lnTo>
                          <a:pt x="0" y="393"/>
                        </a:lnTo>
                        <a:lnTo>
                          <a:pt x="0" y="393"/>
                        </a:lnTo>
                        <a:close/>
                      </a:path>
                    </a:pathLst>
                  </a:custGeom>
                  <a:solidFill>
                    <a:srgbClr val="a0e5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5622120" y="3855600"/>
                    <a:ext cx="2210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498">
                        <a:moveTo>
                          <a:pt x="590" y="0"/>
                        </a:moveTo>
                        <a:lnTo>
                          <a:pt x="576" y="19"/>
                        </a:lnTo>
                        <a:lnTo>
                          <a:pt x="538" y="68"/>
                        </a:lnTo>
                        <a:lnTo>
                          <a:pt x="481" y="139"/>
                        </a:lnTo>
                        <a:lnTo>
                          <a:pt x="447" y="179"/>
                        </a:lnTo>
                        <a:lnTo>
                          <a:pt x="409" y="220"/>
                        </a:lnTo>
                        <a:lnTo>
                          <a:pt x="369" y="262"/>
                        </a:lnTo>
                        <a:lnTo>
                          <a:pt x="325" y="304"/>
                        </a:lnTo>
                        <a:lnTo>
                          <a:pt x="282" y="344"/>
                        </a:lnTo>
                        <a:lnTo>
                          <a:pt x="238" y="380"/>
                        </a:lnTo>
                        <a:lnTo>
                          <a:pt x="194" y="411"/>
                        </a:lnTo>
                        <a:lnTo>
                          <a:pt x="148" y="437"/>
                        </a:lnTo>
                        <a:lnTo>
                          <a:pt x="65" y="468"/>
                        </a:lnTo>
                        <a:lnTo>
                          <a:pt x="0" y="485"/>
                        </a:lnTo>
                        <a:lnTo>
                          <a:pt x="67" y="494"/>
                        </a:lnTo>
                        <a:lnTo>
                          <a:pt x="232" y="498"/>
                        </a:lnTo>
                        <a:lnTo>
                          <a:pt x="331" y="462"/>
                        </a:lnTo>
                        <a:lnTo>
                          <a:pt x="430" y="416"/>
                        </a:lnTo>
                        <a:lnTo>
                          <a:pt x="487" y="392"/>
                        </a:lnTo>
                        <a:lnTo>
                          <a:pt x="544" y="361"/>
                        </a:lnTo>
                        <a:lnTo>
                          <a:pt x="601" y="329"/>
                        </a:lnTo>
                        <a:lnTo>
                          <a:pt x="656" y="295"/>
                        </a:lnTo>
                        <a:lnTo>
                          <a:pt x="707" y="258"/>
                        </a:lnTo>
                        <a:lnTo>
                          <a:pt x="753" y="222"/>
                        </a:lnTo>
                        <a:lnTo>
                          <a:pt x="820" y="144"/>
                        </a:lnTo>
                        <a:lnTo>
                          <a:pt x="839" y="65"/>
                        </a:lnTo>
                        <a:lnTo>
                          <a:pt x="590" y="0"/>
                        </a:lnTo>
                        <a:lnTo>
                          <a:pt x="59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5415840" y="4062960"/>
                    <a:ext cx="651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276">
                        <a:moveTo>
                          <a:pt x="0" y="192"/>
                        </a:moveTo>
                        <a:lnTo>
                          <a:pt x="80" y="184"/>
                        </a:lnTo>
                        <a:lnTo>
                          <a:pt x="161" y="129"/>
                        </a:lnTo>
                        <a:lnTo>
                          <a:pt x="205" y="76"/>
                        </a:lnTo>
                        <a:lnTo>
                          <a:pt x="249" y="0"/>
                        </a:lnTo>
                        <a:lnTo>
                          <a:pt x="222" y="209"/>
                        </a:lnTo>
                        <a:lnTo>
                          <a:pt x="112" y="276"/>
                        </a:lnTo>
                        <a:lnTo>
                          <a:pt x="0" y="192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5790240" y="4107600"/>
                    <a:ext cx="156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5" h="928">
                        <a:moveTo>
                          <a:pt x="0" y="726"/>
                        </a:moveTo>
                        <a:lnTo>
                          <a:pt x="23" y="774"/>
                        </a:lnTo>
                        <a:lnTo>
                          <a:pt x="49" y="817"/>
                        </a:lnTo>
                        <a:lnTo>
                          <a:pt x="86" y="865"/>
                        </a:lnTo>
                        <a:lnTo>
                          <a:pt x="106" y="886"/>
                        </a:lnTo>
                        <a:lnTo>
                          <a:pt x="131" y="905"/>
                        </a:lnTo>
                        <a:lnTo>
                          <a:pt x="183" y="928"/>
                        </a:lnTo>
                        <a:lnTo>
                          <a:pt x="241" y="926"/>
                        </a:lnTo>
                        <a:lnTo>
                          <a:pt x="306" y="888"/>
                        </a:lnTo>
                        <a:lnTo>
                          <a:pt x="338" y="857"/>
                        </a:lnTo>
                        <a:lnTo>
                          <a:pt x="369" y="825"/>
                        </a:lnTo>
                        <a:lnTo>
                          <a:pt x="424" y="760"/>
                        </a:lnTo>
                        <a:lnTo>
                          <a:pt x="472" y="698"/>
                        </a:lnTo>
                        <a:lnTo>
                          <a:pt x="510" y="639"/>
                        </a:lnTo>
                        <a:lnTo>
                          <a:pt x="538" y="586"/>
                        </a:lnTo>
                        <a:lnTo>
                          <a:pt x="559" y="544"/>
                        </a:lnTo>
                        <a:lnTo>
                          <a:pt x="576" y="508"/>
                        </a:lnTo>
                        <a:lnTo>
                          <a:pt x="595" y="169"/>
                        </a:lnTo>
                        <a:lnTo>
                          <a:pt x="511" y="25"/>
                        </a:lnTo>
                        <a:lnTo>
                          <a:pt x="335" y="0"/>
                        </a:lnTo>
                        <a:lnTo>
                          <a:pt x="127" y="300"/>
                        </a:lnTo>
                        <a:lnTo>
                          <a:pt x="116" y="335"/>
                        </a:lnTo>
                        <a:lnTo>
                          <a:pt x="91" y="413"/>
                        </a:lnTo>
                        <a:lnTo>
                          <a:pt x="61" y="509"/>
                        </a:lnTo>
                        <a:lnTo>
                          <a:pt x="42" y="595"/>
                        </a:lnTo>
                        <a:lnTo>
                          <a:pt x="15" y="694"/>
                        </a:lnTo>
                        <a:lnTo>
                          <a:pt x="0" y="726"/>
                        </a:lnTo>
                        <a:lnTo>
                          <a:pt x="0" y="726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852520" y="4168800"/>
                    <a:ext cx="622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469">
                        <a:moveTo>
                          <a:pt x="156" y="0"/>
                        </a:moveTo>
                        <a:lnTo>
                          <a:pt x="57" y="80"/>
                        </a:lnTo>
                        <a:lnTo>
                          <a:pt x="2" y="382"/>
                        </a:lnTo>
                        <a:lnTo>
                          <a:pt x="0" y="367"/>
                        </a:lnTo>
                        <a:lnTo>
                          <a:pt x="15" y="439"/>
                        </a:lnTo>
                        <a:lnTo>
                          <a:pt x="30" y="468"/>
                        </a:lnTo>
                        <a:lnTo>
                          <a:pt x="49" y="469"/>
                        </a:lnTo>
                        <a:lnTo>
                          <a:pt x="102" y="420"/>
                        </a:lnTo>
                        <a:lnTo>
                          <a:pt x="150" y="350"/>
                        </a:lnTo>
                        <a:lnTo>
                          <a:pt x="171" y="314"/>
                        </a:lnTo>
                        <a:lnTo>
                          <a:pt x="184" y="279"/>
                        </a:lnTo>
                        <a:lnTo>
                          <a:pt x="209" y="201"/>
                        </a:lnTo>
                        <a:lnTo>
                          <a:pt x="236" y="47"/>
                        </a:lnTo>
                        <a:lnTo>
                          <a:pt x="215" y="17"/>
                        </a:lnTo>
                        <a:lnTo>
                          <a:pt x="188" y="4"/>
                        </a:lnTo>
                        <a:lnTo>
                          <a:pt x="156" y="0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1c40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676840" y="4125960"/>
                    <a:ext cx="1036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4" h="327">
                        <a:moveTo>
                          <a:pt x="0" y="183"/>
                        </a:moveTo>
                        <a:lnTo>
                          <a:pt x="36" y="202"/>
                        </a:lnTo>
                        <a:lnTo>
                          <a:pt x="130" y="217"/>
                        </a:lnTo>
                        <a:lnTo>
                          <a:pt x="257" y="170"/>
                        </a:lnTo>
                        <a:lnTo>
                          <a:pt x="291" y="141"/>
                        </a:lnTo>
                        <a:lnTo>
                          <a:pt x="325" y="105"/>
                        </a:lnTo>
                        <a:lnTo>
                          <a:pt x="360" y="57"/>
                        </a:lnTo>
                        <a:lnTo>
                          <a:pt x="394" y="0"/>
                        </a:lnTo>
                        <a:lnTo>
                          <a:pt x="392" y="107"/>
                        </a:lnTo>
                        <a:lnTo>
                          <a:pt x="381" y="154"/>
                        </a:lnTo>
                        <a:lnTo>
                          <a:pt x="360" y="202"/>
                        </a:lnTo>
                        <a:lnTo>
                          <a:pt x="327" y="248"/>
                        </a:lnTo>
                        <a:lnTo>
                          <a:pt x="305" y="268"/>
                        </a:lnTo>
                        <a:lnTo>
                          <a:pt x="280" y="287"/>
                        </a:lnTo>
                        <a:lnTo>
                          <a:pt x="227" y="316"/>
                        </a:lnTo>
                        <a:lnTo>
                          <a:pt x="179" y="327"/>
                        </a:lnTo>
                        <a:lnTo>
                          <a:pt x="99" y="316"/>
                        </a:lnTo>
                        <a:lnTo>
                          <a:pt x="46" y="287"/>
                        </a:lnTo>
                        <a:lnTo>
                          <a:pt x="29" y="270"/>
                        </a:lnTo>
                        <a:lnTo>
                          <a:pt x="0" y="183"/>
                        </a:lnTo>
                        <a:lnTo>
                          <a:pt x="0" y="183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646600" y="3870000"/>
                    <a:ext cx="2599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85" h="506">
                        <a:moveTo>
                          <a:pt x="0" y="434"/>
                        </a:moveTo>
                        <a:lnTo>
                          <a:pt x="86" y="416"/>
                        </a:lnTo>
                        <a:lnTo>
                          <a:pt x="282" y="365"/>
                        </a:lnTo>
                        <a:lnTo>
                          <a:pt x="390" y="329"/>
                        </a:lnTo>
                        <a:lnTo>
                          <a:pt x="489" y="283"/>
                        </a:lnTo>
                        <a:lnTo>
                          <a:pt x="567" y="232"/>
                        </a:lnTo>
                        <a:lnTo>
                          <a:pt x="612" y="173"/>
                        </a:lnTo>
                        <a:lnTo>
                          <a:pt x="688" y="0"/>
                        </a:lnTo>
                        <a:lnTo>
                          <a:pt x="823" y="0"/>
                        </a:lnTo>
                        <a:lnTo>
                          <a:pt x="985" y="23"/>
                        </a:lnTo>
                        <a:lnTo>
                          <a:pt x="949" y="69"/>
                        </a:lnTo>
                        <a:lnTo>
                          <a:pt x="911" y="116"/>
                        </a:lnTo>
                        <a:lnTo>
                          <a:pt x="871" y="173"/>
                        </a:lnTo>
                        <a:lnTo>
                          <a:pt x="829" y="234"/>
                        </a:lnTo>
                        <a:lnTo>
                          <a:pt x="793" y="293"/>
                        </a:lnTo>
                        <a:lnTo>
                          <a:pt x="763" y="380"/>
                        </a:lnTo>
                        <a:lnTo>
                          <a:pt x="759" y="472"/>
                        </a:lnTo>
                        <a:lnTo>
                          <a:pt x="747" y="506"/>
                        </a:lnTo>
                        <a:lnTo>
                          <a:pt x="531" y="468"/>
                        </a:lnTo>
                        <a:lnTo>
                          <a:pt x="0" y="434"/>
                        </a:lnTo>
                        <a:lnTo>
                          <a:pt x="0" y="434"/>
                        </a:lnTo>
                        <a:close/>
                      </a:path>
                    </a:pathLst>
                  </a:custGeom>
                  <a:solidFill>
                    <a:srgbClr val="8aa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5761080" y="3934440"/>
                    <a:ext cx="968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293">
                        <a:moveTo>
                          <a:pt x="0" y="223"/>
                        </a:moveTo>
                        <a:lnTo>
                          <a:pt x="42" y="208"/>
                        </a:lnTo>
                        <a:lnTo>
                          <a:pt x="142" y="166"/>
                        </a:lnTo>
                        <a:lnTo>
                          <a:pt x="203" y="133"/>
                        </a:lnTo>
                        <a:lnTo>
                          <a:pt x="264" y="95"/>
                        </a:lnTo>
                        <a:lnTo>
                          <a:pt x="321" y="52"/>
                        </a:lnTo>
                        <a:lnTo>
                          <a:pt x="369" y="0"/>
                        </a:lnTo>
                        <a:lnTo>
                          <a:pt x="319" y="227"/>
                        </a:lnTo>
                        <a:lnTo>
                          <a:pt x="340" y="293"/>
                        </a:lnTo>
                        <a:lnTo>
                          <a:pt x="302" y="278"/>
                        </a:lnTo>
                        <a:lnTo>
                          <a:pt x="209" y="246"/>
                        </a:lnTo>
                        <a:lnTo>
                          <a:pt x="97" y="221"/>
                        </a:lnTo>
                        <a:lnTo>
                          <a:pt x="0" y="223"/>
                        </a:lnTo>
                        <a:lnTo>
                          <a:pt x="0" y="223"/>
                        </a:lnTo>
                        <a:close/>
                      </a:path>
                    </a:pathLst>
                  </a:custGeom>
                  <a:solidFill>
                    <a:srgbClr val="b8b8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5574600" y="3768840"/>
                    <a:ext cx="33372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7" h="770">
                        <a:moveTo>
                          <a:pt x="232" y="320"/>
                        </a:moveTo>
                        <a:lnTo>
                          <a:pt x="337" y="302"/>
                        </a:lnTo>
                        <a:lnTo>
                          <a:pt x="559" y="314"/>
                        </a:lnTo>
                        <a:lnTo>
                          <a:pt x="843" y="371"/>
                        </a:lnTo>
                        <a:lnTo>
                          <a:pt x="991" y="424"/>
                        </a:lnTo>
                        <a:lnTo>
                          <a:pt x="1065" y="456"/>
                        </a:lnTo>
                        <a:lnTo>
                          <a:pt x="1136" y="494"/>
                        </a:lnTo>
                        <a:lnTo>
                          <a:pt x="1185" y="494"/>
                        </a:lnTo>
                        <a:lnTo>
                          <a:pt x="1242" y="462"/>
                        </a:lnTo>
                        <a:lnTo>
                          <a:pt x="1267" y="422"/>
                        </a:lnTo>
                        <a:lnTo>
                          <a:pt x="1259" y="405"/>
                        </a:lnTo>
                        <a:lnTo>
                          <a:pt x="1229" y="394"/>
                        </a:lnTo>
                        <a:lnTo>
                          <a:pt x="1122" y="373"/>
                        </a:lnTo>
                        <a:lnTo>
                          <a:pt x="953" y="335"/>
                        </a:lnTo>
                        <a:lnTo>
                          <a:pt x="835" y="310"/>
                        </a:lnTo>
                        <a:lnTo>
                          <a:pt x="691" y="283"/>
                        </a:lnTo>
                        <a:lnTo>
                          <a:pt x="516" y="255"/>
                        </a:lnTo>
                        <a:lnTo>
                          <a:pt x="307" y="225"/>
                        </a:lnTo>
                        <a:lnTo>
                          <a:pt x="293" y="211"/>
                        </a:lnTo>
                        <a:lnTo>
                          <a:pt x="322" y="190"/>
                        </a:lnTo>
                        <a:lnTo>
                          <a:pt x="383" y="162"/>
                        </a:lnTo>
                        <a:lnTo>
                          <a:pt x="462" y="129"/>
                        </a:lnTo>
                        <a:lnTo>
                          <a:pt x="554" y="97"/>
                        </a:lnTo>
                        <a:lnTo>
                          <a:pt x="641" y="69"/>
                        </a:lnTo>
                        <a:lnTo>
                          <a:pt x="769" y="38"/>
                        </a:lnTo>
                        <a:lnTo>
                          <a:pt x="839" y="15"/>
                        </a:lnTo>
                        <a:lnTo>
                          <a:pt x="837" y="0"/>
                        </a:lnTo>
                        <a:lnTo>
                          <a:pt x="628" y="38"/>
                        </a:lnTo>
                        <a:lnTo>
                          <a:pt x="531" y="67"/>
                        </a:lnTo>
                        <a:lnTo>
                          <a:pt x="424" y="103"/>
                        </a:lnTo>
                        <a:lnTo>
                          <a:pt x="314" y="152"/>
                        </a:lnTo>
                        <a:lnTo>
                          <a:pt x="261" y="181"/>
                        </a:lnTo>
                        <a:lnTo>
                          <a:pt x="208" y="213"/>
                        </a:lnTo>
                        <a:lnTo>
                          <a:pt x="181" y="247"/>
                        </a:lnTo>
                        <a:lnTo>
                          <a:pt x="153" y="289"/>
                        </a:lnTo>
                        <a:lnTo>
                          <a:pt x="120" y="342"/>
                        </a:lnTo>
                        <a:lnTo>
                          <a:pt x="84" y="407"/>
                        </a:lnTo>
                        <a:lnTo>
                          <a:pt x="52" y="481"/>
                        </a:lnTo>
                        <a:lnTo>
                          <a:pt x="0" y="648"/>
                        </a:lnTo>
                        <a:lnTo>
                          <a:pt x="0" y="770"/>
                        </a:lnTo>
                        <a:lnTo>
                          <a:pt x="48" y="696"/>
                        </a:lnTo>
                        <a:lnTo>
                          <a:pt x="54" y="643"/>
                        </a:lnTo>
                        <a:lnTo>
                          <a:pt x="71" y="601"/>
                        </a:lnTo>
                        <a:lnTo>
                          <a:pt x="116" y="506"/>
                        </a:lnTo>
                        <a:lnTo>
                          <a:pt x="145" y="451"/>
                        </a:lnTo>
                        <a:lnTo>
                          <a:pt x="173" y="397"/>
                        </a:lnTo>
                        <a:lnTo>
                          <a:pt x="204" y="352"/>
                        </a:lnTo>
                        <a:lnTo>
                          <a:pt x="232" y="320"/>
                        </a:lnTo>
                        <a:lnTo>
                          <a:pt x="232" y="3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5639040" y="3991680"/>
                    <a:ext cx="22356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614">
                        <a:moveTo>
                          <a:pt x="741" y="0"/>
                        </a:moveTo>
                        <a:lnTo>
                          <a:pt x="848" y="32"/>
                        </a:lnTo>
                        <a:lnTo>
                          <a:pt x="760" y="65"/>
                        </a:lnTo>
                        <a:lnTo>
                          <a:pt x="663" y="105"/>
                        </a:lnTo>
                        <a:lnTo>
                          <a:pt x="606" y="131"/>
                        </a:lnTo>
                        <a:lnTo>
                          <a:pt x="544" y="163"/>
                        </a:lnTo>
                        <a:lnTo>
                          <a:pt x="477" y="200"/>
                        </a:lnTo>
                        <a:lnTo>
                          <a:pt x="407" y="243"/>
                        </a:lnTo>
                        <a:lnTo>
                          <a:pt x="336" y="291"/>
                        </a:lnTo>
                        <a:lnTo>
                          <a:pt x="300" y="316"/>
                        </a:lnTo>
                        <a:lnTo>
                          <a:pt x="266" y="344"/>
                        </a:lnTo>
                        <a:lnTo>
                          <a:pt x="230" y="373"/>
                        </a:lnTo>
                        <a:lnTo>
                          <a:pt x="196" y="403"/>
                        </a:lnTo>
                        <a:lnTo>
                          <a:pt x="161" y="433"/>
                        </a:lnTo>
                        <a:lnTo>
                          <a:pt x="127" y="468"/>
                        </a:lnTo>
                        <a:lnTo>
                          <a:pt x="61" y="538"/>
                        </a:lnTo>
                        <a:lnTo>
                          <a:pt x="0" y="614"/>
                        </a:lnTo>
                        <a:lnTo>
                          <a:pt x="0" y="584"/>
                        </a:lnTo>
                        <a:lnTo>
                          <a:pt x="34" y="519"/>
                        </a:lnTo>
                        <a:lnTo>
                          <a:pt x="61" y="477"/>
                        </a:lnTo>
                        <a:lnTo>
                          <a:pt x="95" y="431"/>
                        </a:lnTo>
                        <a:lnTo>
                          <a:pt x="137" y="382"/>
                        </a:lnTo>
                        <a:lnTo>
                          <a:pt x="186" y="331"/>
                        </a:lnTo>
                        <a:lnTo>
                          <a:pt x="215" y="304"/>
                        </a:lnTo>
                        <a:lnTo>
                          <a:pt x="243" y="277"/>
                        </a:lnTo>
                        <a:lnTo>
                          <a:pt x="275" y="249"/>
                        </a:lnTo>
                        <a:lnTo>
                          <a:pt x="310" y="222"/>
                        </a:lnTo>
                        <a:lnTo>
                          <a:pt x="346" y="196"/>
                        </a:lnTo>
                        <a:lnTo>
                          <a:pt x="386" y="169"/>
                        </a:lnTo>
                        <a:lnTo>
                          <a:pt x="426" y="143"/>
                        </a:lnTo>
                        <a:lnTo>
                          <a:pt x="469" y="118"/>
                        </a:lnTo>
                        <a:lnTo>
                          <a:pt x="515" y="93"/>
                        </a:lnTo>
                        <a:lnTo>
                          <a:pt x="564" y="68"/>
                        </a:lnTo>
                        <a:lnTo>
                          <a:pt x="614" y="44"/>
                        </a:lnTo>
                        <a:lnTo>
                          <a:pt x="667" y="23"/>
                        </a:lnTo>
                        <a:lnTo>
                          <a:pt x="741" y="0"/>
                        </a:lnTo>
                        <a:lnTo>
                          <a:pt x="74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5815080" y="3834000"/>
                    <a:ext cx="20232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1">
                        <a:moveTo>
                          <a:pt x="74" y="599"/>
                        </a:moveTo>
                        <a:lnTo>
                          <a:pt x="88" y="536"/>
                        </a:lnTo>
                        <a:lnTo>
                          <a:pt x="110" y="466"/>
                        </a:lnTo>
                        <a:lnTo>
                          <a:pt x="147" y="382"/>
                        </a:lnTo>
                        <a:lnTo>
                          <a:pt x="171" y="339"/>
                        </a:lnTo>
                        <a:lnTo>
                          <a:pt x="200" y="293"/>
                        </a:lnTo>
                        <a:lnTo>
                          <a:pt x="236" y="247"/>
                        </a:lnTo>
                        <a:lnTo>
                          <a:pt x="278" y="206"/>
                        </a:lnTo>
                        <a:lnTo>
                          <a:pt x="325" y="164"/>
                        </a:lnTo>
                        <a:lnTo>
                          <a:pt x="379" y="126"/>
                        </a:lnTo>
                        <a:lnTo>
                          <a:pt x="441" y="93"/>
                        </a:lnTo>
                        <a:lnTo>
                          <a:pt x="510" y="65"/>
                        </a:lnTo>
                        <a:lnTo>
                          <a:pt x="610" y="31"/>
                        </a:lnTo>
                        <a:lnTo>
                          <a:pt x="685" y="6"/>
                        </a:lnTo>
                        <a:lnTo>
                          <a:pt x="768" y="0"/>
                        </a:lnTo>
                        <a:lnTo>
                          <a:pt x="740" y="59"/>
                        </a:lnTo>
                        <a:lnTo>
                          <a:pt x="645" y="67"/>
                        </a:lnTo>
                        <a:lnTo>
                          <a:pt x="561" y="103"/>
                        </a:lnTo>
                        <a:lnTo>
                          <a:pt x="458" y="148"/>
                        </a:lnTo>
                        <a:lnTo>
                          <a:pt x="392" y="188"/>
                        </a:lnTo>
                        <a:lnTo>
                          <a:pt x="323" y="232"/>
                        </a:lnTo>
                        <a:lnTo>
                          <a:pt x="253" y="308"/>
                        </a:lnTo>
                        <a:lnTo>
                          <a:pt x="209" y="371"/>
                        </a:lnTo>
                        <a:lnTo>
                          <a:pt x="171" y="451"/>
                        </a:lnTo>
                        <a:lnTo>
                          <a:pt x="154" y="536"/>
                        </a:lnTo>
                        <a:lnTo>
                          <a:pt x="166" y="595"/>
                        </a:lnTo>
                        <a:lnTo>
                          <a:pt x="181" y="631"/>
                        </a:lnTo>
                        <a:lnTo>
                          <a:pt x="0" y="622"/>
                        </a:lnTo>
                        <a:lnTo>
                          <a:pt x="74" y="599"/>
                        </a:lnTo>
                        <a:lnTo>
                          <a:pt x="74" y="5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5769000" y="3768480"/>
                    <a:ext cx="3589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1" h="671">
                        <a:moveTo>
                          <a:pt x="126" y="29"/>
                        </a:moveTo>
                        <a:lnTo>
                          <a:pt x="280" y="23"/>
                        </a:lnTo>
                        <a:lnTo>
                          <a:pt x="639" y="65"/>
                        </a:lnTo>
                        <a:lnTo>
                          <a:pt x="742" y="95"/>
                        </a:lnTo>
                        <a:lnTo>
                          <a:pt x="846" y="135"/>
                        </a:lnTo>
                        <a:lnTo>
                          <a:pt x="949" y="187"/>
                        </a:lnTo>
                        <a:lnTo>
                          <a:pt x="1000" y="217"/>
                        </a:lnTo>
                        <a:lnTo>
                          <a:pt x="1050" y="251"/>
                        </a:lnTo>
                        <a:lnTo>
                          <a:pt x="1097" y="287"/>
                        </a:lnTo>
                        <a:lnTo>
                          <a:pt x="1143" y="329"/>
                        </a:lnTo>
                        <a:lnTo>
                          <a:pt x="1187" y="375"/>
                        </a:lnTo>
                        <a:lnTo>
                          <a:pt x="1226" y="426"/>
                        </a:lnTo>
                        <a:lnTo>
                          <a:pt x="1264" y="479"/>
                        </a:lnTo>
                        <a:lnTo>
                          <a:pt x="1301" y="538"/>
                        </a:lnTo>
                        <a:lnTo>
                          <a:pt x="1333" y="603"/>
                        </a:lnTo>
                        <a:lnTo>
                          <a:pt x="1361" y="671"/>
                        </a:lnTo>
                        <a:lnTo>
                          <a:pt x="1356" y="591"/>
                        </a:lnTo>
                        <a:lnTo>
                          <a:pt x="1337" y="508"/>
                        </a:lnTo>
                        <a:lnTo>
                          <a:pt x="1320" y="460"/>
                        </a:lnTo>
                        <a:lnTo>
                          <a:pt x="1295" y="409"/>
                        </a:lnTo>
                        <a:lnTo>
                          <a:pt x="1261" y="356"/>
                        </a:lnTo>
                        <a:lnTo>
                          <a:pt x="1219" y="303"/>
                        </a:lnTo>
                        <a:lnTo>
                          <a:pt x="1194" y="276"/>
                        </a:lnTo>
                        <a:lnTo>
                          <a:pt x="1168" y="251"/>
                        </a:lnTo>
                        <a:lnTo>
                          <a:pt x="1137" y="225"/>
                        </a:lnTo>
                        <a:lnTo>
                          <a:pt x="1103" y="200"/>
                        </a:lnTo>
                        <a:lnTo>
                          <a:pt x="1069" y="177"/>
                        </a:lnTo>
                        <a:lnTo>
                          <a:pt x="1029" y="154"/>
                        </a:lnTo>
                        <a:lnTo>
                          <a:pt x="985" y="133"/>
                        </a:lnTo>
                        <a:lnTo>
                          <a:pt x="939" y="112"/>
                        </a:lnTo>
                        <a:lnTo>
                          <a:pt x="835" y="78"/>
                        </a:lnTo>
                        <a:lnTo>
                          <a:pt x="715" y="50"/>
                        </a:lnTo>
                        <a:lnTo>
                          <a:pt x="652" y="40"/>
                        </a:lnTo>
                        <a:lnTo>
                          <a:pt x="498" y="19"/>
                        </a:lnTo>
                        <a:lnTo>
                          <a:pt x="299" y="0"/>
                        </a:lnTo>
                        <a:lnTo>
                          <a:pt x="99" y="2"/>
                        </a:lnTo>
                        <a:lnTo>
                          <a:pt x="0" y="16"/>
                        </a:lnTo>
                        <a:lnTo>
                          <a:pt x="21" y="23"/>
                        </a:lnTo>
                        <a:lnTo>
                          <a:pt x="126" y="29"/>
                        </a:lnTo>
                        <a:lnTo>
                          <a:pt x="126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6115320" y="3914640"/>
                    <a:ext cx="8172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595">
                        <a:moveTo>
                          <a:pt x="0" y="0"/>
                        </a:moveTo>
                        <a:lnTo>
                          <a:pt x="25" y="59"/>
                        </a:lnTo>
                        <a:lnTo>
                          <a:pt x="49" y="122"/>
                        </a:lnTo>
                        <a:lnTo>
                          <a:pt x="78" y="198"/>
                        </a:lnTo>
                        <a:lnTo>
                          <a:pt x="108" y="278"/>
                        </a:lnTo>
                        <a:lnTo>
                          <a:pt x="133" y="354"/>
                        </a:lnTo>
                        <a:lnTo>
                          <a:pt x="162" y="472"/>
                        </a:lnTo>
                        <a:lnTo>
                          <a:pt x="175" y="532"/>
                        </a:lnTo>
                        <a:lnTo>
                          <a:pt x="202" y="570"/>
                        </a:lnTo>
                        <a:lnTo>
                          <a:pt x="240" y="595"/>
                        </a:lnTo>
                        <a:lnTo>
                          <a:pt x="264" y="590"/>
                        </a:lnTo>
                        <a:lnTo>
                          <a:pt x="310" y="559"/>
                        </a:lnTo>
                        <a:lnTo>
                          <a:pt x="255" y="512"/>
                        </a:lnTo>
                        <a:lnTo>
                          <a:pt x="127" y="196"/>
                        </a:lnTo>
                        <a:lnTo>
                          <a:pt x="99" y="131"/>
                        </a:lnTo>
                        <a:lnTo>
                          <a:pt x="72" y="86"/>
                        </a:lnTo>
                        <a:lnTo>
                          <a:pt x="32" y="2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793480" y="3888720"/>
                    <a:ext cx="29628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6" h="523">
                        <a:moveTo>
                          <a:pt x="263" y="424"/>
                        </a:moveTo>
                        <a:lnTo>
                          <a:pt x="287" y="436"/>
                        </a:lnTo>
                        <a:lnTo>
                          <a:pt x="384" y="430"/>
                        </a:lnTo>
                        <a:lnTo>
                          <a:pt x="584" y="354"/>
                        </a:lnTo>
                        <a:lnTo>
                          <a:pt x="653" y="316"/>
                        </a:lnTo>
                        <a:lnTo>
                          <a:pt x="730" y="270"/>
                        </a:lnTo>
                        <a:lnTo>
                          <a:pt x="774" y="242"/>
                        </a:lnTo>
                        <a:lnTo>
                          <a:pt x="820" y="213"/>
                        </a:lnTo>
                        <a:lnTo>
                          <a:pt x="865" y="181"/>
                        </a:lnTo>
                        <a:lnTo>
                          <a:pt x="917" y="147"/>
                        </a:lnTo>
                        <a:lnTo>
                          <a:pt x="961" y="113"/>
                        </a:lnTo>
                        <a:lnTo>
                          <a:pt x="999" y="82"/>
                        </a:lnTo>
                        <a:lnTo>
                          <a:pt x="1046" y="25"/>
                        </a:lnTo>
                        <a:lnTo>
                          <a:pt x="1063" y="6"/>
                        </a:lnTo>
                        <a:lnTo>
                          <a:pt x="1077" y="0"/>
                        </a:lnTo>
                        <a:lnTo>
                          <a:pt x="1103" y="10"/>
                        </a:lnTo>
                        <a:lnTo>
                          <a:pt x="1126" y="48"/>
                        </a:lnTo>
                        <a:lnTo>
                          <a:pt x="1078" y="97"/>
                        </a:lnTo>
                        <a:lnTo>
                          <a:pt x="1052" y="122"/>
                        </a:lnTo>
                        <a:lnTo>
                          <a:pt x="1019" y="151"/>
                        </a:lnTo>
                        <a:lnTo>
                          <a:pt x="983" y="181"/>
                        </a:lnTo>
                        <a:lnTo>
                          <a:pt x="940" y="215"/>
                        </a:lnTo>
                        <a:lnTo>
                          <a:pt x="892" y="251"/>
                        </a:lnTo>
                        <a:lnTo>
                          <a:pt x="839" y="287"/>
                        </a:lnTo>
                        <a:lnTo>
                          <a:pt x="780" y="324"/>
                        </a:lnTo>
                        <a:lnTo>
                          <a:pt x="715" y="362"/>
                        </a:lnTo>
                        <a:lnTo>
                          <a:pt x="647" y="398"/>
                        </a:lnTo>
                        <a:lnTo>
                          <a:pt x="573" y="432"/>
                        </a:lnTo>
                        <a:lnTo>
                          <a:pt x="495" y="464"/>
                        </a:lnTo>
                        <a:lnTo>
                          <a:pt x="411" y="495"/>
                        </a:lnTo>
                        <a:lnTo>
                          <a:pt x="339" y="497"/>
                        </a:lnTo>
                        <a:lnTo>
                          <a:pt x="162" y="493"/>
                        </a:lnTo>
                        <a:lnTo>
                          <a:pt x="14" y="521"/>
                        </a:lnTo>
                        <a:lnTo>
                          <a:pt x="0" y="523"/>
                        </a:lnTo>
                        <a:lnTo>
                          <a:pt x="8" y="516"/>
                        </a:lnTo>
                        <a:lnTo>
                          <a:pt x="69" y="483"/>
                        </a:lnTo>
                        <a:lnTo>
                          <a:pt x="145" y="447"/>
                        </a:lnTo>
                        <a:lnTo>
                          <a:pt x="181" y="430"/>
                        </a:lnTo>
                        <a:lnTo>
                          <a:pt x="263" y="424"/>
                        </a:lnTo>
                        <a:lnTo>
                          <a:pt x="263" y="4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947560" y="3992400"/>
                    <a:ext cx="19800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1" h="848">
                        <a:moveTo>
                          <a:pt x="631" y="0"/>
                        </a:moveTo>
                        <a:lnTo>
                          <a:pt x="587" y="23"/>
                        </a:lnTo>
                        <a:lnTo>
                          <a:pt x="506" y="108"/>
                        </a:lnTo>
                        <a:lnTo>
                          <a:pt x="456" y="188"/>
                        </a:lnTo>
                        <a:lnTo>
                          <a:pt x="411" y="295"/>
                        </a:lnTo>
                        <a:lnTo>
                          <a:pt x="338" y="614"/>
                        </a:lnTo>
                        <a:lnTo>
                          <a:pt x="48" y="768"/>
                        </a:lnTo>
                        <a:lnTo>
                          <a:pt x="0" y="848"/>
                        </a:lnTo>
                        <a:lnTo>
                          <a:pt x="17" y="836"/>
                        </a:lnTo>
                        <a:lnTo>
                          <a:pt x="63" y="808"/>
                        </a:lnTo>
                        <a:lnTo>
                          <a:pt x="127" y="766"/>
                        </a:lnTo>
                        <a:lnTo>
                          <a:pt x="164" y="745"/>
                        </a:lnTo>
                        <a:lnTo>
                          <a:pt x="202" y="722"/>
                        </a:lnTo>
                        <a:lnTo>
                          <a:pt x="278" y="682"/>
                        </a:lnTo>
                        <a:lnTo>
                          <a:pt x="346" y="654"/>
                        </a:lnTo>
                        <a:lnTo>
                          <a:pt x="395" y="642"/>
                        </a:lnTo>
                        <a:lnTo>
                          <a:pt x="418" y="656"/>
                        </a:lnTo>
                        <a:lnTo>
                          <a:pt x="460" y="428"/>
                        </a:lnTo>
                        <a:lnTo>
                          <a:pt x="483" y="321"/>
                        </a:lnTo>
                        <a:lnTo>
                          <a:pt x="517" y="217"/>
                        </a:lnTo>
                        <a:lnTo>
                          <a:pt x="538" y="169"/>
                        </a:lnTo>
                        <a:lnTo>
                          <a:pt x="561" y="127"/>
                        </a:lnTo>
                        <a:lnTo>
                          <a:pt x="589" y="91"/>
                        </a:lnTo>
                        <a:lnTo>
                          <a:pt x="620" y="63"/>
                        </a:lnTo>
                        <a:lnTo>
                          <a:pt x="677" y="59"/>
                        </a:lnTo>
                        <a:lnTo>
                          <a:pt x="719" y="97"/>
                        </a:lnTo>
                        <a:lnTo>
                          <a:pt x="749" y="199"/>
                        </a:lnTo>
                        <a:lnTo>
                          <a:pt x="751" y="177"/>
                        </a:lnTo>
                        <a:lnTo>
                          <a:pt x="749" y="112"/>
                        </a:lnTo>
                        <a:lnTo>
                          <a:pt x="738" y="42"/>
                        </a:lnTo>
                        <a:lnTo>
                          <a:pt x="726" y="17"/>
                        </a:lnTo>
                        <a:lnTo>
                          <a:pt x="709" y="4"/>
                        </a:lnTo>
                        <a:lnTo>
                          <a:pt x="631" y="0"/>
                        </a:lnTo>
                        <a:lnTo>
                          <a:pt x="6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5994000" y="3834000"/>
                    <a:ext cx="9576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293">
                        <a:moveTo>
                          <a:pt x="34" y="63"/>
                        </a:moveTo>
                        <a:lnTo>
                          <a:pt x="118" y="72"/>
                        </a:lnTo>
                        <a:lnTo>
                          <a:pt x="209" y="116"/>
                        </a:lnTo>
                        <a:lnTo>
                          <a:pt x="276" y="190"/>
                        </a:lnTo>
                        <a:lnTo>
                          <a:pt x="291" y="293"/>
                        </a:lnTo>
                        <a:lnTo>
                          <a:pt x="365" y="255"/>
                        </a:lnTo>
                        <a:lnTo>
                          <a:pt x="344" y="217"/>
                        </a:lnTo>
                        <a:lnTo>
                          <a:pt x="317" y="177"/>
                        </a:lnTo>
                        <a:lnTo>
                          <a:pt x="283" y="131"/>
                        </a:lnTo>
                        <a:lnTo>
                          <a:pt x="243" y="86"/>
                        </a:lnTo>
                        <a:lnTo>
                          <a:pt x="220" y="65"/>
                        </a:lnTo>
                        <a:lnTo>
                          <a:pt x="196" y="44"/>
                        </a:lnTo>
                        <a:lnTo>
                          <a:pt x="144" y="15"/>
                        </a:lnTo>
                        <a:lnTo>
                          <a:pt x="89" y="0"/>
                        </a:lnTo>
                        <a:lnTo>
                          <a:pt x="68" y="12"/>
                        </a:lnTo>
                        <a:lnTo>
                          <a:pt x="25" y="36"/>
                        </a:lnTo>
                        <a:lnTo>
                          <a:pt x="0" y="57"/>
                        </a:lnTo>
                        <a:lnTo>
                          <a:pt x="34" y="63"/>
                        </a:lnTo>
                        <a:lnTo>
                          <a:pt x="34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5423040" y="3927240"/>
                    <a:ext cx="16380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393">
                        <a:moveTo>
                          <a:pt x="595" y="0"/>
                        </a:moveTo>
                        <a:lnTo>
                          <a:pt x="552" y="21"/>
                        </a:lnTo>
                        <a:lnTo>
                          <a:pt x="502" y="43"/>
                        </a:lnTo>
                        <a:lnTo>
                          <a:pt x="445" y="72"/>
                        </a:lnTo>
                        <a:lnTo>
                          <a:pt x="382" y="104"/>
                        </a:lnTo>
                        <a:lnTo>
                          <a:pt x="322" y="137"/>
                        </a:lnTo>
                        <a:lnTo>
                          <a:pt x="265" y="167"/>
                        </a:lnTo>
                        <a:lnTo>
                          <a:pt x="221" y="196"/>
                        </a:lnTo>
                        <a:lnTo>
                          <a:pt x="183" y="222"/>
                        </a:lnTo>
                        <a:lnTo>
                          <a:pt x="145" y="254"/>
                        </a:lnTo>
                        <a:lnTo>
                          <a:pt x="109" y="287"/>
                        </a:lnTo>
                        <a:lnTo>
                          <a:pt x="74" y="319"/>
                        </a:lnTo>
                        <a:lnTo>
                          <a:pt x="44" y="348"/>
                        </a:lnTo>
                        <a:lnTo>
                          <a:pt x="21" y="370"/>
                        </a:lnTo>
                        <a:lnTo>
                          <a:pt x="0" y="393"/>
                        </a:lnTo>
                        <a:lnTo>
                          <a:pt x="152" y="287"/>
                        </a:lnTo>
                        <a:lnTo>
                          <a:pt x="202" y="262"/>
                        </a:lnTo>
                        <a:lnTo>
                          <a:pt x="251" y="237"/>
                        </a:lnTo>
                        <a:lnTo>
                          <a:pt x="310" y="207"/>
                        </a:lnTo>
                        <a:lnTo>
                          <a:pt x="392" y="169"/>
                        </a:lnTo>
                        <a:lnTo>
                          <a:pt x="496" y="129"/>
                        </a:lnTo>
                        <a:lnTo>
                          <a:pt x="584" y="99"/>
                        </a:lnTo>
                        <a:lnTo>
                          <a:pt x="622" y="85"/>
                        </a:lnTo>
                        <a:lnTo>
                          <a:pt x="595" y="0"/>
                        </a:lnTo>
                        <a:lnTo>
                          <a:pt x="5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5824080" y="4012200"/>
                    <a:ext cx="14400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861">
                        <a:moveTo>
                          <a:pt x="322" y="108"/>
                        </a:moveTo>
                        <a:lnTo>
                          <a:pt x="383" y="160"/>
                        </a:lnTo>
                        <a:lnTo>
                          <a:pt x="428" y="215"/>
                        </a:lnTo>
                        <a:lnTo>
                          <a:pt x="480" y="336"/>
                        </a:lnTo>
                        <a:lnTo>
                          <a:pt x="495" y="468"/>
                        </a:lnTo>
                        <a:lnTo>
                          <a:pt x="497" y="612"/>
                        </a:lnTo>
                        <a:lnTo>
                          <a:pt x="472" y="726"/>
                        </a:lnTo>
                        <a:lnTo>
                          <a:pt x="451" y="810"/>
                        </a:lnTo>
                        <a:lnTo>
                          <a:pt x="434" y="861"/>
                        </a:lnTo>
                        <a:lnTo>
                          <a:pt x="443" y="853"/>
                        </a:lnTo>
                        <a:lnTo>
                          <a:pt x="483" y="804"/>
                        </a:lnTo>
                        <a:lnTo>
                          <a:pt x="527" y="751"/>
                        </a:lnTo>
                        <a:lnTo>
                          <a:pt x="548" y="724"/>
                        </a:lnTo>
                        <a:lnTo>
                          <a:pt x="527" y="591"/>
                        </a:lnTo>
                        <a:lnTo>
                          <a:pt x="537" y="393"/>
                        </a:lnTo>
                        <a:lnTo>
                          <a:pt x="529" y="306"/>
                        </a:lnTo>
                        <a:lnTo>
                          <a:pt x="510" y="239"/>
                        </a:lnTo>
                        <a:lnTo>
                          <a:pt x="476" y="173"/>
                        </a:lnTo>
                        <a:lnTo>
                          <a:pt x="451" y="133"/>
                        </a:lnTo>
                        <a:lnTo>
                          <a:pt x="421" y="95"/>
                        </a:lnTo>
                        <a:lnTo>
                          <a:pt x="384" y="59"/>
                        </a:lnTo>
                        <a:lnTo>
                          <a:pt x="341" y="28"/>
                        </a:lnTo>
                        <a:lnTo>
                          <a:pt x="289" y="9"/>
                        </a:lnTo>
                        <a:lnTo>
                          <a:pt x="230" y="2"/>
                        </a:lnTo>
                        <a:lnTo>
                          <a:pt x="0" y="0"/>
                        </a:lnTo>
                        <a:lnTo>
                          <a:pt x="27" y="8"/>
                        </a:lnTo>
                        <a:lnTo>
                          <a:pt x="177" y="34"/>
                        </a:lnTo>
                        <a:lnTo>
                          <a:pt x="280" y="80"/>
                        </a:lnTo>
                        <a:lnTo>
                          <a:pt x="322" y="108"/>
                        </a:lnTo>
                        <a:lnTo>
                          <a:pt x="322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5388480" y="4102920"/>
                    <a:ext cx="9216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517">
                        <a:moveTo>
                          <a:pt x="6" y="0"/>
                        </a:moveTo>
                        <a:lnTo>
                          <a:pt x="0" y="160"/>
                        </a:lnTo>
                        <a:lnTo>
                          <a:pt x="8" y="241"/>
                        </a:lnTo>
                        <a:lnTo>
                          <a:pt x="31" y="297"/>
                        </a:lnTo>
                        <a:lnTo>
                          <a:pt x="46" y="314"/>
                        </a:lnTo>
                        <a:lnTo>
                          <a:pt x="78" y="338"/>
                        </a:lnTo>
                        <a:lnTo>
                          <a:pt x="126" y="373"/>
                        </a:lnTo>
                        <a:lnTo>
                          <a:pt x="179" y="407"/>
                        </a:lnTo>
                        <a:lnTo>
                          <a:pt x="236" y="443"/>
                        </a:lnTo>
                        <a:lnTo>
                          <a:pt x="287" y="475"/>
                        </a:lnTo>
                        <a:lnTo>
                          <a:pt x="352" y="517"/>
                        </a:lnTo>
                        <a:lnTo>
                          <a:pt x="348" y="513"/>
                        </a:lnTo>
                        <a:lnTo>
                          <a:pt x="302" y="477"/>
                        </a:lnTo>
                        <a:lnTo>
                          <a:pt x="270" y="451"/>
                        </a:lnTo>
                        <a:lnTo>
                          <a:pt x="238" y="422"/>
                        </a:lnTo>
                        <a:lnTo>
                          <a:pt x="206" y="392"/>
                        </a:lnTo>
                        <a:lnTo>
                          <a:pt x="179" y="365"/>
                        </a:lnTo>
                        <a:lnTo>
                          <a:pt x="97" y="306"/>
                        </a:lnTo>
                        <a:lnTo>
                          <a:pt x="44" y="241"/>
                        </a:lnTo>
                        <a:lnTo>
                          <a:pt x="25" y="87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5775480" y="4096440"/>
                    <a:ext cx="17748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73" h="820">
                        <a:moveTo>
                          <a:pt x="101" y="517"/>
                        </a:moveTo>
                        <a:lnTo>
                          <a:pt x="127" y="436"/>
                        </a:lnTo>
                        <a:lnTo>
                          <a:pt x="160" y="354"/>
                        </a:lnTo>
                        <a:lnTo>
                          <a:pt x="201" y="261"/>
                        </a:lnTo>
                        <a:lnTo>
                          <a:pt x="228" y="211"/>
                        </a:lnTo>
                        <a:lnTo>
                          <a:pt x="255" y="166"/>
                        </a:lnTo>
                        <a:lnTo>
                          <a:pt x="285" y="122"/>
                        </a:lnTo>
                        <a:lnTo>
                          <a:pt x="315" y="82"/>
                        </a:lnTo>
                        <a:lnTo>
                          <a:pt x="350" y="50"/>
                        </a:lnTo>
                        <a:lnTo>
                          <a:pt x="386" y="23"/>
                        </a:lnTo>
                        <a:lnTo>
                          <a:pt x="422" y="6"/>
                        </a:lnTo>
                        <a:lnTo>
                          <a:pt x="462" y="0"/>
                        </a:lnTo>
                        <a:lnTo>
                          <a:pt x="576" y="23"/>
                        </a:lnTo>
                        <a:lnTo>
                          <a:pt x="654" y="126"/>
                        </a:lnTo>
                        <a:lnTo>
                          <a:pt x="671" y="221"/>
                        </a:lnTo>
                        <a:lnTo>
                          <a:pt x="673" y="274"/>
                        </a:lnTo>
                        <a:lnTo>
                          <a:pt x="671" y="325"/>
                        </a:lnTo>
                        <a:lnTo>
                          <a:pt x="658" y="447"/>
                        </a:lnTo>
                        <a:lnTo>
                          <a:pt x="622" y="474"/>
                        </a:lnTo>
                        <a:lnTo>
                          <a:pt x="633" y="259"/>
                        </a:lnTo>
                        <a:lnTo>
                          <a:pt x="620" y="181"/>
                        </a:lnTo>
                        <a:lnTo>
                          <a:pt x="587" y="116"/>
                        </a:lnTo>
                        <a:lnTo>
                          <a:pt x="563" y="90"/>
                        </a:lnTo>
                        <a:lnTo>
                          <a:pt x="532" y="72"/>
                        </a:lnTo>
                        <a:lnTo>
                          <a:pt x="450" y="61"/>
                        </a:lnTo>
                        <a:lnTo>
                          <a:pt x="350" y="131"/>
                        </a:lnTo>
                        <a:lnTo>
                          <a:pt x="302" y="185"/>
                        </a:lnTo>
                        <a:lnTo>
                          <a:pt x="253" y="259"/>
                        </a:lnTo>
                        <a:lnTo>
                          <a:pt x="226" y="302"/>
                        </a:lnTo>
                        <a:lnTo>
                          <a:pt x="199" y="354"/>
                        </a:lnTo>
                        <a:lnTo>
                          <a:pt x="150" y="477"/>
                        </a:lnTo>
                        <a:lnTo>
                          <a:pt x="144" y="766"/>
                        </a:lnTo>
                        <a:lnTo>
                          <a:pt x="133" y="789"/>
                        </a:lnTo>
                        <a:lnTo>
                          <a:pt x="84" y="806"/>
                        </a:lnTo>
                        <a:lnTo>
                          <a:pt x="0" y="820"/>
                        </a:lnTo>
                        <a:lnTo>
                          <a:pt x="101" y="517"/>
                        </a:lnTo>
                        <a:lnTo>
                          <a:pt x="101" y="5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5666760" y="4090320"/>
                    <a:ext cx="1249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4" h="499">
                        <a:moveTo>
                          <a:pt x="74" y="85"/>
                        </a:moveTo>
                        <a:lnTo>
                          <a:pt x="46" y="123"/>
                        </a:lnTo>
                        <a:lnTo>
                          <a:pt x="2" y="222"/>
                        </a:lnTo>
                        <a:lnTo>
                          <a:pt x="0" y="345"/>
                        </a:lnTo>
                        <a:lnTo>
                          <a:pt x="14" y="378"/>
                        </a:lnTo>
                        <a:lnTo>
                          <a:pt x="35" y="408"/>
                        </a:lnTo>
                        <a:lnTo>
                          <a:pt x="63" y="439"/>
                        </a:lnTo>
                        <a:lnTo>
                          <a:pt x="101" y="465"/>
                        </a:lnTo>
                        <a:lnTo>
                          <a:pt x="143" y="488"/>
                        </a:lnTo>
                        <a:lnTo>
                          <a:pt x="181" y="499"/>
                        </a:lnTo>
                        <a:lnTo>
                          <a:pt x="253" y="498"/>
                        </a:lnTo>
                        <a:lnTo>
                          <a:pt x="316" y="471"/>
                        </a:lnTo>
                        <a:lnTo>
                          <a:pt x="367" y="429"/>
                        </a:lnTo>
                        <a:lnTo>
                          <a:pt x="407" y="380"/>
                        </a:lnTo>
                        <a:lnTo>
                          <a:pt x="438" y="334"/>
                        </a:lnTo>
                        <a:lnTo>
                          <a:pt x="462" y="285"/>
                        </a:lnTo>
                        <a:lnTo>
                          <a:pt x="474" y="150"/>
                        </a:lnTo>
                        <a:lnTo>
                          <a:pt x="464" y="98"/>
                        </a:lnTo>
                        <a:lnTo>
                          <a:pt x="443" y="53"/>
                        </a:lnTo>
                        <a:lnTo>
                          <a:pt x="426" y="34"/>
                        </a:lnTo>
                        <a:lnTo>
                          <a:pt x="407" y="17"/>
                        </a:lnTo>
                        <a:lnTo>
                          <a:pt x="350" y="0"/>
                        </a:lnTo>
                        <a:lnTo>
                          <a:pt x="373" y="28"/>
                        </a:lnTo>
                        <a:lnTo>
                          <a:pt x="409" y="106"/>
                        </a:lnTo>
                        <a:lnTo>
                          <a:pt x="409" y="220"/>
                        </a:lnTo>
                        <a:lnTo>
                          <a:pt x="377" y="288"/>
                        </a:lnTo>
                        <a:lnTo>
                          <a:pt x="352" y="323"/>
                        </a:lnTo>
                        <a:lnTo>
                          <a:pt x="318" y="359"/>
                        </a:lnTo>
                        <a:lnTo>
                          <a:pt x="295" y="376"/>
                        </a:lnTo>
                        <a:lnTo>
                          <a:pt x="236" y="403"/>
                        </a:lnTo>
                        <a:lnTo>
                          <a:pt x="160" y="403"/>
                        </a:lnTo>
                        <a:lnTo>
                          <a:pt x="80" y="338"/>
                        </a:lnTo>
                        <a:lnTo>
                          <a:pt x="86" y="199"/>
                        </a:lnTo>
                        <a:lnTo>
                          <a:pt x="107" y="142"/>
                        </a:lnTo>
                        <a:lnTo>
                          <a:pt x="145" y="89"/>
                        </a:lnTo>
                        <a:lnTo>
                          <a:pt x="171" y="62"/>
                        </a:lnTo>
                        <a:lnTo>
                          <a:pt x="204" y="41"/>
                        </a:lnTo>
                        <a:lnTo>
                          <a:pt x="242" y="20"/>
                        </a:lnTo>
                        <a:lnTo>
                          <a:pt x="285" y="3"/>
                        </a:lnTo>
                        <a:lnTo>
                          <a:pt x="249" y="0"/>
                        </a:lnTo>
                        <a:lnTo>
                          <a:pt x="107" y="57"/>
                        </a:lnTo>
                        <a:lnTo>
                          <a:pt x="74" y="85"/>
                        </a:lnTo>
                        <a:lnTo>
                          <a:pt x="74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5947560" y="3852000"/>
                    <a:ext cx="493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479">
                        <a:moveTo>
                          <a:pt x="0" y="28"/>
                        </a:moveTo>
                        <a:lnTo>
                          <a:pt x="106" y="435"/>
                        </a:lnTo>
                        <a:lnTo>
                          <a:pt x="122" y="479"/>
                        </a:lnTo>
                        <a:lnTo>
                          <a:pt x="186" y="414"/>
                        </a:lnTo>
                        <a:lnTo>
                          <a:pt x="38" y="0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5987160" y="3962880"/>
                    <a:ext cx="4788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800">
                        <a:moveTo>
                          <a:pt x="0" y="42"/>
                        </a:moveTo>
                        <a:lnTo>
                          <a:pt x="29" y="85"/>
                        </a:lnTo>
                        <a:lnTo>
                          <a:pt x="84" y="220"/>
                        </a:lnTo>
                        <a:lnTo>
                          <a:pt x="114" y="456"/>
                        </a:lnTo>
                        <a:lnTo>
                          <a:pt x="107" y="614"/>
                        </a:lnTo>
                        <a:lnTo>
                          <a:pt x="74" y="800"/>
                        </a:lnTo>
                        <a:lnTo>
                          <a:pt x="128" y="796"/>
                        </a:lnTo>
                        <a:lnTo>
                          <a:pt x="150" y="692"/>
                        </a:lnTo>
                        <a:lnTo>
                          <a:pt x="183" y="452"/>
                        </a:lnTo>
                        <a:lnTo>
                          <a:pt x="173" y="184"/>
                        </a:lnTo>
                        <a:lnTo>
                          <a:pt x="158" y="127"/>
                        </a:lnTo>
                        <a:lnTo>
                          <a:pt x="135" y="76"/>
                        </a:lnTo>
                        <a:lnTo>
                          <a:pt x="107" y="32"/>
                        </a:lnTo>
                        <a:lnTo>
                          <a:pt x="69" y="0"/>
                        </a:lnTo>
                        <a:lnTo>
                          <a:pt x="0" y="42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389920" y="4031280"/>
                    <a:ext cx="106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0">
                        <a:moveTo>
                          <a:pt x="0" y="295"/>
                        </a:moveTo>
                        <a:lnTo>
                          <a:pt x="17" y="177"/>
                        </a:lnTo>
                        <a:lnTo>
                          <a:pt x="32" y="129"/>
                        </a:lnTo>
                        <a:lnTo>
                          <a:pt x="57" y="86"/>
                        </a:lnTo>
                        <a:lnTo>
                          <a:pt x="89" y="48"/>
                        </a:lnTo>
                        <a:lnTo>
                          <a:pt x="133" y="23"/>
                        </a:lnTo>
                        <a:lnTo>
                          <a:pt x="245" y="0"/>
                        </a:lnTo>
                        <a:lnTo>
                          <a:pt x="352" y="21"/>
                        </a:lnTo>
                        <a:lnTo>
                          <a:pt x="388" y="55"/>
                        </a:lnTo>
                        <a:lnTo>
                          <a:pt x="403" y="112"/>
                        </a:lnTo>
                        <a:lnTo>
                          <a:pt x="395" y="190"/>
                        </a:lnTo>
                        <a:lnTo>
                          <a:pt x="380" y="242"/>
                        </a:lnTo>
                        <a:lnTo>
                          <a:pt x="355" y="299"/>
                        </a:lnTo>
                        <a:lnTo>
                          <a:pt x="336" y="327"/>
                        </a:lnTo>
                        <a:lnTo>
                          <a:pt x="300" y="361"/>
                        </a:lnTo>
                        <a:lnTo>
                          <a:pt x="256" y="394"/>
                        </a:lnTo>
                        <a:lnTo>
                          <a:pt x="209" y="417"/>
                        </a:lnTo>
                        <a:lnTo>
                          <a:pt x="159" y="420"/>
                        </a:lnTo>
                        <a:lnTo>
                          <a:pt x="116" y="399"/>
                        </a:lnTo>
                        <a:lnTo>
                          <a:pt x="83" y="346"/>
                        </a:lnTo>
                        <a:lnTo>
                          <a:pt x="64" y="251"/>
                        </a:lnTo>
                        <a:lnTo>
                          <a:pt x="74" y="207"/>
                        </a:lnTo>
                        <a:lnTo>
                          <a:pt x="93" y="249"/>
                        </a:lnTo>
                        <a:lnTo>
                          <a:pt x="114" y="283"/>
                        </a:lnTo>
                        <a:lnTo>
                          <a:pt x="140" y="320"/>
                        </a:lnTo>
                        <a:lnTo>
                          <a:pt x="173" y="342"/>
                        </a:lnTo>
                        <a:lnTo>
                          <a:pt x="209" y="348"/>
                        </a:lnTo>
                        <a:lnTo>
                          <a:pt x="287" y="266"/>
                        </a:lnTo>
                        <a:lnTo>
                          <a:pt x="323" y="143"/>
                        </a:lnTo>
                        <a:lnTo>
                          <a:pt x="313" y="107"/>
                        </a:lnTo>
                        <a:lnTo>
                          <a:pt x="296" y="84"/>
                        </a:lnTo>
                        <a:lnTo>
                          <a:pt x="249" y="67"/>
                        </a:lnTo>
                        <a:lnTo>
                          <a:pt x="222" y="65"/>
                        </a:lnTo>
                        <a:lnTo>
                          <a:pt x="102" y="107"/>
                        </a:lnTo>
                        <a:lnTo>
                          <a:pt x="38" y="202"/>
                        </a:lnTo>
                        <a:lnTo>
                          <a:pt x="0" y="295"/>
                        </a:lnTo>
                        <a:lnTo>
                          <a:pt x="0" y="2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539680" y="4231440"/>
                    <a:ext cx="2325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3" h="211">
                        <a:moveTo>
                          <a:pt x="0" y="127"/>
                        </a:moveTo>
                        <a:lnTo>
                          <a:pt x="76" y="112"/>
                        </a:lnTo>
                        <a:lnTo>
                          <a:pt x="303" y="89"/>
                        </a:lnTo>
                        <a:lnTo>
                          <a:pt x="797" y="11"/>
                        </a:lnTo>
                        <a:lnTo>
                          <a:pt x="883" y="0"/>
                        </a:lnTo>
                        <a:lnTo>
                          <a:pt x="879" y="20"/>
                        </a:lnTo>
                        <a:lnTo>
                          <a:pt x="856" y="51"/>
                        </a:lnTo>
                        <a:lnTo>
                          <a:pt x="818" y="85"/>
                        </a:lnTo>
                        <a:lnTo>
                          <a:pt x="772" y="121"/>
                        </a:lnTo>
                        <a:lnTo>
                          <a:pt x="727" y="150"/>
                        </a:lnTo>
                        <a:lnTo>
                          <a:pt x="687" y="169"/>
                        </a:lnTo>
                        <a:lnTo>
                          <a:pt x="590" y="195"/>
                        </a:lnTo>
                        <a:lnTo>
                          <a:pt x="441" y="211"/>
                        </a:lnTo>
                        <a:lnTo>
                          <a:pt x="244" y="193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386320" y="4190760"/>
                    <a:ext cx="415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8" h="500">
                        <a:moveTo>
                          <a:pt x="5" y="0"/>
                        </a:moveTo>
                        <a:lnTo>
                          <a:pt x="0" y="83"/>
                        </a:lnTo>
                        <a:lnTo>
                          <a:pt x="38" y="123"/>
                        </a:lnTo>
                        <a:lnTo>
                          <a:pt x="74" y="154"/>
                        </a:lnTo>
                        <a:lnTo>
                          <a:pt x="121" y="190"/>
                        </a:lnTo>
                        <a:lnTo>
                          <a:pt x="180" y="232"/>
                        </a:lnTo>
                        <a:lnTo>
                          <a:pt x="213" y="252"/>
                        </a:lnTo>
                        <a:lnTo>
                          <a:pt x="249" y="273"/>
                        </a:lnTo>
                        <a:lnTo>
                          <a:pt x="287" y="296"/>
                        </a:lnTo>
                        <a:lnTo>
                          <a:pt x="327" y="317"/>
                        </a:lnTo>
                        <a:lnTo>
                          <a:pt x="370" y="340"/>
                        </a:lnTo>
                        <a:lnTo>
                          <a:pt x="416" y="361"/>
                        </a:lnTo>
                        <a:lnTo>
                          <a:pt x="517" y="401"/>
                        </a:lnTo>
                        <a:lnTo>
                          <a:pt x="625" y="435"/>
                        </a:lnTo>
                        <a:lnTo>
                          <a:pt x="745" y="465"/>
                        </a:lnTo>
                        <a:lnTo>
                          <a:pt x="872" y="486"/>
                        </a:lnTo>
                        <a:lnTo>
                          <a:pt x="1157" y="500"/>
                        </a:lnTo>
                        <a:lnTo>
                          <a:pt x="1477" y="462"/>
                        </a:lnTo>
                        <a:lnTo>
                          <a:pt x="1578" y="391"/>
                        </a:lnTo>
                        <a:lnTo>
                          <a:pt x="1469" y="404"/>
                        </a:lnTo>
                        <a:lnTo>
                          <a:pt x="1201" y="422"/>
                        </a:lnTo>
                        <a:lnTo>
                          <a:pt x="874" y="416"/>
                        </a:lnTo>
                        <a:lnTo>
                          <a:pt x="581" y="361"/>
                        </a:lnTo>
                        <a:lnTo>
                          <a:pt x="465" y="313"/>
                        </a:lnTo>
                        <a:lnTo>
                          <a:pt x="363" y="264"/>
                        </a:lnTo>
                        <a:lnTo>
                          <a:pt x="270" y="216"/>
                        </a:lnTo>
                        <a:lnTo>
                          <a:pt x="192" y="171"/>
                        </a:lnTo>
                        <a:lnTo>
                          <a:pt x="125" y="129"/>
                        </a:lnTo>
                        <a:lnTo>
                          <a:pt x="76" y="93"/>
                        </a:lnTo>
                        <a:lnTo>
                          <a:pt x="26" y="4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5453640" y="4253760"/>
                    <a:ext cx="900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92">
                        <a:moveTo>
                          <a:pt x="2" y="0"/>
                        </a:moveTo>
                        <a:lnTo>
                          <a:pt x="0" y="14"/>
                        </a:lnTo>
                        <a:lnTo>
                          <a:pt x="2" y="48"/>
                        </a:lnTo>
                        <a:lnTo>
                          <a:pt x="21" y="90"/>
                        </a:lnTo>
                        <a:lnTo>
                          <a:pt x="40" y="110"/>
                        </a:lnTo>
                        <a:lnTo>
                          <a:pt x="71" y="129"/>
                        </a:lnTo>
                        <a:lnTo>
                          <a:pt x="147" y="160"/>
                        </a:lnTo>
                        <a:lnTo>
                          <a:pt x="226" y="179"/>
                        </a:lnTo>
                        <a:lnTo>
                          <a:pt x="316" y="192"/>
                        </a:lnTo>
                        <a:lnTo>
                          <a:pt x="342" y="17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726880" y="4110840"/>
                    <a:ext cx="22572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951">
                        <a:moveTo>
                          <a:pt x="0" y="765"/>
                        </a:moveTo>
                        <a:lnTo>
                          <a:pt x="14" y="791"/>
                        </a:lnTo>
                        <a:lnTo>
                          <a:pt x="52" y="850"/>
                        </a:lnTo>
                        <a:lnTo>
                          <a:pt x="76" y="881"/>
                        </a:lnTo>
                        <a:lnTo>
                          <a:pt x="105" y="909"/>
                        </a:lnTo>
                        <a:lnTo>
                          <a:pt x="137" y="930"/>
                        </a:lnTo>
                        <a:lnTo>
                          <a:pt x="170" y="941"/>
                        </a:lnTo>
                        <a:lnTo>
                          <a:pt x="375" y="951"/>
                        </a:lnTo>
                        <a:lnTo>
                          <a:pt x="481" y="939"/>
                        </a:lnTo>
                        <a:lnTo>
                          <a:pt x="552" y="909"/>
                        </a:lnTo>
                        <a:lnTo>
                          <a:pt x="586" y="871"/>
                        </a:lnTo>
                        <a:lnTo>
                          <a:pt x="645" y="806"/>
                        </a:lnTo>
                        <a:lnTo>
                          <a:pt x="679" y="763"/>
                        </a:lnTo>
                        <a:lnTo>
                          <a:pt x="715" y="715"/>
                        </a:lnTo>
                        <a:lnTo>
                          <a:pt x="748" y="662"/>
                        </a:lnTo>
                        <a:lnTo>
                          <a:pt x="780" y="603"/>
                        </a:lnTo>
                        <a:lnTo>
                          <a:pt x="831" y="476"/>
                        </a:lnTo>
                        <a:lnTo>
                          <a:pt x="856" y="335"/>
                        </a:lnTo>
                        <a:lnTo>
                          <a:pt x="839" y="185"/>
                        </a:lnTo>
                        <a:lnTo>
                          <a:pt x="812" y="109"/>
                        </a:lnTo>
                        <a:lnTo>
                          <a:pt x="791" y="69"/>
                        </a:lnTo>
                        <a:lnTo>
                          <a:pt x="769" y="31"/>
                        </a:lnTo>
                        <a:lnTo>
                          <a:pt x="740" y="14"/>
                        </a:lnTo>
                        <a:lnTo>
                          <a:pt x="687" y="0"/>
                        </a:lnTo>
                        <a:lnTo>
                          <a:pt x="580" y="10"/>
                        </a:lnTo>
                        <a:lnTo>
                          <a:pt x="533" y="63"/>
                        </a:lnTo>
                        <a:lnTo>
                          <a:pt x="502" y="103"/>
                        </a:lnTo>
                        <a:lnTo>
                          <a:pt x="472" y="149"/>
                        </a:lnTo>
                        <a:lnTo>
                          <a:pt x="443" y="192"/>
                        </a:lnTo>
                        <a:lnTo>
                          <a:pt x="421" y="229"/>
                        </a:lnTo>
                        <a:lnTo>
                          <a:pt x="400" y="265"/>
                        </a:lnTo>
                        <a:lnTo>
                          <a:pt x="436" y="208"/>
                        </a:lnTo>
                        <a:lnTo>
                          <a:pt x="474" y="154"/>
                        </a:lnTo>
                        <a:lnTo>
                          <a:pt x="523" y="96"/>
                        </a:lnTo>
                        <a:lnTo>
                          <a:pt x="552" y="71"/>
                        </a:lnTo>
                        <a:lnTo>
                          <a:pt x="578" y="46"/>
                        </a:lnTo>
                        <a:lnTo>
                          <a:pt x="635" y="16"/>
                        </a:lnTo>
                        <a:lnTo>
                          <a:pt x="692" y="14"/>
                        </a:lnTo>
                        <a:lnTo>
                          <a:pt x="742" y="50"/>
                        </a:lnTo>
                        <a:lnTo>
                          <a:pt x="812" y="185"/>
                        </a:lnTo>
                        <a:lnTo>
                          <a:pt x="824" y="354"/>
                        </a:lnTo>
                        <a:lnTo>
                          <a:pt x="801" y="453"/>
                        </a:lnTo>
                        <a:lnTo>
                          <a:pt x="782" y="508"/>
                        </a:lnTo>
                        <a:lnTo>
                          <a:pt x="757" y="563"/>
                        </a:lnTo>
                        <a:lnTo>
                          <a:pt x="727" y="624"/>
                        </a:lnTo>
                        <a:lnTo>
                          <a:pt x="691" y="687"/>
                        </a:lnTo>
                        <a:lnTo>
                          <a:pt x="647" y="751"/>
                        </a:lnTo>
                        <a:lnTo>
                          <a:pt x="597" y="822"/>
                        </a:lnTo>
                        <a:lnTo>
                          <a:pt x="569" y="850"/>
                        </a:lnTo>
                        <a:lnTo>
                          <a:pt x="538" y="869"/>
                        </a:lnTo>
                        <a:lnTo>
                          <a:pt x="499" y="886"/>
                        </a:lnTo>
                        <a:lnTo>
                          <a:pt x="371" y="907"/>
                        </a:lnTo>
                        <a:lnTo>
                          <a:pt x="170" y="898"/>
                        </a:lnTo>
                        <a:lnTo>
                          <a:pt x="37" y="776"/>
                        </a:lnTo>
                        <a:lnTo>
                          <a:pt x="0" y="765"/>
                        </a:lnTo>
                        <a:lnTo>
                          <a:pt x="0" y="7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5503680" y="3997080"/>
                    <a:ext cx="15012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1" h="857">
                        <a:moveTo>
                          <a:pt x="0" y="831"/>
                        </a:moveTo>
                        <a:lnTo>
                          <a:pt x="21" y="753"/>
                        </a:lnTo>
                        <a:lnTo>
                          <a:pt x="52" y="665"/>
                        </a:lnTo>
                        <a:lnTo>
                          <a:pt x="71" y="614"/>
                        </a:lnTo>
                        <a:lnTo>
                          <a:pt x="95" y="557"/>
                        </a:lnTo>
                        <a:lnTo>
                          <a:pt x="122" y="498"/>
                        </a:lnTo>
                        <a:lnTo>
                          <a:pt x="154" y="435"/>
                        </a:lnTo>
                        <a:lnTo>
                          <a:pt x="190" y="373"/>
                        </a:lnTo>
                        <a:lnTo>
                          <a:pt x="232" y="308"/>
                        </a:lnTo>
                        <a:lnTo>
                          <a:pt x="278" y="245"/>
                        </a:lnTo>
                        <a:lnTo>
                          <a:pt x="329" y="184"/>
                        </a:lnTo>
                        <a:lnTo>
                          <a:pt x="384" y="125"/>
                        </a:lnTo>
                        <a:lnTo>
                          <a:pt x="415" y="97"/>
                        </a:lnTo>
                        <a:lnTo>
                          <a:pt x="445" y="70"/>
                        </a:lnTo>
                        <a:lnTo>
                          <a:pt x="571" y="0"/>
                        </a:lnTo>
                        <a:lnTo>
                          <a:pt x="519" y="42"/>
                        </a:lnTo>
                        <a:lnTo>
                          <a:pt x="495" y="67"/>
                        </a:lnTo>
                        <a:lnTo>
                          <a:pt x="464" y="97"/>
                        </a:lnTo>
                        <a:lnTo>
                          <a:pt x="396" y="173"/>
                        </a:lnTo>
                        <a:lnTo>
                          <a:pt x="360" y="219"/>
                        </a:lnTo>
                        <a:lnTo>
                          <a:pt x="320" y="272"/>
                        </a:lnTo>
                        <a:lnTo>
                          <a:pt x="280" y="331"/>
                        </a:lnTo>
                        <a:lnTo>
                          <a:pt x="240" y="395"/>
                        </a:lnTo>
                        <a:lnTo>
                          <a:pt x="202" y="464"/>
                        </a:lnTo>
                        <a:lnTo>
                          <a:pt x="164" y="540"/>
                        </a:lnTo>
                        <a:lnTo>
                          <a:pt x="126" y="623"/>
                        </a:lnTo>
                        <a:lnTo>
                          <a:pt x="92" y="711"/>
                        </a:lnTo>
                        <a:lnTo>
                          <a:pt x="71" y="857"/>
                        </a:lnTo>
                        <a:lnTo>
                          <a:pt x="0" y="831"/>
                        </a:lnTo>
                        <a:lnTo>
                          <a:pt x="0" y="8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5812560" y="4034520"/>
                    <a:ext cx="8172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317">
                        <a:moveTo>
                          <a:pt x="9" y="307"/>
                        </a:moveTo>
                        <a:lnTo>
                          <a:pt x="2" y="317"/>
                        </a:lnTo>
                        <a:lnTo>
                          <a:pt x="0" y="298"/>
                        </a:lnTo>
                        <a:lnTo>
                          <a:pt x="22" y="211"/>
                        </a:lnTo>
                        <a:lnTo>
                          <a:pt x="45" y="155"/>
                        </a:lnTo>
                        <a:lnTo>
                          <a:pt x="74" y="100"/>
                        </a:lnTo>
                        <a:lnTo>
                          <a:pt x="108" y="53"/>
                        </a:lnTo>
                        <a:lnTo>
                          <a:pt x="148" y="22"/>
                        </a:lnTo>
                        <a:lnTo>
                          <a:pt x="220" y="0"/>
                        </a:lnTo>
                        <a:lnTo>
                          <a:pt x="270" y="7"/>
                        </a:lnTo>
                        <a:lnTo>
                          <a:pt x="310" y="38"/>
                        </a:lnTo>
                        <a:lnTo>
                          <a:pt x="207" y="85"/>
                        </a:lnTo>
                        <a:lnTo>
                          <a:pt x="161" y="119"/>
                        </a:lnTo>
                        <a:lnTo>
                          <a:pt x="112" y="167"/>
                        </a:lnTo>
                        <a:lnTo>
                          <a:pt x="60" y="228"/>
                        </a:lnTo>
                        <a:lnTo>
                          <a:pt x="9" y="307"/>
                        </a:lnTo>
                        <a:lnTo>
                          <a:pt x="9" y="307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5738760" y="4315320"/>
                    <a:ext cx="100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8">
                        <a:moveTo>
                          <a:pt x="0" y="15"/>
                        </a:moveTo>
                        <a:lnTo>
                          <a:pt x="380" y="0"/>
                        </a:lnTo>
                        <a:lnTo>
                          <a:pt x="0" y="48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745960" y="4330440"/>
                    <a:ext cx="71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44">
                        <a:moveTo>
                          <a:pt x="0" y="11"/>
                        </a:moveTo>
                        <a:lnTo>
                          <a:pt x="270" y="0"/>
                        </a:lnTo>
                        <a:lnTo>
                          <a:pt x="42" y="44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5847840" y="4149360"/>
                    <a:ext cx="69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521">
                        <a:moveTo>
                          <a:pt x="32" y="521"/>
                        </a:moveTo>
                        <a:lnTo>
                          <a:pt x="47" y="363"/>
                        </a:lnTo>
                        <a:lnTo>
                          <a:pt x="60" y="298"/>
                        </a:lnTo>
                        <a:lnTo>
                          <a:pt x="81" y="236"/>
                        </a:lnTo>
                        <a:lnTo>
                          <a:pt x="110" y="180"/>
                        </a:lnTo>
                        <a:lnTo>
                          <a:pt x="150" y="139"/>
                        </a:lnTo>
                        <a:lnTo>
                          <a:pt x="169" y="125"/>
                        </a:lnTo>
                        <a:lnTo>
                          <a:pt x="195" y="112"/>
                        </a:lnTo>
                        <a:lnTo>
                          <a:pt x="216" y="123"/>
                        </a:lnTo>
                        <a:lnTo>
                          <a:pt x="222" y="182"/>
                        </a:lnTo>
                        <a:lnTo>
                          <a:pt x="197" y="329"/>
                        </a:lnTo>
                        <a:lnTo>
                          <a:pt x="180" y="388"/>
                        </a:lnTo>
                        <a:lnTo>
                          <a:pt x="218" y="329"/>
                        </a:lnTo>
                        <a:lnTo>
                          <a:pt x="264" y="118"/>
                        </a:lnTo>
                        <a:lnTo>
                          <a:pt x="262" y="66"/>
                        </a:lnTo>
                        <a:lnTo>
                          <a:pt x="251" y="26"/>
                        </a:lnTo>
                        <a:lnTo>
                          <a:pt x="226" y="0"/>
                        </a:lnTo>
                        <a:lnTo>
                          <a:pt x="167" y="6"/>
                        </a:lnTo>
                        <a:lnTo>
                          <a:pt x="91" y="80"/>
                        </a:lnTo>
                        <a:lnTo>
                          <a:pt x="22" y="226"/>
                        </a:lnTo>
                        <a:lnTo>
                          <a:pt x="0" y="348"/>
                        </a:lnTo>
                        <a:lnTo>
                          <a:pt x="9" y="462"/>
                        </a:lnTo>
                        <a:lnTo>
                          <a:pt x="32" y="521"/>
                        </a:lnTo>
                        <a:lnTo>
                          <a:pt x="32" y="5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757120" y="4342320"/>
                    <a:ext cx="482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2">
                        <a:moveTo>
                          <a:pt x="38" y="32"/>
                        </a:moveTo>
                        <a:lnTo>
                          <a:pt x="184" y="0"/>
                        </a:lnTo>
                        <a:lnTo>
                          <a:pt x="0" y="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6044040" y="4053240"/>
                    <a:ext cx="10116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505">
                        <a:moveTo>
                          <a:pt x="384" y="0"/>
                        </a:moveTo>
                        <a:lnTo>
                          <a:pt x="371" y="188"/>
                        </a:lnTo>
                        <a:lnTo>
                          <a:pt x="352" y="273"/>
                        </a:lnTo>
                        <a:lnTo>
                          <a:pt x="321" y="355"/>
                        </a:lnTo>
                        <a:lnTo>
                          <a:pt x="302" y="393"/>
                        </a:lnTo>
                        <a:lnTo>
                          <a:pt x="280" y="429"/>
                        </a:lnTo>
                        <a:lnTo>
                          <a:pt x="253" y="458"/>
                        </a:lnTo>
                        <a:lnTo>
                          <a:pt x="222" y="483"/>
                        </a:lnTo>
                        <a:lnTo>
                          <a:pt x="162" y="505"/>
                        </a:lnTo>
                        <a:lnTo>
                          <a:pt x="114" y="503"/>
                        </a:lnTo>
                        <a:lnTo>
                          <a:pt x="74" y="479"/>
                        </a:lnTo>
                        <a:lnTo>
                          <a:pt x="46" y="445"/>
                        </a:lnTo>
                        <a:lnTo>
                          <a:pt x="10" y="365"/>
                        </a:lnTo>
                        <a:lnTo>
                          <a:pt x="0" y="325"/>
                        </a:lnTo>
                        <a:lnTo>
                          <a:pt x="89" y="192"/>
                        </a:lnTo>
                        <a:lnTo>
                          <a:pt x="78" y="298"/>
                        </a:lnTo>
                        <a:lnTo>
                          <a:pt x="84" y="380"/>
                        </a:lnTo>
                        <a:lnTo>
                          <a:pt x="93" y="412"/>
                        </a:lnTo>
                        <a:lnTo>
                          <a:pt x="112" y="431"/>
                        </a:lnTo>
                        <a:lnTo>
                          <a:pt x="158" y="441"/>
                        </a:lnTo>
                        <a:lnTo>
                          <a:pt x="211" y="424"/>
                        </a:lnTo>
                        <a:lnTo>
                          <a:pt x="316" y="287"/>
                        </a:lnTo>
                        <a:lnTo>
                          <a:pt x="354" y="144"/>
                        </a:lnTo>
                        <a:lnTo>
                          <a:pt x="384" y="0"/>
                        </a:lnTo>
                        <a:lnTo>
                          <a:pt x="38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6013080" y="4166280"/>
                    <a:ext cx="471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94">
                        <a:moveTo>
                          <a:pt x="0" y="8"/>
                        </a:moveTo>
                        <a:lnTo>
                          <a:pt x="15" y="35"/>
                        </a:lnTo>
                        <a:lnTo>
                          <a:pt x="36" y="56"/>
                        </a:lnTo>
                        <a:lnTo>
                          <a:pt x="65" y="73"/>
                        </a:lnTo>
                        <a:lnTo>
                          <a:pt x="181" y="94"/>
                        </a:lnTo>
                        <a:lnTo>
                          <a:pt x="114" y="63"/>
                        </a:lnTo>
                        <a:lnTo>
                          <a:pt x="59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956920" y="4116960"/>
                    <a:ext cx="568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327">
                        <a:moveTo>
                          <a:pt x="14" y="226"/>
                        </a:moveTo>
                        <a:lnTo>
                          <a:pt x="90" y="32"/>
                        </a:lnTo>
                        <a:lnTo>
                          <a:pt x="63" y="156"/>
                        </a:lnTo>
                        <a:lnTo>
                          <a:pt x="147" y="13"/>
                        </a:lnTo>
                        <a:lnTo>
                          <a:pt x="95" y="160"/>
                        </a:lnTo>
                        <a:lnTo>
                          <a:pt x="207" y="0"/>
                        </a:lnTo>
                        <a:lnTo>
                          <a:pt x="147" y="150"/>
                        </a:lnTo>
                        <a:lnTo>
                          <a:pt x="196" y="82"/>
                        </a:lnTo>
                        <a:lnTo>
                          <a:pt x="177" y="166"/>
                        </a:lnTo>
                        <a:lnTo>
                          <a:pt x="217" y="109"/>
                        </a:lnTo>
                        <a:lnTo>
                          <a:pt x="207" y="200"/>
                        </a:lnTo>
                        <a:lnTo>
                          <a:pt x="188" y="230"/>
                        </a:lnTo>
                        <a:lnTo>
                          <a:pt x="0" y="327"/>
                        </a:lnTo>
                        <a:lnTo>
                          <a:pt x="14" y="226"/>
                        </a:lnTo>
                        <a:lnTo>
                          <a:pt x="14" y="2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141960" y="4078800"/>
                    <a:ext cx="388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20">
                        <a:moveTo>
                          <a:pt x="0" y="120"/>
                        </a:moveTo>
                        <a:lnTo>
                          <a:pt x="146" y="0"/>
                        </a:lnTo>
                        <a:lnTo>
                          <a:pt x="5" y="61"/>
                        </a:lnTo>
                        <a:lnTo>
                          <a:pt x="0" y="120"/>
                        </a:lnTo>
                        <a:lnTo>
                          <a:pt x="0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6126840" y="4050360"/>
                    <a:ext cx="1386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31">
                        <a:moveTo>
                          <a:pt x="0" y="331"/>
                        </a:moveTo>
                        <a:lnTo>
                          <a:pt x="526" y="0"/>
                        </a:lnTo>
                        <a:lnTo>
                          <a:pt x="450" y="10"/>
                        </a:lnTo>
                        <a:lnTo>
                          <a:pt x="38" y="238"/>
                        </a:lnTo>
                        <a:lnTo>
                          <a:pt x="0" y="331"/>
                        </a:lnTo>
                        <a:lnTo>
                          <a:pt x="0" y="3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5866200" y="4207320"/>
                    <a:ext cx="17604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9" h="544">
                        <a:moveTo>
                          <a:pt x="0" y="544"/>
                        </a:moveTo>
                        <a:lnTo>
                          <a:pt x="108" y="512"/>
                        </a:lnTo>
                        <a:lnTo>
                          <a:pt x="669" y="0"/>
                        </a:lnTo>
                        <a:lnTo>
                          <a:pt x="576" y="38"/>
                        </a:lnTo>
                        <a:lnTo>
                          <a:pt x="185" y="337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6099840" y="4091400"/>
                    <a:ext cx="1152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9" h="344">
                        <a:moveTo>
                          <a:pt x="0" y="344"/>
                        </a:moveTo>
                        <a:lnTo>
                          <a:pt x="439" y="55"/>
                        </a:lnTo>
                        <a:lnTo>
                          <a:pt x="114" y="230"/>
                        </a:lnTo>
                        <a:lnTo>
                          <a:pt x="439" y="0"/>
                        </a:lnTo>
                        <a:lnTo>
                          <a:pt x="114" y="175"/>
                        </a:lnTo>
                        <a:lnTo>
                          <a:pt x="103" y="230"/>
                        </a:lnTo>
                        <a:lnTo>
                          <a:pt x="0" y="344"/>
                        </a:lnTo>
                        <a:lnTo>
                          <a:pt x="0" y="3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089040" y="4033800"/>
                    <a:ext cx="41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59">
                        <a:moveTo>
                          <a:pt x="25" y="359"/>
                        </a:moveTo>
                        <a:lnTo>
                          <a:pt x="0" y="266"/>
                        </a:lnTo>
                        <a:lnTo>
                          <a:pt x="14" y="161"/>
                        </a:lnTo>
                        <a:lnTo>
                          <a:pt x="38" y="98"/>
                        </a:lnTo>
                        <a:lnTo>
                          <a:pt x="57" y="64"/>
                        </a:lnTo>
                        <a:lnTo>
                          <a:pt x="80" y="28"/>
                        </a:lnTo>
                        <a:lnTo>
                          <a:pt x="92" y="19"/>
                        </a:lnTo>
                        <a:lnTo>
                          <a:pt x="114" y="3"/>
                        </a:lnTo>
                        <a:lnTo>
                          <a:pt x="141" y="0"/>
                        </a:lnTo>
                        <a:lnTo>
                          <a:pt x="154" y="24"/>
                        </a:lnTo>
                        <a:lnTo>
                          <a:pt x="160" y="131"/>
                        </a:lnTo>
                        <a:lnTo>
                          <a:pt x="152" y="188"/>
                        </a:lnTo>
                        <a:lnTo>
                          <a:pt x="133" y="237"/>
                        </a:lnTo>
                        <a:lnTo>
                          <a:pt x="107" y="260"/>
                        </a:lnTo>
                        <a:lnTo>
                          <a:pt x="105" y="239"/>
                        </a:lnTo>
                        <a:lnTo>
                          <a:pt x="107" y="79"/>
                        </a:lnTo>
                        <a:lnTo>
                          <a:pt x="61" y="150"/>
                        </a:lnTo>
                        <a:lnTo>
                          <a:pt x="48" y="207"/>
                        </a:lnTo>
                        <a:lnTo>
                          <a:pt x="33" y="323"/>
                        </a:lnTo>
                        <a:lnTo>
                          <a:pt x="25" y="359"/>
                        </a:lnTo>
                        <a:lnTo>
                          <a:pt x="25" y="3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6047640" y="3952080"/>
                    <a:ext cx="478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48">
                        <a:moveTo>
                          <a:pt x="0" y="148"/>
                        </a:moveTo>
                        <a:lnTo>
                          <a:pt x="29" y="93"/>
                        </a:lnTo>
                        <a:lnTo>
                          <a:pt x="63" y="47"/>
                        </a:lnTo>
                        <a:lnTo>
                          <a:pt x="84" y="28"/>
                        </a:lnTo>
                        <a:lnTo>
                          <a:pt x="109" y="13"/>
                        </a:lnTo>
                        <a:lnTo>
                          <a:pt x="158" y="0"/>
                        </a:lnTo>
                        <a:lnTo>
                          <a:pt x="183" y="7"/>
                        </a:lnTo>
                        <a:lnTo>
                          <a:pt x="164" y="28"/>
                        </a:lnTo>
                        <a:lnTo>
                          <a:pt x="124" y="57"/>
                        </a:lnTo>
                        <a:lnTo>
                          <a:pt x="88" y="89"/>
                        </a:lnTo>
                        <a:lnTo>
                          <a:pt x="57" y="120"/>
                        </a:lnTo>
                        <a:lnTo>
                          <a:pt x="29" y="137"/>
                        </a:lnTo>
                        <a:lnTo>
                          <a:pt x="0" y="148"/>
                        </a:lnTo>
                        <a:lnTo>
                          <a:pt x="0" y="148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5605200" y="4250880"/>
                    <a:ext cx="128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89">
                        <a:moveTo>
                          <a:pt x="0" y="72"/>
                        </a:moveTo>
                        <a:lnTo>
                          <a:pt x="196" y="55"/>
                        </a:lnTo>
                        <a:lnTo>
                          <a:pt x="455" y="7"/>
                        </a:lnTo>
                        <a:lnTo>
                          <a:pt x="487" y="0"/>
                        </a:lnTo>
                        <a:lnTo>
                          <a:pt x="461" y="28"/>
                        </a:lnTo>
                        <a:lnTo>
                          <a:pt x="430" y="45"/>
                        </a:lnTo>
                        <a:lnTo>
                          <a:pt x="388" y="64"/>
                        </a:lnTo>
                        <a:lnTo>
                          <a:pt x="284" y="89"/>
                        </a:lnTo>
                        <a:lnTo>
                          <a:pt x="82" y="83"/>
                        </a:lnTo>
                        <a:lnTo>
                          <a:pt x="0" y="72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5700240" y="3782520"/>
                    <a:ext cx="954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156">
                        <a:moveTo>
                          <a:pt x="0" y="133"/>
                        </a:moveTo>
                        <a:lnTo>
                          <a:pt x="34" y="114"/>
                        </a:lnTo>
                        <a:lnTo>
                          <a:pt x="74" y="94"/>
                        </a:lnTo>
                        <a:lnTo>
                          <a:pt x="121" y="71"/>
                        </a:lnTo>
                        <a:lnTo>
                          <a:pt x="178" y="48"/>
                        </a:lnTo>
                        <a:lnTo>
                          <a:pt x="239" y="25"/>
                        </a:lnTo>
                        <a:lnTo>
                          <a:pt x="361" y="0"/>
                        </a:lnTo>
                        <a:lnTo>
                          <a:pt x="329" y="14"/>
                        </a:lnTo>
                        <a:lnTo>
                          <a:pt x="256" y="46"/>
                        </a:lnTo>
                        <a:lnTo>
                          <a:pt x="182" y="90"/>
                        </a:lnTo>
                        <a:lnTo>
                          <a:pt x="146" y="133"/>
                        </a:lnTo>
                        <a:lnTo>
                          <a:pt x="139" y="149"/>
                        </a:lnTo>
                        <a:lnTo>
                          <a:pt x="120" y="156"/>
                        </a:lnTo>
                        <a:lnTo>
                          <a:pt x="70" y="154"/>
                        </a:lnTo>
                        <a:lnTo>
                          <a:pt x="0" y="133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5421960" y="4057560"/>
                    <a:ext cx="2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25">
                        <a:moveTo>
                          <a:pt x="14" y="61"/>
                        </a:moveTo>
                        <a:lnTo>
                          <a:pt x="52" y="15"/>
                        </a:lnTo>
                        <a:lnTo>
                          <a:pt x="84" y="0"/>
                        </a:lnTo>
                        <a:lnTo>
                          <a:pt x="113" y="4"/>
                        </a:lnTo>
                        <a:lnTo>
                          <a:pt x="57" y="87"/>
                        </a:lnTo>
                        <a:lnTo>
                          <a:pt x="44" y="125"/>
                        </a:lnTo>
                        <a:lnTo>
                          <a:pt x="25" y="122"/>
                        </a:lnTo>
                        <a:lnTo>
                          <a:pt x="0" y="89"/>
                        </a:lnTo>
                        <a:lnTo>
                          <a:pt x="14" y="61"/>
                        </a:lnTo>
                        <a:lnTo>
                          <a:pt x="14" y="6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5698080" y="4098600"/>
                    <a:ext cx="56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05">
                        <a:moveTo>
                          <a:pt x="0" y="205"/>
                        </a:moveTo>
                        <a:lnTo>
                          <a:pt x="12" y="137"/>
                        </a:lnTo>
                        <a:lnTo>
                          <a:pt x="42" y="78"/>
                        </a:lnTo>
                        <a:lnTo>
                          <a:pt x="69" y="49"/>
                        </a:lnTo>
                        <a:lnTo>
                          <a:pt x="109" y="23"/>
                        </a:lnTo>
                        <a:lnTo>
                          <a:pt x="173" y="0"/>
                        </a:lnTo>
                        <a:lnTo>
                          <a:pt x="207" y="7"/>
                        </a:lnTo>
                        <a:lnTo>
                          <a:pt x="217" y="38"/>
                        </a:lnTo>
                        <a:lnTo>
                          <a:pt x="188" y="108"/>
                        </a:lnTo>
                        <a:lnTo>
                          <a:pt x="137" y="161"/>
                        </a:lnTo>
                        <a:lnTo>
                          <a:pt x="99" y="184"/>
                        </a:lnTo>
                        <a:lnTo>
                          <a:pt x="50" y="199"/>
                        </a:lnTo>
                        <a:lnTo>
                          <a:pt x="0" y="205"/>
                        </a:lnTo>
                        <a:lnTo>
                          <a:pt x="0" y="2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5819760" y="4200480"/>
                    <a:ext cx="72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488">
                        <a:moveTo>
                          <a:pt x="160" y="484"/>
                        </a:moveTo>
                        <a:lnTo>
                          <a:pt x="97" y="488"/>
                        </a:lnTo>
                        <a:lnTo>
                          <a:pt x="25" y="433"/>
                        </a:lnTo>
                        <a:lnTo>
                          <a:pt x="0" y="283"/>
                        </a:lnTo>
                        <a:lnTo>
                          <a:pt x="21" y="161"/>
                        </a:lnTo>
                        <a:lnTo>
                          <a:pt x="44" y="85"/>
                        </a:lnTo>
                        <a:lnTo>
                          <a:pt x="76" y="0"/>
                        </a:lnTo>
                        <a:lnTo>
                          <a:pt x="93" y="399"/>
                        </a:lnTo>
                        <a:lnTo>
                          <a:pt x="128" y="418"/>
                        </a:lnTo>
                        <a:lnTo>
                          <a:pt x="160" y="422"/>
                        </a:lnTo>
                        <a:lnTo>
                          <a:pt x="219" y="395"/>
                        </a:lnTo>
                        <a:lnTo>
                          <a:pt x="261" y="351"/>
                        </a:lnTo>
                        <a:lnTo>
                          <a:pt x="276" y="329"/>
                        </a:lnTo>
                        <a:lnTo>
                          <a:pt x="242" y="395"/>
                        </a:lnTo>
                        <a:lnTo>
                          <a:pt x="206" y="446"/>
                        </a:lnTo>
                        <a:lnTo>
                          <a:pt x="183" y="469"/>
                        </a:lnTo>
                        <a:lnTo>
                          <a:pt x="160" y="484"/>
                        </a:lnTo>
                        <a:lnTo>
                          <a:pt x="160" y="484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5394240" y="4188240"/>
                    <a:ext cx="1515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35">
                        <a:moveTo>
                          <a:pt x="0" y="0"/>
                        </a:moveTo>
                        <a:lnTo>
                          <a:pt x="49" y="38"/>
                        </a:lnTo>
                        <a:lnTo>
                          <a:pt x="105" y="78"/>
                        </a:lnTo>
                        <a:lnTo>
                          <a:pt x="139" y="101"/>
                        </a:lnTo>
                        <a:lnTo>
                          <a:pt x="177" y="127"/>
                        </a:lnTo>
                        <a:lnTo>
                          <a:pt x="219" y="154"/>
                        </a:lnTo>
                        <a:lnTo>
                          <a:pt x="264" y="183"/>
                        </a:lnTo>
                        <a:lnTo>
                          <a:pt x="312" y="209"/>
                        </a:lnTo>
                        <a:lnTo>
                          <a:pt x="361" y="238"/>
                        </a:lnTo>
                        <a:lnTo>
                          <a:pt x="413" y="264"/>
                        </a:lnTo>
                        <a:lnTo>
                          <a:pt x="466" y="289"/>
                        </a:lnTo>
                        <a:lnTo>
                          <a:pt x="521" y="314"/>
                        </a:lnTo>
                        <a:lnTo>
                          <a:pt x="576" y="335"/>
                        </a:lnTo>
                        <a:lnTo>
                          <a:pt x="534" y="321"/>
                        </a:lnTo>
                        <a:lnTo>
                          <a:pt x="430" y="283"/>
                        </a:lnTo>
                        <a:lnTo>
                          <a:pt x="367" y="261"/>
                        </a:lnTo>
                        <a:lnTo>
                          <a:pt x="302" y="234"/>
                        </a:lnTo>
                        <a:lnTo>
                          <a:pt x="240" y="203"/>
                        </a:lnTo>
                        <a:lnTo>
                          <a:pt x="186" y="173"/>
                        </a:lnTo>
                        <a:lnTo>
                          <a:pt x="141" y="143"/>
                        </a:lnTo>
                        <a:lnTo>
                          <a:pt x="101" y="112"/>
                        </a:lnTo>
                        <a:lnTo>
                          <a:pt x="68" y="84"/>
                        </a:lnTo>
                        <a:lnTo>
                          <a:pt x="44" y="5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478480" y="3938040"/>
                    <a:ext cx="327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6" h="747">
                        <a:moveTo>
                          <a:pt x="419" y="0"/>
                        </a:moveTo>
                        <a:lnTo>
                          <a:pt x="426" y="26"/>
                        </a:lnTo>
                        <a:lnTo>
                          <a:pt x="455" y="55"/>
                        </a:lnTo>
                        <a:lnTo>
                          <a:pt x="510" y="89"/>
                        </a:lnTo>
                        <a:lnTo>
                          <a:pt x="607" y="125"/>
                        </a:lnTo>
                        <a:lnTo>
                          <a:pt x="753" y="159"/>
                        </a:lnTo>
                        <a:lnTo>
                          <a:pt x="962" y="190"/>
                        </a:lnTo>
                        <a:lnTo>
                          <a:pt x="1246" y="211"/>
                        </a:lnTo>
                        <a:lnTo>
                          <a:pt x="985" y="226"/>
                        </a:lnTo>
                        <a:lnTo>
                          <a:pt x="719" y="214"/>
                        </a:lnTo>
                        <a:lnTo>
                          <a:pt x="419" y="157"/>
                        </a:lnTo>
                        <a:lnTo>
                          <a:pt x="379" y="195"/>
                        </a:lnTo>
                        <a:lnTo>
                          <a:pt x="333" y="243"/>
                        </a:lnTo>
                        <a:lnTo>
                          <a:pt x="278" y="308"/>
                        </a:lnTo>
                        <a:lnTo>
                          <a:pt x="246" y="348"/>
                        </a:lnTo>
                        <a:lnTo>
                          <a:pt x="211" y="391"/>
                        </a:lnTo>
                        <a:lnTo>
                          <a:pt x="177" y="439"/>
                        </a:lnTo>
                        <a:lnTo>
                          <a:pt x="141" y="492"/>
                        </a:lnTo>
                        <a:lnTo>
                          <a:pt x="105" y="549"/>
                        </a:lnTo>
                        <a:lnTo>
                          <a:pt x="69" y="610"/>
                        </a:lnTo>
                        <a:lnTo>
                          <a:pt x="35" y="676"/>
                        </a:lnTo>
                        <a:lnTo>
                          <a:pt x="0" y="747"/>
                        </a:lnTo>
                        <a:lnTo>
                          <a:pt x="33" y="659"/>
                        </a:lnTo>
                        <a:lnTo>
                          <a:pt x="69" y="568"/>
                        </a:lnTo>
                        <a:lnTo>
                          <a:pt x="92" y="517"/>
                        </a:lnTo>
                        <a:lnTo>
                          <a:pt x="116" y="462"/>
                        </a:lnTo>
                        <a:lnTo>
                          <a:pt x="145" y="405"/>
                        </a:lnTo>
                        <a:lnTo>
                          <a:pt x="173" y="349"/>
                        </a:lnTo>
                        <a:lnTo>
                          <a:pt x="204" y="294"/>
                        </a:lnTo>
                        <a:lnTo>
                          <a:pt x="234" y="243"/>
                        </a:lnTo>
                        <a:lnTo>
                          <a:pt x="267" y="197"/>
                        </a:lnTo>
                        <a:lnTo>
                          <a:pt x="299" y="157"/>
                        </a:lnTo>
                        <a:lnTo>
                          <a:pt x="333" y="123"/>
                        </a:lnTo>
                        <a:lnTo>
                          <a:pt x="365" y="100"/>
                        </a:lnTo>
                        <a:lnTo>
                          <a:pt x="419" y="0"/>
                        </a:lnTo>
                        <a:lnTo>
                          <a:pt x="4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5" name=""/>
                <p:cNvSpPr/>
                <p:nvPr/>
              </p:nvSpPr>
              <p:spPr>
                <a:xfrm>
                  <a:off x="6211800" y="3841560"/>
                  <a:ext cx="200160" cy="5047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526000" y="4254120"/>
                  <a:ext cx="755640" cy="214200"/>
                </a:xfrm>
                <a:custGeom>
                  <a:avLst/>
                  <a:gdLst/>
                  <a:ahLst/>
                  <a:rect l="l" t="t" r="r" b="b"/>
                  <a:pathLst>
                    <a:path w="476" h="135">
                      <a:moveTo>
                        <a:pt x="0" y="18"/>
                      </a:moveTo>
                      <a:cubicBezTo>
                        <a:pt x="7" y="53"/>
                        <a:pt x="15" y="88"/>
                        <a:pt x="48" y="105"/>
                      </a:cubicBezTo>
                      <a:cubicBezTo>
                        <a:pt x="81" y="122"/>
                        <a:pt x="129" y="135"/>
                        <a:pt x="200" y="118"/>
                      </a:cubicBezTo>
                      <a:cubicBezTo>
                        <a:pt x="271" y="101"/>
                        <a:pt x="373" y="50"/>
                        <a:pt x="476" y="0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243840" y="3898440"/>
                  <a:ext cx="128520" cy="122400"/>
                </a:xfrm>
                <a:custGeom>
                  <a:avLst/>
                  <a:gdLst/>
                  <a:ahLst/>
                  <a:rect l="l" t="t" r="r" b="b"/>
                  <a:pathLst>
                    <a:path w="81" h="77">
                      <a:moveTo>
                        <a:pt x="1" y="12"/>
                      </a:moveTo>
                      <a:lnTo>
                        <a:pt x="1" y="63"/>
                      </a:lnTo>
                      <a:lnTo>
                        <a:pt x="81" y="77"/>
                      </a:lnTo>
                      <a:lnTo>
                        <a:pt x="81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670800" y="3749400"/>
                <a:ext cx="1030320" cy="699840"/>
                <a:chOff x="6670800" y="3749400"/>
                <a:chExt cx="1030320" cy="69984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6670800" y="3749400"/>
                  <a:ext cx="941400" cy="606240"/>
                  <a:chOff x="6670800" y="3749400"/>
                  <a:chExt cx="941400" cy="60624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6779880" y="3878280"/>
                    <a:ext cx="832320" cy="47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54" h="1811">
                        <a:moveTo>
                          <a:pt x="220" y="1716"/>
                        </a:moveTo>
                        <a:lnTo>
                          <a:pt x="384" y="1752"/>
                        </a:lnTo>
                        <a:lnTo>
                          <a:pt x="532" y="1779"/>
                        </a:lnTo>
                        <a:lnTo>
                          <a:pt x="791" y="1811"/>
                        </a:lnTo>
                        <a:lnTo>
                          <a:pt x="1152" y="1811"/>
                        </a:lnTo>
                        <a:lnTo>
                          <a:pt x="1342" y="1773"/>
                        </a:lnTo>
                        <a:lnTo>
                          <a:pt x="1397" y="1747"/>
                        </a:lnTo>
                        <a:lnTo>
                          <a:pt x="1456" y="1707"/>
                        </a:lnTo>
                        <a:lnTo>
                          <a:pt x="1487" y="1686"/>
                        </a:lnTo>
                        <a:lnTo>
                          <a:pt x="1525" y="1659"/>
                        </a:lnTo>
                        <a:lnTo>
                          <a:pt x="1567" y="1631"/>
                        </a:lnTo>
                        <a:lnTo>
                          <a:pt x="1612" y="1598"/>
                        </a:lnTo>
                        <a:lnTo>
                          <a:pt x="1664" y="1564"/>
                        </a:lnTo>
                        <a:lnTo>
                          <a:pt x="1719" y="1526"/>
                        </a:lnTo>
                        <a:lnTo>
                          <a:pt x="1776" y="1486"/>
                        </a:lnTo>
                        <a:lnTo>
                          <a:pt x="1837" y="1444"/>
                        </a:lnTo>
                        <a:lnTo>
                          <a:pt x="1899" y="1401"/>
                        </a:lnTo>
                        <a:lnTo>
                          <a:pt x="1964" y="1355"/>
                        </a:lnTo>
                        <a:lnTo>
                          <a:pt x="1996" y="1332"/>
                        </a:lnTo>
                        <a:lnTo>
                          <a:pt x="2030" y="1309"/>
                        </a:lnTo>
                        <a:lnTo>
                          <a:pt x="2063" y="1287"/>
                        </a:lnTo>
                        <a:lnTo>
                          <a:pt x="2097" y="1264"/>
                        </a:lnTo>
                        <a:lnTo>
                          <a:pt x="2129" y="1239"/>
                        </a:lnTo>
                        <a:lnTo>
                          <a:pt x="2164" y="1216"/>
                        </a:lnTo>
                        <a:lnTo>
                          <a:pt x="2198" y="1193"/>
                        </a:lnTo>
                        <a:lnTo>
                          <a:pt x="2230" y="1169"/>
                        </a:lnTo>
                        <a:lnTo>
                          <a:pt x="2264" y="1146"/>
                        </a:lnTo>
                        <a:lnTo>
                          <a:pt x="2297" y="1123"/>
                        </a:lnTo>
                        <a:lnTo>
                          <a:pt x="2329" y="1100"/>
                        </a:lnTo>
                        <a:lnTo>
                          <a:pt x="2361" y="1077"/>
                        </a:lnTo>
                        <a:lnTo>
                          <a:pt x="2426" y="1034"/>
                        </a:lnTo>
                        <a:lnTo>
                          <a:pt x="2487" y="990"/>
                        </a:lnTo>
                        <a:lnTo>
                          <a:pt x="2546" y="946"/>
                        </a:lnTo>
                        <a:lnTo>
                          <a:pt x="2601" y="908"/>
                        </a:lnTo>
                        <a:lnTo>
                          <a:pt x="2654" y="870"/>
                        </a:lnTo>
                        <a:lnTo>
                          <a:pt x="2702" y="836"/>
                        </a:lnTo>
                        <a:lnTo>
                          <a:pt x="2745" y="804"/>
                        </a:lnTo>
                        <a:lnTo>
                          <a:pt x="2783" y="775"/>
                        </a:lnTo>
                        <a:lnTo>
                          <a:pt x="2844" y="730"/>
                        </a:lnTo>
                        <a:lnTo>
                          <a:pt x="2880" y="699"/>
                        </a:lnTo>
                        <a:lnTo>
                          <a:pt x="2920" y="656"/>
                        </a:lnTo>
                        <a:lnTo>
                          <a:pt x="2962" y="600"/>
                        </a:lnTo>
                        <a:lnTo>
                          <a:pt x="3002" y="543"/>
                        </a:lnTo>
                        <a:lnTo>
                          <a:pt x="3038" y="481"/>
                        </a:lnTo>
                        <a:lnTo>
                          <a:pt x="3072" y="422"/>
                        </a:lnTo>
                        <a:lnTo>
                          <a:pt x="3101" y="365"/>
                        </a:lnTo>
                        <a:lnTo>
                          <a:pt x="3139" y="281"/>
                        </a:lnTo>
                        <a:lnTo>
                          <a:pt x="3154" y="102"/>
                        </a:lnTo>
                        <a:lnTo>
                          <a:pt x="3139" y="74"/>
                        </a:lnTo>
                        <a:lnTo>
                          <a:pt x="3114" y="49"/>
                        </a:lnTo>
                        <a:lnTo>
                          <a:pt x="3078" y="28"/>
                        </a:lnTo>
                        <a:lnTo>
                          <a:pt x="3032" y="11"/>
                        </a:lnTo>
                        <a:lnTo>
                          <a:pt x="2897" y="0"/>
                        </a:lnTo>
                        <a:lnTo>
                          <a:pt x="2700" y="21"/>
                        </a:lnTo>
                        <a:lnTo>
                          <a:pt x="2470" y="70"/>
                        </a:lnTo>
                        <a:lnTo>
                          <a:pt x="2361" y="99"/>
                        </a:lnTo>
                        <a:lnTo>
                          <a:pt x="2255" y="129"/>
                        </a:lnTo>
                        <a:lnTo>
                          <a:pt x="2154" y="159"/>
                        </a:lnTo>
                        <a:lnTo>
                          <a:pt x="2057" y="192"/>
                        </a:lnTo>
                        <a:lnTo>
                          <a:pt x="1968" y="222"/>
                        </a:lnTo>
                        <a:lnTo>
                          <a:pt x="1884" y="254"/>
                        </a:lnTo>
                        <a:lnTo>
                          <a:pt x="1808" y="283"/>
                        </a:lnTo>
                        <a:lnTo>
                          <a:pt x="1740" y="310"/>
                        </a:lnTo>
                        <a:lnTo>
                          <a:pt x="1681" y="336"/>
                        </a:lnTo>
                        <a:lnTo>
                          <a:pt x="1629" y="357"/>
                        </a:lnTo>
                        <a:lnTo>
                          <a:pt x="1559" y="389"/>
                        </a:lnTo>
                        <a:lnTo>
                          <a:pt x="1536" y="401"/>
                        </a:lnTo>
                        <a:lnTo>
                          <a:pt x="1510" y="412"/>
                        </a:lnTo>
                        <a:lnTo>
                          <a:pt x="1441" y="448"/>
                        </a:lnTo>
                        <a:lnTo>
                          <a:pt x="1392" y="473"/>
                        </a:lnTo>
                        <a:lnTo>
                          <a:pt x="1335" y="503"/>
                        </a:lnTo>
                        <a:lnTo>
                          <a:pt x="1270" y="538"/>
                        </a:lnTo>
                        <a:lnTo>
                          <a:pt x="1202" y="576"/>
                        </a:lnTo>
                        <a:lnTo>
                          <a:pt x="1125" y="617"/>
                        </a:lnTo>
                        <a:lnTo>
                          <a:pt x="1046" y="663"/>
                        </a:lnTo>
                        <a:lnTo>
                          <a:pt x="1004" y="686"/>
                        </a:lnTo>
                        <a:lnTo>
                          <a:pt x="962" y="711"/>
                        </a:lnTo>
                        <a:lnTo>
                          <a:pt x="920" y="735"/>
                        </a:lnTo>
                        <a:lnTo>
                          <a:pt x="878" y="762"/>
                        </a:lnTo>
                        <a:lnTo>
                          <a:pt x="835" y="787"/>
                        </a:lnTo>
                        <a:lnTo>
                          <a:pt x="791" y="813"/>
                        </a:lnTo>
                        <a:lnTo>
                          <a:pt x="747" y="840"/>
                        </a:lnTo>
                        <a:lnTo>
                          <a:pt x="703" y="866"/>
                        </a:lnTo>
                        <a:lnTo>
                          <a:pt x="662" y="895"/>
                        </a:lnTo>
                        <a:lnTo>
                          <a:pt x="618" y="924"/>
                        </a:lnTo>
                        <a:lnTo>
                          <a:pt x="576" y="950"/>
                        </a:lnTo>
                        <a:lnTo>
                          <a:pt x="534" y="979"/>
                        </a:lnTo>
                        <a:lnTo>
                          <a:pt x="492" y="1007"/>
                        </a:lnTo>
                        <a:lnTo>
                          <a:pt x="452" y="1036"/>
                        </a:lnTo>
                        <a:lnTo>
                          <a:pt x="413" y="1064"/>
                        </a:lnTo>
                        <a:lnTo>
                          <a:pt x="374" y="1093"/>
                        </a:lnTo>
                        <a:lnTo>
                          <a:pt x="336" y="1121"/>
                        </a:lnTo>
                        <a:lnTo>
                          <a:pt x="300" y="1150"/>
                        </a:lnTo>
                        <a:lnTo>
                          <a:pt x="266" y="1178"/>
                        </a:lnTo>
                        <a:lnTo>
                          <a:pt x="234" y="1207"/>
                        </a:lnTo>
                        <a:lnTo>
                          <a:pt x="201" y="1235"/>
                        </a:lnTo>
                        <a:lnTo>
                          <a:pt x="171" y="1264"/>
                        </a:lnTo>
                        <a:lnTo>
                          <a:pt x="118" y="1317"/>
                        </a:lnTo>
                        <a:lnTo>
                          <a:pt x="74" y="1370"/>
                        </a:lnTo>
                        <a:lnTo>
                          <a:pt x="38" y="1422"/>
                        </a:lnTo>
                        <a:lnTo>
                          <a:pt x="0" y="1517"/>
                        </a:lnTo>
                        <a:lnTo>
                          <a:pt x="13" y="1598"/>
                        </a:lnTo>
                        <a:lnTo>
                          <a:pt x="40" y="1634"/>
                        </a:lnTo>
                        <a:lnTo>
                          <a:pt x="84" y="1667"/>
                        </a:lnTo>
                        <a:lnTo>
                          <a:pt x="143" y="1695"/>
                        </a:lnTo>
                        <a:lnTo>
                          <a:pt x="220" y="1716"/>
                        </a:lnTo>
                        <a:lnTo>
                          <a:pt x="220" y="1716"/>
                        </a:lnTo>
                        <a:close/>
                      </a:path>
                    </a:pathLst>
                  </a:custGeom>
                  <a:solidFill>
                    <a:srgbClr val="a394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6679080" y="3758040"/>
                    <a:ext cx="79632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9" h="2003">
                        <a:moveTo>
                          <a:pt x="40" y="1591"/>
                        </a:moveTo>
                        <a:lnTo>
                          <a:pt x="68" y="1621"/>
                        </a:lnTo>
                        <a:lnTo>
                          <a:pt x="102" y="1653"/>
                        </a:lnTo>
                        <a:lnTo>
                          <a:pt x="150" y="1693"/>
                        </a:lnTo>
                        <a:lnTo>
                          <a:pt x="180" y="1716"/>
                        </a:lnTo>
                        <a:lnTo>
                          <a:pt x="213" y="1741"/>
                        </a:lnTo>
                        <a:lnTo>
                          <a:pt x="249" y="1765"/>
                        </a:lnTo>
                        <a:lnTo>
                          <a:pt x="289" y="1788"/>
                        </a:lnTo>
                        <a:lnTo>
                          <a:pt x="332" y="1813"/>
                        </a:lnTo>
                        <a:lnTo>
                          <a:pt x="380" y="1838"/>
                        </a:lnTo>
                        <a:lnTo>
                          <a:pt x="431" y="1860"/>
                        </a:lnTo>
                        <a:lnTo>
                          <a:pt x="487" y="1883"/>
                        </a:lnTo>
                        <a:lnTo>
                          <a:pt x="585" y="1917"/>
                        </a:lnTo>
                        <a:lnTo>
                          <a:pt x="696" y="1946"/>
                        </a:lnTo>
                        <a:lnTo>
                          <a:pt x="815" y="1969"/>
                        </a:lnTo>
                        <a:lnTo>
                          <a:pt x="945" y="1986"/>
                        </a:lnTo>
                        <a:lnTo>
                          <a:pt x="1239" y="2003"/>
                        </a:lnTo>
                        <a:lnTo>
                          <a:pt x="1576" y="1995"/>
                        </a:lnTo>
                        <a:lnTo>
                          <a:pt x="1601" y="1874"/>
                        </a:lnTo>
                        <a:lnTo>
                          <a:pt x="1633" y="1750"/>
                        </a:lnTo>
                        <a:lnTo>
                          <a:pt x="1652" y="1682"/>
                        </a:lnTo>
                        <a:lnTo>
                          <a:pt x="1675" y="1611"/>
                        </a:lnTo>
                        <a:lnTo>
                          <a:pt x="1698" y="1541"/>
                        </a:lnTo>
                        <a:lnTo>
                          <a:pt x="1724" y="1476"/>
                        </a:lnTo>
                        <a:lnTo>
                          <a:pt x="1753" y="1418"/>
                        </a:lnTo>
                        <a:lnTo>
                          <a:pt x="1783" y="1366"/>
                        </a:lnTo>
                        <a:lnTo>
                          <a:pt x="1817" y="1326"/>
                        </a:lnTo>
                        <a:lnTo>
                          <a:pt x="1852" y="1300"/>
                        </a:lnTo>
                        <a:lnTo>
                          <a:pt x="1924" y="1298"/>
                        </a:lnTo>
                        <a:lnTo>
                          <a:pt x="1989" y="1332"/>
                        </a:lnTo>
                        <a:lnTo>
                          <a:pt x="2036" y="1361"/>
                        </a:lnTo>
                        <a:lnTo>
                          <a:pt x="2087" y="1402"/>
                        </a:lnTo>
                        <a:lnTo>
                          <a:pt x="2101" y="1435"/>
                        </a:lnTo>
                        <a:lnTo>
                          <a:pt x="2165" y="1651"/>
                        </a:lnTo>
                        <a:lnTo>
                          <a:pt x="2262" y="1480"/>
                        </a:lnTo>
                        <a:lnTo>
                          <a:pt x="2646" y="1035"/>
                        </a:lnTo>
                        <a:lnTo>
                          <a:pt x="2855" y="1243"/>
                        </a:lnTo>
                        <a:lnTo>
                          <a:pt x="3019" y="1094"/>
                        </a:lnTo>
                        <a:lnTo>
                          <a:pt x="3006" y="1056"/>
                        </a:lnTo>
                        <a:lnTo>
                          <a:pt x="2970" y="958"/>
                        </a:lnTo>
                        <a:lnTo>
                          <a:pt x="2945" y="891"/>
                        </a:lnTo>
                        <a:lnTo>
                          <a:pt x="2913" y="815"/>
                        </a:lnTo>
                        <a:lnTo>
                          <a:pt x="2878" y="733"/>
                        </a:lnTo>
                        <a:lnTo>
                          <a:pt x="2838" y="650"/>
                        </a:lnTo>
                        <a:lnTo>
                          <a:pt x="2795" y="566"/>
                        </a:lnTo>
                        <a:lnTo>
                          <a:pt x="2772" y="524"/>
                        </a:lnTo>
                        <a:lnTo>
                          <a:pt x="2747" y="484"/>
                        </a:lnTo>
                        <a:lnTo>
                          <a:pt x="2722" y="444"/>
                        </a:lnTo>
                        <a:lnTo>
                          <a:pt x="2698" y="406"/>
                        </a:lnTo>
                        <a:lnTo>
                          <a:pt x="2671" y="368"/>
                        </a:lnTo>
                        <a:lnTo>
                          <a:pt x="2644" y="334"/>
                        </a:lnTo>
                        <a:lnTo>
                          <a:pt x="2589" y="273"/>
                        </a:lnTo>
                        <a:lnTo>
                          <a:pt x="2559" y="247"/>
                        </a:lnTo>
                        <a:lnTo>
                          <a:pt x="2530" y="224"/>
                        </a:lnTo>
                        <a:lnTo>
                          <a:pt x="2470" y="190"/>
                        </a:lnTo>
                        <a:lnTo>
                          <a:pt x="2409" y="171"/>
                        </a:lnTo>
                        <a:lnTo>
                          <a:pt x="2331" y="85"/>
                        </a:lnTo>
                        <a:lnTo>
                          <a:pt x="1979" y="0"/>
                        </a:lnTo>
                        <a:lnTo>
                          <a:pt x="1661" y="30"/>
                        </a:lnTo>
                        <a:lnTo>
                          <a:pt x="1418" y="39"/>
                        </a:lnTo>
                        <a:lnTo>
                          <a:pt x="1110" y="152"/>
                        </a:lnTo>
                        <a:lnTo>
                          <a:pt x="975" y="228"/>
                        </a:lnTo>
                        <a:lnTo>
                          <a:pt x="802" y="509"/>
                        </a:lnTo>
                        <a:lnTo>
                          <a:pt x="711" y="631"/>
                        </a:lnTo>
                        <a:lnTo>
                          <a:pt x="399" y="758"/>
                        </a:lnTo>
                        <a:lnTo>
                          <a:pt x="365" y="783"/>
                        </a:lnTo>
                        <a:lnTo>
                          <a:pt x="329" y="809"/>
                        </a:lnTo>
                        <a:lnTo>
                          <a:pt x="283" y="842"/>
                        </a:lnTo>
                        <a:lnTo>
                          <a:pt x="237" y="876"/>
                        </a:lnTo>
                        <a:lnTo>
                          <a:pt x="190" y="910"/>
                        </a:lnTo>
                        <a:lnTo>
                          <a:pt x="150" y="942"/>
                        </a:lnTo>
                        <a:lnTo>
                          <a:pt x="118" y="967"/>
                        </a:lnTo>
                        <a:lnTo>
                          <a:pt x="64" y="1041"/>
                        </a:lnTo>
                        <a:lnTo>
                          <a:pt x="63" y="1072"/>
                        </a:lnTo>
                        <a:lnTo>
                          <a:pt x="0" y="1239"/>
                        </a:lnTo>
                        <a:lnTo>
                          <a:pt x="40" y="1591"/>
                        </a:lnTo>
                        <a:lnTo>
                          <a:pt x="40" y="1591"/>
                        </a:lnTo>
                        <a:close/>
                      </a:path>
                    </a:pathLst>
                  </a:custGeom>
                  <a:solidFill>
                    <a:srgbClr val="ffe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7310880" y="3983760"/>
                    <a:ext cx="12888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711">
                        <a:moveTo>
                          <a:pt x="0" y="621"/>
                        </a:moveTo>
                        <a:lnTo>
                          <a:pt x="17" y="646"/>
                        </a:lnTo>
                        <a:lnTo>
                          <a:pt x="38" y="669"/>
                        </a:lnTo>
                        <a:lnTo>
                          <a:pt x="69" y="690"/>
                        </a:lnTo>
                        <a:lnTo>
                          <a:pt x="103" y="707"/>
                        </a:lnTo>
                        <a:lnTo>
                          <a:pt x="145" y="711"/>
                        </a:lnTo>
                        <a:lnTo>
                          <a:pt x="244" y="665"/>
                        </a:lnTo>
                        <a:lnTo>
                          <a:pt x="356" y="625"/>
                        </a:lnTo>
                        <a:lnTo>
                          <a:pt x="447" y="405"/>
                        </a:lnTo>
                        <a:lnTo>
                          <a:pt x="489" y="216"/>
                        </a:lnTo>
                        <a:lnTo>
                          <a:pt x="478" y="118"/>
                        </a:lnTo>
                        <a:lnTo>
                          <a:pt x="460" y="44"/>
                        </a:lnTo>
                        <a:lnTo>
                          <a:pt x="447" y="17"/>
                        </a:lnTo>
                        <a:lnTo>
                          <a:pt x="432" y="0"/>
                        </a:lnTo>
                        <a:lnTo>
                          <a:pt x="341" y="4"/>
                        </a:lnTo>
                        <a:lnTo>
                          <a:pt x="286" y="25"/>
                        </a:lnTo>
                        <a:lnTo>
                          <a:pt x="158" y="300"/>
                        </a:lnTo>
                        <a:lnTo>
                          <a:pt x="0" y="621"/>
                        </a:lnTo>
                        <a:lnTo>
                          <a:pt x="0" y="621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7305840" y="4129560"/>
                    <a:ext cx="72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58">
                        <a:moveTo>
                          <a:pt x="0" y="30"/>
                        </a:moveTo>
                        <a:lnTo>
                          <a:pt x="124" y="0"/>
                        </a:lnTo>
                        <a:lnTo>
                          <a:pt x="143" y="25"/>
                        </a:lnTo>
                        <a:lnTo>
                          <a:pt x="164" y="49"/>
                        </a:lnTo>
                        <a:lnTo>
                          <a:pt x="192" y="72"/>
                        </a:lnTo>
                        <a:lnTo>
                          <a:pt x="276" y="123"/>
                        </a:lnTo>
                        <a:lnTo>
                          <a:pt x="242" y="150"/>
                        </a:lnTo>
                        <a:lnTo>
                          <a:pt x="198" y="158"/>
                        </a:lnTo>
                        <a:lnTo>
                          <a:pt x="145" y="158"/>
                        </a:lnTo>
                        <a:lnTo>
                          <a:pt x="29" y="106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2e4f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6796080" y="3956760"/>
                    <a:ext cx="29376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4" h="888">
                        <a:moveTo>
                          <a:pt x="34" y="888"/>
                        </a:moveTo>
                        <a:lnTo>
                          <a:pt x="51" y="865"/>
                        </a:lnTo>
                        <a:lnTo>
                          <a:pt x="101" y="800"/>
                        </a:lnTo>
                        <a:lnTo>
                          <a:pt x="137" y="755"/>
                        </a:lnTo>
                        <a:lnTo>
                          <a:pt x="178" y="705"/>
                        </a:lnTo>
                        <a:lnTo>
                          <a:pt x="224" y="650"/>
                        </a:lnTo>
                        <a:lnTo>
                          <a:pt x="277" y="593"/>
                        </a:lnTo>
                        <a:lnTo>
                          <a:pt x="334" y="532"/>
                        </a:lnTo>
                        <a:lnTo>
                          <a:pt x="363" y="504"/>
                        </a:lnTo>
                        <a:lnTo>
                          <a:pt x="393" y="473"/>
                        </a:lnTo>
                        <a:lnTo>
                          <a:pt x="426" y="443"/>
                        </a:lnTo>
                        <a:lnTo>
                          <a:pt x="458" y="415"/>
                        </a:lnTo>
                        <a:lnTo>
                          <a:pt x="492" y="386"/>
                        </a:lnTo>
                        <a:lnTo>
                          <a:pt x="525" y="358"/>
                        </a:lnTo>
                        <a:lnTo>
                          <a:pt x="559" y="331"/>
                        </a:lnTo>
                        <a:lnTo>
                          <a:pt x="595" y="304"/>
                        </a:lnTo>
                        <a:lnTo>
                          <a:pt x="629" y="281"/>
                        </a:lnTo>
                        <a:lnTo>
                          <a:pt x="665" y="257"/>
                        </a:lnTo>
                        <a:lnTo>
                          <a:pt x="737" y="217"/>
                        </a:lnTo>
                        <a:lnTo>
                          <a:pt x="808" y="185"/>
                        </a:lnTo>
                        <a:lnTo>
                          <a:pt x="874" y="158"/>
                        </a:lnTo>
                        <a:lnTo>
                          <a:pt x="931" y="137"/>
                        </a:lnTo>
                        <a:lnTo>
                          <a:pt x="1017" y="105"/>
                        </a:lnTo>
                        <a:lnTo>
                          <a:pt x="1101" y="78"/>
                        </a:lnTo>
                        <a:lnTo>
                          <a:pt x="1114" y="80"/>
                        </a:lnTo>
                        <a:lnTo>
                          <a:pt x="1106" y="86"/>
                        </a:lnTo>
                        <a:lnTo>
                          <a:pt x="760" y="61"/>
                        </a:lnTo>
                        <a:lnTo>
                          <a:pt x="348" y="0"/>
                        </a:lnTo>
                        <a:lnTo>
                          <a:pt x="310" y="13"/>
                        </a:lnTo>
                        <a:lnTo>
                          <a:pt x="258" y="80"/>
                        </a:lnTo>
                        <a:lnTo>
                          <a:pt x="232" y="128"/>
                        </a:lnTo>
                        <a:lnTo>
                          <a:pt x="203" y="185"/>
                        </a:lnTo>
                        <a:lnTo>
                          <a:pt x="175" y="247"/>
                        </a:lnTo>
                        <a:lnTo>
                          <a:pt x="146" y="312"/>
                        </a:lnTo>
                        <a:lnTo>
                          <a:pt x="118" y="380"/>
                        </a:lnTo>
                        <a:lnTo>
                          <a:pt x="93" y="451"/>
                        </a:lnTo>
                        <a:lnTo>
                          <a:pt x="47" y="580"/>
                        </a:lnTo>
                        <a:lnTo>
                          <a:pt x="2" y="764"/>
                        </a:lnTo>
                        <a:lnTo>
                          <a:pt x="0" y="808"/>
                        </a:lnTo>
                        <a:lnTo>
                          <a:pt x="2" y="840"/>
                        </a:lnTo>
                        <a:lnTo>
                          <a:pt x="13" y="876"/>
                        </a:lnTo>
                        <a:lnTo>
                          <a:pt x="34" y="888"/>
                        </a:lnTo>
                        <a:lnTo>
                          <a:pt x="34" y="888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7142400" y="4150080"/>
                    <a:ext cx="579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483">
                        <a:moveTo>
                          <a:pt x="0" y="391"/>
                        </a:moveTo>
                        <a:lnTo>
                          <a:pt x="11" y="458"/>
                        </a:lnTo>
                        <a:lnTo>
                          <a:pt x="30" y="483"/>
                        </a:lnTo>
                        <a:lnTo>
                          <a:pt x="59" y="477"/>
                        </a:lnTo>
                        <a:lnTo>
                          <a:pt x="110" y="422"/>
                        </a:lnTo>
                        <a:lnTo>
                          <a:pt x="133" y="378"/>
                        </a:lnTo>
                        <a:lnTo>
                          <a:pt x="161" y="319"/>
                        </a:lnTo>
                        <a:lnTo>
                          <a:pt x="188" y="258"/>
                        </a:lnTo>
                        <a:lnTo>
                          <a:pt x="205" y="209"/>
                        </a:lnTo>
                        <a:lnTo>
                          <a:pt x="220" y="26"/>
                        </a:lnTo>
                        <a:lnTo>
                          <a:pt x="211" y="13"/>
                        </a:lnTo>
                        <a:lnTo>
                          <a:pt x="194" y="0"/>
                        </a:lnTo>
                        <a:lnTo>
                          <a:pt x="106" y="9"/>
                        </a:lnTo>
                        <a:lnTo>
                          <a:pt x="28" y="209"/>
                        </a:lnTo>
                        <a:lnTo>
                          <a:pt x="0" y="391"/>
                        </a:lnTo>
                        <a:lnTo>
                          <a:pt x="0" y="391"/>
                        </a:lnTo>
                        <a:close/>
                      </a:path>
                    </a:pathLst>
                  </a:custGeom>
                  <a:solidFill>
                    <a:srgbClr val="6079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6914880" y="4084920"/>
                    <a:ext cx="127080" cy="127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483">
                        <a:moveTo>
                          <a:pt x="63" y="156"/>
                        </a:moveTo>
                        <a:lnTo>
                          <a:pt x="48" y="182"/>
                        </a:lnTo>
                        <a:lnTo>
                          <a:pt x="19" y="245"/>
                        </a:lnTo>
                        <a:lnTo>
                          <a:pt x="0" y="325"/>
                        </a:lnTo>
                        <a:lnTo>
                          <a:pt x="17" y="401"/>
                        </a:lnTo>
                        <a:lnTo>
                          <a:pt x="46" y="431"/>
                        </a:lnTo>
                        <a:lnTo>
                          <a:pt x="82" y="454"/>
                        </a:lnTo>
                        <a:lnTo>
                          <a:pt x="171" y="479"/>
                        </a:lnTo>
                        <a:lnTo>
                          <a:pt x="308" y="483"/>
                        </a:lnTo>
                        <a:lnTo>
                          <a:pt x="402" y="450"/>
                        </a:lnTo>
                        <a:lnTo>
                          <a:pt x="468" y="424"/>
                        </a:lnTo>
                        <a:lnTo>
                          <a:pt x="481" y="372"/>
                        </a:lnTo>
                        <a:lnTo>
                          <a:pt x="236" y="388"/>
                        </a:lnTo>
                        <a:lnTo>
                          <a:pt x="187" y="235"/>
                        </a:lnTo>
                        <a:lnTo>
                          <a:pt x="242" y="64"/>
                        </a:lnTo>
                        <a:lnTo>
                          <a:pt x="289" y="0"/>
                        </a:lnTo>
                        <a:lnTo>
                          <a:pt x="202" y="30"/>
                        </a:lnTo>
                        <a:lnTo>
                          <a:pt x="126" y="78"/>
                        </a:lnTo>
                        <a:lnTo>
                          <a:pt x="63" y="156"/>
                        </a:lnTo>
                        <a:lnTo>
                          <a:pt x="63" y="156"/>
                        </a:lnTo>
                        <a:close/>
                      </a:path>
                    </a:pathLst>
                  </a:custGeom>
                  <a:solidFill>
                    <a:srgbClr val="ffff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7382160" y="4028400"/>
                    <a:ext cx="324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16">
                        <a:moveTo>
                          <a:pt x="48" y="32"/>
                        </a:moveTo>
                        <a:lnTo>
                          <a:pt x="21" y="93"/>
                        </a:lnTo>
                        <a:lnTo>
                          <a:pt x="0" y="196"/>
                        </a:lnTo>
                        <a:lnTo>
                          <a:pt x="12" y="302"/>
                        </a:lnTo>
                        <a:lnTo>
                          <a:pt x="33" y="316"/>
                        </a:lnTo>
                        <a:lnTo>
                          <a:pt x="63" y="287"/>
                        </a:lnTo>
                        <a:lnTo>
                          <a:pt x="107" y="182"/>
                        </a:lnTo>
                        <a:lnTo>
                          <a:pt x="124" y="19"/>
                        </a:lnTo>
                        <a:lnTo>
                          <a:pt x="103" y="0"/>
                        </a:lnTo>
                        <a:lnTo>
                          <a:pt x="48" y="32"/>
                        </a:lnTo>
                        <a:lnTo>
                          <a:pt x="48" y="32"/>
                        </a:lnTo>
                        <a:close/>
                      </a:path>
                    </a:pathLst>
                  </a:custGeom>
                  <a:solidFill>
                    <a:srgbClr val="1c40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7083360" y="3786480"/>
                    <a:ext cx="316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4" h="380">
                        <a:moveTo>
                          <a:pt x="0" y="211"/>
                        </a:moveTo>
                        <a:lnTo>
                          <a:pt x="65" y="194"/>
                        </a:lnTo>
                        <a:lnTo>
                          <a:pt x="215" y="152"/>
                        </a:lnTo>
                        <a:lnTo>
                          <a:pt x="303" y="125"/>
                        </a:lnTo>
                        <a:lnTo>
                          <a:pt x="388" y="99"/>
                        </a:lnTo>
                        <a:lnTo>
                          <a:pt x="466" y="72"/>
                        </a:lnTo>
                        <a:lnTo>
                          <a:pt x="525" y="47"/>
                        </a:lnTo>
                        <a:lnTo>
                          <a:pt x="576" y="28"/>
                        </a:lnTo>
                        <a:lnTo>
                          <a:pt x="630" y="13"/>
                        </a:lnTo>
                        <a:lnTo>
                          <a:pt x="736" y="0"/>
                        </a:lnTo>
                        <a:lnTo>
                          <a:pt x="900" y="26"/>
                        </a:lnTo>
                        <a:lnTo>
                          <a:pt x="930" y="47"/>
                        </a:lnTo>
                        <a:lnTo>
                          <a:pt x="968" y="78"/>
                        </a:lnTo>
                        <a:lnTo>
                          <a:pt x="1010" y="112"/>
                        </a:lnTo>
                        <a:lnTo>
                          <a:pt x="1052" y="150"/>
                        </a:lnTo>
                        <a:lnTo>
                          <a:pt x="1092" y="186"/>
                        </a:lnTo>
                        <a:lnTo>
                          <a:pt x="1124" y="215"/>
                        </a:lnTo>
                        <a:lnTo>
                          <a:pt x="1154" y="243"/>
                        </a:lnTo>
                        <a:lnTo>
                          <a:pt x="1204" y="304"/>
                        </a:lnTo>
                        <a:lnTo>
                          <a:pt x="1147" y="327"/>
                        </a:lnTo>
                        <a:lnTo>
                          <a:pt x="1073" y="380"/>
                        </a:lnTo>
                        <a:lnTo>
                          <a:pt x="1059" y="380"/>
                        </a:lnTo>
                        <a:lnTo>
                          <a:pt x="1052" y="346"/>
                        </a:lnTo>
                        <a:lnTo>
                          <a:pt x="1046" y="281"/>
                        </a:lnTo>
                        <a:lnTo>
                          <a:pt x="917" y="173"/>
                        </a:lnTo>
                        <a:lnTo>
                          <a:pt x="651" y="179"/>
                        </a:lnTo>
                        <a:lnTo>
                          <a:pt x="413" y="264"/>
                        </a:lnTo>
                        <a:lnTo>
                          <a:pt x="0" y="211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7020720" y="4259160"/>
                    <a:ext cx="1360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7" h="304">
                        <a:moveTo>
                          <a:pt x="0" y="133"/>
                        </a:moveTo>
                        <a:lnTo>
                          <a:pt x="91" y="245"/>
                        </a:lnTo>
                        <a:lnTo>
                          <a:pt x="279" y="304"/>
                        </a:lnTo>
                        <a:lnTo>
                          <a:pt x="410" y="276"/>
                        </a:lnTo>
                        <a:lnTo>
                          <a:pt x="517" y="255"/>
                        </a:lnTo>
                        <a:lnTo>
                          <a:pt x="425" y="257"/>
                        </a:lnTo>
                        <a:lnTo>
                          <a:pt x="338" y="217"/>
                        </a:lnTo>
                        <a:lnTo>
                          <a:pt x="268" y="131"/>
                        </a:lnTo>
                        <a:lnTo>
                          <a:pt x="228" y="0"/>
                        </a:lnTo>
                        <a:lnTo>
                          <a:pt x="216" y="27"/>
                        </a:lnTo>
                        <a:lnTo>
                          <a:pt x="192" y="52"/>
                        </a:lnTo>
                        <a:lnTo>
                          <a:pt x="152" y="72"/>
                        </a:lnTo>
                        <a:lnTo>
                          <a:pt x="0" y="133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3148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6708960" y="3952440"/>
                    <a:ext cx="1180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266">
                        <a:moveTo>
                          <a:pt x="0" y="260"/>
                        </a:moveTo>
                        <a:lnTo>
                          <a:pt x="36" y="236"/>
                        </a:lnTo>
                        <a:lnTo>
                          <a:pt x="74" y="211"/>
                        </a:lnTo>
                        <a:lnTo>
                          <a:pt x="122" y="179"/>
                        </a:lnTo>
                        <a:lnTo>
                          <a:pt x="173" y="146"/>
                        </a:lnTo>
                        <a:lnTo>
                          <a:pt x="226" y="112"/>
                        </a:lnTo>
                        <a:lnTo>
                          <a:pt x="274" y="82"/>
                        </a:lnTo>
                        <a:lnTo>
                          <a:pt x="314" y="59"/>
                        </a:lnTo>
                        <a:lnTo>
                          <a:pt x="373" y="27"/>
                        </a:lnTo>
                        <a:lnTo>
                          <a:pt x="414" y="8"/>
                        </a:lnTo>
                        <a:lnTo>
                          <a:pt x="447" y="0"/>
                        </a:lnTo>
                        <a:lnTo>
                          <a:pt x="418" y="15"/>
                        </a:lnTo>
                        <a:lnTo>
                          <a:pt x="350" y="59"/>
                        </a:lnTo>
                        <a:lnTo>
                          <a:pt x="308" y="89"/>
                        </a:lnTo>
                        <a:lnTo>
                          <a:pt x="264" y="123"/>
                        </a:lnTo>
                        <a:lnTo>
                          <a:pt x="222" y="160"/>
                        </a:lnTo>
                        <a:lnTo>
                          <a:pt x="184" y="198"/>
                        </a:lnTo>
                        <a:lnTo>
                          <a:pt x="154" y="230"/>
                        </a:lnTo>
                        <a:lnTo>
                          <a:pt x="129" y="251"/>
                        </a:lnTo>
                        <a:lnTo>
                          <a:pt x="97" y="266"/>
                        </a:lnTo>
                        <a:lnTo>
                          <a:pt x="76" y="258"/>
                        </a:lnTo>
                        <a:lnTo>
                          <a:pt x="0" y="260"/>
                        </a:lnTo>
                        <a:lnTo>
                          <a:pt x="0" y="26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6708600" y="3927600"/>
                    <a:ext cx="16524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815">
                        <a:moveTo>
                          <a:pt x="224" y="363"/>
                        </a:moveTo>
                        <a:lnTo>
                          <a:pt x="245" y="526"/>
                        </a:lnTo>
                        <a:lnTo>
                          <a:pt x="213" y="587"/>
                        </a:lnTo>
                        <a:lnTo>
                          <a:pt x="177" y="648"/>
                        </a:lnTo>
                        <a:lnTo>
                          <a:pt x="152" y="673"/>
                        </a:lnTo>
                        <a:lnTo>
                          <a:pt x="122" y="692"/>
                        </a:lnTo>
                        <a:lnTo>
                          <a:pt x="42" y="703"/>
                        </a:lnTo>
                        <a:lnTo>
                          <a:pt x="8" y="709"/>
                        </a:lnTo>
                        <a:lnTo>
                          <a:pt x="0" y="726"/>
                        </a:lnTo>
                        <a:lnTo>
                          <a:pt x="15" y="751"/>
                        </a:lnTo>
                        <a:lnTo>
                          <a:pt x="42" y="777"/>
                        </a:lnTo>
                        <a:lnTo>
                          <a:pt x="78" y="802"/>
                        </a:lnTo>
                        <a:lnTo>
                          <a:pt x="118" y="815"/>
                        </a:lnTo>
                        <a:lnTo>
                          <a:pt x="181" y="793"/>
                        </a:lnTo>
                        <a:lnTo>
                          <a:pt x="209" y="739"/>
                        </a:lnTo>
                        <a:lnTo>
                          <a:pt x="230" y="703"/>
                        </a:lnTo>
                        <a:lnTo>
                          <a:pt x="253" y="661"/>
                        </a:lnTo>
                        <a:lnTo>
                          <a:pt x="278" y="616"/>
                        </a:lnTo>
                        <a:lnTo>
                          <a:pt x="304" y="566"/>
                        </a:lnTo>
                        <a:lnTo>
                          <a:pt x="331" y="515"/>
                        </a:lnTo>
                        <a:lnTo>
                          <a:pt x="357" y="466"/>
                        </a:lnTo>
                        <a:lnTo>
                          <a:pt x="384" y="414"/>
                        </a:lnTo>
                        <a:lnTo>
                          <a:pt x="409" y="367"/>
                        </a:lnTo>
                        <a:lnTo>
                          <a:pt x="434" y="323"/>
                        </a:lnTo>
                        <a:lnTo>
                          <a:pt x="453" y="285"/>
                        </a:lnTo>
                        <a:lnTo>
                          <a:pt x="483" y="228"/>
                        </a:lnTo>
                        <a:lnTo>
                          <a:pt x="494" y="207"/>
                        </a:lnTo>
                        <a:lnTo>
                          <a:pt x="629" y="76"/>
                        </a:lnTo>
                        <a:lnTo>
                          <a:pt x="614" y="0"/>
                        </a:lnTo>
                        <a:lnTo>
                          <a:pt x="595" y="13"/>
                        </a:lnTo>
                        <a:lnTo>
                          <a:pt x="548" y="49"/>
                        </a:lnTo>
                        <a:lnTo>
                          <a:pt x="515" y="72"/>
                        </a:lnTo>
                        <a:lnTo>
                          <a:pt x="479" y="99"/>
                        </a:lnTo>
                        <a:lnTo>
                          <a:pt x="441" y="129"/>
                        </a:lnTo>
                        <a:lnTo>
                          <a:pt x="401" y="160"/>
                        </a:lnTo>
                        <a:lnTo>
                          <a:pt x="363" y="192"/>
                        </a:lnTo>
                        <a:lnTo>
                          <a:pt x="327" y="222"/>
                        </a:lnTo>
                        <a:lnTo>
                          <a:pt x="295" y="253"/>
                        </a:lnTo>
                        <a:lnTo>
                          <a:pt x="266" y="281"/>
                        </a:lnTo>
                        <a:lnTo>
                          <a:pt x="224" y="363"/>
                        </a:lnTo>
                        <a:lnTo>
                          <a:pt x="224" y="36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6919200" y="3752280"/>
                    <a:ext cx="303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52" h="308">
                        <a:moveTo>
                          <a:pt x="32" y="237"/>
                        </a:moveTo>
                        <a:lnTo>
                          <a:pt x="536" y="308"/>
                        </a:lnTo>
                        <a:lnTo>
                          <a:pt x="473" y="271"/>
                        </a:lnTo>
                        <a:lnTo>
                          <a:pt x="450" y="232"/>
                        </a:lnTo>
                        <a:lnTo>
                          <a:pt x="460" y="211"/>
                        </a:lnTo>
                        <a:lnTo>
                          <a:pt x="486" y="190"/>
                        </a:lnTo>
                        <a:lnTo>
                          <a:pt x="526" y="167"/>
                        </a:lnTo>
                        <a:lnTo>
                          <a:pt x="566" y="150"/>
                        </a:lnTo>
                        <a:lnTo>
                          <a:pt x="654" y="119"/>
                        </a:lnTo>
                        <a:lnTo>
                          <a:pt x="747" y="97"/>
                        </a:lnTo>
                        <a:lnTo>
                          <a:pt x="849" y="76"/>
                        </a:lnTo>
                        <a:lnTo>
                          <a:pt x="1152" y="47"/>
                        </a:lnTo>
                        <a:lnTo>
                          <a:pt x="1011" y="15"/>
                        </a:lnTo>
                        <a:lnTo>
                          <a:pt x="785" y="3"/>
                        </a:lnTo>
                        <a:lnTo>
                          <a:pt x="650" y="0"/>
                        </a:lnTo>
                        <a:lnTo>
                          <a:pt x="448" y="36"/>
                        </a:lnTo>
                        <a:lnTo>
                          <a:pt x="237" y="102"/>
                        </a:lnTo>
                        <a:lnTo>
                          <a:pt x="38" y="190"/>
                        </a:lnTo>
                        <a:lnTo>
                          <a:pt x="0" y="264"/>
                        </a:lnTo>
                        <a:lnTo>
                          <a:pt x="32" y="237"/>
                        </a:lnTo>
                        <a:lnTo>
                          <a:pt x="32" y="237"/>
                        </a:lnTo>
                        <a:close/>
                      </a:path>
                    </a:pathLst>
                  </a:custGeom>
                  <a:solidFill>
                    <a:srgbClr val="fff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7248240" y="3936240"/>
                    <a:ext cx="22500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853" h="856">
                        <a:moveTo>
                          <a:pt x="5" y="804"/>
                        </a:moveTo>
                        <a:lnTo>
                          <a:pt x="87" y="578"/>
                        </a:lnTo>
                        <a:lnTo>
                          <a:pt x="89" y="650"/>
                        </a:lnTo>
                        <a:lnTo>
                          <a:pt x="169" y="512"/>
                        </a:lnTo>
                        <a:lnTo>
                          <a:pt x="152" y="629"/>
                        </a:lnTo>
                        <a:lnTo>
                          <a:pt x="230" y="464"/>
                        </a:lnTo>
                        <a:lnTo>
                          <a:pt x="243" y="588"/>
                        </a:lnTo>
                        <a:lnTo>
                          <a:pt x="274" y="390"/>
                        </a:lnTo>
                        <a:lnTo>
                          <a:pt x="310" y="232"/>
                        </a:lnTo>
                        <a:lnTo>
                          <a:pt x="332" y="166"/>
                        </a:lnTo>
                        <a:lnTo>
                          <a:pt x="359" y="114"/>
                        </a:lnTo>
                        <a:lnTo>
                          <a:pt x="388" y="80"/>
                        </a:lnTo>
                        <a:lnTo>
                          <a:pt x="416" y="53"/>
                        </a:lnTo>
                        <a:lnTo>
                          <a:pt x="469" y="23"/>
                        </a:lnTo>
                        <a:lnTo>
                          <a:pt x="524" y="10"/>
                        </a:lnTo>
                        <a:lnTo>
                          <a:pt x="589" y="0"/>
                        </a:lnTo>
                        <a:lnTo>
                          <a:pt x="644" y="12"/>
                        </a:lnTo>
                        <a:lnTo>
                          <a:pt x="694" y="55"/>
                        </a:lnTo>
                        <a:lnTo>
                          <a:pt x="736" y="131"/>
                        </a:lnTo>
                        <a:lnTo>
                          <a:pt x="770" y="217"/>
                        </a:lnTo>
                        <a:lnTo>
                          <a:pt x="806" y="312"/>
                        </a:lnTo>
                        <a:lnTo>
                          <a:pt x="853" y="420"/>
                        </a:lnTo>
                        <a:lnTo>
                          <a:pt x="682" y="550"/>
                        </a:lnTo>
                        <a:lnTo>
                          <a:pt x="690" y="481"/>
                        </a:lnTo>
                        <a:lnTo>
                          <a:pt x="701" y="274"/>
                        </a:lnTo>
                        <a:lnTo>
                          <a:pt x="652" y="183"/>
                        </a:lnTo>
                        <a:lnTo>
                          <a:pt x="570" y="185"/>
                        </a:lnTo>
                        <a:lnTo>
                          <a:pt x="545" y="207"/>
                        </a:lnTo>
                        <a:lnTo>
                          <a:pt x="490" y="264"/>
                        </a:lnTo>
                        <a:lnTo>
                          <a:pt x="433" y="344"/>
                        </a:lnTo>
                        <a:lnTo>
                          <a:pt x="399" y="432"/>
                        </a:lnTo>
                        <a:lnTo>
                          <a:pt x="372" y="608"/>
                        </a:lnTo>
                        <a:lnTo>
                          <a:pt x="357" y="698"/>
                        </a:lnTo>
                        <a:lnTo>
                          <a:pt x="355" y="770"/>
                        </a:lnTo>
                        <a:lnTo>
                          <a:pt x="112" y="852"/>
                        </a:lnTo>
                        <a:lnTo>
                          <a:pt x="0" y="856"/>
                        </a:lnTo>
                        <a:lnTo>
                          <a:pt x="5" y="804"/>
                        </a:lnTo>
                        <a:lnTo>
                          <a:pt x="5" y="804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7323840" y="3926160"/>
                    <a:ext cx="10584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378">
                        <a:moveTo>
                          <a:pt x="0" y="378"/>
                        </a:moveTo>
                        <a:lnTo>
                          <a:pt x="9" y="244"/>
                        </a:lnTo>
                        <a:lnTo>
                          <a:pt x="25" y="186"/>
                        </a:lnTo>
                        <a:lnTo>
                          <a:pt x="47" y="129"/>
                        </a:lnTo>
                        <a:lnTo>
                          <a:pt x="84" y="78"/>
                        </a:lnTo>
                        <a:lnTo>
                          <a:pt x="106" y="55"/>
                        </a:lnTo>
                        <a:lnTo>
                          <a:pt x="133" y="34"/>
                        </a:lnTo>
                        <a:lnTo>
                          <a:pt x="186" y="8"/>
                        </a:lnTo>
                        <a:lnTo>
                          <a:pt x="238" y="0"/>
                        </a:lnTo>
                        <a:lnTo>
                          <a:pt x="323" y="23"/>
                        </a:lnTo>
                        <a:lnTo>
                          <a:pt x="380" y="63"/>
                        </a:lnTo>
                        <a:lnTo>
                          <a:pt x="403" y="84"/>
                        </a:lnTo>
                        <a:lnTo>
                          <a:pt x="386" y="74"/>
                        </a:lnTo>
                        <a:lnTo>
                          <a:pt x="340" y="65"/>
                        </a:lnTo>
                        <a:lnTo>
                          <a:pt x="272" y="76"/>
                        </a:lnTo>
                        <a:lnTo>
                          <a:pt x="182" y="133"/>
                        </a:lnTo>
                        <a:lnTo>
                          <a:pt x="99" y="221"/>
                        </a:lnTo>
                        <a:lnTo>
                          <a:pt x="42" y="299"/>
                        </a:lnTo>
                        <a:lnTo>
                          <a:pt x="0" y="378"/>
                        </a:lnTo>
                        <a:lnTo>
                          <a:pt x="0" y="378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6988320" y="3997800"/>
                    <a:ext cx="25956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985" h="876">
                        <a:moveTo>
                          <a:pt x="0" y="876"/>
                        </a:moveTo>
                        <a:lnTo>
                          <a:pt x="40" y="852"/>
                        </a:lnTo>
                        <a:lnTo>
                          <a:pt x="82" y="823"/>
                        </a:lnTo>
                        <a:lnTo>
                          <a:pt x="129" y="789"/>
                        </a:lnTo>
                        <a:lnTo>
                          <a:pt x="179" y="751"/>
                        </a:lnTo>
                        <a:lnTo>
                          <a:pt x="224" y="713"/>
                        </a:lnTo>
                        <a:lnTo>
                          <a:pt x="279" y="644"/>
                        </a:lnTo>
                        <a:lnTo>
                          <a:pt x="321" y="354"/>
                        </a:lnTo>
                        <a:lnTo>
                          <a:pt x="342" y="259"/>
                        </a:lnTo>
                        <a:lnTo>
                          <a:pt x="371" y="171"/>
                        </a:lnTo>
                        <a:lnTo>
                          <a:pt x="390" y="131"/>
                        </a:lnTo>
                        <a:lnTo>
                          <a:pt x="413" y="97"/>
                        </a:lnTo>
                        <a:lnTo>
                          <a:pt x="437" y="67"/>
                        </a:lnTo>
                        <a:lnTo>
                          <a:pt x="466" y="44"/>
                        </a:lnTo>
                        <a:lnTo>
                          <a:pt x="525" y="15"/>
                        </a:lnTo>
                        <a:lnTo>
                          <a:pt x="578" y="0"/>
                        </a:lnTo>
                        <a:lnTo>
                          <a:pt x="664" y="8"/>
                        </a:lnTo>
                        <a:lnTo>
                          <a:pt x="732" y="44"/>
                        </a:lnTo>
                        <a:lnTo>
                          <a:pt x="749" y="53"/>
                        </a:lnTo>
                        <a:lnTo>
                          <a:pt x="798" y="78"/>
                        </a:lnTo>
                        <a:lnTo>
                          <a:pt x="848" y="105"/>
                        </a:lnTo>
                        <a:lnTo>
                          <a:pt x="873" y="116"/>
                        </a:lnTo>
                        <a:lnTo>
                          <a:pt x="958" y="257"/>
                        </a:lnTo>
                        <a:lnTo>
                          <a:pt x="985" y="378"/>
                        </a:lnTo>
                        <a:lnTo>
                          <a:pt x="899" y="285"/>
                        </a:lnTo>
                        <a:lnTo>
                          <a:pt x="728" y="289"/>
                        </a:lnTo>
                        <a:lnTo>
                          <a:pt x="451" y="635"/>
                        </a:lnTo>
                        <a:lnTo>
                          <a:pt x="274" y="863"/>
                        </a:lnTo>
                        <a:lnTo>
                          <a:pt x="0" y="876"/>
                        </a:lnTo>
                        <a:lnTo>
                          <a:pt x="0" y="876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7131600" y="3826800"/>
                    <a:ext cx="23832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667">
                        <a:moveTo>
                          <a:pt x="0" y="561"/>
                        </a:moveTo>
                        <a:lnTo>
                          <a:pt x="146" y="667"/>
                        </a:lnTo>
                        <a:lnTo>
                          <a:pt x="585" y="460"/>
                        </a:lnTo>
                        <a:lnTo>
                          <a:pt x="905" y="207"/>
                        </a:lnTo>
                        <a:lnTo>
                          <a:pt x="817" y="70"/>
                        </a:lnTo>
                        <a:lnTo>
                          <a:pt x="701" y="4"/>
                        </a:lnTo>
                        <a:lnTo>
                          <a:pt x="540" y="0"/>
                        </a:lnTo>
                        <a:lnTo>
                          <a:pt x="405" y="46"/>
                        </a:lnTo>
                        <a:lnTo>
                          <a:pt x="228" y="131"/>
                        </a:lnTo>
                        <a:lnTo>
                          <a:pt x="95" y="253"/>
                        </a:lnTo>
                        <a:lnTo>
                          <a:pt x="36" y="435"/>
                        </a:lnTo>
                        <a:lnTo>
                          <a:pt x="0" y="561"/>
                        </a:lnTo>
                        <a:lnTo>
                          <a:pt x="0" y="561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6966000" y="4070520"/>
                    <a:ext cx="1072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446">
                        <a:moveTo>
                          <a:pt x="0" y="328"/>
                        </a:moveTo>
                        <a:lnTo>
                          <a:pt x="65" y="93"/>
                        </a:lnTo>
                        <a:lnTo>
                          <a:pt x="190" y="11"/>
                        </a:lnTo>
                        <a:lnTo>
                          <a:pt x="236" y="3"/>
                        </a:lnTo>
                        <a:lnTo>
                          <a:pt x="301" y="0"/>
                        </a:lnTo>
                        <a:lnTo>
                          <a:pt x="350" y="15"/>
                        </a:lnTo>
                        <a:lnTo>
                          <a:pt x="382" y="59"/>
                        </a:lnTo>
                        <a:lnTo>
                          <a:pt x="407" y="205"/>
                        </a:lnTo>
                        <a:lnTo>
                          <a:pt x="400" y="277"/>
                        </a:lnTo>
                        <a:lnTo>
                          <a:pt x="373" y="330"/>
                        </a:lnTo>
                        <a:lnTo>
                          <a:pt x="348" y="351"/>
                        </a:lnTo>
                        <a:lnTo>
                          <a:pt x="320" y="372"/>
                        </a:lnTo>
                        <a:lnTo>
                          <a:pt x="259" y="408"/>
                        </a:lnTo>
                        <a:lnTo>
                          <a:pt x="209" y="435"/>
                        </a:lnTo>
                        <a:lnTo>
                          <a:pt x="189" y="446"/>
                        </a:lnTo>
                        <a:lnTo>
                          <a:pt x="38" y="412"/>
                        </a:lnTo>
                        <a:lnTo>
                          <a:pt x="0" y="328"/>
                        </a:lnTo>
                        <a:lnTo>
                          <a:pt x="0" y="328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697440" y="4018320"/>
                    <a:ext cx="79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369">
                        <a:moveTo>
                          <a:pt x="0" y="257"/>
                        </a:moveTo>
                        <a:lnTo>
                          <a:pt x="8" y="171"/>
                        </a:lnTo>
                        <a:lnTo>
                          <a:pt x="29" y="99"/>
                        </a:lnTo>
                        <a:lnTo>
                          <a:pt x="44" y="65"/>
                        </a:lnTo>
                        <a:lnTo>
                          <a:pt x="67" y="38"/>
                        </a:lnTo>
                        <a:lnTo>
                          <a:pt x="105" y="6"/>
                        </a:lnTo>
                        <a:lnTo>
                          <a:pt x="124" y="0"/>
                        </a:lnTo>
                        <a:lnTo>
                          <a:pt x="131" y="9"/>
                        </a:lnTo>
                        <a:lnTo>
                          <a:pt x="238" y="25"/>
                        </a:lnTo>
                        <a:lnTo>
                          <a:pt x="303" y="122"/>
                        </a:lnTo>
                        <a:lnTo>
                          <a:pt x="247" y="253"/>
                        </a:lnTo>
                        <a:lnTo>
                          <a:pt x="122" y="369"/>
                        </a:lnTo>
                        <a:lnTo>
                          <a:pt x="0" y="257"/>
                        </a:lnTo>
                        <a:lnTo>
                          <a:pt x="0" y="257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203240" y="3836520"/>
                    <a:ext cx="16668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559">
                        <a:moveTo>
                          <a:pt x="0" y="559"/>
                        </a:moveTo>
                        <a:lnTo>
                          <a:pt x="24" y="542"/>
                        </a:lnTo>
                        <a:lnTo>
                          <a:pt x="55" y="521"/>
                        </a:lnTo>
                        <a:lnTo>
                          <a:pt x="93" y="494"/>
                        </a:lnTo>
                        <a:lnTo>
                          <a:pt x="137" y="464"/>
                        </a:lnTo>
                        <a:lnTo>
                          <a:pt x="186" y="428"/>
                        </a:lnTo>
                        <a:lnTo>
                          <a:pt x="237" y="388"/>
                        </a:lnTo>
                        <a:lnTo>
                          <a:pt x="289" y="344"/>
                        </a:lnTo>
                        <a:lnTo>
                          <a:pt x="340" y="298"/>
                        </a:lnTo>
                        <a:lnTo>
                          <a:pt x="387" y="253"/>
                        </a:lnTo>
                        <a:lnTo>
                          <a:pt x="429" y="205"/>
                        </a:lnTo>
                        <a:lnTo>
                          <a:pt x="464" y="160"/>
                        </a:lnTo>
                        <a:lnTo>
                          <a:pt x="502" y="74"/>
                        </a:lnTo>
                        <a:lnTo>
                          <a:pt x="486" y="0"/>
                        </a:lnTo>
                        <a:lnTo>
                          <a:pt x="513" y="19"/>
                        </a:lnTo>
                        <a:lnTo>
                          <a:pt x="540" y="40"/>
                        </a:lnTo>
                        <a:lnTo>
                          <a:pt x="570" y="66"/>
                        </a:lnTo>
                        <a:lnTo>
                          <a:pt x="633" y="158"/>
                        </a:lnTo>
                        <a:lnTo>
                          <a:pt x="604" y="188"/>
                        </a:lnTo>
                        <a:lnTo>
                          <a:pt x="572" y="224"/>
                        </a:lnTo>
                        <a:lnTo>
                          <a:pt x="541" y="253"/>
                        </a:lnTo>
                        <a:lnTo>
                          <a:pt x="530" y="266"/>
                        </a:lnTo>
                        <a:lnTo>
                          <a:pt x="194" y="477"/>
                        </a:lnTo>
                        <a:lnTo>
                          <a:pt x="0" y="559"/>
                        </a:lnTo>
                        <a:lnTo>
                          <a:pt x="0" y="559"/>
                        </a:lnTo>
                        <a:close/>
                      </a:path>
                    </a:pathLst>
                  </a:custGeom>
                  <a:solidFill>
                    <a:srgbClr val="8aa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670800" y="4145040"/>
                    <a:ext cx="41184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1" h="570">
                        <a:moveTo>
                          <a:pt x="6" y="127"/>
                        </a:moveTo>
                        <a:lnTo>
                          <a:pt x="0" y="61"/>
                        </a:lnTo>
                        <a:lnTo>
                          <a:pt x="10" y="15"/>
                        </a:lnTo>
                        <a:lnTo>
                          <a:pt x="42" y="0"/>
                        </a:lnTo>
                        <a:lnTo>
                          <a:pt x="96" y="32"/>
                        </a:lnTo>
                        <a:lnTo>
                          <a:pt x="151" y="87"/>
                        </a:lnTo>
                        <a:lnTo>
                          <a:pt x="192" y="144"/>
                        </a:lnTo>
                        <a:lnTo>
                          <a:pt x="208" y="167"/>
                        </a:lnTo>
                        <a:lnTo>
                          <a:pt x="225" y="180"/>
                        </a:lnTo>
                        <a:lnTo>
                          <a:pt x="270" y="213"/>
                        </a:lnTo>
                        <a:lnTo>
                          <a:pt x="303" y="234"/>
                        </a:lnTo>
                        <a:lnTo>
                          <a:pt x="341" y="256"/>
                        </a:lnTo>
                        <a:lnTo>
                          <a:pt x="383" y="281"/>
                        </a:lnTo>
                        <a:lnTo>
                          <a:pt x="430" y="306"/>
                        </a:lnTo>
                        <a:lnTo>
                          <a:pt x="480" y="331"/>
                        </a:lnTo>
                        <a:lnTo>
                          <a:pt x="533" y="353"/>
                        </a:lnTo>
                        <a:lnTo>
                          <a:pt x="588" y="374"/>
                        </a:lnTo>
                        <a:lnTo>
                          <a:pt x="643" y="391"/>
                        </a:lnTo>
                        <a:lnTo>
                          <a:pt x="759" y="412"/>
                        </a:lnTo>
                        <a:lnTo>
                          <a:pt x="871" y="409"/>
                        </a:lnTo>
                        <a:lnTo>
                          <a:pt x="1162" y="374"/>
                        </a:lnTo>
                        <a:lnTo>
                          <a:pt x="1232" y="376"/>
                        </a:lnTo>
                        <a:lnTo>
                          <a:pt x="1314" y="353"/>
                        </a:lnTo>
                        <a:lnTo>
                          <a:pt x="1404" y="327"/>
                        </a:lnTo>
                        <a:lnTo>
                          <a:pt x="1425" y="313"/>
                        </a:lnTo>
                        <a:lnTo>
                          <a:pt x="1461" y="294"/>
                        </a:lnTo>
                        <a:lnTo>
                          <a:pt x="1502" y="281"/>
                        </a:lnTo>
                        <a:lnTo>
                          <a:pt x="1537" y="281"/>
                        </a:lnTo>
                        <a:lnTo>
                          <a:pt x="1561" y="367"/>
                        </a:lnTo>
                        <a:lnTo>
                          <a:pt x="1552" y="454"/>
                        </a:lnTo>
                        <a:lnTo>
                          <a:pt x="1535" y="488"/>
                        </a:lnTo>
                        <a:lnTo>
                          <a:pt x="1525" y="507"/>
                        </a:lnTo>
                        <a:lnTo>
                          <a:pt x="1198" y="570"/>
                        </a:lnTo>
                        <a:lnTo>
                          <a:pt x="727" y="532"/>
                        </a:lnTo>
                        <a:lnTo>
                          <a:pt x="402" y="437"/>
                        </a:lnTo>
                        <a:lnTo>
                          <a:pt x="101" y="236"/>
                        </a:lnTo>
                        <a:lnTo>
                          <a:pt x="6" y="127"/>
                        </a:lnTo>
                        <a:lnTo>
                          <a:pt x="6" y="127"/>
                        </a:lnTo>
                        <a:close/>
                      </a:path>
                    </a:pathLst>
                  </a:cu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6895800" y="4044240"/>
                    <a:ext cx="35532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8" h="937">
                        <a:moveTo>
                          <a:pt x="415" y="800"/>
                        </a:moveTo>
                        <a:lnTo>
                          <a:pt x="458" y="773"/>
                        </a:lnTo>
                        <a:lnTo>
                          <a:pt x="506" y="737"/>
                        </a:lnTo>
                        <a:lnTo>
                          <a:pt x="534" y="713"/>
                        </a:lnTo>
                        <a:lnTo>
                          <a:pt x="565" y="686"/>
                        </a:lnTo>
                        <a:lnTo>
                          <a:pt x="629" y="618"/>
                        </a:lnTo>
                        <a:lnTo>
                          <a:pt x="662" y="578"/>
                        </a:lnTo>
                        <a:lnTo>
                          <a:pt x="696" y="532"/>
                        </a:lnTo>
                        <a:lnTo>
                          <a:pt x="728" y="483"/>
                        </a:lnTo>
                        <a:lnTo>
                          <a:pt x="759" y="427"/>
                        </a:lnTo>
                        <a:lnTo>
                          <a:pt x="814" y="304"/>
                        </a:lnTo>
                        <a:lnTo>
                          <a:pt x="848" y="249"/>
                        </a:lnTo>
                        <a:lnTo>
                          <a:pt x="879" y="199"/>
                        </a:lnTo>
                        <a:lnTo>
                          <a:pt x="907" y="158"/>
                        </a:lnTo>
                        <a:lnTo>
                          <a:pt x="934" y="123"/>
                        </a:lnTo>
                        <a:lnTo>
                          <a:pt x="981" y="70"/>
                        </a:lnTo>
                        <a:lnTo>
                          <a:pt x="1017" y="36"/>
                        </a:lnTo>
                        <a:lnTo>
                          <a:pt x="1074" y="7"/>
                        </a:lnTo>
                        <a:lnTo>
                          <a:pt x="1110" y="0"/>
                        </a:lnTo>
                        <a:lnTo>
                          <a:pt x="1192" y="9"/>
                        </a:lnTo>
                        <a:lnTo>
                          <a:pt x="1244" y="44"/>
                        </a:lnTo>
                        <a:lnTo>
                          <a:pt x="1297" y="106"/>
                        </a:lnTo>
                        <a:lnTo>
                          <a:pt x="1339" y="226"/>
                        </a:lnTo>
                        <a:lnTo>
                          <a:pt x="1333" y="264"/>
                        </a:lnTo>
                        <a:lnTo>
                          <a:pt x="1348" y="452"/>
                        </a:lnTo>
                        <a:lnTo>
                          <a:pt x="1293" y="502"/>
                        </a:lnTo>
                        <a:lnTo>
                          <a:pt x="1232" y="245"/>
                        </a:lnTo>
                        <a:lnTo>
                          <a:pt x="1040" y="209"/>
                        </a:lnTo>
                        <a:lnTo>
                          <a:pt x="939" y="304"/>
                        </a:lnTo>
                        <a:lnTo>
                          <a:pt x="793" y="523"/>
                        </a:lnTo>
                        <a:lnTo>
                          <a:pt x="717" y="851"/>
                        </a:lnTo>
                        <a:lnTo>
                          <a:pt x="744" y="906"/>
                        </a:lnTo>
                        <a:lnTo>
                          <a:pt x="430" y="937"/>
                        </a:lnTo>
                        <a:lnTo>
                          <a:pt x="0" y="912"/>
                        </a:lnTo>
                        <a:lnTo>
                          <a:pt x="415" y="800"/>
                        </a:lnTo>
                        <a:lnTo>
                          <a:pt x="415" y="800"/>
                        </a:lnTo>
                        <a:close/>
                      </a:path>
                    </a:pathLst>
                  </a:cu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6869520" y="3816000"/>
                    <a:ext cx="2858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6" h="606">
                        <a:moveTo>
                          <a:pt x="0" y="393"/>
                        </a:moveTo>
                        <a:lnTo>
                          <a:pt x="187" y="25"/>
                        </a:lnTo>
                        <a:lnTo>
                          <a:pt x="358" y="0"/>
                        </a:lnTo>
                        <a:lnTo>
                          <a:pt x="1046" y="150"/>
                        </a:lnTo>
                        <a:lnTo>
                          <a:pt x="1086" y="287"/>
                        </a:lnTo>
                        <a:lnTo>
                          <a:pt x="1016" y="565"/>
                        </a:lnTo>
                        <a:lnTo>
                          <a:pt x="940" y="606"/>
                        </a:lnTo>
                        <a:lnTo>
                          <a:pt x="223" y="570"/>
                        </a:lnTo>
                        <a:lnTo>
                          <a:pt x="19" y="475"/>
                        </a:lnTo>
                        <a:lnTo>
                          <a:pt x="0" y="393"/>
                        </a:lnTo>
                        <a:lnTo>
                          <a:pt x="0" y="393"/>
                        </a:lnTo>
                        <a:close/>
                      </a:path>
                    </a:pathLst>
                  </a:custGeom>
                  <a:solidFill>
                    <a:srgbClr val="a0e5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6911280" y="3836520"/>
                    <a:ext cx="2210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498">
                        <a:moveTo>
                          <a:pt x="590" y="0"/>
                        </a:moveTo>
                        <a:lnTo>
                          <a:pt x="576" y="19"/>
                        </a:lnTo>
                        <a:lnTo>
                          <a:pt x="538" y="68"/>
                        </a:lnTo>
                        <a:lnTo>
                          <a:pt x="481" y="139"/>
                        </a:lnTo>
                        <a:lnTo>
                          <a:pt x="447" y="179"/>
                        </a:lnTo>
                        <a:lnTo>
                          <a:pt x="409" y="220"/>
                        </a:lnTo>
                        <a:lnTo>
                          <a:pt x="369" y="262"/>
                        </a:lnTo>
                        <a:lnTo>
                          <a:pt x="325" y="304"/>
                        </a:lnTo>
                        <a:lnTo>
                          <a:pt x="282" y="344"/>
                        </a:lnTo>
                        <a:lnTo>
                          <a:pt x="238" y="380"/>
                        </a:lnTo>
                        <a:lnTo>
                          <a:pt x="194" y="411"/>
                        </a:lnTo>
                        <a:lnTo>
                          <a:pt x="148" y="437"/>
                        </a:lnTo>
                        <a:lnTo>
                          <a:pt x="65" y="468"/>
                        </a:lnTo>
                        <a:lnTo>
                          <a:pt x="0" y="485"/>
                        </a:lnTo>
                        <a:lnTo>
                          <a:pt x="67" y="494"/>
                        </a:lnTo>
                        <a:lnTo>
                          <a:pt x="232" y="498"/>
                        </a:lnTo>
                        <a:lnTo>
                          <a:pt x="331" y="462"/>
                        </a:lnTo>
                        <a:lnTo>
                          <a:pt x="430" y="416"/>
                        </a:lnTo>
                        <a:lnTo>
                          <a:pt x="487" y="392"/>
                        </a:lnTo>
                        <a:lnTo>
                          <a:pt x="544" y="361"/>
                        </a:lnTo>
                        <a:lnTo>
                          <a:pt x="601" y="329"/>
                        </a:lnTo>
                        <a:lnTo>
                          <a:pt x="656" y="295"/>
                        </a:lnTo>
                        <a:lnTo>
                          <a:pt x="707" y="258"/>
                        </a:lnTo>
                        <a:lnTo>
                          <a:pt x="753" y="222"/>
                        </a:lnTo>
                        <a:lnTo>
                          <a:pt x="820" y="144"/>
                        </a:lnTo>
                        <a:lnTo>
                          <a:pt x="839" y="65"/>
                        </a:lnTo>
                        <a:lnTo>
                          <a:pt x="590" y="0"/>
                        </a:lnTo>
                        <a:lnTo>
                          <a:pt x="59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6705000" y="4043880"/>
                    <a:ext cx="651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276">
                        <a:moveTo>
                          <a:pt x="0" y="192"/>
                        </a:moveTo>
                        <a:lnTo>
                          <a:pt x="80" y="184"/>
                        </a:lnTo>
                        <a:lnTo>
                          <a:pt x="161" y="129"/>
                        </a:lnTo>
                        <a:lnTo>
                          <a:pt x="205" y="76"/>
                        </a:lnTo>
                        <a:lnTo>
                          <a:pt x="249" y="0"/>
                        </a:lnTo>
                        <a:lnTo>
                          <a:pt x="222" y="209"/>
                        </a:lnTo>
                        <a:lnTo>
                          <a:pt x="112" y="276"/>
                        </a:lnTo>
                        <a:lnTo>
                          <a:pt x="0" y="192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7079400" y="4088520"/>
                    <a:ext cx="156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5" h="928">
                        <a:moveTo>
                          <a:pt x="0" y="726"/>
                        </a:moveTo>
                        <a:lnTo>
                          <a:pt x="23" y="774"/>
                        </a:lnTo>
                        <a:lnTo>
                          <a:pt x="49" y="817"/>
                        </a:lnTo>
                        <a:lnTo>
                          <a:pt x="86" y="865"/>
                        </a:lnTo>
                        <a:lnTo>
                          <a:pt x="106" y="886"/>
                        </a:lnTo>
                        <a:lnTo>
                          <a:pt x="131" y="905"/>
                        </a:lnTo>
                        <a:lnTo>
                          <a:pt x="183" y="928"/>
                        </a:lnTo>
                        <a:lnTo>
                          <a:pt x="241" y="926"/>
                        </a:lnTo>
                        <a:lnTo>
                          <a:pt x="306" y="888"/>
                        </a:lnTo>
                        <a:lnTo>
                          <a:pt x="338" y="857"/>
                        </a:lnTo>
                        <a:lnTo>
                          <a:pt x="369" y="825"/>
                        </a:lnTo>
                        <a:lnTo>
                          <a:pt x="424" y="760"/>
                        </a:lnTo>
                        <a:lnTo>
                          <a:pt x="472" y="698"/>
                        </a:lnTo>
                        <a:lnTo>
                          <a:pt x="510" y="639"/>
                        </a:lnTo>
                        <a:lnTo>
                          <a:pt x="538" y="586"/>
                        </a:lnTo>
                        <a:lnTo>
                          <a:pt x="559" y="544"/>
                        </a:lnTo>
                        <a:lnTo>
                          <a:pt x="576" y="508"/>
                        </a:lnTo>
                        <a:lnTo>
                          <a:pt x="595" y="169"/>
                        </a:lnTo>
                        <a:lnTo>
                          <a:pt x="511" y="25"/>
                        </a:lnTo>
                        <a:lnTo>
                          <a:pt x="335" y="0"/>
                        </a:lnTo>
                        <a:lnTo>
                          <a:pt x="127" y="300"/>
                        </a:lnTo>
                        <a:lnTo>
                          <a:pt x="116" y="335"/>
                        </a:lnTo>
                        <a:lnTo>
                          <a:pt x="91" y="413"/>
                        </a:lnTo>
                        <a:lnTo>
                          <a:pt x="61" y="509"/>
                        </a:lnTo>
                        <a:lnTo>
                          <a:pt x="42" y="595"/>
                        </a:lnTo>
                        <a:lnTo>
                          <a:pt x="15" y="694"/>
                        </a:lnTo>
                        <a:lnTo>
                          <a:pt x="0" y="726"/>
                        </a:lnTo>
                        <a:lnTo>
                          <a:pt x="0" y="726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7141680" y="4149720"/>
                    <a:ext cx="622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469">
                        <a:moveTo>
                          <a:pt x="156" y="0"/>
                        </a:moveTo>
                        <a:lnTo>
                          <a:pt x="57" y="80"/>
                        </a:lnTo>
                        <a:lnTo>
                          <a:pt x="2" y="382"/>
                        </a:lnTo>
                        <a:lnTo>
                          <a:pt x="0" y="367"/>
                        </a:lnTo>
                        <a:lnTo>
                          <a:pt x="15" y="439"/>
                        </a:lnTo>
                        <a:lnTo>
                          <a:pt x="30" y="468"/>
                        </a:lnTo>
                        <a:lnTo>
                          <a:pt x="49" y="469"/>
                        </a:lnTo>
                        <a:lnTo>
                          <a:pt x="102" y="420"/>
                        </a:lnTo>
                        <a:lnTo>
                          <a:pt x="150" y="350"/>
                        </a:lnTo>
                        <a:lnTo>
                          <a:pt x="171" y="314"/>
                        </a:lnTo>
                        <a:lnTo>
                          <a:pt x="184" y="279"/>
                        </a:lnTo>
                        <a:lnTo>
                          <a:pt x="209" y="201"/>
                        </a:lnTo>
                        <a:lnTo>
                          <a:pt x="236" y="47"/>
                        </a:lnTo>
                        <a:lnTo>
                          <a:pt x="215" y="17"/>
                        </a:lnTo>
                        <a:lnTo>
                          <a:pt x="188" y="4"/>
                        </a:lnTo>
                        <a:lnTo>
                          <a:pt x="156" y="0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1c40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6966000" y="4106880"/>
                    <a:ext cx="1036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4" h="327">
                        <a:moveTo>
                          <a:pt x="0" y="183"/>
                        </a:moveTo>
                        <a:lnTo>
                          <a:pt x="36" y="202"/>
                        </a:lnTo>
                        <a:lnTo>
                          <a:pt x="130" y="217"/>
                        </a:lnTo>
                        <a:lnTo>
                          <a:pt x="257" y="170"/>
                        </a:lnTo>
                        <a:lnTo>
                          <a:pt x="291" y="141"/>
                        </a:lnTo>
                        <a:lnTo>
                          <a:pt x="325" y="105"/>
                        </a:lnTo>
                        <a:lnTo>
                          <a:pt x="360" y="57"/>
                        </a:lnTo>
                        <a:lnTo>
                          <a:pt x="394" y="0"/>
                        </a:lnTo>
                        <a:lnTo>
                          <a:pt x="392" y="107"/>
                        </a:lnTo>
                        <a:lnTo>
                          <a:pt x="381" y="154"/>
                        </a:lnTo>
                        <a:lnTo>
                          <a:pt x="360" y="202"/>
                        </a:lnTo>
                        <a:lnTo>
                          <a:pt x="327" y="248"/>
                        </a:lnTo>
                        <a:lnTo>
                          <a:pt x="305" y="268"/>
                        </a:lnTo>
                        <a:lnTo>
                          <a:pt x="280" y="287"/>
                        </a:lnTo>
                        <a:lnTo>
                          <a:pt x="227" y="316"/>
                        </a:lnTo>
                        <a:lnTo>
                          <a:pt x="179" y="327"/>
                        </a:lnTo>
                        <a:lnTo>
                          <a:pt x="99" y="316"/>
                        </a:lnTo>
                        <a:lnTo>
                          <a:pt x="46" y="287"/>
                        </a:lnTo>
                        <a:lnTo>
                          <a:pt x="29" y="270"/>
                        </a:lnTo>
                        <a:lnTo>
                          <a:pt x="0" y="183"/>
                        </a:lnTo>
                        <a:lnTo>
                          <a:pt x="0" y="183"/>
                        </a:lnTo>
                        <a:close/>
                      </a:path>
                    </a:pathLst>
                  </a:custGeom>
                  <a:solidFill>
                    <a:srgbClr val="96ab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6935760" y="3850920"/>
                    <a:ext cx="2599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85" h="506">
                        <a:moveTo>
                          <a:pt x="0" y="434"/>
                        </a:moveTo>
                        <a:lnTo>
                          <a:pt x="86" y="416"/>
                        </a:lnTo>
                        <a:lnTo>
                          <a:pt x="282" y="365"/>
                        </a:lnTo>
                        <a:lnTo>
                          <a:pt x="390" y="329"/>
                        </a:lnTo>
                        <a:lnTo>
                          <a:pt x="489" y="283"/>
                        </a:lnTo>
                        <a:lnTo>
                          <a:pt x="567" y="232"/>
                        </a:lnTo>
                        <a:lnTo>
                          <a:pt x="612" y="173"/>
                        </a:lnTo>
                        <a:lnTo>
                          <a:pt x="688" y="0"/>
                        </a:lnTo>
                        <a:lnTo>
                          <a:pt x="823" y="0"/>
                        </a:lnTo>
                        <a:lnTo>
                          <a:pt x="985" y="23"/>
                        </a:lnTo>
                        <a:lnTo>
                          <a:pt x="949" y="69"/>
                        </a:lnTo>
                        <a:lnTo>
                          <a:pt x="911" y="116"/>
                        </a:lnTo>
                        <a:lnTo>
                          <a:pt x="871" y="173"/>
                        </a:lnTo>
                        <a:lnTo>
                          <a:pt x="829" y="234"/>
                        </a:lnTo>
                        <a:lnTo>
                          <a:pt x="793" y="293"/>
                        </a:lnTo>
                        <a:lnTo>
                          <a:pt x="763" y="380"/>
                        </a:lnTo>
                        <a:lnTo>
                          <a:pt x="759" y="472"/>
                        </a:lnTo>
                        <a:lnTo>
                          <a:pt x="747" y="506"/>
                        </a:lnTo>
                        <a:lnTo>
                          <a:pt x="531" y="468"/>
                        </a:lnTo>
                        <a:lnTo>
                          <a:pt x="0" y="434"/>
                        </a:lnTo>
                        <a:lnTo>
                          <a:pt x="0" y="434"/>
                        </a:lnTo>
                        <a:close/>
                      </a:path>
                    </a:pathLst>
                  </a:custGeom>
                  <a:solidFill>
                    <a:srgbClr val="8aa1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7050240" y="3915360"/>
                    <a:ext cx="968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9" h="293">
                        <a:moveTo>
                          <a:pt x="0" y="223"/>
                        </a:moveTo>
                        <a:lnTo>
                          <a:pt x="42" y="208"/>
                        </a:lnTo>
                        <a:lnTo>
                          <a:pt x="142" y="166"/>
                        </a:lnTo>
                        <a:lnTo>
                          <a:pt x="203" y="133"/>
                        </a:lnTo>
                        <a:lnTo>
                          <a:pt x="264" y="95"/>
                        </a:lnTo>
                        <a:lnTo>
                          <a:pt x="321" y="52"/>
                        </a:lnTo>
                        <a:lnTo>
                          <a:pt x="369" y="0"/>
                        </a:lnTo>
                        <a:lnTo>
                          <a:pt x="319" y="227"/>
                        </a:lnTo>
                        <a:lnTo>
                          <a:pt x="340" y="293"/>
                        </a:lnTo>
                        <a:lnTo>
                          <a:pt x="302" y="278"/>
                        </a:lnTo>
                        <a:lnTo>
                          <a:pt x="209" y="246"/>
                        </a:lnTo>
                        <a:lnTo>
                          <a:pt x="97" y="221"/>
                        </a:lnTo>
                        <a:lnTo>
                          <a:pt x="0" y="223"/>
                        </a:lnTo>
                        <a:lnTo>
                          <a:pt x="0" y="223"/>
                        </a:lnTo>
                        <a:close/>
                      </a:path>
                    </a:pathLst>
                  </a:custGeom>
                  <a:solidFill>
                    <a:srgbClr val="b8b8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863760" y="3749760"/>
                    <a:ext cx="33372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7" h="770">
                        <a:moveTo>
                          <a:pt x="232" y="320"/>
                        </a:moveTo>
                        <a:lnTo>
                          <a:pt x="337" y="302"/>
                        </a:lnTo>
                        <a:lnTo>
                          <a:pt x="559" y="314"/>
                        </a:lnTo>
                        <a:lnTo>
                          <a:pt x="843" y="371"/>
                        </a:lnTo>
                        <a:lnTo>
                          <a:pt x="991" y="424"/>
                        </a:lnTo>
                        <a:lnTo>
                          <a:pt x="1065" y="456"/>
                        </a:lnTo>
                        <a:lnTo>
                          <a:pt x="1136" y="494"/>
                        </a:lnTo>
                        <a:lnTo>
                          <a:pt x="1185" y="494"/>
                        </a:lnTo>
                        <a:lnTo>
                          <a:pt x="1242" y="462"/>
                        </a:lnTo>
                        <a:lnTo>
                          <a:pt x="1267" y="422"/>
                        </a:lnTo>
                        <a:lnTo>
                          <a:pt x="1259" y="405"/>
                        </a:lnTo>
                        <a:lnTo>
                          <a:pt x="1229" y="394"/>
                        </a:lnTo>
                        <a:lnTo>
                          <a:pt x="1122" y="373"/>
                        </a:lnTo>
                        <a:lnTo>
                          <a:pt x="953" y="335"/>
                        </a:lnTo>
                        <a:lnTo>
                          <a:pt x="835" y="310"/>
                        </a:lnTo>
                        <a:lnTo>
                          <a:pt x="691" y="283"/>
                        </a:lnTo>
                        <a:lnTo>
                          <a:pt x="516" y="255"/>
                        </a:lnTo>
                        <a:lnTo>
                          <a:pt x="307" y="225"/>
                        </a:lnTo>
                        <a:lnTo>
                          <a:pt x="293" y="211"/>
                        </a:lnTo>
                        <a:lnTo>
                          <a:pt x="322" y="190"/>
                        </a:lnTo>
                        <a:lnTo>
                          <a:pt x="383" y="162"/>
                        </a:lnTo>
                        <a:lnTo>
                          <a:pt x="462" y="129"/>
                        </a:lnTo>
                        <a:lnTo>
                          <a:pt x="554" y="97"/>
                        </a:lnTo>
                        <a:lnTo>
                          <a:pt x="641" y="69"/>
                        </a:lnTo>
                        <a:lnTo>
                          <a:pt x="769" y="38"/>
                        </a:lnTo>
                        <a:lnTo>
                          <a:pt x="839" y="15"/>
                        </a:lnTo>
                        <a:lnTo>
                          <a:pt x="837" y="0"/>
                        </a:lnTo>
                        <a:lnTo>
                          <a:pt x="628" y="38"/>
                        </a:lnTo>
                        <a:lnTo>
                          <a:pt x="531" y="67"/>
                        </a:lnTo>
                        <a:lnTo>
                          <a:pt x="424" y="103"/>
                        </a:lnTo>
                        <a:lnTo>
                          <a:pt x="314" y="152"/>
                        </a:lnTo>
                        <a:lnTo>
                          <a:pt x="261" y="181"/>
                        </a:lnTo>
                        <a:lnTo>
                          <a:pt x="208" y="213"/>
                        </a:lnTo>
                        <a:lnTo>
                          <a:pt x="181" y="247"/>
                        </a:lnTo>
                        <a:lnTo>
                          <a:pt x="153" y="289"/>
                        </a:lnTo>
                        <a:lnTo>
                          <a:pt x="120" y="342"/>
                        </a:lnTo>
                        <a:lnTo>
                          <a:pt x="84" y="407"/>
                        </a:lnTo>
                        <a:lnTo>
                          <a:pt x="52" y="481"/>
                        </a:lnTo>
                        <a:lnTo>
                          <a:pt x="0" y="648"/>
                        </a:lnTo>
                        <a:lnTo>
                          <a:pt x="0" y="770"/>
                        </a:lnTo>
                        <a:lnTo>
                          <a:pt x="48" y="696"/>
                        </a:lnTo>
                        <a:lnTo>
                          <a:pt x="54" y="643"/>
                        </a:lnTo>
                        <a:lnTo>
                          <a:pt x="71" y="601"/>
                        </a:lnTo>
                        <a:lnTo>
                          <a:pt x="116" y="506"/>
                        </a:lnTo>
                        <a:lnTo>
                          <a:pt x="145" y="451"/>
                        </a:lnTo>
                        <a:lnTo>
                          <a:pt x="173" y="397"/>
                        </a:lnTo>
                        <a:lnTo>
                          <a:pt x="204" y="352"/>
                        </a:lnTo>
                        <a:lnTo>
                          <a:pt x="232" y="320"/>
                        </a:lnTo>
                        <a:lnTo>
                          <a:pt x="232" y="3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6928200" y="3972600"/>
                    <a:ext cx="22356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614">
                        <a:moveTo>
                          <a:pt x="741" y="0"/>
                        </a:moveTo>
                        <a:lnTo>
                          <a:pt x="848" y="32"/>
                        </a:lnTo>
                        <a:lnTo>
                          <a:pt x="760" y="65"/>
                        </a:lnTo>
                        <a:lnTo>
                          <a:pt x="663" y="105"/>
                        </a:lnTo>
                        <a:lnTo>
                          <a:pt x="606" y="131"/>
                        </a:lnTo>
                        <a:lnTo>
                          <a:pt x="544" y="163"/>
                        </a:lnTo>
                        <a:lnTo>
                          <a:pt x="477" y="200"/>
                        </a:lnTo>
                        <a:lnTo>
                          <a:pt x="407" y="243"/>
                        </a:lnTo>
                        <a:lnTo>
                          <a:pt x="336" y="291"/>
                        </a:lnTo>
                        <a:lnTo>
                          <a:pt x="300" y="316"/>
                        </a:lnTo>
                        <a:lnTo>
                          <a:pt x="266" y="344"/>
                        </a:lnTo>
                        <a:lnTo>
                          <a:pt x="230" y="373"/>
                        </a:lnTo>
                        <a:lnTo>
                          <a:pt x="196" y="403"/>
                        </a:lnTo>
                        <a:lnTo>
                          <a:pt x="161" y="433"/>
                        </a:lnTo>
                        <a:lnTo>
                          <a:pt x="127" y="468"/>
                        </a:lnTo>
                        <a:lnTo>
                          <a:pt x="61" y="538"/>
                        </a:lnTo>
                        <a:lnTo>
                          <a:pt x="0" y="614"/>
                        </a:lnTo>
                        <a:lnTo>
                          <a:pt x="0" y="584"/>
                        </a:lnTo>
                        <a:lnTo>
                          <a:pt x="34" y="519"/>
                        </a:lnTo>
                        <a:lnTo>
                          <a:pt x="61" y="477"/>
                        </a:lnTo>
                        <a:lnTo>
                          <a:pt x="95" y="431"/>
                        </a:lnTo>
                        <a:lnTo>
                          <a:pt x="137" y="382"/>
                        </a:lnTo>
                        <a:lnTo>
                          <a:pt x="186" y="331"/>
                        </a:lnTo>
                        <a:lnTo>
                          <a:pt x="215" y="304"/>
                        </a:lnTo>
                        <a:lnTo>
                          <a:pt x="243" y="277"/>
                        </a:lnTo>
                        <a:lnTo>
                          <a:pt x="275" y="249"/>
                        </a:lnTo>
                        <a:lnTo>
                          <a:pt x="310" y="222"/>
                        </a:lnTo>
                        <a:lnTo>
                          <a:pt x="346" y="196"/>
                        </a:lnTo>
                        <a:lnTo>
                          <a:pt x="386" y="169"/>
                        </a:lnTo>
                        <a:lnTo>
                          <a:pt x="426" y="143"/>
                        </a:lnTo>
                        <a:lnTo>
                          <a:pt x="469" y="118"/>
                        </a:lnTo>
                        <a:lnTo>
                          <a:pt x="515" y="93"/>
                        </a:lnTo>
                        <a:lnTo>
                          <a:pt x="564" y="68"/>
                        </a:lnTo>
                        <a:lnTo>
                          <a:pt x="614" y="44"/>
                        </a:lnTo>
                        <a:lnTo>
                          <a:pt x="667" y="23"/>
                        </a:lnTo>
                        <a:lnTo>
                          <a:pt x="741" y="0"/>
                        </a:lnTo>
                        <a:lnTo>
                          <a:pt x="74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7104240" y="3814920"/>
                    <a:ext cx="20232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1">
                        <a:moveTo>
                          <a:pt x="74" y="599"/>
                        </a:moveTo>
                        <a:lnTo>
                          <a:pt x="88" y="536"/>
                        </a:lnTo>
                        <a:lnTo>
                          <a:pt x="110" y="466"/>
                        </a:lnTo>
                        <a:lnTo>
                          <a:pt x="147" y="382"/>
                        </a:lnTo>
                        <a:lnTo>
                          <a:pt x="171" y="339"/>
                        </a:lnTo>
                        <a:lnTo>
                          <a:pt x="200" y="293"/>
                        </a:lnTo>
                        <a:lnTo>
                          <a:pt x="236" y="247"/>
                        </a:lnTo>
                        <a:lnTo>
                          <a:pt x="278" y="206"/>
                        </a:lnTo>
                        <a:lnTo>
                          <a:pt x="325" y="164"/>
                        </a:lnTo>
                        <a:lnTo>
                          <a:pt x="379" y="126"/>
                        </a:lnTo>
                        <a:lnTo>
                          <a:pt x="441" y="93"/>
                        </a:lnTo>
                        <a:lnTo>
                          <a:pt x="510" y="65"/>
                        </a:lnTo>
                        <a:lnTo>
                          <a:pt x="610" y="31"/>
                        </a:lnTo>
                        <a:lnTo>
                          <a:pt x="685" y="6"/>
                        </a:lnTo>
                        <a:lnTo>
                          <a:pt x="768" y="0"/>
                        </a:lnTo>
                        <a:lnTo>
                          <a:pt x="740" y="59"/>
                        </a:lnTo>
                        <a:lnTo>
                          <a:pt x="645" y="67"/>
                        </a:lnTo>
                        <a:lnTo>
                          <a:pt x="561" y="103"/>
                        </a:lnTo>
                        <a:lnTo>
                          <a:pt x="458" y="148"/>
                        </a:lnTo>
                        <a:lnTo>
                          <a:pt x="392" y="188"/>
                        </a:lnTo>
                        <a:lnTo>
                          <a:pt x="323" y="232"/>
                        </a:lnTo>
                        <a:lnTo>
                          <a:pt x="253" y="308"/>
                        </a:lnTo>
                        <a:lnTo>
                          <a:pt x="209" y="371"/>
                        </a:lnTo>
                        <a:lnTo>
                          <a:pt x="171" y="451"/>
                        </a:lnTo>
                        <a:lnTo>
                          <a:pt x="154" y="536"/>
                        </a:lnTo>
                        <a:lnTo>
                          <a:pt x="166" y="595"/>
                        </a:lnTo>
                        <a:lnTo>
                          <a:pt x="181" y="631"/>
                        </a:lnTo>
                        <a:lnTo>
                          <a:pt x="0" y="622"/>
                        </a:lnTo>
                        <a:lnTo>
                          <a:pt x="74" y="599"/>
                        </a:lnTo>
                        <a:lnTo>
                          <a:pt x="74" y="5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7058160" y="3749400"/>
                    <a:ext cx="3589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1" h="671">
                        <a:moveTo>
                          <a:pt x="126" y="29"/>
                        </a:moveTo>
                        <a:lnTo>
                          <a:pt x="280" y="23"/>
                        </a:lnTo>
                        <a:lnTo>
                          <a:pt x="639" y="65"/>
                        </a:lnTo>
                        <a:lnTo>
                          <a:pt x="742" y="95"/>
                        </a:lnTo>
                        <a:lnTo>
                          <a:pt x="846" y="135"/>
                        </a:lnTo>
                        <a:lnTo>
                          <a:pt x="949" y="187"/>
                        </a:lnTo>
                        <a:lnTo>
                          <a:pt x="1000" y="217"/>
                        </a:lnTo>
                        <a:lnTo>
                          <a:pt x="1050" y="251"/>
                        </a:lnTo>
                        <a:lnTo>
                          <a:pt x="1097" y="287"/>
                        </a:lnTo>
                        <a:lnTo>
                          <a:pt x="1143" y="329"/>
                        </a:lnTo>
                        <a:lnTo>
                          <a:pt x="1187" y="375"/>
                        </a:lnTo>
                        <a:lnTo>
                          <a:pt x="1226" y="426"/>
                        </a:lnTo>
                        <a:lnTo>
                          <a:pt x="1264" y="479"/>
                        </a:lnTo>
                        <a:lnTo>
                          <a:pt x="1301" y="538"/>
                        </a:lnTo>
                        <a:lnTo>
                          <a:pt x="1333" y="603"/>
                        </a:lnTo>
                        <a:lnTo>
                          <a:pt x="1361" y="671"/>
                        </a:lnTo>
                        <a:lnTo>
                          <a:pt x="1356" y="591"/>
                        </a:lnTo>
                        <a:lnTo>
                          <a:pt x="1337" y="508"/>
                        </a:lnTo>
                        <a:lnTo>
                          <a:pt x="1320" y="460"/>
                        </a:lnTo>
                        <a:lnTo>
                          <a:pt x="1295" y="409"/>
                        </a:lnTo>
                        <a:lnTo>
                          <a:pt x="1261" y="356"/>
                        </a:lnTo>
                        <a:lnTo>
                          <a:pt x="1219" y="303"/>
                        </a:lnTo>
                        <a:lnTo>
                          <a:pt x="1194" y="276"/>
                        </a:lnTo>
                        <a:lnTo>
                          <a:pt x="1168" y="251"/>
                        </a:lnTo>
                        <a:lnTo>
                          <a:pt x="1137" y="225"/>
                        </a:lnTo>
                        <a:lnTo>
                          <a:pt x="1103" y="200"/>
                        </a:lnTo>
                        <a:lnTo>
                          <a:pt x="1069" y="177"/>
                        </a:lnTo>
                        <a:lnTo>
                          <a:pt x="1029" y="154"/>
                        </a:lnTo>
                        <a:lnTo>
                          <a:pt x="985" y="133"/>
                        </a:lnTo>
                        <a:lnTo>
                          <a:pt x="939" y="112"/>
                        </a:lnTo>
                        <a:lnTo>
                          <a:pt x="835" y="78"/>
                        </a:lnTo>
                        <a:lnTo>
                          <a:pt x="715" y="50"/>
                        </a:lnTo>
                        <a:lnTo>
                          <a:pt x="652" y="40"/>
                        </a:lnTo>
                        <a:lnTo>
                          <a:pt x="498" y="19"/>
                        </a:lnTo>
                        <a:lnTo>
                          <a:pt x="299" y="0"/>
                        </a:lnTo>
                        <a:lnTo>
                          <a:pt x="99" y="2"/>
                        </a:lnTo>
                        <a:lnTo>
                          <a:pt x="0" y="16"/>
                        </a:lnTo>
                        <a:lnTo>
                          <a:pt x="21" y="23"/>
                        </a:lnTo>
                        <a:lnTo>
                          <a:pt x="126" y="29"/>
                        </a:lnTo>
                        <a:lnTo>
                          <a:pt x="126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7404480" y="3895560"/>
                    <a:ext cx="8172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595">
                        <a:moveTo>
                          <a:pt x="0" y="0"/>
                        </a:moveTo>
                        <a:lnTo>
                          <a:pt x="25" y="59"/>
                        </a:lnTo>
                        <a:lnTo>
                          <a:pt x="49" y="122"/>
                        </a:lnTo>
                        <a:lnTo>
                          <a:pt x="78" y="198"/>
                        </a:lnTo>
                        <a:lnTo>
                          <a:pt x="108" y="278"/>
                        </a:lnTo>
                        <a:lnTo>
                          <a:pt x="133" y="354"/>
                        </a:lnTo>
                        <a:lnTo>
                          <a:pt x="162" y="472"/>
                        </a:lnTo>
                        <a:lnTo>
                          <a:pt x="175" y="532"/>
                        </a:lnTo>
                        <a:lnTo>
                          <a:pt x="202" y="570"/>
                        </a:lnTo>
                        <a:lnTo>
                          <a:pt x="240" y="595"/>
                        </a:lnTo>
                        <a:lnTo>
                          <a:pt x="264" y="590"/>
                        </a:lnTo>
                        <a:lnTo>
                          <a:pt x="310" y="559"/>
                        </a:lnTo>
                        <a:lnTo>
                          <a:pt x="255" y="512"/>
                        </a:lnTo>
                        <a:lnTo>
                          <a:pt x="127" y="196"/>
                        </a:lnTo>
                        <a:lnTo>
                          <a:pt x="99" y="131"/>
                        </a:lnTo>
                        <a:lnTo>
                          <a:pt x="72" y="86"/>
                        </a:lnTo>
                        <a:lnTo>
                          <a:pt x="32" y="2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7082640" y="3869640"/>
                    <a:ext cx="29628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6" h="523">
                        <a:moveTo>
                          <a:pt x="263" y="424"/>
                        </a:moveTo>
                        <a:lnTo>
                          <a:pt x="287" y="436"/>
                        </a:lnTo>
                        <a:lnTo>
                          <a:pt x="384" y="430"/>
                        </a:lnTo>
                        <a:lnTo>
                          <a:pt x="584" y="354"/>
                        </a:lnTo>
                        <a:lnTo>
                          <a:pt x="653" y="316"/>
                        </a:lnTo>
                        <a:lnTo>
                          <a:pt x="730" y="270"/>
                        </a:lnTo>
                        <a:lnTo>
                          <a:pt x="774" y="242"/>
                        </a:lnTo>
                        <a:lnTo>
                          <a:pt x="820" y="213"/>
                        </a:lnTo>
                        <a:lnTo>
                          <a:pt x="865" y="181"/>
                        </a:lnTo>
                        <a:lnTo>
                          <a:pt x="917" y="147"/>
                        </a:lnTo>
                        <a:lnTo>
                          <a:pt x="961" y="113"/>
                        </a:lnTo>
                        <a:lnTo>
                          <a:pt x="999" y="82"/>
                        </a:lnTo>
                        <a:lnTo>
                          <a:pt x="1046" y="25"/>
                        </a:lnTo>
                        <a:lnTo>
                          <a:pt x="1063" y="6"/>
                        </a:lnTo>
                        <a:lnTo>
                          <a:pt x="1077" y="0"/>
                        </a:lnTo>
                        <a:lnTo>
                          <a:pt x="1103" y="10"/>
                        </a:lnTo>
                        <a:lnTo>
                          <a:pt x="1126" y="48"/>
                        </a:lnTo>
                        <a:lnTo>
                          <a:pt x="1078" y="97"/>
                        </a:lnTo>
                        <a:lnTo>
                          <a:pt x="1052" y="122"/>
                        </a:lnTo>
                        <a:lnTo>
                          <a:pt x="1019" y="151"/>
                        </a:lnTo>
                        <a:lnTo>
                          <a:pt x="983" y="181"/>
                        </a:lnTo>
                        <a:lnTo>
                          <a:pt x="940" y="215"/>
                        </a:lnTo>
                        <a:lnTo>
                          <a:pt x="892" y="251"/>
                        </a:lnTo>
                        <a:lnTo>
                          <a:pt x="839" y="287"/>
                        </a:lnTo>
                        <a:lnTo>
                          <a:pt x="780" y="324"/>
                        </a:lnTo>
                        <a:lnTo>
                          <a:pt x="715" y="362"/>
                        </a:lnTo>
                        <a:lnTo>
                          <a:pt x="647" y="398"/>
                        </a:lnTo>
                        <a:lnTo>
                          <a:pt x="573" y="432"/>
                        </a:lnTo>
                        <a:lnTo>
                          <a:pt x="495" y="464"/>
                        </a:lnTo>
                        <a:lnTo>
                          <a:pt x="411" y="495"/>
                        </a:lnTo>
                        <a:lnTo>
                          <a:pt x="339" y="497"/>
                        </a:lnTo>
                        <a:lnTo>
                          <a:pt x="162" y="493"/>
                        </a:lnTo>
                        <a:lnTo>
                          <a:pt x="14" y="521"/>
                        </a:lnTo>
                        <a:lnTo>
                          <a:pt x="0" y="523"/>
                        </a:lnTo>
                        <a:lnTo>
                          <a:pt x="8" y="516"/>
                        </a:lnTo>
                        <a:lnTo>
                          <a:pt x="69" y="483"/>
                        </a:lnTo>
                        <a:lnTo>
                          <a:pt x="145" y="447"/>
                        </a:lnTo>
                        <a:lnTo>
                          <a:pt x="181" y="430"/>
                        </a:lnTo>
                        <a:lnTo>
                          <a:pt x="263" y="424"/>
                        </a:lnTo>
                        <a:lnTo>
                          <a:pt x="263" y="4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7236720" y="3973320"/>
                    <a:ext cx="19800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1" h="848">
                        <a:moveTo>
                          <a:pt x="631" y="0"/>
                        </a:moveTo>
                        <a:lnTo>
                          <a:pt x="587" y="23"/>
                        </a:lnTo>
                        <a:lnTo>
                          <a:pt x="506" y="108"/>
                        </a:lnTo>
                        <a:lnTo>
                          <a:pt x="456" y="188"/>
                        </a:lnTo>
                        <a:lnTo>
                          <a:pt x="411" y="295"/>
                        </a:lnTo>
                        <a:lnTo>
                          <a:pt x="338" y="614"/>
                        </a:lnTo>
                        <a:lnTo>
                          <a:pt x="48" y="768"/>
                        </a:lnTo>
                        <a:lnTo>
                          <a:pt x="0" y="848"/>
                        </a:lnTo>
                        <a:lnTo>
                          <a:pt x="17" y="836"/>
                        </a:lnTo>
                        <a:lnTo>
                          <a:pt x="63" y="808"/>
                        </a:lnTo>
                        <a:lnTo>
                          <a:pt x="127" y="766"/>
                        </a:lnTo>
                        <a:lnTo>
                          <a:pt x="164" y="745"/>
                        </a:lnTo>
                        <a:lnTo>
                          <a:pt x="202" y="722"/>
                        </a:lnTo>
                        <a:lnTo>
                          <a:pt x="278" y="682"/>
                        </a:lnTo>
                        <a:lnTo>
                          <a:pt x="346" y="654"/>
                        </a:lnTo>
                        <a:lnTo>
                          <a:pt x="395" y="642"/>
                        </a:lnTo>
                        <a:lnTo>
                          <a:pt x="418" y="656"/>
                        </a:lnTo>
                        <a:lnTo>
                          <a:pt x="460" y="428"/>
                        </a:lnTo>
                        <a:lnTo>
                          <a:pt x="483" y="321"/>
                        </a:lnTo>
                        <a:lnTo>
                          <a:pt x="517" y="217"/>
                        </a:lnTo>
                        <a:lnTo>
                          <a:pt x="538" y="169"/>
                        </a:lnTo>
                        <a:lnTo>
                          <a:pt x="561" y="127"/>
                        </a:lnTo>
                        <a:lnTo>
                          <a:pt x="589" y="91"/>
                        </a:lnTo>
                        <a:lnTo>
                          <a:pt x="620" y="63"/>
                        </a:lnTo>
                        <a:lnTo>
                          <a:pt x="677" y="59"/>
                        </a:lnTo>
                        <a:lnTo>
                          <a:pt x="719" y="97"/>
                        </a:lnTo>
                        <a:lnTo>
                          <a:pt x="749" y="199"/>
                        </a:lnTo>
                        <a:lnTo>
                          <a:pt x="751" y="177"/>
                        </a:lnTo>
                        <a:lnTo>
                          <a:pt x="749" y="112"/>
                        </a:lnTo>
                        <a:lnTo>
                          <a:pt x="738" y="42"/>
                        </a:lnTo>
                        <a:lnTo>
                          <a:pt x="726" y="17"/>
                        </a:lnTo>
                        <a:lnTo>
                          <a:pt x="709" y="4"/>
                        </a:lnTo>
                        <a:lnTo>
                          <a:pt x="631" y="0"/>
                        </a:lnTo>
                        <a:lnTo>
                          <a:pt x="6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7283160" y="3814920"/>
                    <a:ext cx="95760" cy="76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293">
                        <a:moveTo>
                          <a:pt x="34" y="63"/>
                        </a:moveTo>
                        <a:lnTo>
                          <a:pt x="118" y="72"/>
                        </a:lnTo>
                        <a:lnTo>
                          <a:pt x="209" y="116"/>
                        </a:lnTo>
                        <a:lnTo>
                          <a:pt x="276" y="190"/>
                        </a:lnTo>
                        <a:lnTo>
                          <a:pt x="291" y="293"/>
                        </a:lnTo>
                        <a:lnTo>
                          <a:pt x="365" y="255"/>
                        </a:lnTo>
                        <a:lnTo>
                          <a:pt x="344" y="217"/>
                        </a:lnTo>
                        <a:lnTo>
                          <a:pt x="317" y="177"/>
                        </a:lnTo>
                        <a:lnTo>
                          <a:pt x="283" y="131"/>
                        </a:lnTo>
                        <a:lnTo>
                          <a:pt x="243" y="86"/>
                        </a:lnTo>
                        <a:lnTo>
                          <a:pt x="220" y="65"/>
                        </a:lnTo>
                        <a:lnTo>
                          <a:pt x="196" y="44"/>
                        </a:lnTo>
                        <a:lnTo>
                          <a:pt x="144" y="15"/>
                        </a:lnTo>
                        <a:lnTo>
                          <a:pt x="89" y="0"/>
                        </a:lnTo>
                        <a:lnTo>
                          <a:pt x="68" y="12"/>
                        </a:lnTo>
                        <a:lnTo>
                          <a:pt x="25" y="36"/>
                        </a:lnTo>
                        <a:lnTo>
                          <a:pt x="0" y="57"/>
                        </a:lnTo>
                        <a:lnTo>
                          <a:pt x="34" y="63"/>
                        </a:lnTo>
                        <a:lnTo>
                          <a:pt x="34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6712200" y="3908160"/>
                    <a:ext cx="16380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393">
                        <a:moveTo>
                          <a:pt x="595" y="0"/>
                        </a:moveTo>
                        <a:lnTo>
                          <a:pt x="552" y="21"/>
                        </a:lnTo>
                        <a:lnTo>
                          <a:pt x="502" y="43"/>
                        </a:lnTo>
                        <a:lnTo>
                          <a:pt x="445" y="72"/>
                        </a:lnTo>
                        <a:lnTo>
                          <a:pt x="382" y="104"/>
                        </a:lnTo>
                        <a:lnTo>
                          <a:pt x="322" y="137"/>
                        </a:lnTo>
                        <a:lnTo>
                          <a:pt x="265" y="167"/>
                        </a:lnTo>
                        <a:lnTo>
                          <a:pt x="221" y="196"/>
                        </a:lnTo>
                        <a:lnTo>
                          <a:pt x="183" y="222"/>
                        </a:lnTo>
                        <a:lnTo>
                          <a:pt x="145" y="254"/>
                        </a:lnTo>
                        <a:lnTo>
                          <a:pt x="109" y="287"/>
                        </a:lnTo>
                        <a:lnTo>
                          <a:pt x="74" y="319"/>
                        </a:lnTo>
                        <a:lnTo>
                          <a:pt x="44" y="348"/>
                        </a:lnTo>
                        <a:lnTo>
                          <a:pt x="21" y="370"/>
                        </a:lnTo>
                        <a:lnTo>
                          <a:pt x="0" y="393"/>
                        </a:lnTo>
                        <a:lnTo>
                          <a:pt x="152" y="287"/>
                        </a:lnTo>
                        <a:lnTo>
                          <a:pt x="202" y="262"/>
                        </a:lnTo>
                        <a:lnTo>
                          <a:pt x="251" y="237"/>
                        </a:lnTo>
                        <a:lnTo>
                          <a:pt x="310" y="207"/>
                        </a:lnTo>
                        <a:lnTo>
                          <a:pt x="392" y="169"/>
                        </a:lnTo>
                        <a:lnTo>
                          <a:pt x="496" y="129"/>
                        </a:lnTo>
                        <a:lnTo>
                          <a:pt x="584" y="99"/>
                        </a:lnTo>
                        <a:lnTo>
                          <a:pt x="622" y="85"/>
                        </a:lnTo>
                        <a:lnTo>
                          <a:pt x="595" y="0"/>
                        </a:lnTo>
                        <a:lnTo>
                          <a:pt x="5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113240" y="3993120"/>
                    <a:ext cx="14400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861">
                        <a:moveTo>
                          <a:pt x="322" y="108"/>
                        </a:moveTo>
                        <a:lnTo>
                          <a:pt x="383" y="160"/>
                        </a:lnTo>
                        <a:lnTo>
                          <a:pt x="428" y="215"/>
                        </a:lnTo>
                        <a:lnTo>
                          <a:pt x="480" y="336"/>
                        </a:lnTo>
                        <a:lnTo>
                          <a:pt x="495" y="468"/>
                        </a:lnTo>
                        <a:lnTo>
                          <a:pt x="497" y="612"/>
                        </a:lnTo>
                        <a:lnTo>
                          <a:pt x="472" y="726"/>
                        </a:lnTo>
                        <a:lnTo>
                          <a:pt x="451" y="810"/>
                        </a:lnTo>
                        <a:lnTo>
                          <a:pt x="434" y="861"/>
                        </a:lnTo>
                        <a:lnTo>
                          <a:pt x="443" y="853"/>
                        </a:lnTo>
                        <a:lnTo>
                          <a:pt x="483" y="804"/>
                        </a:lnTo>
                        <a:lnTo>
                          <a:pt x="527" y="751"/>
                        </a:lnTo>
                        <a:lnTo>
                          <a:pt x="548" y="724"/>
                        </a:lnTo>
                        <a:lnTo>
                          <a:pt x="527" y="591"/>
                        </a:lnTo>
                        <a:lnTo>
                          <a:pt x="537" y="393"/>
                        </a:lnTo>
                        <a:lnTo>
                          <a:pt x="529" y="306"/>
                        </a:lnTo>
                        <a:lnTo>
                          <a:pt x="510" y="239"/>
                        </a:lnTo>
                        <a:lnTo>
                          <a:pt x="476" y="173"/>
                        </a:lnTo>
                        <a:lnTo>
                          <a:pt x="451" y="133"/>
                        </a:lnTo>
                        <a:lnTo>
                          <a:pt x="421" y="95"/>
                        </a:lnTo>
                        <a:lnTo>
                          <a:pt x="384" y="59"/>
                        </a:lnTo>
                        <a:lnTo>
                          <a:pt x="341" y="28"/>
                        </a:lnTo>
                        <a:lnTo>
                          <a:pt x="289" y="9"/>
                        </a:lnTo>
                        <a:lnTo>
                          <a:pt x="230" y="2"/>
                        </a:lnTo>
                        <a:lnTo>
                          <a:pt x="0" y="0"/>
                        </a:lnTo>
                        <a:lnTo>
                          <a:pt x="27" y="8"/>
                        </a:lnTo>
                        <a:lnTo>
                          <a:pt x="177" y="34"/>
                        </a:lnTo>
                        <a:lnTo>
                          <a:pt x="280" y="80"/>
                        </a:lnTo>
                        <a:lnTo>
                          <a:pt x="322" y="108"/>
                        </a:lnTo>
                        <a:lnTo>
                          <a:pt x="322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677640" y="4083840"/>
                    <a:ext cx="9216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517">
                        <a:moveTo>
                          <a:pt x="6" y="0"/>
                        </a:moveTo>
                        <a:lnTo>
                          <a:pt x="0" y="160"/>
                        </a:lnTo>
                        <a:lnTo>
                          <a:pt x="8" y="241"/>
                        </a:lnTo>
                        <a:lnTo>
                          <a:pt x="31" y="297"/>
                        </a:lnTo>
                        <a:lnTo>
                          <a:pt x="46" y="314"/>
                        </a:lnTo>
                        <a:lnTo>
                          <a:pt x="78" y="338"/>
                        </a:lnTo>
                        <a:lnTo>
                          <a:pt x="126" y="373"/>
                        </a:lnTo>
                        <a:lnTo>
                          <a:pt x="179" y="407"/>
                        </a:lnTo>
                        <a:lnTo>
                          <a:pt x="236" y="443"/>
                        </a:lnTo>
                        <a:lnTo>
                          <a:pt x="287" y="475"/>
                        </a:lnTo>
                        <a:lnTo>
                          <a:pt x="352" y="517"/>
                        </a:lnTo>
                        <a:lnTo>
                          <a:pt x="348" y="513"/>
                        </a:lnTo>
                        <a:lnTo>
                          <a:pt x="302" y="477"/>
                        </a:lnTo>
                        <a:lnTo>
                          <a:pt x="270" y="451"/>
                        </a:lnTo>
                        <a:lnTo>
                          <a:pt x="238" y="422"/>
                        </a:lnTo>
                        <a:lnTo>
                          <a:pt x="206" y="392"/>
                        </a:lnTo>
                        <a:lnTo>
                          <a:pt x="179" y="365"/>
                        </a:lnTo>
                        <a:lnTo>
                          <a:pt x="97" y="306"/>
                        </a:lnTo>
                        <a:lnTo>
                          <a:pt x="44" y="241"/>
                        </a:lnTo>
                        <a:lnTo>
                          <a:pt x="25" y="87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64640" y="4077360"/>
                    <a:ext cx="17748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73" h="820">
                        <a:moveTo>
                          <a:pt x="101" y="517"/>
                        </a:moveTo>
                        <a:lnTo>
                          <a:pt x="127" y="436"/>
                        </a:lnTo>
                        <a:lnTo>
                          <a:pt x="160" y="354"/>
                        </a:lnTo>
                        <a:lnTo>
                          <a:pt x="201" y="261"/>
                        </a:lnTo>
                        <a:lnTo>
                          <a:pt x="228" y="211"/>
                        </a:lnTo>
                        <a:lnTo>
                          <a:pt x="255" y="166"/>
                        </a:lnTo>
                        <a:lnTo>
                          <a:pt x="285" y="122"/>
                        </a:lnTo>
                        <a:lnTo>
                          <a:pt x="315" y="82"/>
                        </a:lnTo>
                        <a:lnTo>
                          <a:pt x="350" y="50"/>
                        </a:lnTo>
                        <a:lnTo>
                          <a:pt x="386" y="23"/>
                        </a:lnTo>
                        <a:lnTo>
                          <a:pt x="422" y="6"/>
                        </a:lnTo>
                        <a:lnTo>
                          <a:pt x="462" y="0"/>
                        </a:lnTo>
                        <a:lnTo>
                          <a:pt x="576" y="23"/>
                        </a:lnTo>
                        <a:lnTo>
                          <a:pt x="654" y="126"/>
                        </a:lnTo>
                        <a:lnTo>
                          <a:pt x="671" y="221"/>
                        </a:lnTo>
                        <a:lnTo>
                          <a:pt x="673" y="274"/>
                        </a:lnTo>
                        <a:lnTo>
                          <a:pt x="671" y="325"/>
                        </a:lnTo>
                        <a:lnTo>
                          <a:pt x="658" y="447"/>
                        </a:lnTo>
                        <a:lnTo>
                          <a:pt x="622" y="474"/>
                        </a:lnTo>
                        <a:lnTo>
                          <a:pt x="633" y="259"/>
                        </a:lnTo>
                        <a:lnTo>
                          <a:pt x="620" y="181"/>
                        </a:lnTo>
                        <a:lnTo>
                          <a:pt x="587" y="116"/>
                        </a:lnTo>
                        <a:lnTo>
                          <a:pt x="563" y="90"/>
                        </a:lnTo>
                        <a:lnTo>
                          <a:pt x="532" y="72"/>
                        </a:lnTo>
                        <a:lnTo>
                          <a:pt x="450" y="61"/>
                        </a:lnTo>
                        <a:lnTo>
                          <a:pt x="350" y="131"/>
                        </a:lnTo>
                        <a:lnTo>
                          <a:pt x="302" y="185"/>
                        </a:lnTo>
                        <a:lnTo>
                          <a:pt x="253" y="259"/>
                        </a:lnTo>
                        <a:lnTo>
                          <a:pt x="226" y="302"/>
                        </a:lnTo>
                        <a:lnTo>
                          <a:pt x="199" y="354"/>
                        </a:lnTo>
                        <a:lnTo>
                          <a:pt x="150" y="477"/>
                        </a:lnTo>
                        <a:lnTo>
                          <a:pt x="144" y="766"/>
                        </a:lnTo>
                        <a:lnTo>
                          <a:pt x="133" y="789"/>
                        </a:lnTo>
                        <a:lnTo>
                          <a:pt x="84" y="806"/>
                        </a:lnTo>
                        <a:lnTo>
                          <a:pt x="0" y="820"/>
                        </a:lnTo>
                        <a:lnTo>
                          <a:pt x="101" y="517"/>
                        </a:lnTo>
                        <a:lnTo>
                          <a:pt x="101" y="5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955920" y="4071240"/>
                    <a:ext cx="1249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4" h="499">
                        <a:moveTo>
                          <a:pt x="74" y="85"/>
                        </a:moveTo>
                        <a:lnTo>
                          <a:pt x="46" y="123"/>
                        </a:lnTo>
                        <a:lnTo>
                          <a:pt x="2" y="222"/>
                        </a:lnTo>
                        <a:lnTo>
                          <a:pt x="0" y="345"/>
                        </a:lnTo>
                        <a:lnTo>
                          <a:pt x="14" y="378"/>
                        </a:lnTo>
                        <a:lnTo>
                          <a:pt x="35" y="408"/>
                        </a:lnTo>
                        <a:lnTo>
                          <a:pt x="63" y="439"/>
                        </a:lnTo>
                        <a:lnTo>
                          <a:pt x="101" y="465"/>
                        </a:lnTo>
                        <a:lnTo>
                          <a:pt x="143" y="488"/>
                        </a:lnTo>
                        <a:lnTo>
                          <a:pt x="181" y="499"/>
                        </a:lnTo>
                        <a:lnTo>
                          <a:pt x="253" y="498"/>
                        </a:lnTo>
                        <a:lnTo>
                          <a:pt x="316" y="471"/>
                        </a:lnTo>
                        <a:lnTo>
                          <a:pt x="367" y="429"/>
                        </a:lnTo>
                        <a:lnTo>
                          <a:pt x="407" y="380"/>
                        </a:lnTo>
                        <a:lnTo>
                          <a:pt x="438" y="334"/>
                        </a:lnTo>
                        <a:lnTo>
                          <a:pt x="462" y="285"/>
                        </a:lnTo>
                        <a:lnTo>
                          <a:pt x="474" y="150"/>
                        </a:lnTo>
                        <a:lnTo>
                          <a:pt x="464" y="98"/>
                        </a:lnTo>
                        <a:lnTo>
                          <a:pt x="443" y="53"/>
                        </a:lnTo>
                        <a:lnTo>
                          <a:pt x="426" y="34"/>
                        </a:lnTo>
                        <a:lnTo>
                          <a:pt x="407" y="17"/>
                        </a:lnTo>
                        <a:lnTo>
                          <a:pt x="350" y="0"/>
                        </a:lnTo>
                        <a:lnTo>
                          <a:pt x="373" y="28"/>
                        </a:lnTo>
                        <a:lnTo>
                          <a:pt x="409" y="106"/>
                        </a:lnTo>
                        <a:lnTo>
                          <a:pt x="409" y="220"/>
                        </a:lnTo>
                        <a:lnTo>
                          <a:pt x="377" y="288"/>
                        </a:lnTo>
                        <a:lnTo>
                          <a:pt x="352" y="323"/>
                        </a:lnTo>
                        <a:lnTo>
                          <a:pt x="318" y="359"/>
                        </a:lnTo>
                        <a:lnTo>
                          <a:pt x="295" y="376"/>
                        </a:lnTo>
                        <a:lnTo>
                          <a:pt x="236" y="403"/>
                        </a:lnTo>
                        <a:lnTo>
                          <a:pt x="160" y="403"/>
                        </a:lnTo>
                        <a:lnTo>
                          <a:pt x="80" y="338"/>
                        </a:lnTo>
                        <a:lnTo>
                          <a:pt x="86" y="199"/>
                        </a:lnTo>
                        <a:lnTo>
                          <a:pt x="107" y="142"/>
                        </a:lnTo>
                        <a:lnTo>
                          <a:pt x="145" y="89"/>
                        </a:lnTo>
                        <a:lnTo>
                          <a:pt x="171" y="62"/>
                        </a:lnTo>
                        <a:lnTo>
                          <a:pt x="204" y="41"/>
                        </a:lnTo>
                        <a:lnTo>
                          <a:pt x="242" y="20"/>
                        </a:lnTo>
                        <a:lnTo>
                          <a:pt x="285" y="3"/>
                        </a:lnTo>
                        <a:lnTo>
                          <a:pt x="249" y="0"/>
                        </a:lnTo>
                        <a:lnTo>
                          <a:pt x="107" y="57"/>
                        </a:lnTo>
                        <a:lnTo>
                          <a:pt x="74" y="85"/>
                        </a:lnTo>
                        <a:lnTo>
                          <a:pt x="74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7236720" y="3832920"/>
                    <a:ext cx="493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479">
                        <a:moveTo>
                          <a:pt x="0" y="28"/>
                        </a:moveTo>
                        <a:lnTo>
                          <a:pt x="106" y="435"/>
                        </a:lnTo>
                        <a:lnTo>
                          <a:pt x="122" y="479"/>
                        </a:lnTo>
                        <a:lnTo>
                          <a:pt x="186" y="414"/>
                        </a:lnTo>
                        <a:lnTo>
                          <a:pt x="38" y="0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7276320" y="3943800"/>
                    <a:ext cx="4788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800">
                        <a:moveTo>
                          <a:pt x="0" y="42"/>
                        </a:moveTo>
                        <a:lnTo>
                          <a:pt x="29" y="85"/>
                        </a:lnTo>
                        <a:lnTo>
                          <a:pt x="84" y="220"/>
                        </a:lnTo>
                        <a:lnTo>
                          <a:pt x="114" y="456"/>
                        </a:lnTo>
                        <a:lnTo>
                          <a:pt x="107" y="614"/>
                        </a:lnTo>
                        <a:lnTo>
                          <a:pt x="74" y="800"/>
                        </a:lnTo>
                        <a:lnTo>
                          <a:pt x="128" y="796"/>
                        </a:lnTo>
                        <a:lnTo>
                          <a:pt x="150" y="692"/>
                        </a:lnTo>
                        <a:lnTo>
                          <a:pt x="183" y="452"/>
                        </a:lnTo>
                        <a:lnTo>
                          <a:pt x="173" y="184"/>
                        </a:lnTo>
                        <a:lnTo>
                          <a:pt x="158" y="127"/>
                        </a:lnTo>
                        <a:lnTo>
                          <a:pt x="135" y="76"/>
                        </a:lnTo>
                        <a:lnTo>
                          <a:pt x="107" y="32"/>
                        </a:lnTo>
                        <a:lnTo>
                          <a:pt x="69" y="0"/>
                        </a:lnTo>
                        <a:lnTo>
                          <a:pt x="0" y="42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6679080" y="4012200"/>
                    <a:ext cx="106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20">
                        <a:moveTo>
                          <a:pt x="0" y="295"/>
                        </a:moveTo>
                        <a:lnTo>
                          <a:pt x="17" y="177"/>
                        </a:lnTo>
                        <a:lnTo>
                          <a:pt x="32" y="129"/>
                        </a:lnTo>
                        <a:lnTo>
                          <a:pt x="57" y="86"/>
                        </a:lnTo>
                        <a:lnTo>
                          <a:pt x="89" y="48"/>
                        </a:lnTo>
                        <a:lnTo>
                          <a:pt x="133" y="23"/>
                        </a:lnTo>
                        <a:lnTo>
                          <a:pt x="245" y="0"/>
                        </a:lnTo>
                        <a:lnTo>
                          <a:pt x="352" y="21"/>
                        </a:lnTo>
                        <a:lnTo>
                          <a:pt x="388" y="55"/>
                        </a:lnTo>
                        <a:lnTo>
                          <a:pt x="403" y="112"/>
                        </a:lnTo>
                        <a:lnTo>
                          <a:pt x="395" y="190"/>
                        </a:lnTo>
                        <a:lnTo>
                          <a:pt x="380" y="242"/>
                        </a:lnTo>
                        <a:lnTo>
                          <a:pt x="355" y="299"/>
                        </a:lnTo>
                        <a:lnTo>
                          <a:pt x="336" y="327"/>
                        </a:lnTo>
                        <a:lnTo>
                          <a:pt x="300" y="361"/>
                        </a:lnTo>
                        <a:lnTo>
                          <a:pt x="256" y="394"/>
                        </a:lnTo>
                        <a:lnTo>
                          <a:pt x="209" y="417"/>
                        </a:lnTo>
                        <a:lnTo>
                          <a:pt x="159" y="420"/>
                        </a:lnTo>
                        <a:lnTo>
                          <a:pt x="116" y="399"/>
                        </a:lnTo>
                        <a:lnTo>
                          <a:pt x="83" y="346"/>
                        </a:lnTo>
                        <a:lnTo>
                          <a:pt x="64" y="251"/>
                        </a:lnTo>
                        <a:lnTo>
                          <a:pt x="74" y="207"/>
                        </a:lnTo>
                        <a:lnTo>
                          <a:pt x="93" y="249"/>
                        </a:lnTo>
                        <a:lnTo>
                          <a:pt x="114" y="283"/>
                        </a:lnTo>
                        <a:lnTo>
                          <a:pt x="140" y="320"/>
                        </a:lnTo>
                        <a:lnTo>
                          <a:pt x="173" y="342"/>
                        </a:lnTo>
                        <a:lnTo>
                          <a:pt x="209" y="348"/>
                        </a:lnTo>
                        <a:lnTo>
                          <a:pt x="287" y="266"/>
                        </a:lnTo>
                        <a:lnTo>
                          <a:pt x="323" y="143"/>
                        </a:lnTo>
                        <a:lnTo>
                          <a:pt x="313" y="107"/>
                        </a:lnTo>
                        <a:lnTo>
                          <a:pt x="296" y="84"/>
                        </a:lnTo>
                        <a:lnTo>
                          <a:pt x="249" y="67"/>
                        </a:lnTo>
                        <a:lnTo>
                          <a:pt x="222" y="65"/>
                        </a:lnTo>
                        <a:lnTo>
                          <a:pt x="102" y="107"/>
                        </a:lnTo>
                        <a:lnTo>
                          <a:pt x="38" y="202"/>
                        </a:lnTo>
                        <a:lnTo>
                          <a:pt x="0" y="295"/>
                        </a:lnTo>
                        <a:lnTo>
                          <a:pt x="0" y="2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6828840" y="4212360"/>
                    <a:ext cx="2325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3" h="211">
                        <a:moveTo>
                          <a:pt x="0" y="127"/>
                        </a:moveTo>
                        <a:lnTo>
                          <a:pt x="76" y="112"/>
                        </a:lnTo>
                        <a:lnTo>
                          <a:pt x="303" y="89"/>
                        </a:lnTo>
                        <a:lnTo>
                          <a:pt x="797" y="11"/>
                        </a:lnTo>
                        <a:lnTo>
                          <a:pt x="883" y="0"/>
                        </a:lnTo>
                        <a:lnTo>
                          <a:pt x="879" y="20"/>
                        </a:lnTo>
                        <a:lnTo>
                          <a:pt x="856" y="51"/>
                        </a:lnTo>
                        <a:lnTo>
                          <a:pt x="818" y="85"/>
                        </a:lnTo>
                        <a:lnTo>
                          <a:pt x="772" y="121"/>
                        </a:lnTo>
                        <a:lnTo>
                          <a:pt x="727" y="150"/>
                        </a:lnTo>
                        <a:lnTo>
                          <a:pt x="687" y="169"/>
                        </a:lnTo>
                        <a:lnTo>
                          <a:pt x="590" y="195"/>
                        </a:lnTo>
                        <a:lnTo>
                          <a:pt x="441" y="211"/>
                        </a:lnTo>
                        <a:lnTo>
                          <a:pt x="244" y="193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6675480" y="4171680"/>
                    <a:ext cx="415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8" h="500">
                        <a:moveTo>
                          <a:pt x="5" y="0"/>
                        </a:moveTo>
                        <a:lnTo>
                          <a:pt x="0" y="83"/>
                        </a:lnTo>
                        <a:lnTo>
                          <a:pt x="38" y="123"/>
                        </a:lnTo>
                        <a:lnTo>
                          <a:pt x="74" y="154"/>
                        </a:lnTo>
                        <a:lnTo>
                          <a:pt x="121" y="190"/>
                        </a:lnTo>
                        <a:lnTo>
                          <a:pt x="180" y="232"/>
                        </a:lnTo>
                        <a:lnTo>
                          <a:pt x="213" y="252"/>
                        </a:lnTo>
                        <a:lnTo>
                          <a:pt x="249" y="273"/>
                        </a:lnTo>
                        <a:lnTo>
                          <a:pt x="287" y="296"/>
                        </a:lnTo>
                        <a:lnTo>
                          <a:pt x="327" y="317"/>
                        </a:lnTo>
                        <a:lnTo>
                          <a:pt x="370" y="340"/>
                        </a:lnTo>
                        <a:lnTo>
                          <a:pt x="416" y="361"/>
                        </a:lnTo>
                        <a:lnTo>
                          <a:pt x="517" y="401"/>
                        </a:lnTo>
                        <a:lnTo>
                          <a:pt x="625" y="435"/>
                        </a:lnTo>
                        <a:lnTo>
                          <a:pt x="745" y="465"/>
                        </a:lnTo>
                        <a:lnTo>
                          <a:pt x="872" y="486"/>
                        </a:lnTo>
                        <a:lnTo>
                          <a:pt x="1157" y="500"/>
                        </a:lnTo>
                        <a:lnTo>
                          <a:pt x="1477" y="462"/>
                        </a:lnTo>
                        <a:lnTo>
                          <a:pt x="1578" y="391"/>
                        </a:lnTo>
                        <a:lnTo>
                          <a:pt x="1469" y="404"/>
                        </a:lnTo>
                        <a:lnTo>
                          <a:pt x="1201" y="422"/>
                        </a:lnTo>
                        <a:lnTo>
                          <a:pt x="874" y="416"/>
                        </a:lnTo>
                        <a:lnTo>
                          <a:pt x="581" y="361"/>
                        </a:lnTo>
                        <a:lnTo>
                          <a:pt x="465" y="313"/>
                        </a:lnTo>
                        <a:lnTo>
                          <a:pt x="363" y="264"/>
                        </a:lnTo>
                        <a:lnTo>
                          <a:pt x="270" y="216"/>
                        </a:lnTo>
                        <a:lnTo>
                          <a:pt x="192" y="171"/>
                        </a:lnTo>
                        <a:lnTo>
                          <a:pt x="125" y="129"/>
                        </a:lnTo>
                        <a:lnTo>
                          <a:pt x="76" y="93"/>
                        </a:lnTo>
                        <a:lnTo>
                          <a:pt x="26" y="41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6742800" y="4234680"/>
                    <a:ext cx="900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92">
                        <a:moveTo>
                          <a:pt x="2" y="0"/>
                        </a:moveTo>
                        <a:lnTo>
                          <a:pt x="0" y="14"/>
                        </a:lnTo>
                        <a:lnTo>
                          <a:pt x="2" y="48"/>
                        </a:lnTo>
                        <a:lnTo>
                          <a:pt x="21" y="90"/>
                        </a:lnTo>
                        <a:lnTo>
                          <a:pt x="40" y="110"/>
                        </a:lnTo>
                        <a:lnTo>
                          <a:pt x="71" y="129"/>
                        </a:lnTo>
                        <a:lnTo>
                          <a:pt x="147" y="160"/>
                        </a:lnTo>
                        <a:lnTo>
                          <a:pt x="226" y="179"/>
                        </a:lnTo>
                        <a:lnTo>
                          <a:pt x="316" y="192"/>
                        </a:lnTo>
                        <a:lnTo>
                          <a:pt x="342" y="17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016040" y="4091760"/>
                    <a:ext cx="22572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951">
                        <a:moveTo>
                          <a:pt x="0" y="765"/>
                        </a:moveTo>
                        <a:lnTo>
                          <a:pt x="14" y="791"/>
                        </a:lnTo>
                        <a:lnTo>
                          <a:pt x="52" y="850"/>
                        </a:lnTo>
                        <a:lnTo>
                          <a:pt x="76" y="881"/>
                        </a:lnTo>
                        <a:lnTo>
                          <a:pt x="105" y="909"/>
                        </a:lnTo>
                        <a:lnTo>
                          <a:pt x="137" y="930"/>
                        </a:lnTo>
                        <a:lnTo>
                          <a:pt x="170" y="941"/>
                        </a:lnTo>
                        <a:lnTo>
                          <a:pt x="375" y="951"/>
                        </a:lnTo>
                        <a:lnTo>
                          <a:pt x="481" y="939"/>
                        </a:lnTo>
                        <a:lnTo>
                          <a:pt x="552" y="909"/>
                        </a:lnTo>
                        <a:lnTo>
                          <a:pt x="586" y="871"/>
                        </a:lnTo>
                        <a:lnTo>
                          <a:pt x="645" y="806"/>
                        </a:lnTo>
                        <a:lnTo>
                          <a:pt x="679" y="763"/>
                        </a:lnTo>
                        <a:lnTo>
                          <a:pt x="715" y="715"/>
                        </a:lnTo>
                        <a:lnTo>
                          <a:pt x="748" y="662"/>
                        </a:lnTo>
                        <a:lnTo>
                          <a:pt x="780" y="603"/>
                        </a:lnTo>
                        <a:lnTo>
                          <a:pt x="831" y="476"/>
                        </a:lnTo>
                        <a:lnTo>
                          <a:pt x="856" y="335"/>
                        </a:lnTo>
                        <a:lnTo>
                          <a:pt x="839" y="185"/>
                        </a:lnTo>
                        <a:lnTo>
                          <a:pt x="812" y="109"/>
                        </a:lnTo>
                        <a:lnTo>
                          <a:pt x="791" y="69"/>
                        </a:lnTo>
                        <a:lnTo>
                          <a:pt x="769" y="31"/>
                        </a:lnTo>
                        <a:lnTo>
                          <a:pt x="740" y="14"/>
                        </a:lnTo>
                        <a:lnTo>
                          <a:pt x="687" y="0"/>
                        </a:lnTo>
                        <a:lnTo>
                          <a:pt x="580" y="10"/>
                        </a:lnTo>
                        <a:lnTo>
                          <a:pt x="533" y="63"/>
                        </a:lnTo>
                        <a:lnTo>
                          <a:pt x="502" y="103"/>
                        </a:lnTo>
                        <a:lnTo>
                          <a:pt x="472" y="149"/>
                        </a:lnTo>
                        <a:lnTo>
                          <a:pt x="443" y="192"/>
                        </a:lnTo>
                        <a:lnTo>
                          <a:pt x="421" y="229"/>
                        </a:lnTo>
                        <a:lnTo>
                          <a:pt x="400" y="265"/>
                        </a:lnTo>
                        <a:lnTo>
                          <a:pt x="436" y="208"/>
                        </a:lnTo>
                        <a:lnTo>
                          <a:pt x="474" y="154"/>
                        </a:lnTo>
                        <a:lnTo>
                          <a:pt x="523" y="96"/>
                        </a:lnTo>
                        <a:lnTo>
                          <a:pt x="552" y="71"/>
                        </a:lnTo>
                        <a:lnTo>
                          <a:pt x="578" y="46"/>
                        </a:lnTo>
                        <a:lnTo>
                          <a:pt x="635" y="16"/>
                        </a:lnTo>
                        <a:lnTo>
                          <a:pt x="692" y="14"/>
                        </a:lnTo>
                        <a:lnTo>
                          <a:pt x="742" y="50"/>
                        </a:lnTo>
                        <a:lnTo>
                          <a:pt x="812" y="185"/>
                        </a:lnTo>
                        <a:lnTo>
                          <a:pt x="824" y="354"/>
                        </a:lnTo>
                        <a:lnTo>
                          <a:pt x="801" y="453"/>
                        </a:lnTo>
                        <a:lnTo>
                          <a:pt x="782" y="508"/>
                        </a:lnTo>
                        <a:lnTo>
                          <a:pt x="757" y="563"/>
                        </a:lnTo>
                        <a:lnTo>
                          <a:pt x="727" y="624"/>
                        </a:lnTo>
                        <a:lnTo>
                          <a:pt x="691" y="687"/>
                        </a:lnTo>
                        <a:lnTo>
                          <a:pt x="647" y="751"/>
                        </a:lnTo>
                        <a:lnTo>
                          <a:pt x="597" y="822"/>
                        </a:lnTo>
                        <a:lnTo>
                          <a:pt x="569" y="850"/>
                        </a:lnTo>
                        <a:lnTo>
                          <a:pt x="538" y="869"/>
                        </a:lnTo>
                        <a:lnTo>
                          <a:pt x="499" y="886"/>
                        </a:lnTo>
                        <a:lnTo>
                          <a:pt x="371" y="907"/>
                        </a:lnTo>
                        <a:lnTo>
                          <a:pt x="170" y="898"/>
                        </a:lnTo>
                        <a:lnTo>
                          <a:pt x="37" y="776"/>
                        </a:lnTo>
                        <a:lnTo>
                          <a:pt x="0" y="765"/>
                        </a:lnTo>
                        <a:lnTo>
                          <a:pt x="0" y="7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6792840" y="3978000"/>
                    <a:ext cx="15012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1" h="857">
                        <a:moveTo>
                          <a:pt x="0" y="831"/>
                        </a:moveTo>
                        <a:lnTo>
                          <a:pt x="21" y="753"/>
                        </a:lnTo>
                        <a:lnTo>
                          <a:pt x="52" y="665"/>
                        </a:lnTo>
                        <a:lnTo>
                          <a:pt x="71" y="614"/>
                        </a:lnTo>
                        <a:lnTo>
                          <a:pt x="95" y="557"/>
                        </a:lnTo>
                        <a:lnTo>
                          <a:pt x="122" y="498"/>
                        </a:lnTo>
                        <a:lnTo>
                          <a:pt x="154" y="435"/>
                        </a:lnTo>
                        <a:lnTo>
                          <a:pt x="190" y="373"/>
                        </a:lnTo>
                        <a:lnTo>
                          <a:pt x="232" y="308"/>
                        </a:lnTo>
                        <a:lnTo>
                          <a:pt x="278" y="245"/>
                        </a:lnTo>
                        <a:lnTo>
                          <a:pt x="329" y="184"/>
                        </a:lnTo>
                        <a:lnTo>
                          <a:pt x="384" y="125"/>
                        </a:lnTo>
                        <a:lnTo>
                          <a:pt x="415" y="97"/>
                        </a:lnTo>
                        <a:lnTo>
                          <a:pt x="445" y="70"/>
                        </a:lnTo>
                        <a:lnTo>
                          <a:pt x="571" y="0"/>
                        </a:lnTo>
                        <a:lnTo>
                          <a:pt x="519" y="42"/>
                        </a:lnTo>
                        <a:lnTo>
                          <a:pt x="495" y="67"/>
                        </a:lnTo>
                        <a:lnTo>
                          <a:pt x="464" y="97"/>
                        </a:lnTo>
                        <a:lnTo>
                          <a:pt x="396" y="173"/>
                        </a:lnTo>
                        <a:lnTo>
                          <a:pt x="360" y="219"/>
                        </a:lnTo>
                        <a:lnTo>
                          <a:pt x="320" y="272"/>
                        </a:lnTo>
                        <a:lnTo>
                          <a:pt x="280" y="331"/>
                        </a:lnTo>
                        <a:lnTo>
                          <a:pt x="240" y="395"/>
                        </a:lnTo>
                        <a:lnTo>
                          <a:pt x="202" y="464"/>
                        </a:lnTo>
                        <a:lnTo>
                          <a:pt x="164" y="540"/>
                        </a:lnTo>
                        <a:lnTo>
                          <a:pt x="126" y="623"/>
                        </a:lnTo>
                        <a:lnTo>
                          <a:pt x="92" y="711"/>
                        </a:lnTo>
                        <a:lnTo>
                          <a:pt x="71" y="857"/>
                        </a:lnTo>
                        <a:lnTo>
                          <a:pt x="0" y="831"/>
                        </a:lnTo>
                        <a:lnTo>
                          <a:pt x="0" y="8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7101720" y="4015440"/>
                    <a:ext cx="8172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317">
                        <a:moveTo>
                          <a:pt x="9" y="307"/>
                        </a:moveTo>
                        <a:lnTo>
                          <a:pt x="2" y="317"/>
                        </a:lnTo>
                        <a:lnTo>
                          <a:pt x="0" y="298"/>
                        </a:lnTo>
                        <a:lnTo>
                          <a:pt x="22" y="211"/>
                        </a:lnTo>
                        <a:lnTo>
                          <a:pt x="45" y="155"/>
                        </a:lnTo>
                        <a:lnTo>
                          <a:pt x="74" y="100"/>
                        </a:lnTo>
                        <a:lnTo>
                          <a:pt x="108" y="53"/>
                        </a:lnTo>
                        <a:lnTo>
                          <a:pt x="148" y="22"/>
                        </a:lnTo>
                        <a:lnTo>
                          <a:pt x="220" y="0"/>
                        </a:lnTo>
                        <a:lnTo>
                          <a:pt x="270" y="7"/>
                        </a:lnTo>
                        <a:lnTo>
                          <a:pt x="310" y="38"/>
                        </a:lnTo>
                        <a:lnTo>
                          <a:pt x="207" y="85"/>
                        </a:lnTo>
                        <a:lnTo>
                          <a:pt x="161" y="119"/>
                        </a:lnTo>
                        <a:lnTo>
                          <a:pt x="112" y="167"/>
                        </a:lnTo>
                        <a:lnTo>
                          <a:pt x="60" y="228"/>
                        </a:lnTo>
                        <a:lnTo>
                          <a:pt x="9" y="307"/>
                        </a:lnTo>
                        <a:lnTo>
                          <a:pt x="9" y="307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7027920" y="4296240"/>
                    <a:ext cx="100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8">
                        <a:moveTo>
                          <a:pt x="0" y="15"/>
                        </a:moveTo>
                        <a:lnTo>
                          <a:pt x="380" y="0"/>
                        </a:lnTo>
                        <a:lnTo>
                          <a:pt x="0" y="48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7035120" y="4311360"/>
                    <a:ext cx="71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44">
                        <a:moveTo>
                          <a:pt x="0" y="11"/>
                        </a:moveTo>
                        <a:lnTo>
                          <a:pt x="270" y="0"/>
                        </a:lnTo>
                        <a:lnTo>
                          <a:pt x="42" y="44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7137000" y="4130280"/>
                    <a:ext cx="69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521">
                        <a:moveTo>
                          <a:pt x="32" y="521"/>
                        </a:moveTo>
                        <a:lnTo>
                          <a:pt x="47" y="363"/>
                        </a:lnTo>
                        <a:lnTo>
                          <a:pt x="60" y="298"/>
                        </a:lnTo>
                        <a:lnTo>
                          <a:pt x="81" y="236"/>
                        </a:lnTo>
                        <a:lnTo>
                          <a:pt x="110" y="180"/>
                        </a:lnTo>
                        <a:lnTo>
                          <a:pt x="150" y="139"/>
                        </a:lnTo>
                        <a:lnTo>
                          <a:pt x="169" y="125"/>
                        </a:lnTo>
                        <a:lnTo>
                          <a:pt x="195" y="112"/>
                        </a:lnTo>
                        <a:lnTo>
                          <a:pt x="216" y="123"/>
                        </a:lnTo>
                        <a:lnTo>
                          <a:pt x="222" y="182"/>
                        </a:lnTo>
                        <a:lnTo>
                          <a:pt x="197" y="329"/>
                        </a:lnTo>
                        <a:lnTo>
                          <a:pt x="180" y="388"/>
                        </a:lnTo>
                        <a:lnTo>
                          <a:pt x="218" y="329"/>
                        </a:lnTo>
                        <a:lnTo>
                          <a:pt x="264" y="118"/>
                        </a:lnTo>
                        <a:lnTo>
                          <a:pt x="262" y="66"/>
                        </a:lnTo>
                        <a:lnTo>
                          <a:pt x="251" y="26"/>
                        </a:lnTo>
                        <a:lnTo>
                          <a:pt x="226" y="0"/>
                        </a:lnTo>
                        <a:lnTo>
                          <a:pt x="167" y="6"/>
                        </a:lnTo>
                        <a:lnTo>
                          <a:pt x="91" y="80"/>
                        </a:lnTo>
                        <a:lnTo>
                          <a:pt x="22" y="226"/>
                        </a:lnTo>
                        <a:lnTo>
                          <a:pt x="0" y="348"/>
                        </a:lnTo>
                        <a:lnTo>
                          <a:pt x="9" y="462"/>
                        </a:lnTo>
                        <a:lnTo>
                          <a:pt x="32" y="521"/>
                        </a:lnTo>
                        <a:lnTo>
                          <a:pt x="32" y="5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046280" y="4323240"/>
                    <a:ext cx="482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2">
                        <a:moveTo>
                          <a:pt x="38" y="32"/>
                        </a:moveTo>
                        <a:lnTo>
                          <a:pt x="184" y="0"/>
                        </a:lnTo>
                        <a:lnTo>
                          <a:pt x="0" y="0"/>
                        </a:lnTo>
                        <a:lnTo>
                          <a:pt x="38" y="32"/>
                        </a:lnTo>
                        <a:lnTo>
                          <a:pt x="38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7333200" y="4034160"/>
                    <a:ext cx="10116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505">
                        <a:moveTo>
                          <a:pt x="384" y="0"/>
                        </a:moveTo>
                        <a:lnTo>
                          <a:pt x="371" y="188"/>
                        </a:lnTo>
                        <a:lnTo>
                          <a:pt x="352" y="273"/>
                        </a:lnTo>
                        <a:lnTo>
                          <a:pt x="321" y="355"/>
                        </a:lnTo>
                        <a:lnTo>
                          <a:pt x="302" y="393"/>
                        </a:lnTo>
                        <a:lnTo>
                          <a:pt x="280" y="429"/>
                        </a:lnTo>
                        <a:lnTo>
                          <a:pt x="253" y="458"/>
                        </a:lnTo>
                        <a:lnTo>
                          <a:pt x="222" y="483"/>
                        </a:lnTo>
                        <a:lnTo>
                          <a:pt x="162" y="505"/>
                        </a:lnTo>
                        <a:lnTo>
                          <a:pt x="114" y="503"/>
                        </a:lnTo>
                        <a:lnTo>
                          <a:pt x="74" y="479"/>
                        </a:lnTo>
                        <a:lnTo>
                          <a:pt x="46" y="445"/>
                        </a:lnTo>
                        <a:lnTo>
                          <a:pt x="10" y="365"/>
                        </a:lnTo>
                        <a:lnTo>
                          <a:pt x="0" y="325"/>
                        </a:lnTo>
                        <a:lnTo>
                          <a:pt x="89" y="192"/>
                        </a:lnTo>
                        <a:lnTo>
                          <a:pt x="78" y="298"/>
                        </a:lnTo>
                        <a:lnTo>
                          <a:pt x="84" y="380"/>
                        </a:lnTo>
                        <a:lnTo>
                          <a:pt x="93" y="412"/>
                        </a:lnTo>
                        <a:lnTo>
                          <a:pt x="112" y="431"/>
                        </a:lnTo>
                        <a:lnTo>
                          <a:pt x="158" y="441"/>
                        </a:lnTo>
                        <a:lnTo>
                          <a:pt x="211" y="424"/>
                        </a:lnTo>
                        <a:lnTo>
                          <a:pt x="316" y="287"/>
                        </a:lnTo>
                        <a:lnTo>
                          <a:pt x="354" y="144"/>
                        </a:lnTo>
                        <a:lnTo>
                          <a:pt x="384" y="0"/>
                        </a:lnTo>
                        <a:lnTo>
                          <a:pt x="38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7302240" y="4147200"/>
                    <a:ext cx="471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94">
                        <a:moveTo>
                          <a:pt x="0" y="8"/>
                        </a:moveTo>
                        <a:lnTo>
                          <a:pt x="15" y="35"/>
                        </a:lnTo>
                        <a:lnTo>
                          <a:pt x="36" y="56"/>
                        </a:lnTo>
                        <a:lnTo>
                          <a:pt x="65" y="73"/>
                        </a:lnTo>
                        <a:lnTo>
                          <a:pt x="181" y="94"/>
                        </a:lnTo>
                        <a:lnTo>
                          <a:pt x="114" y="63"/>
                        </a:lnTo>
                        <a:lnTo>
                          <a:pt x="59" y="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7246080" y="4097880"/>
                    <a:ext cx="568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327">
                        <a:moveTo>
                          <a:pt x="14" y="226"/>
                        </a:moveTo>
                        <a:lnTo>
                          <a:pt x="90" y="32"/>
                        </a:lnTo>
                        <a:lnTo>
                          <a:pt x="63" y="156"/>
                        </a:lnTo>
                        <a:lnTo>
                          <a:pt x="147" y="13"/>
                        </a:lnTo>
                        <a:lnTo>
                          <a:pt x="95" y="160"/>
                        </a:lnTo>
                        <a:lnTo>
                          <a:pt x="207" y="0"/>
                        </a:lnTo>
                        <a:lnTo>
                          <a:pt x="147" y="150"/>
                        </a:lnTo>
                        <a:lnTo>
                          <a:pt x="196" y="82"/>
                        </a:lnTo>
                        <a:lnTo>
                          <a:pt x="177" y="166"/>
                        </a:lnTo>
                        <a:lnTo>
                          <a:pt x="217" y="109"/>
                        </a:lnTo>
                        <a:lnTo>
                          <a:pt x="207" y="200"/>
                        </a:lnTo>
                        <a:lnTo>
                          <a:pt x="188" y="230"/>
                        </a:lnTo>
                        <a:lnTo>
                          <a:pt x="0" y="327"/>
                        </a:lnTo>
                        <a:lnTo>
                          <a:pt x="14" y="226"/>
                        </a:lnTo>
                        <a:lnTo>
                          <a:pt x="14" y="2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7431120" y="4059720"/>
                    <a:ext cx="388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20">
                        <a:moveTo>
                          <a:pt x="0" y="120"/>
                        </a:moveTo>
                        <a:lnTo>
                          <a:pt x="146" y="0"/>
                        </a:lnTo>
                        <a:lnTo>
                          <a:pt x="5" y="61"/>
                        </a:lnTo>
                        <a:lnTo>
                          <a:pt x="0" y="120"/>
                        </a:lnTo>
                        <a:lnTo>
                          <a:pt x="0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7416000" y="4031280"/>
                    <a:ext cx="1386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31">
                        <a:moveTo>
                          <a:pt x="0" y="331"/>
                        </a:moveTo>
                        <a:lnTo>
                          <a:pt x="526" y="0"/>
                        </a:lnTo>
                        <a:lnTo>
                          <a:pt x="450" y="10"/>
                        </a:lnTo>
                        <a:lnTo>
                          <a:pt x="38" y="238"/>
                        </a:lnTo>
                        <a:lnTo>
                          <a:pt x="0" y="331"/>
                        </a:lnTo>
                        <a:lnTo>
                          <a:pt x="0" y="3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155360" y="4188240"/>
                    <a:ext cx="17604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9" h="544">
                        <a:moveTo>
                          <a:pt x="0" y="544"/>
                        </a:moveTo>
                        <a:lnTo>
                          <a:pt x="108" y="512"/>
                        </a:lnTo>
                        <a:lnTo>
                          <a:pt x="669" y="0"/>
                        </a:lnTo>
                        <a:lnTo>
                          <a:pt x="576" y="38"/>
                        </a:lnTo>
                        <a:lnTo>
                          <a:pt x="185" y="337"/>
                        </a:lnTo>
                        <a:lnTo>
                          <a:pt x="0" y="544"/>
                        </a:lnTo>
                        <a:lnTo>
                          <a:pt x="0" y="5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7389000" y="4072320"/>
                    <a:ext cx="1152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9" h="344">
                        <a:moveTo>
                          <a:pt x="0" y="344"/>
                        </a:moveTo>
                        <a:lnTo>
                          <a:pt x="439" y="55"/>
                        </a:lnTo>
                        <a:lnTo>
                          <a:pt x="114" y="230"/>
                        </a:lnTo>
                        <a:lnTo>
                          <a:pt x="439" y="0"/>
                        </a:lnTo>
                        <a:lnTo>
                          <a:pt x="114" y="175"/>
                        </a:lnTo>
                        <a:lnTo>
                          <a:pt x="103" y="230"/>
                        </a:lnTo>
                        <a:lnTo>
                          <a:pt x="0" y="344"/>
                        </a:lnTo>
                        <a:lnTo>
                          <a:pt x="0" y="3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378200" y="4014720"/>
                    <a:ext cx="41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359">
                        <a:moveTo>
                          <a:pt x="25" y="359"/>
                        </a:moveTo>
                        <a:lnTo>
                          <a:pt x="0" y="266"/>
                        </a:lnTo>
                        <a:lnTo>
                          <a:pt x="14" y="161"/>
                        </a:lnTo>
                        <a:lnTo>
                          <a:pt x="38" y="98"/>
                        </a:lnTo>
                        <a:lnTo>
                          <a:pt x="57" y="64"/>
                        </a:lnTo>
                        <a:lnTo>
                          <a:pt x="80" y="28"/>
                        </a:lnTo>
                        <a:lnTo>
                          <a:pt x="92" y="19"/>
                        </a:lnTo>
                        <a:lnTo>
                          <a:pt x="114" y="3"/>
                        </a:lnTo>
                        <a:lnTo>
                          <a:pt x="141" y="0"/>
                        </a:lnTo>
                        <a:lnTo>
                          <a:pt x="154" y="24"/>
                        </a:lnTo>
                        <a:lnTo>
                          <a:pt x="160" y="131"/>
                        </a:lnTo>
                        <a:lnTo>
                          <a:pt x="152" y="188"/>
                        </a:lnTo>
                        <a:lnTo>
                          <a:pt x="133" y="237"/>
                        </a:lnTo>
                        <a:lnTo>
                          <a:pt x="107" y="260"/>
                        </a:lnTo>
                        <a:lnTo>
                          <a:pt x="105" y="239"/>
                        </a:lnTo>
                        <a:lnTo>
                          <a:pt x="107" y="79"/>
                        </a:lnTo>
                        <a:lnTo>
                          <a:pt x="61" y="150"/>
                        </a:lnTo>
                        <a:lnTo>
                          <a:pt x="48" y="207"/>
                        </a:lnTo>
                        <a:lnTo>
                          <a:pt x="33" y="323"/>
                        </a:lnTo>
                        <a:lnTo>
                          <a:pt x="25" y="359"/>
                        </a:lnTo>
                        <a:lnTo>
                          <a:pt x="25" y="3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7336800" y="3933000"/>
                    <a:ext cx="478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48">
                        <a:moveTo>
                          <a:pt x="0" y="148"/>
                        </a:moveTo>
                        <a:lnTo>
                          <a:pt x="29" y="93"/>
                        </a:lnTo>
                        <a:lnTo>
                          <a:pt x="63" y="47"/>
                        </a:lnTo>
                        <a:lnTo>
                          <a:pt x="84" y="28"/>
                        </a:lnTo>
                        <a:lnTo>
                          <a:pt x="109" y="13"/>
                        </a:lnTo>
                        <a:lnTo>
                          <a:pt x="158" y="0"/>
                        </a:lnTo>
                        <a:lnTo>
                          <a:pt x="183" y="7"/>
                        </a:lnTo>
                        <a:lnTo>
                          <a:pt x="164" y="28"/>
                        </a:lnTo>
                        <a:lnTo>
                          <a:pt x="124" y="57"/>
                        </a:lnTo>
                        <a:lnTo>
                          <a:pt x="88" y="89"/>
                        </a:lnTo>
                        <a:lnTo>
                          <a:pt x="57" y="120"/>
                        </a:lnTo>
                        <a:lnTo>
                          <a:pt x="29" y="137"/>
                        </a:lnTo>
                        <a:lnTo>
                          <a:pt x="0" y="148"/>
                        </a:lnTo>
                        <a:lnTo>
                          <a:pt x="0" y="148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894360" y="4231800"/>
                    <a:ext cx="1285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89">
                        <a:moveTo>
                          <a:pt x="0" y="72"/>
                        </a:moveTo>
                        <a:lnTo>
                          <a:pt x="196" y="55"/>
                        </a:lnTo>
                        <a:lnTo>
                          <a:pt x="455" y="7"/>
                        </a:lnTo>
                        <a:lnTo>
                          <a:pt x="487" y="0"/>
                        </a:lnTo>
                        <a:lnTo>
                          <a:pt x="461" y="28"/>
                        </a:lnTo>
                        <a:lnTo>
                          <a:pt x="430" y="45"/>
                        </a:lnTo>
                        <a:lnTo>
                          <a:pt x="388" y="64"/>
                        </a:lnTo>
                        <a:lnTo>
                          <a:pt x="284" y="89"/>
                        </a:lnTo>
                        <a:lnTo>
                          <a:pt x="82" y="83"/>
                        </a:lnTo>
                        <a:lnTo>
                          <a:pt x="0" y="72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ff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6989400" y="3763440"/>
                    <a:ext cx="954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1" h="156">
                        <a:moveTo>
                          <a:pt x="0" y="133"/>
                        </a:moveTo>
                        <a:lnTo>
                          <a:pt x="34" y="114"/>
                        </a:lnTo>
                        <a:lnTo>
                          <a:pt x="74" y="94"/>
                        </a:lnTo>
                        <a:lnTo>
                          <a:pt x="121" y="71"/>
                        </a:lnTo>
                        <a:lnTo>
                          <a:pt x="178" y="48"/>
                        </a:lnTo>
                        <a:lnTo>
                          <a:pt x="239" y="25"/>
                        </a:lnTo>
                        <a:lnTo>
                          <a:pt x="361" y="0"/>
                        </a:lnTo>
                        <a:lnTo>
                          <a:pt x="329" y="14"/>
                        </a:lnTo>
                        <a:lnTo>
                          <a:pt x="256" y="46"/>
                        </a:lnTo>
                        <a:lnTo>
                          <a:pt x="182" y="90"/>
                        </a:lnTo>
                        <a:lnTo>
                          <a:pt x="146" y="133"/>
                        </a:lnTo>
                        <a:lnTo>
                          <a:pt x="139" y="149"/>
                        </a:lnTo>
                        <a:lnTo>
                          <a:pt x="120" y="156"/>
                        </a:lnTo>
                        <a:lnTo>
                          <a:pt x="70" y="154"/>
                        </a:lnTo>
                        <a:lnTo>
                          <a:pt x="0" y="133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711120" y="4038480"/>
                    <a:ext cx="2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25">
                        <a:moveTo>
                          <a:pt x="14" y="61"/>
                        </a:moveTo>
                        <a:lnTo>
                          <a:pt x="52" y="15"/>
                        </a:lnTo>
                        <a:lnTo>
                          <a:pt x="84" y="0"/>
                        </a:lnTo>
                        <a:lnTo>
                          <a:pt x="113" y="4"/>
                        </a:lnTo>
                        <a:lnTo>
                          <a:pt x="57" y="87"/>
                        </a:lnTo>
                        <a:lnTo>
                          <a:pt x="44" y="125"/>
                        </a:lnTo>
                        <a:lnTo>
                          <a:pt x="25" y="122"/>
                        </a:lnTo>
                        <a:lnTo>
                          <a:pt x="0" y="89"/>
                        </a:lnTo>
                        <a:lnTo>
                          <a:pt x="14" y="61"/>
                        </a:lnTo>
                        <a:lnTo>
                          <a:pt x="14" y="6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6987240" y="4079520"/>
                    <a:ext cx="56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05">
                        <a:moveTo>
                          <a:pt x="0" y="205"/>
                        </a:moveTo>
                        <a:lnTo>
                          <a:pt x="12" y="137"/>
                        </a:lnTo>
                        <a:lnTo>
                          <a:pt x="42" y="78"/>
                        </a:lnTo>
                        <a:lnTo>
                          <a:pt x="69" y="49"/>
                        </a:lnTo>
                        <a:lnTo>
                          <a:pt x="109" y="23"/>
                        </a:lnTo>
                        <a:lnTo>
                          <a:pt x="173" y="0"/>
                        </a:lnTo>
                        <a:lnTo>
                          <a:pt x="207" y="7"/>
                        </a:lnTo>
                        <a:lnTo>
                          <a:pt x="217" y="38"/>
                        </a:lnTo>
                        <a:lnTo>
                          <a:pt x="188" y="108"/>
                        </a:lnTo>
                        <a:lnTo>
                          <a:pt x="137" y="161"/>
                        </a:lnTo>
                        <a:lnTo>
                          <a:pt x="99" y="184"/>
                        </a:lnTo>
                        <a:lnTo>
                          <a:pt x="50" y="199"/>
                        </a:lnTo>
                        <a:lnTo>
                          <a:pt x="0" y="205"/>
                        </a:lnTo>
                        <a:lnTo>
                          <a:pt x="0" y="2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7108920" y="4181400"/>
                    <a:ext cx="727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488">
                        <a:moveTo>
                          <a:pt x="160" y="484"/>
                        </a:moveTo>
                        <a:lnTo>
                          <a:pt x="97" y="488"/>
                        </a:lnTo>
                        <a:lnTo>
                          <a:pt x="25" y="433"/>
                        </a:lnTo>
                        <a:lnTo>
                          <a:pt x="0" y="283"/>
                        </a:lnTo>
                        <a:lnTo>
                          <a:pt x="21" y="161"/>
                        </a:lnTo>
                        <a:lnTo>
                          <a:pt x="44" y="85"/>
                        </a:lnTo>
                        <a:lnTo>
                          <a:pt x="76" y="0"/>
                        </a:lnTo>
                        <a:lnTo>
                          <a:pt x="93" y="399"/>
                        </a:lnTo>
                        <a:lnTo>
                          <a:pt x="128" y="418"/>
                        </a:lnTo>
                        <a:lnTo>
                          <a:pt x="160" y="422"/>
                        </a:lnTo>
                        <a:lnTo>
                          <a:pt x="219" y="395"/>
                        </a:lnTo>
                        <a:lnTo>
                          <a:pt x="261" y="351"/>
                        </a:lnTo>
                        <a:lnTo>
                          <a:pt x="276" y="329"/>
                        </a:lnTo>
                        <a:lnTo>
                          <a:pt x="242" y="395"/>
                        </a:lnTo>
                        <a:lnTo>
                          <a:pt x="206" y="446"/>
                        </a:lnTo>
                        <a:lnTo>
                          <a:pt x="183" y="469"/>
                        </a:lnTo>
                        <a:lnTo>
                          <a:pt x="160" y="484"/>
                        </a:lnTo>
                        <a:lnTo>
                          <a:pt x="160" y="484"/>
                        </a:lnTo>
                        <a:close/>
                      </a:path>
                    </a:pathLst>
                  </a:custGeom>
                  <a:solidFill>
                    <a:srgbClr val="b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683400" y="4169160"/>
                    <a:ext cx="1515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35">
                        <a:moveTo>
                          <a:pt x="0" y="0"/>
                        </a:moveTo>
                        <a:lnTo>
                          <a:pt x="49" y="38"/>
                        </a:lnTo>
                        <a:lnTo>
                          <a:pt x="105" y="78"/>
                        </a:lnTo>
                        <a:lnTo>
                          <a:pt x="139" y="101"/>
                        </a:lnTo>
                        <a:lnTo>
                          <a:pt x="177" y="127"/>
                        </a:lnTo>
                        <a:lnTo>
                          <a:pt x="219" y="154"/>
                        </a:lnTo>
                        <a:lnTo>
                          <a:pt x="264" y="183"/>
                        </a:lnTo>
                        <a:lnTo>
                          <a:pt x="312" y="209"/>
                        </a:lnTo>
                        <a:lnTo>
                          <a:pt x="361" y="238"/>
                        </a:lnTo>
                        <a:lnTo>
                          <a:pt x="413" y="264"/>
                        </a:lnTo>
                        <a:lnTo>
                          <a:pt x="466" y="289"/>
                        </a:lnTo>
                        <a:lnTo>
                          <a:pt x="521" y="314"/>
                        </a:lnTo>
                        <a:lnTo>
                          <a:pt x="576" y="335"/>
                        </a:lnTo>
                        <a:lnTo>
                          <a:pt x="534" y="321"/>
                        </a:lnTo>
                        <a:lnTo>
                          <a:pt x="430" y="283"/>
                        </a:lnTo>
                        <a:lnTo>
                          <a:pt x="367" y="261"/>
                        </a:lnTo>
                        <a:lnTo>
                          <a:pt x="302" y="234"/>
                        </a:lnTo>
                        <a:lnTo>
                          <a:pt x="240" y="203"/>
                        </a:lnTo>
                        <a:lnTo>
                          <a:pt x="186" y="173"/>
                        </a:lnTo>
                        <a:lnTo>
                          <a:pt x="141" y="143"/>
                        </a:lnTo>
                        <a:lnTo>
                          <a:pt x="101" y="112"/>
                        </a:lnTo>
                        <a:lnTo>
                          <a:pt x="68" y="84"/>
                        </a:lnTo>
                        <a:lnTo>
                          <a:pt x="44" y="5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6767640" y="3918960"/>
                    <a:ext cx="32796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6" h="747">
                        <a:moveTo>
                          <a:pt x="419" y="0"/>
                        </a:moveTo>
                        <a:lnTo>
                          <a:pt x="426" y="26"/>
                        </a:lnTo>
                        <a:lnTo>
                          <a:pt x="455" y="55"/>
                        </a:lnTo>
                        <a:lnTo>
                          <a:pt x="510" y="89"/>
                        </a:lnTo>
                        <a:lnTo>
                          <a:pt x="607" y="125"/>
                        </a:lnTo>
                        <a:lnTo>
                          <a:pt x="753" y="159"/>
                        </a:lnTo>
                        <a:lnTo>
                          <a:pt x="962" y="190"/>
                        </a:lnTo>
                        <a:lnTo>
                          <a:pt x="1246" y="211"/>
                        </a:lnTo>
                        <a:lnTo>
                          <a:pt x="985" y="226"/>
                        </a:lnTo>
                        <a:lnTo>
                          <a:pt x="719" y="214"/>
                        </a:lnTo>
                        <a:lnTo>
                          <a:pt x="419" y="157"/>
                        </a:lnTo>
                        <a:lnTo>
                          <a:pt x="379" y="195"/>
                        </a:lnTo>
                        <a:lnTo>
                          <a:pt x="333" y="243"/>
                        </a:lnTo>
                        <a:lnTo>
                          <a:pt x="278" y="308"/>
                        </a:lnTo>
                        <a:lnTo>
                          <a:pt x="246" y="348"/>
                        </a:lnTo>
                        <a:lnTo>
                          <a:pt x="211" y="391"/>
                        </a:lnTo>
                        <a:lnTo>
                          <a:pt x="177" y="439"/>
                        </a:lnTo>
                        <a:lnTo>
                          <a:pt x="141" y="492"/>
                        </a:lnTo>
                        <a:lnTo>
                          <a:pt x="105" y="549"/>
                        </a:lnTo>
                        <a:lnTo>
                          <a:pt x="69" y="610"/>
                        </a:lnTo>
                        <a:lnTo>
                          <a:pt x="35" y="676"/>
                        </a:lnTo>
                        <a:lnTo>
                          <a:pt x="0" y="747"/>
                        </a:lnTo>
                        <a:lnTo>
                          <a:pt x="33" y="659"/>
                        </a:lnTo>
                        <a:lnTo>
                          <a:pt x="69" y="568"/>
                        </a:lnTo>
                        <a:lnTo>
                          <a:pt x="92" y="517"/>
                        </a:lnTo>
                        <a:lnTo>
                          <a:pt x="116" y="462"/>
                        </a:lnTo>
                        <a:lnTo>
                          <a:pt x="145" y="405"/>
                        </a:lnTo>
                        <a:lnTo>
                          <a:pt x="173" y="349"/>
                        </a:lnTo>
                        <a:lnTo>
                          <a:pt x="204" y="294"/>
                        </a:lnTo>
                        <a:lnTo>
                          <a:pt x="234" y="243"/>
                        </a:lnTo>
                        <a:lnTo>
                          <a:pt x="267" y="197"/>
                        </a:lnTo>
                        <a:lnTo>
                          <a:pt x="299" y="157"/>
                        </a:lnTo>
                        <a:lnTo>
                          <a:pt x="333" y="123"/>
                        </a:lnTo>
                        <a:lnTo>
                          <a:pt x="365" y="100"/>
                        </a:lnTo>
                        <a:lnTo>
                          <a:pt x="419" y="0"/>
                        </a:lnTo>
                        <a:lnTo>
                          <a:pt x="4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2" name=""/>
                <p:cNvSpPr/>
                <p:nvPr/>
              </p:nvSpPr>
              <p:spPr>
                <a:xfrm>
                  <a:off x="7500960" y="3822480"/>
                  <a:ext cx="200160" cy="50472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815160" y="4235040"/>
                  <a:ext cx="755640" cy="214200"/>
                </a:xfrm>
                <a:custGeom>
                  <a:avLst/>
                  <a:gdLst/>
                  <a:ahLst/>
                  <a:rect l="l" t="t" r="r" b="b"/>
                  <a:pathLst>
                    <a:path w="476" h="135">
                      <a:moveTo>
                        <a:pt x="0" y="18"/>
                      </a:moveTo>
                      <a:cubicBezTo>
                        <a:pt x="7" y="53"/>
                        <a:pt x="15" y="88"/>
                        <a:pt x="48" y="105"/>
                      </a:cubicBezTo>
                      <a:cubicBezTo>
                        <a:pt x="81" y="122"/>
                        <a:pt x="129" y="135"/>
                        <a:pt x="200" y="118"/>
                      </a:cubicBezTo>
                      <a:cubicBezTo>
                        <a:pt x="271" y="101"/>
                        <a:pt x="373" y="50"/>
                        <a:pt x="476" y="0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533000" y="3879360"/>
                  <a:ext cx="128520" cy="122400"/>
                </a:xfrm>
                <a:custGeom>
                  <a:avLst/>
                  <a:gdLst/>
                  <a:ahLst/>
                  <a:rect l="l" t="t" r="r" b="b"/>
                  <a:pathLst>
                    <a:path w="81" h="77">
                      <a:moveTo>
                        <a:pt x="1" y="12"/>
                      </a:moveTo>
                      <a:lnTo>
                        <a:pt x="1" y="63"/>
                      </a:lnTo>
                      <a:lnTo>
                        <a:pt x="81" y="77"/>
                      </a:lnTo>
                      <a:lnTo>
                        <a:pt x="81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 flipH="1" flipV="1">
                <a:off x="5127480" y="4232160"/>
                <a:ext cx="6120" cy="1473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 flipV="1">
                <a:off x="5121360" y="4225680"/>
                <a:ext cx="311040" cy="53352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33960" y="4663800"/>
                <a:ext cx="2070000" cy="7174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566320" y="477972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3300"/>
                    </a:solidFill>
                    <a:latin typeface="Tahoma"/>
                  </a:rPr>
                  <a:t>ネットワーク</a:t>
                </a: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6321600" y="4282560"/>
                <a:ext cx="0" cy="3747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6797880" y="4276440"/>
                <a:ext cx="780840" cy="45720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5191200" y="5349600"/>
                <a:ext cx="539640" cy="63504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6512040" y="5368320"/>
                <a:ext cx="38160" cy="73044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7203960" y="5025600"/>
                <a:ext cx="603360" cy="612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7755120" y="4367160"/>
                <a:ext cx="1388880" cy="1194840"/>
                <a:chOff x="7755120" y="4367160"/>
                <a:chExt cx="1388880" cy="119484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8024760" y="4535280"/>
                  <a:ext cx="878040" cy="115560"/>
                </a:xfrm>
                <a:custGeom>
                  <a:avLst/>
                  <a:gdLst/>
                  <a:ahLst/>
                  <a:rect l="l" t="t" r="r" b="b"/>
                  <a:pathLst>
                    <a:path w="1106" h="147">
                      <a:moveTo>
                        <a:pt x="1085" y="22"/>
                      </a:moveTo>
                      <a:lnTo>
                        <a:pt x="1095" y="13"/>
                      </a:lnTo>
                      <a:lnTo>
                        <a:pt x="1102" y="6"/>
                      </a:lnTo>
                      <a:lnTo>
                        <a:pt x="1105" y="2"/>
                      </a:lnTo>
                      <a:lnTo>
                        <a:pt x="1106" y="0"/>
                      </a:lnTo>
                      <a:lnTo>
                        <a:pt x="1105" y="2"/>
                      </a:lnTo>
                      <a:lnTo>
                        <a:pt x="1103" y="6"/>
                      </a:lnTo>
                      <a:lnTo>
                        <a:pt x="1096" y="13"/>
                      </a:lnTo>
                      <a:lnTo>
                        <a:pt x="1085" y="22"/>
                      </a:lnTo>
                      <a:lnTo>
                        <a:pt x="1078" y="28"/>
                      </a:lnTo>
                      <a:lnTo>
                        <a:pt x="1068" y="34"/>
                      </a:lnTo>
                      <a:lnTo>
                        <a:pt x="1059" y="41"/>
                      </a:lnTo>
                      <a:lnTo>
                        <a:pt x="1048" y="48"/>
                      </a:lnTo>
                      <a:lnTo>
                        <a:pt x="1035" y="55"/>
                      </a:lnTo>
                      <a:lnTo>
                        <a:pt x="1021" y="62"/>
                      </a:lnTo>
                      <a:lnTo>
                        <a:pt x="1006" y="68"/>
                      </a:lnTo>
                      <a:lnTo>
                        <a:pt x="989" y="75"/>
                      </a:lnTo>
                      <a:lnTo>
                        <a:pt x="971" y="82"/>
                      </a:lnTo>
                      <a:lnTo>
                        <a:pt x="951" y="88"/>
                      </a:lnTo>
                      <a:lnTo>
                        <a:pt x="929" y="95"/>
                      </a:lnTo>
                      <a:lnTo>
                        <a:pt x="906" y="100"/>
                      </a:lnTo>
                      <a:lnTo>
                        <a:pt x="881" y="105"/>
                      </a:lnTo>
                      <a:lnTo>
                        <a:pt x="853" y="109"/>
                      </a:lnTo>
                      <a:lnTo>
                        <a:pt x="824" y="113"/>
                      </a:lnTo>
                      <a:lnTo>
                        <a:pt x="793" y="116"/>
                      </a:lnTo>
                      <a:lnTo>
                        <a:pt x="761" y="117"/>
                      </a:lnTo>
                      <a:lnTo>
                        <a:pt x="726" y="116"/>
                      </a:lnTo>
                      <a:lnTo>
                        <a:pt x="691" y="113"/>
                      </a:lnTo>
                      <a:lnTo>
                        <a:pt x="653" y="110"/>
                      </a:lnTo>
                      <a:lnTo>
                        <a:pt x="612" y="105"/>
                      </a:lnTo>
                      <a:lnTo>
                        <a:pt x="571" y="100"/>
                      </a:lnTo>
                      <a:lnTo>
                        <a:pt x="529" y="94"/>
                      </a:lnTo>
                      <a:lnTo>
                        <a:pt x="487" y="87"/>
                      </a:lnTo>
                      <a:lnTo>
                        <a:pt x="444" y="81"/>
                      </a:lnTo>
                      <a:lnTo>
                        <a:pt x="402" y="75"/>
                      </a:lnTo>
                      <a:lnTo>
                        <a:pt x="359" y="71"/>
                      </a:lnTo>
                      <a:lnTo>
                        <a:pt x="317" y="67"/>
                      </a:lnTo>
                      <a:lnTo>
                        <a:pt x="276" y="64"/>
                      </a:lnTo>
                      <a:lnTo>
                        <a:pt x="237" y="63"/>
                      </a:lnTo>
                      <a:lnTo>
                        <a:pt x="199" y="64"/>
                      </a:lnTo>
                      <a:lnTo>
                        <a:pt x="162" y="66"/>
                      </a:lnTo>
                      <a:lnTo>
                        <a:pt x="130" y="71"/>
                      </a:lnTo>
                      <a:lnTo>
                        <a:pt x="103" y="75"/>
                      </a:lnTo>
                      <a:lnTo>
                        <a:pt x="81" y="81"/>
                      </a:lnTo>
                      <a:lnTo>
                        <a:pt x="64" y="88"/>
                      </a:lnTo>
                      <a:lnTo>
                        <a:pt x="50" y="94"/>
                      </a:lnTo>
                      <a:lnTo>
                        <a:pt x="40" y="101"/>
                      </a:lnTo>
                      <a:lnTo>
                        <a:pt x="33" y="108"/>
                      </a:lnTo>
                      <a:lnTo>
                        <a:pt x="28" y="115"/>
                      </a:lnTo>
                      <a:lnTo>
                        <a:pt x="26" y="120"/>
                      </a:lnTo>
                      <a:lnTo>
                        <a:pt x="25" y="127"/>
                      </a:lnTo>
                      <a:lnTo>
                        <a:pt x="26" y="132"/>
                      </a:lnTo>
                      <a:lnTo>
                        <a:pt x="27" y="138"/>
                      </a:lnTo>
                      <a:lnTo>
                        <a:pt x="30" y="141"/>
                      </a:lnTo>
                      <a:lnTo>
                        <a:pt x="31" y="144"/>
                      </a:lnTo>
                      <a:lnTo>
                        <a:pt x="32" y="146"/>
                      </a:lnTo>
                      <a:lnTo>
                        <a:pt x="33" y="147"/>
                      </a:lnTo>
                      <a:lnTo>
                        <a:pt x="32" y="146"/>
                      </a:lnTo>
                      <a:lnTo>
                        <a:pt x="28" y="143"/>
                      </a:lnTo>
                      <a:lnTo>
                        <a:pt x="24" y="139"/>
                      </a:lnTo>
                      <a:lnTo>
                        <a:pt x="18" y="134"/>
                      </a:lnTo>
                      <a:lnTo>
                        <a:pt x="12" y="127"/>
                      </a:lnTo>
                      <a:lnTo>
                        <a:pt x="8" y="120"/>
                      </a:lnTo>
                      <a:lnTo>
                        <a:pt x="3" y="112"/>
                      </a:lnTo>
                      <a:lnTo>
                        <a:pt x="0" y="103"/>
                      </a:lnTo>
                      <a:lnTo>
                        <a:pt x="0" y="95"/>
                      </a:lnTo>
                      <a:lnTo>
                        <a:pt x="2" y="86"/>
                      </a:lnTo>
                      <a:lnTo>
                        <a:pt x="6" y="78"/>
                      </a:lnTo>
                      <a:lnTo>
                        <a:pt x="17" y="68"/>
                      </a:lnTo>
                      <a:lnTo>
                        <a:pt x="31" y="62"/>
                      </a:lnTo>
                      <a:lnTo>
                        <a:pt x="50" y="55"/>
                      </a:lnTo>
                      <a:lnTo>
                        <a:pt x="76" y="48"/>
                      </a:lnTo>
                      <a:lnTo>
                        <a:pt x="107" y="43"/>
                      </a:lnTo>
                      <a:lnTo>
                        <a:pt x="146" y="40"/>
                      </a:lnTo>
                      <a:lnTo>
                        <a:pt x="187" y="38"/>
                      </a:lnTo>
                      <a:lnTo>
                        <a:pt x="230" y="40"/>
                      </a:lnTo>
                      <a:lnTo>
                        <a:pt x="274" y="42"/>
                      </a:lnTo>
                      <a:lnTo>
                        <a:pt x="317" y="45"/>
                      </a:lnTo>
                      <a:lnTo>
                        <a:pt x="361" y="51"/>
                      </a:lnTo>
                      <a:lnTo>
                        <a:pt x="406" y="57"/>
                      </a:lnTo>
                      <a:lnTo>
                        <a:pt x="450" y="63"/>
                      </a:lnTo>
                      <a:lnTo>
                        <a:pt x="494" y="68"/>
                      </a:lnTo>
                      <a:lnTo>
                        <a:pt x="536" y="75"/>
                      </a:lnTo>
                      <a:lnTo>
                        <a:pt x="578" y="81"/>
                      </a:lnTo>
                      <a:lnTo>
                        <a:pt x="619" y="86"/>
                      </a:lnTo>
                      <a:lnTo>
                        <a:pt x="657" y="90"/>
                      </a:lnTo>
                      <a:lnTo>
                        <a:pt x="695" y="93"/>
                      </a:lnTo>
                      <a:lnTo>
                        <a:pt x="730" y="94"/>
                      </a:lnTo>
                      <a:lnTo>
                        <a:pt x="762" y="93"/>
                      </a:lnTo>
                      <a:lnTo>
                        <a:pt x="799" y="90"/>
                      </a:lnTo>
                      <a:lnTo>
                        <a:pt x="833" y="87"/>
                      </a:lnTo>
                      <a:lnTo>
                        <a:pt x="865" y="83"/>
                      </a:lnTo>
                      <a:lnTo>
                        <a:pt x="895" y="79"/>
                      </a:lnTo>
                      <a:lnTo>
                        <a:pt x="921" y="75"/>
                      </a:lnTo>
                      <a:lnTo>
                        <a:pt x="945" y="71"/>
                      </a:lnTo>
                      <a:lnTo>
                        <a:pt x="967" y="66"/>
                      </a:lnTo>
                      <a:lnTo>
                        <a:pt x="988" y="60"/>
                      </a:lnTo>
                      <a:lnTo>
                        <a:pt x="1005" y="56"/>
                      </a:lnTo>
                      <a:lnTo>
                        <a:pt x="1021" y="51"/>
                      </a:lnTo>
                      <a:lnTo>
                        <a:pt x="1036" y="47"/>
                      </a:lnTo>
                      <a:lnTo>
                        <a:pt x="1049" y="41"/>
                      </a:lnTo>
                      <a:lnTo>
                        <a:pt x="1059" y="36"/>
                      </a:lnTo>
                      <a:lnTo>
                        <a:pt x="1070" y="32"/>
                      </a:lnTo>
                      <a:lnTo>
                        <a:pt x="1078" y="27"/>
                      </a:lnTo>
                      <a:lnTo>
                        <a:pt x="1085" y="22"/>
                      </a:lnTo>
                      <a:close/>
                    </a:path>
                  </a:pathLst>
                </a:custGeom>
                <a:solidFill>
                  <a:srgbClr val="ccf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996320" y="4392360"/>
                  <a:ext cx="677880" cy="209160"/>
                </a:xfrm>
                <a:custGeom>
                  <a:avLst/>
                  <a:gdLst/>
                  <a:ahLst/>
                  <a:rect l="l" t="t" r="r" b="b"/>
                  <a:pathLst>
                    <a:path w="855" h="263">
                      <a:moveTo>
                        <a:pt x="3" y="182"/>
                      </a:moveTo>
                      <a:lnTo>
                        <a:pt x="8" y="169"/>
                      </a:lnTo>
                      <a:lnTo>
                        <a:pt x="15" y="157"/>
                      </a:lnTo>
                      <a:lnTo>
                        <a:pt x="24" y="146"/>
                      </a:lnTo>
                      <a:lnTo>
                        <a:pt x="33" y="138"/>
                      </a:lnTo>
                      <a:lnTo>
                        <a:pt x="45" y="131"/>
                      </a:lnTo>
                      <a:lnTo>
                        <a:pt x="57" y="125"/>
                      </a:lnTo>
                      <a:lnTo>
                        <a:pt x="71" y="122"/>
                      </a:lnTo>
                      <a:lnTo>
                        <a:pt x="86" y="120"/>
                      </a:lnTo>
                      <a:lnTo>
                        <a:pt x="86" y="112"/>
                      </a:lnTo>
                      <a:lnTo>
                        <a:pt x="87" y="104"/>
                      </a:lnTo>
                      <a:lnTo>
                        <a:pt x="90" y="97"/>
                      </a:lnTo>
                      <a:lnTo>
                        <a:pt x="91" y="89"/>
                      </a:lnTo>
                      <a:lnTo>
                        <a:pt x="95" y="75"/>
                      </a:lnTo>
                      <a:lnTo>
                        <a:pt x="102" y="61"/>
                      </a:lnTo>
                      <a:lnTo>
                        <a:pt x="110" y="49"/>
                      </a:lnTo>
                      <a:lnTo>
                        <a:pt x="121" y="39"/>
                      </a:lnTo>
                      <a:lnTo>
                        <a:pt x="131" y="30"/>
                      </a:lnTo>
                      <a:lnTo>
                        <a:pt x="143" y="23"/>
                      </a:lnTo>
                      <a:lnTo>
                        <a:pt x="156" y="16"/>
                      </a:lnTo>
                      <a:lnTo>
                        <a:pt x="170" y="11"/>
                      </a:lnTo>
                      <a:lnTo>
                        <a:pt x="185" y="8"/>
                      </a:lnTo>
                      <a:lnTo>
                        <a:pt x="200" y="7"/>
                      </a:lnTo>
                      <a:lnTo>
                        <a:pt x="216" y="7"/>
                      </a:lnTo>
                      <a:lnTo>
                        <a:pt x="233" y="8"/>
                      </a:lnTo>
                      <a:lnTo>
                        <a:pt x="250" y="11"/>
                      </a:lnTo>
                      <a:lnTo>
                        <a:pt x="267" y="16"/>
                      </a:lnTo>
                      <a:lnTo>
                        <a:pt x="286" y="22"/>
                      </a:lnTo>
                      <a:lnTo>
                        <a:pt x="303" y="30"/>
                      </a:lnTo>
                      <a:lnTo>
                        <a:pt x="318" y="39"/>
                      </a:lnTo>
                      <a:lnTo>
                        <a:pt x="333" y="48"/>
                      </a:lnTo>
                      <a:lnTo>
                        <a:pt x="347" y="59"/>
                      </a:lnTo>
                      <a:lnTo>
                        <a:pt x="360" y="70"/>
                      </a:lnTo>
                      <a:lnTo>
                        <a:pt x="372" y="82"/>
                      </a:lnTo>
                      <a:lnTo>
                        <a:pt x="383" y="94"/>
                      </a:lnTo>
                      <a:lnTo>
                        <a:pt x="394" y="108"/>
                      </a:lnTo>
                      <a:lnTo>
                        <a:pt x="403" y="122"/>
                      </a:lnTo>
                      <a:lnTo>
                        <a:pt x="413" y="117"/>
                      </a:lnTo>
                      <a:lnTo>
                        <a:pt x="424" y="114"/>
                      </a:lnTo>
                      <a:lnTo>
                        <a:pt x="436" y="112"/>
                      </a:lnTo>
                      <a:lnTo>
                        <a:pt x="448" y="110"/>
                      </a:lnTo>
                      <a:lnTo>
                        <a:pt x="461" y="110"/>
                      </a:lnTo>
                      <a:lnTo>
                        <a:pt x="473" y="112"/>
                      </a:lnTo>
                      <a:lnTo>
                        <a:pt x="486" y="114"/>
                      </a:lnTo>
                      <a:lnTo>
                        <a:pt x="500" y="119"/>
                      </a:lnTo>
                      <a:lnTo>
                        <a:pt x="501" y="109"/>
                      </a:lnTo>
                      <a:lnTo>
                        <a:pt x="502" y="101"/>
                      </a:lnTo>
                      <a:lnTo>
                        <a:pt x="503" y="92"/>
                      </a:lnTo>
                      <a:lnTo>
                        <a:pt x="504" y="84"/>
                      </a:lnTo>
                      <a:lnTo>
                        <a:pt x="509" y="69"/>
                      </a:lnTo>
                      <a:lnTo>
                        <a:pt x="516" y="56"/>
                      </a:lnTo>
                      <a:lnTo>
                        <a:pt x="525" y="44"/>
                      </a:lnTo>
                      <a:lnTo>
                        <a:pt x="534" y="33"/>
                      </a:lnTo>
                      <a:lnTo>
                        <a:pt x="546" y="24"/>
                      </a:lnTo>
                      <a:lnTo>
                        <a:pt x="557" y="16"/>
                      </a:lnTo>
                      <a:lnTo>
                        <a:pt x="571" y="10"/>
                      </a:lnTo>
                      <a:lnTo>
                        <a:pt x="585" y="6"/>
                      </a:lnTo>
                      <a:lnTo>
                        <a:pt x="600" y="2"/>
                      </a:lnTo>
                      <a:lnTo>
                        <a:pt x="616" y="0"/>
                      </a:lnTo>
                      <a:lnTo>
                        <a:pt x="632" y="0"/>
                      </a:lnTo>
                      <a:lnTo>
                        <a:pt x="649" y="1"/>
                      </a:lnTo>
                      <a:lnTo>
                        <a:pt x="667" y="4"/>
                      </a:lnTo>
                      <a:lnTo>
                        <a:pt x="685" y="9"/>
                      </a:lnTo>
                      <a:lnTo>
                        <a:pt x="702" y="16"/>
                      </a:lnTo>
                      <a:lnTo>
                        <a:pt x="721" y="24"/>
                      </a:lnTo>
                      <a:lnTo>
                        <a:pt x="746" y="39"/>
                      </a:lnTo>
                      <a:lnTo>
                        <a:pt x="769" y="56"/>
                      </a:lnTo>
                      <a:lnTo>
                        <a:pt x="791" y="76"/>
                      </a:lnTo>
                      <a:lnTo>
                        <a:pt x="810" y="97"/>
                      </a:lnTo>
                      <a:lnTo>
                        <a:pt x="826" y="120"/>
                      </a:lnTo>
                      <a:lnTo>
                        <a:pt x="838" y="143"/>
                      </a:lnTo>
                      <a:lnTo>
                        <a:pt x="848" y="167"/>
                      </a:lnTo>
                      <a:lnTo>
                        <a:pt x="855" y="191"/>
                      </a:lnTo>
                      <a:lnTo>
                        <a:pt x="845" y="172"/>
                      </a:lnTo>
                      <a:lnTo>
                        <a:pt x="835" y="152"/>
                      </a:lnTo>
                      <a:lnTo>
                        <a:pt x="821" y="134"/>
                      </a:lnTo>
                      <a:lnTo>
                        <a:pt x="806" y="115"/>
                      </a:lnTo>
                      <a:lnTo>
                        <a:pt x="790" y="99"/>
                      </a:lnTo>
                      <a:lnTo>
                        <a:pt x="772" y="84"/>
                      </a:lnTo>
                      <a:lnTo>
                        <a:pt x="752" y="70"/>
                      </a:lnTo>
                      <a:lnTo>
                        <a:pt x="730" y="57"/>
                      </a:lnTo>
                      <a:lnTo>
                        <a:pt x="712" y="49"/>
                      </a:lnTo>
                      <a:lnTo>
                        <a:pt x="694" y="42"/>
                      </a:lnTo>
                      <a:lnTo>
                        <a:pt x="677" y="38"/>
                      </a:lnTo>
                      <a:lnTo>
                        <a:pt x="660" y="36"/>
                      </a:lnTo>
                      <a:lnTo>
                        <a:pt x="643" y="33"/>
                      </a:lnTo>
                      <a:lnTo>
                        <a:pt x="626" y="34"/>
                      </a:lnTo>
                      <a:lnTo>
                        <a:pt x="610" y="36"/>
                      </a:lnTo>
                      <a:lnTo>
                        <a:pt x="595" y="39"/>
                      </a:lnTo>
                      <a:lnTo>
                        <a:pt x="580" y="44"/>
                      </a:lnTo>
                      <a:lnTo>
                        <a:pt x="568" y="51"/>
                      </a:lnTo>
                      <a:lnTo>
                        <a:pt x="555" y="57"/>
                      </a:lnTo>
                      <a:lnTo>
                        <a:pt x="545" y="67"/>
                      </a:lnTo>
                      <a:lnTo>
                        <a:pt x="534" y="78"/>
                      </a:lnTo>
                      <a:lnTo>
                        <a:pt x="526" y="90"/>
                      </a:lnTo>
                      <a:lnTo>
                        <a:pt x="519" y="102"/>
                      </a:lnTo>
                      <a:lnTo>
                        <a:pt x="514" y="117"/>
                      </a:lnTo>
                      <a:lnTo>
                        <a:pt x="511" y="125"/>
                      </a:lnTo>
                      <a:lnTo>
                        <a:pt x="510" y="135"/>
                      </a:lnTo>
                      <a:lnTo>
                        <a:pt x="509" y="143"/>
                      </a:lnTo>
                      <a:lnTo>
                        <a:pt x="509" y="152"/>
                      </a:lnTo>
                      <a:lnTo>
                        <a:pt x="495" y="147"/>
                      </a:lnTo>
                      <a:lnTo>
                        <a:pt x="482" y="145"/>
                      </a:lnTo>
                      <a:lnTo>
                        <a:pt x="470" y="144"/>
                      </a:lnTo>
                      <a:lnTo>
                        <a:pt x="457" y="144"/>
                      </a:lnTo>
                      <a:lnTo>
                        <a:pt x="446" y="145"/>
                      </a:lnTo>
                      <a:lnTo>
                        <a:pt x="433" y="147"/>
                      </a:lnTo>
                      <a:lnTo>
                        <a:pt x="423" y="151"/>
                      </a:lnTo>
                      <a:lnTo>
                        <a:pt x="412" y="155"/>
                      </a:lnTo>
                      <a:lnTo>
                        <a:pt x="403" y="142"/>
                      </a:lnTo>
                      <a:lnTo>
                        <a:pt x="393" y="129"/>
                      </a:lnTo>
                      <a:lnTo>
                        <a:pt x="381" y="116"/>
                      </a:lnTo>
                      <a:lnTo>
                        <a:pt x="370" y="104"/>
                      </a:lnTo>
                      <a:lnTo>
                        <a:pt x="357" y="92"/>
                      </a:lnTo>
                      <a:lnTo>
                        <a:pt x="342" y="82"/>
                      </a:lnTo>
                      <a:lnTo>
                        <a:pt x="328" y="72"/>
                      </a:lnTo>
                      <a:lnTo>
                        <a:pt x="312" y="64"/>
                      </a:lnTo>
                      <a:lnTo>
                        <a:pt x="295" y="56"/>
                      </a:lnTo>
                      <a:lnTo>
                        <a:pt x="277" y="51"/>
                      </a:lnTo>
                      <a:lnTo>
                        <a:pt x="260" y="45"/>
                      </a:lnTo>
                      <a:lnTo>
                        <a:pt x="243" y="42"/>
                      </a:lnTo>
                      <a:lnTo>
                        <a:pt x="227" y="41"/>
                      </a:lnTo>
                      <a:lnTo>
                        <a:pt x="211" y="41"/>
                      </a:lnTo>
                      <a:lnTo>
                        <a:pt x="195" y="42"/>
                      </a:lnTo>
                      <a:lnTo>
                        <a:pt x="181" y="46"/>
                      </a:lnTo>
                      <a:lnTo>
                        <a:pt x="167" y="51"/>
                      </a:lnTo>
                      <a:lnTo>
                        <a:pt x="153" y="56"/>
                      </a:lnTo>
                      <a:lnTo>
                        <a:pt x="142" y="64"/>
                      </a:lnTo>
                      <a:lnTo>
                        <a:pt x="131" y="72"/>
                      </a:lnTo>
                      <a:lnTo>
                        <a:pt x="121" y="83"/>
                      </a:lnTo>
                      <a:lnTo>
                        <a:pt x="113" y="94"/>
                      </a:lnTo>
                      <a:lnTo>
                        <a:pt x="106" y="108"/>
                      </a:lnTo>
                      <a:lnTo>
                        <a:pt x="101" y="122"/>
                      </a:lnTo>
                      <a:lnTo>
                        <a:pt x="99" y="130"/>
                      </a:lnTo>
                      <a:lnTo>
                        <a:pt x="98" y="137"/>
                      </a:lnTo>
                      <a:lnTo>
                        <a:pt x="97" y="145"/>
                      </a:lnTo>
                      <a:lnTo>
                        <a:pt x="95" y="153"/>
                      </a:lnTo>
                      <a:lnTo>
                        <a:pt x="82" y="155"/>
                      </a:lnTo>
                      <a:lnTo>
                        <a:pt x="68" y="159"/>
                      </a:lnTo>
                      <a:lnTo>
                        <a:pt x="55" y="165"/>
                      </a:lnTo>
                      <a:lnTo>
                        <a:pt x="44" y="172"/>
                      </a:lnTo>
                      <a:lnTo>
                        <a:pt x="33" y="181"/>
                      </a:lnTo>
                      <a:lnTo>
                        <a:pt x="25" y="191"/>
                      </a:lnTo>
                      <a:lnTo>
                        <a:pt x="18" y="203"/>
                      </a:lnTo>
                      <a:lnTo>
                        <a:pt x="13" y="216"/>
                      </a:lnTo>
                      <a:lnTo>
                        <a:pt x="10" y="228"/>
                      </a:lnTo>
                      <a:lnTo>
                        <a:pt x="9" y="240"/>
                      </a:lnTo>
                      <a:lnTo>
                        <a:pt x="9" y="251"/>
                      </a:lnTo>
                      <a:lnTo>
                        <a:pt x="10" y="263"/>
                      </a:lnTo>
                      <a:lnTo>
                        <a:pt x="3" y="242"/>
                      </a:lnTo>
                      <a:lnTo>
                        <a:pt x="0" y="222"/>
                      </a:lnTo>
                      <a:lnTo>
                        <a:pt x="0" y="201"/>
                      </a:lnTo>
                      <a:lnTo>
                        <a:pt x="3" y="182"/>
                      </a:lnTo>
                      <a:close/>
                    </a:path>
                  </a:pathLst>
                </a:custGeom>
                <a:solidFill>
                  <a:srgbClr val="ccf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8123400" y="5221080"/>
                  <a:ext cx="11160" cy="15480"/>
                </a:xfrm>
                <a:custGeom>
                  <a:avLst/>
                  <a:gdLst/>
                  <a:ahLst/>
                  <a:rect l="l" t="t" r="r" b="b"/>
                  <a:pathLst>
                    <a:path w="15" h="18">
                      <a:moveTo>
                        <a:pt x="1" y="18"/>
                      </a:moveTo>
                      <a:lnTo>
                        <a:pt x="14" y="18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1" y="18"/>
                      </a:lnTo>
                      <a:close/>
                    </a:path>
                  </a:pathLst>
                </a:custGeom>
                <a:solidFill>
                  <a:srgbClr val="ccf7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8231400" y="5536800"/>
                  <a:ext cx="691920" cy="25200"/>
                </a:xfrm>
                <a:custGeom>
                  <a:avLst/>
                  <a:gdLst/>
                  <a:ahLst/>
                  <a:rect l="l" t="t" r="r" b="b"/>
                  <a:pathLst>
                    <a:path w="872" h="33">
                      <a:moveTo>
                        <a:pt x="0" y="33"/>
                      </a:moveTo>
                      <a:lnTo>
                        <a:pt x="856" y="33"/>
                      </a:lnTo>
                      <a:lnTo>
                        <a:pt x="872" y="0"/>
                      </a:lnTo>
                      <a:lnTo>
                        <a:pt x="0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afd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783560" y="4671720"/>
                  <a:ext cx="1322280" cy="834480"/>
                </a:xfrm>
                <a:custGeom>
                  <a:avLst/>
                  <a:gdLst/>
                  <a:ahLst/>
                  <a:rect l="l" t="t" r="r" b="b"/>
                  <a:pathLst>
                    <a:path w="1667" h="1052">
                      <a:moveTo>
                        <a:pt x="1604" y="589"/>
                      </a:moveTo>
                      <a:lnTo>
                        <a:pt x="1641" y="589"/>
                      </a:lnTo>
                      <a:lnTo>
                        <a:pt x="1667" y="560"/>
                      </a:lnTo>
                      <a:lnTo>
                        <a:pt x="1406" y="560"/>
                      </a:lnTo>
                      <a:lnTo>
                        <a:pt x="1406" y="519"/>
                      </a:lnTo>
                      <a:lnTo>
                        <a:pt x="1316" y="519"/>
                      </a:lnTo>
                      <a:lnTo>
                        <a:pt x="1316" y="376"/>
                      </a:lnTo>
                      <a:lnTo>
                        <a:pt x="1368" y="371"/>
                      </a:lnTo>
                      <a:lnTo>
                        <a:pt x="1316" y="367"/>
                      </a:lnTo>
                      <a:lnTo>
                        <a:pt x="1316" y="329"/>
                      </a:lnTo>
                      <a:lnTo>
                        <a:pt x="1368" y="324"/>
                      </a:lnTo>
                      <a:lnTo>
                        <a:pt x="1316" y="321"/>
                      </a:lnTo>
                      <a:lnTo>
                        <a:pt x="1316" y="281"/>
                      </a:lnTo>
                      <a:lnTo>
                        <a:pt x="1368" y="277"/>
                      </a:lnTo>
                      <a:lnTo>
                        <a:pt x="1316" y="273"/>
                      </a:lnTo>
                      <a:lnTo>
                        <a:pt x="1316" y="215"/>
                      </a:lnTo>
                      <a:lnTo>
                        <a:pt x="1279" y="215"/>
                      </a:lnTo>
                      <a:lnTo>
                        <a:pt x="1279" y="270"/>
                      </a:lnTo>
                      <a:lnTo>
                        <a:pt x="1232" y="268"/>
                      </a:lnTo>
                      <a:lnTo>
                        <a:pt x="1232" y="291"/>
                      </a:lnTo>
                      <a:lnTo>
                        <a:pt x="1279" y="286"/>
                      </a:lnTo>
                      <a:lnTo>
                        <a:pt x="1279" y="317"/>
                      </a:lnTo>
                      <a:lnTo>
                        <a:pt x="1232" y="314"/>
                      </a:lnTo>
                      <a:lnTo>
                        <a:pt x="1232" y="338"/>
                      </a:lnTo>
                      <a:lnTo>
                        <a:pt x="1279" y="333"/>
                      </a:lnTo>
                      <a:lnTo>
                        <a:pt x="1279" y="364"/>
                      </a:lnTo>
                      <a:lnTo>
                        <a:pt x="1232" y="361"/>
                      </a:lnTo>
                      <a:lnTo>
                        <a:pt x="1232" y="385"/>
                      </a:lnTo>
                      <a:lnTo>
                        <a:pt x="1279" y="380"/>
                      </a:lnTo>
                      <a:lnTo>
                        <a:pt x="1279" y="519"/>
                      </a:lnTo>
                      <a:lnTo>
                        <a:pt x="1133" y="519"/>
                      </a:lnTo>
                      <a:lnTo>
                        <a:pt x="1133" y="376"/>
                      </a:lnTo>
                      <a:lnTo>
                        <a:pt x="1185" y="371"/>
                      </a:lnTo>
                      <a:lnTo>
                        <a:pt x="1133" y="367"/>
                      </a:lnTo>
                      <a:lnTo>
                        <a:pt x="1133" y="329"/>
                      </a:lnTo>
                      <a:lnTo>
                        <a:pt x="1185" y="324"/>
                      </a:lnTo>
                      <a:lnTo>
                        <a:pt x="1133" y="321"/>
                      </a:lnTo>
                      <a:lnTo>
                        <a:pt x="1133" y="281"/>
                      </a:lnTo>
                      <a:lnTo>
                        <a:pt x="1185" y="277"/>
                      </a:lnTo>
                      <a:lnTo>
                        <a:pt x="1133" y="273"/>
                      </a:lnTo>
                      <a:lnTo>
                        <a:pt x="1133" y="215"/>
                      </a:lnTo>
                      <a:lnTo>
                        <a:pt x="1095" y="215"/>
                      </a:lnTo>
                      <a:lnTo>
                        <a:pt x="1095" y="270"/>
                      </a:lnTo>
                      <a:lnTo>
                        <a:pt x="1049" y="268"/>
                      </a:lnTo>
                      <a:lnTo>
                        <a:pt x="1049" y="291"/>
                      </a:lnTo>
                      <a:lnTo>
                        <a:pt x="1095" y="286"/>
                      </a:lnTo>
                      <a:lnTo>
                        <a:pt x="1095" y="317"/>
                      </a:lnTo>
                      <a:lnTo>
                        <a:pt x="1049" y="314"/>
                      </a:lnTo>
                      <a:lnTo>
                        <a:pt x="1049" y="338"/>
                      </a:lnTo>
                      <a:lnTo>
                        <a:pt x="1095" y="333"/>
                      </a:lnTo>
                      <a:lnTo>
                        <a:pt x="1095" y="364"/>
                      </a:lnTo>
                      <a:lnTo>
                        <a:pt x="1049" y="361"/>
                      </a:lnTo>
                      <a:lnTo>
                        <a:pt x="1049" y="385"/>
                      </a:lnTo>
                      <a:lnTo>
                        <a:pt x="1095" y="380"/>
                      </a:lnTo>
                      <a:lnTo>
                        <a:pt x="1095" y="519"/>
                      </a:lnTo>
                      <a:lnTo>
                        <a:pt x="950" y="519"/>
                      </a:lnTo>
                      <a:lnTo>
                        <a:pt x="950" y="376"/>
                      </a:lnTo>
                      <a:lnTo>
                        <a:pt x="1001" y="371"/>
                      </a:lnTo>
                      <a:lnTo>
                        <a:pt x="950" y="367"/>
                      </a:lnTo>
                      <a:lnTo>
                        <a:pt x="950" y="329"/>
                      </a:lnTo>
                      <a:lnTo>
                        <a:pt x="1001" y="324"/>
                      </a:lnTo>
                      <a:lnTo>
                        <a:pt x="950" y="321"/>
                      </a:lnTo>
                      <a:lnTo>
                        <a:pt x="950" y="281"/>
                      </a:lnTo>
                      <a:lnTo>
                        <a:pt x="1001" y="277"/>
                      </a:lnTo>
                      <a:lnTo>
                        <a:pt x="950" y="273"/>
                      </a:lnTo>
                      <a:lnTo>
                        <a:pt x="950" y="215"/>
                      </a:lnTo>
                      <a:lnTo>
                        <a:pt x="912" y="215"/>
                      </a:lnTo>
                      <a:lnTo>
                        <a:pt x="912" y="270"/>
                      </a:lnTo>
                      <a:lnTo>
                        <a:pt x="864" y="268"/>
                      </a:lnTo>
                      <a:lnTo>
                        <a:pt x="864" y="291"/>
                      </a:lnTo>
                      <a:lnTo>
                        <a:pt x="912" y="286"/>
                      </a:lnTo>
                      <a:lnTo>
                        <a:pt x="912" y="317"/>
                      </a:lnTo>
                      <a:lnTo>
                        <a:pt x="864" y="314"/>
                      </a:lnTo>
                      <a:lnTo>
                        <a:pt x="864" y="338"/>
                      </a:lnTo>
                      <a:lnTo>
                        <a:pt x="912" y="333"/>
                      </a:lnTo>
                      <a:lnTo>
                        <a:pt x="912" y="364"/>
                      </a:lnTo>
                      <a:lnTo>
                        <a:pt x="864" y="361"/>
                      </a:lnTo>
                      <a:lnTo>
                        <a:pt x="864" y="385"/>
                      </a:lnTo>
                      <a:lnTo>
                        <a:pt x="912" y="380"/>
                      </a:lnTo>
                      <a:lnTo>
                        <a:pt x="912" y="519"/>
                      </a:lnTo>
                      <a:lnTo>
                        <a:pt x="851" y="519"/>
                      </a:lnTo>
                      <a:lnTo>
                        <a:pt x="851" y="560"/>
                      </a:lnTo>
                      <a:lnTo>
                        <a:pt x="611" y="560"/>
                      </a:lnTo>
                      <a:lnTo>
                        <a:pt x="586" y="155"/>
                      </a:lnTo>
                      <a:lnTo>
                        <a:pt x="581" y="68"/>
                      </a:lnTo>
                      <a:lnTo>
                        <a:pt x="593" y="66"/>
                      </a:lnTo>
                      <a:lnTo>
                        <a:pt x="580" y="66"/>
                      </a:lnTo>
                      <a:lnTo>
                        <a:pt x="579" y="38"/>
                      </a:lnTo>
                      <a:lnTo>
                        <a:pt x="583" y="38"/>
                      </a:lnTo>
                      <a:lnTo>
                        <a:pt x="588" y="0"/>
                      </a:lnTo>
                      <a:lnTo>
                        <a:pt x="470" y="0"/>
                      </a:lnTo>
                      <a:lnTo>
                        <a:pt x="468" y="58"/>
                      </a:lnTo>
                      <a:lnTo>
                        <a:pt x="457" y="57"/>
                      </a:lnTo>
                      <a:lnTo>
                        <a:pt x="457" y="81"/>
                      </a:lnTo>
                      <a:lnTo>
                        <a:pt x="467" y="80"/>
                      </a:lnTo>
                      <a:lnTo>
                        <a:pt x="444" y="682"/>
                      </a:lnTo>
                      <a:lnTo>
                        <a:pt x="428" y="682"/>
                      </a:lnTo>
                      <a:lnTo>
                        <a:pt x="404" y="213"/>
                      </a:lnTo>
                      <a:lnTo>
                        <a:pt x="400" y="122"/>
                      </a:lnTo>
                      <a:lnTo>
                        <a:pt x="399" y="141"/>
                      </a:lnTo>
                      <a:lnTo>
                        <a:pt x="396" y="67"/>
                      </a:lnTo>
                      <a:lnTo>
                        <a:pt x="405" y="66"/>
                      </a:lnTo>
                      <a:lnTo>
                        <a:pt x="396" y="66"/>
                      </a:lnTo>
                      <a:lnTo>
                        <a:pt x="394" y="38"/>
                      </a:lnTo>
                      <a:lnTo>
                        <a:pt x="400" y="38"/>
                      </a:lnTo>
                      <a:lnTo>
                        <a:pt x="405" y="0"/>
                      </a:lnTo>
                      <a:lnTo>
                        <a:pt x="287" y="0"/>
                      </a:lnTo>
                      <a:lnTo>
                        <a:pt x="285" y="58"/>
                      </a:lnTo>
                      <a:lnTo>
                        <a:pt x="268" y="57"/>
                      </a:lnTo>
                      <a:lnTo>
                        <a:pt x="268" y="81"/>
                      </a:lnTo>
                      <a:lnTo>
                        <a:pt x="284" y="79"/>
                      </a:lnTo>
                      <a:lnTo>
                        <a:pt x="270" y="435"/>
                      </a:lnTo>
                      <a:lnTo>
                        <a:pt x="254" y="682"/>
                      </a:lnTo>
                      <a:lnTo>
                        <a:pt x="164" y="682"/>
                      </a:lnTo>
                      <a:lnTo>
                        <a:pt x="164" y="602"/>
                      </a:lnTo>
                      <a:lnTo>
                        <a:pt x="223" y="602"/>
                      </a:lnTo>
                      <a:lnTo>
                        <a:pt x="223" y="352"/>
                      </a:lnTo>
                      <a:lnTo>
                        <a:pt x="0" y="352"/>
                      </a:lnTo>
                      <a:lnTo>
                        <a:pt x="76" y="715"/>
                      </a:lnTo>
                      <a:lnTo>
                        <a:pt x="76" y="602"/>
                      </a:lnTo>
                      <a:lnTo>
                        <a:pt x="138" y="602"/>
                      </a:lnTo>
                      <a:lnTo>
                        <a:pt x="138" y="682"/>
                      </a:lnTo>
                      <a:lnTo>
                        <a:pt x="119" y="682"/>
                      </a:lnTo>
                      <a:lnTo>
                        <a:pt x="119" y="693"/>
                      </a:lnTo>
                      <a:lnTo>
                        <a:pt x="253" y="693"/>
                      </a:lnTo>
                      <a:lnTo>
                        <a:pt x="252" y="711"/>
                      </a:lnTo>
                      <a:lnTo>
                        <a:pt x="123" y="711"/>
                      </a:lnTo>
                      <a:lnTo>
                        <a:pt x="123" y="743"/>
                      </a:lnTo>
                      <a:lnTo>
                        <a:pt x="150" y="743"/>
                      </a:lnTo>
                      <a:lnTo>
                        <a:pt x="150" y="913"/>
                      </a:lnTo>
                      <a:lnTo>
                        <a:pt x="119" y="913"/>
                      </a:lnTo>
                      <a:lnTo>
                        <a:pt x="126" y="945"/>
                      </a:lnTo>
                      <a:lnTo>
                        <a:pt x="150" y="945"/>
                      </a:lnTo>
                      <a:lnTo>
                        <a:pt x="150" y="1007"/>
                      </a:lnTo>
                      <a:lnTo>
                        <a:pt x="139" y="1007"/>
                      </a:lnTo>
                      <a:lnTo>
                        <a:pt x="148" y="1052"/>
                      </a:lnTo>
                      <a:lnTo>
                        <a:pt x="1307" y="1021"/>
                      </a:lnTo>
                      <a:lnTo>
                        <a:pt x="657" y="1013"/>
                      </a:lnTo>
                      <a:lnTo>
                        <a:pt x="657" y="972"/>
                      </a:lnTo>
                      <a:lnTo>
                        <a:pt x="663" y="972"/>
                      </a:lnTo>
                      <a:lnTo>
                        <a:pt x="663" y="981"/>
                      </a:lnTo>
                      <a:lnTo>
                        <a:pt x="675" y="981"/>
                      </a:lnTo>
                      <a:lnTo>
                        <a:pt x="675" y="984"/>
                      </a:lnTo>
                      <a:lnTo>
                        <a:pt x="725" y="984"/>
                      </a:lnTo>
                      <a:lnTo>
                        <a:pt x="725" y="976"/>
                      </a:lnTo>
                      <a:lnTo>
                        <a:pt x="936" y="976"/>
                      </a:lnTo>
                      <a:lnTo>
                        <a:pt x="936" y="978"/>
                      </a:lnTo>
                      <a:lnTo>
                        <a:pt x="1490" y="978"/>
                      </a:lnTo>
                      <a:lnTo>
                        <a:pt x="1604" y="741"/>
                      </a:lnTo>
                      <a:lnTo>
                        <a:pt x="1604" y="589"/>
                      </a:lnTo>
                      <a:close/>
                    </a:path>
                  </a:pathLst>
                </a:custGeom>
                <a:solidFill>
                  <a:srgbClr val="afd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123400" y="5221080"/>
                  <a:ext cx="11160" cy="15480"/>
                </a:xfrm>
                <a:custGeom>
                  <a:avLst/>
                  <a:gdLst/>
                  <a:ahLst/>
                  <a:rect l="l" t="t" r="r" b="b"/>
                  <a:pathLst>
                    <a:path w="15" h="18">
                      <a:moveTo>
                        <a:pt x="14" y="18"/>
                      </a:moveTo>
                      <a:lnTo>
                        <a:pt x="1" y="18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4" y="18"/>
                      </a:lnTo>
                      <a:close/>
                    </a:path>
                  </a:pathLst>
                </a:custGeom>
                <a:solidFill>
                  <a:srgbClr val="afd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8885520" y="4535280"/>
                  <a:ext cx="17280" cy="16920"/>
                </a:xfrm>
                <a:custGeom>
                  <a:avLst/>
                  <a:gdLst/>
                  <a:ahLst/>
                  <a:rect l="l" t="t" r="r" b="b"/>
                  <a:pathLst>
                    <a:path w="21" h="22">
                      <a:moveTo>
                        <a:pt x="21" y="0"/>
                      </a:moveTo>
                      <a:lnTo>
                        <a:pt x="20" y="2"/>
                      </a:lnTo>
                      <a:lnTo>
                        <a:pt x="17" y="6"/>
                      </a:lnTo>
                      <a:lnTo>
                        <a:pt x="10" y="13"/>
                      </a:lnTo>
                      <a:lnTo>
                        <a:pt x="0" y="22"/>
                      </a:lnTo>
                      <a:lnTo>
                        <a:pt x="11" y="13"/>
                      </a:lnTo>
                      <a:lnTo>
                        <a:pt x="18" y="6"/>
                      </a:lnTo>
                      <a:lnTo>
                        <a:pt x="20" y="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afd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8024760" y="4552560"/>
                  <a:ext cx="860760" cy="98280"/>
                </a:xfrm>
                <a:custGeom>
                  <a:avLst/>
                  <a:gdLst/>
                  <a:ahLst/>
                  <a:rect l="l" t="t" r="r" b="b"/>
                  <a:pathLst>
                    <a:path w="1085" h="125">
                      <a:moveTo>
                        <a:pt x="107" y="21"/>
                      </a:moveTo>
                      <a:lnTo>
                        <a:pt x="76" y="26"/>
                      </a:lnTo>
                      <a:lnTo>
                        <a:pt x="50" y="33"/>
                      </a:lnTo>
                      <a:lnTo>
                        <a:pt x="31" y="40"/>
                      </a:lnTo>
                      <a:lnTo>
                        <a:pt x="17" y="46"/>
                      </a:lnTo>
                      <a:lnTo>
                        <a:pt x="6" y="56"/>
                      </a:lnTo>
                      <a:lnTo>
                        <a:pt x="2" y="64"/>
                      </a:lnTo>
                      <a:lnTo>
                        <a:pt x="0" y="73"/>
                      </a:lnTo>
                      <a:lnTo>
                        <a:pt x="0" y="81"/>
                      </a:lnTo>
                      <a:lnTo>
                        <a:pt x="3" y="90"/>
                      </a:lnTo>
                      <a:lnTo>
                        <a:pt x="8" y="98"/>
                      </a:lnTo>
                      <a:lnTo>
                        <a:pt x="12" y="105"/>
                      </a:lnTo>
                      <a:lnTo>
                        <a:pt x="18" y="112"/>
                      </a:lnTo>
                      <a:lnTo>
                        <a:pt x="24" y="117"/>
                      </a:lnTo>
                      <a:lnTo>
                        <a:pt x="28" y="121"/>
                      </a:lnTo>
                      <a:lnTo>
                        <a:pt x="32" y="124"/>
                      </a:lnTo>
                      <a:lnTo>
                        <a:pt x="33" y="125"/>
                      </a:lnTo>
                      <a:lnTo>
                        <a:pt x="32" y="124"/>
                      </a:lnTo>
                      <a:lnTo>
                        <a:pt x="31" y="122"/>
                      </a:lnTo>
                      <a:lnTo>
                        <a:pt x="30" y="119"/>
                      </a:lnTo>
                      <a:lnTo>
                        <a:pt x="27" y="116"/>
                      </a:lnTo>
                      <a:lnTo>
                        <a:pt x="26" y="110"/>
                      </a:lnTo>
                      <a:lnTo>
                        <a:pt x="25" y="105"/>
                      </a:lnTo>
                      <a:lnTo>
                        <a:pt x="26" y="98"/>
                      </a:lnTo>
                      <a:lnTo>
                        <a:pt x="28" y="93"/>
                      </a:lnTo>
                      <a:lnTo>
                        <a:pt x="33" y="86"/>
                      </a:lnTo>
                      <a:lnTo>
                        <a:pt x="40" y="79"/>
                      </a:lnTo>
                      <a:lnTo>
                        <a:pt x="50" y="72"/>
                      </a:lnTo>
                      <a:lnTo>
                        <a:pt x="64" y="66"/>
                      </a:lnTo>
                      <a:lnTo>
                        <a:pt x="81" y="59"/>
                      </a:lnTo>
                      <a:lnTo>
                        <a:pt x="103" y="53"/>
                      </a:lnTo>
                      <a:lnTo>
                        <a:pt x="130" y="49"/>
                      </a:lnTo>
                      <a:lnTo>
                        <a:pt x="162" y="44"/>
                      </a:lnTo>
                      <a:lnTo>
                        <a:pt x="199" y="42"/>
                      </a:lnTo>
                      <a:lnTo>
                        <a:pt x="237" y="41"/>
                      </a:lnTo>
                      <a:lnTo>
                        <a:pt x="276" y="42"/>
                      </a:lnTo>
                      <a:lnTo>
                        <a:pt x="317" y="45"/>
                      </a:lnTo>
                      <a:lnTo>
                        <a:pt x="359" y="49"/>
                      </a:lnTo>
                      <a:lnTo>
                        <a:pt x="402" y="53"/>
                      </a:lnTo>
                      <a:lnTo>
                        <a:pt x="444" y="59"/>
                      </a:lnTo>
                      <a:lnTo>
                        <a:pt x="487" y="65"/>
                      </a:lnTo>
                      <a:lnTo>
                        <a:pt x="529" y="72"/>
                      </a:lnTo>
                      <a:lnTo>
                        <a:pt x="571" y="78"/>
                      </a:lnTo>
                      <a:lnTo>
                        <a:pt x="612" y="83"/>
                      </a:lnTo>
                      <a:lnTo>
                        <a:pt x="653" y="88"/>
                      </a:lnTo>
                      <a:lnTo>
                        <a:pt x="691" y="91"/>
                      </a:lnTo>
                      <a:lnTo>
                        <a:pt x="726" y="94"/>
                      </a:lnTo>
                      <a:lnTo>
                        <a:pt x="761" y="95"/>
                      </a:lnTo>
                      <a:lnTo>
                        <a:pt x="793" y="94"/>
                      </a:lnTo>
                      <a:lnTo>
                        <a:pt x="824" y="91"/>
                      </a:lnTo>
                      <a:lnTo>
                        <a:pt x="853" y="87"/>
                      </a:lnTo>
                      <a:lnTo>
                        <a:pt x="881" y="83"/>
                      </a:lnTo>
                      <a:lnTo>
                        <a:pt x="906" y="78"/>
                      </a:lnTo>
                      <a:lnTo>
                        <a:pt x="929" y="73"/>
                      </a:lnTo>
                      <a:lnTo>
                        <a:pt x="951" y="66"/>
                      </a:lnTo>
                      <a:lnTo>
                        <a:pt x="971" y="60"/>
                      </a:lnTo>
                      <a:lnTo>
                        <a:pt x="989" y="53"/>
                      </a:lnTo>
                      <a:lnTo>
                        <a:pt x="1006" y="46"/>
                      </a:lnTo>
                      <a:lnTo>
                        <a:pt x="1021" y="40"/>
                      </a:lnTo>
                      <a:lnTo>
                        <a:pt x="1035" y="33"/>
                      </a:lnTo>
                      <a:lnTo>
                        <a:pt x="1048" y="26"/>
                      </a:lnTo>
                      <a:lnTo>
                        <a:pt x="1059" y="19"/>
                      </a:lnTo>
                      <a:lnTo>
                        <a:pt x="1068" y="12"/>
                      </a:lnTo>
                      <a:lnTo>
                        <a:pt x="1078" y="6"/>
                      </a:lnTo>
                      <a:lnTo>
                        <a:pt x="1085" y="0"/>
                      </a:lnTo>
                      <a:lnTo>
                        <a:pt x="1078" y="5"/>
                      </a:lnTo>
                      <a:lnTo>
                        <a:pt x="1070" y="10"/>
                      </a:lnTo>
                      <a:lnTo>
                        <a:pt x="1059" y="14"/>
                      </a:lnTo>
                      <a:lnTo>
                        <a:pt x="1049" y="19"/>
                      </a:lnTo>
                      <a:lnTo>
                        <a:pt x="1036" y="25"/>
                      </a:lnTo>
                      <a:lnTo>
                        <a:pt x="1021" y="29"/>
                      </a:lnTo>
                      <a:lnTo>
                        <a:pt x="1005" y="34"/>
                      </a:lnTo>
                      <a:lnTo>
                        <a:pt x="988" y="38"/>
                      </a:lnTo>
                      <a:lnTo>
                        <a:pt x="967" y="44"/>
                      </a:lnTo>
                      <a:lnTo>
                        <a:pt x="945" y="49"/>
                      </a:lnTo>
                      <a:lnTo>
                        <a:pt x="921" y="53"/>
                      </a:lnTo>
                      <a:lnTo>
                        <a:pt x="895" y="57"/>
                      </a:lnTo>
                      <a:lnTo>
                        <a:pt x="865" y="61"/>
                      </a:lnTo>
                      <a:lnTo>
                        <a:pt x="833" y="65"/>
                      </a:lnTo>
                      <a:lnTo>
                        <a:pt x="799" y="68"/>
                      </a:lnTo>
                      <a:lnTo>
                        <a:pt x="762" y="71"/>
                      </a:lnTo>
                      <a:lnTo>
                        <a:pt x="730" y="72"/>
                      </a:lnTo>
                      <a:lnTo>
                        <a:pt x="695" y="71"/>
                      </a:lnTo>
                      <a:lnTo>
                        <a:pt x="657" y="68"/>
                      </a:lnTo>
                      <a:lnTo>
                        <a:pt x="619" y="64"/>
                      </a:lnTo>
                      <a:lnTo>
                        <a:pt x="578" y="59"/>
                      </a:lnTo>
                      <a:lnTo>
                        <a:pt x="536" y="53"/>
                      </a:lnTo>
                      <a:lnTo>
                        <a:pt x="494" y="46"/>
                      </a:lnTo>
                      <a:lnTo>
                        <a:pt x="450" y="41"/>
                      </a:lnTo>
                      <a:lnTo>
                        <a:pt x="406" y="35"/>
                      </a:lnTo>
                      <a:lnTo>
                        <a:pt x="361" y="29"/>
                      </a:lnTo>
                      <a:lnTo>
                        <a:pt x="317" y="23"/>
                      </a:lnTo>
                      <a:lnTo>
                        <a:pt x="274" y="20"/>
                      </a:lnTo>
                      <a:lnTo>
                        <a:pt x="230" y="18"/>
                      </a:lnTo>
                      <a:lnTo>
                        <a:pt x="187" y="16"/>
                      </a:lnTo>
                      <a:lnTo>
                        <a:pt x="146" y="18"/>
                      </a:lnTo>
                      <a:lnTo>
                        <a:pt x="107" y="21"/>
                      </a:lnTo>
                      <a:close/>
                    </a:path>
                  </a:pathLst>
                </a:custGeom>
                <a:solidFill>
                  <a:srgbClr val="afd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996320" y="4392360"/>
                  <a:ext cx="677880" cy="209160"/>
                </a:xfrm>
                <a:custGeom>
                  <a:avLst/>
                  <a:gdLst/>
                  <a:ahLst/>
                  <a:rect l="l" t="t" r="r" b="b"/>
                  <a:pathLst>
                    <a:path w="855" h="263">
                      <a:moveTo>
                        <a:pt x="13" y="216"/>
                      </a:moveTo>
                      <a:lnTo>
                        <a:pt x="18" y="203"/>
                      </a:lnTo>
                      <a:lnTo>
                        <a:pt x="25" y="191"/>
                      </a:lnTo>
                      <a:lnTo>
                        <a:pt x="33" y="181"/>
                      </a:lnTo>
                      <a:lnTo>
                        <a:pt x="44" y="172"/>
                      </a:lnTo>
                      <a:lnTo>
                        <a:pt x="55" y="165"/>
                      </a:lnTo>
                      <a:lnTo>
                        <a:pt x="68" y="159"/>
                      </a:lnTo>
                      <a:lnTo>
                        <a:pt x="82" y="155"/>
                      </a:lnTo>
                      <a:lnTo>
                        <a:pt x="95" y="153"/>
                      </a:lnTo>
                      <a:lnTo>
                        <a:pt x="97" y="145"/>
                      </a:lnTo>
                      <a:lnTo>
                        <a:pt x="98" y="137"/>
                      </a:lnTo>
                      <a:lnTo>
                        <a:pt x="99" y="130"/>
                      </a:lnTo>
                      <a:lnTo>
                        <a:pt x="101" y="122"/>
                      </a:lnTo>
                      <a:lnTo>
                        <a:pt x="106" y="108"/>
                      </a:lnTo>
                      <a:lnTo>
                        <a:pt x="113" y="94"/>
                      </a:lnTo>
                      <a:lnTo>
                        <a:pt x="121" y="83"/>
                      </a:lnTo>
                      <a:lnTo>
                        <a:pt x="131" y="72"/>
                      </a:lnTo>
                      <a:lnTo>
                        <a:pt x="142" y="64"/>
                      </a:lnTo>
                      <a:lnTo>
                        <a:pt x="153" y="56"/>
                      </a:lnTo>
                      <a:lnTo>
                        <a:pt x="167" y="51"/>
                      </a:lnTo>
                      <a:lnTo>
                        <a:pt x="181" y="46"/>
                      </a:lnTo>
                      <a:lnTo>
                        <a:pt x="195" y="42"/>
                      </a:lnTo>
                      <a:lnTo>
                        <a:pt x="211" y="41"/>
                      </a:lnTo>
                      <a:lnTo>
                        <a:pt x="227" y="41"/>
                      </a:lnTo>
                      <a:lnTo>
                        <a:pt x="243" y="42"/>
                      </a:lnTo>
                      <a:lnTo>
                        <a:pt x="260" y="45"/>
                      </a:lnTo>
                      <a:lnTo>
                        <a:pt x="277" y="51"/>
                      </a:lnTo>
                      <a:lnTo>
                        <a:pt x="295" y="56"/>
                      </a:lnTo>
                      <a:lnTo>
                        <a:pt x="312" y="64"/>
                      </a:lnTo>
                      <a:lnTo>
                        <a:pt x="328" y="72"/>
                      </a:lnTo>
                      <a:lnTo>
                        <a:pt x="342" y="82"/>
                      </a:lnTo>
                      <a:lnTo>
                        <a:pt x="357" y="92"/>
                      </a:lnTo>
                      <a:lnTo>
                        <a:pt x="370" y="104"/>
                      </a:lnTo>
                      <a:lnTo>
                        <a:pt x="381" y="116"/>
                      </a:lnTo>
                      <a:lnTo>
                        <a:pt x="393" y="129"/>
                      </a:lnTo>
                      <a:lnTo>
                        <a:pt x="403" y="142"/>
                      </a:lnTo>
                      <a:lnTo>
                        <a:pt x="412" y="155"/>
                      </a:lnTo>
                      <a:lnTo>
                        <a:pt x="423" y="151"/>
                      </a:lnTo>
                      <a:lnTo>
                        <a:pt x="433" y="147"/>
                      </a:lnTo>
                      <a:lnTo>
                        <a:pt x="446" y="145"/>
                      </a:lnTo>
                      <a:lnTo>
                        <a:pt x="457" y="144"/>
                      </a:lnTo>
                      <a:lnTo>
                        <a:pt x="470" y="144"/>
                      </a:lnTo>
                      <a:lnTo>
                        <a:pt x="482" y="145"/>
                      </a:lnTo>
                      <a:lnTo>
                        <a:pt x="495" y="147"/>
                      </a:lnTo>
                      <a:lnTo>
                        <a:pt x="509" y="152"/>
                      </a:lnTo>
                      <a:lnTo>
                        <a:pt x="509" y="143"/>
                      </a:lnTo>
                      <a:lnTo>
                        <a:pt x="510" y="135"/>
                      </a:lnTo>
                      <a:lnTo>
                        <a:pt x="511" y="125"/>
                      </a:lnTo>
                      <a:lnTo>
                        <a:pt x="514" y="117"/>
                      </a:lnTo>
                      <a:lnTo>
                        <a:pt x="519" y="102"/>
                      </a:lnTo>
                      <a:lnTo>
                        <a:pt x="526" y="90"/>
                      </a:lnTo>
                      <a:lnTo>
                        <a:pt x="534" y="78"/>
                      </a:lnTo>
                      <a:lnTo>
                        <a:pt x="545" y="67"/>
                      </a:lnTo>
                      <a:lnTo>
                        <a:pt x="555" y="57"/>
                      </a:lnTo>
                      <a:lnTo>
                        <a:pt x="568" y="51"/>
                      </a:lnTo>
                      <a:lnTo>
                        <a:pt x="580" y="44"/>
                      </a:lnTo>
                      <a:lnTo>
                        <a:pt x="595" y="39"/>
                      </a:lnTo>
                      <a:lnTo>
                        <a:pt x="610" y="36"/>
                      </a:lnTo>
                      <a:lnTo>
                        <a:pt x="626" y="34"/>
                      </a:lnTo>
                      <a:lnTo>
                        <a:pt x="643" y="33"/>
                      </a:lnTo>
                      <a:lnTo>
                        <a:pt x="660" y="36"/>
                      </a:lnTo>
                      <a:lnTo>
                        <a:pt x="677" y="38"/>
                      </a:lnTo>
                      <a:lnTo>
                        <a:pt x="694" y="42"/>
                      </a:lnTo>
                      <a:lnTo>
                        <a:pt x="712" y="49"/>
                      </a:lnTo>
                      <a:lnTo>
                        <a:pt x="730" y="57"/>
                      </a:lnTo>
                      <a:lnTo>
                        <a:pt x="752" y="70"/>
                      </a:lnTo>
                      <a:lnTo>
                        <a:pt x="772" y="84"/>
                      </a:lnTo>
                      <a:lnTo>
                        <a:pt x="790" y="99"/>
                      </a:lnTo>
                      <a:lnTo>
                        <a:pt x="806" y="115"/>
                      </a:lnTo>
                      <a:lnTo>
                        <a:pt x="821" y="134"/>
                      </a:lnTo>
                      <a:lnTo>
                        <a:pt x="835" y="152"/>
                      </a:lnTo>
                      <a:lnTo>
                        <a:pt x="845" y="172"/>
                      </a:lnTo>
                      <a:lnTo>
                        <a:pt x="855" y="191"/>
                      </a:lnTo>
                      <a:lnTo>
                        <a:pt x="848" y="167"/>
                      </a:lnTo>
                      <a:lnTo>
                        <a:pt x="838" y="143"/>
                      </a:lnTo>
                      <a:lnTo>
                        <a:pt x="826" y="120"/>
                      </a:lnTo>
                      <a:lnTo>
                        <a:pt x="810" y="97"/>
                      </a:lnTo>
                      <a:lnTo>
                        <a:pt x="791" y="76"/>
                      </a:lnTo>
                      <a:lnTo>
                        <a:pt x="769" y="56"/>
                      </a:lnTo>
                      <a:lnTo>
                        <a:pt x="746" y="39"/>
                      </a:lnTo>
                      <a:lnTo>
                        <a:pt x="721" y="24"/>
                      </a:lnTo>
                      <a:lnTo>
                        <a:pt x="702" y="16"/>
                      </a:lnTo>
                      <a:lnTo>
                        <a:pt x="685" y="9"/>
                      </a:lnTo>
                      <a:lnTo>
                        <a:pt x="667" y="4"/>
                      </a:lnTo>
                      <a:lnTo>
                        <a:pt x="649" y="1"/>
                      </a:lnTo>
                      <a:lnTo>
                        <a:pt x="632" y="0"/>
                      </a:lnTo>
                      <a:lnTo>
                        <a:pt x="616" y="0"/>
                      </a:lnTo>
                      <a:lnTo>
                        <a:pt x="600" y="2"/>
                      </a:lnTo>
                      <a:lnTo>
                        <a:pt x="585" y="6"/>
                      </a:lnTo>
                      <a:lnTo>
                        <a:pt x="571" y="10"/>
                      </a:lnTo>
                      <a:lnTo>
                        <a:pt x="557" y="16"/>
                      </a:lnTo>
                      <a:lnTo>
                        <a:pt x="546" y="24"/>
                      </a:lnTo>
                      <a:lnTo>
                        <a:pt x="534" y="33"/>
                      </a:lnTo>
                      <a:lnTo>
                        <a:pt x="525" y="44"/>
                      </a:lnTo>
                      <a:lnTo>
                        <a:pt x="516" y="56"/>
                      </a:lnTo>
                      <a:lnTo>
                        <a:pt x="509" y="69"/>
                      </a:lnTo>
                      <a:lnTo>
                        <a:pt x="504" y="84"/>
                      </a:lnTo>
                      <a:lnTo>
                        <a:pt x="503" y="92"/>
                      </a:lnTo>
                      <a:lnTo>
                        <a:pt x="502" y="101"/>
                      </a:lnTo>
                      <a:lnTo>
                        <a:pt x="501" y="109"/>
                      </a:lnTo>
                      <a:lnTo>
                        <a:pt x="500" y="119"/>
                      </a:lnTo>
                      <a:lnTo>
                        <a:pt x="486" y="114"/>
                      </a:lnTo>
                      <a:lnTo>
                        <a:pt x="473" y="112"/>
                      </a:lnTo>
                      <a:lnTo>
                        <a:pt x="461" y="110"/>
                      </a:lnTo>
                      <a:lnTo>
                        <a:pt x="448" y="110"/>
                      </a:lnTo>
                      <a:lnTo>
                        <a:pt x="436" y="112"/>
                      </a:lnTo>
                      <a:lnTo>
                        <a:pt x="424" y="114"/>
                      </a:lnTo>
                      <a:lnTo>
                        <a:pt x="413" y="117"/>
                      </a:lnTo>
                      <a:lnTo>
                        <a:pt x="403" y="122"/>
                      </a:lnTo>
                      <a:lnTo>
                        <a:pt x="394" y="108"/>
                      </a:lnTo>
                      <a:lnTo>
                        <a:pt x="383" y="94"/>
                      </a:lnTo>
                      <a:lnTo>
                        <a:pt x="372" y="82"/>
                      </a:lnTo>
                      <a:lnTo>
                        <a:pt x="360" y="70"/>
                      </a:lnTo>
                      <a:lnTo>
                        <a:pt x="347" y="59"/>
                      </a:lnTo>
                      <a:lnTo>
                        <a:pt x="333" y="48"/>
                      </a:lnTo>
                      <a:lnTo>
                        <a:pt x="318" y="39"/>
                      </a:lnTo>
                      <a:lnTo>
                        <a:pt x="303" y="30"/>
                      </a:lnTo>
                      <a:lnTo>
                        <a:pt x="286" y="22"/>
                      </a:lnTo>
                      <a:lnTo>
                        <a:pt x="267" y="16"/>
                      </a:lnTo>
                      <a:lnTo>
                        <a:pt x="250" y="11"/>
                      </a:lnTo>
                      <a:lnTo>
                        <a:pt x="233" y="8"/>
                      </a:lnTo>
                      <a:lnTo>
                        <a:pt x="216" y="7"/>
                      </a:lnTo>
                      <a:lnTo>
                        <a:pt x="200" y="7"/>
                      </a:lnTo>
                      <a:lnTo>
                        <a:pt x="185" y="8"/>
                      </a:lnTo>
                      <a:lnTo>
                        <a:pt x="170" y="11"/>
                      </a:lnTo>
                      <a:lnTo>
                        <a:pt x="156" y="16"/>
                      </a:lnTo>
                      <a:lnTo>
                        <a:pt x="143" y="23"/>
                      </a:lnTo>
                      <a:lnTo>
                        <a:pt x="131" y="30"/>
                      </a:lnTo>
                      <a:lnTo>
                        <a:pt x="121" y="39"/>
                      </a:lnTo>
                      <a:lnTo>
                        <a:pt x="110" y="49"/>
                      </a:lnTo>
                      <a:lnTo>
                        <a:pt x="102" y="61"/>
                      </a:lnTo>
                      <a:lnTo>
                        <a:pt x="95" y="75"/>
                      </a:lnTo>
                      <a:lnTo>
                        <a:pt x="91" y="89"/>
                      </a:lnTo>
                      <a:lnTo>
                        <a:pt x="90" y="97"/>
                      </a:lnTo>
                      <a:lnTo>
                        <a:pt x="87" y="104"/>
                      </a:lnTo>
                      <a:lnTo>
                        <a:pt x="86" y="112"/>
                      </a:lnTo>
                      <a:lnTo>
                        <a:pt x="86" y="120"/>
                      </a:lnTo>
                      <a:lnTo>
                        <a:pt x="71" y="122"/>
                      </a:lnTo>
                      <a:lnTo>
                        <a:pt x="57" y="125"/>
                      </a:lnTo>
                      <a:lnTo>
                        <a:pt x="45" y="131"/>
                      </a:lnTo>
                      <a:lnTo>
                        <a:pt x="33" y="138"/>
                      </a:lnTo>
                      <a:lnTo>
                        <a:pt x="24" y="146"/>
                      </a:lnTo>
                      <a:lnTo>
                        <a:pt x="15" y="157"/>
                      </a:lnTo>
                      <a:lnTo>
                        <a:pt x="8" y="169"/>
                      </a:lnTo>
                      <a:lnTo>
                        <a:pt x="3" y="182"/>
                      </a:lnTo>
                      <a:lnTo>
                        <a:pt x="0" y="201"/>
                      </a:lnTo>
                      <a:lnTo>
                        <a:pt x="0" y="222"/>
                      </a:lnTo>
                      <a:lnTo>
                        <a:pt x="3" y="242"/>
                      </a:lnTo>
                      <a:lnTo>
                        <a:pt x="10" y="263"/>
                      </a:lnTo>
                      <a:lnTo>
                        <a:pt x="9" y="251"/>
                      </a:lnTo>
                      <a:lnTo>
                        <a:pt x="9" y="240"/>
                      </a:lnTo>
                      <a:lnTo>
                        <a:pt x="10" y="228"/>
                      </a:lnTo>
                      <a:lnTo>
                        <a:pt x="13" y="216"/>
                      </a:lnTo>
                      <a:close/>
                    </a:path>
                  </a:pathLst>
                </a:custGeom>
                <a:solidFill>
                  <a:srgbClr val="afd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8790120" y="5514840"/>
                  <a:ext cx="144360" cy="7560"/>
                </a:xfrm>
                <a:custGeom>
                  <a:avLst/>
                  <a:gdLst/>
                  <a:ahLst/>
                  <a:rect l="l" t="t" r="r" b="b"/>
                  <a:pathLst>
                    <a:path w="182" h="11">
                      <a:moveTo>
                        <a:pt x="0" y="11"/>
                      </a:moveTo>
                      <a:lnTo>
                        <a:pt x="176" y="11"/>
                      </a:lnTo>
                      <a:lnTo>
                        <a:pt x="18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afd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898040" y="4651200"/>
                  <a:ext cx="1209600" cy="802800"/>
                </a:xfrm>
                <a:custGeom>
                  <a:avLst/>
                  <a:gdLst/>
                  <a:ahLst/>
                  <a:rect l="l" t="t" r="r" b="b"/>
                  <a:pathLst>
                    <a:path w="1523" h="1013">
                      <a:moveTo>
                        <a:pt x="137" y="6"/>
                      </a:moveTo>
                      <a:lnTo>
                        <a:pt x="231" y="6"/>
                      </a:lnTo>
                      <a:lnTo>
                        <a:pt x="247" y="707"/>
                      </a:lnTo>
                      <a:lnTo>
                        <a:pt x="284" y="707"/>
                      </a:lnTo>
                      <a:lnTo>
                        <a:pt x="327" y="0"/>
                      </a:lnTo>
                      <a:lnTo>
                        <a:pt x="411" y="6"/>
                      </a:lnTo>
                      <a:lnTo>
                        <a:pt x="443" y="580"/>
                      </a:lnTo>
                      <a:lnTo>
                        <a:pt x="1434" y="565"/>
                      </a:lnTo>
                      <a:lnTo>
                        <a:pt x="1434" y="765"/>
                      </a:lnTo>
                      <a:lnTo>
                        <a:pt x="1523" y="759"/>
                      </a:lnTo>
                      <a:lnTo>
                        <a:pt x="1523" y="965"/>
                      </a:lnTo>
                      <a:lnTo>
                        <a:pt x="596" y="965"/>
                      </a:lnTo>
                      <a:lnTo>
                        <a:pt x="596" y="1013"/>
                      </a:lnTo>
                      <a:lnTo>
                        <a:pt x="0" y="1013"/>
                      </a:lnTo>
                      <a:lnTo>
                        <a:pt x="0" y="723"/>
                      </a:lnTo>
                      <a:lnTo>
                        <a:pt x="89" y="723"/>
                      </a:lnTo>
                      <a:lnTo>
                        <a:pt x="137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986960" y="4655880"/>
                  <a:ext cx="87120" cy="556920"/>
                </a:xfrm>
                <a:custGeom>
                  <a:avLst/>
                  <a:gdLst/>
                  <a:ahLst/>
                  <a:rect l="l" t="t" r="r" b="b"/>
                  <a:pathLst>
                    <a:path w="111" h="701">
                      <a:moveTo>
                        <a:pt x="111" y="701"/>
                      </a:moveTo>
                      <a:lnTo>
                        <a:pt x="0" y="701"/>
                      </a:lnTo>
                      <a:lnTo>
                        <a:pt x="37" y="4"/>
                      </a:lnTo>
                      <a:lnTo>
                        <a:pt x="100" y="0"/>
                      </a:lnTo>
                      <a:lnTo>
                        <a:pt x="111" y="70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905960" y="5225760"/>
                  <a:ext cx="353880" cy="2808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8301240" y="5111280"/>
                  <a:ext cx="734760" cy="311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8253360" y="5103360"/>
                  <a:ext cx="782640" cy="3312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8296560" y="5240160"/>
                  <a:ext cx="45720" cy="18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8048880" y="4663800"/>
                  <a:ext cx="61920" cy="556920"/>
                </a:xfrm>
                <a:custGeom>
                  <a:avLst/>
                  <a:gdLst/>
                  <a:ahLst/>
                  <a:rect l="l" t="t" r="r" b="b"/>
                  <a:pathLst>
                    <a:path w="78" h="703">
                      <a:moveTo>
                        <a:pt x="0" y="6"/>
                      </a:moveTo>
                      <a:lnTo>
                        <a:pt x="10" y="703"/>
                      </a:lnTo>
                      <a:lnTo>
                        <a:pt x="78" y="703"/>
                      </a:lnTo>
                      <a:lnTo>
                        <a:pt x="4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132760" y="4655880"/>
                  <a:ext cx="88920" cy="556920"/>
                </a:xfrm>
                <a:custGeom>
                  <a:avLst/>
                  <a:gdLst/>
                  <a:ahLst/>
                  <a:rect l="l" t="t" r="r" b="b"/>
                  <a:pathLst>
                    <a:path w="112" h="701">
                      <a:moveTo>
                        <a:pt x="112" y="701"/>
                      </a:moveTo>
                      <a:lnTo>
                        <a:pt x="0" y="701"/>
                      </a:lnTo>
                      <a:lnTo>
                        <a:pt x="37" y="4"/>
                      </a:lnTo>
                      <a:lnTo>
                        <a:pt x="101" y="0"/>
                      </a:lnTo>
                      <a:lnTo>
                        <a:pt x="112" y="70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8194680" y="4663800"/>
                  <a:ext cx="63720" cy="556920"/>
                </a:xfrm>
                <a:custGeom>
                  <a:avLst/>
                  <a:gdLst/>
                  <a:ahLst/>
                  <a:rect l="l" t="t" r="r" b="b"/>
                  <a:pathLst>
                    <a:path w="79" h="703">
                      <a:moveTo>
                        <a:pt x="0" y="6"/>
                      </a:moveTo>
                      <a:lnTo>
                        <a:pt x="10" y="703"/>
                      </a:lnTo>
                      <a:lnTo>
                        <a:pt x="79" y="703"/>
                      </a:lnTo>
                      <a:lnTo>
                        <a:pt x="43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975800" y="4646160"/>
                  <a:ext cx="115920" cy="587160"/>
                </a:xfrm>
                <a:custGeom>
                  <a:avLst/>
                  <a:gdLst/>
                  <a:ahLst/>
                  <a:rect l="l" t="t" r="r" b="b"/>
                  <a:pathLst>
                    <a:path w="147" h="740">
                      <a:moveTo>
                        <a:pt x="0" y="740"/>
                      </a:moveTo>
                      <a:lnTo>
                        <a:pt x="29" y="0"/>
                      </a:lnTo>
                      <a:lnTo>
                        <a:pt x="147" y="0"/>
                      </a:lnTo>
                      <a:lnTo>
                        <a:pt x="142" y="38"/>
                      </a:lnTo>
                      <a:lnTo>
                        <a:pt x="63" y="43"/>
                      </a:lnTo>
                      <a:lnTo>
                        <a:pt x="25" y="740"/>
                      </a:lnTo>
                      <a:lnTo>
                        <a:pt x="0" y="7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8121600" y="4646160"/>
                  <a:ext cx="114480" cy="587160"/>
                </a:xfrm>
                <a:custGeom>
                  <a:avLst/>
                  <a:gdLst/>
                  <a:ahLst/>
                  <a:rect l="l" t="t" r="r" b="b"/>
                  <a:pathLst>
                    <a:path w="145" h="740">
                      <a:moveTo>
                        <a:pt x="0" y="740"/>
                      </a:moveTo>
                      <a:lnTo>
                        <a:pt x="27" y="0"/>
                      </a:lnTo>
                      <a:lnTo>
                        <a:pt x="145" y="0"/>
                      </a:lnTo>
                      <a:lnTo>
                        <a:pt x="140" y="38"/>
                      </a:lnTo>
                      <a:lnTo>
                        <a:pt x="61" y="43"/>
                      </a:lnTo>
                      <a:lnTo>
                        <a:pt x="23" y="740"/>
                      </a:lnTo>
                      <a:lnTo>
                        <a:pt x="0" y="7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983720" y="4690800"/>
                  <a:ext cx="108000" cy="18720"/>
                </a:xfrm>
                <a:custGeom>
                  <a:avLst/>
                  <a:gdLst/>
                  <a:ahLst/>
                  <a:rect l="l" t="t" r="r" b="b"/>
                  <a:pathLst>
                    <a:path w="136" h="25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136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8456760" y="4858920"/>
                  <a:ext cx="108000" cy="17280"/>
                </a:xfrm>
                <a:custGeom>
                  <a:avLst/>
                  <a:gdLst/>
                  <a:ahLst/>
                  <a:rect l="l" t="t" r="r" b="b"/>
                  <a:pathLst>
                    <a:path w="137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1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8456760" y="4895640"/>
                  <a:ext cx="108000" cy="18720"/>
                </a:xfrm>
                <a:custGeom>
                  <a:avLst/>
                  <a:gdLst/>
                  <a:ahLst/>
                  <a:rect l="l" t="t" r="r" b="b"/>
                  <a:pathLst>
                    <a:path w="137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137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456760" y="4933800"/>
                  <a:ext cx="108000" cy="16920"/>
                </a:xfrm>
                <a:custGeom>
                  <a:avLst/>
                  <a:gdLst/>
                  <a:ahLst/>
                  <a:rect l="l" t="t" r="r" b="b"/>
                  <a:pathLst>
                    <a:path w="137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137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8132760" y="4690800"/>
                  <a:ext cx="108000" cy="18720"/>
                </a:xfrm>
                <a:custGeom>
                  <a:avLst/>
                  <a:gdLst/>
                  <a:ahLst/>
                  <a:rect l="l" t="t" r="r" b="b"/>
                  <a:pathLst>
                    <a:path w="136" h="25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136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8080560" y="4744800"/>
                  <a:ext cx="25200" cy="474120"/>
                </a:xfrm>
                <a:custGeom>
                  <a:avLst/>
                  <a:gdLst/>
                  <a:ahLst/>
                  <a:rect l="l" t="t" r="r" b="b"/>
                  <a:pathLst>
                    <a:path w="32" h="598">
                      <a:moveTo>
                        <a:pt x="32" y="598"/>
                      </a:moveTo>
                      <a:lnTo>
                        <a:pt x="9" y="0"/>
                      </a:lnTo>
                      <a:lnTo>
                        <a:pt x="0" y="598"/>
                      </a:lnTo>
                      <a:lnTo>
                        <a:pt x="32" y="5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8232840" y="4748040"/>
                  <a:ext cx="30240" cy="470880"/>
                </a:xfrm>
                <a:custGeom>
                  <a:avLst/>
                  <a:gdLst/>
                  <a:ahLst/>
                  <a:rect l="l" t="t" r="r" b="b"/>
                  <a:pathLst>
                    <a:path w="38" h="593">
                      <a:moveTo>
                        <a:pt x="38" y="593"/>
                      </a:moveTo>
                      <a:lnTo>
                        <a:pt x="0" y="0"/>
                      </a:lnTo>
                      <a:lnTo>
                        <a:pt x="5" y="593"/>
                      </a:lnTo>
                      <a:lnTo>
                        <a:pt x="38" y="5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248680" y="5092560"/>
                  <a:ext cx="846360" cy="20160"/>
                </a:xfrm>
                <a:custGeom>
                  <a:avLst/>
                  <a:gdLst/>
                  <a:ahLst/>
                  <a:rect l="l" t="t" r="r" b="b"/>
                  <a:pathLst>
                    <a:path w="1065" h="28">
                      <a:moveTo>
                        <a:pt x="1039" y="28"/>
                      </a:moveTo>
                      <a:lnTo>
                        <a:pt x="1065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1039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8375760" y="5162400"/>
                  <a:ext cx="65160" cy="67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475840" y="5162400"/>
                  <a:ext cx="66600" cy="67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8575920" y="5162400"/>
                  <a:ext cx="68040" cy="67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8677440" y="5162400"/>
                  <a:ext cx="66600" cy="67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8777520" y="5162400"/>
                  <a:ext cx="66600" cy="67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8879040" y="5162400"/>
                  <a:ext cx="66600" cy="67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8375760" y="5254200"/>
                  <a:ext cx="65160" cy="68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8475840" y="5254200"/>
                  <a:ext cx="66600" cy="68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8575920" y="5254200"/>
                  <a:ext cx="68040" cy="68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8677440" y="5254200"/>
                  <a:ext cx="66600" cy="68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8777520" y="5254200"/>
                  <a:ext cx="66600" cy="68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879040" y="5254200"/>
                  <a:ext cx="66600" cy="68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9034560" y="5106600"/>
                  <a:ext cx="7920" cy="27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7867800" y="5209920"/>
                  <a:ext cx="455400" cy="26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7890120" y="5225760"/>
                  <a:ext cx="29880" cy="226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755120" y="5370120"/>
                  <a:ext cx="895320" cy="29880"/>
                </a:xfrm>
                <a:custGeom>
                  <a:avLst/>
                  <a:gdLst/>
                  <a:ahLst/>
                  <a:rect l="l" t="t" r="r" b="b"/>
                  <a:pathLst>
                    <a:path w="1127" h="38">
                      <a:moveTo>
                        <a:pt x="1127" y="0"/>
                      </a:moveTo>
                      <a:lnTo>
                        <a:pt x="0" y="0"/>
                      </a:lnTo>
                      <a:lnTo>
                        <a:pt x="6" y="38"/>
                      </a:lnTo>
                      <a:lnTo>
                        <a:pt x="11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9029880" y="5251320"/>
                  <a:ext cx="27000" cy="172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7823160" y="5446440"/>
                  <a:ext cx="984240" cy="36000"/>
                </a:xfrm>
                <a:custGeom>
                  <a:avLst/>
                  <a:gdLst/>
                  <a:ahLst/>
                  <a:rect l="l" t="t" r="r" b="b"/>
                  <a:pathLst>
                    <a:path w="1242" h="47">
                      <a:moveTo>
                        <a:pt x="1242" y="14"/>
                      </a:moveTo>
                      <a:lnTo>
                        <a:pt x="0" y="0"/>
                      </a:lnTo>
                      <a:lnTo>
                        <a:pt x="6" y="47"/>
                      </a:lnTo>
                      <a:lnTo>
                        <a:pt x="124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8218440" y="5509800"/>
                  <a:ext cx="773280" cy="26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8283600" y="5230440"/>
                  <a:ext cx="17640" cy="139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9095040" y="5251320"/>
                  <a:ext cx="23760" cy="142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8445600" y="5057640"/>
                  <a:ext cx="439920" cy="37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964640" y="5281200"/>
                  <a:ext cx="3024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8012160" y="5281200"/>
                  <a:ext cx="3024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8061480" y="5281200"/>
                  <a:ext cx="3024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8109000" y="5281200"/>
                  <a:ext cx="3024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8158320" y="5281200"/>
                  <a:ext cx="3024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8207640" y="5281200"/>
                  <a:ext cx="28440" cy="2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178840" y="5401800"/>
                  <a:ext cx="381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242560" y="5401800"/>
                  <a:ext cx="396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305920" y="5401800"/>
                  <a:ext cx="396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493120" y="4816080"/>
                  <a:ext cx="30240" cy="249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602920" y="4858920"/>
                  <a:ext cx="107640" cy="17280"/>
                </a:xfrm>
                <a:custGeom>
                  <a:avLst/>
                  <a:gdLst/>
                  <a:ahLst/>
                  <a:rect l="l" t="t" r="r" b="b"/>
                  <a:pathLst>
                    <a:path w="135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135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602920" y="4895640"/>
                  <a:ext cx="107640" cy="18720"/>
                </a:xfrm>
                <a:custGeom>
                  <a:avLst/>
                  <a:gdLst/>
                  <a:ahLst/>
                  <a:rect l="l" t="t" r="r" b="b"/>
                  <a:pathLst>
                    <a:path w="135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135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602920" y="4933800"/>
                  <a:ext cx="107640" cy="16920"/>
                </a:xfrm>
                <a:custGeom>
                  <a:avLst/>
                  <a:gdLst/>
                  <a:ahLst/>
                  <a:rect l="l" t="t" r="r" b="b"/>
                  <a:pathLst>
                    <a:path w="135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135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8639280" y="4816080"/>
                  <a:ext cx="30240" cy="249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8747280" y="4858920"/>
                  <a:ext cx="109440" cy="17280"/>
                </a:xfrm>
                <a:custGeom>
                  <a:avLst/>
                  <a:gdLst/>
                  <a:ahLst/>
                  <a:rect l="l" t="t" r="r" b="b"/>
                  <a:pathLst>
                    <a:path w="137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1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8747280" y="4895640"/>
                  <a:ext cx="109440" cy="18720"/>
                </a:xfrm>
                <a:custGeom>
                  <a:avLst/>
                  <a:gdLst/>
                  <a:ahLst/>
                  <a:rect l="l" t="t" r="r" b="b"/>
                  <a:pathLst>
                    <a:path w="137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137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8747280" y="4933800"/>
                  <a:ext cx="109440" cy="16920"/>
                </a:xfrm>
                <a:custGeom>
                  <a:avLst/>
                  <a:gdLst/>
                  <a:ahLst/>
                  <a:rect l="l" t="t" r="r" b="b"/>
                  <a:pathLst>
                    <a:path w="137" h="23">
                      <a:moveTo>
                        <a:pt x="0" y="0"/>
                      </a:moveTo>
                      <a:lnTo>
                        <a:pt x="0" y="23"/>
                      </a:lnTo>
                      <a:lnTo>
                        <a:pt x="137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8785440" y="4816080"/>
                  <a:ext cx="30240" cy="249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8512200" y="5397120"/>
                  <a:ext cx="56988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8974080" y="5246280"/>
                  <a:ext cx="16992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8012160" y="4509720"/>
                  <a:ext cx="878040" cy="115560"/>
                </a:xfrm>
                <a:custGeom>
                  <a:avLst/>
                  <a:gdLst/>
                  <a:ahLst/>
                  <a:rect l="l" t="t" r="r" b="b"/>
                  <a:pathLst>
                    <a:path w="1107" h="147">
                      <a:moveTo>
                        <a:pt x="35" y="147"/>
                      </a:moveTo>
                      <a:lnTo>
                        <a:pt x="34" y="145"/>
                      </a:lnTo>
                      <a:lnTo>
                        <a:pt x="33" y="144"/>
                      </a:lnTo>
                      <a:lnTo>
                        <a:pt x="30" y="141"/>
                      </a:lnTo>
                      <a:lnTo>
                        <a:pt x="29" y="137"/>
                      </a:lnTo>
                      <a:lnTo>
                        <a:pt x="27" y="133"/>
                      </a:lnTo>
                      <a:lnTo>
                        <a:pt x="27" y="127"/>
                      </a:lnTo>
                      <a:lnTo>
                        <a:pt x="27" y="121"/>
                      </a:lnTo>
                      <a:lnTo>
                        <a:pt x="29" y="114"/>
                      </a:lnTo>
                      <a:lnTo>
                        <a:pt x="34" y="107"/>
                      </a:lnTo>
                      <a:lnTo>
                        <a:pt x="41" y="100"/>
                      </a:lnTo>
                      <a:lnTo>
                        <a:pt x="51" y="95"/>
                      </a:lnTo>
                      <a:lnTo>
                        <a:pt x="65" y="88"/>
                      </a:lnTo>
                      <a:lnTo>
                        <a:pt x="83" y="82"/>
                      </a:lnTo>
                      <a:lnTo>
                        <a:pt x="105" y="75"/>
                      </a:lnTo>
                      <a:lnTo>
                        <a:pt x="132" y="70"/>
                      </a:lnTo>
                      <a:lnTo>
                        <a:pt x="164" y="66"/>
                      </a:lnTo>
                      <a:lnTo>
                        <a:pt x="200" y="64"/>
                      </a:lnTo>
                      <a:lnTo>
                        <a:pt x="239" y="62"/>
                      </a:lnTo>
                      <a:lnTo>
                        <a:pt x="278" y="64"/>
                      </a:lnTo>
                      <a:lnTo>
                        <a:pt x="318" y="67"/>
                      </a:lnTo>
                      <a:lnTo>
                        <a:pt x="361" y="70"/>
                      </a:lnTo>
                      <a:lnTo>
                        <a:pt x="404" y="76"/>
                      </a:lnTo>
                      <a:lnTo>
                        <a:pt x="446" y="82"/>
                      </a:lnTo>
                      <a:lnTo>
                        <a:pt x="489" y="88"/>
                      </a:lnTo>
                      <a:lnTo>
                        <a:pt x="531" y="94"/>
                      </a:lnTo>
                      <a:lnTo>
                        <a:pt x="573" y="99"/>
                      </a:lnTo>
                      <a:lnTo>
                        <a:pt x="613" y="105"/>
                      </a:lnTo>
                      <a:lnTo>
                        <a:pt x="654" y="110"/>
                      </a:lnTo>
                      <a:lnTo>
                        <a:pt x="692" y="114"/>
                      </a:lnTo>
                      <a:lnTo>
                        <a:pt x="728" y="117"/>
                      </a:lnTo>
                      <a:lnTo>
                        <a:pt x="762" y="117"/>
                      </a:lnTo>
                      <a:lnTo>
                        <a:pt x="794" y="115"/>
                      </a:lnTo>
                      <a:lnTo>
                        <a:pt x="838" y="111"/>
                      </a:lnTo>
                      <a:lnTo>
                        <a:pt x="878" y="105"/>
                      </a:lnTo>
                      <a:lnTo>
                        <a:pt x="915" y="98"/>
                      </a:lnTo>
                      <a:lnTo>
                        <a:pt x="947" y="90"/>
                      </a:lnTo>
                      <a:lnTo>
                        <a:pt x="976" y="81"/>
                      </a:lnTo>
                      <a:lnTo>
                        <a:pt x="1001" y="70"/>
                      </a:lnTo>
                      <a:lnTo>
                        <a:pt x="1024" y="61"/>
                      </a:lnTo>
                      <a:lnTo>
                        <a:pt x="1043" y="51"/>
                      </a:lnTo>
                      <a:lnTo>
                        <a:pt x="1059" y="42"/>
                      </a:lnTo>
                      <a:lnTo>
                        <a:pt x="1073" y="31"/>
                      </a:lnTo>
                      <a:lnTo>
                        <a:pt x="1084" y="23"/>
                      </a:lnTo>
                      <a:lnTo>
                        <a:pt x="1094" y="15"/>
                      </a:lnTo>
                      <a:lnTo>
                        <a:pt x="1099" y="9"/>
                      </a:lnTo>
                      <a:lnTo>
                        <a:pt x="1104" y="5"/>
                      </a:lnTo>
                      <a:lnTo>
                        <a:pt x="1106" y="1"/>
                      </a:lnTo>
                      <a:lnTo>
                        <a:pt x="1107" y="0"/>
                      </a:lnTo>
                      <a:lnTo>
                        <a:pt x="1107" y="1"/>
                      </a:lnTo>
                      <a:lnTo>
                        <a:pt x="1106" y="4"/>
                      </a:lnTo>
                      <a:lnTo>
                        <a:pt x="1103" y="7"/>
                      </a:lnTo>
                      <a:lnTo>
                        <a:pt x="1099" y="12"/>
                      </a:lnTo>
                      <a:lnTo>
                        <a:pt x="1092" y="17"/>
                      </a:lnTo>
                      <a:lnTo>
                        <a:pt x="1083" y="24"/>
                      </a:lnTo>
                      <a:lnTo>
                        <a:pt x="1072" y="31"/>
                      </a:lnTo>
                      <a:lnTo>
                        <a:pt x="1055" y="38"/>
                      </a:lnTo>
                      <a:lnTo>
                        <a:pt x="1036" y="46"/>
                      </a:lnTo>
                      <a:lnTo>
                        <a:pt x="1013" y="54"/>
                      </a:lnTo>
                      <a:lnTo>
                        <a:pt x="985" y="61"/>
                      </a:lnTo>
                      <a:lnTo>
                        <a:pt x="952" y="69"/>
                      </a:lnTo>
                      <a:lnTo>
                        <a:pt x="914" y="76"/>
                      </a:lnTo>
                      <a:lnTo>
                        <a:pt x="870" y="82"/>
                      </a:lnTo>
                      <a:lnTo>
                        <a:pt x="819" y="88"/>
                      </a:lnTo>
                      <a:lnTo>
                        <a:pt x="763" y="92"/>
                      </a:lnTo>
                      <a:lnTo>
                        <a:pt x="731" y="94"/>
                      </a:lnTo>
                      <a:lnTo>
                        <a:pt x="696" y="92"/>
                      </a:lnTo>
                      <a:lnTo>
                        <a:pt x="658" y="90"/>
                      </a:lnTo>
                      <a:lnTo>
                        <a:pt x="620" y="85"/>
                      </a:lnTo>
                      <a:lnTo>
                        <a:pt x="579" y="81"/>
                      </a:lnTo>
                      <a:lnTo>
                        <a:pt x="537" y="75"/>
                      </a:lnTo>
                      <a:lnTo>
                        <a:pt x="495" y="69"/>
                      </a:lnTo>
                      <a:lnTo>
                        <a:pt x="451" y="62"/>
                      </a:lnTo>
                      <a:lnTo>
                        <a:pt x="407" y="57"/>
                      </a:lnTo>
                      <a:lnTo>
                        <a:pt x="362" y="51"/>
                      </a:lnTo>
                      <a:lnTo>
                        <a:pt x="318" y="46"/>
                      </a:lnTo>
                      <a:lnTo>
                        <a:pt x="275" y="43"/>
                      </a:lnTo>
                      <a:lnTo>
                        <a:pt x="231" y="39"/>
                      </a:lnTo>
                      <a:lnTo>
                        <a:pt x="188" y="39"/>
                      </a:lnTo>
                      <a:lnTo>
                        <a:pt x="147" y="41"/>
                      </a:lnTo>
                      <a:lnTo>
                        <a:pt x="108" y="44"/>
                      </a:lnTo>
                      <a:lnTo>
                        <a:pt x="76" y="49"/>
                      </a:lnTo>
                      <a:lnTo>
                        <a:pt x="51" y="54"/>
                      </a:lnTo>
                      <a:lnTo>
                        <a:pt x="32" y="61"/>
                      </a:lnTo>
                      <a:lnTo>
                        <a:pt x="18" y="69"/>
                      </a:lnTo>
                      <a:lnTo>
                        <a:pt x="8" y="77"/>
                      </a:lnTo>
                      <a:lnTo>
                        <a:pt x="3" y="87"/>
                      </a:lnTo>
                      <a:lnTo>
                        <a:pt x="0" y="95"/>
                      </a:lnTo>
                      <a:lnTo>
                        <a:pt x="2" y="104"/>
                      </a:lnTo>
                      <a:lnTo>
                        <a:pt x="4" y="112"/>
                      </a:lnTo>
                      <a:lnTo>
                        <a:pt x="8" y="120"/>
                      </a:lnTo>
                      <a:lnTo>
                        <a:pt x="14" y="127"/>
                      </a:lnTo>
                      <a:lnTo>
                        <a:pt x="20" y="134"/>
                      </a:lnTo>
                      <a:lnTo>
                        <a:pt x="26" y="138"/>
                      </a:lnTo>
                      <a:lnTo>
                        <a:pt x="30" y="143"/>
                      </a:lnTo>
                      <a:lnTo>
                        <a:pt x="34" y="145"/>
                      </a:lnTo>
                      <a:lnTo>
                        <a:pt x="35" y="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7983720" y="4367160"/>
                  <a:ext cx="677880" cy="209160"/>
                </a:xfrm>
                <a:custGeom>
                  <a:avLst/>
                  <a:gdLst/>
                  <a:ahLst/>
                  <a:rect l="l" t="t" r="r" b="b"/>
                  <a:pathLst>
                    <a:path w="854" h="262">
                      <a:moveTo>
                        <a:pt x="731" y="58"/>
                      </a:moveTo>
                      <a:lnTo>
                        <a:pt x="713" y="50"/>
                      </a:lnTo>
                      <a:lnTo>
                        <a:pt x="695" y="43"/>
                      </a:lnTo>
                      <a:lnTo>
                        <a:pt x="677" y="39"/>
                      </a:lnTo>
                      <a:lnTo>
                        <a:pt x="660" y="35"/>
                      </a:lnTo>
                      <a:lnTo>
                        <a:pt x="642" y="34"/>
                      </a:lnTo>
                      <a:lnTo>
                        <a:pt x="626" y="34"/>
                      </a:lnTo>
                      <a:lnTo>
                        <a:pt x="610" y="35"/>
                      </a:lnTo>
                      <a:lnTo>
                        <a:pt x="595" y="39"/>
                      </a:lnTo>
                      <a:lnTo>
                        <a:pt x="581" y="43"/>
                      </a:lnTo>
                      <a:lnTo>
                        <a:pt x="568" y="50"/>
                      </a:lnTo>
                      <a:lnTo>
                        <a:pt x="556" y="57"/>
                      </a:lnTo>
                      <a:lnTo>
                        <a:pt x="545" y="66"/>
                      </a:lnTo>
                      <a:lnTo>
                        <a:pt x="535" y="78"/>
                      </a:lnTo>
                      <a:lnTo>
                        <a:pt x="526" y="89"/>
                      </a:lnTo>
                      <a:lnTo>
                        <a:pt x="519" y="102"/>
                      </a:lnTo>
                      <a:lnTo>
                        <a:pt x="515" y="117"/>
                      </a:lnTo>
                      <a:lnTo>
                        <a:pt x="513" y="125"/>
                      </a:lnTo>
                      <a:lnTo>
                        <a:pt x="511" y="134"/>
                      </a:lnTo>
                      <a:lnTo>
                        <a:pt x="510" y="142"/>
                      </a:lnTo>
                      <a:lnTo>
                        <a:pt x="510" y="152"/>
                      </a:lnTo>
                      <a:lnTo>
                        <a:pt x="496" y="148"/>
                      </a:lnTo>
                      <a:lnTo>
                        <a:pt x="483" y="146"/>
                      </a:lnTo>
                      <a:lnTo>
                        <a:pt x="471" y="144"/>
                      </a:lnTo>
                      <a:lnTo>
                        <a:pt x="458" y="144"/>
                      </a:lnTo>
                      <a:lnTo>
                        <a:pt x="445" y="145"/>
                      </a:lnTo>
                      <a:lnTo>
                        <a:pt x="434" y="147"/>
                      </a:lnTo>
                      <a:lnTo>
                        <a:pt x="424" y="151"/>
                      </a:lnTo>
                      <a:lnTo>
                        <a:pt x="413" y="155"/>
                      </a:lnTo>
                      <a:lnTo>
                        <a:pt x="404" y="141"/>
                      </a:lnTo>
                      <a:lnTo>
                        <a:pt x="394" y="129"/>
                      </a:lnTo>
                      <a:lnTo>
                        <a:pt x="382" y="116"/>
                      </a:lnTo>
                      <a:lnTo>
                        <a:pt x="369" y="103"/>
                      </a:lnTo>
                      <a:lnTo>
                        <a:pt x="357" y="92"/>
                      </a:lnTo>
                      <a:lnTo>
                        <a:pt x="342" y="81"/>
                      </a:lnTo>
                      <a:lnTo>
                        <a:pt x="328" y="72"/>
                      </a:lnTo>
                      <a:lnTo>
                        <a:pt x="312" y="64"/>
                      </a:lnTo>
                      <a:lnTo>
                        <a:pt x="295" y="56"/>
                      </a:lnTo>
                      <a:lnTo>
                        <a:pt x="277" y="50"/>
                      </a:lnTo>
                      <a:lnTo>
                        <a:pt x="260" y="46"/>
                      </a:lnTo>
                      <a:lnTo>
                        <a:pt x="243" y="42"/>
                      </a:lnTo>
                      <a:lnTo>
                        <a:pt x="227" y="41"/>
                      </a:lnTo>
                      <a:lnTo>
                        <a:pt x="211" y="41"/>
                      </a:lnTo>
                      <a:lnTo>
                        <a:pt x="194" y="42"/>
                      </a:lnTo>
                      <a:lnTo>
                        <a:pt x="181" y="46"/>
                      </a:lnTo>
                      <a:lnTo>
                        <a:pt x="167" y="50"/>
                      </a:lnTo>
                      <a:lnTo>
                        <a:pt x="153" y="56"/>
                      </a:lnTo>
                      <a:lnTo>
                        <a:pt x="141" y="64"/>
                      </a:lnTo>
                      <a:lnTo>
                        <a:pt x="131" y="73"/>
                      </a:lnTo>
                      <a:lnTo>
                        <a:pt x="121" y="84"/>
                      </a:lnTo>
                      <a:lnTo>
                        <a:pt x="113" y="95"/>
                      </a:lnTo>
                      <a:lnTo>
                        <a:pt x="106" y="108"/>
                      </a:lnTo>
                      <a:lnTo>
                        <a:pt x="101" y="122"/>
                      </a:lnTo>
                      <a:lnTo>
                        <a:pt x="99" y="130"/>
                      </a:lnTo>
                      <a:lnTo>
                        <a:pt x="98" y="138"/>
                      </a:lnTo>
                      <a:lnTo>
                        <a:pt x="96" y="146"/>
                      </a:lnTo>
                      <a:lnTo>
                        <a:pt x="96" y="154"/>
                      </a:lnTo>
                      <a:lnTo>
                        <a:pt x="82" y="156"/>
                      </a:lnTo>
                      <a:lnTo>
                        <a:pt x="68" y="160"/>
                      </a:lnTo>
                      <a:lnTo>
                        <a:pt x="55" y="164"/>
                      </a:lnTo>
                      <a:lnTo>
                        <a:pt x="43" y="171"/>
                      </a:lnTo>
                      <a:lnTo>
                        <a:pt x="33" y="180"/>
                      </a:lnTo>
                      <a:lnTo>
                        <a:pt x="25" y="191"/>
                      </a:lnTo>
                      <a:lnTo>
                        <a:pt x="18" y="202"/>
                      </a:lnTo>
                      <a:lnTo>
                        <a:pt x="12" y="216"/>
                      </a:lnTo>
                      <a:lnTo>
                        <a:pt x="10" y="228"/>
                      </a:lnTo>
                      <a:lnTo>
                        <a:pt x="9" y="239"/>
                      </a:lnTo>
                      <a:lnTo>
                        <a:pt x="9" y="251"/>
                      </a:lnTo>
                      <a:lnTo>
                        <a:pt x="10" y="262"/>
                      </a:lnTo>
                      <a:lnTo>
                        <a:pt x="3" y="242"/>
                      </a:lnTo>
                      <a:lnTo>
                        <a:pt x="0" y="222"/>
                      </a:lnTo>
                      <a:lnTo>
                        <a:pt x="0" y="201"/>
                      </a:lnTo>
                      <a:lnTo>
                        <a:pt x="3" y="183"/>
                      </a:lnTo>
                      <a:lnTo>
                        <a:pt x="9" y="169"/>
                      </a:lnTo>
                      <a:lnTo>
                        <a:pt x="16" y="157"/>
                      </a:lnTo>
                      <a:lnTo>
                        <a:pt x="24" y="147"/>
                      </a:lnTo>
                      <a:lnTo>
                        <a:pt x="34" y="138"/>
                      </a:lnTo>
                      <a:lnTo>
                        <a:pt x="45" y="131"/>
                      </a:lnTo>
                      <a:lnTo>
                        <a:pt x="57" y="125"/>
                      </a:lnTo>
                      <a:lnTo>
                        <a:pt x="71" y="122"/>
                      </a:lnTo>
                      <a:lnTo>
                        <a:pt x="86" y="119"/>
                      </a:lnTo>
                      <a:lnTo>
                        <a:pt x="87" y="111"/>
                      </a:lnTo>
                      <a:lnTo>
                        <a:pt x="88" y="103"/>
                      </a:lnTo>
                      <a:lnTo>
                        <a:pt x="90" y="96"/>
                      </a:lnTo>
                      <a:lnTo>
                        <a:pt x="91" y="88"/>
                      </a:lnTo>
                      <a:lnTo>
                        <a:pt x="95" y="74"/>
                      </a:lnTo>
                      <a:lnTo>
                        <a:pt x="102" y="61"/>
                      </a:lnTo>
                      <a:lnTo>
                        <a:pt x="110" y="4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4" y="23"/>
                      </a:lnTo>
                      <a:lnTo>
                        <a:pt x="156" y="17"/>
                      </a:lnTo>
                      <a:lnTo>
                        <a:pt x="170" y="12"/>
                      </a:lnTo>
                      <a:lnTo>
                        <a:pt x="185" y="9"/>
                      </a:lnTo>
                      <a:lnTo>
                        <a:pt x="200" y="8"/>
                      </a:lnTo>
                      <a:lnTo>
                        <a:pt x="216" y="8"/>
                      </a:lnTo>
                      <a:lnTo>
                        <a:pt x="234" y="9"/>
                      </a:lnTo>
                      <a:lnTo>
                        <a:pt x="251" y="11"/>
                      </a:lnTo>
                      <a:lnTo>
                        <a:pt x="268" y="17"/>
                      </a:lnTo>
                      <a:lnTo>
                        <a:pt x="285" y="23"/>
                      </a:lnTo>
                      <a:lnTo>
                        <a:pt x="303" y="31"/>
                      </a:lnTo>
                      <a:lnTo>
                        <a:pt x="319" y="39"/>
                      </a:lnTo>
                      <a:lnTo>
                        <a:pt x="333" y="48"/>
                      </a:lnTo>
                      <a:lnTo>
                        <a:pt x="348" y="58"/>
                      </a:lnTo>
                      <a:lnTo>
                        <a:pt x="360" y="70"/>
                      </a:lnTo>
                      <a:lnTo>
                        <a:pt x="372" y="83"/>
                      </a:lnTo>
                      <a:lnTo>
                        <a:pt x="383" y="95"/>
                      </a:lnTo>
                      <a:lnTo>
                        <a:pt x="394" y="108"/>
                      </a:lnTo>
                      <a:lnTo>
                        <a:pt x="403" y="122"/>
                      </a:lnTo>
                      <a:lnTo>
                        <a:pt x="413" y="117"/>
                      </a:lnTo>
                      <a:lnTo>
                        <a:pt x="424" y="114"/>
                      </a:lnTo>
                      <a:lnTo>
                        <a:pt x="436" y="111"/>
                      </a:lnTo>
                      <a:lnTo>
                        <a:pt x="448" y="110"/>
                      </a:lnTo>
                      <a:lnTo>
                        <a:pt x="460" y="110"/>
                      </a:lnTo>
                      <a:lnTo>
                        <a:pt x="473" y="111"/>
                      </a:lnTo>
                      <a:lnTo>
                        <a:pt x="487" y="114"/>
                      </a:lnTo>
                      <a:lnTo>
                        <a:pt x="501" y="118"/>
                      </a:lnTo>
                      <a:lnTo>
                        <a:pt x="501" y="109"/>
                      </a:lnTo>
                      <a:lnTo>
                        <a:pt x="502" y="101"/>
                      </a:lnTo>
                      <a:lnTo>
                        <a:pt x="503" y="92"/>
                      </a:lnTo>
                      <a:lnTo>
                        <a:pt x="505" y="84"/>
                      </a:lnTo>
                      <a:lnTo>
                        <a:pt x="510" y="69"/>
                      </a:lnTo>
                      <a:lnTo>
                        <a:pt x="517" y="56"/>
                      </a:lnTo>
                      <a:lnTo>
                        <a:pt x="525" y="43"/>
                      </a:lnTo>
                      <a:lnTo>
                        <a:pt x="535" y="33"/>
                      </a:lnTo>
                      <a:lnTo>
                        <a:pt x="546" y="24"/>
                      </a:lnTo>
                      <a:lnTo>
                        <a:pt x="558" y="16"/>
                      </a:lnTo>
                      <a:lnTo>
                        <a:pt x="571" y="10"/>
                      </a:lnTo>
                      <a:lnTo>
                        <a:pt x="586" y="5"/>
                      </a:lnTo>
                      <a:lnTo>
                        <a:pt x="601" y="2"/>
                      </a:lnTo>
                      <a:lnTo>
                        <a:pt x="616" y="0"/>
                      </a:lnTo>
                      <a:lnTo>
                        <a:pt x="633" y="0"/>
                      </a:lnTo>
                      <a:lnTo>
                        <a:pt x="649" y="1"/>
                      </a:lnTo>
                      <a:lnTo>
                        <a:pt x="668" y="4"/>
                      </a:lnTo>
                      <a:lnTo>
                        <a:pt x="685" y="9"/>
                      </a:lnTo>
                      <a:lnTo>
                        <a:pt x="702" y="16"/>
                      </a:lnTo>
                      <a:lnTo>
                        <a:pt x="721" y="24"/>
                      </a:lnTo>
                      <a:lnTo>
                        <a:pt x="746" y="39"/>
                      </a:lnTo>
                      <a:lnTo>
                        <a:pt x="770" y="56"/>
                      </a:lnTo>
                      <a:lnTo>
                        <a:pt x="791" y="76"/>
                      </a:lnTo>
                      <a:lnTo>
                        <a:pt x="811" y="96"/>
                      </a:lnTo>
                      <a:lnTo>
                        <a:pt x="826" y="119"/>
                      </a:lnTo>
                      <a:lnTo>
                        <a:pt x="838" y="142"/>
                      </a:lnTo>
                      <a:lnTo>
                        <a:pt x="849" y="168"/>
                      </a:lnTo>
                      <a:lnTo>
                        <a:pt x="854" y="192"/>
                      </a:lnTo>
                      <a:lnTo>
                        <a:pt x="845" y="172"/>
                      </a:lnTo>
                      <a:lnTo>
                        <a:pt x="835" y="153"/>
                      </a:lnTo>
                      <a:lnTo>
                        <a:pt x="821" y="133"/>
                      </a:lnTo>
                      <a:lnTo>
                        <a:pt x="807" y="116"/>
                      </a:lnTo>
                      <a:lnTo>
                        <a:pt x="790" y="99"/>
                      </a:lnTo>
                      <a:lnTo>
                        <a:pt x="771" y="84"/>
                      </a:lnTo>
                      <a:lnTo>
                        <a:pt x="752" y="70"/>
                      </a:lnTo>
                      <a:lnTo>
                        <a:pt x="731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7880400" y="5017680"/>
                  <a:ext cx="19080" cy="172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7812360" y="5017680"/>
                  <a:ext cx="18720" cy="340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7759800" y="4925880"/>
                  <a:ext cx="187200" cy="19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788240" y="4941720"/>
                  <a:ext cx="122400" cy="158400"/>
                </a:xfrm>
                <a:custGeom>
                  <a:avLst/>
                  <a:gdLst/>
                  <a:ahLst/>
                  <a:rect l="l" t="t" r="r" b="b"/>
                  <a:pathLst>
                    <a:path w="155" h="202">
                      <a:moveTo>
                        <a:pt x="150" y="0"/>
                      </a:moveTo>
                      <a:lnTo>
                        <a:pt x="98" y="71"/>
                      </a:lnTo>
                      <a:lnTo>
                        <a:pt x="155" y="71"/>
                      </a:lnTo>
                      <a:lnTo>
                        <a:pt x="92" y="134"/>
                      </a:lnTo>
                      <a:lnTo>
                        <a:pt x="144" y="134"/>
                      </a:lnTo>
                      <a:lnTo>
                        <a:pt x="0" y="202"/>
                      </a:lnTo>
                      <a:lnTo>
                        <a:pt x="92" y="103"/>
                      </a:lnTo>
                      <a:lnTo>
                        <a:pt x="26" y="103"/>
                      </a:lnTo>
                      <a:lnTo>
                        <a:pt x="1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7864560" y="5187600"/>
                  <a:ext cx="301680" cy="7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8777520" y="5489280"/>
                  <a:ext cx="301680" cy="7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471160" y="5073480"/>
                  <a:ext cx="63360" cy="15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566200" y="5073480"/>
                  <a:ext cx="61920" cy="15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659800" y="5073480"/>
                  <a:ext cx="63720" cy="15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753760" y="5073480"/>
                  <a:ext cx="63360" cy="15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987040" y="5124240"/>
                  <a:ext cx="47520" cy="10584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8bae6c"/>
                </a:solidFill>
                <a:latin typeface="Times New Roman"/>
              </a:rPr>
              <a:t>はじめに</a:t>
            </a: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5080" y="1030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imes New Roman"/>
              </a:rPr>
              <a:t>誰でも，いつでも，どこへで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imes New Roman"/>
              </a:rPr>
              <a:t>自由な時間と空間の創造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imes New Roman"/>
              </a:rPr>
              <a:t>現在の交通がもたらしている諸問題の解決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47640" y="2717640"/>
            <a:ext cx="4572000" cy="3222720"/>
            <a:chOff x="647640" y="2717640"/>
            <a:chExt cx="4572000" cy="3222720"/>
          </a:xfrm>
        </p:grpSpPr>
        <p:sp>
          <p:nvSpPr>
            <p:cNvPr id="98" name=""/>
            <p:cNvSpPr/>
            <p:nvPr/>
          </p:nvSpPr>
          <p:spPr>
            <a:xfrm>
              <a:off x="647640" y="3382920"/>
              <a:ext cx="4572000" cy="25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808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0" spc="-1" strike="noStrike">
                  <a:solidFill>
                    <a:srgbClr val="003300"/>
                  </a:solidFill>
                  <a:latin typeface="Times New Roman"/>
                </a:rPr>
                <a:t>電気動力化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buClr>
                  <a:srgbClr val="808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0" spc="-1" strike="noStrike">
                  <a:solidFill>
                    <a:srgbClr val="003300"/>
                  </a:solidFill>
                  <a:latin typeface="Times New Roman"/>
                </a:rPr>
                <a:t>インテリジェント化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buClr>
                  <a:srgbClr val="808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0" spc="-1" strike="noStrike">
                  <a:solidFill>
                    <a:srgbClr val="003300"/>
                  </a:solidFill>
                  <a:latin typeface="Times New Roman"/>
                </a:rPr>
                <a:t>小型化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76520" y="2717640"/>
              <a:ext cx="990360" cy="660600"/>
            </a:xfrm>
            <a:prstGeom prst="downArrow">
              <a:avLst>
                <a:gd name="adj1" fmla="val 50000"/>
                <a:gd name="adj2" fmla="val 44231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73480" y="4010040"/>
            <a:ext cx="5505120" cy="1191240"/>
            <a:chOff x="5073480" y="4010040"/>
            <a:chExt cx="5505120" cy="1191240"/>
          </a:xfrm>
        </p:grpSpPr>
        <p:sp>
          <p:nvSpPr>
            <p:cNvPr id="101" name=""/>
            <p:cNvSpPr/>
            <p:nvPr/>
          </p:nvSpPr>
          <p:spPr>
            <a:xfrm>
              <a:off x="6006960" y="4309920"/>
              <a:ext cx="45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4000" spc="-1" strike="noStrike">
                  <a:solidFill>
                    <a:srgbClr val="003300"/>
                  </a:solidFill>
                  <a:latin typeface="Times New Roman"/>
                </a:rPr>
                <a:t>情報通信技術</a:t>
              </a:r>
              <a:endParaRPr b="0" lang="en-US" sz="4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3480" y="4010040"/>
              <a:ext cx="70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7200" spc="-1" strike="noStrike">
                  <a:solidFill>
                    <a:srgbClr val="003300"/>
                  </a:solidFill>
                  <a:latin typeface="Tahoma"/>
                </a:rPr>
                <a:t>+</a:t>
              </a:r>
              <a:endParaRPr b="0" lang="en-US" sz="7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20052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8bae6c"/>
                </a:solidFill>
                <a:latin typeface="Times New Roman"/>
              </a:rPr>
              <a:t>今年度の取り組み</a:t>
            </a: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3400" y="1122480"/>
            <a:ext cx="577944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00"/>
                </a:solidFill>
                <a:latin typeface="Tahoma"/>
              </a:rPr>
              <a:t>インテリジェント化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00"/>
                </a:solidFill>
                <a:latin typeface="Tahoma"/>
              </a:rPr>
              <a:t>　　周辺環境データベースを利用した環境認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00"/>
                </a:solidFill>
                <a:latin typeface="Tahoma"/>
              </a:rPr>
              <a:t>　　の高信頼化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00"/>
                </a:solidFill>
                <a:latin typeface="Tahoma"/>
              </a:rPr>
              <a:t>　　自動運転時の遠隔介入操作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00"/>
                </a:solidFill>
                <a:latin typeface="Tahoma"/>
              </a:rPr>
              <a:t>電気動力化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00"/>
                </a:solidFill>
                <a:latin typeface="Tahoma"/>
              </a:rPr>
              <a:t>　　電気自動車ＫＡＺの評価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00"/>
                </a:solidFill>
                <a:latin typeface="Tahoma"/>
              </a:rPr>
              <a:t>　　情報ネットワークを利用した充電電力需要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00"/>
                </a:solidFill>
                <a:latin typeface="Tahoma"/>
              </a:rPr>
              <a:t>　　マネジメントシステムの開発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8bae6c"/>
                </a:solidFill>
                <a:latin typeface="Times New Roman"/>
              </a:rPr>
              <a:t>研究内容</a:t>
            </a: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5920" y="101124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00"/>
                </a:solidFill>
                <a:latin typeface="Tahoma"/>
              </a:rPr>
              <a:t>周辺環境データベースを利用した環境認識の高信頼化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5960" y="486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148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2576520"/>
            <a:ext cx="9013680" cy="2989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2904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61120" y="4565520"/>
            <a:ext cx="3033720" cy="92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2320" y="5473800"/>
            <a:ext cx="3067200" cy="13366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8bae6c"/>
                </a:solidFill>
                <a:latin typeface="Times New Roman"/>
              </a:rPr>
              <a:t>研究内容</a:t>
            </a: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5920" y="101124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ahoma"/>
              </a:rPr>
              <a:t>周辺環境データベース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ahoma"/>
              </a:rPr>
              <a:t>を利用した環境認識の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ahoma"/>
              </a:rPr>
              <a:t>高信頼化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5960" y="486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148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6240" y="5041800"/>
            <a:ext cx="2565360" cy="162576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6520" y="5562720"/>
            <a:ext cx="1492200" cy="59688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ff0000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904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18863" r="0" b="0"/>
          <a:stretch/>
        </p:blipFill>
        <p:spPr>
          <a:xfrm>
            <a:off x="577800" y="4508640"/>
            <a:ext cx="3086280" cy="2349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05480" y="5473800"/>
            <a:ext cx="2905200" cy="1361880"/>
          </a:xfrm>
          <a:custGeom>
            <a:avLst/>
            <a:gdLst/>
            <a:ahLst/>
            <a:rect l="l" t="t" r="r" b="b"/>
            <a:pathLst>
              <a:path w="1830" h="858">
                <a:moveTo>
                  <a:pt x="0" y="858"/>
                </a:moveTo>
                <a:lnTo>
                  <a:pt x="454" y="302"/>
                </a:lnTo>
                <a:lnTo>
                  <a:pt x="614" y="104"/>
                </a:lnTo>
                <a:lnTo>
                  <a:pt x="698" y="0"/>
                </a:lnTo>
                <a:lnTo>
                  <a:pt x="754" y="0"/>
                </a:lnTo>
                <a:lnTo>
                  <a:pt x="1830" y="402"/>
                </a:lnTo>
                <a:lnTo>
                  <a:pt x="1826" y="854"/>
                </a:lnTo>
                <a:lnTo>
                  <a:pt x="0" y="858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6080" y="5676840"/>
            <a:ext cx="1092240" cy="270000"/>
          </a:xfrm>
          <a:custGeom>
            <a:avLst/>
            <a:gdLst/>
            <a:ahLst/>
            <a:rect l="l" t="t" r="r" b="b"/>
            <a:pathLst>
              <a:path w="688" h="170">
                <a:moveTo>
                  <a:pt x="554" y="170"/>
                </a:moveTo>
                <a:lnTo>
                  <a:pt x="0" y="102"/>
                </a:lnTo>
                <a:lnTo>
                  <a:pt x="2" y="0"/>
                </a:lnTo>
                <a:lnTo>
                  <a:pt x="688" y="12"/>
                </a:lnTo>
              </a:path>
            </a:pathLst>
          </a:custGeom>
          <a:solidFill>
            <a:srgbClr val="969696"/>
          </a:solidFill>
          <a:ln w="1260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5232240"/>
            <a:ext cx="285840" cy="235080"/>
          </a:xfrm>
          <a:custGeom>
            <a:avLst/>
            <a:gdLst/>
            <a:ahLst/>
            <a:rect l="l" t="t" r="r" b="b"/>
            <a:pathLst>
              <a:path w="180" h="148">
                <a:moveTo>
                  <a:pt x="0" y="0"/>
                </a:moveTo>
                <a:lnTo>
                  <a:pt x="2" y="148"/>
                </a:lnTo>
                <a:lnTo>
                  <a:pt x="176" y="144"/>
                </a:lnTo>
                <a:lnTo>
                  <a:pt x="18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59320" y="5172120"/>
            <a:ext cx="187560" cy="298440"/>
          </a:xfrm>
          <a:custGeom>
            <a:avLst/>
            <a:gdLst/>
            <a:ahLst/>
            <a:rect l="l" t="t" r="r" b="b"/>
            <a:pathLst>
              <a:path w="118" h="188">
                <a:moveTo>
                  <a:pt x="0" y="0"/>
                </a:moveTo>
                <a:lnTo>
                  <a:pt x="112" y="18"/>
                </a:lnTo>
                <a:lnTo>
                  <a:pt x="118" y="186"/>
                </a:lnTo>
                <a:lnTo>
                  <a:pt x="6" y="188"/>
                </a:lnTo>
              </a:path>
            </a:pathLst>
          </a:custGeom>
          <a:solidFill>
            <a:srgbClr val="ff9900"/>
          </a:solidFill>
          <a:ln w="1260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232240"/>
            <a:ext cx="184320" cy="238320"/>
          </a:xfrm>
          <a:custGeom>
            <a:avLst/>
            <a:gdLst/>
            <a:ahLst/>
            <a:rect l="l" t="t" r="r" b="b"/>
            <a:pathLst>
              <a:path w="116" h="150">
                <a:moveTo>
                  <a:pt x="0" y="2"/>
                </a:moveTo>
                <a:lnTo>
                  <a:pt x="106" y="0"/>
                </a:lnTo>
                <a:lnTo>
                  <a:pt x="116" y="150"/>
                </a:lnTo>
                <a:lnTo>
                  <a:pt x="6" y="150"/>
                </a:lnTo>
              </a:path>
            </a:pathLst>
          </a:custGeom>
          <a:solidFill>
            <a:srgbClr val="ff6600"/>
          </a:solidFill>
          <a:ln w="1260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502240" y="5940360"/>
            <a:ext cx="714240" cy="8762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1560" y="5521320"/>
            <a:ext cx="127080" cy="16200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6000" y="5460840"/>
            <a:ext cx="1717920" cy="6508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586560" y="5457960"/>
            <a:ext cx="42840" cy="4896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4960" y="5494320"/>
            <a:ext cx="459000" cy="176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8118360" y="5464080"/>
            <a:ext cx="6480" cy="530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795800" y="5454720"/>
            <a:ext cx="4680" cy="431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552800" y="5460840"/>
            <a:ext cx="3240" cy="309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368840" y="5467320"/>
            <a:ext cx="3240" cy="258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178400" y="5448240"/>
            <a:ext cx="3240" cy="201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24680" y="5448240"/>
            <a:ext cx="1440" cy="1285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28920" y="5454720"/>
            <a:ext cx="1800" cy="96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853320" y="5454720"/>
            <a:ext cx="1440" cy="680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27680" y="5457960"/>
            <a:ext cx="1667160" cy="6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22880" y="5489640"/>
            <a:ext cx="455760" cy="158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02320" y="5518080"/>
            <a:ext cx="42840" cy="42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1120" y="5645160"/>
            <a:ext cx="88920" cy="8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8800" y="5460840"/>
            <a:ext cx="846000" cy="109800"/>
          </a:xfrm>
          <a:custGeom>
            <a:avLst/>
            <a:gdLst/>
            <a:ahLst/>
            <a:rect l="l" t="t" r="r" b="b"/>
            <a:pathLst>
              <a:path w="533" h="69">
                <a:moveTo>
                  <a:pt x="14" y="69"/>
                </a:moveTo>
                <a:lnTo>
                  <a:pt x="219" y="48"/>
                </a:lnTo>
                <a:lnTo>
                  <a:pt x="464" y="22"/>
                </a:lnTo>
                <a:lnTo>
                  <a:pt x="533" y="4"/>
                </a:lnTo>
                <a:lnTo>
                  <a:pt x="410" y="0"/>
                </a:lnTo>
                <a:lnTo>
                  <a:pt x="201" y="10"/>
                </a:lnTo>
                <a:lnTo>
                  <a:pt x="0" y="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95920" y="420840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00"/>
                </a:solidFill>
                <a:latin typeface="Tahoma"/>
              </a:rPr>
              <a:t>データベースにより構築された仮想空間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81040" y="41702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3300"/>
                </a:solidFill>
                <a:latin typeface="Tahoma"/>
              </a:rPr>
              <a:t>車両による環境認識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84280" y="51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ahoma"/>
              </a:rPr>
              <a:t>対比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43680" y="257040"/>
            <a:ext cx="342072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0" t="0" r="31250" b="32710"/>
          <a:stretch/>
        </p:blipFill>
        <p:spPr>
          <a:xfrm>
            <a:off x="5375160" y="785880"/>
            <a:ext cx="2905200" cy="1996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459400" y="2681280"/>
            <a:ext cx="2712960" cy="915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51400" y="2984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ahoma"/>
              </a:rPr>
              <a:t>周囲環境データベー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81760" y="3857760"/>
            <a:ext cx="2028600" cy="371520"/>
          </a:xfrm>
          <a:prstGeom prst="downArrow">
            <a:avLst>
              <a:gd name="adj1" fmla="val 54926"/>
              <a:gd name="adj2" fmla="val 45301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8bae6c"/>
                </a:solidFill>
                <a:latin typeface="Times New Roman"/>
              </a:rPr>
              <a:t>研究内容</a:t>
            </a: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5920" y="101124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ahoma"/>
              </a:rPr>
              <a:t>自動運転時の遠隔介入操作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ahoma"/>
              </a:rPr>
              <a:t>（無線通信を使った自動運転システムの機能の拡大）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ahoma"/>
              </a:rPr>
              <a:t>　　自動運転時利用の人間挙動評価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ahoma"/>
              </a:rPr>
              <a:t>　　システム異常時の復帰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85960" y="486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148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2904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3960" y="3559320"/>
            <a:ext cx="4137120" cy="3236760"/>
          </a:xfrm>
          <a:prstGeom prst="rect">
            <a:avLst/>
          </a:prstGeom>
          <a:ln w="0">
            <a:noFill/>
          </a:ln>
        </p:spPr>
      </p:pic>
      <p:pic>
        <p:nvPicPr>
          <p:cNvPr id="167" name="DSC00068" descr=""/>
          <p:cNvPicPr/>
          <p:nvPr/>
        </p:nvPicPr>
        <p:blipFill>
          <a:blip r:embed="rId2"/>
          <a:stretch/>
        </p:blipFill>
        <p:spPr>
          <a:xfrm>
            <a:off x="4648320" y="3726000"/>
            <a:ext cx="3867120" cy="2916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97560" y="3602160"/>
            <a:ext cx="45338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2200" y="4462560"/>
            <a:ext cx="4125960" cy="2395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16440" y="4383000"/>
            <a:ext cx="4187880" cy="2475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8bae6c"/>
                </a:solidFill>
                <a:latin typeface="Times New Roman"/>
              </a:rPr>
              <a:t>研究内容</a:t>
            </a: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6680" y="86832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ahoma"/>
              </a:rPr>
              <a:t>電気自動車ＫＡＺの評価ー動力性能，旋回性能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00"/>
                </a:solidFill>
                <a:latin typeface="Tahoma"/>
              </a:rPr>
              <a:t>情報ネットワークを使った充電電力需要マネジメント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ahoma"/>
              </a:rPr>
              <a:t>ー需要発生のシミュレーション，マネジメント手法の構築と評価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85960" y="486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8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2904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380200" y="2973240"/>
            <a:ext cx="3485880" cy="2008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84360" y="2913120"/>
            <a:ext cx="3044520" cy="1754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14640" y="3343320"/>
            <a:ext cx="1676520" cy="876240"/>
          </a:xfrm>
          <a:prstGeom prst="rightArrow">
            <a:avLst>
              <a:gd name="adj1" fmla="val 50000"/>
              <a:gd name="adj2" fmla="val 4783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20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8bae6c"/>
                </a:solidFill>
                <a:latin typeface="ＭＳ Ｐゴシック"/>
                <a:ea typeface="ＭＳ Ｐゴシック"/>
              </a:rPr>
              <a:t>2003</a:t>
            </a:r>
            <a:r>
              <a:rPr b="0" i="1" lang="ja-JP" sz="4400" spc="-1" strike="noStrike">
                <a:solidFill>
                  <a:srgbClr val="8bae6c"/>
                </a:solidFill>
                <a:latin typeface="Times New Roman"/>
              </a:rPr>
              <a:t>年度の予定</a:t>
            </a:r>
            <a:endParaRPr b="0" i="1" lang="en-US" sz="4400" spc="-1" strike="noStrike">
              <a:solidFill>
                <a:srgbClr val="8bae6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160640"/>
            <a:ext cx="887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ahoma"/>
              </a:rPr>
              <a:t>周辺環境データベースを利用した自動運転システムの環境認識の信頼性の向上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ahoma"/>
              </a:rPr>
              <a:t>　　　・アルゴリズムの開発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ahoma"/>
              </a:rPr>
              <a:t>　　　・実車実験による検証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ahoma"/>
              </a:rPr>
              <a:t>情報通信・制御技術と親和性の高い高性能電気自動車の新規開発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ahoma"/>
              </a:rPr>
              <a:t>　　　・仕様，機能に関する基本設計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ahoma"/>
              </a:rPr>
              <a:t>情報ネットワークを使った充電電力需要マネジメント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3300"/>
                </a:solidFill>
                <a:latin typeface="Tahoma"/>
              </a:rPr>
              <a:t>　　　・様々な情報を利用することにより，充電電力需要の制御と利　　　用者の利便を両立するマネジメント手法の開発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85960" y="486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195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148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2904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7T15:39:58Z</dcterms:created>
  <dc:creator>大前 学</dc:creator>
  <dc:description/>
  <dc:language>en-US</dc:language>
  <cp:lastModifiedBy>*****</cp:lastModifiedBy>
  <cp:lastPrinted>1999-07-12T10:32:54Z</cp:lastPrinted>
  <dcterms:modified xsi:type="dcterms:W3CDTF">2003-03-15T04:31:36Z</dcterms:modified>
  <cp:revision>84</cp:revision>
  <dc:subject/>
  <dc:title>絶対位置情報に基づく自動運転システムに関する研究</dc:title>
</cp:coreProperties>
</file>